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FA2-A88C-4F7F-8090-39D48361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6D3-1C48-409C-A7F0-D01A80CD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6F9-485C-4C70-9463-A2E35DF6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DDE-CF37-4C3B-884B-79EC8AB1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21A-2284-43AB-BCB7-297EF03C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D75-F56C-4612-9172-0AA43B03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E14-EB3F-48F9-8CC0-FAD88CBD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4FB-F14E-4BAD-BC86-FBBA3C0E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BFB-7273-4A4A-A8BD-3ECE275B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366-22B3-40E2-9114-19600873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D3C-BFAC-4B7A-A5E7-CECD57CB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416-7A53-41A6-B224-31AF8C10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91EB-B4F6-45D3-8B32-C3F39A497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9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15C-7E79-4068-9262-DA5458B819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3576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lternative 2: Single Static Link per Frame 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78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51451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0" y="52228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38840" y="3614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3683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46760" y="3370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2098800"/>
            <a:ext cx="85572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19840" y="2441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56480" y="2360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46760" y="2090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6160" y="5378400"/>
            <a:ext cx="4516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 single static link to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frame for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4680" y="2768760"/>
            <a:ext cx="2367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uses less space, 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ime to set up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r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At run-time,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e pointers” to 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lue of a non-lo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532-897D-4BFA-95EE-9A9A70BB4A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ngle Static Link vs. Dijkstra Display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615480" y="1415880"/>
            <a:ext cx="1737000" cy="350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f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a = …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g(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b = …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h(z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c = …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j(w) 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(…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(…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(…)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(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92160" y="114624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jkstra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760" y="1222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ngle Static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188748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2120" y="17604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8120" y="313704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3040" y="383076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99160" y="4819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5560" y="4879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60880" y="589284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05640" y="592596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2965320"/>
            <a:ext cx="293760" cy="125424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2790720"/>
            <a:ext cx="610920" cy="2590920"/>
          </a:xfrm>
          <a:custGeom>
            <a:avLst/>
            <a:gdLst/>
            <a:ahLst/>
            <a:rect l="l" t="t" r="r" b="b"/>
            <a:pathLst>
              <a:path w="385" h="1632">
                <a:moveTo>
                  <a:pt x="385" y="0"/>
                </a:moveTo>
                <a:cubicBezTo>
                  <a:pt x="230" y="120"/>
                  <a:pt x="76" y="241"/>
                  <a:pt x="38" y="465"/>
                </a:cubicBezTo>
                <a:cubicBezTo>
                  <a:pt x="0" y="689"/>
                  <a:pt x="100" y="1150"/>
                  <a:pt x="156" y="1344"/>
                </a:cubicBezTo>
                <a:cubicBezTo>
                  <a:pt x="212" y="1538"/>
                  <a:pt x="294" y="1585"/>
                  <a:pt x="377" y="163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2614680"/>
            <a:ext cx="907920" cy="3868560"/>
          </a:xfrm>
          <a:custGeom>
            <a:avLst/>
            <a:gdLst/>
            <a:ahLst/>
            <a:rect l="l" t="t" r="r" b="b"/>
            <a:pathLst>
              <a:path w="572" h="2437">
                <a:moveTo>
                  <a:pt x="564" y="0"/>
                </a:moveTo>
                <a:cubicBezTo>
                  <a:pt x="352" y="100"/>
                  <a:pt x="140" y="200"/>
                  <a:pt x="70" y="435"/>
                </a:cubicBezTo>
                <a:cubicBezTo>
                  <a:pt x="0" y="670"/>
                  <a:pt x="120" y="1154"/>
                  <a:pt x="143" y="1410"/>
                </a:cubicBezTo>
                <a:cubicBezTo>
                  <a:pt x="166" y="1666"/>
                  <a:pt x="180" y="1823"/>
                  <a:pt x="210" y="1971"/>
                </a:cubicBezTo>
                <a:cubicBezTo>
                  <a:pt x="240" y="2119"/>
                  <a:pt x="261" y="2218"/>
                  <a:pt x="321" y="2296"/>
                </a:cubicBezTo>
                <a:cubicBezTo>
                  <a:pt x="381" y="2374"/>
                  <a:pt x="476" y="2405"/>
                  <a:pt x="572" y="2437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288432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3160" y="271476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5923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3360" y="2424240"/>
            <a:ext cx="1256760" cy="641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Info is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800" y="187020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04680" y="174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0320" y="311940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85600" y="381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1720" y="480204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68120" y="48625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63440" y="587520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8200" y="5908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2760840"/>
            <a:ext cx="293760" cy="14763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" y="3822840"/>
            <a:ext cx="293760" cy="15825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8120" y="5048280"/>
            <a:ext cx="352440" cy="150012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7080" y="5460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8480" y="43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0680" y="54594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9640" y="4375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6C1-38FB-49F6-BD5B-9C4C5EC9C1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 commands to JARGON for non-local variables, using single static lin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3927600" y="2416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1480" y="1711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tch 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10400" y="1852560"/>
            <a:ext cx="11574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4160" y="369720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80160" y="18543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2880" y="21286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0480" y="19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2280" y="1720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3794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440" y="3100320"/>
            <a:ext cx="145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 fp + 2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4240" y="1959120"/>
            <a:ext cx="115704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36860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01680" y="19717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49240" y="2146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18842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5840" y="37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040" y="348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7520" y="3125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81680" y="4711680"/>
            <a:ext cx="419796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0, fp)        = f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d + 1,  fp) = get(d, Stack[fp+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alue = Stack[get(d, static-fp) + 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5800" y="35542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5440" y="4005360"/>
            <a:ext cx="115740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0000" y="5640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3280" y="6283440"/>
            <a:ext cx="468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40" y="638640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et(d, static-f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6160" y="5838840"/>
            <a:ext cx="350640" cy="514440"/>
          </a:xfrm>
          <a:custGeom>
            <a:avLst/>
            <a:gdLst>
              <a:gd name="textAreaLeft" fmla="*/ 0 w 350640"/>
              <a:gd name="textAreaRight" fmla="*/ 126720 w 3506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45160" y="58230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82E-7DD7-4DD0-A118-274142C279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tive 3: “Lambda Lifting”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6480" y="102384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8880" y="1028880"/>
            <a:ext cx="505764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’(c, x, 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9000" y="6586200"/>
            <a:ext cx="4157640" cy="11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EB1-0A6A-42B6-8212-5E049C51D9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Evaluatio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08600" y="950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84920" y="2235240"/>
            <a:ext cx="345960" cy="21556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2360" y="4467240"/>
            <a:ext cx="405000" cy="14302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43440" y="5927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66A-8F99-44AB-949F-5B809B5B75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: a lot of Duplication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56120" y="4606920"/>
            <a:ext cx="1447920" cy="4507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54680" y="2995560"/>
            <a:ext cx="1447920" cy="439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5840" y="1163520"/>
            <a:ext cx="1447920" cy="4510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87800" y="1238400"/>
            <a:ext cx="59040" cy="4816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7640" y="1434960"/>
            <a:ext cx="67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43600" y="4870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92840" y="3235320"/>
            <a:ext cx="7999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6360" y="5564160"/>
            <a:ext cx="1447920" cy="91296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960" y="5932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8840" y="3989520"/>
            <a:ext cx="1447920" cy="8571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86280" y="2413080"/>
            <a:ext cx="1447920" cy="579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06400" y="2440080"/>
            <a:ext cx="9720" cy="26953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43480" y="2620800"/>
            <a:ext cx="129996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37000" y="4292640"/>
            <a:ext cx="130032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606-704B-4F25-A8FB-59C4881D02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assic Trade Of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2467080" y="1992240"/>
            <a:ext cx="5603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678040" y="5229360"/>
            <a:ext cx="3611520" cy="10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19640" y="5383080"/>
            <a:ext cx="28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all-time set 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a stack-oriented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944360" y="2046240"/>
            <a:ext cx="11160" cy="281304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200" y="4262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67800" y="35640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3440" y="236052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tic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30480" y="3740040"/>
            <a:ext cx="668520" cy="515880"/>
          </a:xfrm>
          <a:prstGeom prst="smileyFace">
            <a:avLst>
              <a:gd name="adj" fmla="val 9282"/>
            </a:avLst>
          </a:prstGeom>
          <a:solidFill>
            <a:srgbClr val="fb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92080" y="420696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b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81320" y="424980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D61-E2BD-4835-ACDF-A3E0DDEB6C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1593720"/>
            <a:ext cx="1627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138276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0640" y="1422360"/>
            <a:ext cx="1625760" cy="3603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11160" y="3751200"/>
            <a:ext cx="1579680" cy="7034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2680" y="204624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“working st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65640" y="432432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] contains the fp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ing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0360" y="43178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8280" y="40482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000" y="401004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1] contains return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302112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0480" y="3265560"/>
            <a:ext cx="292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2]  to Stack[fp + k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f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4611600"/>
            <a:ext cx="115740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36640" y="255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8160" y="1550880"/>
            <a:ext cx="417600" cy="2847960"/>
          </a:xfrm>
          <a:custGeom>
            <a:avLst/>
            <a:gdLst>
              <a:gd name="textAreaLeft" fmla="*/ 266760 w 417600"/>
              <a:gd name="textAreaRight" fmla="*/ 417960 w 417600"/>
              <a:gd name="textAreaTop" fmla="*/ 74160 h 2847960"/>
              <a:gd name="textAreaBottom" fmla="*/ 2773800 h 28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8160" y="1290600"/>
            <a:ext cx="32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sp] = next available slo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26938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vation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94120" y="4692600"/>
            <a:ext cx="417240" cy="2594160"/>
          </a:xfrm>
          <a:custGeom>
            <a:avLst/>
            <a:gdLst>
              <a:gd name="textAreaLeft" fmla="*/ 266760 w 417240"/>
              <a:gd name="textAreaRight" fmla="*/ 417600 w 41724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560" y="569916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a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4734000"/>
            <a:ext cx="1041480" cy="1238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5102280"/>
            <a:ext cx="31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- 1]  to Stack[fp - 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arguments passed by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46B-4E7C-4F36-B411-61FB43E1AB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4360" y="2789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43280" y="41781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42609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4033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7960" y="224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CB3-D4F8-4877-B419-D86E72F3BD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15960" y="2936880"/>
            <a:ext cx="11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2789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720" y="7383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2080" y="1373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560" y="10638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000" y="22273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440" y="424332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642780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4120" y="615780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7360" y="5670720"/>
            <a:ext cx="1087560" cy="44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760" y="42433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9400" y="28494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120" y="2587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560" y="4390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4168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5960" y="1203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440" y="1689120"/>
            <a:ext cx="124308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671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5440" y="395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430524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432432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3624120"/>
            <a:ext cx="11224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936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6120" y="72072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17780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8920" y="1468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9040" y="2209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422604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0" y="64101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7520" y="6140520"/>
            <a:ext cx="112212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5653080"/>
            <a:ext cx="1087200" cy="444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062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4240" y="3800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9920" y="6483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9320" y="623736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9360" y="1185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5840" y="1671480"/>
            <a:ext cx="124272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70680" y="3884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4186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C07-FDC2-4889-B2A9-99CF4B99F5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1127160"/>
            <a:ext cx="23997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(e_1, …, e_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880" y="1903320"/>
            <a:ext cx="2192400" cy="49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21337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800" y="2630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" y="35272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7360" y="42642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l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7320" y="36766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4224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40" y="4646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4000" y="46926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0" y="5003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50403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54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00" y="6189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5560" y="6141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160" y="646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6523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4640" y="5508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550224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800" y="28591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7680" y="2817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73360" y="1933560"/>
            <a:ext cx="398520" cy="2274840"/>
          </a:xfrm>
          <a:custGeom>
            <a:avLst/>
            <a:gdLst>
              <a:gd name="textAreaLeft" fmla="*/ 0 w 398520"/>
              <a:gd name="textAreaRight" fmla="*/ 144000 w 39852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5560" y="4718160"/>
            <a:ext cx="398520" cy="2139840"/>
          </a:xfrm>
          <a:custGeom>
            <a:avLst/>
            <a:gdLst>
              <a:gd name="textAreaLeft" fmla="*/ 0 w 398520"/>
              <a:gd name="textAreaRight" fmla="*/ 144000 w 398520"/>
              <a:gd name="textAreaTop" fmla="*/ 55800 h 2139840"/>
              <a:gd name="textAreaBottom" fmla="*/ 2084040 h 21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7920" y="5133960"/>
            <a:ext cx="158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ke n args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tack, al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ving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lue at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8720" y="2678040"/>
            <a:ext cx="168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s will le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rg on the sta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ith the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_n at the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3480" y="419112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 = addre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de for 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096920"/>
            <a:ext cx="0" cy="560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2384280"/>
            <a:ext cx="190980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85040" y="1098720"/>
            <a:ext cx="1626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16600" y="3384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40524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9200" y="2693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020-58BA-46F8-9C16-EF98BA694B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4248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 to JARGON exampl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559120" y="158760"/>
            <a:ext cx="2601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0 : push 0         ; slot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: push 0          ; slot f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 : push 19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: popto 2         ; stor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 : push 10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: popto 3         ; stor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 : push 20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: pushfrom 2  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8 : pushfrom 3  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9 : call 24 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: swap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1 : pop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 : swap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3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 : pushfrom 3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5 : pushfrom 2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6 : call 24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7 : swap 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8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9 : swap 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2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3 : stop              ; that's all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4 : push 0          ; f entry, slot fo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5 : push 17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6 : popto 2         ; store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7 : pushfrom 2   ; load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8 : pushfrom -2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9 : pushfrom -1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 : arith +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1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2 : return           ; return fro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240" y="1539720"/>
            <a:ext cx="32284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9240" y="4583160"/>
            <a:ext cx="407520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2160" y="5067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821-138D-47BD-8763-7360351CB6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Q:Did we do something wrong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25160" y="1353960"/>
            <a:ext cx="394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arith =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test 12           ; if (x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1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return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goto 21         ; jump over els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arith *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skip               ; 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56080" y="2637000"/>
            <a:ext cx="4267080" cy="4221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000" y="957240"/>
            <a:ext cx="38383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act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return 1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return x * fact(x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act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2600" y="3103560"/>
            <a:ext cx="233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ement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nditional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ead code” at line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d 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8400" y="4349880"/>
            <a:ext cx="413856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70280" y="6845400"/>
            <a:ext cx="41389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5288040"/>
            <a:ext cx="38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Probably not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 might be bett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eep the code generation phase cle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d leave optimizations to another 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CE1-0DE4-41EE-9C99-83021FB2B4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sted functions, procedur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27476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3120" y="1716120"/>
            <a:ext cx="2026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ow this call to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cess the valu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 and 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7280" y="5265720"/>
            <a:ext cx="11462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8560" y="5784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54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7360" y="556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5840" y="6273720"/>
            <a:ext cx="11570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62600" y="628164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626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176832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9000" y="23954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0" y="203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112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2906640"/>
            <a:ext cx="114624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4600" y="3666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2600" y="3171960"/>
            <a:ext cx="11462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6360" y="317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5040" y="623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414324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3160" y="4770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73760" y="4410000"/>
            <a:ext cx="11458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5280" y="442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2DD-A442-4B86-81F9-D943E8A6FA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5643360" cy="90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ernative 1: Dijkstra Display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840" y="50832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50000" y="3479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4240" y="1933560"/>
            <a:ext cx="855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38920" y="2505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199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67760" y="2521080"/>
            <a:ext cx="1180800" cy="3422520"/>
          </a:xfrm>
          <a:custGeom>
            <a:avLst/>
            <a:gdLst/>
            <a:ahLst/>
            <a:rect l="l" t="t" r="r" b="b"/>
            <a:pathLst>
              <a:path w="744" h="2156">
                <a:moveTo>
                  <a:pt x="0" y="81"/>
                </a:moveTo>
                <a:cubicBezTo>
                  <a:pt x="195" y="40"/>
                  <a:pt x="390" y="0"/>
                  <a:pt x="502" y="81"/>
                </a:cubicBezTo>
                <a:cubicBezTo>
                  <a:pt x="614" y="162"/>
                  <a:pt x="639" y="307"/>
                  <a:pt x="672" y="568"/>
                </a:cubicBezTo>
                <a:cubicBezTo>
                  <a:pt x="705" y="829"/>
                  <a:pt x="701" y="1407"/>
                  <a:pt x="702" y="1646"/>
                </a:cubicBezTo>
                <a:cubicBezTo>
                  <a:pt x="703" y="1885"/>
                  <a:pt x="744" y="1916"/>
                  <a:pt x="679" y="2001"/>
                </a:cubicBezTo>
                <a:cubicBezTo>
                  <a:pt x="614" y="2086"/>
                  <a:pt x="462" y="2121"/>
                  <a:pt x="310" y="2156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720" y="4902120"/>
            <a:ext cx="4832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n arra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frame pointer of the most re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for the enclosing func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3160" y="1282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9920" y="2473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0440" y="268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7200" y="4184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4680" y="2768760"/>
            <a:ext cx="226260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at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need a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in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ind the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can use a lot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stack, and s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DC7-8A5A-4780-835F-A4AE040B7D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2:58:29Z</dcterms:modified>
  <cp:revision>270</cp:revision>
  <dc:subject/>
  <dc:title>Slide 1</dc:title>
</cp:coreProperties>
</file>