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9217-A562-4F53-A0E9-1525A38BA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7A3A-FBCB-4DD7-9028-840E0CB8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E088-2B7E-4164-A18B-CDDF0DAF1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1A41-FAAD-4854-AB64-2F010853E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8CFB-FF69-4190-AEF1-CB3E06E3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220E-676F-406B-AF81-ACC4CDC8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9FBB-86F9-4CE3-900C-EBB73075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15FE-91C0-4C06-881D-43966004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3357-4E23-4943-B81F-7E2EC248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326F-D25E-4602-8AC6-BB2AE742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CEAA-DC76-4857-80DD-E03D0390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34AE-6A6F-4A30-8DA5-D6565EAB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EB27-D9F7-4653-A7D8-06A617C82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8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tack Machine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7BF5-FD01-48A3-99FA-F6C8D237CC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est 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9" name=""/>
          <p:cNvSpPr/>
          <p:nvPr/>
        </p:nvSpPr>
        <p:spPr>
          <a:xfrm>
            <a:off x="2806560" y="2092320"/>
            <a:ext cx="1113120" cy="927000"/>
          </a:xfrm>
          <a:prstGeom prst="rightArrow">
            <a:avLst>
              <a:gd name="adj1" fmla="val 50000"/>
              <a:gd name="adj2" fmla="val 3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79280" y="1528920"/>
            <a:ext cx="10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est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90520" y="1400040"/>
            <a:ext cx="1243080" cy="17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16120" y="18273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3840" y="15764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70000" y="16923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test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63520" y="2639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818320" y="2770200"/>
            <a:ext cx="1242720" cy="127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78480" y="34131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65040" y="320832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02480" y="32479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55600" y="19890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 :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816520" y="971640"/>
            <a:ext cx="1243080" cy="12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77040" y="16146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63600" y="140976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823000" y="14763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 :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76720" y="976320"/>
            <a:ext cx="522360" cy="3195720"/>
          </a:xfrm>
          <a:custGeom>
            <a:avLst/>
            <a:gdLst>
              <a:gd name="textAreaLeft" fmla="*/ 333720 w 522360"/>
              <a:gd name="textAreaRight" fmla="*/ 522720 w 522360"/>
              <a:gd name="textAreaTop" fmla="*/ 83160 h 3195720"/>
              <a:gd name="textAreaBottom" fmla="*/ 3112560 h 319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323120" y="1308240"/>
            <a:ext cx="10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s not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435800" y="2960640"/>
            <a:ext cx="10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s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28880" y="458460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58760" y="48481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52640" y="5146560"/>
            <a:ext cx="124272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1960" y="46893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3760" y="442764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96440" y="598176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71720" y="499428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878440" y="4884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877000" y="519912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491080" y="50356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83040" y="47847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220800" y="603396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5A87-C09C-4841-A95A-76D6B3B2150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o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1744560" y="153684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93920" y="21718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15400" y="186228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47800" y="20019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s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17800" y="2403360"/>
            <a:ext cx="1113120" cy="927360"/>
          </a:xfrm>
          <a:prstGeom prst="rightArrow">
            <a:avLst>
              <a:gd name="adj1" fmla="val 50000"/>
              <a:gd name="adj2" fmla="val 300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83680" y="1978200"/>
            <a:ext cx="8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t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49200" y="4191120"/>
            <a:ext cx="567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39960" y="4064040"/>
            <a:ext cx="113328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080" y="396540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694560" y="143028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343560" y="20653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65040" y="175572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697800" y="189540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s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99200" y="4084560"/>
            <a:ext cx="566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789600" y="3957480"/>
            <a:ext cx="113364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79720" y="385920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842120" y="4640400"/>
            <a:ext cx="5386680" cy="2284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= run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= stopped (program answer should be on top of stac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= store index out of bou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= call out of b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= stack overflo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 = fp offset out of bou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= return cp out of bou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= arith error (div by 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D9B6-C82C-4414-BC64-8BF82F5586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RGON Initial Stat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59" name=""/>
          <p:cNvSpPr/>
          <p:nvPr/>
        </p:nvSpPr>
        <p:spPr>
          <a:xfrm>
            <a:off x="3587760" y="2016000"/>
            <a:ext cx="1336680" cy="42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81280" y="1587600"/>
            <a:ext cx="1336680" cy="42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575160" y="1158840"/>
            <a:ext cx="1336680" cy="42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16000" y="1074600"/>
            <a:ext cx="14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p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94560" y="198288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216800" y="15192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ummy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498760" y="2205000"/>
            <a:ext cx="996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46200" y="1332000"/>
            <a:ext cx="99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71440" y="119700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70720" y="245916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59040" y="3656160"/>
            <a:ext cx="13258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76200" y="353052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06760" y="3787920"/>
            <a:ext cx="996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952080" y="50799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41360" y="57880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tatus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FC62-C9E6-4B29-86AA-106CC2BCEE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expression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5" name=""/>
          <p:cNvSpPr/>
          <p:nvPr/>
        </p:nvSpPr>
        <p:spPr>
          <a:xfrm>
            <a:off x="402840" y="4462560"/>
            <a:ext cx="35136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33560" y="4454640"/>
            <a:ext cx="2192400" cy="51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45840" y="453852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499640" y="4435560"/>
            <a:ext cx="36828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150800" y="351468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dentif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45200" y="3579840"/>
            <a:ext cx="15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s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91200" y="2671920"/>
            <a:ext cx="1090440" cy="3800160"/>
          </a:xfrm>
          <a:custGeom>
            <a:avLst/>
            <a:gdLst>
              <a:gd name="textAreaLeft" fmla="*/ 696600 w 1090440"/>
              <a:gd name="textAreaRight" fmla="*/ 1090800 w 1090440"/>
              <a:gd name="textAreaTop" fmla="*/ 99000 h 3800160"/>
              <a:gd name="textAreaBottom" fmla="*/ 3701160 h 38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56280" y="2982960"/>
            <a:ext cx="248436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253560" y="3056040"/>
            <a:ext cx="210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from off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026040" y="4255920"/>
            <a:ext cx="248472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224400" y="4329000"/>
            <a:ext cx="21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from -off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067440" y="5562720"/>
            <a:ext cx="2484360" cy="51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562440" y="5646600"/>
            <a:ext cx="142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load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2521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210760" y="1349280"/>
            <a:ext cx="38052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737240" y="1077840"/>
            <a:ext cx="2450880" cy="12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047920" y="1298520"/>
            <a:ext cx="188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 to leave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 of e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 of the 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59080" y="1219320"/>
            <a:ext cx="1055880" cy="961920"/>
          </a:xfrm>
          <a:prstGeom prst="rightArrow">
            <a:avLst>
              <a:gd name="adj1" fmla="val 50000"/>
              <a:gd name="adj2" fmla="val 27442"/>
            </a:avLst>
          </a:prstGeom>
          <a:solidFill>
            <a:srgbClr val="ffff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520680" y="3529080"/>
            <a:ext cx="150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ocal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361920" y="612612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lobal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396840" y="479736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ormal parame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93E3-5F0E-4371-AC49-0B00133BFD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expression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7" name=""/>
          <p:cNvSpPr/>
          <p:nvPr/>
        </p:nvSpPr>
        <p:spPr>
          <a:xfrm>
            <a:off x="1342440" y="1798560"/>
            <a:ext cx="160416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e1 op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470560" y="1346040"/>
            <a:ext cx="2192400" cy="209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845320" y="1576440"/>
            <a:ext cx="152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505480" y="20732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499000" y="279396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794920" y="2908440"/>
            <a:ext cx="111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rith 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862960" y="2332080"/>
            <a:ext cx="152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4120" y="4992840"/>
            <a:ext cx="38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3 * ((8 + 17) * (2 - 6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56440" y="4222800"/>
            <a:ext cx="525564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0 : push 3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1 : push 8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2 : push 17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3 : arith +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4 : push 2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5 : push 6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6 : arith -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7 : arith *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8 : arith *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0" y="3780000"/>
            <a:ext cx="954576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7E1D-595F-474A-B219-CBAB69C15A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command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8" name=""/>
          <p:cNvSpPr/>
          <p:nvPr/>
        </p:nvSpPr>
        <p:spPr>
          <a:xfrm>
            <a:off x="607680" y="3405240"/>
            <a:ext cx="14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ssig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191200" y="2671920"/>
            <a:ext cx="1090440" cy="3800160"/>
          </a:xfrm>
          <a:custGeom>
            <a:avLst/>
            <a:gdLst>
              <a:gd name="textAreaLeft" fmla="*/ 696600 w 1090440"/>
              <a:gd name="textAreaRight" fmla="*/ 1090800 w 1090440"/>
              <a:gd name="textAreaTop" fmla="*/ 99000 h 3800160"/>
              <a:gd name="textAreaBottom" fmla="*/ 3701160 h 38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56280" y="2982960"/>
            <a:ext cx="248436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231240" y="3056040"/>
            <a:ext cx="164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to off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67440" y="5562720"/>
            <a:ext cx="2484360" cy="51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577920" y="5646600"/>
            <a:ext cx="151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tore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2521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06760" y="1362240"/>
            <a:ext cx="9014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737240" y="1077840"/>
            <a:ext cx="2450880" cy="12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029920" y="1298520"/>
            <a:ext cx="193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 produce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ide effects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e com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259080" y="1219320"/>
            <a:ext cx="1055880" cy="961920"/>
          </a:xfrm>
          <a:prstGeom prst="rightArrow">
            <a:avLst>
              <a:gd name="adj1" fmla="val 50000"/>
              <a:gd name="adj2" fmla="val 27442"/>
            </a:avLst>
          </a:prstGeom>
          <a:solidFill>
            <a:srgbClr val="ffff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520680" y="3529080"/>
            <a:ext cx="150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ocal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361920" y="612612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lobal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60720" y="3362400"/>
            <a:ext cx="1909800" cy="19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05600" y="4068720"/>
            <a:ext cx="10508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x = 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48320" y="482616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335760" y="438624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update x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59280" y="4383000"/>
            <a:ext cx="192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065400" y="4811760"/>
            <a:ext cx="192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19200" y="367200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E500-07FD-4730-A0DF-BF4682AD66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command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29" name=""/>
          <p:cNvSpPr/>
          <p:nvPr/>
        </p:nvSpPr>
        <p:spPr>
          <a:xfrm>
            <a:off x="955800" y="1776240"/>
            <a:ext cx="26312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_1; c_2; … c_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576760" y="1504800"/>
            <a:ext cx="2192400" cy="246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969520" y="1735200"/>
            <a:ext cx="16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c_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611680" y="22320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592600" y="31291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77000" y="327816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c_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772680" y="246060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26560" y="241920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04C3-79B5-4085-B259-AA0B65A67B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ditionals, Loop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38" name=""/>
          <p:cNvSpPr/>
          <p:nvPr/>
        </p:nvSpPr>
        <p:spPr>
          <a:xfrm>
            <a:off x="486360" y="1366920"/>
            <a:ext cx="326232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f e then c1 else c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92080" y="2168640"/>
            <a:ext cx="2192400" cy="402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255320" y="23986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903240" y="30481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32160" y="314316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est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20880" y="36162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96760" y="426096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272960" y="373068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c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34680" y="4286160"/>
            <a:ext cx="10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goto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27000" y="47941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149840" y="494352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: code for c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061640" y="5653080"/>
            <a:ext cx="129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:     sk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667120" y="1349280"/>
            <a:ext cx="20750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while e { c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87920" y="2185920"/>
            <a:ext cx="219240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754240" y="2359080"/>
            <a:ext cx="174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: code for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99080" y="30654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048360" y="316080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est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616720" y="36338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592600" y="42782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956920" y="374796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230520" y="4303800"/>
            <a:ext cx="10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goto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804640" y="486108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:    sk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44640" y="566748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610240" y="481176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F14B-AEA7-4596-AA25-F393F15606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5464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nditional Exampl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63" name=""/>
          <p:cNvSpPr/>
          <p:nvPr/>
        </p:nvSpPr>
        <p:spPr>
          <a:xfrm>
            <a:off x="5097600" y="171360"/>
            <a:ext cx="3605040" cy="67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0 : push 0             ; slot for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 : push 0             ; slot for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 : push 19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 : popto 2            ; store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 : push 10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 : popto 3            ; store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6 : load 2               ; load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7 : load 3               ; load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8 : call 14              ; call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9 : swap                 ; remove arg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0 : pop                  ;  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1 : swap               ; remove arg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2 : pop                  ;  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3 : stop                 ; that's all folk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4 : push 0             ; slot for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5 : push 0  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6 : popto 2            ; stor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7 : pushfrom -2     ; load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8 : pushfrom -1     ; load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9 : arith &lt;  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0 : test 24             ; if (x &lt; 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1 : push 100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2 : popto 2            ; stor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3 : goto 26            ; jump over else cla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4 : push 500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5 : popto 2            ; stor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6 : skip                 ; end 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7 : pushfrom 2     ; load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8 : return 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66680" y="957240"/>
            <a:ext cx="3403440" cy="37443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(x, y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a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x &lt;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a = 10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a = 50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x = 19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y = 1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(x, 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37080" y="3868560"/>
            <a:ext cx="4465800" cy="2075040"/>
          </a:xfrm>
          <a:prstGeom prst="rect">
            <a:avLst/>
          </a:prstGeom>
          <a:noFill/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222720" y="5546880"/>
            <a:ext cx="128700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n else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0C5F-28F5-40A8-9E76-28D19E5C4E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052960" cy="809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xample, While loo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68" name=""/>
          <p:cNvSpPr/>
          <p:nvPr/>
        </p:nvSpPr>
        <p:spPr>
          <a:xfrm>
            <a:off x="5827680" y="14796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50040" y="150840"/>
            <a:ext cx="3544200" cy="71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0 : push 4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 : call 5            ; call 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 : swap            ; remove arg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 : pop               ;  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 : stop              ; that's all folk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 : push 0           ; slot for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 : push 0           ; slot for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 : pushfrom -1   ; load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 : popto 2          ; store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 : push 0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0 : popto 3         ; store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1 : push 0          ; begin while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2 : pushfrom 2   ; load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3 : arith &lt;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4 : test 24          ; check (0 &lt; 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5 : pushfrom 3   ; load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6 : pushfrom 2   ; load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7 : arith +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8 : popto 3         ; store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9 : pushfrom 2   ; load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0 : push 1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1 : arith -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2 : popto 2         ; store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3 : goto 11         ; while loop ite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4 : skip               ; end w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5 : pushfrom 3    ; load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6 : return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009440" y="1871640"/>
            <a:ext cx="2375280" cy="301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sum(x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k = x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s = 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while  0 &lt; k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s = s + k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k = k - 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sum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32280" y="2870280"/>
            <a:ext cx="4570560" cy="3471840"/>
          </a:xfrm>
          <a:prstGeom prst="rect">
            <a:avLst/>
          </a:prstGeom>
          <a:noFill/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639960" y="5910120"/>
            <a:ext cx="11300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While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7CA0-04DB-4EAA-9637-D916CFCF26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LANG: A (S)imple (LANG)uage (v0.1)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6981840" y="1893960"/>
            <a:ext cx="1174320" cy="1067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oca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datatyp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or SLA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S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080" y="1104840"/>
            <a:ext cx="8136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name = st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binary_op = PlusOp | TimesOp | MinusOp | Div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Eq | Lt | Lte | Gt | G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And |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unary_op = UnaryMinusOp |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expression = Ident of na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Number of i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Unary of unary_op *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Binary of binary_op * expression *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Apply of name * (expression lis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command = Assignment of name *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Sequence of command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Condition of  expression * command * comm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Return of expres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While of expression * 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Block of (local_declaration list) *command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nd local_declaration = Var of name * expres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nd global_declaration = Let of name * expres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Fun of name * (name list) * (local_declaration list) *comm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slang = Slang of (global_declaration list) *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75C0-3C3C-40A3-978A-F1B2EB9C1A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LANG example, with AST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5640480" y="1268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9920" y="3848040"/>
            <a:ext cx="6886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la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[Fun ("f", ["y"; "x"], [Var ("z", Number 17)]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Binary (TimesOp, Ident "z"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PlusOp, Ident "y", Ident "x"))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("x", Number 19); Let ("y", Number 10)]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TimesOp, Number 2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MinusOp, Apply ("f", [Ident "x"; Ident "y"]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pply ("f", [Ident "y"; Ident "x"])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0240" y="1014480"/>
            <a:ext cx="3228480" cy="2770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(y, 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z = 1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z * (y + 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x = 19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y = 1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20 * (f(x, y) - f(y, x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E88F-0124-4695-84D6-FE92802C17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We will translate SLANG to JARG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956960" y="3424320"/>
            <a:ext cx="12214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LANG a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289320" y="3567240"/>
            <a:ext cx="1238400" cy="14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11320" y="3432240"/>
            <a:ext cx="1614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Jargon Cod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14920" y="2643120"/>
            <a:ext cx="155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4880" y="4049640"/>
            <a:ext cx="252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rgon is my ow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nted abstract STAC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E8E1-2E24-4242-9999-AEA0E40360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rgon Virtual Machine (v0.1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4641840" y="1143000"/>
            <a:ext cx="1157400" cy="249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5400" y="1935000"/>
            <a:ext cx="1683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6520" y="3935520"/>
            <a:ext cx="1157400" cy="153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0" y="3154320"/>
            <a:ext cx="161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al-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27840" y="1835280"/>
            <a:ext cx="0" cy="8445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035760" y="893520"/>
            <a:ext cx="0" cy="8557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86520" y="118584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41240" y="189072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r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22840" y="1104840"/>
            <a:ext cx="815760" cy="1019160"/>
          </a:xfrm>
          <a:custGeom>
            <a:avLst/>
            <a:gdLst/>
            <a:ahLst/>
            <a:rect l="l" t="t" r="r" b="b"/>
            <a:pathLst>
              <a:path w="780" h="627">
                <a:moveTo>
                  <a:pt x="0" y="627"/>
                </a:moveTo>
                <a:cubicBezTo>
                  <a:pt x="183" y="601"/>
                  <a:pt x="367" y="576"/>
                  <a:pt x="430" y="496"/>
                </a:cubicBezTo>
                <a:cubicBezTo>
                  <a:pt x="493" y="416"/>
                  <a:pt x="321" y="229"/>
                  <a:pt x="379" y="146"/>
                </a:cubicBezTo>
                <a:cubicBezTo>
                  <a:pt x="437" y="63"/>
                  <a:pt x="608" y="31"/>
                  <a:pt x="780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9880" y="2286000"/>
            <a:ext cx="839880" cy="566640"/>
          </a:xfrm>
          <a:custGeom>
            <a:avLst/>
            <a:gdLst/>
            <a:ahLst/>
            <a:rect l="l" t="t" r="r" b="b"/>
            <a:pathLst>
              <a:path w="817" h="597">
                <a:moveTo>
                  <a:pt x="0" y="597"/>
                </a:moveTo>
                <a:cubicBezTo>
                  <a:pt x="131" y="596"/>
                  <a:pt x="263" y="595"/>
                  <a:pt x="372" y="510"/>
                </a:cubicBezTo>
                <a:cubicBezTo>
                  <a:pt x="481" y="425"/>
                  <a:pt x="583" y="172"/>
                  <a:pt x="657" y="87"/>
                </a:cubicBezTo>
                <a:cubicBezTo>
                  <a:pt x="731" y="2"/>
                  <a:pt x="774" y="1"/>
                  <a:pt x="817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97560" y="454968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827520" y="6036840"/>
            <a:ext cx="798480" cy="111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49760" y="5910120"/>
            <a:ext cx="113364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5280" y="2629080"/>
            <a:ext cx="89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873600" y="4350960"/>
            <a:ext cx="798480" cy="111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9FAF-CE56-433B-8B39-FEBCD85E25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Instructions: pop, popto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3" name=""/>
          <p:cNvSpPr/>
          <p:nvPr/>
        </p:nvSpPr>
        <p:spPr>
          <a:xfrm>
            <a:off x="2073240" y="13255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03480" y="15890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97000" y="188748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06680" y="14302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68480" y="11685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41160" y="27226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16440" y="173520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5680" y="105264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170820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75320" y="202248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89760" y="185904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81720" y="16081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19480" y="28576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81240" y="3662280"/>
            <a:ext cx="1157400" cy="31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05000" y="659772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12920" y="632772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16160" y="530064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73320" y="36640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03560" y="3927600"/>
            <a:ext cx="117000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06400" y="37688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68200" y="35067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40280" y="532764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01680" y="4622760"/>
            <a:ext cx="11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pto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43200" y="66945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74040" y="640080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29400" y="3886200"/>
            <a:ext cx="11574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53160" y="659772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61080" y="632772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64320" y="530064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57840" y="38750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2280" y="401472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51280" y="38116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91360" y="66945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22200" y="640080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22920" y="5651640"/>
            <a:ext cx="11383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51960" y="561348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+j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30760" y="3994200"/>
            <a:ext cx="14349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local v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F4F1-907F-42BF-9A87-5B7B4E5746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Instructions: push, pushfrom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6585120" y="144288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15000" y="17064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08880" y="2004840"/>
            <a:ext cx="1242720" cy="7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18200" y="15476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80000" y="12859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52680" y="284004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14640" y="1852560"/>
            <a:ext cx="1113120" cy="927000"/>
          </a:xfrm>
          <a:prstGeom prst="rightArrow">
            <a:avLst>
              <a:gd name="adj1" fmla="val 50000"/>
              <a:gd name="adj2" fmla="val 3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56800" y="110016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ush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76400" y="17431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74960" y="205740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89040" y="18939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81000" y="164304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60080" y="279864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83400" y="3427560"/>
            <a:ext cx="1157400" cy="31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0716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15080" y="60930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18320" y="506556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75480" y="34290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36925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08560" y="35337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70360" y="32716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40280" y="532764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50480" y="4646520"/>
            <a:ext cx="17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ushfrom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45360" y="64594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7620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74960" y="3651120"/>
            <a:ext cx="115704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9872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06640" y="60930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09880" y="5065560"/>
            <a:ext cx="108720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03400" y="36399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17840" y="37800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96840" y="35766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36560" y="64594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776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5416560"/>
            <a:ext cx="11383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600" y="539100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+j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53160" y="53974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48320" y="3924360"/>
            <a:ext cx="14349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local v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2045-F912-4D87-9C3F-C5792E0FEA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Top-of-Stack swap and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Top-of-Stack arithmetic 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1851120" y="11764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2320" y="18032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16200" y="2101680"/>
            <a:ext cx="1243080" cy="7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32080" y="13050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93880" y="10429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60000" y="29368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35280" y="194940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60480" y="140184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w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05040" y="14922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8200" y="11937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89760" y="1820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83280" y="211932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99160" y="13222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60960" y="10605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427440" y="295416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72120" y="1509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0840" y="3587760"/>
            <a:ext cx="8993160" cy="12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62280" y="4272120"/>
            <a:ext cx="124272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33480" y="4898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27360" y="5197320"/>
            <a:ext cx="124272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42880" y="44006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04680" y="41385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46440" y="4848120"/>
            <a:ext cx="1112760" cy="927360"/>
          </a:xfrm>
          <a:prstGeom prst="rightArrow">
            <a:avLst>
              <a:gd name="adj1" fmla="val 50000"/>
              <a:gd name="adj2" fmla="val 299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67600" y="442764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ith 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452772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05680" y="5135400"/>
            <a:ext cx="1242720" cy="7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49920" y="467820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99120" y="44863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16200" y="4587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89840" y="48355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95560" y="4118040"/>
            <a:ext cx="282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 = (value 1) op (value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55080" y="6080040"/>
            <a:ext cx="56656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p in { + , *, -, / , &lt;, &gt;, &lt;=, &gt;=, =, &amp;&amp;, ||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12A3-717B-4B1F-80D9-BE3A394D6C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oto, skip 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4027320" y="1789200"/>
            <a:ext cx="1113120" cy="927000"/>
          </a:xfrm>
          <a:prstGeom prst="rightArrow">
            <a:avLst>
              <a:gd name="adj1" fmla="val 50000"/>
              <a:gd name="adj2" fmla="val 3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39480" y="119052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oto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14640" y="128124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28720" y="1857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26440" y="160668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17880" y="17463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goto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87640" y="22082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81800" y="124128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30800" y="23335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517360" y="212868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54800" y="21686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49640" y="3108240"/>
            <a:ext cx="45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t status to an error code if k is not in range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505320"/>
            <a:ext cx="914400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44800" y="4702320"/>
            <a:ext cx="1113120" cy="927000"/>
          </a:xfrm>
          <a:prstGeom prst="rightArrow">
            <a:avLst>
              <a:gd name="adj1" fmla="val 50000"/>
              <a:gd name="adj2" fmla="val 3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32280" y="4068720"/>
            <a:ext cx="8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ki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32120" y="4194000"/>
            <a:ext cx="124272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46200" y="47703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43920" y="45194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35000" y="465948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sk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28880" y="495792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10240" y="419904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3520" y="513864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11240" y="488808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13480" y="46641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sk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07000" y="49626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D4A5-36D9-4D7F-B1BD-A94F872669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07T15:38:20Z</dcterms:modified>
  <cp:revision>268</cp:revision>
  <dc:subject/>
  <dc:title>Slide 1</dc:title>
</cp:coreProperties>
</file>