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4501-039F-4E58-AF0D-94B227E1B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853E-0A2A-4B09-B12C-883E2313F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CB82-76B0-4C75-A55D-48BCAE00D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648B-FCBD-443A-A98E-F2A3A517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54A5-D5DD-454D-B16A-2ADF7BDFE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19DE-855D-40AE-8545-A5909FA7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8078-A41D-4141-8CD8-F9D641B7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C569-1646-4254-9E58-B12B9F21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819B-774E-490B-A5E2-347F6EDD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FA34-7E10-4742-B04C-F9CD5775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4B2D-FA5F-4372-8824-2CD60874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0480-B068-4C27-935D-8C7682D8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68D9-7229-4A2F-A603-7DBEC2D5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9B6F-2209-4AD2-B153-140365B2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3BDF-8D69-49C8-802A-487A1C53D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10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7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ava Virtual Machin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58D6-AECF-47A4-A012-44D48D6AD1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0" y="838080"/>
            <a:ext cx="274320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ass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53920" y="0"/>
            <a:ext cx="7772400" cy="55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rganization of JVM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1447920"/>
            <a:ext cx="259056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2057400"/>
            <a:ext cx="259056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stant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2666880"/>
            <a:ext cx="2590560" cy="60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thod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838080"/>
            <a:ext cx="106704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00800" y="838080"/>
            <a:ext cx="106668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838080"/>
            <a:ext cx="121896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733920"/>
            <a:ext cx="2286000" cy="2286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15200" y="4038480"/>
            <a:ext cx="1676520" cy="114300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4343400"/>
            <a:ext cx="167616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o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5486400"/>
            <a:ext cx="1904760" cy="99072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l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*.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loud"/>
          <p:cNvSpPr/>
          <p:nvPr/>
        </p:nvSpPr>
        <p:spPr>
          <a:xfrm>
            <a:off x="0" y="3581280"/>
            <a:ext cx="2286000" cy="129564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*.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3962520"/>
            <a:ext cx="190512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C, FP, S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631400">
            <a:off x="1988640" y="461304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9781400">
            <a:off x="1990800" y="5143320"/>
            <a:ext cx="533160" cy="304560"/>
          </a:xfrm>
          <a:prstGeom prst="rightArrow">
            <a:avLst>
              <a:gd name="adj1" fmla="val 50000"/>
              <a:gd name="adj2" fmla="val 4376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3505320"/>
            <a:ext cx="457200" cy="76176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15200" y="5638680"/>
            <a:ext cx="167652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153280" y="5181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53280" y="34290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4648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1147-6A58-41F7-B09A-D8AB60DF5C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ass Load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4880" y="990360"/>
            <a:ext cx="87627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a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ing and importing the binary data for a cl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in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Ver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nsuring the correctness of the imported ty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Prepa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llocating memory for class variables and initializing the memory to default val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Res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ransforming symbolic references from the type into direct referen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itia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nvoking Java code that initializes class variables to their proper starting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C8CC-850D-40D8-B274-4938948752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ass File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 Black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337760"/>
            <a:ext cx="3581280" cy="490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able of const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ables describing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ame, superclass,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ttributes,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ables describing fields and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ame, type/sign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ttributes (private, public,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code for meth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13320" y="1353960"/>
            <a:ext cx="6198840" cy="4865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Fi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4 magi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minor_vers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major_vers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constant_pool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p_info constant_pool[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constant_pool_count-1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access_flag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this_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super_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interface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interfaces[interfaces_coun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field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eld_info fields[fields_coun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method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_info methods[methods_count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2 attributes_cou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ttribute_info attributes[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attributes_count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2D59-FBA9-444B-BB24-6AE30C83EE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Fram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104840"/>
            <a:ext cx="4191120" cy="495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...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f(int 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=0; i&lt;x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10080" y="5562720"/>
            <a:ext cx="167652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turn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ller’s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343400"/>
            <a:ext cx="167652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ller’s 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733920"/>
            <a:ext cx="167652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3124080"/>
            <a:ext cx="16765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10080" y="1066680"/>
            <a:ext cx="1676520" cy="2057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05400" y="909720"/>
            <a:ext cx="8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S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89520" y="3114720"/>
            <a:ext cx="11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50040" y="5564160"/>
            <a:ext cx="8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FP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86600" y="312408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86600" y="106668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71880" y="1590840"/>
            <a:ext cx="120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pe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5562-58AB-4652-B8E8-22980802CB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– Each Thread Has its own Stack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838080"/>
            <a:ext cx="8077320" cy="1295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2438280"/>
            <a:ext cx="8077320" cy="3886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1447920"/>
            <a:ext cx="1600200" cy="4572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ea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1447920"/>
            <a:ext cx="1600200" cy="457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ea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1447920"/>
            <a:ext cx="16002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ea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590920"/>
            <a:ext cx="1447920" cy="83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3733920"/>
            <a:ext cx="1447920" cy="83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4876920"/>
            <a:ext cx="1447920" cy="838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2590920"/>
            <a:ext cx="160020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3733920"/>
            <a:ext cx="160020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590920"/>
            <a:ext cx="16002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3733920"/>
            <a:ext cx="16002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4876920"/>
            <a:ext cx="16002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1972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102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01B7-82EC-413D-B70B-EA0C66F61A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He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Java objects are allocated in the he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applications cannot explicitly free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arbage Colle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nvoked from time to time automatically to reclaim the objects that are no longer needed by the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ap is shared by all Java 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6CF6-56EE-451B-8F6E-EF8EE1AB6B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va Objects in the He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2286000"/>
            <a:ext cx="2971800" cy="2666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3200400"/>
            <a:ext cx="2210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2666880"/>
            <a:ext cx="2210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838080"/>
            <a:ext cx="4419360" cy="579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05520" y="1066680"/>
            <a:ext cx="167616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05520" y="14479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eld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19051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eld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05520" y="23623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…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05520" y="2819520"/>
            <a:ext cx="167616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elds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00600" y="4343400"/>
            <a:ext cx="16765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4724280"/>
            <a:ext cx="1676520" cy="1219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…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3657600"/>
            <a:ext cx="16765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0" y="4038480"/>
            <a:ext cx="167652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…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3880" y="3733920"/>
            <a:ext cx="2210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2971800"/>
            <a:ext cx="304560" cy="457200"/>
          </a:xfrm>
          <a:custGeom>
            <a:avLst/>
            <a:gdLst/>
            <a:ahLst/>
            <a:rect l="l" t="t" r="r" b="b"/>
            <a:pathLst>
              <a:path w="248" h="336">
                <a:moveTo>
                  <a:pt x="248" y="336"/>
                </a:moveTo>
                <a:cubicBezTo>
                  <a:pt x="132" y="268"/>
                  <a:pt x="16" y="200"/>
                  <a:pt x="8" y="144"/>
                </a:cubicBezTo>
                <a:cubicBezTo>
                  <a:pt x="0" y="88"/>
                  <a:pt x="176" y="24"/>
                  <a:pt x="20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0240" y="2819520"/>
            <a:ext cx="863640" cy="1143000"/>
          </a:xfrm>
          <a:custGeom>
            <a:avLst/>
            <a:gdLst/>
            <a:ahLst/>
            <a:rect l="l" t="t" r="r" b="b"/>
            <a:pathLst>
              <a:path w="544" h="720">
                <a:moveTo>
                  <a:pt x="544" y="720"/>
                </a:moveTo>
                <a:cubicBezTo>
                  <a:pt x="336" y="620"/>
                  <a:pt x="128" y="520"/>
                  <a:pt x="64" y="432"/>
                </a:cubicBezTo>
                <a:cubicBezTo>
                  <a:pt x="0" y="344"/>
                  <a:pt x="80" y="264"/>
                  <a:pt x="160" y="192"/>
                </a:cubicBezTo>
                <a:cubicBezTo>
                  <a:pt x="240" y="120"/>
                  <a:pt x="392" y="60"/>
                  <a:pt x="54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1219320"/>
            <a:ext cx="1371600" cy="2209680"/>
          </a:xfrm>
          <a:custGeom>
            <a:avLst/>
            <a:gdLst/>
            <a:ahLst/>
            <a:rect l="l" t="t" r="r" b="b"/>
            <a:pathLst>
              <a:path w="864" h="1392">
                <a:moveTo>
                  <a:pt x="864" y="0"/>
                </a:moveTo>
                <a:cubicBezTo>
                  <a:pt x="792" y="112"/>
                  <a:pt x="720" y="224"/>
                  <a:pt x="672" y="384"/>
                </a:cubicBezTo>
                <a:cubicBezTo>
                  <a:pt x="624" y="544"/>
                  <a:pt x="688" y="792"/>
                  <a:pt x="576" y="960"/>
                </a:cubicBezTo>
                <a:cubicBezTo>
                  <a:pt x="464" y="1128"/>
                  <a:pt x="96" y="1320"/>
                  <a:pt x="0" y="139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3962520"/>
            <a:ext cx="1066680" cy="68580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672" y="672"/>
                </a:moveTo>
                <a:cubicBezTo>
                  <a:pt x="560" y="512"/>
                  <a:pt x="448" y="352"/>
                  <a:pt x="336" y="240"/>
                </a:cubicBezTo>
                <a:cubicBezTo>
                  <a:pt x="224" y="128"/>
                  <a:pt x="56" y="40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21240" y="3048120"/>
            <a:ext cx="584280" cy="1447560"/>
          </a:xfrm>
          <a:custGeom>
            <a:avLst/>
            <a:gdLst/>
            <a:ahLst/>
            <a:rect l="l" t="t" r="r" b="b"/>
            <a:pathLst>
              <a:path w="368" h="864">
                <a:moveTo>
                  <a:pt x="368" y="0"/>
                </a:moveTo>
                <a:cubicBezTo>
                  <a:pt x="216" y="216"/>
                  <a:pt x="64" y="432"/>
                  <a:pt x="32" y="576"/>
                </a:cubicBezTo>
                <a:cubicBezTo>
                  <a:pt x="0" y="720"/>
                  <a:pt x="88" y="792"/>
                  <a:pt x="176" y="8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16800" y="2133720"/>
            <a:ext cx="1079280" cy="1676160"/>
          </a:xfrm>
          <a:custGeom>
            <a:avLst/>
            <a:gdLst/>
            <a:ahLst/>
            <a:rect l="l" t="t" r="r" b="b"/>
            <a:pathLst>
              <a:path w="680" h="1056">
                <a:moveTo>
                  <a:pt x="104" y="0"/>
                </a:moveTo>
                <a:cubicBezTo>
                  <a:pt x="392" y="96"/>
                  <a:pt x="680" y="192"/>
                  <a:pt x="680" y="336"/>
                </a:cubicBezTo>
                <a:cubicBezTo>
                  <a:pt x="680" y="480"/>
                  <a:pt x="208" y="752"/>
                  <a:pt x="104" y="864"/>
                </a:cubicBezTo>
                <a:cubicBezTo>
                  <a:pt x="0" y="976"/>
                  <a:pt x="48" y="976"/>
                  <a:pt x="56" y="1008"/>
                </a:cubicBezTo>
                <a:cubicBezTo>
                  <a:pt x="64" y="1040"/>
                  <a:pt x="136" y="1048"/>
                  <a:pt x="152" y="10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33920" y="2806560"/>
            <a:ext cx="3124080" cy="1168560"/>
          </a:xfrm>
          <a:custGeom>
            <a:avLst/>
            <a:gdLst/>
            <a:ahLst/>
            <a:rect l="l" t="t" r="r" b="b"/>
            <a:pathLst>
              <a:path w="1968" h="736">
                <a:moveTo>
                  <a:pt x="1968" y="680"/>
                </a:moveTo>
                <a:cubicBezTo>
                  <a:pt x="1536" y="708"/>
                  <a:pt x="1104" y="736"/>
                  <a:pt x="864" y="680"/>
                </a:cubicBezTo>
                <a:cubicBezTo>
                  <a:pt x="624" y="624"/>
                  <a:pt x="616" y="448"/>
                  <a:pt x="528" y="344"/>
                </a:cubicBezTo>
                <a:cubicBezTo>
                  <a:pt x="440" y="240"/>
                  <a:pt x="424" y="112"/>
                  <a:pt x="336" y="56"/>
                </a:cubicBezTo>
                <a:cubicBezTo>
                  <a:pt x="248" y="0"/>
                  <a:pt x="124" y="4"/>
                  <a:pt x="0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FC0C-55C1-4580-B737-83B7524D96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Bytecode Interpret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3956040" y="1417680"/>
            <a:ext cx="5187960" cy="415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(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program not en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etch next bytecode =&gt;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witch(b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ILO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oad an integer from the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array and push on 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f current operand stack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ISTO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p an integer from the top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urrent operand stack and 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t into the local variable arra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e ALO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end of 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end of w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8040" y="2071800"/>
            <a:ext cx="34038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to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need extra memory to store compiled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slower than execution of nativ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AD99-6549-4EBF-8C86-489E2CAF34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22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ust-In-Time Compil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33000" y="649080"/>
            <a:ext cx="8381880" cy="2122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ally compiles bytecode into native code at runtime, usually in method gran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native code is much faster than interpretation of byte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ation is time consuming and may slow down the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eoffs between execution time and compilati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3640" y="5757840"/>
            <a:ext cx="22860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3640" y="4691160"/>
            <a:ext cx="228600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3640" y="3471840"/>
            <a:ext cx="2286000" cy="121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yte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10000" y="298764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nterpr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48640" y="4336920"/>
            <a:ext cx="1676160" cy="1143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0520" y="5708520"/>
            <a:ext cx="4876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0520" y="3956040"/>
            <a:ext cx="2286000" cy="1752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51560" y="2786040"/>
            <a:ext cx="2286000" cy="1219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yte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81800" y="372744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62840" y="471816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30840" y="302436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JIT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0A63-FC4D-42D8-9E88-4C4371CA68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daptive Compil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5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less than 20% of the methods account for more than 80% of executi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ethods contains loop with large number of iteration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ethods that are frequently invo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Idea 1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only compile the methods where the application spends a lot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Idea 2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perform advanced compiler optimization for the hottest methods, simple or no compiler optimization for less hot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AA73-92EE-4461-A37A-8383293BCB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va system overview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19280" y="1428840"/>
            <a:ext cx="5260680" cy="4368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65160" y="3608280"/>
            <a:ext cx="4096080" cy="1440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31200" y="3632040"/>
            <a:ext cx="225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JVM do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depend on J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hine In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 independ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9990-BE6D-4825-9540-51B9F80031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How Adaptive Compiler Work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16000" y="9907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ree thresholds T1, T2 (T1&lt;T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method has a counter that is initialized to 0. Whenever the method is invoked, increase its counter b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hods with counter lower than T1 are executed using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method’s counter reaches T1, compile this method with simple 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method’s counter reaches T2, recompile this method with advanced 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BC6E-5450-4285-BDAA-DEA9995F71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in the JVM Spec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343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tecodes – the instruction set for Java Virtual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File Format – The platform independent representation of Java binary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cation Rules – the algorithm for identifying programs that cannot compromise the integrity of the J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55080" y="5397480"/>
            <a:ext cx="6974640" cy="1068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VM Specification does not specif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a JVM is implem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443A-6E33-4A69-AC4C-68E851F907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-set: typed instructions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212760" y="974880"/>
            <a:ext cx="893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JVM instructions are explicitly typed: different opCodes for instructions for integers, floats, arrays and reference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is is reflected by a naming convention in the first letter of the opCode mnemon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67040" y="2936880"/>
            <a:ext cx="109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l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f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d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7800" y="2968560"/>
            <a:ext cx="298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ger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ong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loat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oubl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ference-typ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C9FD-0F70-4588-A42C-98ABB2CD68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 set: kinds of operand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212760" y="1195560"/>
            <a:ext cx="893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JVM instructions have three kinds of operan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from the top of the operand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from the bytes following the o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- part of the o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ne instructions may have different “forms” supporting different kinds of oper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07800" y="3798720"/>
            <a:ext cx="146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_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74960" y="349884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ssembly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30000" y="348768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inary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44800" y="3830760"/>
            <a:ext cx="54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38800" y="3832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38800" y="4213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38800" y="4594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38800" y="4975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38800" y="539100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44800" y="5418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1800" y="539100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64120" y="5418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07800" y="5322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load </a:t>
            </a:r>
            <a:r>
              <a:rPr b="0" i="1" lang="en-US" sz="2400" spc="-1" strike="noStrike">
                <a:solidFill>
                  <a:srgbClr val="000000"/>
                </a:solidFill>
                <a:latin typeface="Lucida Conso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54920" y="613080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load 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ush the n-th local var on the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246A-AC88-4C0E-ABC3-142C282BF2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-set exampl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682200" y="1390680"/>
            <a:ext cx="556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add, ladd, fadd, d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tract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ub, lsub, fsub, ds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ul, lmul, fmul, dm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2760" y="91440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ithmet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" y="260820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3880" y="3168720"/>
            <a:ext cx="25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2l, i2f, i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2f, l2d, f2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2i, d2i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4080" y="451476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nd stack mani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p, pop2, dup, dup2, dup_x1, swa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ol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conditional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oto, goto_w, jsr, re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itional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eq, iflt, ifg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BE53-FA9A-400B-8853-D3E89F09A2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…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nstruction-set 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58920"/>
            <a:ext cx="8686800" cy="3111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hod invo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virtu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: usual instruction for calling a method on an obje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interf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as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virt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used when the called method is declared in an interface. (requires different kind of method look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spec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alling things such as constructors. These are not dynamically dispatched (this instruction is also known as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nonvirt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invokesta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or calling methods that have the “static” modifier (these methods “belong” to a class, rather an obj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ing from metho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return, ireturn, lreturn, areturn, fret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710240"/>
            <a:ext cx="8686800" cy="1465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new class instance (objec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new arra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newar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or creating arrays of primitive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anewarray, multianewarr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or arrays of referenc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6057-07D4-49C0-9FAA-BBEF91C911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Goto instruction – 3 and 5 byte vers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183960" y="3351240"/>
            <a:ext cx="450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 := PC +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8) |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78120" y="1231920"/>
            <a:ext cx="1279440" cy="130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78120" y="1682640"/>
            <a:ext cx="13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87480" y="2082960"/>
            <a:ext cx="130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6840" y="12780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27000" y="1461960"/>
            <a:ext cx="82872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42000" y="1308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o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55080" y="17146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51840" y="213660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41600" y="3309840"/>
            <a:ext cx="3358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 := PC +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24) |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16) |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&lt;&lt;  8) |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byte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30840" y="1203480"/>
            <a:ext cx="1279800" cy="19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30840" y="1654200"/>
            <a:ext cx="130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40560" y="2054160"/>
            <a:ext cx="13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09560" y="12492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80080" y="1433520"/>
            <a:ext cx="82872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95440" y="1279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oto_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60280" y="280656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68200" y="209700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26160" y="2441520"/>
            <a:ext cx="130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9640" y="2792520"/>
            <a:ext cx="13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06360" y="24526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77560" y="171612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branchbyt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36160" y="4254480"/>
            <a:ext cx="401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-bit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 offs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signed 2’s compliment representation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2779200" y="2498400"/>
            <a:ext cx="341280" cy="3024360"/>
          </a:xfrm>
          <a:custGeom>
            <a:avLst/>
            <a:gdLst>
              <a:gd name="textAreaLeft" fmla="*/ 0 w 341280"/>
              <a:gd name="textAreaRight" fmla="*/ 123120 w 34128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95120" y="4848120"/>
            <a:ext cx="211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ranch offs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7263000" y="3629520"/>
            <a:ext cx="341280" cy="1901880"/>
          </a:xfrm>
          <a:custGeom>
            <a:avLst/>
            <a:gdLst>
              <a:gd name="textAreaLeft" fmla="*/ 0 w 341280"/>
              <a:gd name="textAreaRight" fmla="*/ 123120 w 341280"/>
              <a:gd name="textAreaTop" fmla="*/ 49320 h 1901880"/>
              <a:gd name="textAreaBottom" fmla="*/ 1852560 h 190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19640" y="5530680"/>
            <a:ext cx="38412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e target address must be that of 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pcode of an instruction within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ethod that contai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is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goto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(or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goto_w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) instru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56FF-8DA4-4B42-8D9B-33FEA1C383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4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Black"/>
              </a:rPr>
              <a:t>Fibonacci Forever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838440" y="358920"/>
            <a:ext cx="7617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http://www.artima.com/insidejvm/applets/FibonacciForeve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560" y="1636560"/>
            <a:ext cx="310680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lass Fibonacci {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tatic void calcSequence() {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ong fiboNum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ong a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ong b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for (;;) {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fiboNum = a +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 =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 = fiboNum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96760" y="793800"/>
            <a:ext cx="308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 1, 2, 3, 5, 8, 13, 21, 34, 55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2760" y="1428840"/>
            <a:ext cx="594144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0 lconst_1  % Push long constant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 lstore_0  % Pop long into local vars 0 &amp; 1: long a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2 lconst_1  % Push long constant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3 lstore_2  % Pop long into local vars 2 &amp; 3: long b = 1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4 lconst_1  % Push long constant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5 lstore 4  % Pop long into local vars 4 &amp; 5: long fiboNum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7 lload_0   % Push long from local vars 0 &amp;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8 lload_2   % Push long from local vars 2 &amp;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9 ladd      % Pop two longs, add them, push resu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0 lstore 4 % Pop long into local vars 4 &amp; 5: fiboNum = a +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2 lload_2  % Push long from local vars 2 &amp;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3 lstore_0 % Pop long into local vars 0 &amp; 1: a = b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4 lload 4  % Push long from local vars 4 &amp; 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6 lstore_2 % Pop long into local vars 2 &amp; 3: b = fiboNum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17 goto 7   % Jump back to offset 7: for (;;) {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22280" y="4941720"/>
            <a:ext cx="547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a 3f 0a 41 0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7 0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e 20 61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7 0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3f 16 04 41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7 ff f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7840" y="4948200"/>
            <a:ext cx="15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TE COD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6680" y="52578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stor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49200" y="525636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stor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6360" y="5254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goto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24480" y="5516640"/>
            <a:ext cx="227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“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ssembles” to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goto -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B3A8-F0B7-447D-8305-496984BD83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6T07:16:58Z</dcterms:modified>
  <cp:revision>288</cp:revision>
  <dc:subject/>
  <dc:title>Slide 1</dc:title>
</cp:coreProperties>
</file>