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DC8-A30C-4154-9D8C-F914826E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98A-CC38-4A1F-A475-61C4192F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AA7-DBC5-4BF2-A959-DAA855DE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CDC-EBE9-41A4-A355-5244DCC6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0D7-9AD1-4734-B458-B1D9A57F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FA7-697E-4DCC-9A90-30F4A7CE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449-0EA0-4142-AB81-05BAC8FC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F57-45B9-4FAC-AB60-C5259BBF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9C0-9884-4748-A0C8-11971DD3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F4A-826A-403E-A189-3763F292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045-4334-4CF2-AAE3-08F3C611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F7F-9E9C-402A-8433-B195D939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AAC1-F97E-4A8C-B215-37CE55D47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6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inuation Passing Style (CPS)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OPTIONAL TOPIC: </a:t>
            </a:r>
            <a:br>
              <a:rPr sz="2800"/>
            </a:b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WILL NOT BE EXAMINED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C77-D199-4B50-9D08-027B35A4F2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4?  This is a “classical” resul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93680" y="1235160"/>
            <a:ext cx="871488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m4 : : (('a,'b) And -&gt; 'c) -&gt; ('a -&gt; ‘c,'b -&gt; 'c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dm4 f = callcc(fn k =&gt; Left(fn a =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k (Right(fn b =&gt; f(Pair(a,b))))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0" y="4170240"/>
            <a:ext cx="926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al interpret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callcc (fn j =&gt; Left(fn a =&gt; (..)))]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ure current continuatio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Left(fn a=&gt; (..))]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ed as if left branch is tr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’[(fn a=&gt;(..))V]           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function is ever applied to a valu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[Right(fn b =&gt; Pair(V, b))]            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jump back to the original contex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5A6-56BB-480D-83D5-A197374D33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tinuation Passing Sty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0440" y="1784520"/>
            <a:ext cx="32288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 n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n * (fact (n-1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40" y="3427560"/>
            <a:ext cx="59108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rec fact_cps n r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 &lt;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n r(1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lse fact_cps (n-1) (function x -&gt; r(n *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new_fact n = fact_cps n (function x -&gt; x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4600" y="2278080"/>
            <a:ext cx="1800" cy="1000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3160" y="241308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S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32320" y="3279600"/>
            <a:ext cx="2904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unctions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n extr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gument represe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 “never return” 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just call o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FA1-642F-46E6-832F-223957EDD3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68160" y="982800"/>
                <a:ext cx="44452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74640" y="215424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08120" y="2905200"/>
                <a:ext cx="24526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58800" y="3651120"/>
                <a:ext cx="439416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λ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16040" y="4699080"/>
                <a:ext cx="70009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n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200" y="578808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858960" y="5759280"/>
                <a:ext cx="67435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EA2-F433-4E10-8451-502F2B70DC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an use CPS as intermediate form in a Compiler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794160" y="1725480"/>
            <a:ext cx="6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5760" y="231624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23000" y="25480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480" y="345276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PS-Sty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2520" y="383688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9760" y="398448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32880" y="2219400"/>
            <a:ext cx="5019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advantag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avoid using a stac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easily implement complex control constr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0120" y="5583240"/>
            <a:ext cx="537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“Compiling with Continuations” by Andrew 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8D6-3A5D-436B-B2C2-3E32BECE79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callcc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Lucida Console"/>
              </a:rPr>
              <a:t>throw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n SML of NJ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1240" y="1308240"/>
            <a:ext cx="4204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- val throw = SMLofNJ.Cont.th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w : 'a ?.cont -&gt; 'a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5360" y="2773440"/>
            <a:ext cx="4325760" cy="13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l callcc = SMLofNJ.Cont.callc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llcc : ('a ?.cont -&gt; 'a) -&gt; '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487600" y="3805200"/>
            <a:ext cx="0" cy="174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4080" y="5791320"/>
            <a:ext cx="39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s the rest of the comp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AB2-EB35-4DBC-BF43-A0564B76D1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PS on Extended Lambda Ter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68160" y="1201680"/>
                <a:ext cx="4445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ee</m:t>
                    </m:r>
                    <m:r>
                      <m:t xml:space="preserve">|</m:t>
                    </m:r>
                    <m:r>
                      <m:t xml:space="preserve">λ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allcc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throw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9120" y="2111400"/>
                <a:ext cx="5884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78000" y="19382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5667480"/>
            <a:ext cx="73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63680" y="2852640"/>
                <a:ext cx="6073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76280" y="4229280"/>
                <a:ext cx="8132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allcc</m:t>
                        </m:r>
                        <m:r>
                          <m:t xml:space="preserve"> </m:t>
                        </m:r>
                        <m:r>
                          <m:t xml:space="preserve">λ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λ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541440" y="3808440"/>
            <a:ext cx="735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71880" y="4951440"/>
                <a:ext cx="43164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[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::</m:t>
                    </m:r>
                    <m:r>
                      <m:t xml:space="preserve">=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]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9080" y="5818320"/>
                <a:ext cx="82375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throw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λ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λ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λ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z</m:t>
                    </m:r>
                    <m:r>
                      <m:t xml:space="preserve">)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λ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85DF-2B35-40D7-BEE1-93E6F8E789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call: 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E9C-72D8-4BC3-8D35-9B941FC146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positions as Types, in S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03000" y="1515960"/>
            <a:ext cx="5910840" cy="423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And = Pair of 'a *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rst : ('a,'b) And -&gt; '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first (Pair(a,b)) = a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cond : ('a,'b) And -&gt; '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un second (Pair(a,b)) =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atatype ('a,'b) Or = Left of 'a | Right of '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920" y="5838840"/>
            <a:ext cx="701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using Standard ML of New Jersey, which has a slightly diffe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ax from Ocam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73720" y="6269040"/>
            <a:ext cx="274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http://www.smlnj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D19F-26F8-4155-8F9C-990572DBDA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m1, dm2, dm3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116352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1 : ('a -&gt; 'b,'c -&gt; 'b) Or -&gt; ('a,'c) And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1 d p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f =&gt; f(first 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g =&gt; g(second p)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0600" y="3052800"/>
            <a:ext cx="7998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2: (('a,'b) Or -&gt; 'c) -&gt; ('a -&gt; 'c,'b -&gt; 'c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2 f  = Pair(fn a =&gt; f(Left a), fn b =&gt; f(Right b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760" y="4502160"/>
            <a:ext cx="79988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(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m3 : ('a -&gt; 'b,'c -&gt; 'b) And -&gt; ('a,'c) Or -&gt; '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*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un dm3 p d = case d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ft a =&gt; ((first p) 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| Right b =&gt; ((second p) b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E91-519D-45A6-83F8-906FD4DCD5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6T07:16:59Z</dcterms:modified>
  <cp:revision>281</cp:revision>
  <dc:subject/>
  <dc:title>Slide 1</dc:title>
</cp:coreProperties>
</file>