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C6E7-4640-428E-945B-09EA5407F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57F7-7B78-4AC2-B0BF-92BDF9DD9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904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although m4 is redefined in E, it still requires a pointer to 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077-AFD2-42A5-A8C5-025D2219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F43-48E6-4506-BFEB-D25F829F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3BF-910D-42AD-BC5B-16D299E8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EBD-7810-4027-8BDF-14272CAA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675-7CD9-48EC-8618-9D0D132B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DC13-7270-47D7-999B-8050F375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0F9-0F87-40C8-90AF-E1AD5EEC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411-3842-4113-A032-E0A30002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F82-F6BB-442C-A930-DD9D444C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597-F266-44D8-96E5-B7632B74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231-2510-4742-9649-6374C82B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6313-6269-43CB-A409-04501A41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7B64-57A4-4D19-922E-624527560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bject Orient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06440" y="2554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4987800"/>
            <a:ext cx="70106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of the slides in this lecture are by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Koen Langendo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Delft University of Technology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6E7-6014-47CF-9955-0AF49E6CF6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Dynamic dispatch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ation: dispatch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25720" y="2666880"/>
            <a:ext cx="2087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tr to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also a ptr to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58920" y="306396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64080" y="3063960"/>
            <a:ext cx="1209600" cy="1554120"/>
            <a:chOff x="4564080" y="3063960"/>
            <a:chExt cx="1209600" cy="1554120"/>
          </a:xfrm>
        </p:grpSpPr>
        <p:sp>
          <p:nvSpPr>
            <p:cNvPr id="148" name=""/>
            <p:cNvSpPr/>
            <p:nvPr/>
          </p:nvSpPr>
          <p:spPr>
            <a:xfrm>
              <a:off x="4564080" y="3063960"/>
              <a:ext cx="120960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408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6408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4080" y="42498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969240" y="3063960"/>
            <a:ext cx="1209600" cy="1158840"/>
            <a:chOff x="6969240" y="3063960"/>
            <a:chExt cx="1209600" cy="1158840"/>
          </a:xfrm>
        </p:grpSpPr>
        <p:sp>
          <p:nvSpPr>
            <p:cNvPr id="153" name=""/>
            <p:cNvSpPr/>
            <p:nvPr/>
          </p:nvSpPr>
          <p:spPr>
            <a:xfrm>
              <a:off x="6969240" y="30639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240" y="34592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69240" y="38545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130720" y="3276720"/>
            <a:ext cx="1838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340080" y="5353200"/>
            <a:ext cx="5184720" cy="395280"/>
            <a:chOff x="3340080" y="5353200"/>
            <a:chExt cx="5184720" cy="395280"/>
          </a:xfrm>
        </p:grpSpPr>
        <p:sp>
          <p:nvSpPr>
            <p:cNvPr id="158" name=""/>
            <p:cNvSpPr/>
            <p:nvPr/>
          </p:nvSpPr>
          <p:spPr>
            <a:xfrm>
              <a:off x="4029120" y="5353200"/>
              <a:ext cx="4495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*(a-&gt;dispatch_table[1])(a, 3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40080" y="53676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96240" y="5105520"/>
            <a:ext cx="2512440" cy="13629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8B1-AB6A-4E33-8EF4-097BA2BB7761}" type="slidenum">
              <a:t>1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Dynamic typing:implementation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requires </a:t>
            </a:r>
            <a:r>
              <a:rPr b="0" lang="en-GB" sz="2400" spc="-1" strike="noStrike">
                <a:solidFill>
                  <a:srgbClr val="0033cc"/>
                </a:solidFill>
                <a:latin typeface="Arial Black"/>
              </a:rPr>
              <a:t>pointer subtyping</a:t>
            </a:r>
            <a:r>
              <a:rPr b="0" lang="en-GB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876240" y="3814920"/>
            <a:ext cx="6829560" cy="169452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_A_C(class_A *this_A, 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_C *this = </a:t>
            </a:r>
            <a:r>
              <a:rPr b="1" lang="en-GB" sz="1800" spc="-1" strike="noStrike">
                <a:solidFill>
                  <a:srgbClr val="0033cc"/>
                </a:solidFill>
                <a:latin typeface="Courier New"/>
              </a:rPr>
              <a:t>convert_ptrA_to_ptr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this_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his-&gt;a2 = this-&gt;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5040" y="1714680"/>
            <a:ext cx="2649600" cy="10314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40160" y="2048040"/>
            <a:ext cx="938160" cy="1122120"/>
          </a:xfrm>
          <a:prstGeom prst="downArrow">
            <a:avLst>
              <a:gd name="adj1" fmla="val 50000"/>
              <a:gd name="adj2" fmla="val 29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3D23-DE15-4763-890F-F1CE21E6CE8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138348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, c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99480" y="3867120"/>
            <a:ext cx="3335400" cy="2357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E : public C,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e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5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53400" y="1612800"/>
            <a:ext cx="2649600" cy="20260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d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4() {...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124-ACDC-4A14-AD54-D20A0B3363B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60400" y="605628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C_to_ptrE(c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D_to_ptrE(d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d -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7400" y="4770360"/>
            <a:ext cx="6829560" cy="699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C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vert_ptrE_to_ptrD(e) 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 + sizeof(Class_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ultiple inheritanc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85640" y="1600200"/>
            <a:ext cx="6561360" cy="3050280"/>
            <a:chOff x="2285640" y="1600200"/>
            <a:chExt cx="6561360" cy="3050280"/>
          </a:xfrm>
        </p:grpSpPr>
        <p:sp>
          <p:nvSpPr>
            <p:cNvPr id="175" name=""/>
            <p:cNvSpPr/>
            <p:nvPr/>
          </p:nvSpPr>
          <p:spPr>
            <a:xfrm>
              <a:off x="435132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1480" y="425160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obj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89600" y="1733760"/>
              <a:ext cx="2057400" cy="291456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08720" y="4251600"/>
              <a:ext cx="101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E-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5640" y="1600200"/>
              <a:ext cx="198972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C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70240" y="199728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75040" y="185760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75040" y="225288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75040" y="264816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75040" y="3043440"/>
              <a:ext cx="1209960" cy="395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80200" y="1857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C_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80200" y="2252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C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80200" y="26481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3_D_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42040" y="207036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5040" y="343872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d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75040" y="3834000"/>
              <a:ext cx="120996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5640" y="281628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tr to D inside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70240" y="3213360"/>
              <a:ext cx="23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80200" y="30434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4_D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0200" y="34387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5_E_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42040" y="2816280"/>
              <a:ext cx="1838160" cy="399960"/>
            </a:xfrm>
            <a:custGeom>
              <a:avLst/>
              <a:gdLst/>
              <a:ahLst/>
              <a:rect l="l" t="t" r="r" b="b"/>
              <a:pathLst>
                <a:path w="1158" h="252">
                  <a:moveTo>
                    <a:pt x="0" y="250"/>
                  </a:moveTo>
                  <a:lnTo>
                    <a:pt x="787" y="252"/>
                  </a:lnTo>
                  <a:lnTo>
                    <a:pt x="787" y="2"/>
                  </a:lnTo>
                  <a:lnTo>
                    <a:pt x="1158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628200" y="429084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er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2880" y="56530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369-941F-471B-BE4F-5328ECDEE35E}" type="slidenum">
              <a:t>13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iven an object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of class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06440" y="2362320"/>
          <a:ext cx="8508960" cy="3319200"/>
        </p:xfrm>
        <a:graphic>
          <a:graphicData uri="http://schemas.openxmlformats.org/drawingml/2006/table">
            <a:tbl>
              <a:tblPr/>
              <a:tblGrid>
                <a:gridCol w="1346040"/>
                <a:gridCol w="7162920"/>
              </a:tblGrid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1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0]))((Class_C *) 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3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2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e.m4(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*(e-&gt;dispatch_table[3]))(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class_D *)((char *)e + sizeof(Class_C)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7EB-B970-481A-9D50-4CE170E8F63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OO Featur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capsulate local state within an object, Java has “private” “protected” and “public” qual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thods/fields can’t be called/used outside of the class in which they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really a scope/visibility issue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nt-end during semantic analysis (type checking and so on), the compiler maintains this information in the symbol table for each class and enforces visibility r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14E4-4818-462F-99EB-AC43A3CB71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s (with single inheritance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226440" y="982800"/>
            <a:ext cx="59414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tart :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Vehicle extends Objec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osition := st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{position := position + x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Car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passengers :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await(v : Vehicle)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(v.position &lt; po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n v.move(position – v.posi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lse self.move(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lass Truck extends Vehic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ethod move(int x)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x &lt;= 55 then position := position +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t := new Tr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c := new C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ar v : Vehicle :=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passengers :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move(6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.move(7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.await(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9600" y="4014720"/>
            <a:ext cx="2021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ethod over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46800" y="5259240"/>
            <a:ext cx="3592800" cy="1008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typing allow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ck or Car to be viewe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sed as a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804680" y="6087960"/>
            <a:ext cx="3647880" cy="1857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503160" y="4105080"/>
            <a:ext cx="3103560" cy="44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855880" y="5217840"/>
            <a:ext cx="2604960" cy="368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ACA-0B34-4352-B98B-B62E87C1B7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bject Implementation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object fiel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inherited fields and fields for the current ob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access method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the current class does not define a particular method, where do we go to get the inherited method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w do we handle method overr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How do we implement subtyping (“object polymorphism”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B is derived from A, then need to be able to treat a pointer to a B-object as if it were an A-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8869-CB4D-4204-9E38-23A0AC27BD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tic &amp; Dynamic Metho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of compiling a method is some machine code located at a particula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method invocation point, we need to figure out what code location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has static &amp; dynamic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static method calls, we look at the static type of the call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solve dynamic method calls, we need the dynamic type of the call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BFB5-1EB7-4BC0-8249-0BB3E91ABE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Object represent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597240" y="1752480"/>
            <a:ext cx="2786760" cy="34995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a1,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1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1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a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1160" y="1752480"/>
            <a:ext cx="756720" cy="459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46400" y="2482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65640" y="2354400"/>
            <a:ext cx="1209600" cy="763560"/>
            <a:chOff x="5165640" y="2354400"/>
            <a:chExt cx="1209600" cy="763560"/>
          </a:xfrm>
        </p:grpSpPr>
        <p:sp>
          <p:nvSpPr>
            <p:cNvPr id="67" name=""/>
            <p:cNvSpPr/>
            <p:nvPr/>
          </p:nvSpPr>
          <p:spPr>
            <a:xfrm>
              <a:off x="5165640" y="2354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65640" y="2749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65640" y="4138560"/>
            <a:ext cx="1209600" cy="763560"/>
            <a:chOff x="5165640" y="4138560"/>
            <a:chExt cx="1209600" cy="763560"/>
          </a:xfrm>
        </p:grpSpPr>
        <p:sp>
          <p:nvSpPr>
            <p:cNvPr id="70" name=""/>
            <p:cNvSpPr/>
            <p:nvPr/>
          </p:nvSpPr>
          <p:spPr>
            <a:xfrm>
              <a:off x="5165640" y="413856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1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65640" y="453384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m2_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673320" y="4157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62400" y="1955880"/>
            <a:ext cx="120996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86080" y="215100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77040" y="1573200"/>
            <a:ext cx="70632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0080" y="13208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998E-3F94-411F-B9BF-FD76A9B4DA7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Black"/>
              </a:rPr>
              <a:t>Inheritance (“pointer polymorphism”)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6604920" y="27511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5280" y="42004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5280" y="459576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80840" y="4033800"/>
            <a:ext cx="22626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de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805280" y="2416320"/>
            <a:ext cx="1209600" cy="1158840"/>
            <a:chOff x="4805280" y="2416320"/>
            <a:chExt cx="1209600" cy="1158840"/>
          </a:xfrm>
        </p:grpSpPr>
        <p:sp>
          <p:nvSpPr>
            <p:cNvPr id="83" name=""/>
            <p:cNvSpPr/>
            <p:nvPr/>
          </p:nvSpPr>
          <p:spPr>
            <a:xfrm>
              <a:off x="4805280" y="24163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5280" y="28116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5280" y="32068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805280" y="499104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040" y="1289160"/>
            <a:ext cx="2923920" cy="2689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b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37120" y="139392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8360" y="5888160"/>
            <a:ext cx="696420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a pointer to a B object 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reated as if it were a pointer to an A obj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7EF-8DB1-4F67-A90E-BF81065E671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Method overri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6287400" y="265284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92680" y="416232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1_A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92680" y="455760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2_A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90560" y="41324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ho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780080" y="2427120"/>
            <a:ext cx="1209600" cy="1158840"/>
            <a:chOff x="4780080" y="2427120"/>
            <a:chExt cx="1209600" cy="1158840"/>
          </a:xfrm>
        </p:grpSpPr>
        <p:sp>
          <p:nvSpPr>
            <p:cNvPr id="99" name=""/>
            <p:cNvSpPr/>
            <p:nvPr/>
          </p:nvSpPr>
          <p:spPr>
            <a:xfrm>
              <a:off x="4780080" y="242712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0080" y="282240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80080" y="3217680"/>
              <a:ext cx="1209600" cy="3682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792680" y="4952880"/>
            <a:ext cx="1209600" cy="368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3_C_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880" y="2057400"/>
            <a:ext cx="2923920" cy="3683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C : public A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c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3(void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1 = a1 +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m2(int i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2 = c1 +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4356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730840" y="5460480"/>
            <a:ext cx="0" cy="582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86240" y="596736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l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45800" y="59673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95920" y="2028960"/>
            <a:ext cx="1209600" cy="39528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9600" y="2224080"/>
            <a:ext cx="1312920" cy="1994040"/>
          </a:xfrm>
          <a:custGeom>
            <a:avLst/>
            <a:gdLst/>
            <a:ahLst/>
            <a:rect l="l" t="t" r="r" b="b"/>
            <a:pathLst>
              <a:path w="827" h="1256">
                <a:moveTo>
                  <a:pt x="773" y="20"/>
                </a:moveTo>
                <a:cubicBezTo>
                  <a:pt x="800" y="10"/>
                  <a:pt x="827" y="0"/>
                  <a:pt x="727" y="20"/>
                </a:cubicBezTo>
                <a:cubicBezTo>
                  <a:pt x="627" y="40"/>
                  <a:pt x="284" y="9"/>
                  <a:pt x="174" y="143"/>
                </a:cubicBezTo>
                <a:cubicBezTo>
                  <a:pt x="64" y="277"/>
                  <a:pt x="0" y="641"/>
                  <a:pt x="66" y="826"/>
                </a:cubicBezTo>
                <a:cubicBezTo>
                  <a:pt x="132" y="1011"/>
                  <a:pt x="352" y="1133"/>
                  <a:pt x="573" y="1256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009840" y="1646280"/>
            <a:ext cx="706680" cy="352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29560" y="139392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CDB0-9D79-4294-AED2-C7C0994916D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547560" y="1962000"/>
            <a:ext cx="3838320" cy="2924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clas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hap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fals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bstract double SurfaceArea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Rectangle extends Shap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ouble SurfaceArea { ..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Rectangl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lass Squrae extends Rectangl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oolean IsSquare() {return true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46640" y="1179360"/>
          <a:ext cx="2678040" cy="2211480"/>
        </p:xfrm>
        <a:graphic>
          <a:graphicData uri="http://schemas.openxmlformats.org/drawingml/2006/table">
            <a:tbl>
              <a:tblPr/>
              <a:tblGrid>
                <a:gridCol w="267804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 table fo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Rectang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hap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ctangl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quare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ha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rfaceArea_Shape_</a:t>
                      </a:r>
                      <a:r>
                        <a:rPr b="1" lang="en-US" sz="12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Rectang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216400" y="379728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 table 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6400" y="5888160"/>
            <a:ext cx="28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rfaceArea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6400" y="5356080"/>
            <a:ext cx="2830680" cy="532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quar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6400" y="4838760"/>
            <a:ext cx="2830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Rectangl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6400" y="4317840"/>
            <a:ext cx="2830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sShape_Shape_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6400" y="3797280"/>
            <a:ext cx="2830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6400" y="48387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6400" y="535608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6400" y="5888160"/>
            <a:ext cx="28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16400" y="6408720"/>
            <a:ext cx="2830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640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47080" y="3797280"/>
            <a:ext cx="0" cy="520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6400" y="4317840"/>
            <a:ext cx="2830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4708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6400" y="4317840"/>
            <a:ext cx="0" cy="2090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5920" y="5450040"/>
            <a:ext cx="334152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mpiler needs to 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YMBOL TABLE to keep t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object types and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4E85-FD17-4E9C-8AB5-7D94906A771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Static vs. Dynamic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method to invoke on overloaded polymorphic ty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7240" y="3890880"/>
            <a:ext cx="2771640" cy="1503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C *c = ..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A *a =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-&gt;m2(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37000" y="4137480"/>
            <a:ext cx="739080" cy="79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297320" y="3733920"/>
            <a:ext cx="3929040" cy="1592280"/>
            <a:chOff x="4297320" y="3733920"/>
            <a:chExt cx="3929040" cy="1592280"/>
          </a:xfrm>
        </p:grpSpPr>
        <p:grpSp>
          <p:nvGrpSpPr>
            <p:cNvPr id="136" name=""/>
            <p:cNvGrpSpPr/>
            <p:nvPr/>
          </p:nvGrpSpPr>
          <p:grpSpPr>
            <a:xfrm>
              <a:off x="4602240" y="3886200"/>
              <a:ext cx="3200400" cy="459720"/>
              <a:chOff x="4602240" y="3886200"/>
              <a:chExt cx="3200400" cy="459720"/>
            </a:xfrm>
          </p:grpSpPr>
          <p:sp>
            <p:nvSpPr>
              <p:cNvPr id="137" name=""/>
              <p:cNvSpPr/>
              <p:nvPr/>
            </p:nvSpPr>
            <p:spPr>
              <a:xfrm>
                <a:off x="4602240" y="391788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A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910200" y="388620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stat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602240" y="4724280"/>
              <a:ext cx="3624120" cy="459720"/>
              <a:chOff x="4602240" y="4724280"/>
              <a:chExt cx="3624120" cy="459720"/>
            </a:xfrm>
          </p:grpSpPr>
          <p:sp>
            <p:nvSpPr>
              <p:cNvPr id="140" name=""/>
              <p:cNvSpPr/>
              <p:nvPr/>
            </p:nvSpPr>
            <p:spPr>
              <a:xfrm>
                <a:off x="4602240" y="4754520"/>
                <a:ext cx="2112840" cy="368280"/>
              </a:xfrm>
              <a:prstGeom prst="rect">
                <a:avLst/>
              </a:prstGeom>
              <a:noFill/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urier New"/>
                  </a:rPr>
                  <a:t>m2_A_C(a, 3)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911640" y="472428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</a:rPr>
                  <a:t>dynam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297320" y="3733920"/>
              <a:ext cx="304920" cy="15922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1400 h 1592280"/>
                <a:gd name="textAreaBottom" fmla="*/ 1550880 h 15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13C-E0EF-4172-90F3-BB763B68047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1T10:20:51Z</dcterms:modified>
  <cp:revision>274</cp:revision>
  <dc:subject/>
  <dc:title>Slide 1</dc:title>
</cp:coreProperties>
</file>