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C13A-1F55-4BD5-9854-4609C1FCC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3879-AC53-467D-8DDD-5EAB8F3F3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46F-CDCE-4EEC-9596-A106B563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D18-0EA4-49F6-B526-A7F7131B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519-7EF4-42C8-A575-53D6E53D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6B9-374F-49AB-B753-3D51F083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2B3-98EC-483D-96F6-5E61AECF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5E6-6120-4F63-97D0-60DF6B0C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A2AD-4F98-4913-9855-279A6BEE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5EF-DE11-451B-A084-C93494A7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5AF-CB49-41DD-99C1-AE26BCBF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46F-22D6-476D-98CC-02B93AE9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51F-BF21-441D-B4C3-F0D9BE1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A980-ACDD-4724-8B74-5B0D00F0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4065-F462-4241-9943-C3CC24C09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41120" y="0"/>
            <a:ext cx="9285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59120" y="-360"/>
            <a:ext cx="2652840" cy="19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cture 14</a:t>
            </a:r>
            <a:br>
              <a:rPr sz="1400"/>
            </a:b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arbage Collectio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Lent Term 2007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imothy G. Griffin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University of Cambridge </a:t>
            </a:r>
            <a:endParaRPr b="0" lang="en-US" sz="1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17D-207A-4655-A3F8-2496E03151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ference counting can’t detect cycles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920" y="55324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63040" y="2631960"/>
            <a:ext cx="552240" cy="60480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00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2880" y="336384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581280"/>
            <a:ext cx="30492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6" idx="3"/>
            <a:endCxn id="159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8160" y="525780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85800" y="4495320"/>
            <a:ext cx="914400" cy="8384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73000" y="554688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96080" y="4952880"/>
            <a:ext cx="0" cy="6098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E23-A32B-4BDC-B679-52FE0006A3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os and C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/time overhead to maintain cou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leakage when cycles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remen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 long pauses to collect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many useful appl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File System 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mbolic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’s RMI management of St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Function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496-076E-4A7F-8661-7F367D7480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ark and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th fir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versal of object graph from the root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4F1-2AB9-455F-ACEC-673F585EB6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st of Mark Swee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7520" y="1060560"/>
            <a:ext cx="8229600" cy="51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good” = each collection returns H - R words reclai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rtized cost = time-collecting/amount-reclaim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 is close to H, then each collection reclaims little spac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/ H must be sufficiently small or GC cost is hig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dynamically adjust. Say, if R / H is larger than .5, increase heap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214-6FE1-44A4-AB55-090BE66D1F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Probl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? Pointer reversal [See Appe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10F-D740-4B28-B821-CB5F433AE6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use 2 he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used b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unused until GC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he roots &amp; traverse the reach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reachable data from the active heap (from-space) to the other heap (to-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 objects are left behind in from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ps switch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E98-E75B-4C69-85CD-C5AA5C1E72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Collec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57000" y="175248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07840" y="1752480"/>
            <a:ext cx="21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000" y="3794040"/>
            <a:ext cx="143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447920" y="3657240"/>
            <a:ext cx="6094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14800"/>
            <a:ext cx="60948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91120"/>
            <a:ext cx="6858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2286000"/>
            <a:ext cx="1366920" cy="3200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4724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19112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35812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1240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57400" y="335268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3505320"/>
            <a:ext cx="457200" cy="1371600"/>
          </a:xfrm>
          <a:custGeom>
            <a:avLst/>
            <a:gdLst/>
            <a:ahLst/>
            <a:rect l="l" t="t" r="r" b="b"/>
            <a:pathLst>
              <a:path w="288" h="864">
                <a:moveTo>
                  <a:pt x="0" y="864"/>
                </a:moveTo>
                <a:cubicBezTo>
                  <a:pt x="144" y="768"/>
                  <a:pt x="288" y="672"/>
                  <a:pt x="288" y="528"/>
                </a:cubicBezTo>
                <a:cubicBezTo>
                  <a:pt x="288" y="384"/>
                  <a:pt x="48" y="88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200400"/>
            <a:ext cx="24156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48" y="192"/>
                </a:moveTo>
                <a:cubicBezTo>
                  <a:pt x="100" y="160"/>
                  <a:pt x="152" y="128"/>
                  <a:pt x="144" y="96"/>
                </a:cubicBezTo>
                <a:cubicBezTo>
                  <a:pt x="136" y="64"/>
                  <a:pt x="6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52578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50292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48006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5720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4343400"/>
            <a:ext cx="1371600" cy="228600"/>
          </a:xfrm>
          <a:prstGeom prst="rect">
            <a:avLst/>
          </a:prstGeom>
          <a:solidFill>
            <a:srgbClr val="0099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724280"/>
            <a:ext cx="304920" cy="685800"/>
          </a:xfrm>
          <a:custGeom>
            <a:avLst/>
            <a:gdLst/>
            <a:ahLst/>
            <a:rect l="l" t="t" r="r" b="b"/>
            <a:pathLst>
              <a:path w="192" h="432">
                <a:moveTo>
                  <a:pt x="0" y="432"/>
                </a:moveTo>
                <a:cubicBezTo>
                  <a:pt x="96" y="348"/>
                  <a:pt x="192" y="264"/>
                  <a:pt x="192" y="192"/>
                </a:cubicBezTo>
                <a:cubicBezTo>
                  <a:pt x="192" y="120"/>
                  <a:pt x="96" y="60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152640" cy="30456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192"/>
                </a:moveTo>
                <a:cubicBezTo>
                  <a:pt x="48" y="160"/>
                  <a:pt x="96" y="128"/>
                  <a:pt x="96" y="96"/>
                </a:cubicBezTo>
                <a:cubicBezTo>
                  <a:pt x="96" y="64"/>
                  <a:pt x="48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8862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46F-88F3-4151-B462-85CFB130A0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pying GC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3240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&amp; collects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proportional to # liv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compaction eliminate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type information required (pointer or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 bits take extra space; normally use header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ce as much memory used as program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, we anticipate live data will only be a small fragment of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until 70%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-space = 70% heap; to-space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GC pauses = bad for interactive, real-time ap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4C2-E035-4488-96F4-911210CB7D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BSERVATION: for a copying garbage collector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14332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28560" y="4532400"/>
            <a:ext cx="7764480" cy="174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0%  to 98% new objects die very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 object that has survived several collections has a bigger chance to become a long-lived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’s a inefficient that long-lived objects be copied over and over.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E88-774B-4AE8-A0BB-2C76E53AE9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A: Generational garbage collec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43680" cy="3505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74560" y="4870440"/>
            <a:ext cx="7696440" cy="180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egregate objects into multiple areas by age, and collect areas containing older objects less often than the youn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930-B683-44C6-8444-53B18993BA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Garbage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170000" y="11336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33120" y="2135160"/>
            <a:ext cx="6715800" cy="703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value is garbage if it will not be used in any subsequ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utation by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040" y="4373640"/>
            <a:ext cx="7916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General, determining what is and is not garbage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 deci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8480" y="5680080"/>
            <a:ext cx="3823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Read Chapter 13 of Ap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4C9-CAE1-41D9-A723-EA79EE736F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ther issues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3600" y="136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</a:t>
            </a:r>
            <a:r>
              <a:rPr b="0" lang="en-US" sz="1800" spc="-1" strike="noStrike">
                <a:solidFill>
                  <a:srgbClr val="009999"/>
                </a:solidFill>
                <a:latin typeface="Arial Black"/>
              </a:rPr>
              <a:t>promot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bjects from young generation to old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after an object survives a collection, it will be promo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eed to keep track of older objects pointing to newer on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big should the generations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ppel says each should be exponentially larger than the l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en do we collect the old gener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fter several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inor collection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we do a </a:t>
            </a:r>
            <a:r>
              <a:rPr b="0" lang="en-US" sz="1600" spc="-1" strike="noStrike">
                <a:solidFill>
                  <a:srgbClr val="009999"/>
                </a:solidFill>
                <a:latin typeface="Arial Black"/>
              </a:rPr>
              <a:t>major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ometimes different GC algorithms are used for the new and older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y? Because the have different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pying collection for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ss than 10% of the new data is usually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pying collection cost is proportional to the liv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rk-sweep for the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39C-2597-4306-8070-FED6FEF6B7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36600"/>
            <a:ext cx="8229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programming language so the problem goes away!  That is, use FORT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programmer to worry about it (use malloc and free in C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and Sw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Coll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ther techniqu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3F2-DD10-44F6-A9E1-035220D1A5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strict Languages? NO WAY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programming language allows programmers to allocate new storage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cords, arrays, tuples, objects, clos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modern language needs facilities for reclaiming and recycling the storage used b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S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’s usually the most complex aspect of the run-time system for any modern language (Java, ML, Lisp, Scheme, Modula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DA8-D418-48F3-BCCA-3BFC069122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plicit M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library manages memory; programmer decides when and where to allocate and deall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* malloc(long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oid free(void *ad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calls OS for more pages when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are very clever primate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is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ople too clever and make mistakes. Getting it right can be costly. And don’t we want to automate-away tedium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dvan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us to implement Garbage Colle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703-4CEF-4F02-9E41-9C2A3D96C1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utom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9" idx="3"/>
            <a:endCxn id="72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520" y="1090440"/>
            <a:ext cx="2462040" cy="5615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89360" y="10684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OOT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1760" y="5942160"/>
            <a:ext cx="47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--------------------  HEAP 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D2E-65C8-46CC-A3C3-4D066A1358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dentify Cells Reachable From Root Set…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76520"/>
            <a:ext cx="685800" cy="152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2666880"/>
            <a:ext cx="6858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16765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3333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472428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2" idx="3"/>
            <a:endCxn id="105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flipH="1">
            <a:off x="6934320" y="19810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2895480"/>
            <a:ext cx="9144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001000" y="2209680"/>
            <a:ext cx="0" cy="5335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562-52E3-4A56-8049-D8C0F8BC83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reclaim unreachable cells, 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epeat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447920"/>
            <a:ext cx="685800" cy="350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133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19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724280"/>
            <a:ext cx="12193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3809520"/>
            <a:ext cx="0" cy="76212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3505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362320"/>
            <a:ext cx="1143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2362320"/>
            <a:ext cx="68580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" y="5380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76720"/>
            <a:ext cx="68580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3"/>
            <a:endCxn id="130" idx="0"/>
          </p:cNvCxnSpPr>
          <p:nvPr/>
        </p:nvCxnSpPr>
        <p:spPr>
          <a:xfrm>
            <a:off x="5575320" y="3543480"/>
            <a:ext cx="2083680" cy="864000"/>
          </a:xfrm>
          <a:prstGeom prst="bentConnector2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41000" y="37814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95960" y="5875200"/>
            <a:ext cx="10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495440" y="4976640"/>
            <a:ext cx="6213600" cy="1114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840" y="6238800"/>
            <a:ext cx="18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58800" y="3348000"/>
            <a:ext cx="3318120" cy="2243160"/>
          </a:xfrm>
          <a:custGeom>
            <a:avLst/>
            <a:gdLst/>
            <a:ahLst/>
            <a:rect l="l" t="t" r="r" b="b"/>
            <a:pathLst>
              <a:path w="2090" h="1413">
                <a:moveTo>
                  <a:pt x="0" y="1413"/>
                </a:moveTo>
                <a:cubicBezTo>
                  <a:pt x="335" y="1404"/>
                  <a:pt x="670" y="1396"/>
                  <a:pt x="968" y="1347"/>
                </a:cubicBezTo>
                <a:cubicBezTo>
                  <a:pt x="1266" y="1298"/>
                  <a:pt x="1659" y="1247"/>
                  <a:pt x="1787" y="1118"/>
                </a:cubicBezTo>
                <a:cubicBezTo>
                  <a:pt x="1915" y="989"/>
                  <a:pt x="1746" y="743"/>
                  <a:pt x="1736" y="572"/>
                </a:cubicBezTo>
                <a:cubicBezTo>
                  <a:pt x="1726" y="401"/>
                  <a:pt x="1669" y="184"/>
                  <a:pt x="1728" y="92"/>
                </a:cubicBezTo>
                <a:cubicBezTo>
                  <a:pt x="1787" y="0"/>
                  <a:pt x="1938" y="9"/>
                  <a:pt x="2090" y="1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790-596A-4300-9DC6-01F37A536D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 Counting, basic idea: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2280" y="157608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number of pointers to each object (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he reference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bject is created, set count t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pointer to the object is created, increment the cou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n existing pointer to an object is destroyed, decrement th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reference count goes to 0, the object is unreachable garb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6440" y="5121360"/>
            <a:ext cx="35046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early --- this can be VERY costly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A74-0574-40C7-9D8B-D75DC4CB32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9T12:48:01Z</dcterms:modified>
  <cp:revision>263</cp:revision>
  <dc:subject/>
  <dc:title>Slide 1</dc:title>
</cp:coreProperties>
</file>