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9669-814C-4B3B-88A3-0FE5BAC69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not going to lecture a full compiler cours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610-A0F4-49EB-ADD6-11F07633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BCA-39C5-4818-964C-486CC160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6671-E3BF-45AA-8D18-270E850A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ED2-A168-4603-B428-97FC5F59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7C8-22A6-4056-9DF5-50F37692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259-862E-4400-B307-1E2CAC20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68D-A1FD-44CA-9EBF-65C3C963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D96-CCCE-4092-90F8-13A34402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594-C49E-4452-9555-B7360F69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369-389E-4796-BA03-22E99CD1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13C-566D-42E1-A79D-D3A1C74D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9D0-F671-453E-916B-9D7461B9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4DA8-DA5E-48BA-B31F-FC1CEBF3D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66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1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gister Machines and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Min-Caml Middle-End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54F-DDAA-4FC0-A79B-EA1D94A1EF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29680" y="565200"/>
            <a:ext cx="548424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68200" y="3263760"/>
            <a:ext cx="740448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395-C807-4E7D-ACE7-30A96C20CE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30360" y="103032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23880" y="110016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84840" y="1076400"/>
            <a:ext cx="3762000" cy="46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44240" y="6083280"/>
            <a:ext cx="694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Knormal.f : Syntax.t -&gt; Knormal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68360" y="123516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28E-D4A0-45E9-BBC4-8A60CDCF16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-Reduction, Nested "Let" Reduc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53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y in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[y/x]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394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y = (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3365640"/>
            <a:ext cx="862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DAA-3452-4154-8949-CE59CDC14A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Inlin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lines all "small"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des recursive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mall" = less than a consta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nline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for a constant number of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-specified by "-iter"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04C-F9B9-46FF-8DD0-98D9AC7306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Simplification: Constant Folding an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Variable Elimin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x +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 let y = 7 i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effective after inli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2D2-360B-45CF-8538-52315D88B0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plificat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708120" y="269568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81040"/>
            <a:ext cx="6200280" cy="26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x  : int = 17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  : (int) -&gt; (int) -&gt; int y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g  : (int) -&gt; int z : in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7  : int = (x + y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7 + 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first  : (int) -&gt; int = let Ti1  : int = 21 in (f Ti1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second  : (int) -&gt; int = let Ti2  : int = 88 in (f Ti2)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result  : int = let Ti4  : int = let Ti3  : int = 99 in (first Ti3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let Ti6  : int = let Ti5  : int = 44 in (second Ti5)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(Ti4 + Ti6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Lucida Console"/>
              </a:rPr>
              <a:t>EXTERN(print_int resul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1280" y="340668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2E5-CF60-45EA-A790-0EE87F0B18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unction defini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  functi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p-level function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cre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ure applicatio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n function call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BA7-FB6A-4252-820D-1F5A4B2258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1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Closure Creation/Appl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y = x + y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x] y = x + y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x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closure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169-35BC-479F-99DC-19965F7D33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2: Known Function Ca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f 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ake_closure f = (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, [])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(f, apply_direct f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8AD-9A9D-4DFF-B625-D678B0D5BB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Example 3: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Unused Closure Elimin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 x = x + 3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rec f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top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[] x = x + 3 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pply_direct f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387-F30F-48DC-A4D7-ACA3AD4F37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Register Machine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asic (Abstract) Operation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932040" y="433692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4280" y="13240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8760" y="13762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L to register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260028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47840" y="2666880"/>
            <a:ext cx="47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 to memory locatio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0520" y="4213080"/>
            <a:ext cx="541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 operation op in values in registers R2 and R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store the result in register R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0320" y="18064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9360" y="1752480"/>
            <a:ext cx="45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memory location 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register 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240" y="317196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2]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46040" y="3129120"/>
            <a:ext cx="47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ve data from register R1 to memory lo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d in 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E16-747D-4453-BD3E-8A3D85D1DA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7280" y="378000"/>
            <a:ext cx="2511360" cy="11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2182680"/>
            <a:ext cx="0" cy="1182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0" y="200160"/>
            <a:ext cx="5301360" cy="319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.9  : (int) -&gt; (int) -&gt; in t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g.20  : (int) -&gt; int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= 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= 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= 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= 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EXTERN(print_int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7B1-6DD9-4707-8E51-6C7D6F5AF6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36600" y="1006560"/>
            <a:ext cx="37620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FunApp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1200" y="6059520"/>
            <a:ext cx="767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val Closure.f : Knormal.t -&gt; Closure.p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8640" y="1093680"/>
            <a:ext cx="1671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normal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84600" y="1220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0" y="1878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34040" y="1017720"/>
            <a:ext cx="429552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closure = { entry : Id.l; actual_fv : Id.t lis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Eq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LE of Id.t * Id.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MakeCls of (Id.t * Type.t) * closure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Cls of Id.t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Dir of Id.l *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Id.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Id.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Id.t * Id.t *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xtArray of Id.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fundef = { name : Id.l * Type.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formal_fv : (Id.t * Type.t) lis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    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prog = Prog of fundef lis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68800" y="1744560"/>
            <a:ext cx="1569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osure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59F-3E64-47A8-BA48-63A2E24F97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6600" y="0"/>
            <a:ext cx="852804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small steps…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34320" y="3456000"/>
            <a:ext cx="7221600" cy="356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g.20) [x.8 : int, y.10 : int] z.21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7.22  : int = (x.8 + y.10) in (Ti7.22 + z.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ABEL(f.9) [x.8 : int] y.10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g.20  : (int) -&gt; int = ( LABEL(g.20); [x.8, y.10] ) in g.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.8  : int                           = 17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closure f.9  : (int) -&gt; (int) -&gt; int = ( LABEL(f.9); [x.8] 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1.19  : int                        = 21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.11  : (int) -&gt; int             = APPLY_CLOSURE(f.9 Ti1.19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2.18  : int                        = 88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.12  : (int) -&gt; int            = APPLY_CLOSURE(f.9 Ti2.18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3.17  : int                        = 99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4.14  : int                        = APPLY_CLOSURE(first.11 Ti3.1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5.16  : int                        = 44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Ti6.15  : int                        = APPLY_CLOSURE(second.12 Ti5.1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.13  : int                     = (Ti4.14 + Ti6.15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PPLY_DIRECT(LABEL(min_caml_print_int) result.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1000" y="884160"/>
            <a:ext cx="493560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49520" y="1684440"/>
            <a:ext cx="12600" cy="177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585800"/>
            <a:ext cx="261288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-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osure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52C-82B6-406F-BB0E-AEA8A41C42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558-ED58-405E-9E9C-399F700051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nother Example: ack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1854000" y="1179360"/>
            <a:ext cx="5057640" cy="2040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x y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12840" y="4095720"/>
            <a:ext cx="639864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ack  : (int, int) -&gt; int x : int y : int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x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y +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(y &lt;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(ack (x - 1)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(ack (x - 1) (ack x (y - 1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n (print_int (ack 3 10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27200" y="3013200"/>
            <a:ext cx="691920" cy="831600"/>
          </a:xfrm>
          <a:prstGeom prst="downArrow">
            <a:avLst>
              <a:gd name="adj1" fmla="val 50000"/>
              <a:gd name="adj2" fmla="val 3004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6400" y="34480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5DE-F979-4D6C-B20A-FBD90D310C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KNormaliz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1806480" y="13273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44720" y="1619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17480" y="109872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7480" y="2220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5320" y="1569960"/>
            <a:ext cx="8318880" cy="447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  : (int, int) -&gt; int x : int y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 &lt;= Ti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 + Ti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 &lt;= Ti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  : int = let Ti7  : int = 1 in (x - Ti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  : int = 1 in (ack Ti8 Ti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  : int = let Ti10  : int = 1 in (x - Ti1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  : int =  let Ti13  : int =  (let Ti12  : int = 1 in (y - Ti12)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    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x Ti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 Ti11 Ti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  : int = let Ti1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  : int = 10 in (ack Ti1 Ti2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XTERN(print_int Ti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F85-3BB6-4FBE-9001-08D08576CF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fter Simplific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4760" y="1057320"/>
            <a:ext cx="539280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 y.17 : i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EXTERN(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E21-9365-4CC7-BBB4-5E5EB8A21C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osure Conve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403560" y="1017720"/>
            <a:ext cx="6215760" cy="5387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ack.15  : (int, int) -&gt; int x.16 : int, y.17 : int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4.21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x.16 &lt;= Ti4.2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5.31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(y.17 + Ti5.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6.22  : int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f y.17 &lt;= Ti6.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7.30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8.28  : int = (x.16 - Ti7.30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9.29  : int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8.28 Ti9.2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0.27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1.23  : int = (x.16 - Ti10.27)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2.26  : int = 1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3.25  : int = (y.17 - Ti12.26)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4.24  : int = APPLY_DIRECT(ack.15 x.16 Ti13.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ack.15 Ti11.23 Ti14.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1.19  : int = 3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2.20  : int = 10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let Ti3.18  : int = APPLY_DIRECT(ack.15 Ti1.19 Ti2.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333399"/>
                </a:solidFill>
                <a:latin typeface="Lucida Console"/>
              </a:rPr>
              <a:t>in APPLY_DIRECT(min_caml_print_int Ti3.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272-2C55-4CFE-B417-1984804EA9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Yet another example : funcomp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031840"/>
            <a:ext cx="749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 f 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composed x = g (f x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compos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bl x = x + x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inc x = x +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rec dec x = x - 1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h = compose inc (compose dbl dec)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_int (h 1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236-13F8-4456-B8A8-B959731141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Machine to Register Mach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323640" y="1206360"/>
            <a:ext cx="49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imple translation that produces terrible co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6400" y="2433600"/>
            <a:ext cx="1119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1520" y="2278080"/>
            <a:ext cx="1414800" cy="7081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0000" y="3664080"/>
            <a:ext cx="19227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R2 op 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7960" y="4098960"/>
            <a:ext cx="126756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[SP]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0440" y="4595760"/>
            <a:ext cx="151272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31920" y="27273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3200" y="320040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3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1120" y="2257560"/>
            <a:ext cx="139860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2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[S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03480" y="1798560"/>
            <a:ext cx="144864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P 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4000" y="5656320"/>
            <a:ext cx="31968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is assumes that stack 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pwards, and SP always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o the next free s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7000" y="4352760"/>
            <a:ext cx="465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is defeats the whole point of registers 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are FAST local memory that sh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used to reduce CPU to memory traffi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D8D-95FD-4034-8EE1-4A1BBEC5DC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Better wa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402120" y="2322360"/>
            <a:ext cx="14274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ogram 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13120" y="251136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32400" y="2570040"/>
            <a:ext cx="81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2039760"/>
            <a:ext cx="142740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ive explic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ames to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51560" y="2135160"/>
            <a:ext cx="246528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enerat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an abs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chine with an infin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mber of regis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62880" y="3236760"/>
            <a:ext cx="10800" cy="90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48040" y="4143240"/>
            <a:ext cx="3252960" cy="1554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erform “Register Allocation”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map abstract register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tual machine regist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illing” registers into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nly when you run out of actu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regis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91080" y="4908600"/>
            <a:ext cx="816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38960" y="4745160"/>
            <a:ext cx="16484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mit assem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B03-759B-43DE-9341-D0686A1EF3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98600" y="644400"/>
            <a:ext cx="7580520" cy="568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11560" y="633420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t’s look at the MinCaml Middle-End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5604120" y="1176480"/>
            <a:ext cx="3533400" cy="4814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type t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U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Bool of b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nt of 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loat of flo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ot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Neg of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Add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Sub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Mul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FDiv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Eq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If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 of (Id.t * Type.t)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Var of Id.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Rec of fundef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pp of t *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Tuple of 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LetTuple of (Id.t * Type.t) lis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Array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Get of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| Put of t * t *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nd fundef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{ name : Id.t * Type.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args : (Id.t * Type.t) lis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000" spc="-1" strike="noStrike">
                <a:solidFill>
                  <a:srgbClr val="333399"/>
                </a:solidFill>
                <a:latin typeface="Lucida Console"/>
              </a:rPr>
              <a:t>body : t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7640" y="1246320"/>
            <a:ext cx="1468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.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292-EB8B-41FF-B10C-7A4879B314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 Compiler Road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91" idx="3"/>
            <a:endCxn id="90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3"/>
            <a:endCxn id="92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5" name=""/>
          <p:cNvCxnSpPr>
            <a:stCxn id="97" idx="2"/>
            <a:endCxn id="96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6" name=""/>
          <p:cNvCxnSpPr>
            <a:stCxn id="101" idx="3"/>
            <a:endCxn id="91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7" name=""/>
          <p:cNvCxnSpPr/>
          <p:nvPr/>
        </p:nvCxnSpPr>
        <p:spPr>
          <a:xfrm>
            <a:off x="8494200" y="2813040"/>
            <a:ext cx="1080" cy="103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8" name=""/>
          <p:cNvCxnSpPr>
            <a:stCxn id="95" idx="1"/>
            <a:endCxn id="94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09" name=""/>
          <p:cNvCxnSpPr>
            <a:stCxn id="94" idx="1"/>
            <a:endCxn id="97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0" name=""/>
          <p:cNvCxnSpPr>
            <a:stCxn id="96" idx="3"/>
            <a:endCxn id="99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1" name=""/>
          <p:cNvCxnSpPr>
            <a:stCxn id="99" idx="3"/>
            <a:endCxn id="98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2" name=""/>
          <p:cNvCxnSpPr>
            <a:stCxn id="98" idx="3"/>
            <a:endCxn id="113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14" name=""/>
          <p:cNvCxnSpPr>
            <a:stCxn id="97" idx="0"/>
            <a:endCxn id="115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27700000"/>
              <a:gd name="adj2" fmla="val 49997"/>
              <a:gd name="adj3" fmla="val -27700000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16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5" idx="1"/>
            <a:endCxn id="128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0" name=""/>
          <p:cNvCxnSpPr>
            <a:stCxn id="128" idx="1"/>
            <a:endCxn id="95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1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13" idx="3"/>
            <a:endCxn id="100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4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4800" y="1230480"/>
            <a:ext cx="3373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ges, with lines of ocaml cod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9593-BE2D-495E-97E4-BD6BB16EB5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utting it all together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84040" y="1047600"/>
            <a:ext cx="8379000" cy="4717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rec iter n e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n = 0 then e 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e' = Elim.f (ConstFold.f (Inline.f (Assoc.f (Beta.f e))))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e = e' then e else iter (n - 1) e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lexbuf outchan l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d.counter :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yping.extenv := M.emp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mit.f outch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RegAlloc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Simm13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Virtu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Closure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iter !li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Alpha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KNormal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Typing.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(Parser.exp Lexer.token l)))))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40600" y="3211560"/>
            <a:ext cx="24681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rom min-caml/main.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94440" y="6105600"/>
            <a:ext cx="19972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ean cod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CA6-3653-4A38-BA62-49E3CB8153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K-Normaliz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+ b + c *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1 = a + b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tmp2 = c * d i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tmp1 + tm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s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llow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let x = (let y =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) in M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ＭＳ Ｐゴシック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531-52C1-4435-B5DC-3AB34FB20F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00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xample.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1863720" y="617400"/>
            <a:ext cx="5727960" cy="286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y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z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78480" y="3652920"/>
            <a:ext cx="6368040" cy="26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x  : int =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f  : (int) -&gt; (int) -&gt; int y : int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c g  : (int) -&gt; int z : int = ((x + y) + 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first  : (int) -&gt; int = (f 2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second  : (int) -&gt; int = (f 8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et result  : int = ((first 99) + (second 44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(print_int res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6840" y="2975040"/>
            <a:ext cx="0" cy="118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880" y="34369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5A9-22A1-4A33-BE02-6564136047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5T20:28:48Z</dcterms:modified>
  <cp:revision>295</cp:revision>
  <dc:subject/>
  <dc:title>Slide 1</dc:title>
</cp:coreProperties>
</file>