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F73-4682-4D13-B609-EB25EF7D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067-8666-417B-89BB-7E49B060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5CE-732C-4CFC-ACAB-218262CB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F09-2B8C-43CA-917B-B21AE4DB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B97-5466-4B72-A29A-F70BDBF2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AD6-D6DC-44CB-A05E-FF7B717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FF8-E1EE-4ECD-B8C5-BFF17B67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A26-42F1-4441-B13F-6B727F17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5D5-2D82-4E78-A587-6AA50FF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EB5-618A-4A8A-AEB8-7B73937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301-7FE4-4AE4-962B-3099865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ECC-5D6C-4697-BA37-A67C678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C245-927E-48DD-B4CA-A2A8F2C33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10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749-07BB-4927-9B3E-A329F4FD9C9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a : gets address from stack top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3529080" y="3181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600" y="27892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2120" y="39574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95520" y="404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57320" y="3813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44720" y="42559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0F7-E3B4-4888-8999-1159360F73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How to translate Applicatio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631800" y="1306440"/>
            <a:ext cx="22291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 (e1, e2 … 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5360" y="2457360"/>
            <a:ext cx="28857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0160" y="2911320"/>
            <a:ext cx="290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1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920" y="4133880"/>
            <a:ext cx="291636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for en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640" y="4606920"/>
            <a:ext cx="303660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to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ddress of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rom heap, lea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t on top of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560" y="6167520"/>
            <a:ext cx="2808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a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" y="3610080"/>
            <a:ext cx="27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       :      :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94520" y="178128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94520" y="268452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: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1960" y="4640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1840" y="181116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1840" y="2714760"/>
            <a:ext cx="114912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7200" y="47545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81640" y="1817640"/>
            <a:ext cx="113796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94760" y="479592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68200" y="984240"/>
            <a:ext cx="11160" cy="5873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95760" y="2658960"/>
            <a:ext cx="900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25920" y="2796840"/>
            <a:ext cx="641520" cy="12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95400" y="2232000"/>
            <a:ext cx="91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0920" y="1415880"/>
            <a:ext cx="92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90360" y="1819440"/>
            <a:ext cx="907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:   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81000" y="1000080"/>
            <a:ext cx="90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1680" y="5145120"/>
            <a:ext cx="38156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ituation just before c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50160" y="5850000"/>
            <a:ext cx="404244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B: code for function must treat v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mplicit parameter in order to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-local variables on he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9F20-1D2D-4E91-BF4D-4274C18229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his works for functions-as-argument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665280" y="1986120"/>
            <a:ext cx="7191000" cy="283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j(x: int, k: int-&gt; int) { return k(k(x))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j(3, f(21)) + j(-1, f(17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304-FC03-46E4-8234-ACF1A2E804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milar problem with reference cell lifetimes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1992240" y="1757520"/>
            <a:ext cx="4752720" cy="3751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fun f(a : int) : int r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b : int ref := 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return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let z : int ref = f(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onsole"/>
              </a:rPr>
              <a:t>!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A52-70B0-4A14-9891-1D39B04B21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ferenc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698400" y="1217520"/>
            <a:ext cx="21636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81200" y="3846600"/>
            <a:ext cx="27288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2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7000" y="1909800"/>
            <a:ext cx="23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22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8640" y="4529160"/>
            <a:ext cx="296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locate space for x on hea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ush address of x on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eep track of offset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ater uses of 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24480" y="1863720"/>
            <a:ext cx="4070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fun sum(x : int) : in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k : int ref := x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s : int ref :=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while  0 &lt; !k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 := !s + !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k := !k -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turn !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um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90840" y="1243080"/>
            <a:ext cx="25560" cy="537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233-B47A-47A6-8324-79887703CE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references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1729080" y="1244520"/>
            <a:ext cx="25534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let x : int ref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8720" y="2249640"/>
            <a:ext cx="4981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 0             ; space for x’s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all __allocate    ; get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py               ; duplicate top of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opto offset       ; store address of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store value of x in he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2880" y="4357800"/>
            <a:ext cx="1011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x := 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7000" y="5103720"/>
            <a:ext cx="4021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de to push value of e on stack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from offset    ; x’s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t  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0" y="4257720"/>
            <a:ext cx="4244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!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4720" y="515772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ushfrom offset ; x’s address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t             ; x’s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01320" y="36133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841-DB4D-4734-9A38-11DA5E303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functions-as-value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17440" y="1459080"/>
            <a:ext cx="6124320" cy="3143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78600" y="5060880"/>
            <a:ext cx="5164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Oh NO!  Our previous approach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ambda lifting” no longer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FF0-C2BE-4920-9FC8-80EA6A8F8A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dea --- function values as “closures”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295200" y="1201680"/>
            <a:ext cx="4935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g(x :int) : int {return a + x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g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21 : int -&gt; int  = f(2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dd17 : int -&gt; int  = f(17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add17(3) + add21(-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90440" y="423216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20960" y="44197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81600" y="459900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2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35360" y="62578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06280" y="6269040"/>
            <a:ext cx="213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should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e stored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29320" y="3411360"/>
            <a:ext cx="1138320" cy="271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29320" y="4314960"/>
            <a:ext cx="1149480" cy="84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0360" y="6211800"/>
            <a:ext cx="12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arr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91120" y="4389120"/>
            <a:ext cx="2179440" cy="34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5400" y="5292720"/>
            <a:ext cx="7765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dd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6280" y="5479920"/>
            <a:ext cx="10666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76920" y="5659560"/>
            <a:ext cx="1102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17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30720" y="4417560"/>
            <a:ext cx="2238480" cy="1041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76560" y="53020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81240" y="4241880"/>
            <a:ext cx="1116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84120" y="1735200"/>
            <a:ext cx="284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 closure is a record cont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address of a function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its free vari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DFE-C924-474A-827B-72741B8454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2655720" y="401472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96040" y="52387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ally arra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54280" y="2716200"/>
            <a:ext cx="1157400" cy="12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840" y="227664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33960" y="3740040"/>
            <a:ext cx="1157400" cy="154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51040" y="1440000"/>
            <a:ext cx="1157400" cy="12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116856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0280" y="217656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048200" y="123480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8960" y="152712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53680" y="2232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44612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2320" y="262728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4360" y="4035600"/>
            <a:ext cx="3387600" cy="2092320"/>
          </a:xfrm>
          <a:custGeom>
            <a:avLst/>
            <a:gdLst/>
            <a:ahLst/>
            <a:rect l="l" t="t" r="r" b="b"/>
            <a:pathLst>
              <a:path w="2654" h="1130">
                <a:moveTo>
                  <a:pt x="0" y="301"/>
                </a:moveTo>
                <a:cubicBezTo>
                  <a:pt x="125" y="301"/>
                  <a:pt x="251" y="301"/>
                  <a:pt x="343" y="381"/>
                </a:cubicBezTo>
                <a:cubicBezTo>
                  <a:pt x="435" y="461"/>
                  <a:pt x="480" y="670"/>
                  <a:pt x="554" y="782"/>
                </a:cubicBezTo>
                <a:cubicBezTo>
                  <a:pt x="628" y="894"/>
                  <a:pt x="677" y="1003"/>
                  <a:pt x="788" y="1052"/>
                </a:cubicBezTo>
                <a:cubicBezTo>
                  <a:pt x="899" y="1101"/>
                  <a:pt x="1026" y="1130"/>
                  <a:pt x="1218" y="1074"/>
                </a:cubicBezTo>
                <a:cubicBezTo>
                  <a:pt x="1410" y="1018"/>
                  <a:pt x="1768" y="875"/>
                  <a:pt x="1940" y="716"/>
                </a:cubicBezTo>
                <a:cubicBezTo>
                  <a:pt x="2112" y="557"/>
                  <a:pt x="2134" y="236"/>
                  <a:pt x="2253" y="118"/>
                </a:cubicBezTo>
                <a:cubicBezTo>
                  <a:pt x="2372" y="0"/>
                  <a:pt x="2513" y="4"/>
                  <a:pt x="2654" y="9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5320" y="5403960"/>
            <a:ext cx="20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839960" y="63781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2200" y="625140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1240" y="115416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7000" y="275904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rray of val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688080" y="257292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45400" y="24242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0400" y="10810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[heal_limi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1241280"/>
            <a:ext cx="388800" cy="1116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B21-1307-4E6F-A014-C2760B623C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25880" y="2541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1400" y="2806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3886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96960" y="39924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3765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2880" y="1776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3160" y="4452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4178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69720" y="281304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3280" y="4395960"/>
            <a:ext cx="115704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7040" y="63691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46800" y="43959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45259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02160" y="4299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4880" y="6465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46080" y="61722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50040" y="180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733-8761-45AE-864D-67D1750EE6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79880" y="28861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4360" y="254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93040" y="403848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16800" y="62229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97720" y="3746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15040" y="38527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76840" y="362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4640" y="63198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5840" y="6026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08200" y="11145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78640" y="4056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35800" y="2649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16120" y="1641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03240" y="397368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27360" y="615780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8280" y="3681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5600" y="3787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7400" y="3560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65200" y="6254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6040" y="59612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11160" y="39974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BCA-3B9F-45FD-A254-0FF5158E50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Implementation Conven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1163880" y="4883040"/>
            <a:ext cx="6520680" cy="1797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__allocate : load 2       ; entry point for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copy  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push 1 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arith +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store 2      ;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: return       ; exit 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81280" y="1395360"/>
            <a:ext cx="10792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1760" y="32464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17640" y="3258720"/>
            <a:ext cx="10666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3880" y="3587760"/>
            <a:ext cx="1054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48320" y="1295280"/>
            <a:ext cx="107964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25280" y="985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11840" y="92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390760" y="2649600"/>
            <a:ext cx="313056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4920" y="273204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94760" y="290844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00160" y="1917720"/>
            <a:ext cx="7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51880" y="3271680"/>
            <a:ext cx="12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free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4503600"/>
            <a:ext cx="348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k this onto every jargon progra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6880" y="2822400"/>
            <a:ext cx="166824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We will tal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bout “garb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llec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other d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15F-A240-44C7-859B-0895A11D3C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ress of code may not be known at compile-time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827280" y="1727280"/>
            <a:ext cx="6581520" cy="344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 : int) : int -&gt;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 :int) : int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 :int) : int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21 : int -&gt; int  = f(21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f17 : int -&gt; int  = f(17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17(3) + f21(-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A5C-AFA9-47EF-9625-AEB5E817B0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losure conversion (similar to “lambda lifting”)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76480" y="1200240"/>
            <a:ext cx="65815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x) {return a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x) {return a * x;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g else return h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40" y="3913200"/>
            <a:ext cx="8410320" cy="1923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c, x) {return c.1 +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c, x) {return c.1 * x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c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a &lt; 20 then return (g, [a]) else return (h, [a]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4040" y="2790720"/>
            <a:ext cx="995400" cy="90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98560" y="596736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0 = code pointer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48320" y="6221520"/>
            <a:ext cx="38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.1 = array of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or some other data structure…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46D-1325-49EA-8F3A-479F6C3C11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2T14:43:11Z</dcterms:modified>
  <cp:revision>280</cp:revision>
  <dc:subject/>
  <dc:title>Slide 1</dc:title>
</cp:coreProperties>
</file>