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140-A8D9-429F-8995-6B615E31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5B1-4413-40C6-8459-E4DE51D4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48E7-DB8A-40A8-846D-35C88AFB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26A-FA5E-4DEF-AD90-72EF85B2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D64-17A5-4E1A-9B90-F13E5A49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7D1-647D-4D86-B8D0-24C9A4AA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9F1-2ACB-4C7B-849D-D9530E4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F0C-AD4A-4BB9-8525-865B4164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3BF-D31E-42F5-B45B-9DB30AC7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427-FAFC-4051-82B0-FEE1E6E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F2B-1FA8-4BA0-879D-9D267BFC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933-02BD-4E05-B54E-F895CFCE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4A25-9565-4BE8-8B2E-0B11E5546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9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unctions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D9B-2B51-413A-98CD-9CF7F707C3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35760" cy="62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lternative 2: Single Static Link per Frame 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4878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718320" y="514512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0" y="52228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38840" y="3614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3683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46760" y="33703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2098800"/>
            <a:ext cx="85572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19840" y="2441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756480" y="2360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746760" y="2090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6160" y="5378400"/>
            <a:ext cx="4516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 single static link to the 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frame for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4680" y="2768760"/>
            <a:ext cx="23677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uses less space, 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ss time to set up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r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At run-time,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se pointers” to f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lue of a non-lo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F21-B967-4F8E-B004-546EFFA569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ingle Static Link vs. Dijkstra Display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3615480" y="1415880"/>
            <a:ext cx="1737000" cy="350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f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a = …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g(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b = …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h(z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et c = …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un j(w) {…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(…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(…)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(…) 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(..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92160" y="114624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jkstra 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4760" y="12222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ingle Static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64240" y="188748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02120" y="17604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8120" y="313704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83040" y="383076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99160" y="4819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65560" y="4879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60880" y="589284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605640" y="592596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2965320"/>
            <a:ext cx="293760" cy="125424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65920" y="2790720"/>
            <a:ext cx="610920" cy="2590920"/>
          </a:xfrm>
          <a:custGeom>
            <a:avLst/>
            <a:gdLst/>
            <a:ahLst/>
            <a:rect l="l" t="t" r="r" b="b"/>
            <a:pathLst>
              <a:path w="385" h="1632">
                <a:moveTo>
                  <a:pt x="385" y="0"/>
                </a:moveTo>
                <a:cubicBezTo>
                  <a:pt x="230" y="120"/>
                  <a:pt x="76" y="241"/>
                  <a:pt x="38" y="465"/>
                </a:cubicBezTo>
                <a:cubicBezTo>
                  <a:pt x="0" y="689"/>
                  <a:pt x="100" y="1150"/>
                  <a:pt x="156" y="1344"/>
                </a:cubicBezTo>
                <a:cubicBezTo>
                  <a:pt x="212" y="1538"/>
                  <a:pt x="294" y="1585"/>
                  <a:pt x="377" y="163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68920" y="2614680"/>
            <a:ext cx="907920" cy="3868560"/>
          </a:xfrm>
          <a:custGeom>
            <a:avLst/>
            <a:gdLst/>
            <a:ahLst/>
            <a:rect l="l" t="t" r="r" b="b"/>
            <a:pathLst>
              <a:path w="572" h="2437">
                <a:moveTo>
                  <a:pt x="564" y="0"/>
                </a:moveTo>
                <a:cubicBezTo>
                  <a:pt x="352" y="100"/>
                  <a:pt x="140" y="200"/>
                  <a:pt x="70" y="435"/>
                </a:cubicBezTo>
                <a:cubicBezTo>
                  <a:pt x="0" y="670"/>
                  <a:pt x="120" y="1154"/>
                  <a:pt x="143" y="1410"/>
                </a:cubicBezTo>
                <a:cubicBezTo>
                  <a:pt x="166" y="1666"/>
                  <a:pt x="180" y="1823"/>
                  <a:pt x="210" y="1971"/>
                </a:cubicBezTo>
                <a:cubicBezTo>
                  <a:pt x="240" y="2119"/>
                  <a:pt x="261" y="2218"/>
                  <a:pt x="321" y="2296"/>
                </a:cubicBezTo>
                <a:cubicBezTo>
                  <a:pt x="381" y="2374"/>
                  <a:pt x="476" y="2405"/>
                  <a:pt x="572" y="2437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5880" y="288432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3160" y="2714760"/>
            <a:ext cx="78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59640" y="25923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3360" y="2424240"/>
            <a:ext cx="1256760" cy="6415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Lin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Info is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Of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66800" y="1870200"/>
            <a:ext cx="938160" cy="11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04680" y="174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60320" y="3119400"/>
            <a:ext cx="938160" cy="116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85600" y="38131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01720" y="4802040"/>
            <a:ext cx="93816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68120" y="486252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63440" y="5875200"/>
            <a:ext cx="1114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08200" y="5908680"/>
            <a:ext cx="9381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720" y="2760840"/>
            <a:ext cx="293760" cy="14763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4600" y="3822840"/>
            <a:ext cx="293760" cy="158256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8120" y="5048280"/>
            <a:ext cx="352440" cy="1500120"/>
          </a:xfrm>
          <a:custGeom>
            <a:avLst/>
            <a:gdLst/>
            <a:ahLst/>
            <a:rect l="l" t="t" r="r" b="b"/>
            <a:pathLst>
              <a:path w="185" h="790">
                <a:moveTo>
                  <a:pt x="178" y="0"/>
                </a:moveTo>
                <a:cubicBezTo>
                  <a:pt x="89" y="144"/>
                  <a:pt x="0" y="289"/>
                  <a:pt x="1" y="421"/>
                </a:cubicBezTo>
                <a:cubicBezTo>
                  <a:pt x="2" y="553"/>
                  <a:pt x="93" y="671"/>
                  <a:pt x="185" y="79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7080" y="546084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28480" y="436392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030680" y="545940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89640" y="43750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AA7-5E12-497F-B5B7-53B07F6D7E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dd commands to JARGON for non-local variables, using single static link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2" name=""/>
          <p:cNvSpPr/>
          <p:nvPr/>
        </p:nvSpPr>
        <p:spPr>
          <a:xfrm>
            <a:off x="3927600" y="241632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31480" y="171144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etch d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10400" y="1852560"/>
            <a:ext cx="1157400" cy="21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4160" y="369720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80160" y="185436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62880" y="21286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270480" y="19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2280" y="1720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72360" y="3794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47440" y="3100320"/>
            <a:ext cx="1459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 fp + 2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54240" y="1959120"/>
            <a:ext cx="1157040" cy="19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278000" y="36860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01680" y="19717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49240" y="2146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18842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15840" y="37828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040" y="34894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217520" y="3125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c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081680" y="4711680"/>
            <a:ext cx="419796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0, fp)        = f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get(d + 1,  fp) = get(d, Stack[fp+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alue = Stack[get(d, static-fp) + j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5800" y="355428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25440" y="4005360"/>
            <a:ext cx="1157400" cy="28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70000" y="5640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73280" y="6283440"/>
            <a:ext cx="468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4040" y="6386400"/>
            <a:ext cx="14382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et(d, static-f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86160" y="5838840"/>
            <a:ext cx="350640" cy="514440"/>
          </a:xfrm>
          <a:custGeom>
            <a:avLst/>
            <a:gdLst>
              <a:gd name="textAreaLeft" fmla="*/ 0 w 350640"/>
              <a:gd name="textAreaRight" fmla="*/ 126720 w 35064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45160" y="58230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A11-FBA9-446A-AB8E-A326B197C9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lternative 3: “Lambda Lifting”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6480" y="102384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98880" y="1028880"/>
            <a:ext cx="505764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’(c, x, 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989000" y="6586200"/>
            <a:ext cx="4157640" cy="11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6F9-FF02-482C-A571-817A045077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Evaluatio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08600" y="950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84920" y="2235240"/>
            <a:ext cx="345960" cy="21556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2360" y="4467240"/>
            <a:ext cx="405000" cy="143028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43440" y="5927760"/>
            <a:ext cx="405000" cy="1219320"/>
          </a:xfrm>
          <a:custGeom>
            <a:avLst/>
            <a:gdLst/>
            <a:ahLst/>
            <a:rect l="l" t="t" r="r" b="b"/>
            <a:pathLst>
              <a:path w="255" h="768">
                <a:moveTo>
                  <a:pt x="255" y="0"/>
                </a:moveTo>
                <a:cubicBezTo>
                  <a:pt x="145" y="46"/>
                  <a:pt x="36" y="93"/>
                  <a:pt x="18" y="221"/>
                </a:cubicBezTo>
                <a:cubicBezTo>
                  <a:pt x="0" y="349"/>
                  <a:pt x="72" y="558"/>
                  <a:pt x="144" y="7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033A-E524-4854-A3B7-755AF04C57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20064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892600" cy="149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oblem: a lot of Duplication!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166320" y="1703520"/>
            <a:ext cx="3594600" cy="371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’(w, x, a, y, b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’(c, x, 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’(y, x, a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’(y, x, a, y, 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’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’(a, x, 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’(1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81560" y="4600440"/>
            <a:ext cx="855720" cy="14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0388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1972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7536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12936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944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30800" y="45626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9880" y="4791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26120" y="52164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05680" y="48592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22880" y="4983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8800" y="5078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5560" y="5259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67520" y="2536920"/>
            <a:ext cx="85572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8984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70760" y="3989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0704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76800" y="361476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173640" y="368316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37280" y="30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1840" y="2927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00920" y="31431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67520" y="3236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33829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65720" y="28065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1680" y="3440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84720" y="27147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72120" y="24908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247160" y="50115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13760" y="35258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158840"/>
            <a:ext cx="855720" cy="12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47960" y="16365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53120" y="21193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34040" y="1881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17892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068880" y="11095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7960" y="133812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43760" y="14065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60960" y="1530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6880" y="16257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134040" y="4140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125120" y="293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56120" y="4606920"/>
            <a:ext cx="1447920" cy="4507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54680" y="2995560"/>
            <a:ext cx="1447920" cy="43992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5840" y="1163520"/>
            <a:ext cx="1447920" cy="45108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987800" y="1238400"/>
            <a:ext cx="59040" cy="4816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57640" y="1434960"/>
            <a:ext cx="67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043600" y="4870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92840" y="3235320"/>
            <a:ext cx="79992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86360" y="5564160"/>
            <a:ext cx="1447920" cy="912960"/>
          </a:xfrm>
          <a:prstGeom prst="rect">
            <a:avLst/>
          </a:prstGeom>
          <a:noFill/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52960" y="5932440"/>
            <a:ext cx="752400" cy="1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838840" y="3989520"/>
            <a:ext cx="1447920" cy="8571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86280" y="2413080"/>
            <a:ext cx="1447920" cy="57924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4406400" y="2440080"/>
            <a:ext cx="9720" cy="26953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43480" y="2620800"/>
            <a:ext cx="129996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37000" y="4292640"/>
            <a:ext cx="1300320" cy="274680"/>
          </a:xfrm>
          <a:custGeom>
            <a:avLst/>
            <a:gdLst/>
            <a:ahLst/>
            <a:rect l="l" t="t" r="r" b="b"/>
            <a:pathLst>
              <a:path w="819" h="173">
                <a:moveTo>
                  <a:pt x="0" y="173"/>
                </a:moveTo>
                <a:cubicBezTo>
                  <a:pt x="138" y="104"/>
                  <a:pt x="277" y="36"/>
                  <a:pt x="413" y="18"/>
                </a:cubicBezTo>
                <a:cubicBezTo>
                  <a:pt x="549" y="0"/>
                  <a:pt x="684" y="31"/>
                  <a:pt x="819" y="62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16E-6E1D-4E5C-B8BB-B0E33C8EB2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assic Trade Off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81" name=""/>
          <p:cNvSpPr/>
          <p:nvPr/>
        </p:nvSpPr>
        <p:spPr>
          <a:xfrm>
            <a:off x="2467080" y="1992240"/>
            <a:ext cx="5603760" cy="284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678040" y="5229360"/>
            <a:ext cx="3611520" cy="108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19640" y="5383080"/>
            <a:ext cx="286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Call-time set up c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 a stack-oriented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944360" y="2046240"/>
            <a:ext cx="11160" cy="281304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200" y="426240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run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67800" y="356400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pl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773440" y="2360520"/>
            <a:ext cx="144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tic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h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30480" y="3740040"/>
            <a:ext cx="668520" cy="515880"/>
          </a:xfrm>
          <a:prstGeom prst="smileyFace">
            <a:avLst>
              <a:gd name="adj" fmla="val 9282"/>
            </a:avLst>
          </a:prstGeom>
          <a:solidFill>
            <a:srgbClr val="fb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92080" y="4206960"/>
            <a:ext cx="166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here we w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 be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81320" y="4249800"/>
            <a:ext cx="122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lo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8D0-2F6D-407F-B318-7BE649CFD2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Stack Fram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64880" y="1593720"/>
            <a:ext cx="1627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138276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0640" y="1422360"/>
            <a:ext cx="1625760" cy="3603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11160" y="3751200"/>
            <a:ext cx="1579680" cy="7034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62680" y="204624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“working stack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65640" y="4324320"/>
            <a:ext cx="31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] contains the fp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ing 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0360" y="43178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08280" y="40482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1000" y="4010040"/>
            <a:ext cx="31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1] contains return 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11520" y="302112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0480" y="3265560"/>
            <a:ext cx="292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+ 2]  to Stack[fp + k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s of local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2200" y="4611600"/>
            <a:ext cx="1157400" cy="224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36640" y="2556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8160" y="1550880"/>
            <a:ext cx="417600" cy="2847960"/>
          </a:xfrm>
          <a:custGeom>
            <a:avLst/>
            <a:gdLst>
              <a:gd name="textAreaLeft" fmla="*/ 266760 w 417600"/>
              <a:gd name="textAreaRight" fmla="*/ 417960 w 417600"/>
              <a:gd name="textAreaTop" fmla="*/ 74160 h 2847960"/>
              <a:gd name="textAreaBottom" fmla="*/ 2773800 h 28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8160" y="1290600"/>
            <a:ext cx="326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sp] = next available slo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9240" y="2693880"/>
            <a:ext cx="19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ctivation rec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94120" y="4692600"/>
            <a:ext cx="417240" cy="2594160"/>
          </a:xfrm>
          <a:custGeom>
            <a:avLst/>
            <a:gdLst>
              <a:gd name="textAreaLeft" fmla="*/ 266760 w 417240"/>
              <a:gd name="textAreaRight" fmla="*/ 417600 w 417240"/>
              <a:gd name="textAreaTop" fmla="*/ 67320 h 2594160"/>
              <a:gd name="textAreaBottom" fmla="*/ 2526840 h 259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8560" y="569916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stack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f cal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3840" y="4734000"/>
            <a:ext cx="1041480" cy="1238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5102280"/>
            <a:ext cx="31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 - 1]  to Stack[fp - n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e arguments passed by c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FB2-EE92-41B2-A29C-2738F5C02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ll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54360" y="2789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ll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4960" y="13176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86760" y="16430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7880" y="28065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4960" y="417816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43280" y="41781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42609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40338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1782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47960" y="224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42120" y="127800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2370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77680" y="21654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65040" y="2766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42120" y="413856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65880" y="632304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3800" y="605304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7040" y="50259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10440" y="41385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15160" y="36702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34084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34240" y="42861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3280" y="406404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45360" y="17431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call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15120" y="2205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3516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94600" y="38257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20048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6680" y="421956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43440" y="4491000"/>
            <a:ext cx="505080" cy="20509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3280 h 2050920"/>
              <a:gd name="textAreaBottom" fmla="*/ 1997640 h 20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5248440"/>
            <a:ext cx="8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all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FCA-5D60-4A75-93D6-8B26F4A749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15960" y="2936880"/>
            <a:ext cx="11574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540240" y="32148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6840" y="2789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tu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2720" y="73836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62080" y="1373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3560" y="106380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6000" y="22273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440" y="4243320"/>
            <a:ext cx="115740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200" y="642780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4120" y="615780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7360" y="5670720"/>
            <a:ext cx="1087560" cy="44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0760" y="42433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9400" y="28494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120" y="2587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4560" y="43909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600" y="4168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15960" y="1203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440" y="1689120"/>
            <a:ext cx="124308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92200" y="2671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95440" y="3954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0600" y="4305240"/>
            <a:ext cx="1463760" cy="2224080"/>
          </a:xfrm>
          <a:custGeom>
            <a:avLst/>
            <a:gdLst/>
            <a:ahLst/>
            <a:rect l="l" t="t" r="r" b="b"/>
            <a:pathLst>
              <a:path w="922" h="1401">
                <a:moveTo>
                  <a:pt x="0" y="57"/>
                </a:moveTo>
                <a:cubicBezTo>
                  <a:pt x="202" y="28"/>
                  <a:pt x="404" y="0"/>
                  <a:pt x="532" y="57"/>
                </a:cubicBezTo>
                <a:cubicBezTo>
                  <a:pt x="660" y="114"/>
                  <a:pt x="714" y="279"/>
                  <a:pt x="768" y="396"/>
                </a:cubicBezTo>
                <a:cubicBezTo>
                  <a:pt x="822" y="513"/>
                  <a:pt x="847" y="635"/>
                  <a:pt x="857" y="758"/>
                </a:cubicBezTo>
                <a:cubicBezTo>
                  <a:pt x="867" y="881"/>
                  <a:pt x="922" y="1028"/>
                  <a:pt x="827" y="1135"/>
                </a:cubicBezTo>
                <a:cubicBezTo>
                  <a:pt x="732" y="1242"/>
                  <a:pt x="510" y="1321"/>
                  <a:pt x="288" y="1401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97000" y="4324320"/>
            <a:ext cx="163440" cy="165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3624120"/>
            <a:ext cx="1122480" cy="328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2936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26120" y="72072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7440" y="17780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8920" y="1468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9040" y="22096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4226040"/>
            <a:ext cx="115704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0" y="6410160"/>
            <a:ext cx="112212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67520" y="6140520"/>
            <a:ext cx="112212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760" y="5653080"/>
            <a:ext cx="1087200" cy="444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27520" y="4062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24240" y="38005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49920" y="6483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79320" y="623736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29360" y="1185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35840" y="1671480"/>
            <a:ext cx="1242720" cy="2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70680" y="3884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02360" y="4186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10B-3295-47D7-A0D3-7B0D4102A4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463680" y="1127160"/>
            <a:ext cx="23997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(e_1, …, e_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880" y="1903320"/>
            <a:ext cx="2192400" cy="495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9840" y="213372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800" y="2630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3720" y="35272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7360" y="42642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ll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7320" y="3676680"/>
            <a:ext cx="164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0200" y="4224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440" y="46465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4000" y="469260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4800" y="50036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3720" y="50403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360" y="54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00" y="6189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15560" y="614196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27160" y="646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6523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84640" y="5508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6680" y="550224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3800" y="28591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7680" y="281772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73360" y="1933560"/>
            <a:ext cx="398520" cy="2274840"/>
          </a:xfrm>
          <a:custGeom>
            <a:avLst/>
            <a:gdLst>
              <a:gd name="textAreaLeft" fmla="*/ 0 w 398520"/>
              <a:gd name="textAreaRight" fmla="*/ 144000 w 39852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5560" y="4718160"/>
            <a:ext cx="398520" cy="2139840"/>
          </a:xfrm>
          <a:custGeom>
            <a:avLst/>
            <a:gdLst>
              <a:gd name="textAreaLeft" fmla="*/ 0 w 398520"/>
              <a:gd name="textAreaRight" fmla="*/ 144000 w 398520"/>
              <a:gd name="textAreaTop" fmla="*/ 55800 h 2139840"/>
              <a:gd name="textAreaBottom" fmla="*/ 2084040 h 213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37920" y="5133960"/>
            <a:ext cx="1587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ake n args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tack, al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eaving 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lue at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58720" y="2678040"/>
            <a:ext cx="1689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s will le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values of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rg on the stack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ith the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_n at the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03480" y="419112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k = addres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de for 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096920"/>
            <a:ext cx="0" cy="560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00720" y="2384280"/>
            <a:ext cx="190980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85040" y="1098720"/>
            <a:ext cx="1626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return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16600" y="33847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99280" y="340524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9200" y="2693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A52-0AF5-460A-9C02-0DB2094D6C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9760" y="0"/>
            <a:ext cx="4248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 to JARGON exampl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559120" y="158760"/>
            <a:ext cx="2601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0 : push 0         ; slot for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 : push 0          ; slot f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 : push 19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 : popto 2         ; store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4 : push 10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5 : popto 3         ; stor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 : push 20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 : pushfrom 2  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8 : pushfrom 3  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9 : call 24 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0 : swap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1 : pop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2 : swap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3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 : pushfrom 3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5 : pushfrom 2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6 : call 24          ; call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7 : swap            ; remove arg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8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9 : swap            ; remove arg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0 : pop               ; 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2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3 : stop              ; that's all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4 : push 0          ; f entry, slot fo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5 : push 17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6 : popto 2         ; store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7 : pushfrom 2   ; load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8 : pushfrom -2  ; lo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9 : pushfrom -1  ; load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0 : arith +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1 : arith *          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32 : return           ; return from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58240" y="1539720"/>
            <a:ext cx="32284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9240" y="4583160"/>
            <a:ext cx="407520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72160" y="50673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47B-EFFA-4ACF-9542-F41E0EE934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Q:Did we do something wrong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925160" y="1353960"/>
            <a:ext cx="394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arith =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test 12           ; if (x 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1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return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goto 21         ; jump over els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pushfrom -1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call 5             ; call 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swap 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 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arith *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skip               ; end 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56080" y="2637000"/>
            <a:ext cx="4267080" cy="42210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000" y="957240"/>
            <a:ext cx="3838320" cy="17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act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=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return 1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return x * fact(x-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act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2600" y="3103560"/>
            <a:ext cx="233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Implement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onditional cont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dead code” at lines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d 2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78400" y="4349880"/>
            <a:ext cx="413856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70280" y="6845400"/>
            <a:ext cx="4138920" cy="1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5240" y="5288040"/>
            <a:ext cx="38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: Probably not.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t might be bett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keep the code generation phase clea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d leave optimizations to another 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60F-C94F-4589-864E-01702D80C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Nested functions, procedur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366840" y="1274760"/>
            <a:ext cx="3838320" cy="5277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f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3120" y="1716120"/>
            <a:ext cx="20264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How this call to 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ccess the valu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 and x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67280" y="5265720"/>
            <a:ext cx="1146240" cy="91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8560" y="5784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554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7360" y="556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65840" y="6273720"/>
            <a:ext cx="1157040" cy="17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62600" y="628164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27640" y="626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176832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9000" y="23954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0" y="2035080"/>
            <a:ext cx="114624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1120" y="2046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2906640"/>
            <a:ext cx="1146240" cy="11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34600" y="36669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62600" y="3171960"/>
            <a:ext cx="1146240" cy="30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46360" y="317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5040" y="623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2600" y="4143240"/>
            <a:ext cx="1146240" cy="10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33160" y="4770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’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73760" y="4410000"/>
            <a:ext cx="1145880" cy="3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45280" y="4421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9D0-A352-41E3-B9D1-A25A2A0D75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62680" y="6243480"/>
            <a:ext cx="855720" cy="61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5643360" cy="903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ernative 1: Dijkstra Displays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0" y="4962600"/>
            <a:ext cx="8557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5920" y="58053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81760" y="55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7400" y="547524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91400" y="61912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91480" y="649116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92840" y="508320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29560" y="3381480"/>
            <a:ext cx="855360" cy="139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1520" y="422748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32440" y="39895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69080" y="389736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50000" y="347976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62000" y="5211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77760" y="36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34240" y="1933560"/>
            <a:ext cx="855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76680" y="225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38920" y="25052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9080" y="199080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19840" y="814320"/>
            <a:ext cx="855720" cy="10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56960" y="10904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360" y="1098720"/>
            <a:ext cx="27410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f(x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a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h(y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b = …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fun g(w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let c = …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if 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then return 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else return h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b + g(y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   </a:t>
            </a: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return x + h(a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9440" y="2994120"/>
            <a:ext cx="7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1520" y="44989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08880" y="4361040"/>
            <a:ext cx="690480" cy="1547640"/>
          </a:xfrm>
          <a:custGeom>
            <a:avLst/>
            <a:gdLst/>
            <a:ahLst/>
            <a:rect l="l" t="t" r="r" b="b"/>
            <a:pathLst>
              <a:path w="435" h="975">
                <a:moveTo>
                  <a:pt x="0" y="0"/>
                </a:moveTo>
                <a:cubicBezTo>
                  <a:pt x="133" y="24"/>
                  <a:pt x="267" y="49"/>
                  <a:pt x="332" y="155"/>
                </a:cubicBezTo>
                <a:cubicBezTo>
                  <a:pt x="397" y="261"/>
                  <a:pt x="435" y="498"/>
                  <a:pt x="391" y="635"/>
                </a:cubicBezTo>
                <a:cubicBezTo>
                  <a:pt x="347" y="772"/>
                  <a:pt x="206" y="873"/>
                  <a:pt x="66" y="975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1520" y="158112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81760" y="27590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81760" y="1293840"/>
            <a:ext cx="7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56600" y="2868480"/>
            <a:ext cx="853920" cy="1773360"/>
          </a:xfrm>
          <a:custGeom>
            <a:avLst/>
            <a:gdLst/>
            <a:ahLst/>
            <a:rect l="l" t="t" r="r" b="b"/>
            <a:pathLst>
              <a:path w="538" h="1117">
                <a:moveTo>
                  <a:pt x="0" y="24"/>
                </a:moveTo>
                <a:cubicBezTo>
                  <a:pt x="157" y="12"/>
                  <a:pt x="314" y="0"/>
                  <a:pt x="398" y="106"/>
                </a:cubicBezTo>
                <a:cubicBezTo>
                  <a:pt x="482" y="212"/>
                  <a:pt x="488" y="505"/>
                  <a:pt x="502" y="659"/>
                </a:cubicBezTo>
                <a:cubicBezTo>
                  <a:pt x="516" y="813"/>
                  <a:pt x="538" y="953"/>
                  <a:pt x="480" y="1029"/>
                </a:cubicBezTo>
                <a:cubicBezTo>
                  <a:pt x="422" y="1105"/>
                  <a:pt x="288" y="1111"/>
                  <a:pt x="155" y="1117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67760" y="2521080"/>
            <a:ext cx="1180800" cy="3422520"/>
          </a:xfrm>
          <a:custGeom>
            <a:avLst/>
            <a:gdLst/>
            <a:ahLst/>
            <a:rect l="l" t="t" r="r" b="b"/>
            <a:pathLst>
              <a:path w="744" h="2156">
                <a:moveTo>
                  <a:pt x="0" y="81"/>
                </a:moveTo>
                <a:cubicBezTo>
                  <a:pt x="195" y="40"/>
                  <a:pt x="390" y="0"/>
                  <a:pt x="502" y="81"/>
                </a:cubicBezTo>
                <a:cubicBezTo>
                  <a:pt x="614" y="162"/>
                  <a:pt x="639" y="307"/>
                  <a:pt x="672" y="568"/>
                </a:cubicBezTo>
                <a:cubicBezTo>
                  <a:pt x="705" y="829"/>
                  <a:pt x="701" y="1407"/>
                  <a:pt x="702" y="1646"/>
                </a:cubicBezTo>
                <a:cubicBezTo>
                  <a:pt x="703" y="1885"/>
                  <a:pt x="744" y="1916"/>
                  <a:pt x="679" y="2001"/>
                </a:cubicBezTo>
                <a:cubicBezTo>
                  <a:pt x="614" y="2086"/>
                  <a:pt x="462" y="2121"/>
                  <a:pt x="310" y="2156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51840" y="1440000"/>
            <a:ext cx="1892160" cy="4808520"/>
          </a:xfrm>
          <a:custGeom>
            <a:avLst/>
            <a:gdLst/>
            <a:ahLst/>
            <a:rect l="l" t="t" r="r" b="b"/>
            <a:pathLst>
              <a:path w="1192" h="3029">
                <a:moveTo>
                  <a:pt x="58" y="16"/>
                </a:moveTo>
                <a:cubicBezTo>
                  <a:pt x="29" y="18"/>
                  <a:pt x="0" y="21"/>
                  <a:pt x="103" y="23"/>
                </a:cubicBezTo>
                <a:cubicBezTo>
                  <a:pt x="206" y="25"/>
                  <a:pt x="529" y="0"/>
                  <a:pt x="679" y="31"/>
                </a:cubicBezTo>
                <a:cubicBezTo>
                  <a:pt x="829" y="62"/>
                  <a:pt x="943" y="49"/>
                  <a:pt x="1003" y="208"/>
                </a:cubicBezTo>
                <a:cubicBezTo>
                  <a:pt x="1063" y="367"/>
                  <a:pt x="1024" y="567"/>
                  <a:pt x="1040" y="983"/>
                </a:cubicBezTo>
                <a:cubicBezTo>
                  <a:pt x="1056" y="1399"/>
                  <a:pt x="1192" y="2379"/>
                  <a:pt x="1099" y="2704"/>
                </a:cubicBezTo>
                <a:cubicBezTo>
                  <a:pt x="1006" y="3029"/>
                  <a:pt x="742" y="2981"/>
                  <a:pt x="479" y="2933"/>
                </a:cubicBezTo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1800" y="1838160"/>
            <a:ext cx="1184040" cy="50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33880" y="13129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ati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ame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2720" y="1319040"/>
            <a:ext cx="2062080" cy="9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6960" y="1085760"/>
            <a:ext cx="3181320" cy="303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2920" y="108756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9320" y="1522440"/>
            <a:ext cx="2718000" cy="21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152388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3600" y="1995480"/>
            <a:ext cx="2303640" cy="149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0720" y="1996920"/>
            <a:ext cx="833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5720" y="4902120"/>
            <a:ext cx="4832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func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t static 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an arra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siz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[j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frame pointer of the most re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frame for the enclosing functi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sting dep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33160" y="1282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29920" y="2473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0440" y="268920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7200" y="418464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[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4680" y="2768760"/>
            <a:ext cx="2262600" cy="201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 at run-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need a fix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indir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ind the value of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n-loc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-) can use a lot of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 the stack, and s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function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599-7308-45E5-8999-FED2AD963B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2:58:29Z</dcterms:modified>
  <cp:revision>270</cp:revision>
  <dc:subject/>
  <dc:title>Slide 1</dc:title>
</cp:coreProperties>
</file>