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519-7083-4ED6-A7B3-3AB42D55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CB9-7D07-4DE9-8564-7D26E2B4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180-71C2-48D2-8C79-A5EF19F9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7D48-B7C5-46A4-B581-347C2FA3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33D-454D-413B-B5D0-DE9FABE5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079-B27B-4934-B69D-D087A1F0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DAE-9B14-490F-AEAE-F7B858F0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DD3-D59A-4A6D-8C39-89A948DE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175-CCAF-43CC-8C03-E607A907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334-682E-465D-B464-99655A42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927-82D1-44BE-B13B-368F223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357-F82F-4922-9F7B-2D76DA2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A723-9A2D-42A9-915F-638131D6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8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ck Machin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D24-20E8-40AC-B615-A4D9AFF623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est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806560" y="209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280" y="152892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st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90520" y="1400040"/>
            <a:ext cx="1243080" cy="17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6120" y="18273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" y="1576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70000" y="1692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test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63520" y="2639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18320" y="2770200"/>
            <a:ext cx="1242720" cy="12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8480" y="34131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65040" y="32083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02480" y="32479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55600" y="198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16520" y="971640"/>
            <a:ext cx="1243080" cy="12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77040" y="16146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63600" y="140976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23000" y="14763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976320"/>
            <a:ext cx="522360" cy="3195720"/>
          </a:xfrm>
          <a:custGeom>
            <a:avLst/>
            <a:gdLst>
              <a:gd name="textAreaLeft" fmla="*/ 333720 w 522360"/>
              <a:gd name="textAreaRight" fmla="*/ 522720 w 522360"/>
              <a:gd name="textAreaTop" fmla="*/ 83160 h 3195720"/>
              <a:gd name="textAreaBottom" fmla="*/ 3112560 h 319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23120" y="13082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no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35800" y="296064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s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45846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8760" y="4848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52640" y="514656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1960" y="4689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760" y="44276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96440" y="59817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71720" y="499428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78440" y="4884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77000" y="51991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91080" y="50356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83040" y="4784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0800" y="60339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656-CB38-40D9-B4B1-02DCAFE7AB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744560" y="15368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3920" y="21718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15400" y="18622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47800" y="2001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17800" y="2403360"/>
            <a:ext cx="1113120" cy="927360"/>
          </a:xfrm>
          <a:prstGeom prst="rightArrow">
            <a:avLst>
              <a:gd name="adj1" fmla="val 50000"/>
              <a:gd name="adj2" fmla="val 300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3680" y="1978200"/>
            <a:ext cx="8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49200" y="4191120"/>
            <a:ext cx="567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39960" y="4064040"/>
            <a:ext cx="113328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080" y="39654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94560" y="1430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43560" y="20653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65040" y="175572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97800" y="18954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99200" y="4084560"/>
            <a:ext cx="566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9600" y="395748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79720" y="38592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42120" y="4640400"/>
            <a:ext cx="5386680" cy="228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=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= stopped (program answer should be on top of sta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= store index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= call out of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= stack overfl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= fp offset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= return cp out of b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= arith error (div by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D77-D674-4EAC-9A0F-BC18BA0078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Initial Stat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59" name=""/>
          <p:cNvSpPr/>
          <p:nvPr/>
        </p:nvSpPr>
        <p:spPr>
          <a:xfrm>
            <a:off x="3587760" y="20160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58760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75160" y="1158840"/>
            <a:ext cx="1336680" cy="42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074600"/>
            <a:ext cx="14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4560" y="19828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6800" y="151920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mmy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8760" y="220500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46200" y="1332000"/>
            <a:ext cx="99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1440" y="11970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70720" y="24591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59040" y="3656160"/>
            <a:ext cx="1325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76200" y="35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06760" y="3787920"/>
            <a:ext cx="996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080" y="507996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41360" y="57880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u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09E-48FC-4EA2-AF48-1612CE8E8B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5" name=""/>
          <p:cNvSpPr/>
          <p:nvPr/>
        </p:nvSpPr>
        <p:spPr>
          <a:xfrm>
            <a:off x="402840" y="4462560"/>
            <a:ext cx="3513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33560" y="4454640"/>
            <a:ext cx="219240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5840" y="45385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99640" y="4435560"/>
            <a:ext cx="3682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50800" y="351468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5200" y="357984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53560" y="305604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26040" y="4255920"/>
            <a:ext cx="248472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24400" y="4329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from -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62440" y="5646600"/>
            <a:ext cx="142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oad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10760" y="1349280"/>
            <a:ext cx="3805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47920" y="1298520"/>
            <a:ext cx="18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to leav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ue of 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 of the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6840" y="479736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mal para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FA5-EFC3-4B5E-9F96-479C3FE98A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express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1342440" y="1798560"/>
            <a:ext cx="160416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1 op 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70560" y="1346040"/>
            <a:ext cx="2192400" cy="209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5320" y="157644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05480" y="2073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99000" y="2793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4920" y="2908440"/>
            <a:ext cx="11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960" y="233208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120" y="49928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Lucida Console"/>
              </a:rPr>
              <a:t>3 * ((8 + 17) * (2 - 6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56440" y="4222800"/>
            <a:ext cx="525564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0 : push 3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 : push 8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: push 17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3 : arith +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4 : push 2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5 : push 6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 : arith -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7 : arith *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8 : arith *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0" y="3780000"/>
            <a:ext cx="9545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851B-9A50-4C06-AC12-164313F0FB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607680" y="34052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91200" y="2671920"/>
            <a:ext cx="1090440" cy="3800160"/>
          </a:xfrm>
          <a:custGeom>
            <a:avLst/>
            <a:gdLst>
              <a:gd name="textAreaLeft" fmla="*/ 696600 w 1090440"/>
              <a:gd name="textAreaRight" fmla="*/ 1090800 w 1090440"/>
              <a:gd name="textAreaTop" fmla="*/ 99000 h 3800160"/>
              <a:gd name="textAreaBottom" fmla="*/ 3701160 h 38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56280" y="2982960"/>
            <a:ext cx="24843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31240" y="3056040"/>
            <a:ext cx="16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to of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67440" y="5562720"/>
            <a:ext cx="2484360" cy="51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77920" y="56466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ore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521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760" y="1362240"/>
            <a:ext cx="9014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37240" y="1077840"/>
            <a:ext cx="2450880" cy="12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29920" y="1298520"/>
            <a:ext cx="193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de produce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de effect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e 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1219320"/>
            <a:ext cx="1055880" cy="961920"/>
          </a:xfrm>
          <a:prstGeom prst="rightArrow">
            <a:avLst>
              <a:gd name="adj1" fmla="val 50000"/>
              <a:gd name="adj2" fmla="val 27442"/>
            </a:avLst>
          </a:prstGeom>
          <a:solidFill>
            <a:srgbClr val="ffff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20680" y="352908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c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61920" y="612612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lobal vari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60720" y="3362400"/>
            <a:ext cx="1909800" cy="19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05600" y="4068720"/>
            <a:ext cx="10508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x = 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48320" y="48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5760" y="438624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date 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59280" y="438300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65400" y="4811760"/>
            <a:ext cx="192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9200" y="3672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364-BE0E-493C-9829-C5FA123BFB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on of command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29" name=""/>
          <p:cNvSpPr/>
          <p:nvPr/>
        </p:nvSpPr>
        <p:spPr>
          <a:xfrm>
            <a:off x="955800" y="1776240"/>
            <a:ext cx="26312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_1; c_2; … c_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76760" y="1504800"/>
            <a:ext cx="2192400" cy="246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9520" y="173520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611680" y="22320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92600" y="3129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77000" y="327816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_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72680" y="24606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26560" y="2419200"/>
            <a:ext cx="2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4D8-6F52-41A7-B758-CEDBF0F39D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ditionals, Loop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38" name=""/>
          <p:cNvSpPr/>
          <p:nvPr/>
        </p:nvSpPr>
        <p:spPr>
          <a:xfrm>
            <a:off x="486360" y="1366920"/>
            <a:ext cx="326232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f e then c1 else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92080" y="2168640"/>
            <a:ext cx="2192400" cy="402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55320" y="2398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03240" y="3048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2160" y="3143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20880" y="36162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96760" y="42609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72960" y="37306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34680" y="428616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27000" y="479412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49840" y="494352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code for 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61640" y="56530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67120" y="1349280"/>
            <a:ext cx="207504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hile e { c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87920" y="2185920"/>
            <a:ext cx="2192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54240" y="235908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: code for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99080" y="306540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48360" y="316080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st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6720" y="36338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92600" y="427824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56920" y="37479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30520" y="4303800"/>
            <a:ext cx="10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to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4640" y="4861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:    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44640" y="566748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0240" y="4811760"/>
            <a:ext cx="21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4E4-A080-44A1-A440-5BAE081285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5464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ditional Exampl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3" name=""/>
          <p:cNvSpPr/>
          <p:nvPr/>
        </p:nvSpPr>
        <p:spPr>
          <a:xfrm>
            <a:off x="5097600" y="171360"/>
            <a:ext cx="360504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0 : push 0             ; slot for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 : push 0             ; slot for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 : push 19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3 : popto 2            ; store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4 : push 10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5 : popto 3            ; store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6 : load 2          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7 : load 3          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8 : call 14              ; call 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9 : swap                 ; remove ar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0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1 : swap               ; remove ar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2 : pop                  ; 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3 : stop                 ; that's all folk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4 : push 0             ; slot for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5 : push 0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6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7 : pushfrom -2     ; load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8 : pushfrom -1     ; load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19 : arith &lt; 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0 : test 24             ; if (x &lt; 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1 : push 100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2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3 : goto 26            ; jump over else cla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4 : push 500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5 : popto 2            ; stor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6 : skip                 ; end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7 : pushfrom 2     ; load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28 : return             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6680" y="957240"/>
            <a:ext cx="3403440" cy="3744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x, y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a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if x &lt;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then a = 1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else a = 50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(x, 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37080" y="3868560"/>
            <a:ext cx="4465800" cy="20750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5546880"/>
            <a:ext cx="128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n else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47E-7F3E-4513-9F40-14328C0C50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52960" cy="80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, While loo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5827680" y="14796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150840"/>
            <a:ext cx="35442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 : push 4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: call 5            ; call 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 : swap            ; remove ar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 : pop               ;  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4 : stop              ; that's all folk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5 : push 0           ; slot for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 : push 0           ; slot for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7 : pushfrom -1   ; load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8 : popto 2 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9 : push 0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: push 0          ; begin 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2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3 : arith &lt;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4 : test 24          ; check (0 &lt;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5 : pushfrom 3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6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7 : arith +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8 : popto 3         ; store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9 : pushfrom 2   ; load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0 : push 1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1 : arith -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2 : popto 2         ; store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3 : goto 11         ; while loop it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4 : skip               ; end w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5 : pushfrom 3    ; load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6 : return           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009440" y="1871640"/>
            <a:ext cx="2375280" cy="301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sum(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k = 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s = 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while  0 &lt; k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 = s + 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k = k -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sum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2280" y="2870280"/>
            <a:ext cx="4570560" cy="347184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39960" y="5910120"/>
            <a:ext cx="1130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hile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D5A-13E4-4784-8955-97B55B970E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LANG: A (S)imple (LANG)uage (v0.1)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981840" y="1893960"/>
            <a:ext cx="1174320" cy="1067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oca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atatyp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or 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S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080" y="1104840"/>
            <a:ext cx="8136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name = st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q | Lt | Lte | Gt | G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nd |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unary_op = UnaryMinusOp |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expression = Ident of 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Unary of unary_op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inary of binary_op * expression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Apply of name * (expression li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command = Assignment of name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equence of command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Condition of  expression * command * 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Return of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While of expression *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Block of (local_declaration list) *command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local_declaration = Var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global_declaration = Let of name * expres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Fun of name * (name list) * (local_declaration list) *comm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type slang = Slang of (global_declaration list) *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625-EB62-4EDC-B29F-2593CD147D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LANG example, with AST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5640480" y="126828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9920" y="3848040"/>
            <a:ext cx="6886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l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[Fun ("f", ["y"; "x"], [Var ("z", Number 17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(Binary (TimesOp, Ident "z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Ident "y", Ident "x"))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("x", Number 19); Let ("y", Number 10)]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Number 2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MinusOp, Apply ("f", [Ident "x"; Ident "y"]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pply ("f", [Ident "y"; Ident "x"]))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40" y="1014480"/>
            <a:ext cx="3228480" cy="277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fun f(y, 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z = 1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return z * (y + x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x = 19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let y = 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20 * (f(x, y) - f(y, x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FF5-23D9-4735-B7C8-938E21E5D4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We will translate SLANG to JARGON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956960" y="3424320"/>
            <a:ext cx="12214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LANG 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89320" y="3567240"/>
            <a:ext cx="1238400" cy="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1320" y="3432240"/>
            <a:ext cx="1614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Jargon Co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4920" y="26431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4880" y="4049640"/>
            <a:ext cx="252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rgon is my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ed abstract 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hin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1D9-F695-4739-A146-A88C82A423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Jargon Virtual Machine (v0.1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641840" y="1143000"/>
            <a:ext cx="1157400" cy="249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5400" y="1935000"/>
            <a:ext cx="1683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3935520"/>
            <a:ext cx="1157400" cy="15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" y="3154320"/>
            <a:ext cx="161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e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27840" y="1835280"/>
            <a:ext cx="0" cy="8445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035760" y="893520"/>
            <a:ext cx="0" cy="8557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86520" y="11858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41240" y="189072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22840" y="1104840"/>
            <a:ext cx="815760" cy="1019160"/>
          </a:xfrm>
          <a:custGeom>
            <a:avLst/>
            <a:gdLst/>
            <a:ahLst/>
            <a:rect l="l" t="t" r="r" b="b"/>
            <a:pathLst>
              <a:path w="780" h="627">
                <a:moveTo>
                  <a:pt x="0" y="627"/>
                </a:moveTo>
                <a:cubicBezTo>
                  <a:pt x="183" y="601"/>
                  <a:pt x="367" y="576"/>
                  <a:pt x="430" y="496"/>
                </a:cubicBezTo>
                <a:cubicBezTo>
                  <a:pt x="493" y="416"/>
                  <a:pt x="321" y="229"/>
                  <a:pt x="379" y="146"/>
                </a:cubicBezTo>
                <a:cubicBezTo>
                  <a:pt x="437" y="63"/>
                  <a:pt x="608" y="31"/>
                  <a:pt x="780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286000"/>
            <a:ext cx="839880" cy="566640"/>
          </a:xfrm>
          <a:custGeom>
            <a:avLst/>
            <a:gdLst/>
            <a:ahLst/>
            <a:rect l="l" t="t" r="r" b="b"/>
            <a:pathLst>
              <a:path w="817" h="597">
                <a:moveTo>
                  <a:pt x="0" y="597"/>
                </a:moveTo>
                <a:cubicBezTo>
                  <a:pt x="131" y="596"/>
                  <a:pt x="263" y="595"/>
                  <a:pt x="372" y="510"/>
                </a:cubicBezTo>
                <a:cubicBezTo>
                  <a:pt x="481" y="425"/>
                  <a:pt x="583" y="172"/>
                  <a:pt x="657" y="87"/>
                </a:cubicBezTo>
                <a:cubicBezTo>
                  <a:pt x="731" y="2"/>
                  <a:pt x="774" y="1"/>
                  <a:pt x="817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97560" y="454968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27520" y="603684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9760" y="5910120"/>
            <a:ext cx="113364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5280" y="262908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73600" y="4350960"/>
            <a:ext cx="798480" cy="11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5F6-5914-4C2E-94FD-DFC2A04E14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op, popto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2073240" y="13255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03480" y="1589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97000" y="1887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6680" y="1430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8480" y="116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41160" y="2722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16440" y="17352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5680" y="1052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170820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5320" y="202248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18590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1720" y="16081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19480" y="285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1240" y="3662280"/>
            <a:ext cx="115740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500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1292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73320" y="36640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3560" y="3927600"/>
            <a:ext cx="117000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37688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8200" y="35067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01680" y="462276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to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320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7404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3886200"/>
            <a:ext cx="1157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53160" y="6597720"/>
            <a:ext cx="1122480" cy="230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61080" y="6327720"/>
            <a:ext cx="1122480" cy="2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64320" y="530064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7840" y="38750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2280" y="401472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1280" y="381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91360" y="669456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22200" y="640080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2920" y="565164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1960" y="561348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760" y="3994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F34-85B8-428F-8A0A-9C649585A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tack Instructions: push, pushfrom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6585120" y="144288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15000" y="17064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00484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8200" y="1547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1285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2680" y="28400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14640" y="185256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800" y="110016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6400" y="174312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4960" y="205740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89040" y="18939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81000" y="164304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0080" y="27986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83400" y="3427560"/>
            <a:ext cx="1157400" cy="31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0716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508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18320" y="5065560"/>
            <a:ext cx="108756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75480" y="34290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3692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35337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0360" y="327168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40280" y="532764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50480" y="4646520"/>
            <a:ext cx="17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shfrom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45360" y="64594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7620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4960" y="3651120"/>
            <a:ext cx="115704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98720" y="6362640"/>
            <a:ext cx="1122480" cy="23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06640" y="6093000"/>
            <a:ext cx="1122480" cy="2300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09880" y="5065560"/>
            <a:ext cx="1087200" cy="984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03400" y="36399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7840" y="3780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6840" y="357660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36560" y="645948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760" y="6165720"/>
            <a:ext cx="4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5416560"/>
            <a:ext cx="11383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600" y="539100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[fp+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3160" y="5397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8320" y="392436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r local v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521-02C0-460A-8E58-4B9CA2909B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swap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op-of-Stack arithmetic 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1851120" y="11764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2320" y="1803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16200" y="2101680"/>
            <a:ext cx="124308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32080" y="130500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93880" y="10429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60000" y="29368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35280" y="1949400"/>
            <a:ext cx="1112760" cy="927000"/>
          </a:xfrm>
          <a:prstGeom prst="rightArrow">
            <a:avLst>
              <a:gd name="adj1" fmla="val 50000"/>
              <a:gd name="adj2" fmla="val 3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60480" y="140184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05040" y="14922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8200" y="11937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89760" y="1820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119320"/>
            <a:ext cx="124308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99160" y="132228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0960" y="1060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27440" y="2954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72120" y="1509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0840" y="3587760"/>
            <a:ext cx="8993160" cy="12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62280" y="4272120"/>
            <a:ext cx="124272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3480" y="489888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27360" y="5197320"/>
            <a:ext cx="1242720" cy="72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42880" y="44006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4680" y="413856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440" y="4848120"/>
            <a:ext cx="1112760" cy="927360"/>
          </a:xfrm>
          <a:prstGeom prst="rightArrow">
            <a:avLst>
              <a:gd name="adj1" fmla="val 50000"/>
              <a:gd name="adj2" fmla="val 299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7600" y="4427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ith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5277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05680" y="5135400"/>
            <a:ext cx="1242720" cy="7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49920" y="467820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99120" y="4486320"/>
            <a:ext cx="5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6200" y="45878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89840" y="483552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95560" y="4118040"/>
            <a:ext cx="28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 = (value 1) op (value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55080" y="6080040"/>
            <a:ext cx="56656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p in { + , *, -, / , &lt;, &gt;, &lt;=, &gt;=, =, &amp;&amp;, ||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9C9-C2E5-4C35-AEE6-4E23731C4C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oto, skip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4027320" y="178920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39480" y="1190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to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4640" y="12812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28720" y="185724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26440" y="1606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17880" y="1746360"/>
            <a:ext cx="124272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goto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87640" y="22082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81800" y="124128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30800" y="233352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7360" y="21286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54800" y="216864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49640" y="3108240"/>
            <a:ext cx="45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status to an error code if k is not in range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505320"/>
            <a:ext cx="91440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44800" y="4702320"/>
            <a:ext cx="1113120" cy="927000"/>
          </a:xfrm>
          <a:prstGeom prst="rightArrow">
            <a:avLst>
              <a:gd name="adj1" fmla="val 50000"/>
              <a:gd name="adj2" fmla="val 30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2280" y="406872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2120" y="4194000"/>
            <a:ext cx="124272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6200" y="4770360"/>
            <a:ext cx="3510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3920" y="451944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5000" y="465948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28880" y="4957920"/>
            <a:ext cx="1243080" cy="28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0240" y="4199040"/>
            <a:ext cx="1243080" cy="14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3520" y="5138640"/>
            <a:ext cx="350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1240" y="4888080"/>
            <a:ext cx="5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3480" y="466416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 : sk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7000" y="4962600"/>
            <a:ext cx="1243080" cy="28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+1 : …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C5C-178C-4906-AF0A-C1467C7F61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07T15:38:20Z</dcterms:modified>
  <cp:revision>268</cp:revision>
  <dc:subject/>
  <dc:title>Slide 1</dc:title>
</cp:coreProperties>
</file>