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B1F4-D0C9-4CB1-AA99-7FB3313EC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7A67-4BB8-4AC7-9C05-C6985A88D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2BC7-DB76-47BF-976B-B4F7B356D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0441-6829-44E1-BD5E-B41C1BD7B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106D-282A-4F15-93EF-35B922A01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E664-881B-452E-B929-E1944F227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8FE0-F618-4209-99C4-A3B609406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1C7C-D937-46D2-A416-F0A591F3D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FE95-576D-428F-A42F-21D5E4F96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17DB-E1C7-42E3-83D2-872C82932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05A7-503F-466F-8516-A04661F8B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6C4A-1D6C-4789-8D26-D7F77A19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6E656-794B-468C-80A7-D04A848EC1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timeanddate.com/calendar/monthly.html?year=2007&amp;month=1&amp;country=1" TargetMode="External"/><Relationship Id="rId2" Type="http://schemas.openxmlformats.org/officeDocument/2006/relationships/hyperlink" Target="http://www.timeanddate.com/calendar/monthly.html?year=2007&amp;month=2&amp;country=1" TargetMode="External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2102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07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Static Analysis --- Variables, Scope, and Type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25A8-FA62-40DE-84D9-CE876105E57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ypes and Type Error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1" name=""/>
          <p:cNvSpPr/>
          <p:nvPr/>
        </p:nvSpPr>
        <p:spPr>
          <a:xfrm>
            <a:off x="583200" y="1582560"/>
            <a:ext cx="3106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x = “this” + 3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6080" y="2687760"/>
            <a:ext cx="438696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int f(int x, int y) {…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f(17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392840" y="4165560"/>
            <a:ext cx="645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 type systems imposes a discipline on programming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ensures that the abstractions represented by types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ot violated by a correct progra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278320" y="1463760"/>
            <a:ext cx="854280" cy="2352600"/>
          </a:xfrm>
          <a:custGeom>
            <a:avLst/>
            <a:gdLst>
              <a:gd name="textAreaLeft" fmla="*/ 0 w 854280"/>
              <a:gd name="textAreaRight" fmla="*/ 308520 w 854280"/>
              <a:gd name="textAreaTop" fmla="*/ 61200 h 2352600"/>
              <a:gd name="textAreaBottom" fmla="*/ 2291400 h 235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251760" y="2462040"/>
            <a:ext cx="210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vious type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32040" y="5425920"/>
            <a:ext cx="635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ules can be enforced a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mpile-ti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r a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un-ti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328280" y="5925960"/>
            <a:ext cx="12049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tic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ec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202800" y="5859360"/>
            <a:ext cx="14976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ynamic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ec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8597-BD4B-4829-91AD-92DEE2482DD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What is a type error?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0" name=""/>
          <p:cNvSpPr/>
          <p:nvPr/>
        </p:nvSpPr>
        <p:spPr>
          <a:xfrm>
            <a:off x="813960" y="1736640"/>
            <a:ext cx="7313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x = (if true then 8 else “this”) + 10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9440" y="1206360"/>
            <a:ext cx="236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this a type error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8560" y="2508120"/>
            <a:ext cx="26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will never go wrong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9080" y="333684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about thi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99480" y="3854520"/>
            <a:ext cx="7313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x = (if g(x) then 8 else “this”) + 10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05240" y="4773600"/>
            <a:ext cx="769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we can prove that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g(x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always true, then is will never go wrong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9320" y="5499000"/>
            <a:ext cx="846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that might be too much to ask for a (static) type checking system, si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looks like a undecidable problem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1561-7A57-4211-854B-2B142AFC096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ype Syste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3560" y="1074240"/>
            <a:ext cx="8229600" cy="26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anguage’s type system specifies how to construct types and which operations are valid for which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systems provide a concise formalization of the semantic checking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systems can be thought of as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og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which some very weak assertions can be proved automat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01200" y="3973680"/>
            <a:ext cx="52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preconditions} program {postconditions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65200" y="5261040"/>
            <a:ext cx="551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{ x :int } y = x + 17;  { y : int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F07B-1D10-4C07-BA8A-2BD0F8E6738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Another way to think of types as a logic…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2" name=""/>
          <p:cNvSpPr/>
          <p:nvPr/>
        </p:nvSpPr>
        <p:spPr>
          <a:xfrm>
            <a:off x="5712120" y="2313000"/>
            <a:ext cx="18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 |- a :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955120" y="1401840"/>
            <a:ext cx="9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75360" y="148428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371960" y="2395440"/>
            <a:ext cx="282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 |- A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170240" y="1547640"/>
            <a:ext cx="34920" cy="464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57160" y="4538520"/>
            <a:ext cx="334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--------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, A |- A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44480" y="4489560"/>
            <a:ext cx="4290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---------------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, x:A |- x : A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33800" y="392580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xi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477F-ADEB-4AA2-BFA6-84E8ABDF726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njunction and Pairing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1" name=""/>
          <p:cNvSpPr/>
          <p:nvPr/>
        </p:nvSpPr>
        <p:spPr>
          <a:xfrm>
            <a:off x="5081040" y="1825560"/>
            <a:ext cx="3423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 : A                H |- b :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(a, b) : A *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868280" y="4332240"/>
            <a:ext cx="1887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p : A*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fst(p) :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067520" y="4317840"/>
            <a:ext cx="1920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p : A*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snd(p) :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413240" y="2120760"/>
            <a:ext cx="12600" cy="397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053400" y="1096920"/>
            <a:ext cx="16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ing ru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381680" y="12398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ical ru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85200" y="2028960"/>
            <a:ext cx="3423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                H |-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 *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72440" y="4535640"/>
            <a:ext cx="1887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*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363040" y="4521240"/>
            <a:ext cx="1887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*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E85B-5179-4ED0-AECC-0A8F9E6C5A7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Implication and function types.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1" name=""/>
          <p:cNvSpPr/>
          <p:nvPr/>
        </p:nvSpPr>
        <p:spPr>
          <a:xfrm>
            <a:off x="4413240" y="212076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53400" y="1096920"/>
            <a:ext cx="16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ing ru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381680" y="12398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ical ru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8520" y="2028960"/>
            <a:ext cx="1546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, A |-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59640" y="3571920"/>
            <a:ext cx="3067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          H |-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------------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13160" y="2233440"/>
            <a:ext cx="2911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, x:A |- e: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fun x:A.e :A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180400" y="3776760"/>
            <a:ext cx="3579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f: A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          H |- a: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------------------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f(a) :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EFC2-6B61-4CAA-83FE-44866BCAFAC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Disjunction and Case Switch.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171360" y="3164040"/>
            <a:ext cx="8728200" cy="2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8800" y="3400560"/>
            <a:ext cx="16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ing ru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35440" y="115560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ical ru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14240" y="1994040"/>
            <a:ext cx="1546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 ||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949640" y="1962000"/>
            <a:ext cx="3850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||B     H,A |- C    H,B|-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84680" y="1954080"/>
            <a:ext cx="1546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 ||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509840" y="3867120"/>
            <a:ext cx="2399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a: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inr(a) : A ||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699440" y="3790800"/>
            <a:ext cx="2399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b: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inl(b) : A ||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10000" y="5286240"/>
            <a:ext cx="624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d : A||B     H, x:A |- e1 : C    H, y:B |- e2 :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|- (case d of inr(x)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1, inr(y)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2) :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A194-F117-471D-9DFD-AC5605FE7B9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De Morgan’s Laws as Code!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9" name=""/>
          <p:cNvSpPr/>
          <p:nvPr/>
        </p:nvSpPr>
        <p:spPr>
          <a:xfrm>
            <a:off x="2260440" y="1109520"/>
            <a:ext cx="3436200" cy="19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 d: (A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) || (B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 p : A*B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e d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l(f)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f(fst p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r(g) -&gt; g(snd 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14520" y="324180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s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063520" y="3522600"/>
            <a:ext cx="48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(A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) || (B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))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A*B)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812960" y="4633920"/>
                <a:ext cx="42181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¬</m:t>
                    </m:r>
                    <m:r>
                      <m:t xml:space="preserve">A</m:t>
                    </m:r>
                    <m:r>
                      <m:t xml:space="preserve">∨</m:t>
                    </m:r>
                    <m:r>
                      <m:t xml:space="preserve">¬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¬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∧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657000" y="4091040"/>
            <a:ext cx="549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a generalization of De Morgan’s ru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8342280" y="4235400"/>
                <a:ext cx="51264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¬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7316280" y="4170240"/>
            <a:ext cx="1789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nk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then repl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lse by 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7684920" y="4773600"/>
                <a:ext cx="114948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fals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7302600" y="3975120"/>
            <a:ext cx="1841400" cy="194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07120" y="5522760"/>
            <a:ext cx="591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this same thing be done with all of De Morgan’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three rules?   Yes?  No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4513-D8EF-4488-8768-43C0C7EC3BD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03440" y="4483080"/>
            <a:ext cx="463320" cy="153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L(k) vs. LR(k) reductions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928800" y="1130400"/>
                <a:ext cx="7002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→</m:t>
                    </m:r>
                    <m:r>
                      <m:t xml:space="preserve">β</m:t>
                    </m:r>
                    <m:sSup>
                      <m:e>
                        <m:r>
                          <m:t xml:space="preserve">⇒</m:t>
                        </m:r>
                      </m:e>
                      <m:sup/>
                    </m:sSup>
                    <m:r>
                      <m:t xml:space="preserve">w</m:t>
                    </m:r>
                    <m:r>
                      <m:t xml:space="preserve">'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β</m:t>
                    </m:r>
                    <m:r>
                      <m:t xml:space="preserve">∈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∪</m:t>
                    </m:r>
                    <m:r>
                      <m:t xml:space="preserve">N</m:t>
                    </m:r>
                    <m:sSup>
                      <m:e>
                        <m:r>
                          <m:t xml:space="preserve">)</m:t>
                        </m:r>
                      </m:e>
                      <m:sup/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w</m:t>
                    </m:r>
                    <m:r>
                      <m:t xml:space="preserve">'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T</m:t>
                        </m:r>
                      </m:e>
                      <m:sup/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665360" y="1930320"/>
                <a:ext cx="11872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L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4451400" y="1817640"/>
            <a:ext cx="23760" cy="460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8040" y="2498760"/>
            <a:ext cx="815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5892840" y="1878120"/>
                <a:ext cx="118584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R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708120" y="2936880"/>
            <a:ext cx="292572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68600" y="2935440"/>
            <a:ext cx="110952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862280" y="2846520"/>
                <a:ext cx="55548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 flipV="1">
            <a:off x="1682640" y="3474720"/>
            <a:ext cx="0" cy="6080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6200000">
            <a:off x="1881000" y="3161880"/>
            <a:ext cx="220680" cy="598320"/>
          </a:xfrm>
          <a:custGeom>
            <a:avLst/>
            <a:gdLst>
              <a:gd name="textAreaLeft" fmla="*/ 141120 w 220680"/>
              <a:gd name="textAreaRight" fmla="*/ 221040 w 220680"/>
              <a:gd name="textAreaTop" fmla="*/ 15480 h 598320"/>
              <a:gd name="textAreaBottom" fmla="*/ 582840 h 59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032200" y="3651120"/>
            <a:ext cx="19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Black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token look ah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160" y="4950000"/>
            <a:ext cx="463680" cy="107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24320" y="5711760"/>
            <a:ext cx="68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703440" y="4498920"/>
                <a:ext cx="42696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2822400" y="4479840"/>
            <a:ext cx="463680" cy="153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27440" y="4933800"/>
            <a:ext cx="463320" cy="107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2822400" y="4441680"/>
                <a:ext cx="42732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1474920" y="4863960"/>
            <a:ext cx="987120" cy="560520"/>
          </a:xfrm>
          <a:prstGeom prst="rightArrow">
            <a:avLst>
              <a:gd name="adj1" fmla="val 50000"/>
              <a:gd name="adj2" fmla="val 4402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10640" y="4422600"/>
            <a:ext cx="1082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left-mo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bol 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881680" y="4383000"/>
            <a:ext cx="463680" cy="153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23000" y="2860560"/>
            <a:ext cx="3412800" cy="42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83120" y="2859120"/>
            <a:ext cx="110988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6076800" y="2770200"/>
                <a:ext cx="55584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 flipV="1">
            <a:off x="6970680" y="3288960"/>
            <a:ext cx="0" cy="6080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16200000">
            <a:off x="7216560" y="3085560"/>
            <a:ext cx="220680" cy="598320"/>
          </a:xfrm>
          <a:custGeom>
            <a:avLst/>
            <a:gdLst>
              <a:gd name="textAreaLeft" fmla="*/ 141120 w 220680"/>
              <a:gd name="textAreaRight" fmla="*/ 221040 w 220680"/>
              <a:gd name="textAreaTop" fmla="*/ 15480 h 598320"/>
              <a:gd name="textAreaBottom" fmla="*/ 582840 h 59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292160" y="3514680"/>
            <a:ext cx="138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Black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token loo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h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873760" y="4849920"/>
            <a:ext cx="463680" cy="107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02920" y="5611680"/>
            <a:ext cx="68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8026560" y="4373640"/>
                <a:ext cx="42696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8001000" y="4379760"/>
            <a:ext cx="463680" cy="153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05680" y="4834080"/>
            <a:ext cx="463680" cy="107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5904000" y="4329000"/>
                <a:ext cx="42696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6653160" y="4764240"/>
            <a:ext cx="987480" cy="560160"/>
          </a:xfrm>
          <a:prstGeom prst="rightArrow">
            <a:avLst>
              <a:gd name="adj1" fmla="val 50000"/>
              <a:gd name="adj2" fmla="val 4407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9200" y="4398840"/>
            <a:ext cx="120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ight-mo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bol 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17400" y="1838160"/>
            <a:ext cx="815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8015400" y="4375080"/>
                <a:ext cx="42696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4879440" y="6103800"/>
            <a:ext cx="2126880" cy="580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The language of th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Stack IS REGULAR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8814-27DD-4596-A35B-3D12E05D938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04920" y="2610000"/>
            <a:ext cx="8510400" cy="208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097000" y="1109520"/>
            <a:ext cx="4267440" cy="74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567480" y="3019320"/>
            <a:ext cx="463680" cy="153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R(k) states (non-deterministic)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2373480" y="1136520"/>
                <a:ext cx="411156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β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1390680" y="2911320"/>
            <a:ext cx="2925720" cy="42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51160" y="2909880"/>
            <a:ext cx="110952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544840" y="2820960"/>
                <a:ext cx="55548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 flipV="1">
            <a:off x="2365200" y="3449160"/>
            <a:ext cx="0" cy="6080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559560" y="3486240"/>
            <a:ext cx="463680" cy="107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25120" y="2932200"/>
            <a:ext cx="7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ac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6567480" y="3070080"/>
                <a:ext cx="4269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927080" y="5205240"/>
                <a:ext cx="377208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sSup>
                      <m:e>
                        <m:r>
                          <m:t xml:space="preserve">⇒</m:t>
                        </m:r>
                      </m:e>
                      <m:sup/>
                    </m:sSup>
                    <m:r>
                      <m:t xml:space="preserve">w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7250760" y="2800440"/>
            <a:ext cx="120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ight-mo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bol 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5680" y="119052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he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2360" y="196848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hould represent this situa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5240" y="2940120"/>
            <a:ext cx="75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Inpu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9200" y="5356080"/>
            <a:ext cx="6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32BC-D0F7-4374-B591-232CEAC238F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mpiler Construction, Revised 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832120" y="1187280"/>
            <a:ext cx="44323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exical Analys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Theory of Context Free Grammars (CFGs) and Predictive (recursive descent) Par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R Parsing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R Parsing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R Parsing I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Variables, Scope, Typ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Stack Machi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Procedures, Functions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Procedures, Functions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 Black"/>
              </a:rPr>
              <a:t>Register Machine &amp; MinCaml middle-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Assembly code, linker, load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Code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 Black"/>
              </a:rPr>
              <a:t>MinCaml back-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Garbage Collec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Object Orient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Interpreters, Byte Code interpreters, virtual mach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Revi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4920" y="1687680"/>
            <a:ext cx="2099160" cy="3987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anuary 2007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   T  W  T   F   S 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  2   3   4   5   6  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   9 10 11 12 13 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 16 17 18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4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30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ebruary 2007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   T  W  T   F   S 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3  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6 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7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8 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0 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3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5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7 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0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2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4 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7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55880" y="3701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816280" y="2793960"/>
            <a:ext cx="45370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16280" y="3998880"/>
            <a:ext cx="45370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104240" y="1330200"/>
            <a:ext cx="233280" cy="1403640"/>
          </a:xfrm>
          <a:custGeom>
            <a:avLst/>
            <a:gdLst>
              <a:gd name="textAreaLeft" fmla="*/ 0 w 233280"/>
              <a:gd name="textAreaRight" fmla="*/ 84240 w 233280"/>
              <a:gd name="textAreaTop" fmla="*/ 36360 h 1403640"/>
              <a:gd name="textAreaBottom" fmla="*/ 1367280 h 140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481160" y="1731960"/>
            <a:ext cx="108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ront-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145280" y="5005440"/>
            <a:ext cx="198360" cy="1287360"/>
          </a:xfrm>
          <a:custGeom>
            <a:avLst/>
            <a:gdLst>
              <a:gd name="textAreaLeft" fmla="*/ 0 w 198360"/>
              <a:gd name="textAreaRight" fmla="*/ 71640 w 198360"/>
              <a:gd name="textAreaTop" fmla="*/ 33480 h 1287360"/>
              <a:gd name="textAreaBottom" fmla="*/ 1253880 h 1287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661880" y="5024520"/>
            <a:ext cx="84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pe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op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149960" y="2863800"/>
            <a:ext cx="196920" cy="1013040"/>
          </a:xfrm>
          <a:custGeom>
            <a:avLst/>
            <a:gdLst>
              <a:gd name="textAreaLeft" fmla="*/ 0 w 196920"/>
              <a:gd name="textAreaRight" fmla="*/ 70920 w 196920"/>
              <a:gd name="textAreaTop" fmla="*/ 26280 h 1013040"/>
              <a:gd name="textAreaBottom" fmla="*/ 986760 h 101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87560" y="4911840"/>
            <a:ext cx="45370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147080" y="4068720"/>
            <a:ext cx="220680" cy="709560"/>
          </a:xfrm>
          <a:custGeom>
            <a:avLst/>
            <a:gdLst>
              <a:gd name="textAreaLeft" fmla="*/ 0 w 220680"/>
              <a:gd name="textAreaRight" fmla="*/ 79560 w 220680"/>
              <a:gd name="textAreaTop" fmla="*/ 18360 h 709560"/>
              <a:gd name="textAreaBottom" fmla="*/ 691200 h 709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480800" y="3094200"/>
            <a:ext cx="126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iddle-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03200" y="4260960"/>
            <a:ext cx="105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back-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CFF3-647D-4BBC-82BA-FCA31BB55BB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3680" y="380520"/>
            <a:ext cx="8859960" cy="685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 Black"/>
              </a:rPr>
              <a:t>Names, binding, scope, type checking</a:t>
            </a: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14280" y="2565360"/>
            <a:ext cx="4089600" cy="188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s,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pe (visibil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 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01200" y="1297080"/>
            <a:ext cx="3061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static int x = 17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void f(int x, int 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nt i, 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 = i + x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nt g(int i, int x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nt 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f(k, x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f(i, k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C661-5D4A-4C35-A7EA-1E8DB452569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cop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: Th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cop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a variable is the range of statements over which it is vi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: Th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nonlocal variab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a program unit are those that are visible but not declared t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cope rules of a language determine how references to names are associated with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BD57-61AD-4E98-A56B-01BCA6C10D4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-values vs. R-value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1" name=""/>
          <p:cNvSpPr/>
          <p:nvPr/>
        </p:nvSpPr>
        <p:spPr>
          <a:xfrm>
            <a:off x="3124800" y="144792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x = x + 3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91480" y="15238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in 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597040" y="1864800"/>
            <a:ext cx="573120" cy="560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9880" y="2462040"/>
            <a:ext cx="26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L-value repres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memory loc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4154400" y="1923840"/>
            <a:ext cx="473040" cy="487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40960" y="2459160"/>
            <a:ext cx="355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R-value repres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value stored at the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tion associated with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90240" y="445608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A[j*2] = j + 3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88920" y="4375080"/>
            <a:ext cx="273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L-values may 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ermined at run-ti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162D-CD88-4E8F-BE92-E8BF11BA77E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27400" y="-360"/>
            <a:ext cx="4613040" cy="609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Binding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46200" y="115560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6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ding is not formally defined. Intuitively, we associate (that is, bind) an attribute with an entity. Examples of attributes are name, type, va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ding occurs at various times in the life of a program. Three periods are usually consider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mpile 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ctually, translation time, because binding happens both in compilers and interpreter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oad 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reparing object code for execution, pulling in the necessary code for built-in operations or operations defined in libraries of module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un 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between starting the program's execution and its termination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6AEF-D8A5-4305-AD9F-A980FB05726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Dynamic binding is just a BAD IDEA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32" name=""/>
          <p:cNvSpPr/>
          <p:nvPr/>
        </p:nvSpPr>
        <p:spPr>
          <a:xfrm>
            <a:off x="2557440" y="1774800"/>
            <a:ext cx="292392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let a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let f() =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let g(a) = f(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print g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620800" y="3608280"/>
            <a:ext cx="11224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92280" y="3741840"/>
            <a:ext cx="139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tic Sc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39960" y="3701880"/>
            <a:ext cx="168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ynamic Sc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49840" y="3605040"/>
            <a:ext cx="1155600" cy="766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164320" y="4545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26680" y="45291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43720" y="5156280"/>
            <a:ext cx="6278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though dynamic scoping is easier to implement, reading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derstanding code can be nearly impossibl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C45E-3A21-4D34-805E-F0009AE3A20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23T09:29:01Z</dcterms:modified>
  <cp:revision>282</cp:revision>
  <dc:subject/>
  <dc:title>Slide 1</dc:title>
</cp:coreProperties>
</file>