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69C0-4DB1-4F8D-86DB-CB89828E4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4B49-D86C-4908-B3B3-50F604A6C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0FFE-BCFC-4046-9611-D3E27BE57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E0AB-DECC-4C48-B83B-9127818AA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B8A4-8552-4430-BACD-FC480C9FA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1E54-1F34-475E-A4D1-D7106E691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D1BC-2409-4618-9D5D-223670F63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2A36-3787-40EF-B4C6-0C17389C1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670-1B16-41E0-AF98-6E7177BD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C7B-1A3A-4967-AB01-15FAA268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789-A0BB-449E-B170-37A696EA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A49A-5050-4265-BDC1-C2125CFA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FBD-4ED0-4BEE-A29C-CA085091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E852-AC47-4F00-A0AF-49D5B3E4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633-2819-4CDC-B64D-9811B242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3C12-E6E2-4994-AED1-BBA3C4D7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55A-94B4-40DC-B279-9ACF3496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C3A-24B0-4A94-BDB4-498C7CE3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95B-88B3-4C7D-AFF1-6D358FCD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3350-5F95-4E23-BB3D-F79B576D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6BCF-FAD8-4811-8885-BDBEC080C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86D-EDE1-46A8-A316-90B7456EF2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Stat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1120" y="11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for example the LR(1)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he sam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n be merged to the st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[X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a/b], [Y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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c/d]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alled LALR(1)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s for LookAhead 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10 times fewer LALR(1) states than LR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4F7-632F-4113-A6DD-C380F32DB3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For LALR(1), Collapse States .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831080" cy="4032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565440" y="5197320"/>
            <a:ext cx="4803840" cy="6368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6760" y="3576600"/>
            <a:ext cx="2211480" cy="10652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27240" y="3830760"/>
            <a:ext cx="7662600" cy="2512800"/>
          </a:xfrm>
          <a:custGeom>
            <a:avLst/>
            <a:gdLst/>
            <a:ahLst/>
            <a:rect l="l" t="t" r="r" b="b"/>
            <a:pathLst>
              <a:path w="4827" h="1583">
                <a:moveTo>
                  <a:pt x="0" y="336"/>
                </a:moveTo>
                <a:lnTo>
                  <a:pt x="51" y="1583"/>
                </a:lnTo>
                <a:lnTo>
                  <a:pt x="4827" y="1546"/>
                </a:lnTo>
                <a:lnTo>
                  <a:pt x="4754" y="0"/>
                </a:lnTo>
                <a:lnTo>
                  <a:pt x="3084" y="15"/>
                </a:lnTo>
                <a:lnTo>
                  <a:pt x="3069" y="751"/>
                </a:lnTo>
                <a:lnTo>
                  <a:pt x="4681" y="759"/>
                </a:lnTo>
                <a:lnTo>
                  <a:pt x="4717" y="1451"/>
                </a:lnTo>
                <a:lnTo>
                  <a:pt x="1123" y="1444"/>
                </a:lnTo>
                <a:lnTo>
                  <a:pt x="1247" y="292"/>
                </a:lnTo>
                <a:lnTo>
                  <a:pt x="0" y="336"/>
                </a:lnTo>
                <a:close/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49520" y="3067200"/>
            <a:ext cx="2511720" cy="2025360"/>
          </a:xfrm>
          <a:custGeom>
            <a:avLst/>
            <a:gdLst/>
            <a:ahLst/>
            <a:rect l="l" t="t" r="r" b="b"/>
            <a:pathLst>
              <a:path w="1582" h="1276">
                <a:moveTo>
                  <a:pt x="58" y="29"/>
                </a:moveTo>
                <a:lnTo>
                  <a:pt x="51" y="241"/>
                </a:lnTo>
                <a:lnTo>
                  <a:pt x="1538" y="241"/>
                </a:lnTo>
                <a:lnTo>
                  <a:pt x="1538" y="1050"/>
                </a:lnTo>
                <a:lnTo>
                  <a:pt x="7" y="1043"/>
                </a:lnTo>
                <a:lnTo>
                  <a:pt x="0" y="1276"/>
                </a:lnTo>
                <a:lnTo>
                  <a:pt x="1582" y="1262"/>
                </a:lnTo>
                <a:lnTo>
                  <a:pt x="1582" y="0"/>
                </a:lnTo>
                <a:lnTo>
                  <a:pt x="58" y="2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9640" y="1119240"/>
            <a:ext cx="54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mbine states 6 and 13, 7 and 12, 8 and 11, 10 and 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22E-69D7-40B6-8070-D487AEDF2D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ALR(1)-parse-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404-F218-4A3F-8E7B-9E18C3F7BC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ALR vs. LR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LR languages are not “natur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an efficiency hack on LR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see claims that any reasonable programming language has a LALR(1) grammar, {Arguably this is done by defining languages without an LALR(1) grammar as unreason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y case, LALR(1) has become a standard for programming languages and for parser generators, in spite of its apparent complex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341-F7A8-47EF-AC6D-24E8C168FA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 and Parser Generato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471600" y="1238400"/>
            <a:ext cx="71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http://catalog.compilertools.net/lexpars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55960" y="1746360"/>
            <a:ext cx="1829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C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FLEX A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N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ISON/EIF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T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GEN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PO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FLE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0040" y="1798560"/>
            <a:ext cx="2093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AP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HOL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L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C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E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RO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R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VISUALPARSE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Y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AC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99040" y="5722920"/>
            <a:ext cx="4223880" cy="3988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’ll use ocamllex and ocamlyacc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F67-8451-4145-8DC5-CB6083E652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t.m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368640" y="1589040"/>
            <a:ext cx="8105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binary_op = PlusOp | TimesOp | MinusOp | Div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unary_op = UnaryMinus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type ast = Ident of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Number of 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Unary of unary_op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Binary of binary_op * ast * 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7435-1AA3-4235-95A2-1701724064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er.ml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-322920" y="966960"/>
            <a:ext cx="700812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int&gt; 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&lt;string&gt; 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PLUS MINUS TIMES DI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LPAREN RPA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oken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PLUS MINUS        /* low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left TIMES DIV         /* medium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nonassoc UMINUS        /* highest preceden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start parse_it         /* the entry point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type &lt;ast&gt; parse_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%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rse_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 EOF                { $1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p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                     { Number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IDENT                   { Ident($1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LPAREN expr RPAREN      { $2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PLUS expr          { Binary(Pl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MINUS expr         { Binary(Minu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TIMES expr         { Binary(Times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xpr DIV expr           { Binary(DivOp, $1, $3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MINUS expr %prec UMINUS { Unary(UnaryMinusOp, $2) 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55440" y="6089760"/>
            <a:ext cx="4280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yacc parser.mly  </a:t>
            </a:r>
            <a:r>
              <a:rPr b="0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parser.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in this case producing a 21-state D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E9C-7FDD-47DC-9C56-4C34CA93BF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er.mll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88960" y="1873080"/>
            <a:ext cx="8181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ule tokenize = pa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[' ' '\t' '\n' ]     { tokenize lexbuf } (* skip white-space 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a'-'z' 'A'-'Z']['a'-'z' 'A'-'Z' '0'-'9']* as lxm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{ IDENT(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['0'-'9']+ as lxm    { INT(int_of_string lxm)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+'                  { PL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-'                  { MINU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*'                  { TIME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/'                  { DIV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('                  { L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')'                  { RPARE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| eof                  { EO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93960" y="5354640"/>
            <a:ext cx="4818240" cy="131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ocamllex lexer.mll  </a:t>
            </a:r>
            <a:r>
              <a:rPr b="0" lang="en-US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lexer.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in this case producing an 11-state D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with 342 trans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21600" y="5803920"/>
            <a:ext cx="18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22FC-1072-4EC6-8222-D2342B7274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Parse it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495000" y="1262160"/>
            <a:ext cx="83494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ast_of_string s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t lexbuf = Lexing.from_string 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rse_it tokenize lexbu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(9 - 10) + ((-xyz100) * 44)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st_of_string "9 - 10 + -xyz100 * 44"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PlusOp, Binary (MinusOp, Number 9, Number 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inary (TimesOp, Unary (UnaryMinusOp, Ident "xyz100"), Number 44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3E5-13C3-488A-9D7B-3D3ACD98DE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crete vs. Abstract Syntax Trees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64080" y="1202400"/>
            <a:ext cx="1911240" cy="3812400"/>
            <a:chOff x="1864080" y="1202400"/>
            <a:chExt cx="1911240" cy="3812400"/>
          </a:xfrm>
        </p:grpSpPr>
        <p:sp>
          <p:nvSpPr>
            <p:cNvPr id="99" name=""/>
            <p:cNvSpPr/>
            <p:nvPr/>
          </p:nvSpPr>
          <p:spPr>
            <a:xfrm>
              <a:off x="3083400" y="12024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51480" y="161028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6800" y="206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96600" y="251676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 S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990880" y="1579680"/>
              <a:ext cx="14760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17760" y="1550880"/>
              <a:ext cx="14940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57280" y="157968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00160" y="1996920"/>
              <a:ext cx="0" cy="149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00160" y="242892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647800" y="2398680"/>
              <a:ext cx="1634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90880" y="2398680"/>
              <a:ext cx="14760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0720" y="2067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5720" y="1996920"/>
              <a:ext cx="0" cy="16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5760" y="295812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 + 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00160" y="2874960"/>
              <a:ext cx="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4320" y="340560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633400" y="2905200"/>
              <a:ext cx="19224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5040" y="2874960"/>
              <a:ext cx="163440" cy="1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280" y="333540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25000" y="338976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( S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3480" y="332100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75680" y="38199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S + 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109320" y="3753000"/>
              <a:ext cx="119160" cy="133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17760" y="3767040"/>
              <a:ext cx="10332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273480" y="3782880"/>
              <a:ext cx="0" cy="14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127240" y="3276720"/>
              <a:ext cx="32688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334600" y="3321000"/>
              <a:ext cx="149400" cy="223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64080" y="3792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066760" y="3766680"/>
              <a:ext cx="0" cy="13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880" y="426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035160" y="4199040"/>
              <a:ext cx="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74520" y="4253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066760" y="4199040"/>
              <a:ext cx="0" cy="11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93640" y="391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43040" y="379728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56960" y="4555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63480" y="4134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206760" y="238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6388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05360" y="2780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226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8000" y="3196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00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3068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7160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63720" y="3672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22520" y="3500280"/>
            <a:ext cx="23796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3530520"/>
            <a:ext cx="30240" cy="22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654520" y="3083040"/>
            <a:ext cx="252720" cy="23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3112920"/>
            <a:ext cx="29664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89840" y="3514680"/>
            <a:ext cx="149040" cy="22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3640" y="3500280"/>
            <a:ext cx="119160" cy="2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056280" y="2697120"/>
            <a:ext cx="223920" cy="23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2666880"/>
            <a:ext cx="20808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720" y="1218240"/>
            <a:ext cx="221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parse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derivation tree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concret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3480" y="2056320"/>
            <a:ext cx="32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bstract Syntax Tree (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91040" y="2776680"/>
            <a:ext cx="815760" cy="352440"/>
          </a:xfrm>
          <a:prstGeom prst="rightArrow">
            <a:avLst>
              <a:gd name="adj1" fmla="val 50000"/>
              <a:gd name="adj2" fmla="val 5786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84800" y="4267080"/>
            <a:ext cx="4140000" cy="811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An AST contains only the information needed to generate an intermediate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1320" y="5562720"/>
            <a:ext cx="8110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ly a compiler constructs the concrete syntax tree only implici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the parsing process) and explicitly constructs the AST vi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mantic 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197D-3216-40C1-B844-C6C906EA93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roblem With LR(0)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1193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No look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Vulnerable to unnecessar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Shift/Reduce Conflicts (may reduce too soon in some c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Reduce/Reduc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新細明體"/>
              </a:rPr>
              <a:t>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新細明體"/>
              </a:rPr>
              <a:t>LR(1) parsing - systematic look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77A2-4AD8-4CE5-B409-72CEDB80AA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(1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7160" y="161100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R(1) i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terminal (the lookahead 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(1) means 1 lookahead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</a:t>
            </a:r>
            <a:r>
              <a:rPr b="0" lang="en-US" sz="2400" spc="-1" strike="noStrike">
                <a:solidFill>
                  <a:srgbClr val="ff0000"/>
                </a:solidFill>
                <a:latin typeface="cmsy10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msy10"/>
              </a:rPr>
              <a:t>.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a]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a context of the pars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trying to find a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 a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 (at least)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ready on top of th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we need to see nex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fix derived 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CD3-AD4E-4CF7-A876-05D3BC753F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Closure Operat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880" y="128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modify closure operation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ure(Items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 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] i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production 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b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rs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Y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 </a:t>
            </a:r>
            <a:r>
              <a:rPr b="0" lang="en-US" sz="28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 Items is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D1A-B49D-4740-BB75-D7A410FC46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the Parsing DFA (2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473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FA state is a closed set of LR(1)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rt state contains (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’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$, dumm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cmsy10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labeled with 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duce with 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on lookahead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w the transitio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681-ACB5-48D9-9D2B-49D251D104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DFA Transi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346040"/>
            <a:ext cx="8229600" cy="52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 s that contain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X </a:t>
            </a:r>
            <a:r>
              <a:rPr b="0" lang="en-US" sz="3200" spc="-1" strike="noStrike">
                <a:solidFill>
                  <a:srgbClr val="333399"/>
                </a:solidFill>
                <a:latin typeface="cmsy10"/>
              </a:rPr>
              <a:t>::=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b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a transition labeled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ate obtained from Transition(s,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can be a terminal or a non-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(s, 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= 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: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[X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] to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Closure(It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F2DF-5B4F-4B91-B32C-DB390FA5A5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the 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hift and goto as bef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tate I with item (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., z) gives a reduce A</a:t>
            </a:r>
            <a:r>
              <a:rPr b="0" lang="da-DK" sz="2800" spc="-1" strike="noStrike">
                <a:solidFill>
                  <a:srgbClr val="000000"/>
                </a:solidFill>
                <a:latin typeface="Symbol"/>
                <a:ea typeface="Symbol"/>
              </a:rPr>
              <a:t></a:t>
            </a: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 if z is the next character in the inp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R(1)-parse tables are very b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0E8-977F-442C-9336-1AF46BB04F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DFA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65320" y="1693800"/>
            <a:ext cx="7078680" cy="364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59480" y="5965920"/>
            <a:ext cx="70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0520" y="1897200"/>
            <a:ext cx="1250640" cy="31114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’ ::= 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V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V ::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*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F89-1B7D-4B5D-8AAE-B33E7431DC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99"/>
                </a:solidFill>
                <a:latin typeface="Arial Black"/>
              </a:rPr>
              <a:t>LR(1)-parse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4000" y="1484280"/>
          <a:ext cx="8569080" cy="4064040"/>
        </p:xfrm>
        <a:graphic>
          <a:graphicData uri="http://schemas.openxmlformats.org/drawingml/2006/table">
            <a:tbl>
              <a:tblPr/>
              <a:tblGrid>
                <a:gridCol w="536400"/>
                <a:gridCol w="534960"/>
                <a:gridCol w="534960"/>
                <a:gridCol w="534960"/>
                <a:gridCol w="536760"/>
                <a:gridCol w="534960"/>
                <a:gridCol w="536400"/>
                <a:gridCol w="536760"/>
                <a:gridCol w="533520"/>
                <a:gridCol w="536400"/>
                <a:gridCol w="534960"/>
                <a:gridCol w="536760"/>
                <a:gridCol w="534960"/>
                <a:gridCol w="534960"/>
                <a:gridCol w="534960"/>
                <a:gridCol w="536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98A-ECF4-41FC-84B7-6FF1AEB471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2Z</dcterms:modified>
  <cp:revision>268</cp:revision>
  <dc:subject/>
  <dc:title>Slide 1</dc:title>
</cp:coreProperties>
</file>