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90B-9D9C-4305-9452-B5DF0785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495-5B3B-4B91-B813-F7067A6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723-C9BD-4255-9449-71688995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8E3-9EE3-4081-B808-46A00B38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7E9-A2CB-493B-A4D4-4AEDC40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D80-BE41-4E5B-9EE7-05A5F6F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CE8-F481-4DB8-A997-5C39040C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01C-BC60-4316-BAB4-99A1543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433-FB50-473D-ABE0-C4CB003D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79B-4605-47F9-9553-443CC71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120-0F10-4CED-AB8E-D6AF2D7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D37-751A-4713-8511-26A5D6A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7F6-E49E-49A0-B901-954390A9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92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4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R Parsing --- PART I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858-78B6-4F77-9914-E9C8F36FDE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新細明體"/>
              </a:rPr>
              <a:t>Q: How do we know when to shift and when to reduce? A: Build a FSA from LR(0) Ite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" y="1471680"/>
            <a:ext cx="3200400" cy="2308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 $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|  (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1523880"/>
            <a:ext cx="4191120" cy="4008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47640" y="5518080"/>
            <a:ext cx="350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R(0) items indicate what is on the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to the lef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 and what is stil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the input stream 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right of the </a:t>
            </a:r>
            <a:r>
              <a:rPr b="0" lang="en-US" sz="1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新細明體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2600" y="3962520"/>
            <a:ext cx="2399760" cy="256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 production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s an LR(0)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D1F-CC40-4239-AA63-63F27BD3AE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Key idea behind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current state” contains the i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and the current symbol in the input buffer 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shift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next state will contain A ::=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c •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::=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perform a reduc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“state” contains the item S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$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 input buffer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the state prompts parser to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ut How about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re X is a nonterm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0DB-D396-4236-987B-27B5A4FF98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NFA for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新細明體"/>
              </a:rPr>
              <a:t>The transition of LR(0) items can be represented by an NFA, in 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1. each LR(0) item is a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2. there is a 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c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to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c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with label c, where c is a terminal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3. there is a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-transition from item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• X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 to X ::= •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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where X is a non-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4. S ::= • A $ is the star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5. A ::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新細明體"/>
              </a:rPr>
              <a:t> • is a final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37E-B349-4399-B3FA-C20F328C6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 NFA for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" y="1728720"/>
            <a:ext cx="8458200" cy="14922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$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::= 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• $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A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 (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)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)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::= ( )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06440" y="3429000"/>
            <a:ext cx="8259480" cy="3008160"/>
            <a:chOff x="406440" y="3429000"/>
            <a:chExt cx="8259480" cy="3008160"/>
          </a:xfrm>
        </p:grpSpPr>
        <p:sp>
          <p:nvSpPr>
            <p:cNvPr id="120" name=""/>
            <p:cNvSpPr/>
            <p:nvPr/>
          </p:nvSpPr>
          <p:spPr>
            <a:xfrm>
              <a:off x="61880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734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35760" y="3832200"/>
              <a:ext cx="1904400" cy="4143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73440" y="3832200"/>
              <a:ext cx="1904760" cy="414360"/>
            </a:xfrm>
            <a:prstGeom prst="rect">
              <a:avLst/>
            </a:prstGeom>
            <a:solidFill>
              <a:srgbClr val="009999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8840" y="3832200"/>
              <a:ext cx="1904760" cy="4143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$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58840" y="6021360"/>
              <a:ext cx="1904760" cy="415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 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11720" y="6021360"/>
              <a:ext cx="1904760" cy="41580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 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9712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(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8840" y="4819320"/>
              <a:ext cx="1904760" cy="41616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::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124" idx="1"/>
              <a:endCxn id="125" idx="1"/>
            </p:cNvCxnSpPr>
            <p:nvPr/>
          </p:nvCxnSpPr>
          <p:spPr>
            <a:xfrm flipH="1" flipV="1" rot="10800000">
              <a:off x="1144080" y="4037400"/>
              <a:ext cx="2160" cy="2191320"/>
            </a:xfrm>
            <a:prstGeom prst="curvedConnector5">
              <a:avLst>
                <a:gd name="adj1" fmla="val -41000000"/>
                <a:gd name="adj2" fmla="val 50000"/>
                <a:gd name="adj3" fmla="val -410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1"/>
              <a:endCxn id="128" idx="1"/>
            </p:cNvCxnSpPr>
            <p:nvPr/>
          </p:nvCxnSpPr>
          <p:spPr>
            <a:xfrm flipH="1" flipV="1" rot="10800000">
              <a:off x="1144080" y="4037040"/>
              <a:ext cx="2160" cy="989280"/>
            </a:xfrm>
            <a:prstGeom prst="curvedConnector5">
              <a:avLst>
                <a:gd name="adj1" fmla="val -13500000"/>
                <a:gd name="adj2" fmla="val 49981"/>
                <a:gd name="adj3" fmla="val -135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4" idx="3"/>
              <a:endCxn id="123" idx="1"/>
            </p:cNvCxnSpPr>
            <p:nvPr/>
          </p:nvCxnSpPr>
          <p:spPr>
            <a:xfrm>
              <a:off x="3078000" y="4038120"/>
              <a:ext cx="576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2" name=""/>
            <p:cNvCxnSpPr>
              <a:stCxn id="128" idx="3"/>
              <a:endCxn id="127" idx="1"/>
            </p:cNvCxnSpPr>
            <p:nvPr/>
          </p:nvCxnSpPr>
          <p:spPr>
            <a:xfrm>
              <a:off x="3078000" y="5027040"/>
              <a:ext cx="50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3" name=""/>
            <p:cNvCxnSpPr>
              <a:stCxn id="127" idx="3"/>
              <a:endCxn id="120" idx="1"/>
            </p:cNvCxnSpPr>
            <p:nvPr/>
          </p:nvCxnSpPr>
          <p:spPr>
            <a:xfrm>
              <a:off x="5516640" y="5027040"/>
              <a:ext cx="6573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4" name=""/>
            <p:cNvCxnSpPr>
              <a:stCxn id="125" idx="3"/>
              <a:endCxn id="121" idx="1"/>
            </p:cNvCxnSpPr>
            <p:nvPr/>
          </p:nvCxnSpPr>
          <p:spPr>
            <a:xfrm>
              <a:off x="3077640" y="6228720"/>
              <a:ext cx="5814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5" name=""/>
            <p:cNvCxnSpPr>
              <a:stCxn id="120" idx="3"/>
              <a:endCxn id="122" idx="3"/>
            </p:cNvCxnSpPr>
            <p:nvPr/>
          </p:nvCxnSpPr>
          <p:spPr>
            <a:xfrm flipH="1" flipV="1">
              <a:off x="7958880" y="4038120"/>
              <a:ext cx="147960" cy="989280"/>
            </a:xfrm>
            <a:prstGeom prst="curvedConnector5">
              <a:avLst>
                <a:gd name="adj1" fmla="val -145121"/>
                <a:gd name="adj2" fmla="val 49981"/>
                <a:gd name="adj3" fmla="val -145121"/>
              </a:avLst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6" name=""/>
            <p:cNvCxnSpPr>
              <a:stCxn id="121" idx="3"/>
              <a:endCxn id="126" idx="1"/>
            </p:cNvCxnSpPr>
            <p:nvPr/>
          </p:nvCxnSpPr>
          <p:spPr>
            <a:xfrm>
              <a:off x="5592600" y="6228720"/>
              <a:ext cx="500400" cy="10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137" name=""/>
            <p:cNvCxnSpPr>
              <a:stCxn id="127" idx="2"/>
              <a:endCxn id="125" idx="0"/>
            </p:cNvCxnSpPr>
            <p:nvPr/>
          </p:nvCxnSpPr>
          <p:spPr>
            <a:xfrm rot="5400000">
              <a:off x="2953440" y="4410000"/>
              <a:ext cx="753480" cy="2438640"/>
            </a:xfrm>
            <a:prstGeom prst="bentConnector3">
              <a:avLst>
                <a:gd name="adj1" fmla="val 47466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27" idx="0"/>
              <a:endCxn id="128" idx="0"/>
            </p:cNvCxnSpPr>
            <p:nvPr/>
          </p:nvCxnSpPr>
          <p:spPr>
            <a:xfrm rot="5400000">
              <a:off x="3328920" y="3584520"/>
              <a:ext cx="2520" cy="2438640"/>
            </a:xfrm>
            <a:prstGeom prst="curvedConnector5">
              <a:avLst>
                <a:gd name="adj1" fmla="val -23800000"/>
                <a:gd name="adj2" fmla="val 49992"/>
                <a:gd name="adj3" fmla="val -23800000"/>
              </a:avLst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12588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64160" y="4417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25160" y="450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5160" y="567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6080" y="5584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2960" y="4236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ff0000"/>
                  </a:solidFill>
                  <a:latin typeface="Arial"/>
                  <a:ea typeface="新細明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2520" y="4232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49560" y="51307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0320" y="42750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6A5-11B2-4EDD-9D35-C5B7EFAC3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The DFA from LR(0)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6040" y="1114200"/>
            <a:ext cx="8229600" cy="270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fter the NFA for LR(0) is constructed, the resulting DFA for LR(0) parsing can be obtained by the usual NFA2DFA co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e thus requ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-closure (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move(S, 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868560"/>
            <a:ext cx="8229600" cy="25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xed Point Algorithm for 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very ite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lso an item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•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s in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an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an item,  then add B ::=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new items can be added 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lo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65E-D398-41D8-BD46-F6C86E732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9440" y="1447920"/>
            <a:ext cx="5181480" cy="2087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::=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583160"/>
            <a:ext cx="38102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2400" y="458316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34040" y="458316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3821040"/>
            <a:ext cx="4435200" cy="2595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losure(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 ::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73920" y="1708200"/>
            <a:ext cx="290484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CA8-BDD5-49C8-BA37-4F575A28E2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Goto() of a set of item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 finds the new state after consuming a grammar symbol while in the curren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lgorithm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whe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set of i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a non-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720" y="4191120"/>
            <a:ext cx="889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oto(I, X) = Closure(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X •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::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•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525780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is the new set obtained by “moving the dot” ove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703-9CA9-4387-8B6A-733E8948C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9440" y="152280"/>
            <a:ext cx="83818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Examples of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944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•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7360" y="2209680"/>
            <a:ext cx="2895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2960" y="2209680"/>
            <a:ext cx="3809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   (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2209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26492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960" y="3692520"/>
            <a:ext cx="468792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Goto (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 •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4454640"/>
            <a:ext cx="3809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812880" y="4378320"/>
            <a:ext cx="3885840" cy="685800"/>
            <a:chOff x="812880" y="4378320"/>
            <a:chExt cx="3885840" cy="685800"/>
          </a:xfrm>
        </p:grpSpPr>
        <p:sp>
          <p:nvSpPr>
            <p:cNvPr id="175" name=""/>
            <p:cNvSpPr/>
            <p:nvPr/>
          </p:nvSpPr>
          <p:spPr>
            <a:xfrm>
              <a:off x="81288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393440" y="4378320"/>
              <a:ext cx="304920" cy="68580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38760" y="1812960"/>
            <a:ext cx="2905200" cy="4008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 • A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S ::= A • 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•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•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A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•  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•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(      )  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97C-CF72-4F31-A8C2-957F4FAA3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74320" y="1306440"/>
            <a:ext cx="853452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ssentially the usual NFA2DFA constructio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et A be the start symbol and S a new start symb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a new rule S ::= A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reate the first state to be Closure({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$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ick a st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r each item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ind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is not already a state, mak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dd an edge X from st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to Go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I, 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eat until no more addition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the DFA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DB4-A0FC-42F1-85A0-C0D3BEC4CD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228600"/>
            <a:ext cx="838224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DFA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9120" y="253044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360" y="223344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43200" y="21067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000" y="180972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H="1" flipV="1" rot="5400000">
            <a:off x="2433240" y="132012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03560" y="19414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7240" y="2741760"/>
            <a:ext cx="1981080" cy="11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5680" y="244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2438280" y="2952360"/>
            <a:ext cx="1115280" cy="353160"/>
          </a:xfrm>
          <a:prstGeom prst="curvedConnector5">
            <a:avLst>
              <a:gd name="adj1" fmla="val 49983"/>
              <a:gd name="adj2" fmla="val 50000"/>
              <a:gd name="adj3" fmla="val 4998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2653920" y="3024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19920" y="3446640"/>
            <a:ext cx="1905120" cy="35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endCxn id="191" idx="1"/>
          </p:cNvCxnSpPr>
          <p:nvPr/>
        </p:nvCxnSpPr>
        <p:spPr>
          <a:xfrm flipV="1">
            <a:off x="5548320" y="3622320"/>
            <a:ext cx="1357920" cy="248400"/>
          </a:xfrm>
          <a:prstGeom prst="curvedConnector5">
            <a:avLst>
              <a:gd name="adj1" fmla="val 50517"/>
              <a:gd name="adj2" fmla="val 49927"/>
              <a:gd name="adj3" fmla="val 50517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234120" y="36669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44680" y="30942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/>
          <p:nvPr/>
        </p:nvCxnSpPr>
        <p:spPr>
          <a:xfrm flipH="1" rot="16200000">
            <a:off x="5273640" y="301716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6006960" y="2670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7240" y="450540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7" idx="0"/>
          </p:cNvCxnSpPr>
          <p:nvPr/>
        </p:nvCxnSpPr>
        <p:spPr>
          <a:xfrm rot="5400000">
            <a:off x="4233960" y="416772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4870080" y="3940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19920" y="450540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endCxn id="201" idx="0"/>
          </p:cNvCxnSpPr>
          <p:nvPr/>
        </p:nvCxnSpPr>
        <p:spPr>
          <a:xfrm flipV="1" rot="10800000">
            <a:off x="7871760" y="381276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835760" y="3870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4680" y="41529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8AB-8B12-4400-84C7-6177476267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ut wait! What if there are conflicts in the predictive parsing table?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1132560" y="1201680"/>
            <a:ext cx="1689480" cy="22885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7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d | X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 ::= c 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X ::= Y |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35920" y="172260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60880" y="1611360"/>
            <a:ext cx="4038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2760" y="125568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FIRST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8160" y="1676520"/>
            <a:ext cx="718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37960" y="1676520"/>
            <a:ext cx="104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 ,a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5520" y="1676520"/>
            <a:ext cx="11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d,a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c, a,d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9360" y="4952880"/>
            <a:ext cx="3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800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46640" y="43797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                           c                                  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9960" y="4876920"/>
            <a:ext cx="228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a, 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5600" y="4876920"/>
            <a:ext cx="2027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, Y ::= c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6360" y="4876920"/>
            <a:ext cx="261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S ::= X Y S, S ::= d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Y ::= 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X ::= Y 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533412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4800600"/>
            <a:ext cx="28954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438280" cy="6858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1120" y="3854520"/>
            <a:ext cx="58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 resulting “predictive” table is not so predictiv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E6D-3747-411C-AEB4-79DD149134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5120" y="4335480"/>
            <a:ext cx="1905120" cy="846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0360" y="40384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19560" y="3911760"/>
            <a:ext cx="190476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68000" y="361476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flipH="1" flipV="1" rot="5400000">
            <a:off x="2109240" y="3125160"/>
            <a:ext cx="234000" cy="21582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879920" y="374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3240" y="4546440"/>
            <a:ext cx="1981080" cy="1128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::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92040" y="42498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114280" y="4757400"/>
            <a:ext cx="1114920" cy="353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330280" y="48290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95920" y="525132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endCxn id="216" idx="1"/>
          </p:cNvCxnSpPr>
          <p:nvPr/>
        </p:nvCxnSpPr>
        <p:spPr>
          <a:xfrm flipV="1">
            <a:off x="5223960" y="5427360"/>
            <a:ext cx="1358280" cy="248400"/>
          </a:xfrm>
          <a:prstGeom prst="curvedConnector5">
            <a:avLst>
              <a:gd name="adj1" fmla="val 50503"/>
              <a:gd name="adj2" fmla="val 49927"/>
              <a:gd name="adj3" fmla="val 50503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910480" y="54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21040" y="489888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/>
          <p:nvPr/>
        </p:nvCxnSpPr>
        <p:spPr>
          <a:xfrm flipH="1" rot="16200000">
            <a:off x="4949640" y="4822200"/>
            <a:ext cx="564120" cy="15120"/>
          </a:xfrm>
          <a:prstGeom prst="curvedConnector5">
            <a:avLst>
              <a:gd name="adj1" fmla="val -21839"/>
              <a:gd name="adj2" fmla="val 2787804"/>
              <a:gd name="adj3" fmla="val -21839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682960" y="44751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324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 ( 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endCxn id="222" idx="0"/>
          </p:cNvCxnSpPr>
          <p:nvPr/>
        </p:nvCxnSpPr>
        <p:spPr>
          <a:xfrm rot="5400000">
            <a:off x="3910320" y="5972760"/>
            <a:ext cx="60876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46440" y="57452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800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95920" y="6310440"/>
            <a:ext cx="1905120" cy="35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"/>
          <p:cNvCxnSpPr>
            <a:endCxn id="226" idx="0"/>
          </p:cNvCxnSpPr>
          <p:nvPr/>
        </p:nvCxnSpPr>
        <p:spPr>
          <a:xfrm flipV="1" rot="10800000">
            <a:off x="7547760" y="5617800"/>
            <a:ext cx="1080" cy="678600"/>
          </a:xfrm>
          <a:prstGeom prst="curvedConnector2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11760" y="5675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21040" y="5958000"/>
            <a:ext cx="4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s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Creating the Parse Table(s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25520" y="1084320"/>
          <a:ext cx="7112160" cy="250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1084320"/>
                    <a:ext cx="7112160" cy="2508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-17640" y="1484280"/>
            <a:ext cx="2087640" cy="2050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60B-88AB-45AD-8126-8B23855FFB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arsing with an LR Tab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316080" y="1333440"/>
            <a:ext cx="8629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table and top-of-stack and input symbol to get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action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ift sn  : advance input one tok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sn on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duce X ::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: pop stack 2* |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| times (grammar symb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re paired with states).  In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w on top of stac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se goto table to get nex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tate s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sh it on top of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cept : stop and 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rror : weep (actually, produce a goo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ess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BC2-773D-4C19-8E08-C2696DE9A5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763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Building Parse Tabl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  <a:ea typeface="新細明體"/>
              </a:rPr>
              <a:t>Parsing, again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86000" y="990720"/>
          <a:ext cx="7112160" cy="27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990720"/>
                    <a:ext cx="7112160" cy="273204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6040" y="4010040"/>
            <a:ext cx="6136560" cy="2837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                                  (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                            ())$                           shift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                       ))$                          shift 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( s2 ) s5                  )$                           reduce A ::=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                           )$                            go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                      )$                            shift 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( s2 A s3 ) s4                 $                            reduce A::=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                                   $                            goto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0 A s1                               $                            ACCEP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287360"/>
            <a:ext cx="2087640" cy="2051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Black"/>
                <a:ea typeface="新細明體"/>
              </a:rPr>
              <a:t>(G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S  ::= A$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A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Black"/>
                <a:ea typeface="新細明體"/>
              </a:rPr>
              <a:t>A ::=  (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2AB-0E10-4FAB-99B1-95B47072A5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R Parsing Algorith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28480" y="2200320"/>
          <a:ext cx="1265400" cy="4657680"/>
        </p:xfrm>
        <a:graphic>
          <a:graphicData uri="http://schemas.openxmlformats.org/drawingml/2006/table">
            <a:tbl>
              <a:tblPr/>
              <a:tblGrid>
                <a:gridCol w="12654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3271680" y="1125360"/>
          <a:ext cx="3774960" cy="517680"/>
        </p:xfrm>
        <a:graphic>
          <a:graphicData uri="http://schemas.openxmlformats.org/drawingml/2006/table">
            <a:tbl>
              <a:tblPr/>
              <a:tblGrid>
                <a:gridCol w="628560"/>
                <a:gridCol w="630360"/>
                <a:gridCol w="628560"/>
                <a:gridCol w="628560"/>
                <a:gridCol w="630360"/>
                <a:gridCol w="628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954160" y="4343400"/>
          <a:ext cx="4596120" cy="2138040"/>
        </p:xfrm>
        <a:graphic>
          <a:graphicData uri="http://schemas.openxmlformats.org/drawingml/2006/table">
            <a:tbl>
              <a:tblPr/>
              <a:tblGrid>
                <a:gridCol w="2298960"/>
                <a:gridCol w="2297160"/>
              </a:tblGrid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ction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rminals and 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four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oto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n-term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 each item 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           a sta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          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3305160" y="5105520"/>
            <a:ext cx="14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516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27520" y="5105520"/>
            <a:ext cx="14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2752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587760" y="2438280"/>
          <a:ext cx="2695680" cy="1211400"/>
        </p:xfrm>
        <a:graphic>
          <a:graphicData uri="http://schemas.openxmlformats.org/drawingml/2006/table">
            <a:tbl>
              <a:tblPr/>
              <a:tblGrid>
                <a:gridCol w="2695680"/>
              </a:tblGrid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 Parsing Algorit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99760" y="1189080"/>
            <a:ext cx="19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ck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tat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grammar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91080" y="11444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43360" y="275112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1898640" y="2549160"/>
            <a:ext cx="1689120" cy="42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010040" y="3657600"/>
            <a:ext cx="8431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3160" y="36576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924440" y="1752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30960" y="3048120"/>
            <a:ext cx="1125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BFC-8959-4F71-8A89-F251B3C6D0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L(1), LL(k), LR(0), LR(1),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(k) : (L)eft-to-right parse, (L)eft-most derivation, k-symbol lookahead.  Based on looking at the next k tokens, an LL(k) parser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ext production. We have been looking at LL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R(k) : (L)eft-to-right parse, (R)ight-most derivation, k-symbol lookahead. Postpone production selection unti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ent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-hand-side has been seen (and as many as k symbols beyond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LR(1) : A special subclass of LR(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D61-F9A0-487A-9156-0072139F2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World M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5962680" cy="4962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26160" y="6151680"/>
            <a:ext cx="70754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3840" y="2819520"/>
            <a:ext cx="22824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Most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nguage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s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880-0910-4387-9D15-BA97A542C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825280" y="1308240"/>
            <a:ext cx="32806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; S | ID = E 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+ E 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66440" y="4308480"/>
            <a:ext cx="6221880" cy="2014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S SEMI S | ID EQUAL E | PRINT LPAREN L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NUM | E PLUS E | LPAREN S COMMA E RPA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| L COMMA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6320" y="3927600"/>
            <a:ext cx="60559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consistent, I should write the following, but I won’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7BD-495C-4259-BCB8-AC4CB994AE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Right-most derivatio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25520" y="1295280"/>
            <a:ext cx="1558440" cy="36601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S, 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L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1066680"/>
            <a:ext cx="5105520" cy="76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+ (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c + ( d = 5 + 6, 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UM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; b = c + ( d = 5 + 6,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ID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D7E-23F6-4718-9B42-F7E83940CD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turn it upside down 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1976400" y="988920"/>
            <a:ext cx="480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NUM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= E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ID + ( d = 5 + 6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NUM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NUM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 + E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ID = E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I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A1A-A84B-4D6F-9B79-EE5D9665D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ow, slice it down the middle…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149400" y="1000080"/>
            <a:ext cx="31240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D =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( S,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 +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ID =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 ; 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84640" y="1023840"/>
            <a:ext cx="5276880" cy="456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a = 7 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7 ; b = c + ( d = 5 + 6, d )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; b = c 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c + ( d = 5 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( d 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= 5 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+ 6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, 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3440" y="5813280"/>
            <a:ext cx="2681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tack of terminal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n-ter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4480" y="5533920"/>
            <a:ext cx="2911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rest of the input st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63440" y="12636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481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69848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382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63440" y="21668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63440" y="234792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163440" y="255420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63440" y="2759040"/>
            <a:ext cx="930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-581040" y="29538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-352440" y="31824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-123840" y="3411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04760" y="36396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-139680" y="382284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-384120" y="400500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606600" y="42350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-514440" y="446220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-378000" y="44636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-149400" y="469224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-347760" y="4909680"/>
            <a:ext cx="1006020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0" y="5081760"/>
            <a:ext cx="1005984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0" y="5284440"/>
            <a:ext cx="100598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D06-C323-4F68-932C-5F08CD7616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w, add some actions. s = SHIFT, r = REDUC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3124080" cy="617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D =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( S, 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ID =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 ; 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914400"/>
            <a:ext cx="3657600" cy="61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7 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; b = c 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c + ( d = 5 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( d 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= 5 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+ 6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, d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914400"/>
            <a:ext cx="2362320" cy="72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+E, s,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::=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, r E ::= (S, 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E ::= E +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ID =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 S ::= S ;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240" y="6481800"/>
            <a:ext cx="1153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320" y="5950080"/>
            <a:ext cx="5164200" cy="717480"/>
          </a:xfrm>
          <a:prstGeom prst="leftArrow">
            <a:avLst>
              <a:gd name="adj1" fmla="val 50000"/>
              <a:gd name="adj2" fmla="val 179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HIFT = LEX + move token t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8E3-D0B5-4588-9AC5-3FF6E34F3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9T13:21:26Z</dcterms:modified>
  <cp:revision>269</cp:revision>
  <dc:subject/>
  <dc:title>Slide 1</dc:title>
</cp:coreProperties>
</file>