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5FF1-2BFE-42F5-B8AB-2BE44EA09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BB17-40FA-446E-BE6E-1E4AE8658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A4E-2CD7-4D65-8ADC-112698ED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953-48CE-44EF-B4C8-85CFA20B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D7E-DEBD-42A6-8B2D-5633748A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3A8-DEE3-4A41-9352-412510C1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CC5-D144-46EE-9DB5-5CB42F13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34E-7B47-483B-89FD-2B0ACA9A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099-55A1-4485-B3B1-D2B0E664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3B3-5039-422B-AB94-0E2AE666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79A-2FE1-441C-9056-9B3BCBC8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D920-B136-47D6-BACB-A910ED28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087-37C2-4557-A032-C7DF03DC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2AE-377C-4593-A460-E7BF1B6B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84C5-F11B-4C82-A970-A5B008537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9640"/>
            <a:ext cx="7772400" cy="2291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 03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text Free Gramma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redictive Parsing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668-DA5D-41A3-A186-7E8FC60D59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write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1488960" y="1371600"/>
            <a:ext cx="5050080" cy="1580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= WE | N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|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blah-blah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  ::=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WE </a:t>
            </a:r>
            <a:r>
              <a:rPr b="1" lang="en-US" sz="1800" spc="-1" strike="noStrike">
                <a:solidFill>
                  <a:srgbClr val="333399"/>
                </a:solidFill>
                <a:latin typeface="Arial Black"/>
              </a:rPr>
              <a:t>else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720" y="48006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53520" y="48006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55120" y="48006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1722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640" y="61722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93200" y="61722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4184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26760" y="61722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560800" y="61722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343040" y="43434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486040" y="43434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486400" y="43434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257800" y="44197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010280" y="56386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010280" y="56386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7009920" y="56386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57150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34120" y="56386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095880" y="57150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31800" y="32767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57800" y="36576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39360" y="4038480"/>
            <a:ext cx="480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781680" y="50292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56040" y="4724280"/>
            <a:ext cx="305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662880" y="5334120"/>
            <a:ext cx="52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5440" y="3200400"/>
            <a:ext cx="353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w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as a unique deriv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9280" y="601992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3) = L(G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F7C-D998-484A-BD32-4250C4F9DE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un Fac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47600" y="3274920"/>
                <a:ext cx="85345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313920" y="1447920"/>
            <a:ext cx="548424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e Hopcroft and Ullman, “Introduction to Autom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ory, Languages, and Comput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7360" y="2209680"/>
            <a:ext cx="70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ome context free languages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herently ambigu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-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-free grammar will be ambiguous.  For examp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55720" y="4483080"/>
            <a:ext cx="59688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2) Checking for ambiguity in an arbitrary context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rammar is not decidabl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32760" y="5614920"/>
            <a:ext cx="66668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3) Given two grammars G1 and G2, checking L(G1) = L(G2)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 decidab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BAF-515F-49D4-8838-8CC0BBFA9A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on vs. Pars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text-Free Grammars (CFGs) and language </a:t>
            </a: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gener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rivation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mbig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the inverse of gener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n an input string, is it in the language generated by a CF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so, construct a derivation tree (normally called a </a:t>
            </a:r>
            <a:r>
              <a:rPr b="0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arse tre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p-down par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ottom-up pa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5E0-3DCC-44B6-AEAA-7EFDF3D12F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edictive (Recursive Descent) Parsing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430920" y="1905120"/>
            <a:ext cx="2472840" cy="28371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if E then S els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begin S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print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 =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 ::=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; S 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53480" y="1905120"/>
            <a:ext cx="5392800" cy="392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int tok = getToke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advance() {tok = getToken();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at (int t) {if (tok == t) advance(); else error();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S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IF:    eat(IF); E(); eat(TH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(); eat(ELSE); S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BEGIN: eat(BEGIN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PRINT: eat(PRINT); E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L() {switch(tok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END:  eat(END); 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se SEMI: eat(SEMI); S(); L(); break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default: error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void E() {eat(NUM) ; eat(EQ); eat(NUM)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0560" y="6568920"/>
            <a:ext cx="53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From Andrew Appel, “Modern Compiler Implementation in Java” page 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95200" y="5791320"/>
            <a:ext cx="4531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corresponds to a 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ed in a “top-down”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5F2-15F2-4231-BE69-8900DCD022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an we automate this?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683360" y="1447920"/>
            <a:ext cx="5494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gin strings derived from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[X] = the set of terminal symbol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mediately follow X in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= true of X can derive the empty st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93960" y="874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X we need to comp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48600" y="4495680"/>
            <a:ext cx="7261200" cy="8240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Z] = false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ullable[Y1 Y2 … Yk] = nullable[Y1] and … nullable[Yk], for Y(i) in N union 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996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92840" y="5334120"/>
            <a:ext cx="6041880" cy="1310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Z] = {Z}, for Z in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 FIRST[X] if not nullable[X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RST[ X Y1 Y2 … Yk] =FIRST[X] union FIRST[Y1 … Yk] otherw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B8F-361B-4278-A6F3-6D0B24BD1A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3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uting First, Follow, and nullable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838800" y="1143000"/>
            <a:ext cx="6612120" cy="55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erminal symbol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Z] := {Z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Z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non-terminal symbo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[X] := FOLLOW[X] := {}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[X] := fal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production X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1 Y2 … 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, … Yk are all nullable, or k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nullable[X] :=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 from 1 to k, each j from i + I to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1 … Y(i-1) are all nullable or 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 FIRST[X] := FIRST[X] union FIRST[Y(i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k are all nullable or if i =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OLLOW[X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(i+1) … Y(j-1) are all nullable or i+1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LLOW[Y(i)] := FOLLOW[Y(i)] union FIRST[Y(j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there is 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89D-EA4C-4853-9AF7-519F26F884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Eliminating Left Recursion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594000" y="236232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47280" y="1143000"/>
            <a:ext cx="36936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cause probl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FIRST(T) will be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IRST(E + T) ---- so how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decide which po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 based on next tok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eliminate “left recursion”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9680" y="5943600"/>
            <a:ext cx="4419720" cy="533520"/>
          </a:xfrm>
          <a:prstGeom prst="rightArrow">
            <a:avLst>
              <a:gd name="adj1" fmla="val 50000"/>
              <a:gd name="adj2" fmla="val 20710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iminate left recu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1740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 rot="2332800">
            <a:off x="10186560" y="213948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E8E5-1789-4FE2-A401-22B62C923B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-1.57361 -0.32176 E">
                                      <p:cBhvr>
                                        <p:cTn id="41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irst, Follow, nullable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2286000"/>
            <a:ext cx="6095880" cy="3429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7480" y="2406600"/>
            <a:ext cx="40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66960" y="186516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able                    FIRST                     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45160" y="2438280"/>
            <a:ext cx="73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67600" y="2438280"/>
            <a:ext cx="1541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+, -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*, 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(, ID, NUM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75480" y="2438280"/>
            <a:ext cx="1666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), *, /, +, -, $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22196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82F3-692F-4878-B98F-54341401B6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redictive Parsing Table for G6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3124080"/>
            <a:ext cx="8610480" cy="2438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4680" y="3124080"/>
            <a:ext cx="35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35400" y="2666880"/>
            <a:ext cx="64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+                *                 (                 )            ID           NUM       $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26840" y="3124080"/>
            <a:ext cx="1020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20320" y="3124080"/>
            <a:ext cx="1055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 * F T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99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(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87160" y="312408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85280" y="3124080"/>
            <a:ext cx="842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74720" y="3124080"/>
            <a:ext cx="990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S ::= E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87560" y="3200400"/>
            <a:ext cx="598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E’ ::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T’ ::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3880" y="114300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[ X, T ] = Set of produ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61760" y="1523880"/>
            <a:ext cx="53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:= Y1…Yk   in Table[ X, T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 in FIRST[Y1 … Yk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if (T in FOLLOW[X] and nullable[Y1 … Yk]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02680" y="1219320"/>
            <a:ext cx="2059920" cy="1006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NOTE: this cou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lead to more th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ne entry! If so,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of luck --- can’t 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Black"/>
              </a:rPr>
              <a:t>recursive descent pars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33880" y="60562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ries for /, - are similar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128-8E8F-488F-A126-0676BABD46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ft-most derivation is constructe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by recursive descent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2738520" y="144792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0280" y="1295280"/>
            <a:ext cx="1427400" cy="50317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’ ::= +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– T 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’ ::= *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/ F 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898360" y="99072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most 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60560" y="1332000"/>
            <a:ext cx="22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‘(‘ call T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l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126-56AF-4FAE-B2F1-F988C1C77A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44480" y="1371600"/>
            <a:ext cx="1284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*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/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– 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09480" y="5791320"/>
            <a:ext cx="5807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ID |  NUM | 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57120" y="5410080"/>
            <a:ext cx="2741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will write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6560" y="2057400"/>
            <a:ext cx="40377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is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non-terminal symbol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 and NUM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lexica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*, (, ), +, and – are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rminal symbols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 ::= E + E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production rule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E7C-9F69-428F-8694-2D94904232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As a stack machine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605160" y="1155600"/>
            <a:ext cx="296964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1371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9240" y="1197000"/>
            <a:ext cx="2725920" cy="49611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T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  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    E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       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                     E’ )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    T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           F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T’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               E’ )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                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             F T’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T’ E’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       E’$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611F-B7C2-4A99-9C4D-68D16DB0E5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952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FG Derivat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264320" y="76212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320" y="403848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1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+ E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0256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7740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980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016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2556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8856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7892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40680" y="4343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75080" y="4343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02920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24852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01992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006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1148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0292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77400" y="32004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9548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19720" y="3124080"/>
            <a:ext cx="2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394400" y="28195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708600" y="28195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7623000" y="281916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692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980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148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0292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006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5976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91800" y="37339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708600" y="358128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7623000" y="358092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94400" y="35809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91080" y="3809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42480" y="3733920"/>
            <a:ext cx="3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625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9132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81880" y="41144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1219320"/>
            <a:ext cx="2451600" cy="2527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E *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E –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 * 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– 10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E +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) * (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 Black"/>
              </a:rPr>
              <a:t>E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+ 4 ) * ( 2 – E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( 17 + 4 ) * ( 2 – 1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51960" y="537840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Derivation Tre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 17 + 4 ) * (2 – 1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95800" y="1295280"/>
            <a:ext cx="14090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igh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30200" y="4191120"/>
            <a:ext cx="1270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Leftm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r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A78-F091-4000-93DB-DD50B72127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ore formally, 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 CFG is a quadruple 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non-terminal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 is the set of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</a:rPr>
              <a:t>terminal symbols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N and T disj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 is the </a:t>
            </a:r>
            <a:r>
              <a:rPr b="0" i="1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(N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T)*  is a set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Example: The grammar of nested parenthese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 = (N, T, R, S) 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 = {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 ={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={ (S, 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))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, (S, SS), (S, ) }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4040" y="5715000"/>
            <a:ext cx="21834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S ::= (S) | SS 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83040" y="5751360"/>
            <a:ext cx="29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normally write R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C256-C540-44A7-8860-E44FA39A1C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erivations, more formally…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art from start symbol (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ductions are used to derive a sequence of tokens from the start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arbitrary strings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comprised of both terminal and non-terminal symbols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d a production A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single step of derivation is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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.e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, substitute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for an occurrence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0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means that b can be derived from a in 1 or more singl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C25-6325-4FBB-99C4-485BD2495B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L(G) = The Language Generated by Grammar 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95280" y="2971800"/>
                <a:ext cx="5791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⇒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101600" y="1905120"/>
            <a:ext cx="67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 language generated by G is the set of all terminal str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rivable from the start symbol 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6760" y="4419720"/>
            <a:ext cx="57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or any subset W of T*, if there exists a CFG G s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at L(G) = W, then W is called a Context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anguage (CFL) over 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B85-8025-4748-BAEF-BAD991DFDB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77848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53320" y="24382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5916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5720" y="243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6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5448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05120" y="213372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123720" y="2133720"/>
            <a:ext cx="99396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89548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47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7356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90360" y="274320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67652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67000" y="2971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380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6688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54680" y="304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267080" y="28191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3800" y="1752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6448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67600" y="2438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69080" y="2971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409720" y="2133720"/>
            <a:ext cx="83844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629400" y="213372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00800" y="2133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18148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5400" y="23623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219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50720" y="3505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10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69800" y="289548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86600" y="274320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8001000" y="2742840"/>
            <a:ext cx="53352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772400" y="27428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6320" y="29718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763120" y="32763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10520" y="4038480"/>
            <a:ext cx="5735880" cy="1130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Both derivation trees correspond to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6200" y="5562720"/>
            <a:ext cx="646128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his type of ambiguity will cause problems when we tr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o from strings to derivation tre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2040" y="1066680"/>
            <a:ext cx="69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1)   E ::= ID |  NUM |  ID | E * E |  E / E  |  E + E  |  E – E | 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0051-7AA2-44F8-9694-E99EF585D6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Solution: Modify the Grammar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289440" y="1752480"/>
            <a:ext cx="1269000" cy="3934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G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 :: = E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 ::= E +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E –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 ::= T *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T /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 ::=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| ( E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6760" y="1676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780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24600" y="2286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240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343400" y="2057400"/>
            <a:ext cx="83808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562720" y="2057400"/>
            <a:ext cx="9936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34120" y="2057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1480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88360" y="228600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8368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73960" y="2819520"/>
            <a:ext cx="30708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00240" y="281952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19560" y="266688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933960" y="2666520"/>
            <a:ext cx="53316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705720" y="2666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79280" y="28954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672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696080" y="320004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71440" y="3429000"/>
            <a:ext cx="29952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867280" y="380952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1800" y="4876920"/>
            <a:ext cx="3568680" cy="1435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is is the </a:t>
            </a:r>
            <a:r>
              <a:rPr b="0" i="1" lang="en-US" sz="2000" spc="-1" strike="noStrike" u="sng">
                <a:solidFill>
                  <a:srgbClr val="333399"/>
                </a:solidFill>
                <a:uFillTx/>
                <a:latin typeface="Arial Black"/>
              </a:rPr>
              <a:t>unique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der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ree for the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1 + 2 * 3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1920" y="6178680"/>
            <a:ext cx="2347920" cy="64260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te: L(G1) = L(G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you prove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5720" y="2590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pre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4280" y="37339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8320" y="48006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12960" y="19414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rt, $ = E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17480" y="1066680"/>
            <a:ext cx="305640" cy="3682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334120" y="1447560"/>
            <a:ext cx="0" cy="2286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4F6-6ECB-43CF-B312-3BB54E677A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amously Ambiguou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1168200" y="1447920"/>
            <a:ext cx="645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(G3)  S ::= if E then S else S  |   if E then S |  blah-bla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21200" y="2209680"/>
            <a:ext cx="400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at do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e1 then if e2 then s1 else s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ea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1700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20" y="487692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38720" y="48769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40320" y="487692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1240" y="487692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1664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0084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7840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270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11960" y="571500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4600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28240" y="441972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1371240" y="441972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371600" y="441972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14300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895480" y="5181480"/>
            <a:ext cx="45720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5181480"/>
            <a:ext cx="106704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120" y="5181480"/>
            <a:ext cx="1676520" cy="5335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666880" y="525780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219320" y="518148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81080" y="5257800"/>
            <a:ext cx="5335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51120" y="41148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6520" y="495288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10720" y="495288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8280" y="495288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3692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21840" y="4952880"/>
            <a:ext cx="6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56240" y="495288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705720" y="4419360"/>
            <a:ext cx="45720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6705360" y="4419360"/>
            <a:ext cx="106668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705720" y="4419360"/>
            <a:ext cx="1676160" cy="5331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477120" y="4495320"/>
            <a:ext cx="0" cy="3812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9200" y="4419720"/>
            <a:ext cx="129528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791320" y="4495680"/>
            <a:ext cx="53316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23520" y="5715000"/>
            <a:ext cx="3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6320" y="571500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7920" y="5715000"/>
            <a:ext cx="3070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38840" y="5715000"/>
            <a:ext cx="3056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225840" y="5257800"/>
            <a:ext cx="7621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7368840" y="5257800"/>
            <a:ext cx="1219320" cy="4572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7369200" y="5257800"/>
            <a:ext cx="45720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140600" y="5334120"/>
            <a:ext cx="0" cy="3808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72240" y="400680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3A5-F728-4076-9BF8-7DF613D0FE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6T10:43:48Z</dcterms:modified>
  <cp:revision>269</cp:revision>
  <dc:subject/>
  <dc:title>Slide 1</dc:title>
</cp:coreProperties>
</file>