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2E8-E3F5-4244-A190-309EF12C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93D-C0E5-4C6A-A0EA-4ACF48E0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F45-3AA5-482F-831F-D9CF43C6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4C3-FA64-41A1-93B7-FA74EBB1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5BE-D421-4947-9DAF-979E46B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F8D-5A2A-4E81-A72B-7B321F50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E5F-3E3D-4F54-8ECB-9F3DFD63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EA8-E48C-4114-AA30-02F2647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3D3-C630-4448-AA66-3E7EA5E0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832-ED81-4A77-B334-D37121FA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51A-83D8-42E1-87B6-FC5877E8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B51-016C-48AA-A013-8D582531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8DF9-B7B7-4EC8-B190-7A3DFDB06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56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2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xical Analysi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0EA-0B85-477D-B057-EB30D0DA02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38" name=""/>
          <p:cNvSpPr/>
          <p:nvPr/>
        </p:nvSpPr>
        <p:spPr>
          <a:xfrm>
            <a:off x="2920680" y="1600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eyword: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895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6800" y="2895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2666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28954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49880" y="2895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6668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46483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62760" y="46483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44197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464832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26200" y="46483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419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6019920"/>
            <a:ext cx="53352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952880"/>
            <a:ext cx="83808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4952880"/>
            <a:ext cx="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66720" y="4952880"/>
            <a:ext cx="838440" cy="1143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4320" y="5029200"/>
            <a:ext cx="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f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8320" y="54100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{i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26440" y="533412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0040" y="3770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A is really shorthand f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7080" y="6083280"/>
            <a:ext cx="1003320" cy="406440"/>
          </a:xfrm>
          <a:custGeom>
            <a:avLst/>
            <a:gdLst/>
            <a:ahLst/>
            <a:rect l="l" t="t" r="r" b="b"/>
            <a:pathLst>
              <a:path w="632" h="256">
                <a:moveTo>
                  <a:pt x="48" y="104"/>
                </a:moveTo>
                <a:cubicBezTo>
                  <a:pt x="144" y="52"/>
                  <a:pt x="240" y="0"/>
                  <a:pt x="336" y="8"/>
                </a:cubicBezTo>
                <a:cubicBezTo>
                  <a:pt x="432" y="16"/>
                  <a:pt x="632" y="112"/>
                  <a:pt x="624" y="152"/>
                </a:cubicBezTo>
                <a:cubicBezTo>
                  <a:pt x="616" y="192"/>
                  <a:pt x="392" y="240"/>
                  <a:pt x="288" y="248"/>
                </a:cubicBezTo>
                <a:cubicBezTo>
                  <a:pt x="184" y="256"/>
                  <a:pt x="92" y="228"/>
                  <a:pt x="0" y="2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9960" y="60958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93120" y="609588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“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dead sta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489-1E4E-4E33-A390-C036BFE773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308520" y="160020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57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00440" y="18288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90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53520" y="18288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00640" y="16002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3800" y="18288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16600" y="182880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43640" y="16002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16720" y="1752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IF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8520" y="3124080"/>
            <a:ext cx="12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wo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7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00440" y="33526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90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4600" y="33526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00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3800" y="33526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16960" y="33526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43640" y="31240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2240" y="36576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68840" y="3505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EY(th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00640" y="41148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1160" y="36576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69240" y="3962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43640" y="41148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3800" y="434340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760" y="553716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entifi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a-zA-Z][a-zA-Z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4864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54864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57150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9520" y="57150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3600" y="57150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52322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1880" y="49528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95040" y="568944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DF2-79A2-47A7-8457-2EDF8F3F9D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Define Tokens with Regular Expressions (Finite Automata)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1143000"/>
            <a:ext cx="0" cy="525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8880" y="114300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447920"/>
            <a:ext cx="8915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880" y="99072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4680" y="9907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 Au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8240" y="10666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960" y="233676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ber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[0-9][0-9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28600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286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1460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19520" y="25146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63960" y="2514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031840"/>
            <a:ext cx="83844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908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98640" y="2489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320" y="386064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[0-9]+ ‘.’ [0-9]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([0-9]* ‘.’ [0-9]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50292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0384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40384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63960" y="40384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38680" y="355608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98640" y="40132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M(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98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34340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26280" y="3505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7242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402600" y="46483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3240" y="42670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43400"/>
            <a:ext cx="0" cy="16765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60199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8120" y="495288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6286680"/>
            <a:ext cx="1295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63960" y="6286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803920"/>
            <a:ext cx="83844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605808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78560" y="60199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0-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D10-BCD1-4B3A-B2DD-01FB2D7954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 Tokens for “White-Space”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41880" y="320040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hite-spac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‘ ‘ | ‘\n’ | ‘\t’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| ‘%’ [A-Za-z0-9’ ‘]+’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9720" y="2743200"/>
            <a:ext cx="12952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274320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23280" y="27432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260440"/>
            <a:ext cx="838080" cy="105444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53352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048120"/>
            <a:ext cx="0" cy="6094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36480" y="2209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[A-za-z0-9’ 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048120"/>
            <a:ext cx="0" cy="16761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47242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08360" y="30481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4495680"/>
            <a:ext cx="838080" cy="1054080"/>
          </a:xfrm>
          <a:custGeom>
            <a:avLst/>
            <a:gdLst/>
            <a:ahLst/>
            <a:rect l="l" t="t" r="r" b="b"/>
            <a:pathLst>
              <a:path w="528" h="664">
                <a:moveTo>
                  <a:pt x="0" y="208"/>
                </a:moveTo>
                <a:cubicBezTo>
                  <a:pt x="100" y="104"/>
                  <a:pt x="200" y="0"/>
                  <a:pt x="288" y="16"/>
                </a:cubicBezTo>
                <a:cubicBezTo>
                  <a:pt x="376" y="32"/>
                  <a:pt x="528" y="200"/>
                  <a:pt x="528" y="304"/>
                </a:cubicBezTo>
                <a:cubicBezTo>
                  <a:pt x="528" y="408"/>
                  <a:pt x="376" y="616"/>
                  <a:pt x="288" y="640"/>
                </a:cubicBezTo>
                <a:cubicBezTo>
                  <a:pt x="200" y="664"/>
                  <a:pt x="100" y="556"/>
                  <a:pt x="0" y="4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53280" y="396252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0532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2080" y="3200400"/>
            <a:ext cx="4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40F-3F99-4ABB-ADAF-5CE8A42658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Traditional Regular Language Problem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1447920"/>
            <a:ext cx="6781680" cy="19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1560600"/>
            <a:ext cx="3824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regular express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 determine i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905120" y="2104920"/>
                <a:ext cx="30456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740120" y="2629080"/>
                <a:ext cx="121788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789480" y="4267080"/>
            <a:ext cx="73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: Construct a DFA M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est if it accep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 rot="7066200">
            <a:off x="-1336320" y="305496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D67-FBB9-465D-8EAB-A0C5F4BB1A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is the “lexing problem”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447920"/>
            <a:ext cx="6781680" cy="30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67320" y="1560600"/>
            <a:ext cx="6549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part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for each        there is a        such that                      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1905120" y="3200400"/>
                <a:ext cx="1857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895480" y="3733920"/>
                <a:ext cx="4161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46720" y="3733920"/>
                <a:ext cx="304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867280" y="373392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1940760" y="5334120"/>
            <a:ext cx="513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1638360" y="5981760"/>
            <a:ext cx="304560" cy="380880"/>
          </a:xfrm>
          <a:custGeom>
            <a:avLst/>
            <a:gdLst>
              <a:gd name="textAreaLeft" fmla="*/ 0 w 304560"/>
              <a:gd name="textAreaRight" fmla="*/ 109800 w 30456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9000" y="6324480"/>
            <a:ext cx="3772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285768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55000" y="6324480"/>
            <a:ext cx="776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74000" y="6324480"/>
            <a:ext cx="729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6400440" y="541008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41400" y="6324480"/>
            <a:ext cx="4262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201924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4724280"/>
            <a:ext cx="38862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HITE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5245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3695760" y="5143320"/>
            <a:ext cx="304560" cy="228600"/>
          </a:xfrm>
          <a:custGeom>
            <a:avLst/>
            <a:gdLst>
              <a:gd name="textAreaLeft" fmla="*/ 0 w 304560"/>
              <a:gd name="textAreaRight" fmla="*/ 109800 w 3045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4610160" y="54482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A1D-0BF5-4869-A862-B25825B432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mbiguity….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1536120" y="49528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28280" y="137160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1280" y="350532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37720" y="4191120"/>
            <a:ext cx="4057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6680" y="5867280"/>
            <a:ext cx="749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) ID(f)  KEY(then) NUM(2) NUM(0) NUM(0) NUM(6)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76640" y="203976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7800" y="1981080"/>
            <a:ext cx="5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EDC-D689-447A-BE73-1D6959709D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ambiguation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7528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the next token is associated with the longest possible matching prefix of the in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 Black"/>
              </a:rPr>
              <a:t>Rule Priority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: for a particular longest match, use rule (automata) with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7551-C8B5-4A98-B0B0-83BB0A714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ite-Space i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NOT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Ignored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2" name=""/>
          <p:cNvSpPr/>
          <p:nvPr/>
        </p:nvSpPr>
        <p:spPr>
          <a:xfrm>
            <a:off x="3303720" y="1219320"/>
            <a:ext cx="2248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 then 2006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69280" y="2895480"/>
            <a:ext cx="520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Y(IF)   KEY(THEN)   NUM(2006)   ID(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99680" y="3962520"/>
            <a:ext cx="205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fthen2006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77280" y="5638680"/>
            <a:ext cx="2498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D(Ifthen2006hel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8288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4572000"/>
            <a:ext cx="144792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D9D-583B-40DD-A3F5-6551800C8C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nstructing a Lex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762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62120" y="2438280"/>
                <a:ext cx="333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62120" y="3352680"/>
                <a:ext cx="360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 rot="5400000">
            <a:off x="76320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9840" y="1090440"/>
            <a:ext cx="1451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INPU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n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 Black"/>
              </a:rPr>
              <a:t>ordered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list of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expre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390760" y="2057400"/>
                <a:ext cx="858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389320" y="2438280"/>
                <a:ext cx="8902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390760" y="3352680"/>
                <a:ext cx="9144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F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rot="5400000">
            <a:off x="2667960" y="29174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30640" y="1219320"/>
            <a:ext cx="16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r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251460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16400" y="2658960"/>
                <a:ext cx="776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F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7513560" y="2714760"/>
                <a:ext cx="776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4643640" y="126036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non-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25146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029720" y="1295280"/>
            <a:ext cx="19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onstruct a sing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determin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11840" y="4572000"/>
            <a:ext cx="2303640" cy="1465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1) Keyword :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Ident : [a-z][a-z]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2) White-space: ‘ 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4952880"/>
            <a:ext cx="2133720" cy="685800"/>
          </a:xfrm>
          <a:prstGeom prst="rightArrow">
            <a:avLst>
              <a:gd name="adj1" fmla="val 50000"/>
              <a:gd name="adj2" fmla="val 7778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4191120"/>
            <a:ext cx="533160" cy="5331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41972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5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59680" y="441972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419112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22040" y="44197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4191120"/>
            <a:ext cx="53316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72428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72400" y="617220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66240" y="4724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16012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51814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8077320" y="57150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24280" y="55627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028840" y="464832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86720" y="48769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571500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588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7754600">
            <a:off x="6052320" y="482292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324480" y="4648320"/>
            <a:ext cx="533520" cy="10666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00440" y="4648320"/>
            <a:ext cx="1523880" cy="12189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00800" y="5562720"/>
            <a:ext cx="1447920" cy="3808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20781000">
            <a:off x="6836760" y="563868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108800">
            <a:off x="6833520" y="51048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834600">
            <a:off x="6744240" y="61718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5867280" y="472428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4705200">
            <a:off x="5262840" y="50832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617220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2494800">
            <a:off x="4915080" y="6400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0C2F-2B4A-4D3D-B989-853C1C9B06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Front-End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8048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C45-CCED-4208-BB9B-D79C841545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at about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 Black"/>
              </a:rPr>
              <a:t>longest match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581280"/>
            <a:ext cx="533160" cy="5335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16280" y="38098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62320" y="3581280"/>
            <a:ext cx="457200" cy="4572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2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3809880"/>
            <a:ext cx="6098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78640" y="38098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58128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3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411480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562720"/>
            <a:ext cx="762120" cy="68580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 Black"/>
              </a:rPr>
              <a:t>5: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22840" y="41148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16720" y="510552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572000"/>
            <a:ext cx="53316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4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733920" y="5105520"/>
            <a:ext cx="0" cy="45720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4952880"/>
            <a:ext cx="533520" cy="53352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7: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85440" y="4038480"/>
            <a:ext cx="609480" cy="9144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3320" y="42670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5105520"/>
            <a:ext cx="533520" cy="533160"/>
          </a:xfrm>
          <a:prstGeom prst="ellipse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6: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5486400"/>
            <a:ext cx="1295280" cy="3049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7754600">
            <a:off x="1708920" y="421344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gi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981080" y="4038480"/>
            <a:ext cx="533520" cy="10670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057040" y="4038480"/>
            <a:ext cx="152388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057400" y="4952880"/>
            <a:ext cx="1447920" cy="3812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781000">
            <a:off x="2493360" y="50292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mo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9108800">
            <a:off x="2490120" y="449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df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834600">
            <a:off x="2400840" y="55623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1523880" y="4114800"/>
            <a:ext cx="152640" cy="99072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4705200">
            <a:off x="919440" y="447372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su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76240" y="5562720"/>
            <a:ext cx="723960" cy="457200"/>
          </a:xfrm>
          <a:custGeom>
            <a:avLst/>
            <a:gdLst/>
            <a:ahLst/>
            <a:rect l="l" t="t" r="r" b="b"/>
            <a:pathLst>
              <a:path w="456" h="288">
                <a:moveTo>
                  <a:pt x="408" y="0"/>
                </a:moveTo>
                <a:cubicBezTo>
                  <a:pt x="228" y="0"/>
                  <a:pt x="48" y="0"/>
                  <a:pt x="24" y="48"/>
                </a:cubicBezTo>
                <a:cubicBezTo>
                  <a:pt x="0" y="96"/>
                  <a:pt x="192" y="288"/>
                  <a:pt x="264" y="288"/>
                </a:cubicBezTo>
                <a:cubicBezTo>
                  <a:pt x="336" y="288"/>
                  <a:pt x="396" y="168"/>
                  <a:pt x="456" y="4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494800">
            <a:off x="571680" y="579096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[a-z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53360" y="2286000"/>
            <a:ext cx="3975480" cy="4483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then thenx$   1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|hen thenx$   2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|en th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|n thenx$   4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5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0   5 EMIT KEY(TH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| thenx$   1   0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7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0   7 EMIT WHITE(‘ ‘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|thenx$   1   0 RE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|henx$   2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|enx$   3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|nx$   4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|x$   5  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|$   6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nx$|   0   6 EMIT ID(then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8800" y="1371600"/>
            <a:ext cx="3632400" cy="20142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initial st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read input until dead stat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d.  Emit token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last accepting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reset state to star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34680" y="1182600"/>
            <a:ext cx="3368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= current position,      $ =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19051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put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98600" y="1676520"/>
            <a:ext cx="12567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89920" y="2133720"/>
            <a:ext cx="1793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last accepting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19810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05720" y="2286000"/>
            <a:ext cx="3045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E06E-8541-4A78-9E91-2163B877F6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real lexing problem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914400" y="1447920"/>
            <a:ext cx="73962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79920" y="1560600"/>
            <a:ext cx="472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rde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regular express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n input string    , find a list of pai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905120" y="2057400"/>
                <a:ext cx="304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24240" y="2057400"/>
                <a:ext cx="333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706920" y="2044800"/>
                <a:ext cx="3603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997000" y="2057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687680" y="4138560"/>
                <a:ext cx="23842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971800" y="2743200"/>
                <a:ext cx="333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596960" y="4589640"/>
                <a:ext cx="2131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639800" y="3149640"/>
                <a:ext cx="3608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68600" y="5106960"/>
                <a:ext cx="52876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s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riority rul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247920" y="6021360"/>
                <a:ext cx="492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∀</m:t>
                    </m:r>
                    <m:r>
                      <m:t xml:space="preserve">s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u</m:t>
                    </m:r>
                    <m:r>
                      <m:t xml:space="preserve">∉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ngest matc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622520" y="5603760"/>
                <a:ext cx="56750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refi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u</m:t>
                    </m:r>
                    <m:r>
                      <m:t xml:space="preserve">≠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2BD-4039-49CD-8EBB-808A78D37E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Generating Lexical Analyzers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3" name=""/>
          <p:cNvSpPr/>
          <p:nvPr/>
        </p:nvSpPr>
        <p:spPr>
          <a:xfrm>
            <a:off x="3397320" y="17161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1160" y="17575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51600" y="191448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73280" y="3240000"/>
            <a:ext cx="1752840" cy="117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3168720"/>
            <a:ext cx="27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List of Regular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97520" y="270684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89640" y="27068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06600" y="2173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378400" y="2161800"/>
            <a:ext cx="72540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4320" y="3544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11720" y="2630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31640" y="4944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89040" y="494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78280" y="49449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56480" y="49449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D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41480" y="51735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27480" y="51735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13480" y="51735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041480" y="5554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mpson’s Con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03440" y="55548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et Con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765760" y="56307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pcroft Min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57320" y="4608000"/>
            <a:ext cx="88185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94440" y="2158920"/>
            <a:ext cx="69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11920" y="1736640"/>
            <a:ext cx="198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1F1-4534-465C-91D1-E226A3AA98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From Mini-Caml (using Ocaml-lex)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8" name=""/>
          <p:cNvSpPr/>
          <p:nvPr/>
        </p:nvSpPr>
        <p:spPr>
          <a:xfrm>
            <a:off x="543960" y="1106640"/>
            <a:ext cx="5941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Par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open Ty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space = [' ' '\t' '\n' '\r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digit = ['0'-'9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low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et upper = ['A'-'Z'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ule token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space+  {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   { comment lexbuf; token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('     { L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)'     { RPAR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rue"  { BOOL(tru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false" { BOOL(false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not"   { N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  { INT(in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digit+('.' digit*)? (['e' 'E'] ['+' '-']? digit+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FLOAT(float_of_string (Lexing.lexeme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-'     { 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+'     { PL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-."    { MIN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+."    { PLUS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."    { AST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/."    { SLASH_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='     { 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&gt;"    { LESS_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="    { LESS_EQUAL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gt;="    { GREATER_EQUAL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290C-5DAB-4919-9FEA-9910E83200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711360" y="301680"/>
            <a:ext cx="74991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lt;‘    { LES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&gt;'    { GREATER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f"   { I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then" { THE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else“ { ELS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let"  { LE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in"   { I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rec"  { REC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,'    { COMMA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_'    { IDENT(Id.gentmp Type.Unit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Array.create" (* HACK *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ARRAY_CREATE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.'    { DOT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&lt;-"   { LESS_MINUS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';'    { SEMICOLON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   { EO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lower (digit|lower|upper|'_')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{ IDENT(Lexing.lexeme lexbuf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failwith (Printf.sprintf "unknown token %s near characters %d-%d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start lexbu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Lexing.lexeme_end lexbuf)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nd comment = pa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*)" { ()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"(*" { comment lexbuf;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eof { Format.eprintf "warning: unterminated comment@."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| _ { comment lexbuf 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37520" y="474840"/>
            <a:ext cx="392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77 states and 2474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19C-4500-48B8-BD95-D15B0E1B85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(some of the) OCAML Lexical Classe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2" name=""/>
          <p:cNvSpPr/>
          <p:nvPr/>
        </p:nvSpPr>
        <p:spPr>
          <a:xfrm>
            <a:off x="299520" y="1273320"/>
            <a:ext cx="829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A … Z | a … z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 _)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0…9 | _ | '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x | 0X) (0…9 | A…F | a…f) { 0…9 | A…F | a…f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o | 0O) (0…7) { 0…7 | _ }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[-] (0b | 0B) (0…1) { 0…1 | _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loat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[-] (0…9) { 0…9 | _ } [. { 0…9 | _ }] [(e | E) [+ | -] (0…9) { 0…9 | _ 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' | '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\ (\  | "  | '  | n  | t  | b  | r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 (0…9) (0…9) (0…9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\x (0…9 | A…F |  a…f) (0…9 | A…F | a…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liter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" {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}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ing-charac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ular-char-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cape-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80080" y="1219320"/>
            <a:ext cx="2958840" cy="119124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ID Lengt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have a limit.  Ocaml’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,000,000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1FF-B3B5-4362-98BA-EFDF654751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CAML Keyword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5" name=""/>
          <p:cNvSpPr/>
          <p:nvPr/>
        </p:nvSpPr>
        <p:spPr>
          <a:xfrm>
            <a:off x="916560" y="1447920"/>
            <a:ext cx="7405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as assert asr begin class constraint do done downto els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ception external false for fun function functor if in include inhe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itializer land lazy let lor lsl lsr lxor match method mod modu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utable new object of open or private rec sig struct then to tr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ry type val virtual when while wi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!=    #    &amp;     &amp;&amp;    ‘   (    )    *    +    ,    -    -.    -&gt;    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.    :    ::    :=    :&gt;   ;    ;;    &lt;    &lt;-    =    &gt;    &gt;]    &gt;}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?    [    [&lt;    [&gt;    [|    ]    _    `    {    {&lt;    |    |]    }    ~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20760" y="5611680"/>
            <a:ext cx="405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amllex produces a D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ith 151 states and 2911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AF5-248E-4BC0-AA30-C0BF830E5B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om Character Streams to Token Stream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397160" y="1295280"/>
            <a:ext cx="56671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float match0(char *s) /* find a zer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(!strncmp(s, “0.0”, 3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turn 0.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6600" y="3429000"/>
            <a:ext cx="77364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ex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2819520"/>
            <a:ext cx="0" cy="53316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23240" y="4495680"/>
            <a:ext cx="566244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OAT   ID(match0)   LPAREN   CHAR  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)   RPAREN   LBRACE   IF   LPAREN   B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D(strncmp)   LPAREN   ID(s)   COMMA   STR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A   NUM(3)   RPAREN   RPAREN 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L(0.0)   SEMI   RBRACE   E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3400" y="632448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Note that white-space and comments have vanished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4351320"/>
            <a:ext cx="35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AA0-A8A2-4D30-87FD-115D76609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261120" y="2475000"/>
            <a:ext cx="3033720" cy="3994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Se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6840" y="1166400"/>
            <a:ext cx="6332760" cy="46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a finite alphab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empt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{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ring of length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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{a}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If P and Q are regular sets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(Set Union)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(String Concatenation) PQ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(Kleene Closure) P* is a regular set ov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Nothing else is a regular set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0240" y="6256440"/>
            <a:ext cx="21607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. C. Kl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7400" y="5962680"/>
            <a:ext cx="5278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on of Nerve Nets and Finite Automat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ne (195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0814600">
            <a:off x="6816240" y="2797200"/>
            <a:ext cx="1236960" cy="18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562-40E0-45F9-9A83-5FDA18F17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Expressions: A concise notation for regular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otes the regular set {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If p and q are regular expressions denoting the regular sets P and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ively,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) (p | q) denotes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(pq) denotes P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) (p)* denotes 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Nothing else is a regular exp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+ = ((p)*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860-603F-4491-8E00-0B46F69568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Operations on Regular Expression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|b                   {a,b}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(a|b)         {aa, ab, ba, b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                    {e, a, aa, aaa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b                  {b,ab, aab, aaab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               {e, a, b, ab, ba, aa, bb, ….       abbbabbab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*|b*               {e, a, aa, aaa, …, b, bb, bbb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7D58-0720-44EB-96B2-2AA25878DD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inite Automat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eterministic Finite Automaton (D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 = (Q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, i ,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1) Q is a finite non-empty 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2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finite set of input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3) i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initi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4) F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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Q (final st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5)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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is a partial mapping from Q x </a:t>
            </a:r>
            <a:r>
              <a:rPr b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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transition function: mov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546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643280"/>
            <a:ext cx="7929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have a choice of moves, i.e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mapping from Q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allow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ransitions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520" y="4675320"/>
            <a:ext cx="527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deterministic Finite Automaton (N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283E-AE6A-49C1-A2A0-47EBCA2A8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NFA Exampl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|b)*abb = { abb, aabb, babb, aaabb, bbabb,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11480" y="4911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66680" y="3657600"/>
            <a:ext cx="6248160" cy="1333080"/>
            <a:chOff x="1066680" y="3657600"/>
            <a:chExt cx="6248160" cy="1333080"/>
          </a:xfrm>
        </p:grpSpPr>
        <p:sp>
          <p:nvSpPr>
            <p:cNvPr id="96" name=""/>
            <p:cNvSpPr/>
            <p:nvPr/>
          </p:nvSpPr>
          <p:spPr>
            <a:xfrm>
              <a:off x="1981080" y="4302360"/>
              <a:ext cx="45720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864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4226040"/>
              <a:ext cx="60948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43023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9040" y="4149720"/>
              <a:ext cx="68580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38280" y="453096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62160" y="45309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62360" y="445464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6880" y="4226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7080" y="4302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4302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96" idx="7"/>
              <a:endCxn id="96" idx="0"/>
            </p:cNvCxnSpPr>
            <p:nvPr/>
          </p:nvCxnSpPr>
          <p:spPr>
            <a:xfrm flipV="1" rot="16200000">
              <a:off x="2256480" y="4254120"/>
              <a:ext cx="67320" cy="162360"/>
            </a:xfrm>
            <a:prstGeom prst="curvedConnector5">
              <a:avLst>
                <a:gd name="adj1" fmla="val 442473"/>
                <a:gd name="adj2" fmla="val 50000"/>
                <a:gd name="adj3" fmla="val 4424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96" idx="5"/>
              <a:endCxn id="96" idx="4"/>
            </p:cNvCxnSpPr>
            <p:nvPr/>
          </p:nvCxnSpPr>
          <p:spPr>
            <a:xfrm rot="5400000">
              <a:off x="2256120" y="4645080"/>
              <a:ext cx="67680" cy="162360"/>
            </a:xfrm>
            <a:prstGeom prst="curvedConnector5">
              <a:avLst>
                <a:gd name="adj1" fmla="val 442780"/>
                <a:gd name="adj2" fmla="val 50000"/>
                <a:gd name="adj3" fmla="val 44278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9" name=""/>
            <p:cNvSpPr/>
            <p:nvPr/>
          </p:nvSpPr>
          <p:spPr>
            <a:xfrm>
              <a:off x="2194920" y="3657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371240" y="45306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6680" y="4073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762120" y="429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350600">
            <a:off x="4065120" y="4437000"/>
            <a:ext cx="424836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E21-BC50-4228-AC2D-0B8AD9AEC5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FA Exampl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3048120"/>
            <a:ext cx="60948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048120"/>
            <a:ext cx="68580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971800"/>
            <a:ext cx="8380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9840" y="2784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17" idx="3"/>
            <a:endCxn id="116" idx="5"/>
          </p:cNvCxnSpPr>
          <p:nvPr/>
        </p:nvCxnSpPr>
        <p:spPr>
          <a:xfrm rot="5400000">
            <a:off x="4303800" y="2919960"/>
            <a:ext cx="2520" cy="1169280"/>
          </a:xfrm>
          <a:prstGeom prst="curvedConnector5">
            <a:avLst>
              <a:gd name="adj1" fmla="val 19300000"/>
              <a:gd name="adj2" fmla="val 49984"/>
              <a:gd name="adj3" fmla="val 19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4"/>
            <a:endCxn id="116" idx="4"/>
          </p:cNvCxnSpPr>
          <p:nvPr/>
        </p:nvCxnSpPr>
        <p:spPr>
          <a:xfrm flipV="1" rot="16200000">
            <a:off x="5085720" y="1999800"/>
            <a:ext cx="153360" cy="331524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9" idx="0"/>
            <a:endCxn id="115" idx="7"/>
          </p:cNvCxnSpPr>
          <p:nvPr/>
        </p:nvCxnSpPr>
        <p:spPr>
          <a:xfrm rot="5400000">
            <a:off x="4430520" y="737280"/>
            <a:ext cx="154800" cy="4623480"/>
          </a:xfrm>
          <a:prstGeom prst="curvedConnector5">
            <a:avLst>
              <a:gd name="adj1" fmla="val -148251"/>
              <a:gd name="adj2" fmla="val 50000"/>
              <a:gd name="adj3" fmla="val -148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5" idx="0"/>
            <a:endCxn id="115" idx="2"/>
          </p:cNvCxnSpPr>
          <p:nvPr/>
        </p:nvCxnSpPr>
        <p:spPr>
          <a:xfrm rot="5400000">
            <a:off x="1694880" y="3027960"/>
            <a:ext cx="267120" cy="305280"/>
          </a:xfrm>
          <a:prstGeom prst="curvedConnector5">
            <a:avLst>
              <a:gd name="adj1" fmla="val -85695"/>
              <a:gd name="adj2" fmla="val 87485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6" idx="4"/>
            <a:endCxn id="116" idx="2"/>
          </p:cNvCxnSpPr>
          <p:nvPr/>
        </p:nvCxnSpPr>
        <p:spPr>
          <a:xfrm flipV="1" rot="16200000">
            <a:off x="3219120" y="3295080"/>
            <a:ext cx="267120" cy="305640"/>
          </a:xfrm>
          <a:prstGeom prst="curvedConnector5">
            <a:avLst>
              <a:gd name="adj1" fmla="val -85695"/>
              <a:gd name="adj2" fmla="val 87500"/>
              <a:gd name="adj3" fmla="val -856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433520" y="240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81080" y="3470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67080" y="385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52680" y="3317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252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724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te has an e-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st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put symbo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at most one edge labe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av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DFA-389E-4DCC-B8C2-23B67AC88A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22T12:41:56Z</dcterms:modified>
  <cp:revision>274</cp:revision>
  <dc:subject/>
  <dc:title>Slide 1</dc:title>
</cp:coreProperties>
</file>