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078D-64D6-4413-88CB-508C1E083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’m going to talk abo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_very_ simple _and_ efficient compil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0B9-B523-4B4C-833F-56C1E96F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7B62-E381-491B-B254-614297B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449-B7EA-4C6A-BDB9-79DFDD9E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55D-93F5-4054-8608-16005914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655-7452-43AA-8072-63594CC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E26-1806-4EA0-A131-BA6B8E12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20-C085-43E7-8CFD-5985A848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339-2C3A-482A-AC68-570537B9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753-C279-4C66-A32B-DA0D724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4DB-0F5B-4B80-BBC6-4D7A3E7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55F-F33B-4C00-AC68-44FE6AD2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EDD-9DD2-449E-9F7B-373426B5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C58-4625-4E6E-8633-689EF26B1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5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Lecture 01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nt Term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Lecturer: Timothy G. Grif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mputer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University of Cambrid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6E1-AE40-4A44-896A-80A499529F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 closer look at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2360" y="236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dure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9840" y="2332080"/>
            <a:ext cx="430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s an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flat sc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,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9040" y="1901880"/>
            <a:ext cx="218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gh Level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10440" y="1962000"/>
            <a:ext cx="2091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embly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6F6-2E50-478A-A0F3-304550E92E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r Approach ---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as a sequence of transformations 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72960" y="4114440"/>
            <a:ext cx="821376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preserves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addresses only one aspect of “the g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ransformation is fairly easy to underst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81080" y="2760840"/>
                <a:ext cx="6804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⋯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26600" y="2149560"/>
            <a:ext cx="106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03480" y="1944720"/>
            <a:ext cx="131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ssembl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4167360" y="524520"/>
            <a:ext cx="409680" cy="4078440"/>
          </a:xfrm>
          <a:custGeom>
            <a:avLst/>
            <a:gdLst>
              <a:gd name="textAreaLeft" fmla="*/ 261720 w 409680"/>
              <a:gd name="textAreaRight" fmla="*/ 410040 w 409680"/>
              <a:gd name="textAreaTop" fmla="*/ 106200 h 4078440"/>
              <a:gd name="textAreaBottom" fmla="*/ 3972240 h 407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21280" y="192096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22CC-1A52-46BC-B120-C27311DAA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9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Compiler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600200"/>
            <a:ext cx="51055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0574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1447920"/>
            <a:ext cx="12189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733920"/>
            <a:ext cx="1752480" cy="838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6240" y="20574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41560" y="2057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28600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2057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2860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4400" y="144792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cuments"/>
          <p:cNvSpPr/>
          <p:nvPr/>
        </p:nvSpPr>
        <p:spPr>
          <a:xfrm>
            <a:off x="228600" y="129528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3400" y="190512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4680" y="281952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00440" y="41227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5680" y="2590920"/>
            <a:ext cx="0" cy="106668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5160" y="1219320"/>
            <a:ext cx="161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pi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13840" y="205740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648320"/>
            <a:ext cx="48765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657600" y="5715000"/>
            <a:ext cx="1671480" cy="519120"/>
            <a:chOff x="3657600" y="5715000"/>
            <a:chExt cx="1671480" cy="519120"/>
          </a:xfrm>
        </p:grpSpPr>
        <p:sp>
          <p:nvSpPr>
            <p:cNvPr id="137" name="Gear"/>
            <p:cNvSpPr/>
            <p:nvPr/>
          </p:nvSpPr>
          <p:spPr>
            <a:xfrm>
              <a:off x="458424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5812920"/>
              <a:ext cx="89028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35040" y="5918040"/>
              <a:ext cx="98964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955400" y="48006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5334120"/>
            <a:ext cx="4876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88920" y="57913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6080" y="380988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pr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example: 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4040" y="3284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TERPR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6120" y="297180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rdware indepen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termediate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781680" y="5715000"/>
            <a:ext cx="1671840" cy="519120"/>
            <a:chOff x="6781680" y="5715000"/>
            <a:chExt cx="1671840" cy="519120"/>
          </a:xfrm>
        </p:grpSpPr>
        <p:sp>
          <p:nvSpPr>
            <p:cNvPr id="147" name="Gear"/>
            <p:cNvSpPr/>
            <p:nvPr/>
          </p:nvSpPr>
          <p:spPr>
            <a:xfrm>
              <a:off x="7708680" y="5715000"/>
              <a:ext cx="744840" cy="23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1680" y="5812920"/>
              <a:ext cx="890640" cy="2844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9480" y="5918040"/>
              <a:ext cx="990000" cy="316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83960" y="5105520"/>
            <a:ext cx="3073320" cy="146556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omething to Po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compiler is just a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t how did it get compi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s this a chicken-and-eg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l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2F7-E32C-4991-A555-817A765C0E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Front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7652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1520" y="17524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895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ocuments"/>
          <p:cNvSpPr/>
          <p:nvPr/>
        </p:nvSpPr>
        <p:spPr>
          <a:xfrm>
            <a:off x="228600" y="1905120"/>
            <a:ext cx="1352520" cy="1809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3400" y="25146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4191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7432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6668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8880" y="2666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954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3800" y="2971800"/>
            <a:ext cx="8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x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7160" y="2819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5560" y="43434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xical theor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finite automa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7320" y="4343400"/>
            <a:ext cx="247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rsing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ased on push-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maton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text-free gramm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867280" y="20574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21720" y="1789200"/>
            <a:ext cx="20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ynt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i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971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95880" y="32367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stract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9625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91520" y="44197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44197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50292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29600" y="46483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46483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229-085A-4DE7-AA82-6E271B659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“Middle End”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19051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56640" y="19810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362320"/>
            <a:ext cx="67820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514600"/>
            <a:ext cx="12193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24382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04812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22096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2590920"/>
            <a:ext cx="99036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048120"/>
            <a:ext cx="53316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048120"/>
            <a:ext cx="5335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57600"/>
            <a:ext cx="53352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276720"/>
            <a:ext cx="152280" cy="53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3276720"/>
            <a:ext cx="763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3886200"/>
            <a:ext cx="75960" cy="30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3600" y="5257800"/>
            <a:ext cx="46432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 is a lot of diversity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iddle-end” -- some compilers a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ile others are very simpl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6668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 of symb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 an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358128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2680" y="3962520"/>
            <a:ext cx="1898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on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7 of file main.c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ared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3520" y="312408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5240" y="2666880"/>
            <a:ext cx="11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429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2040" y="3886200"/>
            <a:ext cx="1915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rror repor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riable x decl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 string but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s an integer”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9718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3560" y="3048120"/>
            <a:ext cx="10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se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2590920"/>
            <a:ext cx="1218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3560" y="2666880"/>
            <a:ext cx="129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3048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547400" y="296856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1981080"/>
            <a:ext cx="1067040" cy="60984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7010280" y="3200400"/>
            <a:ext cx="609480" cy="1218960"/>
          </a:xfrm>
          <a:custGeom>
            <a:avLst/>
            <a:gdLst>
              <a:gd name="textAreaLeft" fmla="*/ 81360 w 609480"/>
              <a:gd name="textAreaRight" fmla="*/ 528120 w 60948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17880" y="4227480"/>
            <a:ext cx="22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hase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3E0-C5AD-48C1-8D60-1905E0B131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a Back End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231120" y="2819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905120"/>
            <a:ext cx="52578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7180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1240" y="2209680"/>
            <a:ext cx="2506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generation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440" y="2971800"/>
            <a:ext cx="22352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67480" y="3657600"/>
            <a:ext cx="2412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123720"/>
            <a:ext cx="6858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3505320"/>
            <a:ext cx="6858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1920" y="5029200"/>
            <a:ext cx="24836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6939360" y="402264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66264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339160" y="4098960"/>
            <a:ext cx="66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581280"/>
            <a:ext cx="7621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17720" y="3276720"/>
            <a:ext cx="981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arg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64800" y="1523880"/>
            <a:ext cx="113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2362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259400" y="2971800"/>
            <a:ext cx="11865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ARM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57960" y="2209680"/>
            <a:ext cx="1084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x86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00440" y="3657600"/>
            <a:ext cx="136332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SPARC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74880" y="5029200"/>
            <a:ext cx="14349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DP-11 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5181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3320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20C-0404-4FB5-A5B7-1945D7CF0E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Assembly, Linking, Loading</a:t>
            </a:r>
            <a:endParaRPr b="0" lang="en-US" sz="20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120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5892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4320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8772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1066680"/>
            <a:ext cx="124740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17524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64440" y="2133720"/>
            <a:ext cx="12949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514600"/>
            <a:ext cx="0" cy="38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5600" y="76212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35600" y="25146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35600" y="1600200"/>
            <a:ext cx="7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 Black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98960" y="4038480"/>
            <a:ext cx="120312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inker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3429000"/>
            <a:ext cx="45720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2804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2000" y="3505320"/>
            <a:ext cx="1295280" cy="6094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440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505320"/>
            <a:ext cx="198144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1520" y="2895480"/>
            <a:ext cx="10843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4495680"/>
            <a:ext cx="0" cy="3812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4876920"/>
            <a:ext cx="4800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single executable object cod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5638680"/>
            <a:ext cx="670572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1120" y="571500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257800"/>
            <a:ext cx="0" cy="6858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17520" y="5226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R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10400" y="5943600"/>
            <a:ext cx="1227600" cy="3682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loade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4114800"/>
            <a:ext cx="228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bject code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4343400"/>
            <a:ext cx="533520" cy="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1066680"/>
            <a:ext cx="685800" cy="243864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56840" y="1504800"/>
            <a:ext cx="145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rom symbo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meric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65760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37400" y="3886200"/>
            <a:ext cx="143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solu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re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ngle 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5562720"/>
            <a:ext cx="685800" cy="914400"/>
          </a:xfrm>
          <a:custGeom>
            <a:avLst/>
            <a:gdLst>
              <a:gd name="textAreaLeft" fmla="*/ 0 w 685800"/>
              <a:gd name="textAreaRight" fmla="*/ 247680 w 6858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08680" y="5276880"/>
            <a:ext cx="1114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locat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llocatio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ynam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nk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69640" y="9144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main ta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4419720"/>
            <a:ext cx="380880" cy="1522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8360" y="4303800"/>
            <a:ext cx="1258200" cy="3682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k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8AA-D6C5-4E5E-BDD8-02A200E2A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eading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 in Java/C/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 books). Appel.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s --- Principles, Techniques, and 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ho, Sethi, and Ullman (198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ilhelm, Maurer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iling Techn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Bennett (199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targetable C Compiler: Design and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Frazer, Hanson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Co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ite, Goos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Languages and Their Compil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Watson (19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4160" y="1297080"/>
            <a:ext cx="857700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774200" y="2104920"/>
            <a:ext cx="107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07D-2A1C-4199-A598-56EF6957A9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Shape of this Course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ype 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 Sc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unction Closu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Using the Stack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, linker, object fil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er gen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Continu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90720" y="26733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17640" y="4570560"/>
            <a:ext cx="4537080" cy="1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40600" y="1330200"/>
            <a:ext cx="196920" cy="1135080"/>
          </a:xfrm>
          <a:custGeom>
            <a:avLst/>
            <a:gdLst>
              <a:gd name="textAreaLeft" fmla="*/ 0 w 196920"/>
              <a:gd name="textAreaRight" fmla="*/ 70920 w 196920"/>
              <a:gd name="textAreaTop" fmla="*/ 29520 h 1135080"/>
              <a:gd name="textAreaBottom" fmla="*/ 110556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76560" y="17193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210440" y="2786040"/>
            <a:ext cx="185760" cy="1611360"/>
          </a:xfrm>
          <a:custGeom>
            <a:avLst/>
            <a:gdLst>
              <a:gd name="textAreaLeft" fmla="*/ 0 w 185760"/>
              <a:gd name="textAreaRight" fmla="*/ 66960 w 185760"/>
              <a:gd name="textAreaTop" fmla="*/ 41760 h 1611360"/>
              <a:gd name="textAreaBottom" fmla="*/ 1569600 h 161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35240" y="2840040"/>
            <a:ext cx="1409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n-Cam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94600" y="4738680"/>
            <a:ext cx="198360" cy="128736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360"/>
              <a:gd name="textAreaBottom" fmla="*/ 1253880 h 128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0F8-ED59-471A-BCC3-69F42F3483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ation is a type of Translation</a:t>
            </a: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2133360"/>
            <a:ext cx="4114800" cy="4221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correct in the sense that meaning is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generate effici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produce usable error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be well-structured and main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080" y="205740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18288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9400" y="1981080"/>
            <a:ext cx="10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 rot="16200000">
            <a:off x="266040" y="323748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26708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00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74120" y="25146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56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0" y="563868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ation is a tran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high level” to “low leve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0520" y="1752480"/>
            <a:ext cx="298044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 good compiler shoul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276720"/>
            <a:ext cx="10666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3352680"/>
            <a:ext cx="304560" cy="2971800"/>
          </a:xfrm>
          <a:custGeom>
            <a:avLst/>
            <a:gdLst>
              <a:gd name="textAreaLeft" fmla="*/ 0 w 304560"/>
              <a:gd name="textAreaRight" fmla="*/ 10980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7199280" y="4547880"/>
            <a:ext cx="2276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rade offs aboun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A94-2206-46C2-B810-9B43012B7F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ll Hail Grace Hopper !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263760" cy="414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0" y="1981080"/>
            <a:ext cx="455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rote first compiler in 19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 the 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hort Cod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langu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hile working for Remington 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ompiler was called A-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he wrote it because she f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process of compiling Short Code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 was boring and tedious, and s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anted to spend her time doing “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thematics” instead of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uld be done by a stupid mach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59400" y="5979960"/>
            <a:ext cx="40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note: as with all claims of priority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will be endlessly disputed…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DD9-41E5-47DB-A494-762A5928A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Why Study Compilers?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lthough many of the basic ideas where developed over 30 years ago, compiler construction is still an evolving and active area of research and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intimately related to programming language design and ev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Compilers are a Computer Science success story that illustrate the hallmarks of our field --- high-level abstractions implemented with low-leve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You are computer scientist.  Nothing done with machines should be mysterious to you!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86A-BEC9-4C22-9E60-6677FF2259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2948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7000" y="0"/>
            <a:ext cx="64580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rd.sourceforge.net/pixel/language-study/diagra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80" y="609480"/>
            <a:ext cx="29088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nes of descent sh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 be taken too serious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l from Algol 6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4320" y="22860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2760" y="0"/>
            <a:ext cx="1220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or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144-8646-4556-878D-EB7DC3F45D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CAM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 http://caml.inria.fr/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66840" cy="203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21320" y="1752480"/>
            <a:ext cx="48182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Ocaml is a dialect of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This course will frequently mine the Oca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ompiler for examp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7080" y="3581280"/>
            <a:ext cx="673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t rec map f 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match l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[] -&gt; [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| head::tail -&gt; (f head) :: (map f 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(‘a -&gt; ‘b) -&gt; ‘a list -&gt; ‘b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31120" y="50292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Inferred typ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E69-665C-4403-8A12-742186536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11080" y="2505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inCaml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A Simple and Efficient Compi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for a Minimal Functional Language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43080" y="3762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jiro S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hoku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kb.ecei.tohoku.ac.jp/~sum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90520" y="53942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009520" y="1693800"/>
            <a:ext cx="501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PLAN :Proceedings of the 2005 workshop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and declarative programming in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1680" y="6031080"/>
            <a:ext cx="4082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Console"/>
              </a:rPr>
              <a:t>http://min-caml.sourceforge.ne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7720" y="2457360"/>
            <a:ext cx="77724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美しい日本の</a:t>
            </a:r>
            <a:r>
              <a:rPr b="0" lang="en-US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ML</a:t>
            </a:r>
            <a:r>
              <a:rPr b="0" lang="ja-JP" sz="4000" spc="-1" strike="noStrike">
                <a:solidFill>
                  <a:srgbClr val="333399"/>
                </a:solidFill>
                <a:latin typeface="Arial Black"/>
                <a:ea typeface="ＭＳ Ｐゴシック"/>
              </a:rPr>
              <a:t>コンパイ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25F-380F-4E09-9548-7BBB2CF10F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he MinCaml Languag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00160" y="1025640"/>
            <a:ext cx="7580160" cy="5684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23960" y="93672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nimal functional langu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418-874D-4843-AEE4-C59831FBAA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0960" y="0"/>
            <a:ext cx="8229600" cy="782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Mind The Gap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761760" y="912960"/>
            <a:ext cx="7450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t rec gcd m 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= 0 then n 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f m &lt;= n then gcd m (n - m) else gcd n (m - 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 print_int (gcd 21600 3375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51840" y="2467080"/>
            <a:ext cx="3472560" cy="31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global min_caml_sta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in_caml_star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ave    %sp, -112, %s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21600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et     337500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gcd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t      %o7, [%i0 + 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all    min_caml_print_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add     %i0, 8, %i0 ! delay sl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0, 8, %i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ld      [%i0 + 4], %o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st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24200" y="2384280"/>
            <a:ext cx="246672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rodata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align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.section ".text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gcd.7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 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ne     be_else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ret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e_else.19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cmp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g      ble_else.2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3,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le_else.2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sub     %i2, %i3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3, %o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i2, %i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mov     %o4, %i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b       gcd.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n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2560" y="901800"/>
            <a:ext cx="982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Ca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9280" y="2384280"/>
            <a:ext cx="6770520" cy="46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83080" y="2489040"/>
            <a:ext cx="0" cy="41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873000" y="2323800"/>
            <a:ext cx="2097000" cy="1678320"/>
          </a:xfrm>
          <a:custGeom>
            <a:avLst/>
            <a:gdLst>
              <a:gd name="textAreaLeft" fmla="*/ 698760 w 2097000"/>
              <a:gd name="textAreaRight" fmla="*/ 1796040 w 2097000"/>
              <a:gd name="textAreaTop" fmla="*/ 966600 h 1678320"/>
              <a:gd name="textAreaBottom" fmla="*/ 1437480 h 1678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70360" y="339084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25680" y="5972040"/>
            <a:ext cx="1828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C ass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037-5D6C-4523-90E4-F0220748DB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1-19T14:06:18Z</dcterms:modified>
  <cp:revision>281</cp:revision>
  <dc:subject/>
  <dc:title>Slide 1</dc:title>
</cp:coreProperties>
</file>