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C642-F5D3-4E36-8C85-A9A1A2125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E609-0818-4F52-8A53-CBDCA901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1F70-54BA-4887-B5C7-7A17209EB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66DB-7AAC-485E-97C2-6CA98B686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C3F3-47F5-4BC5-8079-87D707EC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81F3-A6BE-4991-AFEC-BA454456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33B1-E248-4E14-8207-46878F12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4E1A-72F3-4408-BB6C-5DD81ECB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D484-505D-4DBA-93E2-9938ED3D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85B8-7CB4-408B-931F-5EDFE55D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B470-2514-49E4-9F25-F71FC506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AC5B-5A41-4A29-978E-71B660A0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D45A-6DBE-48D1-936D-7FCAAF8A7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imeanddate.com/calendar/monthly.html?year=2007&amp;month=1&amp;country=1" TargetMode="External"/><Relationship Id="rId2" Type="http://schemas.openxmlformats.org/officeDocument/2006/relationships/hyperlink" Target="http://www.timeanddate.com/calendar/monthly.html?year=2007&amp;month=2&amp;country=1" TargetMode="External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, Revised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832120" y="1187280"/>
            <a:ext cx="443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exical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heory of Context Free Grammars (CFGs) and Predictive (recursive descent) Par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Variables, Scope, Typ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Machine abst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MinCaml middle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y code, linker, loa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MinCaml back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Garbage Coll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bject Ori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Interpreters, Byte Code interpreters, virtual mach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4920" y="1687680"/>
            <a:ext cx="2099160" cy="3987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an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2   3   4   5   6  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  9 10 11 12 13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16 17 18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br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3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6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8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7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2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4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7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55880" y="37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16280" y="279396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28880" y="392580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104240" y="1330200"/>
            <a:ext cx="233280" cy="1403640"/>
          </a:xfrm>
          <a:custGeom>
            <a:avLst/>
            <a:gdLst>
              <a:gd name="textAreaLeft" fmla="*/ 0 w 233280"/>
              <a:gd name="textAreaRight" fmla="*/ 84240 w 233280"/>
              <a:gd name="textAreaTop" fmla="*/ 36360 h 1403640"/>
              <a:gd name="textAreaBottom" fmla="*/ 1367280 h 14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81160" y="173196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ont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82000" y="4871880"/>
            <a:ext cx="198360" cy="1287720"/>
          </a:xfrm>
          <a:custGeom>
            <a:avLst/>
            <a:gdLst>
              <a:gd name="textAreaLeft" fmla="*/ 0 w 198360"/>
              <a:gd name="textAreaRight" fmla="*/ 71640 w 198360"/>
              <a:gd name="textAreaTop" fmla="*/ 33480 h 1287720"/>
              <a:gd name="textAreaBottom" fmla="*/ 1254240 h 128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61880" y="50245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2863800"/>
            <a:ext cx="183960" cy="965160"/>
          </a:xfrm>
          <a:custGeom>
            <a:avLst/>
            <a:gdLst>
              <a:gd name="textAreaLeft" fmla="*/ 0 w 183960"/>
              <a:gd name="textAreaRight" fmla="*/ 66240 w 183960"/>
              <a:gd name="textAreaTop" fmla="*/ 24840 h 965160"/>
              <a:gd name="textAreaBottom" fmla="*/ 940320 h 9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11320" y="468000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47080" y="4068720"/>
            <a:ext cx="207720" cy="514440"/>
          </a:xfrm>
          <a:custGeom>
            <a:avLst/>
            <a:gdLst>
              <a:gd name="textAreaLeft" fmla="*/ 0 w 207720"/>
              <a:gd name="textAreaRight" fmla="*/ 74880 w 207720"/>
              <a:gd name="textAreaTop" fmla="*/ 13320 h 514440"/>
              <a:gd name="textAreaBottom" fmla="*/ 501120 h 5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80800" y="3094200"/>
            <a:ext cx="12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ddle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03200" y="4260960"/>
            <a:ext cx="10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ck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7222-8917-4126-8150-F5B12F99F2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8T23:26:11Z</dcterms:modified>
  <cp:revision>292</cp:revision>
  <dc:subject/>
  <dc:title>Slide 1</dc:title>
</cp:coreProperties>
</file>