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619-20E6-4367-B9D0-CBFE7649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069-5496-4983-8F4C-5FCC970E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529-8CE8-4DAD-95C3-3830461A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6A0-FE11-44AD-B166-FDFD923C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947-7EEE-478F-89DD-3F30FEDA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7DE-5B78-453A-B197-35D91820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56E-AEE5-43E3-951C-594A4661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755-CCEF-42B6-B13C-DD439143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0F6-0FE2-4CA4-91E8-AB6D5230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089-DE54-44A2-B139-207B033A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3ED-CF66-4683-9441-28A96865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10B-D0E5-4116-99F5-AA14CE1E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54C0-B22A-44D0-8BB9-563CE64AB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tic Analysis --- Variables, Scope, and Typ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443-0F14-41B5-B311-82BCE7C294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s and Type Error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83200" y="1582560"/>
            <a:ext cx="310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“this”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080" y="2687760"/>
            <a:ext cx="438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 f(int x, int y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(1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92840" y="41655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type systems imposes a discipline on programming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sures that the abstractions represented by typ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 violated by a correct progr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78320" y="1463760"/>
            <a:ext cx="854280" cy="2352600"/>
          </a:xfrm>
          <a:custGeom>
            <a:avLst/>
            <a:gdLst>
              <a:gd name="textAreaLeft" fmla="*/ 0 w 854280"/>
              <a:gd name="textAreaRight" fmla="*/ 308520 w 85428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51760" y="246204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vious typ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32040" y="542592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ules can be enforced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ile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8280" y="5925960"/>
            <a:ext cx="1204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02800" y="5859360"/>
            <a:ext cx="149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756-B001-4601-9F15-3D83B0E9F4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a type error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813960" y="173664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true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9440" y="120636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a type err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560" y="25081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080" y="33368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th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9480" y="385452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g(x)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5240" y="4773600"/>
            <a:ext cx="76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can prove that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(x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lways true, then is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9320" y="5499000"/>
            <a:ext cx="84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at might be too much to ask for a (static) type checking system,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ooks like a undecidable probl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B44-E493-4943-8376-BDE7985467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 Sys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3560" y="107424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nguage’s type system specifies how to construct types and which operations are valid for which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provide a concise formalization of the semantic check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can be thought of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which some very weak assertions can be prov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01200" y="397368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reconditions} program {postcondition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5200" y="526104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 x :int } y = x + 17;  { y : int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6B1-F106-4630-AF71-163BCA99D5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other way to think of types as a logic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5712120" y="23130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5120" y="14018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5360" y="148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960" y="239544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70240" y="1547640"/>
            <a:ext cx="34920" cy="464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7160" y="4538520"/>
            <a:ext cx="33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A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4480" y="4489560"/>
            <a:ext cx="42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x:A |- x :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3800" y="3925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62A-C2D2-4349-8A10-52711A0E81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junction and Pai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81040" y="18255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: A                H |- b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a, b) :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68280" y="4332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st(p) :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67520" y="4317840"/>
            <a:ext cx="192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snd(p) :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3240" y="2120760"/>
            <a:ext cx="12600" cy="39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200" y="20289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               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2440" y="45356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3040" y="4521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7DB-4DE7-4EAC-97B3-48F86FE89E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mplication and function types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4413240" y="21207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202896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A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9640" y="3571920"/>
            <a:ext cx="306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3160" y="2233440"/>
            <a:ext cx="29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x:A |- e: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un x:A.e :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0400" y="3776760"/>
            <a:ext cx="357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: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(a)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9A8-2B32-48D9-9A9E-029B8A01AD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junction and Case Switch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71360" y="3164040"/>
            <a:ext cx="87282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800" y="34005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5440" y="11556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240" y="199404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49640" y="1962000"/>
            <a:ext cx="385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||B     H,A |- C    H,B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84680" y="195408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09840" y="386712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r(a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9440" y="379080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l(b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0000" y="5286240"/>
            <a:ext cx="624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d : A||B     H, x:A |- e1 : C    H, y:B |- e2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case d of inr(x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1, inr(y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2)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DB6-FC67-4DD5-B1A4-E176CE1704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871-48C4-4C7D-BEB4-C9791C5D29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3440" y="4483080"/>
            <a:ext cx="46332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k) vs. LR(k) reduct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28800" y="1130400"/>
                <a:ext cx="700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∪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65360" y="1930320"/>
                <a:ext cx="118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L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451400" y="1817640"/>
            <a:ext cx="23760" cy="460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040" y="2498760"/>
            <a:ext cx="815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892840" y="1878120"/>
                <a:ext cx="11858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08120" y="2936880"/>
            <a:ext cx="29257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8600" y="293544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62280" y="284652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1682640" y="347472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81000" y="316188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32200" y="3651120"/>
            <a:ext cx="19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50000"/>
            <a:ext cx="463680" cy="107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4320" y="57117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03440" y="449892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822400" y="447984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7440" y="4933800"/>
            <a:ext cx="46332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22400" y="4441680"/>
                <a:ext cx="42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474920" y="4863960"/>
            <a:ext cx="987120" cy="560520"/>
          </a:xfrm>
          <a:prstGeom prst="rightArrow">
            <a:avLst>
              <a:gd name="adj1" fmla="val 50000"/>
              <a:gd name="adj2" fmla="val 4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0640" y="4422600"/>
            <a:ext cx="108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f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1680" y="438300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3000" y="2860560"/>
            <a:ext cx="341280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3120" y="2859120"/>
            <a:ext cx="1109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76800" y="277020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V="1">
            <a:off x="6970680" y="32889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7216560" y="308556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92160" y="351468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73760" y="484992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2920" y="561168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026560" y="437364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8001000" y="437976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5680" y="483408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904000" y="4329000"/>
                <a:ext cx="426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653160" y="4764240"/>
            <a:ext cx="987480" cy="560160"/>
          </a:xfrm>
          <a:prstGeom prst="rightArrow">
            <a:avLst>
              <a:gd name="adj1" fmla="val 50000"/>
              <a:gd name="adj2" fmla="val 44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9200" y="43988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400" y="1838160"/>
            <a:ext cx="815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015400" y="437508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879440" y="6103800"/>
            <a:ext cx="2126880" cy="58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he language of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ck IS REGULA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350-666A-4BA3-828F-563C5B3293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610000"/>
            <a:ext cx="8510400" cy="20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7000" y="1109520"/>
            <a:ext cx="426744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67480" y="301932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k) states (non-deterministic)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73480" y="1136520"/>
                <a:ext cx="41115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390680" y="2911320"/>
            <a:ext cx="292572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1160" y="290988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44840" y="282096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 flipV="1">
            <a:off x="2365200" y="34491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9560" y="348624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25120" y="293220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567480" y="3070080"/>
                <a:ext cx="426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27080" y="5205240"/>
                <a:ext cx="3772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250760" y="28004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5680" y="1190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360" y="19684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hould represent this situ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5240" y="294012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9200" y="5356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F93-6411-4072-8A79-2CB7A92A8C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Stack Mach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Register Machine &amp; 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d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6280" y="399888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45280" y="500544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49960" y="2863800"/>
            <a:ext cx="196920" cy="1013040"/>
          </a:xfrm>
          <a:custGeom>
            <a:avLst/>
            <a:gdLst>
              <a:gd name="textAreaLeft" fmla="*/ 0 w 196920"/>
              <a:gd name="textAreaRight" fmla="*/ 70920 w 196920"/>
              <a:gd name="textAreaTop" fmla="*/ 26280 h 1013040"/>
              <a:gd name="textAreaBottom" fmla="*/ 986760 h 101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7560" y="491184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7080" y="4068720"/>
            <a:ext cx="220680" cy="709560"/>
          </a:xfrm>
          <a:custGeom>
            <a:avLst/>
            <a:gdLst>
              <a:gd name="textAreaLeft" fmla="*/ 0 w 220680"/>
              <a:gd name="textAreaRight" fmla="*/ 79560 w 220680"/>
              <a:gd name="textAreaTop" fmla="*/ 18360 h 709560"/>
              <a:gd name="textAreaBottom" fmla="*/ 69120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D5E-D6F8-4D27-B0ED-7F386DEFA8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3680" y="380520"/>
            <a:ext cx="885996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Names, binding, scope, type checking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4280" y="2565360"/>
            <a:ext cx="408960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(visi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1200" y="1297080"/>
            <a:ext cx="30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tatic int x = 17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id f(int x, int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i,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 = i + 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g(int i, int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k, 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i, 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2FB-AC48-419B-8A63-BBAFED1578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cop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variable is the range of statements over which it is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nlocal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rogram unit are those that are visible but not declar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ope rules of a language determine how references to names are associated with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0EC-2A7F-4C81-8E8E-EEBC9323C9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-values vs. R-valu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124800" y="1447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x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480" y="1523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97040" y="1864800"/>
            <a:ext cx="573120" cy="56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9880" y="24620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lo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54400" y="1923840"/>
            <a:ext cx="473040" cy="48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40960" y="24591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stored at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associated with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0240" y="4456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[j*2] = j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43750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s may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d at run-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155-EAD4-4C22-9FF7-2069C7F85E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27400" y="-360"/>
            <a:ext cx="46130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in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6200" y="115560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is not formally defined. Intuitively, we associate (that is, bind) an attribute with an entity. Examples of attributes are name, type,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occurs at various times in the life of a program. Three periods are usually consid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il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ctually, translation time, because binding happens both in compilers and interpreter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paring object code for execution, pulling in the necessary code for built-in operations or operations defined in libraries of modul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starting the program's execution and its termin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61A-F195-4968-955C-E4D7804445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ynamic binding is just a BAD IDE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57440" y="1774800"/>
            <a:ext cx="29239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f(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g(a) = f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 g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20800" y="3608280"/>
            <a:ext cx="1122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92280" y="37418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39960" y="370188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9840" y="3605040"/>
            <a:ext cx="1155600" cy="76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64320" y="45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66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720" y="5156280"/>
            <a:ext cx="62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hough dynamic scoping is easier to implement, reading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ing code can be nearly impos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977-30E2-4184-8EFC-E6E764B65E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3T09:29:01Z</dcterms:modified>
  <cp:revision>282</cp:revision>
  <dc:subject/>
  <dc:title>Slide 1</dc:title>
</cp:coreProperties>
</file>