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90AF-9C81-4538-9FCB-259BCACDC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AEBD-A588-4B18-8438-D19F7DFB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5580-E842-4384-84FA-CEAF1A270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865D-AA1C-412D-AB19-1F517C8DA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F839-CB92-47F8-BE4D-D752A310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6572-4322-4DE4-A516-58F16245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A638-A44A-40A5-80E8-797A416C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D238-E484-47D0-A056-0A3EF933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EE34-599C-476A-806E-BFAE9631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6084-3CE0-40B0-BAE4-05A22138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9BFE-CF77-43BE-AD6C-8856B23F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29DB-DA3F-4128-800C-872F97BF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D2DF-3D34-4ED5-9834-946BEDB71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10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6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ntinuation Passing Style (CPS)</a:t>
            </a:r>
            <a:br>
              <a:rPr sz="2800"/>
            </a:b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 Black"/>
              </a:rPr>
              <a:t>OPTIONAL TOPIC: </a:t>
            </a:r>
            <a:br>
              <a:rPr sz="2800"/>
            </a:b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 Black"/>
              </a:rPr>
              <a:t>WILL NOT BE EXAMINED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5742-6251-4B7B-BCFA-4447CEA9B4A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m4?  This is a “classical” result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193680" y="1235160"/>
            <a:ext cx="871488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*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dm4 : : (('a,'b) And -&gt; 'c) -&gt; ('a -&gt; ‘c,'b -&gt; 'c)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al callcc = SMLofNJ.Cont.callc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al throw = SMLofNJ.Cont.thro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un dm4 f = callcc(fn k =&gt; Left(fn a =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row k (Right(fn b =&gt; f(Pair(a,b)))))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0" y="4170240"/>
            <a:ext cx="9260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ional interpretatio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[callcc (fn j =&gt; Left(fn a =&gt; (..)))]  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ture current continuatio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[Left(fn a=&gt; (..))]                    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ed as if left branch is true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’[(fn a=&gt;(..))V]                       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function is ever applied to a value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[Right(fn b =&gt; Pair(V, b))]            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jump back to the original contex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AB5F-7EEF-4497-BD38-12C764FBC1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tinuation Passing Styl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0440" y="1784520"/>
            <a:ext cx="32288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rec fact n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f n &lt;=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n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lse n * (fact (n-1)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40" y="3427560"/>
            <a:ext cx="5910840" cy="204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rec fact_cps n r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f n &lt;=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n r(1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lse fact_cps (n-1) (function x -&gt; r(n * x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new_fact n = fact_cps n (function x -&gt; x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14600" y="2278080"/>
            <a:ext cx="1800" cy="1000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93160" y="2413080"/>
            <a:ext cx="17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S 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32320" y="3279600"/>
            <a:ext cx="29041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functions 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iven an ext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gument represen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est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s “never return” --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just call oth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CB47-4939-4088-A3F5-D71E67764F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PS on Lambda Ter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68160" y="982800"/>
                <a:ext cx="44452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::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ee</m:t>
                    </m:r>
                    <m:r>
                      <m:t xml:space="preserve">|</m:t>
                    </m:r>
                    <m:r>
                      <m:t xml:space="preserve">λ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674640" y="2154240"/>
                <a:ext cx="24526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708120" y="2905200"/>
                <a:ext cx="24526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58800" y="3651120"/>
                <a:ext cx="439416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λ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λ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716040" y="4699080"/>
                <a:ext cx="700092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t xml:space="preserve">λ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t xml:space="preserve">λ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mnk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378000" y="1938240"/>
            <a:ext cx="735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4200" y="5788080"/>
            <a:ext cx="735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858960" y="5759280"/>
                <a:ext cx="674352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(</m:t>
                    </m:r>
                    <m:r>
                      <m:t xml:space="preserve">λ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CF4C-E722-4B39-AE55-86E7774C26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an use CPS as intermediate form in a Compiler!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9" name=""/>
          <p:cNvSpPr/>
          <p:nvPr/>
        </p:nvSpPr>
        <p:spPr>
          <a:xfrm>
            <a:off x="794160" y="1725480"/>
            <a:ext cx="68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5760" y="231624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23000" y="254808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0480" y="345276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PS-Styl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2520" y="383688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19760" y="398448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32880" y="2219400"/>
            <a:ext cx="5019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 advantage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avoid using a stack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easily implement complex control constru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90120" y="5583240"/>
            <a:ext cx="537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“Compiling with Continuations” by Andrew 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EEA4-0310-4137-9E39-D4C88E72FC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Lucida Console"/>
              </a:rPr>
              <a:t>callcc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and </a:t>
            </a:r>
            <a:r>
              <a:rPr b="0" lang="en-US" sz="3200" spc="-1" strike="noStrike">
                <a:solidFill>
                  <a:srgbClr val="333399"/>
                </a:solidFill>
                <a:latin typeface="Lucida Console"/>
              </a:rPr>
              <a:t>throw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in SML of NJ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651240" y="1308240"/>
            <a:ext cx="42040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- val throw = SMLofNJ.Cont.thro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row : 'a ?.cont -&gt; 'a -&gt; '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5360" y="2773440"/>
            <a:ext cx="4325760" cy="13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al callcc = SMLofNJ.Cont.callc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allcc : ('a ?.cont -&gt; 'a) -&gt; '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487600" y="3805200"/>
            <a:ext cx="0" cy="1741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34080" y="5791320"/>
            <a:ext cx="39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esents the rest of the compu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6934-C1EF-466C-9EA7-9EAA3C6B5D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PS on Extended Lambda Ter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668160" y="1201680"/>
                <a:ext cx="44452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::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ee</m:t>
                    </m:r>
                    <m:r>
                      <m:t xml:space="preserve">|</m:t>
                    </m:r>
                    <m:r>
                      <m:t xml:space="preserve">λ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allcc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throw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19120" y="2111400"/>
                <a:ext cx="58849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allcc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(</m:t>
                    </m:r>
                    <m:r>
                      <m:t xml:space="preserve">λ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λ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λ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z</m:t>
                    </m:r>
                    <m:r>
                      <m:t xml:space="preserve">)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378000" y="1938240"/>
            <a:ext cx="735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1120" y="5667480"/>
            <a:ext cx="735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63680" y="2852640"/>
                <a:ext cx="60735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throw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k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(</m:t>
                    </m:r>
                    <m:r>
                      <m:t xml:space="preserve">λ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n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76280" y="4229280"/>
                <a:ext cx="81327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allcc</m:t>
                        </m:r>
                        <m:r>
                          <m:t xml:space="preserve"> </m:t>
                        </m:r>
                        <m:r>
                          <m:t xml:space="preserve">λ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λj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λ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λ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λ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z</m:t>
                    </m:r>
                    <m:r>
                      <m:t xml:space="preserve">)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541440" y="3808440"/>
            <a:ext cx="735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171880" y="4951440"/>
                <a:ext cx="431640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[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::</m:t>
                    </m:r>
                    <m:r>
                      <m:t xml:space="preserve">=</m:t>
                    </m:r>
                    <m:r>
                      <m:t xml:space="preserve">λ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λ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z</m:t>
                    </m:r>
                    <m:r>
                      <m:t xml:space="preserve">]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89080" y="5818320"/>
                <a:ext cx="82375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throw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λ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λ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λ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λ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z</m:t>
                    </m:r>
                    <m:r>
                      <m:t xml:space="preserve">)</m:t>
                    </m:r>
                    <m:r>
                      <m:t xml:space="preserve">n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λ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D0A7-2C9A-46A7-8361-5E4252D73F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call: De Morgan’s Laws as Code!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2260440" y="1109520"/>
            <a:ext cx="343620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d: (A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 || (B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p : A*B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d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l(f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f(fst p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r(g) -&gt; g(snd 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4520" y="324180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63520" y="3522600"/>
            <a:ext cx="48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(A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) || (B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)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*B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812960" y="4633920"/>
                <a:ext cx="4218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¬</m:t>
                    </m:r>
                    <m:r>
                      <m:t xml:space="preserve">A</m:t>
                    </m:r>
                    <m:r>
                      <m:t xml:space="preserve">∨</m:t>
                    </m:r>
                    <m:r>
                      <m:t xml:space="preserve">¬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¬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657000" y="4091040"/>
            <a:ext cx="54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a generalization of De Morgan’s 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8342280" y="4235400"/>
                <a:ext cx="5126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7316280" y="4170240"/>
            <a:ext cx="1789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hen re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lse by 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684920" y="4773600"/>
                <a:ext cx="114948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fals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7302600" y="3975120"/>
            <a:ext cx="1841400" cy="194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07120" y="5522760"/>
            <a:ext cx="591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this same thing be done with all of De Morgan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three rules?   Yes?  N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4641-7BED-4339-9A72-3694F0D4DB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ropositions as Types, in SM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603000" y="1515960"/>
            <a:ext cx="5910840" cy="423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datatype ('a,'b) And = Pair of 'a * '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*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irst : ('a,'b) And -&gt; 'a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un first (Pair(a,b)) = a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econd : ('a,'b) And -&gt; '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un second (Pair(a,b)) = 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datatype ('a,'b) Or = Left of 'a | Right of '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7920" y="5838840"/>
            <a:ext cx="7011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using Standard ML of New Jersey, which has a slightly diffe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ntax from Ocam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73720" y="6269040"/>
            <a:ext cx="2741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http://www.smlnj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FCB7-F4BB-407B-9257-8BD209CAE8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m1, dm2, dm3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649440" y="1163520"/>
            <a:ext cx="79988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(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m1 : ('a -&gt; 'b,'c -&gt; 'b) Or -&gt; ('a,'c) And -&gt; '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un dm1 d p = case d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ft f =&gt; f(first 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| Right g =&gt; g(second p)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0600" y="3052800"/>
            <a:ext cx="79988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(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m2: (('a,'b) Or -&gt; 'c) -&gt; ('a -&gt; 'c,'b -&gt; 'c)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un dm2 f  = Pair(fn a =&gt; f(Left a), fn b =&gt; f(Right b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7760" y="4502160"/>
            <a:ext cx="79988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(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m3 : ('a -&gt; 'b,'c -&gt; 'b) And -&gt; ('a,'c) Or -&gt; '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un dm3 p d = case d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ft a =&gt; ((first p) 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| Right b =&gt; ((second p) b)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C32C-B545-40AE-AAC1-E13F500012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26T07:16:59Z</dcterms:modified>
  <cp:revision>281</cp:revision>
  <dc:subject/>
  <dc:title>Slide 1</dc:title>
</cp:coreProperties>
</file>