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57AD-F9AE-456B-8F60-E5DD19E20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D8E7-C89D-4535-A038-3AA52157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5269-9093-4ADD-9E4F-FB3CB5BF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8064-8CE6-4E77-8842-428FD2F7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863A-C0FE-4D76-A3AA-39D068FF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B036-E3DD-40AD-A6F6-1C243CC8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BD38-FAAC-4591-B847-D55057F2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5939-2B02-4B90-BA79-D5AE057E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E8F2-1472-41CA-8FC3-08D82256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0D3F-6E16-4DF9-8CA3-124198BC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8EA5-5F9E-4AFE-9010-64A2374A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6D3F-40C7-4546-AB9B-EFE0EFF2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5A0C-DA10-4E5B-AEAB-83CB0021C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4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R Parsing --- PART 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9613-04DC-424A-8119-A5963CF197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新細明體"/>
              </a:rPr>
              <a:t>Q: How do we know when to shift and when to reduce? A: Build a FSA from LR(0) Item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4800" y="1471680"/>
            <a:ext cx="3200400" cy="2308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(G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A $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A )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|  (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1523880"/>
            <a:ext cx="4191120" cy="4008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 • A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::= A •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•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•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•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  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47640" y="5518080"/>
            <a:ext cx="350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R(0) items indicate what is on the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(to the left of the </a:t>
            </a:r>
            <a:r>
              <a:rPr b="0" lang="en-US" sz="1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新細明體"/>
              </a:rPr>
              <a:t> ) and what is still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新細明體"/>
              </a:rPr>
              <a:t>the input stream (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o the right of the </a:t>
            </a:r>
            <a:r>
              <a:rPr b="0" lang="en-US" sz="1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新細明體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2600" y="3962520"/>
            <a:ext cx="2399760" cy="2562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X ::= </a:t>
            </a: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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s a production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X ::=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s an LR(0) i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891E-C030-4600-A9F5-9FF9E27271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Key idea behind LR(0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3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“current state” contains the ite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• 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and the current symbol in the input buffer is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he state prompts parser to perform a shift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next state will contain A ::=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c •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“state” contains the ite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::=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he state prompts parser to perform a reduce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“state” contains the item S ::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• $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nd the input buffer is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he state prompts parser to ac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ut How about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新細明體"/>
              </a:rPr>
              <a:t>A ::= 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新細明體"/>
              </a:rPr>
              <a:t> • X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where X is a nontermi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0C55-B2B3-485E-92A4-CF05C8FAEE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The NFA for LR(0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新細明體"/>
              </a:rPr>
              <a:t>The transition of LR(0) items can be represented by an NFA, in wh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1. each LR(0) item is a sta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2. there is a transition from item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• c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to item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c •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with label c, where c is a terminal 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3. there is an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-transition from item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• X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 to X ::= •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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where X is a non-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4. S ::= • A $ is the star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5.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• is a final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A6BD-0709-4561-9E73-74E7EB05A7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Example NFA for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334800" y="1728720"/>
            <a:ext cx="8458200" cy="14922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::=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$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::= A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• $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)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A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)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A)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 (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)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)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 )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06440" y="3429000"/>
            <a:ext cx="8259480" cy="3008160"/>
            <a:chOff x="406440" y="3429000"/>
            <a:chExt cx="8259480" cy="3008160"/>
          </a:xfrm>
        </p:grpSpPr>
        <p:sp>
          <p:nvSpPr>
            <p:cNvPr id="120" name=""/>
            <p:cNvSpPr/>
            <p:nvPr/>
          </p:nvSpPr>
          <p:spPr>
            <a:xfrm>
              <a:off x="6188040" y="4819320"/>
              <a:ext cx="1904760" cy="416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73440" y="6021360"/>
              <a:ext cx="1904760" cy="415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35760" y="3832200"/>
              <a:ext cx="1904400" cy="414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73440" y="3832200"/>
              <a:ext cx="1904760" cy="414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58840" y="3832200"/>
              <a:ext cx="1904760" cy="41436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58840" y="6021360"/>
              <a:ext cx="1904760" cy="415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( 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11720" y="6021360"/>
              <a:ext cx="1904760" cy="4158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 )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97120" y="4819320"/>
              <a:ext cx="1904760" cy="416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58840" y="4819320"/>
              <a:ext cx="1904760" cy="416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124" idx="1"/>
              <a:endCxn id="125" idx="1"/>
            </p:cNvCxnSpPr>
            <p:nvPr/>
          </p:nvCxnSpPr>
          <p:spPr>
            <a:xfrm flipH="1" flipV="1" rot="10800000">
              <a:off x="1144080" y="4037400"/>
              <a:ext cx="2160" cy="2191320"/>
            </a:xfrm>
            <a:prstGeom prst="curvedConnector5">
              <a:avLst>
                <a:gd name="adj1" fmla="val -41000000"/>
                <a:gd name="adj2" fmla="val 50000"/>
                <a:gd name="adj3" fmla="val -41000000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1"/>
              <a:endCxn id="128" idx="1"/>
            </p:cNvCxnSpPr>
            <p:nvPr/>
          </p:nvCxnSpPr>
          <p:spPr>
            <a:xfrm flipH="1" flipV="1" rot="10800000">
              <a:off x="1144080" y="4037040"/>
              <a:ext cx="2160" cy="989280"/>
            </a:xfrm>
            <a:prstGeom prst="curvedConnector5">
              <a:avLst>
                <a:gd name="adj1" fmla="val -13500000"/>
                <a:gd name="adj2" fmla="val 49981"/>
                <a:gd name="adj3" fmla="val -13500000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4" idx="3"/>
              <a:endCxn id="123" idx="1"/>
            </p:cNvCxnSpPr>
            <p:nvPr/>
          </p:nvCxnSpPr>
          <p:spPr>
            <a:xfrm>
              <a:off x="3078000" y="4038120"/>
              <a:ext cx="5763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2" name=""/>
            <p:cNvCxnSpPr>
              <a:stCxn id="128" idx="3"/>
              <a:endCxn id="127" idx="1"/>
            </p:cNvCxnSpPr>
            <p:nvPr/>
          </p:nvCxnSpPr>
          <p:spPr>
            <a:xfrm>
              <a:off x="3078000" y="5027040"/>
              <a:ext cx="5054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3" name=""/>
            <p:cNvCxnSpPr>
              <a:stCxn id="127" idx="3"/>
              <a:endCxn id="120" idx="1"/>
            </p:cNvCxnSpPr>
            <p:nvPr/>
          </p:nvCxnSpPr>
          <p:spPr>
            <a:xfrm>
              <a:off x="5516640" y="5027040"/>
              <a:ext cx="6573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4" name=""/>
            <p:cNvCxnSpPr>
              <a:stCxn id="125" idx="3"/>
              <a:endCxn id="121" idx="1"/>
            </p:cNvCxnSpPr>
            <p:nvPr/>
          </p:nvCxnSpPr>
          <p:spPr>
            <a:xfrm>
              <a:off x="3077640" y="6228720"/>
              <a:ext cx="5814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5" name=""/>
            <p:cNvCxnSpPr>
              <a:stCxn id="120" idx="3"/>
              <a:endCxn id="122" idx="3"/>
            </p:cNvCxnSpPr>
            <p:nvPr/>
          </p:nvCxnSpPr>
          <p:spPr>
            <a:xfrm flipH="1" flipV="1">
              <a:off x="7958880" y="4038120"/>
              <a:ext cx="147960" cy="989280"/>
            </a:xfrm>
            <a:prstGeom prst="curvedConnector5">
              <a:avLst>
                <a:gd name="adj1" fmla="val -145121"/>
                <a:gd name="adj2" fmla="val 49981"/>
                <a:gd name="adj3" fmla="val -145121"/>
              </a:avLst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6" name=""/>
            <p:cNvCxnSpPr>
              <a:stCxn id="121" idx="3"/>
              <a:endCxn id="126" idx="1"/>
            </p:cNvCxnSpPr>
            <p:nvPr/>
          </p:nvCxnSpPr>
          <p:spPr>
            <a:xfrm>
              <a:off x="5592600" y="6228720"/>
              <a:ext cx="500400" cy="10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7" name=""/>
            <p:cNvCxnSpPr>
              <a:stCxn id="127" idx="2"/>
              <a:endCxn id="125" idx="0"/>
            </p:cNvCxnSpPr>
            <p:nvPr/>
          </p:nvCxnSpPr>
          <p:spPr>
            <a:xfrm rot="5400000">
              <a:off x="2953440" y="4410000"/>
              <a:ext cx="753480" cy="2438640"/>
            </a:xfrm>
            <a:prstGeom prst="bentConnector3">
              <a:avLst>
                <a:gd name="adj1" fmla="val 47466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27" idx="0"/>
              <a:endCxn id="128" idx="0"/>
            </p:cNvCxnSpPr>
            <p:nvPr/>
          </p:nvCxnSpPr>
          <p:spPr>
            <a:xfrm rot="5400000">
              <a:off x="3328920" y="3584520"/>
              <a:ext cx="2520" cy="2438640"/>
            </a:xfrm>
            <a:prstGeom prst="curvedConnector5">
              <a:avLst>
                <a:gd name="adj1" fmla="val -23800000"/>
                <a:gd name="adj2" fmla="val 49992"/>
                <a:gd name="adj3" fmla="val -23800000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sp>
          <p:nvSpPr>
            <p:cNvPr id="139" name=""/>
            <p:cNvSpPr/>
            <p:nvPr/>
          </p:nvSpPr>
          <p:spPr>
            <a:xfrm>
              <a:off x="3125880" y="3429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64160" y="4417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25160" y="45068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25160" y="5675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16080" y="5584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382960" y="42368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92520" y="423216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49560" y="513072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70320" y="427500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87BF-2ED5-45B4-B0A6-17992A0FF0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The DFA from LR(0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6040" y="1114200"/>
            <a:ext cx="8229600" cy="270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fter the NFA for LR(0) is constructed, the resulting DFA for LR(0) parsing can be obtained by the usual NFA2DFA co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we thus requ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-closure (I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move(S, 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3868560"/>
            <a:ext cx="8229600" cy="258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Fixed Point Algorithm for 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very item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is also an item in 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•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is in 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and B ::= •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is an item,  then add B ::= •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to 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Repeat until no more new items can be added 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C696-6EDA-4F42-A2C3-5B577A1B8D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79440" y="152280"/>
            <a:ext cx="838188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Examples of 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9440" y="1447920"/>
            <a:ext cx="5181480" cy="2087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losure(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::= (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12960" y="2209680"/>
            <a:ext cx="38098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   (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::=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::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4360" y="220968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264920" y="220968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81000" y="4583160"/>
            <a:ext cx="38102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$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2400" y="458316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334040" y="458316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7840" y="3821040"/>
            <a:ext cx="4435200" cy="2595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losure({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 ::=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$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73920" y="1708200"/>
            <a:ext cx="2904840" cy="4008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 • A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::= A •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•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•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•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  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8653-8B30-46E8-ACC5-F99B4EEA45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Goto() of a set of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Goto finds the new state after consuming a grammar symbol while in the current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lgorithm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Go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whe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s a set of item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s a non-termi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7720" y="4191120"/>
            <a:ext cx="889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oto(I, X) = Closure(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X •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•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5257800"/>
            <a:ext cx="7086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goto is the new set obtained by “moving the dot” over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657D-B6D4-491F-B101-C29B7FB8C3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79440" y="152280"/>
            <a:ext cx="838188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Examples of G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9440" y="1447920"/>
            <a:ext cx="5486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Goto ({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•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27360" y="2209680"/>
            <a:ext cx="28954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2960" y="2209680"/>
            <a:ext cx="38098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   (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220968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264920" y="220968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960" y="3692520"/>
            <a:ext cx="4687920" cy="27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Goto ({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( •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41480" y="4454640"/>
            <a:ext cx="3809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812880" y="4378320"/>
            <a:ext cx="3885840" cy="685800"/>
            <a:chOff x="812880" y="4378320"/>
            <a:chExt cx="3885840" cy="685800"/>
          </a:xfrm>
        </p:grpSpPr>
        <p:sp>
          <p:nvSpPr>
            <p:cNvPr id="175" name=""/>
            <p:cNvSpPr/>
            <p:nvPr/>
          </p:nvSpPr>
          <p:spPr>
            <a:xfrm>
              <a:off x="812880" y="4378320"/>
              <a:ext cx="304920" cy="685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4393440" y="4378320"/>
              <a:ext cx="304920" cy="685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738760" y="1812960"/>
            <a:ext cx="2905200" cy="4008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 • A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::= A •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•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•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•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  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DB64-B67E-4BED-AB06-6E0D94BA64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74320" y="1306440"/>
            <a:ext cx="853452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ssentially the usual NFA2DFA construction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Let A be the start symbol and S a new start symb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reate a new rule S ::= A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reate the first state to be Closure({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$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ick a sta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for each item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find Go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Go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is not already a state, make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dd an edge X from sta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to Go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Repeat until no more addition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76320"/>
            <a:ext cx="838224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Building the DFA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31A4-6C5E-4195-9895-CE3CA6A824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0880" y="228600"/>
            <a:ext cx="838224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DFA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9120" y="2530440"/>
            <a:ext cx="1905120" cy="84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4360" y="223344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43200" y="210672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000" y="180972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/>
          <p:nvPr/>
        </p:nvCxnSpPr>
        <p:spPr>
          <a:xfrm flipH="1" flipV="1" rot="5400000">
            <a:off x="2433240" y="1320120"/>
            <a:ext cx="234000" cy="21582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2203560" y="19414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7240" y="2741760"/>
            <a:ext cx="1981080" cy="11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15680" y="24447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2438280" y="2952360"/>
            <a:ext cx="1115280" cy="353160"/>
          </a:xfrm>
          <a:prstGeom prst="curvedConnector5">
            <a:avLst>
              <a:gd name="adj1" fmla="val 49983"/>
              <a:gd name="adj2" fmla="val 50000"/>
              <a:gd name="adj3" fmla="val 49983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2653920" y="3024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919920" y="3446640"/>
            <a:ext cx="1905120" cy="352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endCxn id="191" idx="1"/>
          </p:cNvCxnSpPr>
          <p:nvPr/>
        </p:nvCxnSpPr>
        <p:spPr>
          <a:xfrm flipV="1">
            <a:off x="5548320" y="3622320"/>
            <a:ext cx="1357920" cy="248400"/>
          </a:xfrm>
          <a:prstGeom prst="curvedConnector5">
            <a:avLst>
              <a:gd name="adj1" fmla="val 50517"/>
              <a:gd name="adj2" fmla="val 49927"/>
              <a:gd name="adj3" fmla="val 50517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6234120" y="36669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44680" y="30942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/>
          <p:nvPr/>
        </p:nvCxnSpPr>
        <p:spPr>
          <a:xfrm flipH="1" rot="16200000">
            <a:off x="5273640" y="3017160"/>
            <a:ext cx="564120" cy="15120"/>
          </a:xfrm>
          <a:prstGeom prst="curvedConnector5">
            <a:avLst>
              <a:gd name="adj1" fmla="val -21839"/>
              <a:gd name="adj2" fmla="val 2787804"/>
              <a:gd name="adj3" fmla="val -21839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6006960" y="26701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67240" y="4505400"/>
            <a:ext cx="190476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endCxn id="197" idx="0"/>
          </p:cNvCxnSpPr>
          <p:nvPr/>
        </p:nvCxnSpPr>
        <p:spPr>
          <a:xfrm rot="5400000">
            <a:off x="4233960" y="4167720"/>
            <a:ext cx="60876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4870080" y="39402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2000" y="41529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19920" y="450540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endCxn id="201" idx="0"/>
          </p:cNvCxnSpPr>
          <p:nvPr/>
        </p:nvCxnSpPr>
        <p:spPr>
          <a:xfrm flipV="1" rot="10800000">
            <a:off x="7871760" y="3812760"/>
            <a:ext cx="1080" cy="6786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7835760" y="3870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44680" y="41529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436F-E6B9-4B7E-A7D1-AB11BC6947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But wait! What if there are conflicts in the predictive parsing table?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132560" y="1201680"/>
            <a:ext cx="1689480" cy="22885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7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d | X Y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Y ::= c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X ::= Y |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35920" y="1722600"/>
            <a:ext cx="39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60880" y="1611360"/>
            <a:ext cx="40384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2760" y="1255680"/>
            <a:ext cx="39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          FIRST          FO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68160" y="1676520"/>
            <a:ext cx="718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37960" y="1676520"/>
            <a:ext cx="104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d ,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a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85520" y="1676520"/>
            <a:ext cx="1183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d,a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 a,d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9360" y="4952880"/>
            <a:ext cx="39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800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46640" y="4379760"/>
            <a:ext cx="46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                          c                             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9960" y="4876920"/>
            <a:ext cx="228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S ::= X Y S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Y ::= 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X ::= a,  X ::= Y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5600" y="4876920"/>
            <a:ext cx="2027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S ::= X Y S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Y ::=  , Y ::= c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X ::= Y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56360" y="4876920"/>
            <a:ext cx="261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S ::= X Y S, S ::= d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Y ::= 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X ::= Y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5334120"/>
            <a:ext cx="243828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4800600"/>
            <a:ext cx="289548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943600"/>
            <a:ext cx="243828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71120" y="3854520"/>
            <a:ext cx="58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resulting “predictive” table is not so predictiv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5D8C-1C7A-4758-8C7B-C9216B134F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0880" y="763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Building Parse Tabl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5120" y="4335480"/>
            <a:ext cx="1905120" cy="84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0360" y="40384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19560" y="3911760"/>
            <a:ext cx="190476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68000" y="36147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"/>
          <p:cNvCxnSpPr/>
          <p:nvPr/>
        </p:nvCxnSpPr>
        <p:spPr>
          <a:xfrm flipH="1" flipV="1" rot="5400000">
            <a:off x="2109240" y="3125160"/>
            <a:ext cx="234000" cy="21582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1879920" y="3746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43240" y="4546440"/>
            <a:ext cx="1981080" cy="1128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92040" y="42498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"/>
          <p:cNvCxnSpPr/>
          <p:nvPr/>
        </p:nvCxnSpPr>
        <p:spPr>
          <a:xfrm>
            <a:off x="2114280" y="4757400"/>
            <a:ext cx="1114920" cy="3531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2330280" y="48290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595920" y="525132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>
            <a:endCxn id="216" idx="1"/>
          </p:cNvCxnSpPr>
          <p:nvPr/>
        </p:nvCxnSpPr>
        <p:spPr>
          <a:xfrm flipV="1">
            <a:off x="5223960" y="5427360"/>
            <a:ext cx="1358280" cy="248400"/>
          </a:xfrm>
          <a:prstGeom prst="curvedConnector5">
            <a:avLst>
              <a:gd name="adj1" fmla="val 50503"/>
              <a:gd name="adj2" fmla="val 49927"/>
              <a:gd name="adj3" fmla="val 50503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5910480" y="5472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521040" y="48988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"/>
          <p:cNvCxnSpPr/>
          <p:nvPr/>
        </p:nvCxnSpPr>
        <p:spPr>
          <a:xfrm flipH="1" rot="16200000">
            <a:off x="4949640" y="4822200"/>
            <a:ext cx="564120" cy="15120"/>
          </a:xfrm>
          <a:prstGeom prst="curvedConnector5">
            <a:avLst>
              <a:gd name="adj1" fmla="val -21839"/>
              <a:gd name="adj2" fmla="val 2787804"/>
              <a:gd name="adj3" fmla="val -21839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5682960" y="4475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3240" y="631044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"/>
          <p:cNvCxnSpPr>
            <a:endCxn id="222" idx="0"/>
          </p:cNvCxnSpPr>
          <p:nvPr/>
        </p:nvCxnSpPr>
        <p:spPr>
          <a:xfrm rot="5400000">
            <a:off x="3910320" y="5972760"/>
            <a:ext cx="60876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546440" y="57452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68000" y="5958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95920" y="631044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"/>
          <p:cNvCxnSpPr>
            <a:endCxn id="226" idx="0"/>
          </p:cNvCxnSpPr>
          <p:nvPr/>
        </p:nvCxnSpPr>
        <p:spPr>
          <a:xfrm flipV="1" rot="10800000">
            <a:off x="7547760" y="5617800"/>
            <a:ext cx="1080" cy="6786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7511760" y="56754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21040" y="5958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Creating the Parse Table(s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225520" y="1084320"/>
          <a:ext cx="7112160" cy="250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5520" y="1084320"/>
                    <a:ext cx="7112160" cy="25081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-17640" y="1484280"/>
            <a:ext cx="2087640" cy="2050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(G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A$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34A9-8EF7-4602-9F02-A6A197A5CF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arsing with an LR 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5" name=""/>
          <p:cNvSpPr/>
          <p:nvPr/>
        </p:nvSpPr>
        <p:spPr>
          <a:xfrm>
            <a:off x="316080" y="1333440"/>
            <a:ext cx="86295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se table and top-of-stack and input symbol to get a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 action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hift sn  : advance input one tok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 sn on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duce X ::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: pop stack 2* 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| times (grammar symb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re paired with states).  In the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ow on top of stac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se goto table to get n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tate s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 it on top of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ccept : stop and ac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rror : weep (actually, produce a good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essag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F1DE-DBA1-48F5-B1A8-A9317B9433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0880" y="763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Building Parse Tabl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Parsing, again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286000" y="990720"/>
          <a:ext cx="7112160" cy="273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990720"/>
                    <a:ext cx="7112160" cy="27320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1526040" y="4010040"/>
            <a:ext cx="6136560" cy="2837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                                  (())$                           shift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                            ())$                           shift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( s2                        ))$                          shift s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( s2 ) s5                  )$                           reduce A ::=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A                            )$                            goto 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A s3                       )$                            shift 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A s3 ) s4                 $                            reduce A::=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A                                    $                            goto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A s1                               $                            ACCEP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287360"/>
            <a:ext cx="2087640" cy="2051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(G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A$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29E0-3C96-4934-88A0-9A83FDDC96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R Parsing Algorith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28480" y="2200320"/>
          <a:ext cx="1265400" cy="4657680"/>
        </p:xfrm>
        <a:graphic>
          <a:graphicData uri="http://schemas.openxmlformats.org/drawingml/2006/table">
            <a:tbl>
              <a:tblPr/>
              <a:tblGrid>
                <a:gridCol w="126540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3271680" y="1125360"/>
          <a:ext cx="3774960" cy="517680"/>
        </p:xfrm>
        <a:graphic>
          <a:graphicData uri="http://schemas.openxmlformats.org/drawingml/2006/table">
            <a:tbl>
              <a:tblPr/>
              <a:tblGrid>
                <a:gridCol w="628560"/>
                <a:gridCol w="630360"/>
                <a:gridCol w="628560"/>
                <a:gridCol w="628560"/>
                <a:gridCol w="630360"/>
                <a:gridCol w="6285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2954160" y="4343400"/>
          <a:ext cx="4596120" cy="2138040"/>
        </p:xfrm>
        <a:graphic>
          <a:graphicData uri="http://schemas.openxmlformats.org/drawingml/2006/table">
            <a:tbl>
              <a:tblPr/>
              <a:tblGrid>
                <a:gridCol w="2298960"/>
                <a:gridCol w="2297160"/>
              </a:tblGrid>
              <a:tr h="21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ction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erminals and 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         four differ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         a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Goto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on-termi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            each item 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           a sta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           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3305160" y="5105520"/>
            <a:ext cx="147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305160" y="5105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627520" y="5105520"/>
            <a:ext cx="14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627520" y="51055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587760" y="2438280"/>
          <a:ext cx="2695680" cy="1211400"/>
        </p:xfrm>
        <a:graphic>
          <a:graphicData uri="http://schemas.openxmlformats.org/drawingml/2006/table">
            <a:tbl>
              <a:tblPr/>
              <a:tblGrid>
                <a:gridCol w="2695680"/>
              </a:tblGrid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 Parsing Algorit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599760" y="1189080"/>
            <a:ext cx="19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tack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tate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rammar symb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91080" y="114444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443360" y="275112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1898640" y="2549160"/>
            <a:ext cx="1689120" cy="42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010040" y="3657600"/>
            <a:ext cx="8431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53160" y="3657600"/>
            <a:ext cx="9144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924440" y="17521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330960" y="3048120"/>
            <a:ext cx="1125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C68A-EAB4-4DDB-8AB9-66A57E6F71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L(1), LL(k), LR(0), LR(1), 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(k) : (L)eft-to-right parse, (L)eft-most derivation, k-symbol lookahead.  Based on looking at the next k tokens, an LL(k) parser mu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di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next production. We have been looking at LL(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R(k) : (L)eft-to-right parse, (R)ight-most derivation, k-symbol lookahead. Postpone production selection unti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enti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ight-hand-side has been seen (and as many as k symbols beyond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LR(1) : A special subclass of LR(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524A-EB4B-4460-B1F2-CE8DBFB3CB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FG World M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5962680" cy="4962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26160" y="6151680"/>
            <a:ext cx="70754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From Andrew Appel, “Modern Compiler Implementation in Java” page 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3840" y="2819520"/>
            <a:ext cx="228240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Most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anguage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grammars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ALR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FA70-F315-4363-ADB5-BD0BB757BC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ampl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2825280" y="1308240"/>
            <a:ext cx="3280680" cy="20142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S ; S | ID = E | print (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| NUM | E + E | (S, 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 | L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66440" y="4308480"/>
            <a:ext cx="6221880" cy="20142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S SEMI S | ID EQUAL E | PRINT LPAREN L R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| NUM | E PLUS E | LPAREN S COMMA E R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 | L COMMA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6320" y="3927600"/>
            <a:ext cx="60559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consistent, I should write the following, but I won’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9C30-65CF-4B76-962C-EFFE348936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Right-most derivation 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425520" y="1295280"/>
            <a:ext cx="1558440" cy="36601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= S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print (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E +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S, 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L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1066680"/>
            <a:ext cx="5105520" cy="76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UM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UM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(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= c + ( d = 5 + 6, d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UM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; b = c + ( d = 5 + 6, 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= 7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= 7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B607-B365-4DB4-836E-3D7F44CC97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ow, turn it upside down 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1976400" y="988920"/>
            <a:ext cx="4800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= NUM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= E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c + ( d = 5 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ID + ( d = 5 + 6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NUM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 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 + NUM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 + E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S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S, I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S,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7713-E45F-44E3-A256-EE57A367F5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ow, slice it down the middle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7" name=""/>
          <p:cNvSpPr/>
          <p:nvPr/>
        </p:nvSpPr>
        <p:spPr>
          <a:xfrm>
            <a:off x="149400" y="1000080"/>
            <a:ext cx="3124080" cy="478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D =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D = 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 +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 +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S, 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S, E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84640" y="1023840"/>
            <a:ext cx="5276880" cy="456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a = 7 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= 7 ; b = c + ( d = 5 + 6, d )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= c + ( d = 5 + 6, d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6, d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)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3440" y="5813280"/>
            <a:ext cx="2681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 stack of termin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n-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24480" y="5533920"/>
            <a:ext cx="2911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rest of the input st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163440" y="126360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4810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69848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382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63440" y="21668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163440" y="234792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163440" y="255420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63440" y="27590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-581040" y="29538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-352440" y="31824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-123840" y="34110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04760" y="36396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-139680" y="3822840"/>
            <a:ext cx="10059840" cy="1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-384120" y="40050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-606600" y="423504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-514440" y="446220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-378000" y="446364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-149400" y="469224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-347760" y="490968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0" y="5081760"/>
            <a:ext cx="10059840" cy="1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0" y="528444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0268-F853-4B69-AB96-84D46258AA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Now, add some actions. s = SHIFT, r = REDUCE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914400"/>
            <a:ext cx="3124080" cy="617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914400"/>
            <a:ext cx="3657600" cy="61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= c + ( d = 5 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81680" y="914400"/>
            <a:ext cx="2362320" cy="72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E+E, 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r E ::= (S,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S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13240" y="6481800"/>
            <a:ext cx="1153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7320" y="5950080"/>
            <a:ext cx="5164200" cy="717480"/>
          </a:xfrm>
          <a:prstGeom prst="leftArrow">
            <a:avLst>
              <a:gd name="adj1" fmla="val 50000"/>
              <a:gd name="adj2" fmla="val 179942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HIFT = LEX + move token to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3486-F072-4974-A476-CFBB6A0DFD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9T13:21:26Z</dcterms:modified>
  <cp:revision>269</cp:revision>
  <dc:subject/>
  <dc:title>Slide 1</dc:title>
</cp:coreProperties>
</file>