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move the slid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DE920-5D84-4972-A19E-2BE3B70ED6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CC0CF-B757-4340-8C3E-DD7DE60AC0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6932A-4BC7-40A8-8208-9374939D32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6F591-796D-4978-9F23-52E0877D35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4981F-84F4-404B-BA54-6D5E2E8507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138AE-C475-4396-B069-F881C10C37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D1FCF-DA97-487A-AF15-299626382D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9BFBB-0B0B-4449-98EE-9458BF65A5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4B6B-1B93-469E-8B17-7C5DB14DD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DE88-6DFF-4BA0-A99B-BB12AB709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2E0D-C8A0-4ECB-A377-1ACD42727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222C-2C77-4065-B7E7-270F6343A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CD61-EA9A-4985-AABF-F5C944D33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97F8-4D01-4C17-A106-A7DC46D44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D495-8574-4CE0-AF82-F8818E0D9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BBC2-DA27-4EC7-AEB6-82D1EF34B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6554-2663-4EC3-BA94-DAFDE6C37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90C5-0B74-44BE-A9FF-8589D056F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E488-A0AF-4FA5-A68A-19B9215D6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6DE8-3908-4E95-B27A-72C22ABD0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C76B9-8F9E-4F75-BA90-AD51098EB9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492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iler Construction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 05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R Parsing --- PART II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2004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nt Term, 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r: Timothy G. Griff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uter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University of Cambridg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0723-1705-4A6F-BC3F-B7B2039A286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LALR State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11120" y="11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 for example the LR(1) st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{[X </a:t>
            </a:r>
            <a:r>
              <a:rPr b="0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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ff0000"/>
                </a:solidFill>
                <a:latin typeface="cmsy10"/>
              </a:rPr>
              <a:t>.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, a], [Y </a:t>
            </a:r>
            <a:r>
              <a:rPr b="0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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ff0000"/>
                </a:solidFill>
                <a:latin typeface="cmsy10"/>
              </a:rPr>
              <a:t>.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, c]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           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{[X </a:t>
            </a:r>
            <a:r>
              <a:rPr b="0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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ff0000"/>
                </a:solidFill>
                <a:latin typeface="cmsy10"/>
              </a:rPr>
              <a:t>.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, b], [Y </a:t>
            </a:r>
            <a:r>
              <a:rPr b="0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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ff0000"/>
                </a:solidFill>
                <a:latin typeface="cmsy10"/>
              </a:rPr>
              <a:t>.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, d]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have the sam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can be merged to the st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{[X </a:t>
            </a:r>
            <a:r>
              <a:rPr b="0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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ff0000"/>
                </a:solidFill>
                <a:latin typeface="cmsy10"/>
              </a:rPr>
              <a:t>.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, a/b], [Y </a:t>
            </a:r>
            <a:r>
              <a:rPr b="0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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ff0000"/>
                </a:solidFill>
                <a:latin typeface="cmsy10"/>
              </a:rPr>
              <a:t>.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, c/d]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are called LALR(1) stat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s for LookAhead L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ically 10 times fewer LALR(1) states than LR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240C-87BF-4D68-A40B-CAA9ED868EC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33399"/>
                </a:solidFill>
                <a:latin typeface="Arial Black"/>
              </a:rPr>
              <a:t>For LALR(1), Collapse States ...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84360" y="1700280"/>
            <a:ext cx="7831080" cy="40323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565440" y="5197320"/>
            <a:ext cx="4803840" cy="636840"/>
          </a:xfrm>
          <a:prstGeom prst="rect">
            <a:avLst/>
          </a:prstGeom>
          <a:noFill/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506760" y="3576600"/>
            <a:ext cx="2211480" cy="106524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227240" y="3830760"/>
            <a:ext cx="7662600" cy="2512800"/>
          </a:xfrm>
          <a:custGeom>
            <a:avLst/>
            <a:gdLst/>
            <a:ahLst/>
            <a:rect l="l" t="t" r="r" b="b"/>
            <a:pathLst>
              <a:path w="4827" h="1583">
                <a:moveTo>
                  <a:pt x="0" y="336"/>
                </a:moveTo>
                <a:lnTo>
                  <a:pt x="51" y="1583"/>
                </a:lnTo>
                <a:lnTo>
                  <a:pt x="4827" y="1546"/>
                </a:lnTo>
                <a:lnTo>
                  <a:pt x="4754" y="0"/>
                </a:lnTo>
                <a:lnTo>
                  <a:pt x="3084" y="15"/>
                </a:lnTo>
                <a:lnTo>
                  <a:pt x="3069" y="751"/>
                </a:lnTo>
                <a:lnTo>
                  <a:pt x="4681" y="759"/>
                </a:lnTo>
                <a:lnTo>
                  <a:pt x="4717" y="1451"/>
                </a:lnTo>
                <a:lnTo>
                  <a:pt x="1123" y="1444"/>
                </a:lnTo>
                <a:lnTo>
                  <a:pt x="1247" y="292"/>
                </a:lnTo>
                <a:lnTo>
                  <a:pt x="0" y="336"/>
                </a:lnTo>
                <a:close/>
              </a:path>
            </a:pathLst>
          </a:custGeom>
          <a:noFill/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449520" y="3067200"/>
            <a:ext cx="2511720" cy="2025360"/>
          </a:xfrm>
          <a:custGeom>
            <a:avLst/>
            <a:gdLst/>
            <a:ahLst/>
            <a:rect l="l" t="t" r="r" b="b"/>
            <a:pathLst>
              <a:path w="1582" h="1276">
                <a:moveTo>
                  <a:pt x="58" y="29"/>
                </a:moveTo>
                <a:lnTo>
                  <a:pt x="51" y="241"/>
                </a:lnTo>
                <a:lnTo>
                  <a:pt x="1538" y="241"/>
                </a:lnTo>
                <a:lnTo>
                  <a:pt x="1538" y="1050"/>
                </a:lnTo>
                <a:lnTo>
                  <a:pt x="7" y="1043"/>
                </a:lnTo>
                <a:lnTo>
                  <a:pt x="0" y="1276"/>
                </a:lnTo>
                <a:lnTo>
                  <a:pt x="1582" y="1262"/>
                </a:lnTo>
                <a:lnTo>
                  <a:pt x="1582" y="0"/>
                </a:lnTo>
                <a:lnTo>
                  <a:pt x="58" y="29"/>
                </a:lnTo>
                <a:close/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79640" y="1119240"/>
            <a:ext cx="548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Combine states 6 and 13, 7 and 12, 8 and 11, 10 and 1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FF11-0DBA-4403-88A9-E879583783F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33399"/>
                </a:solidFill>
                <a:latin typeface="Arial Black"/>
              </a:rPr>
              <a:t>LALR(1)-parse-tabl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762120"/>
                <a:gridCol w="762120"/>
                <a:gridCol w="761760"/>
                <a:gridCol w="762120"/>
                <a:gridCol w="762120"/>
                <a:gridCol w="761760"/>
                <a:gridCol w="762120"/>
                <a:gridCol w="762120"/>
              </a:tblGrid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9D5E-BC6B-4C13-9599-9C6EB2E060E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LALR vs. LR Parsing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LR languages are not “natural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are an efficiency hack on LR langu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may see claims that any reasonable programming language has a LALR(1) grammar, {Arguably this is done by defining languages without an LALR(1) grammar as unreasonabl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}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any case, LALR(1) has become a standard for programming languages and for parser generators, in spite of its apparent complexit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ED47-1103-4729-9581-CE56CCB3C29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Lexer and Parser Generators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2" name=""/>
          <p:cNvSpPr/>
          <p:nvPr/>
        </p:nvSpPr>
        <p:spPr>
          <a:xfrm>
            <a:off x="471600" y="1238400"/>
            <a:ext cx="719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http://catalog.compilertools.net/lexparse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155960" y="1746360"/>
            <a:ext cx="18295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ACC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AFLEX AYAC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ANA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BI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BISON/EIFF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BTYAC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BYAC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COGENC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CO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DEPOT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FLEX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560040" y="1798560"/>
            <a:ext cx="2093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HAPP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HOLU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99"/>
                </a:solidFill>
                <a:uFillTx/>
                <a:latin typeface="Arial Black"/>
              </a:rPr>
              <a:t>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LL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PCYAC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PREC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PROGRAMM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R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VISUALPARSE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99"/>
                </a:solidFill>
                <a:uFillTx/>
                <a:latin typeface="Arial Black"/>
              </a:rPr>
              <a:t>YAC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YACC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299040" y="5722920"/>
            <a:ext cx="4223880" cy="3988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I’ll use ocamllex and ocamlyacc 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75BC-0D69-4736-88A0-3ECFEB4CE24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ast.ml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7" name=""/>
          <p:cNvSpPr/>
          <p:nvPr/>
        </p:nvSpPr>
        <p:spPr>
          <a:xfrm>
            <a:off x="368640" y="1589040"/>
            <a:ext cx="81054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type binary_op = PlusOp | TimesOp | MinusOp | DivO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type unary_op = UnaryMinusO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type ast = Ident of str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| Number of i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| Unary of unary_op * a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| Binary of binary_op * ast * a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9F0C-B225-4A27-88BA-B40284987AD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parser.mly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9" name=""/>
          <p:cNvSpPr/>
          <p:nvPr/>
        </p:nvSpPr>
        <p:spPr>
          <a:xfrm>
            <a:off x="-322920" y="966960"/>
            <a:ext cx="700812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%token &lt;int&gt; 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%token &lt;string&gt; ID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%token PLUS MINUS TIMES DI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%token LPAREN RPAR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%token E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%left PLUS MINUS        /* lowest precedence 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%left TIMES DIV         /* medium precedence 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%nonassoc UMINUS        /* highest precedence 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%start parse_it         /* the entry point 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%type &lt;ast&gt; parse_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%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parse_i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expr EOF                { $1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exp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NT                     { Number($1)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| IDENT                   { Ident($1)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| LPAREN expr RPAREN      { $2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| expr PLUS expr          { Binary(PlusOp, $1, $3)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| expr MINUS expr         { Binary(MinusOp, $1, $3)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| expr TIMES expr         { Binary(TimesOp, $1, $3)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| expr DIV expr           { Binary(DivOp, $1, $3)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| MINUS expr %prec UMINUS { Unary(UnaryMinusOp, $2) 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855440" y="6089760"/>
            <a:ext cx="4280400" cy="6426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ocamlyacc parser.mly  </a:t>
            </a:r>
            <a:r>
              <a:rPr b="0" lang="en-US" sz="18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parser.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in this case producing a 21-state DF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7238-771E-497D-8235-DAA9952185C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lexer.mll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92" name=""/>
          <p:cNvSpPr/>
          <p:nvPr/>
        </p:nvSpPr>
        <p:spPr>
          <a:xfrm>
            <a:off x="588960" y="1873080"/>
            <a:ext cx="818172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rule tokenize = par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[' ' '\t' '\n' ]     { tokenize lexbuf } (* skip white-space *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| ['a'-'z' 'A'-'Z']['a'-'z' 'A'-'Z' '0'-'9']* as lxm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{ IDENT(lxm)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| ['0'-'9']+ as lxm    { INT(int_of_string lxm)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| '+'                  { PLUS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| '-'                  { MINUS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| '*'                  { TIMES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| '/'                  { DIV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| '('                  { LPAREN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| ')'                  { RPAREN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| eof                  { EOF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893960" y="5354640"/>
            <a:ext cx="4818240" cy="13136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ocamllex lexer.mll  </a:t>
            </a:r>
            <a:r>
              <a:rPr b="0" lang="en-US" sz="20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 lexer.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(in this case producing an 11-state DF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with 342 transi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21600" y="5803920"/>
            <a:ext cx="180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7933-574C-45F4-8403-DA0618FEBCC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Now, Parse it!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96" name=""/>
          <p:cNvSpPr/>
          <p:nvPr/>
        </p:nvSpPr>
        <p:spPr>
          <a:xfrm>
            <a:off x="495000" y="1262160"/>
            <a:ext cx="83494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let ast_of_string s =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let lexbuf = Lexing.from_string s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parse_it tokenize lexbuf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ast_of_string "(9 - 10) + ((-xyz100) * 44)";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Binary (PlusOp, Binary (MinusOp, Number 9, Number 10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Binary (TimesOp, Unary (UnaryMinusOp, Ident "xyz100"), Number 44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ast_of_string "9 - 10 + -xyz100 * 44";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Binary (PlusOp, Binary (MinusOp, Number 9, Number 10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Binary (TimesOp, Unary (UnaryMinusOp, Ident "xyz100"), Number 44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E2A5-BBE7-4444-AC80-35902D38FF1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ncrete vs. Abstract Syntax Trees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1864080" y="1202400"/>
            <a:ext cx="1911240" cy="3812400"/>
            <a:chOff x="1864080" y="1202400"/>
            <a:chExt cx="1911240" cy="3812400"/>
          </a:xfrm>
        </p:grpSpPr>
        <p:sp>
          <p:nvSpPr>
            <p:cNvPr id="99" name=""/>
            <p:cNvSpPr/>
            <p:nvPr/>
          </p:nvSpPr>
          <p:spPr>
            <a:xfrm>
              <a:off x="3083400" y="1202400"/>
              <a:ext cx="34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rebuchet MS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751480" y="1610280"/>
              <a:ext cx="100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rebuchet MS"/>
                </a:rPr>
                <a:t>S  +  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746800" y="2067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rebuchet MS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496600" y="2516760"/>
              <a:ext cx="848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rebuchet MS"/>
                </a:rPr>
                <a:t>(  S  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2990880" y="1579680"/>
              <a:ext cx="147600" cy="135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317760" y="1550880"/>
              <a:ext cx="149400" cy="14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257280" y="1579680"/>
              <a:ext cx="0" cy="149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900160" y="1996920"/>
              <a:ext cx="0" cy="149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900160" y="2428920"/>
              <a:ext cx="0" cy="14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2647800" y="2398680"/>
              <a:ext cx="163440" cy="163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990880" y="2398680"/>
              <a:ext cx="147600" cy="208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420720" y="20674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rebuchet MS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55720" y="1996920"/>
              <a:ext cx="0" cy="163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435760" y="2958120"/>
              <a:ext cx="100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rebuchet MS"/>
                </a:rPr>
                <a:t>S  +  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900160" y="2874960"/>
              <a:ext cx="0" cy="177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894320" y="3405600"/>
              <a:ext cx="84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rebuchet MS"/>
                </a:rPr>
                <a:t>S + 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2633400" y="2905200"/>
              <a:ext cx="192240" cy="163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975040" y="2874960"/>
              <a:ext cx="163440" cy="177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573280" y="3335400"/>
              <a:ext cx="0" cy="149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925000" y="3389760"/>
              <a:ext cx="68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rebuchet MS"/>
                </a:rPr>
                <a:t>( S 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273480" y="3321000"/>
              <a:ext cx="0" cy="179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875680" y="3819960"/>
              <a:ext cx="84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rebuchet MS"/>
                </a:rPr>
                <a:t>S + 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3109320" y="3753000"/>
              <a:ext cx="119160" cy="133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317760" y="3767040"/>
              <a:ext cx="103320" cy="119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3273480" y="3782880"/>
              <a:ext cx="0" cy="14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2127240" y="3276720"/>
              <a:ext cx="32688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>
              <a:off x="2334600" y="3321000"/>
              <a:ext cx="149400" cy="223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864080" y="3792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rebuchet MS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2066760" y="3766680"/>
              <a:ext cx="0" cy="135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73880" y="4267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rebuchet MS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3035160" y="4199040"/>
              <a:ext cx="0" cy="149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874520" y="42534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rebuchet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2066760" y="4199040"/>
              <a:ext cx="0" cy="11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393640" y="39106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rebuchet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>
              <a:off x="2543040" y="3797280"/>
              <a:ext cx="0" cy="179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856960" y="45550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rebuchet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363480" y="41342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rebuchet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6206760" y="2385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563880" y="27802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805360" y="27802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222600" y="31960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418000" y="31960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940000" y="36723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430680" y="36723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971600" y="36723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463720" y="36723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5222520" y="3500280"/>
            <a:ext cx="237960" cy="20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580000" y="3530520"/>
            <a:ext cx="30240" cy="222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5654520" y="3083040"/>
            <a:ext cx="252720" cy="237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12000" y="3112920"/>
            <a:ext cx="296640" cy="238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6189840" y="3514680"/>
            <a:ext cx="149040" cy="223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43640" y="3500280"/>
            <a:ext cx="119160" cy="252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6056280" y="2697120"/>
            <a:ext cx="223920" cy="238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443640" y="2666880"/>
            <a:ext cx="208080" cy="20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14720" y="1218240"/>
            <a:ext cx="2218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parse tree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derivation tree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concrete synt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t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073480" y="2056320"/>
            <a:ext cx="329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Abstract Syntax Tree (AS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091040" y="2776680"/>
            <a:ext cx="815760" cy="352440"/>
          </a:xfrm>
          <a:prstGeom prst="rightArrow">
            <a:avLst>
              <a:gd name="adj1" fmla="val 50000"/>
              <a:gd name="adj2" fmla="val 57865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384800" y="4267080"/>
            <a:ext cx="4140000" cy="8114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An AST contains only the information needed to generate an intermediate repres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91320" y="5562720"/>
            <a:ext cx="81100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rmally a compiler constructs the concrete syntax tree only implici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n the parsing process) and explicitly constructs the AST vi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mantic ac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5989-CAA9-497B-BCC2-A1A895FFE46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新細明體"/>
              </a:rPr>
              <a:t>Problem With LR(0) Parsing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14440" y="1193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新細明體"/>
              </a:rPr>
              <a:t>No lookah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新細明體"/>
              </a:rPr>
              <a:t>Vulnerable to unnecessary confli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新細明體"/>
              </a:rPr>
              <a:t>Shift/Reduce Conflicts (may reduce too soon in some ca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新細明體"/>
              </a:rPr>
              <a:t>Reduce/Reduce Confli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新細明體"/>
              </a:rPr>
              <a:t>Solu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新細明體"/>
              </a:rPr>
              <a:t>LR(1) parsing - systematic lookah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C3B1-A0C5-453F-A821-FF71E33D122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LR(1) Item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17160" y="161100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LR(1) it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pai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           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(X </a:t>
            </a:r>
            <a:r>
              <a:rPr b="0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</a:t>
            </a:r>
            <a:r>
              <a:rPr b="0" lang="en-US" sz="2400" spc="-1" strike="noStrike">
                <a:solidFill>
                  <a:srgbClr val="ff0000"/>
                </a:solidFill>
                <a:latin typeface="cmsy10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msy10"/>
              </a:rPr>
              <a:t>.</a:t>
            </a:r>
            <a:r>
              <a:rPr b="0" lang="en-US" sz="2400" spc="-1" strike="noStrike">
                <a:solidFill>
                  <a:srgbClr val="ff0000"/>
                </a:solidFill>
                <a:latin typeface="cmsy10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,  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X </a:t>
            </a:r>
            <a:r>
              <a:rPr b="0" lang="en-US" sz="2400" spc="-1" strike="noStrike">
                <a:solidFill>
                  <a:srgbClr val="333399"/>
                </a:solidFill>
                <a:latin typeface="cmsy10"/>
              </a:rPr>
              <a:t>::=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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p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terminal (the lookahead termin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R(1) means 1 lookahead termi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[X </a:t>
            </a:r>
            <a:r>
              <a:rPr b="0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</a:t>
            </a:r>
            <a:r>
              <a:rPr b="0" lang="en-US" sz="2400" spc="-1" strike="noStrike">
                <a:solidFill>
                  <a:srgbClr val="ff0000"/>
                </a:solidFill>
                <a:latin typeface="cmsy10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msy10"/>
              </a:rPr>
              <a:t>. </a:t>
            </a:r>
            <a:r>
              <a:rPr b="0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, a]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s a context of the parser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are trying to find an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llowed by an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have  (at least)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ready on top of the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us we need to see next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refix derived fro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C400-EF84-4E9F-8947-271C1803B77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The Closure Operation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15880" y="128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o modify closure operation: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osure(Items)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e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ach [X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::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ff0000"/>
                </a:solidFill>
                <a:latin typeface="cmsy10"/>
              </a:rPr>
              <a:t> 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] in I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ach production Y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::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ach b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irst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[Y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::= </a:t>
            </a:r>
            <a:r>
              <a:rPr b="0" lang="en-US" sz="2800" spc="-1" strike="noStrike">
                <a:solidFill>
                  <a:srgbClr val="ff0000"/>
                </a:solidFill>
                <a:latin typeface="cmsy10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b] to I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til Items is unchang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785C-B1EB-4F40-99E9-9A316556EA9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onstructing the Parsing DFA (2)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79280" y="1473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DFA state is a closed set of LR(1) i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art state contains (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’ </a:t>
            </a:r>
            <a:r>
              <a:rPr b="0" lang="en-US" sz="3200" spc="-1" strike="noStrike">
                <a:solidFill>
                  <a:srgbClr val="333399"/>
                </a:solidFill>
                <a:latin typeface="cmsy10"/>
              </a:rPr>
              <a:t>::=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cmsy10"/>
              </a:rPr>
              <a:t>.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$, dummy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ate that contains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[X </a:t>
            </a:r>
            <a:r>
              <a:rPr b="0" lang="en-US" sz="3200" spc="-1" strike="noStrike">
                <a:solidFill>
                  <a:srgbClr val="333399"/>
                </a:solidFill>
                <a:latin typeface="cmsy10"/>
              </a:rPr>
              <a:t>::=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ff0000"/>
                </a:solidFill>
                <a:latin typeface="cmsy10"/>
              </a:rPr>
              <a:t>.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, b]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labeled with “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reduce with X </a:t>
            </a:r>
            <a:r>
              <a:rPr b="0" lang="en-US" sz="3200" spc="-1" strike="noStrike">
                <a:solidFill>
                  <a:srgbClr val="333399"/>
                </a:solidFill>
                <a:latin typeface="cmsy10"/>
              </a:rPr>
              <a:t>::=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on lookahead 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now the transition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8658-31E8-46C7-898A-1AA188ABD48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The DFA Transition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65040" y="1346040"/>
            <a:ext cx="8229600" cy="524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ate s that contains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[X </a:t>
            </a:r>
            <a:r>
              <a:rPr b="0" lang="en-US" sz="3200" spc="-1" strike="noStrike">
                <a:solidFill>
                  <a:srgbClr val="333399"/>
                </a:solidFill>
                <a:latin typeface="cmsy10"/>
              </a:rPr>
              <a:t>::=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ff0000"/>
                </a:solidFill>
                <a:latin typeface="Arial Black"/>
              </a:rPr>
              <a:t>.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, b]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as a transition labeled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the state obtained from Transition(s, 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 can be a terminal or a non-term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ition(s, Y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ems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= {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ach [X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::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b]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[X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b] to I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urn Closure(Item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08C3-C4B0-4DD4-A8A8-CF07A3B1DA4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33399"/>
                </a:solidFill>
                <a:latin typeface="Arial Black"/>
              </a:rPr>
              <a:t>LR(1)-the parse tabl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Shift and goto as bef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Redu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state I with item (A</a:t>
            </a:r>
            <a:r>
              <a:rPr b="0" lang="da-DK" sz="2800" spc="-1" strike="noStrike">
                <a:solidFill>
                  <a:srgbClr val="000000"/>
                </a:solidFill>
                <a:latin typeface="Symbol"/>
                <a:ea typeface="Symbol"/>
              </a:rPr>
              <a:t></a:t>
            </a: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., z) gives a reduce A</a:t>
            </a:r>
            <a:r>
              <a:rPr b="0" lang="da-DK" sz="2800" spc="-1" strike="noStrike">
                <a:solidFill>
                  <a:srgbClr val="000000"/>
                </a:solidFill>
                <a:latin typeface="Symbol"/>
                <a:ea typeface="Symbol"/>
              </a:rPr>
              <a:t></a:t>
            </a: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 if z is the next character in the inpu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LR(1)-parse tables are very bi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9E4D-305B-4ABD-AD5E-18A66F83B10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33399"/>
                </a:solidFill>
                <a:latin typeface="Arial Black"/>
              </a:rPr>
              <a:t>LR(1)-DFA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065320" y="1693800"/>
            <a:ext cx="7078680" cy="3645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059480" y="5965920"/>
            <a:ext cx="707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From Andrew Appel, “Modern Compiler Implementation in Java” page 6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60520" y="1897200"/>
            <a:ext cx="1250640" cy="31114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G11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’ ::= S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 ::= V = 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 ::= 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V ::=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*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19AD-CFCA-4667-BBE9-404CEF33C63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33399"/>
                </a:solidFill>
                <a:latin typeface="Arial Black"/>
              </a:rPr>
              <a:t>LR(1)-parse tabl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324000" y="1484280"/>
          <a:ext cx="8569080" cy="4064040"/>
        </p:xfrm>
        <a:graphic>
          <a:graphicData uri="http://schemas.openxmlformats.org/drawingml/2006/table">
            <a:tbl>
              <a:tblPr/>
              <a:tblGrid>
                <a:gridCol w="536400"/>
                <a:gridCol w="534960"/>
                <a:gridCol w="534960"/>
                <a:gridCol w="534960"/>
                <a:gridCol w="536760"/>
                <a:gridCol w="534960"/>
                <a:gridCol w="536400"/>
                <a:gridCol w="536760"/>
                <a:gridCol w="533520"/>
                <a:gridCol w="536400"/>
                <a:gridCol w="534960"/>
                <a:gridCol w="536760"/>
                <a:gridCol w="534960"/>
                <a:gridCol w="534960"/>
                <a:gridCol w="534960"/>
                <a:gridCol w="536400"/>
              </a:tblGrid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B4CC-A489-4763-9E0D-672065CC0BD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0T10:45:36Z</dcterms:created>
  <dc:creator>Tim Griffin</dc:creator>
  <dc:description/>
  <dc:language>en-US</dc:language>
  <cp:lastModifiedBy>Tim Griffin</cp:lastModifiedBy>
  <dcterms:modified xsi:type="dcterms:W3CDTF">2007-01-29T13:21:22Z</dcterms:modified>
  <cp:revision>268</cp:revision>
  <dc:subject/>
  <dc:title>Slide 1</dc:title>
</cp:coreProperties>
</file>