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76CC-36FA-420A-A0EB-BB2AAAC14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73BB-6B5C-4FD1-A901-962DF13E5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B69-02FE-4571-88E0-53A0C137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00E-AAE2-4B51-8195-BA730C94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520-594C-4123-93F0-93DC0876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191-5E98-4215-A38E-87711DFE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76C-A4EA-4B3F-8760-3FC44593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194-E591-4636-86DB-07ABEC9F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EA9-736F-405E-96B4-9F826D9D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087-F149-4C55-A88B-2D5ACBAA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D44-30D6-4183-A637-B987C22D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0EE-B71E-4CAB-9408-191D41C7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C92-A87B-48D8-BE60-00E81CBB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0E1-BFD7-48F1-9666-0A42B98D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B708-E05A-4B92-B197-03E1A3878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ava Virtual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F10-C184-4980-AD85-038964E15B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838080"/>
            <a:ext cx="2743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3920" y="0"/>
            <a:ext cx="7772400" cy="55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ganization of JV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44792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666880"/>
            <a:ext cx="259056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38080"/>
            <a:ext cx="106704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838080"/>
            <a:ext cx="10666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838080"/>
            <a:ext cx="121896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22860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343400"/>
            <a:ext cx="16761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486400"/>
            <a:ext cx="1904760" cy="990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0" y="3581280"/>
            <a:ext cx="228600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19051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, FP,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31400">
            <a:off x="1988640" y="461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781400">
            <a:off x="1990800" y="51433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505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638680"/>
            <a:ext cx="1676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20C-8C83-473E-B4D4-7D684BDF0A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Load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4880" y="99036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ing and importing the binary data for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suring the correctness of the imported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e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cating memory for class variables and initializing the memory to default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ing symbolic references from the type into direct re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king Java code that initializes class variables to their proper star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DB4-FC46-45BA-B851-356CEA5FC0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File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3581280" cy="490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 of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superclas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,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field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type/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 (private, public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code fo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3320" y="1353960"/>
            <a:ext cx="6198840" cy="486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Fi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4 mag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in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aj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constant_pool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p_info constant_pool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constant_pool_count-1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ccess_fla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this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super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[interface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fiel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eld_info fields[fiel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etho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_info methods[metho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ttribut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tribute_info attributes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attributes_coun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C3C-9BBF-4C2D-91DC-9DA2771CF4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04840"/>
            <a:ext cx="4191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5400" y="90972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9520" y="3114720"/>
            <a:ext cx="11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0040" y="55641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1880" y="159084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55B-DA9D-43D9-A481-483AF1FEA4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– Each Thread Has its own Stack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838080"/>
            <a:ext cx="80773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0773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447920"/>
            <a:ext cx="1600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876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590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733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733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70F-57A4-42AE-84A8-2FF703BF5F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ava objects are allocated in the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ications cannot explicitly fre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rbage Coll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oked from time to time automatically to reclaim the objects that are no longer need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p is shared by all Java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0AE-33F5-4F66-96AE-566B25131E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Objects in the 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0BC-2EE4-48BC-804F-0816033529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ytecode Interpret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1417680"/>
            <a:ext cx="518796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8040" y="2071800"/>
            <a:ext cx="340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lower than execution of nativ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C20-6616-4A9D-BA93-647BC48D59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ust-In-Tim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3000" y="649080"/>
            <a:ext cx="8381880" cy="212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compiles bytecode into native code at runtime, usually in meth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native code is much faster than interpretation of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is time consuming and may slow down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execution time and compi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575784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3640" y="469116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34718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" y="2987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8640" y="433692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570852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0520" y="395604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51560" y="27860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1800" y="372744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2840" y="471816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0840" y="3024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AD9-0D8B-445F-B57F-E4D875A1D0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daptiv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B9D-DAA7-4571-9935-15DAF44BCE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system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9280" y="1428840"/>
            <a:ext cx="5260680" cy="43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65160" y="3608280"/>
            <a:ext cx="409608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632040"/>
            <a:ext cx="22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VM do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depend o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indepen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4EB-F643-4171-B272-8ED9610E21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Adaptive Compiler Work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ree thresholds T1, T2 (T1&lt;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thod has a counter that is initialized to 0. Whenever the method is invoked, increase its counter b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ith counter lower than T1 are executed using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1, compile this method with simpl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2, recompile this method with advanced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9AB-9B35-48D8-A5B5-2854D901C4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in the JVM Spec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343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s – the instruction set for 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ile Format – The platform independent representation of Java 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Rules – the algorithm for identifying programs that cannot compromise the integrity of the J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5080" y="5397480"/>
            <a:ext cx="6974640" cy="1068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VM Specification does not specif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 JVM i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E0D-D6D4-4486-84B6-93E7D84731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: typed instructions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974880"/>
            <a:ext cx="89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are explicitly typed: different opCodes for instructions for integers, floats, arrays and referen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reflected by a naming convention in the first letter of the opCode mne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7040" y="29368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7800" y="2968560"/>
            <a:ext cx="29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oa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-typ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F94-DD3A-4A77-B27F-C45E0AEC4E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 set: kinds of operan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19556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have three kinds of oper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top of the oper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bytes following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art of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 instructions may have different “forms” supporting different kinds of ope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7800" y="37987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4960" y="34988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0000" y="34876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nary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44800" y="383076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3832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8800" y="4213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4594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0" y="4975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8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480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1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4120" y="54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800" y="532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4920" y="61308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oad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ush the n-th local var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BDD-2E37-487A-9147-50D39A7629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examp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39068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add, ladd, fadd, d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ub, lsub, fsub, d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ul, lmul, fmul, d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9144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hmet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" y="2608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880" y="316872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2l, i2f, i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f, l2d, f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i, d2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147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stack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, pop2, dup, dup2, dup_x1, swa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onditiona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, goto_w, jsr, r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eq, iflt, ifg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921-CC00-4ACA-891B-3769E4C868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58920"/>
            <a:ext cx="8686800" cy="311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inv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: usual instruction for calling a method on an o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used when the called method is declared in an interface. (requires different kind of method loo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alling things such as constructors. These are not dynamically dispatched (this instruction is also known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non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alling methods that have the “static” modifier (these methods “belong” to a class, rather an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from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, ireturn, lreturn, areturn, f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10240"/>
            <a:ext cx="86868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class instance (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reating arrays of primitiv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ewarray, multia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arrays of referenc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372-7CF5-4506-BA4D-DA16AAE742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oto instruction – 3 and 5 byte vers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3960" y="33512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8)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1231920"/>
            <a:ext cx="1279440" cy="13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8120" y="168264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208296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840" y="1278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61960"/>
            <a:ext cx="8287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2000" y="13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55080" y="1714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51840" y="21366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1600" y="3309840"/>
            <a:ext cx="33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24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16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 8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0840" y="1203480"/>
            <a:ext cx="12798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30840" y="165420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0560" y="205416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9560" y="124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1433520"/>
            <a:ext cx="828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5440" y="127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0280" y="2806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68200" y="209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6160" y="244152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9252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06360" y="2452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7560" y="1716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6160" y="4254480"/>
            <a:ext cx="40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igned 2’s compliment represent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779200" y="2498400"/>
            <a:ext cx="341280" cy="3024360"/>
          </a:xfrm>
          <a:custGeom>
            <a:avLst/>
            <a:gdLst>
              <a:gd name="textAreaLeft" fmla="*/ 0 w 341280"/>
              <a:gd name="textAreaRight" fmla="*/ 123120 w 341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95120" y="48481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263000" y="3629520"/>
            <a:ext cx="341280" cy="1901880"/>
          </a:xfrm>
          <a:custGeom>
            <a:avLst/>
            <a:gdLst>
              <a:gd name="textAreaLeft" fmla="*/ 0 w 341280"/>
              <a:gd name="textAreaRight" fmla="*/ 123120 w 341280"/>
              <a:gd name="textAreaTop" fmla="*/ 49320 h 1901880"/>
              <a:gd name="textAreaBottom" fmla="*/ 1852560 h 19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9640" y="5530680"/>
            <a:ext cx="3841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target address must be tha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code of an instruction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thod that cont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(or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 i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AD0-0512-4FBE-8ED8-E18DF707FB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4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Fibonacci Forev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838440" y="358920"/>
            <a:ext cx="761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www.artima.com/insidejvm/applets/FibonacciFore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60" y="1636560"/>
            <a:ext cx="31068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Fibonacci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tic void calcSequence(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fiboNum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or (;;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6760" y="79380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 1, 2, 3, 5, 8, 13, 21, 34, 55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760" y="1428840"/>
            <a:ext cx="59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0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 lstore_0  % Pop long into local vars 0 &amp; 1: 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2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3 lstore_2  % Pop long into local vars 2 &amp; 3: 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4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5 lstore 4  % Pop long into local vars 4 &amp; 5: long fiboNum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7 lload_0   % Push long from local vars 0 &amp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8 lload_2 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9 ladd      % Pop two longs, add them, push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0 lstore 4 % Pop long into local vars 4 &amp; 5: 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2 lload_2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3 lstore_0 % Pop long into local vars 0 &amp; 1: 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4 lload 4  % Push long from local vars 4 &amp;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6 lstore_2 % Pop long into local vars 2 &amp; 3: 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7 goto 7   % Jump back to offset 7: for (;;) {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2280" y="49417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a 3f 0a 41 0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20 6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3f 16 04 4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7 ff f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840" y="4948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C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6680" y="5257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9200" y="5256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6360" y="5254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ot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55166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“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embles” t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goto -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D0A-7867-40FA-96CD-A589D51E01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8Z</dcterms:modified>
  <cp:revision>288</cp:revision>
  <dc:subject/>
  <dc:title>Slide 1</dc:title>
</cp:coreProperties>
</file>