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1642-2B58-45ED-AFDC-64624E56C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A546-4523-46A6-B85B-C8DAA92B8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46B4-C4E4-403A-940A-9E914DA0B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9648-8C48-4BAB-85E5-A32144D3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8881-BA61-4BEB-ABF3-B37F0C783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3EFB-D82E-4502-964F-C6A4A8A58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AADF-0647-4FC7-9941-D5FB0CBA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F3E2-DC8F-49AB-A214-91B44828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CD8B-887A-4168-A7F6-D25BD817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DC6A-6D3F-4AD7-B760-0B7AA1D7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260F-8A59-46A3-96D6-DF8309A4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4E21-090A-4FF4-B56A-A8C2B0D6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350D-350A-40CA-85FE-E34A5590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898B-D675-4CF3-A87E-60C99D13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03F6-5FCE-4CBC-9FA7-E964B81B9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41120" y="0"/>
            <a:ext cx="92851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159120" y="-360"/>
            <a:ext cx="2652840" cy="1933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Lecture 14</a:t>
            </a:r>
            <a:br>
              <a:rPr sz="14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Garbage Collection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Lent Term 2007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imothy G. Griffin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University of Cambridge </a:t>
            </a:r>
            <a:endParaRPr b="0" lang="en-US" sz="1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918C-4044-47C3-89F1-02B2666A53B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ference counting can’t detect cycles!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7920" y="55324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63040" y="2631960"/>
            <a:ext cx="552240" cy="6048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72880" y="336384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3581280"/>
            <a:ext cx="3049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"/>
          <p:cNvCxnSpPr>
            <a:stCxn id="166" idx="3"/>
            <a:endCxn id="159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38160" y="525780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85800" y="4495320"/>
            <a:ext cx="914400" cy="8384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173000" y="554688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7696080" y="4952880"/>
            <a:ext cx="0" cy="6098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4FFB-9513-405A-BA2F-17F8B4E381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ros and C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ce/time overhead to maintain cou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leakage when cycles in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cre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o long pauses to collect…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as many useful applic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X File System 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mbolic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’s RMI management of St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 Functional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F09B-9A1F-42F8-A9A1-FC383C1193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Mark and Swee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wo-phase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rk 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pth fir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aversal of object graph from the roots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weep 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iterate over entire heap, adding the unmarked data back onto the fre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203B-94FA-4D49-AD06-536CD28E7F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st of Mark Swee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17520" y="1060560"/>
            <a:ext cx="822960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mark pha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(R) where R is the # of reachable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cost is c1 * R (c1 may be 10 instr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sweep ph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(H) where H is the # of words in entire h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cost is c2 * H (c2 may be 3 instr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good” = each collection returns H - R words reclai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rtized cost = time-collecting/amount-reclaim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(c1 * R) + (c2 * H)) / (H -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R is close to H, then each collection reclaims little space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/ H must be sufficiently small or GC cost is hig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dynamically adjust. Say, if R / H is larger than .5, increase heap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9979-6DF3-4BC1-896D-FB71884E41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ther Probl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th-first search is usually implemented as a recursive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stack space proportional to the longest path in the graph of reachable ob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activation record/node in the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ation records are b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heap is one long linked list, the stack space used in the algorithm will be greater than the heap size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we do? Pointer reversal [See Appel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gm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E7F3-57BC-44F3-B2AA-D13F59C1FC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pying Collec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idea: use 2 he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used by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ther unused until GC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at the roots &amp; traverse the reachab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reachable data from the active heap (from-space) to the other heap (to-sp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d objects are left behind in from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ps switch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F080-DA97-4E23-9E5E-38666A9A53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pying Collec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9" name=""/>
          <p:cNvSpPr/>
          <p:nvPr/>
        </p:nvSpPr>
        <p:spPr>
          <a:xfrm>
            <a:off x="2057400" y="2286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57000" y="175248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07840" y="1752480"/>
            <a:ext cx="21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7000" y="3794040"/>
            <a:ext cx="143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1447920" y="3657240"/>
            <a:ext cx="6094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4114800"/>
            <a:ext cx="60948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4191120"/>
            <a:ext cx="6858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24480" y="2286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57400" y="4724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419112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3581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3124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57400" y="3352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29000" y="3505320"/>
            <a:ext cx="457200" cy="1371600"/>
          </a:xfrm>
          <a:custGeom>
            <a:avLst/>
            <a:gdLst/>
            <a:ahLst/>
            <a:rect l="l" t="t" r="r" b="b"/>
            <a:pathLst>
              <a:path w="288" h="864">
                <a:moveTo>
                  <a:pt x="0" y="864"/>
                </a:moveTo>
                <a:cubicBezTo>
                  <a:pt x="144" y="768"/>
                  <a:pt x="288" y="672"/>
                  <a:pt x="288" y="528"/>
                </a:cubicBezTo>
                <a:cubicBezTo>
                  <a:pt x="288" y="384"/>
                  <a:pt x="48" y="88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352680" y="3200400"/>
            <a:ext cx="241560" cy="304920"/>
          </a:xfrm>
          <a:custGeom>
            <a:avLst/>
            <a:gdLst/>
            <a:ahLst/>
            <a:rect l="l" t="t" r="r" b="b"/>
            <a:pathLst>
              <a:path w="152" h="192">
                <a:moveTo>
                  <a:pt x="48" y="192"/>
                </a:moveTo>
                <a:cubicBezTo>
                  <a:pt x="100" y="160"/>
                  <a:pt x="152" y="128"/>
                  <a:pt x="144" y="96"/>
                </a:cubicBezTo>
                <a:cubicBezTo>
                  <a:pt x="136" y="64"/>
                  <a:pt x="68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24480" y="52578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24480" y="50292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48006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24480" y="45720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24480" y="43434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96080" y="4724280"/>
            <a:ext cx="304920" cy="685800"/>
          </a:xfrm>
          <a:custGeom>
            <a:avLst/>
            <a:gdLst/>
            <a:ahLst/>
            <a:rect l="l" t="t" r="r" b="b"/>
            <a:pathLst>
              <a:path w="192" h="432">
                <a:moveTo>
                  <a:pt x="0" y="432"/>
                </a:moveTo>
                <a:cubicBezTo>
                  <a:pt x="96" y="348"/>
                  <a:pt x="192" y="264"/>
                  <a:pt x="192" y="192"/>
                </a:cubicBezTo>
                <a:cubicBezTo>
                  <a:pt x="192" y="120"/>
                  <a:pt x="96" y="60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96080" y="4419720"/>
            <a:ext cx="152640" cy="304560"/>
          </a:xfrm>
          <a:custGeom>
            <a:avLst/>
            <a:gdLst/>
            <a:ahLst/>
            <a:rect l="l" t="t" r="r" b="b"/>
            <a:pathLst>
              <a:path w="96" h="192">
                <a:moveTo>
                  <a:pt x="0" y="192"/>
                </a:moveTo>
                <a:cubicBezTo>
                  <a:pt x="48" y="160"/>
                  <a:pt x="96" y="128"/>
                  <a:pt x="96" y="96"/>
                </a:cubicBezTo>
                <a:cubicBezTo>
                  <a:pt x="96" y="64"/>
                  <a:pt x="48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43400" y="388620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2AD6-B4D9-4929-BFB0-18C9A61026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pying GC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3240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&amp; collects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-time proportional to # live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compaction eliminates 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 type information required (pointer or n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 bits take extra space; normally use header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ce as much memory used as program requ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, we anticipate live data will only be a small fragment of 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 until 70% 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-space = 70% heap; to-space =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GC pauses = bad for interactive, real-time ap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82EC-195F-4EA0-A5D6-14F2747592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BSERVATION: for a copying garbage collector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143320" cy="32004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28560" y="4532400"/>
            <a:ext cx="7764480" cy="1740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80%  to 98% new objects die very quick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 object that has survived several collections has a bigger chance to become a long-lived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t’s a inefficient that long-lived objects be copied over and over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FAC5-D0CF-440A-A1F3-AA5C730F9A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DEA: Generational garbage collection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143680" cy="35053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74560" y="4870440"/>
            <a:ext cx="7696440" cy="180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egregate objects into multiple areas by age, and collect areas containing older objects less often than the younger 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5E8E-A87E-4717-AB8B-ACA8A85433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is Garbage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170000" y="113364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33120" y="2135160"/>
            <a:ext cx="6715800" cy="7038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 value is garbage if it will not be used in any subsequ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mputation by the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9040" y="4373640"/>
            <a:ext cx="791676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 General, determining what is and is not garbage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ot decid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98480" y="5680080"/>
            <a:ext cx="38232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Read Chapter 13 of Ap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632B-36D2-44CC-AD69-3780AEFA8D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ther issues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63600" y="1366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hen do we </a:t>
            </a:r>
            <a:r>
              <a:rPr b="0" lang="en-US" sz="1800" spc="-1" strike="noStrike">
                <a:solidFill>
                  <a:srgbClr val="009999"/>
                </a:solidFill>
                <a:latin typeface="Arial Black"/>
              </a:rPr>
              <a:t>promot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objects from young generation to old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Usually after an object survives a collection, it will be promo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eed to keep track of older objects pointing to newer on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ow big should the generations 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ppel says each should be exponentially larger than the l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hen do we collect the old gener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fter several </a:t>
            </a:r>
            <a:r>
              <a:rPr b="0" lang="en-US" sz="1600" spc="-1" strike="noStrike">
                <a:solidFill>
                  <a:srgbClr val="009999"/>
                </a:solidFill>
                <a:latin typeface="Arial Black"/>
              </a:rPr>
              <a:t>minor collections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we do a </a:t>
            </a:r>
            <a:r>
              <a:rPr b="0" lang="en-US" sz="1600" spc="-1" strike="noStrike">
                <a:solidFill>
                  <a:srgbClr val="009999"/>
                </a:solidFill>
                <a:latin typeface="Arial Black"/>
              </a:rPr>
              <a:t>major col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ometimes different GC algorithms are used for the new and older gene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hy? Because the have different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pying collection for the 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ess than 10% of the new data is usually l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pying collection cost is proportional to the liv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ark-sweep for the 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6616-1389-4831-A96C-2D8DD11D4F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olut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36600"/>
            <a:ext cx="822960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 programming language so the problem goes away!  That is, use FORTR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programmer to worry about it (use malloc and free in C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and Swee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Coll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al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other techniqu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7306-AA8E-42BB-BD38-D4B9B0C349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strict Languages? NO WAY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odern programming language allows programmers to allocate new storage dynam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records, arrays, tuples, objects, clos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odern language needs facilities for reclaiming and recycling the storage used b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S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’s usually the most complex aspect of the run-time system for any modern language (Java, ML, Lisp, Scheme, Modula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203E-D8D9-4639-8475-661DE072A7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xplicit MM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library manages memory; programmer decides when and where to allocate and deallo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oid* malloc(long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oid free(void *ad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calls OS for more pages when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eople are very clever primate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is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eople too clever and make mistakes. Getting it right can be costly. And don’t we want to automate-away tedium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llows us to implement Garbage Collec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3491-7F6B-4AFD-B078-4F1436E8E5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utomation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96080" y="2666880"/>
            <a:ext cx="6858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" y="5380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79" idx="3"/>
            <a:endCxn id="72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1000" y="378144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960" y="5875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495440" y="4976640"/>
            <a:ext cx="6213600" cy="1114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1840" y="623880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8520" y="1090440"/>
            <a:ext cx="2462040" cy="5615280"/>
          </a:xfrm>
          <a:prstGeom prst="rect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89360" y="106848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OOT 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71760" y="5942160"/>
            <a:ext cx="47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--------------------  HEAP 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58800" y="3348000"/>
            <a:ext cx="3318120" cy="2243160"/>
          </a:xfrm>
          <a:custGeom>
            <a:avLst/>
            <a:gdLst/>
            <a:ahLst/>
            <a:rect l="l" t="t" r="r" b="b"/>
            <a:pathLst>
              <a:path w="2090" h="1413">
                <a:moveTo>
                  <a:pt x="0" y="1413"/>
                </a:moveTo>
                <a:cubicBezTo>
                  <a:pt x="335" y="1404"/>
                  <a:pt x="670" y="1396"/>
                  <a:pt x="968" y="1347"/>
                </a:cubicBezTo>
                <a:cubicBezTo>
                  <a:pt x="1266" y="1298"/>
                  <a:pt x="1659" y="1247"/>
                  <a:pt x="1787" y="1118"/>
                </a:cubicBezTo>
                <a:cubicBezTo>
                  <a:pt x="1915" y="989"/>
                  <a:pt x="1746" y="743"/>
                  <a:pt x="1736" y="572"/>
                </a:cubicBezTo>
                <a:cubicBezTo>
                  <a:pt x="1726" y="401"/>
                  <a:pt x="1669" y="184"/>
                  <a:pt x="1728" y="92"/>
                </a:cubicBezTo>
                <a:cubicBezTo>
                  <a:pt x="1787" y="0"/>
                  <a:pt x="1938" y="9"/>
                  <a:pt x="2090" y="1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4879-0F7F-49C1-800B-4793F33345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…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dentify Cells Reachable From Root Set…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96080" y="2666880"/>
            <a:ext cx="6858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77240" y="5380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2" idx="3"/>
            <a:endCxn id="105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1000" y="378144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95960" y="5875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495440" y="4976640"/>
            <a:ext cx="6213600" cy="1114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1840" y="623880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58800" y="3348000"/>
            <a:ext cx="3318120" cy="2243160"/>
          </a:xfrm>
          <a:custGeom>
            <a:avLst/>
            <a:gdLst/>
            <a:ahLst/>
            <a:rect l="l" t="t" r="r" b="b"/>
            <a:pathLst>
              <a:path w="2090" h="1413">
                <a:moveTo>
                  <a:pt x="0" y="1413"/>
                </a:moveTo>
                <a:cubicBezTo>
                  <a:pt x="335" y="1404"/>
                  <a:pt x="670" y="1396"/>
                  <a:pt x="968" y="1347"/>
                </a:cubicBezTo>
                <a:cubicBezTo>
                  <a:pt x="1266" y="1298"/>
                  <a:pt x="1659" y="1247"/>
                  <a:pt x="1787" y="1118"/>
                </a:cubicBezTo>
                <a:cubicBezTo>
                  <a:pt x="1915" y="989"/>
                  <a:pt x="1746" y="743"/>
                  <a:pt x="1736" y="572"/>
                </a:cubicBezTo>
                <a:cubicBezTo>
                  <a:pt x="1726" y="401"/>
                  <a:pt x="1669" y="184"/>
                  <a:pt x="1728" y="92"/>
                </a:cubicBezTo>
                <a:cubicBezTo>
                  <a:pt x="1787" y="0"/>
                  <a:pt x="1938" y="9"/>
                  <a:pt x="2090" y="1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EEA1-6AD1-41CB-9A41-469FD7960D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…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reclaim unreachable cells, and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</a:rPr>
              <a:t>repeat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 …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77240" y="5380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3"/>
            <a:endCxn id="130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441000" y="378144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95960" y="5875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495440" y="4976640"/>
            <a:ext cx="6213600" cy="1114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840" y="623880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58800" y="3348000"/>
            <a:ext cx="3318120" cy="2243160"/>
          </a:xfrm>
          <a:custGeom>
            <a:avLst/>
            <a:gdLst/>
            <a:ahLst/>
            <a:rect l="l" t="t" r="r" b="b"/>
            <a:pathLst>
              <a:path w="2090" h="1413">
                <a:moveTo>
                  <a:pt x="0" y="1413"/>
                </a:moveTo>
                <a:cubicBezTo>
                  <a:pt x="335" y="1404"/>
                  <a:pt x="670" y="1396"/>
                  <a:pt x="968" y="1347"/>
                </a:cubicBezTo>
                <a:cubicBezTo>
                  <a:pt x="1266" y="1298"/>
                  <a:pt x="1659" y="1247"/>
                  <a:pt x="1787" y="1118"/>
                </a:cubicBezTo>
                <a:cubicBezTo>
                  <a:pt x="1915" y="989"/>
                  <a:pt x="1746" y="743"/>
                  <a:pt x="1736" y="572"/>
                </a:cubicBezTo>
                <a:cubicBezTo>
                  <a:pt x="1726" y="401"/>
                  <a:pt x="1669" y="184"/>
                  <a:pt x="1728" y="92"/>
                </a:cubicBezTo>
                <a:cubicBezTo>
                  <a:pt x="1787" y="0"/>
                  <a:pt x="1938" y="9"/>
                  <a:pt x="2090" y="1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09DD-7816-4DC7-A448-93602F0C2A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ference Counting, basic idea: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22280" y="1576080"/>
            <a:ext cx="8229600" cy="26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track of the number of pointers to each object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he reference 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Object is created, set count to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time a new pointer to the object is created, increment the cou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time an existing pointer to an object is destroyed, decrement the 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reference count goes to 0, the object is unreachable garb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96440" y="5121360"/>
            <a:ext cx="350460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Clearly --- this can be VERY costly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D84C-0326-49BB-AE4E-E92A7BAA89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19T12:48:01Z</dcterms:modified>
  <cp:revision>263</cp:revision>
  <dc:subject/>
  <dc:title>Slide 1</dc:title>
</cp:coreProperties>
</file>