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A95F-B07B-448F-828C-0F114034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6324-AD97-4DCE-AF60-44AB1323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053-724F-4EE3-BB14-43046931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9D5-A782-44D9-9926-D24C9E79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A612-E373-49E4-9DCC-0C7CEDBB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8445-6F5C-4404-B3B9-7C34E602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41B3-AEA2-4AC6-BB67-D6898D78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4C01-8511-49AB-A288-C73DDC54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BFD3-7ADB-4400-82EC-5ABFACBC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BC78-C48B-467F-A0C7-13B76905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8FA5-5A9A-493B-B1E3-FBE75363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38C-2172-447E-972C-98311A88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5129-C84E-49BA-A702-7BEB9F59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A432-4C32-40AA-9BCF-5FDB30F3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0DC1-EE7C-47D2-966A-95F1AB13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0EC6-2372-45BE-8C36-5499DAE7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0F50-2FDA-4901-A057-A8C80FB8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45C-AF67-415A-B57D-C5686794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8BC-5AB4-481A-AD86-DD7DC3E2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D37E-14FD-4504-B6CF-48FD1C9A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54F-8A6A-4221-B161-3D127EDF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6CF5-5546-48D0-B534-08ADAAD9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4AF-4781-4C32-A2CC-DD18901E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3CD-930D-42CC-8B00-2B436155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6516-11EF-4EA7-8381-AA3FB11D013F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6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FFF6-7381-4F9F-B3B5-6980FEB805C3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背景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単純で強力なプログラミング言語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++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の性能、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Java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Ruby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以上の簡単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HGP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国際プログラミングコンテストやベンチマークで実証ずみ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学界では有名だが、一般には無名　⇒　</a:t>
            </a:r>
            <a:r>
              <a:rPr b="0" lang="en-US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宣伝活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今回の目標：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「きれい」で「わかりやすい」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コンパイラ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⇒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　「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はよくわからないから使わない」を打ち破る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成果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わずか２千行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で有名コンパイラ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OCaml, GCC)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以上の性能を達成、東大などで教育利用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2004</a:t>
            </a:r>
            <a:r>
              <a:rPr b="0" lang="ja-JP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年度未踏ソフトウェア創造事業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「美しい日本の</a:t>
            </a:r>
            <a:r>
              <a:rPr b="0" lang="en-US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コンパイラ」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開発代表者： 住井英二郎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343400"/>
            <a:ext cx="7010640" cy="5335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行数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&gt;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wc -l *.ml*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52 alpha.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2 alpha.mli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urier New"/>
              </a:rPr>
              <a:t>（中略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   </a:t>
            </a: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2241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tota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性能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関数型プログラム（アッカーマン関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6.8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命令型プログラム（レイトレーシン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14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36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17.0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666880"/>
            <a:ext cx="2514600" cy="457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419720"/>
            <a:ext cx="2667240" cy="533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5562720"/>
            <a:ext cx="2895480" cy="609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cp:lastPrinted>2009-04-22T19:24:48Z</cp:lastPrinted>
  <dcterms:modified xsi:type="dcterms:W3CDTF">2005-02-25T05:26:45Z</dcterms:modified>
  <cp:revision>999</cp:revision>
  <dc:subject/>
  <dc:title>A Bisimulation for Type Abstraction and Recursion</dc:title>
</cp:coreProperties>
</file>