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move the slide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3396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EFA3-8A5D-4E9D-96BF-DDB31E44016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3396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言語自由、プロ参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coder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B349-6724-47F4-A588-D9F713B5F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59D6-770D-465C-A5BF-747125E7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E68F-AB89-4375-ABB2-D6AA869F4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D810-011C-40E1-94B7-09924862A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D3CD-D4DC-43DC-9D66-1066AB2E8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CFD0-7A94-4033-B99B-624DC3F7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C4E5-94A6-43A1-8F98-EFE4035D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985B-D9AB-4C94-94E8-AC199EAA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8ACE-E52C-4639-9EF6-980FB2B7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A8BD-0B17-4A58-A950-2CB02931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6F9E-080C-4A4A-9145-A77D97F5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F7F2-3D0E-44BE-AC5C-334C6B61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0E9E-F3E2-42A4-9C3C-E72BD084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ADDB-7F27-4DDA-BCFC-A2F995FF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4701-9DE8-4087-AA9B-C2292ADD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9223-9C0C-430E-98F0-9754839B0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DA90-4552-4E60-90C9-CDBFDD78D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2F3A-321B-4EA4-B9C1-FCCAFE06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1CEB-670C-4505-8052-65C5FCE6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4C8A-A329-4DC0-8E47-E9F22163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61D2-4C89-4140-8487-A0D4126A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6704-26E2-490B-8227-47D223C5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A487-4D9E-4A80-876D-14093C1B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96CC-0485-46B8-AB6A-A22005CE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D82C-DF31-4B45-813A-CAE82506110C}" type="slidenum">
              <a:rPr b="1" lang="ja-JP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240" y="1295280"/>
            <a:ext cx="8686800" cy="319320"/>
            <a:chOff x="228240" y="1295280"/>
            <a:chExt cx="8686800" cy="319320"/>
          </a:xfrm>
        </p:grpSpPr>
        <p:sp>
          <p:nvSpPr>
            <p:cNvPr id="7" name=""/>
            <p:cNvSpPr/>
            <p:nvPr/>
          </p:nvSpPr>
          <p:spPr>
            <a:xfrm>
              <a:off x="676080" y="129528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27880" y="129528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AA53-36DC-4A7E-B4BB-407C0B0153BA}" type="slidenum">
              <a:rPr b="1" lang="ja-JP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914400" algn="ctr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371600" algn="ctr">
              <a:spcBef>
                <a:spcPts val="4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28800" algn="ctr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ffeb"/>
                </a:solidFill>
                <a:latin typeface="HGS創英角ﾎﾟｯﾌﾟ体"/>
              </a:rPr>
              <a:t>美しい日本の</a:t>
            </a:r>
            <a:r>
              <a:rPr b="1" lang="en-US" sz="4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800" spc="-1" strike="noStrike">
                <a:solidFill>
                  <a:srgbClr val="ffffeb"/>
                </a:solidFill>
                <a:latin typeface="HGS創英角ﾎﾟｯﾌﾟ体"/>
              </a:rPr>
              <a:t>コンパイラ</a:t>
            </a:r>
            <a:endParaRPr b="1" lang="en-US" sz="4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4704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eb"/>
                </a:solidFill>
                <a:latin typeface="HGS創英角ﾎﾟｯﾌﾟ体"/>
              </a:rPr>
              <a:t>開発代表者：</a:t>
            </a:r>
            <a:br>
              <a:rPr sz="3600"/>
            </a:br>
            <a:r>
              <a:rPr b="0" lang="ja-JP" sz="3600" spc="-1" strike="noStrike">
                <a:solidFill>
                  <a:srgbClr val="ffffeb"/>
                </a:solidFill>
                <a:latin typeface="HGS創英角ﾎﾟｯﾌﾟ体"/>
              </a:rPr>
              <a:t>住井 英二郎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University of Pennsylvania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プログラム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urier New"/>
              </a:rPr>
              <a:t>let rec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gcd m n =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if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m = 0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the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else if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m &lt;= n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the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m (n - m)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else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n (m - n)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urier New"/>
              </a:rPr>
              <a:t>in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21600 337500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ルの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let rec gcd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=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if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=0 then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else if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&lt;=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then gcd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(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else gcd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(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gcd.19: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cmp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0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ne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e_else.45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%i2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retl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e_else.45: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cmp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</a:rPr>
              <a:t>%i3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g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le_else.47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4" name=""/>
          <p:cNvSpPr/>
          <p:nvPr/>
        </p:nvSpPr>
        <p:spPr>
          <a:xfrm>
            <a:off x="4093560" y="4038480"/>
            <a:ext cx="472716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su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i3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gcd.19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le_else.47: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su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o5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i2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%o5, %i3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gcd.19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実装方針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ル　＝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ある言語を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low-leve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な言語に</a:t>
            </a:r>
            <a:br>
              <a:rPr sz="4000"/>
            </a:b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変換すること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適切な中間言語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を設定すれば、</a:t>
            </a:r>
            <a:br>
              <a:rPr sz="4000"/>
            </a:b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単純な変換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の連続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構成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8" name=""/>
          <p:cNvSpPr/>
          <p:nvPr/>
        </p:nvSpPr>
        <p:spPr>
          <a:xfrm>
            <a:off x="5681880" y="2138400"/>
            <a:ext cx="729360" cy="45972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型推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34840" y="2138400"/>
            <a:ext cx="912240" cy="45972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構文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12640" y="3798720"/>
            <a:ext cx="77976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α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46400" y="2138400"/>
            <a:ext cx="91224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Ｋ正規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9192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定数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畳み込み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3616200"/>
            <a:ext cx="109512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インライ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展開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46320" y="5492880"/>
            <a:ext cx="1095120" cy="82548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クロージャ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776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不要定義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除去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00160" y="5492880"/>
            <a:ext cx="912240" cy="82548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レジスタ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割り当て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52760" y="5492880"/>
            <a:ext cx="1095120" cy="82548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仮想マシ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コード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64680" y="5492880"/>
            <a:ext cx="109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アセンブリ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28040" y="2138400"/>
            <a:ext cx="912240" cy="45972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字句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29" idx="3"/>
            <a:endCxn id="128" idx="1"/>
          </p:cNvCxnSpPr>
          <p:nvPr/>
        </p:nvCxnSpPr>
        <p:spPr>
          <a:xfrm>
            <a:off x="471168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28" idx="3"/>
            <a:endCxn id="131" idx="1"/>
          </p:cNvCxnSpPr>
          <p:nvPr/>
        </p:nvCxnSpPr>
        <p:spPr>
          <a:xfrm>
            <a:off x="661500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1" idx="2"/>
            <a:endCxn id="130" idx="0"/>
          </p:cNvCxnSpPr>
          <p:nvPr/>
        </p:nvCxnSpPr>
        <p:spPr>
          <a:xfrm>
            <a:off x="8102160" y="2623680"/>
            <a:ext cx="1080" cy="11660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5" idx="2"/>
            <a:endCxn id="134" idx="0"/>
          </p:cNvCxnSpPr>
          <p:nvPr/>
        </p:nvCxnSpPr>
        <p:spPr>
          <a:xfrm>
            <a:off x="1793520" y="4467240"/>
            <a:ext cx="1080" cy="10166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9" idx="3"/>
            <a:endCxn id="129" idx="1"/>
          </p:cNvCxnSpPr>
          <p:nvPr/>
        </p:nvCxnSpPr>
        <p:spPr>
          <a:xfrm>
            <a:off x="2504880" y="2376000"/>
            <a:ext cx="7657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0" idx="1"/>
            <a:endCxn id="133" idx="3"/>
          </p:cNvCxnSpPr>
          <p:nvPr/>
        </p:nvCxnSpPr>
        <p:spPr>
          <a:xfrm flipH="1">
            <a:off x="6928560" y="4036680"/>
            <a:ext cx="60588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3" idx="1"/>
            <a:endCxn id="132" idx="3"/>
          </p:cNvCxnSpPr>
          <p:nvPr/>
        </p:nvCxnSpPr>
        <p:spPr>
          <a:xfrm flipH="1">
            <a:off x="4568040" y="4036680"/>
            <a:ext cx="6152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2" idx="1"/>
            <a:endCxn id="135" idx="3"/>
          </p:cNvCxnSpPr>
          <p:nvPr/>
        </p:nvCxnSpPr>
        <p:spPr>
          <a:xfrm flipH="1">
            <a:off x="2514240" y="4036680"/>
            <a:ext cx="6134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4" idx="3"/>
            <a:endCxn id="137" idx="1"/>
          </p:cNvCxnSpPr>
          <p:nvPr/>
        </p:nvCxnSpPr>
        <p:spPr>
          <a:xfrm>
            <a:off x="2666520" y="5913000"/>
            <a:ext cx="46116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7" idx="3"/>
            <a:endCxn id="136" idx="1"/>
          </p:cNvCxnSpPr>
          <p:nvPr/>
        </p:nvCxnSpPr>
        <p:spPr>
          <a:xfrm>
            <a:off x="487332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6" idx="3"/>
            <a:endCxn id="138" idx="1"/>
          </p:cNvCxnSpPr>
          <p:nvPr/>
        </p:nvCxnSpPr>
        <p:spPr>
          <a:xfrm>
            <a:off x="677664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5" idx="0"/>
            <a:endCxn id="133" idx="0"/>
          </p:cNvCxnSpPr>
          <p:nvPr/>
        </p:nvCxnSpPr>
        <p:spPr>
          <a:xfrm flipH="1" rot="16200000">
            <a:off x="3924360" y="1476000"/>
            <a:ext cx="2160" cy="4263120"/>
          </a:xfrm>
          <a:prstGeom prst="curvedConnector5">
            <a:avLst>
              <a:gd name="adj1" fmla="val -24200000"/>
              <a:gd name="adj2" fmla="val 49995"/>
              <a:gd name="adj3" fmla="val -24200000"/>
            </a:avLst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構成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53" name=""/>
          <p:cNvSpPr/>
          <p:nvPr/>
        </p:nvSpPr>
        <p:spPr>
          <a:xfrm>
            <a:off x="5681880" y="2138400"/>
            <a:ext cx="729360" cy="45972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型推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34840" y="2138400"/>
            <a:ext cx="912240" cy="45972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構文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12640" y="3798720"/>
            <a:ext cx="77976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α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46400" y="2138400"/>
            <a:ext cx="91224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Ｋ正規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9192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定数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畳み込み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3616200"/>
            <a:ext cx="109512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インライ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展開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46320" y="5492880"/>
            <a:ext cx="1095120" cy="82548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クロージャ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3776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不要定義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除去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00160" y="5492880"/>
            <a:ext cx="912240" cy="82548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レジスタ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割り当て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52760" y="5492880"/>
            <a:ext cx="1095120" cy="82548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仮想マシ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コード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64680" y="5492880"/>
            <a:ext cx="109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アセンブリ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28040" y="2138400"/>
            <a:ext cx="912240" cy="45972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字句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54" idx="3"/>
            <a:endCxn id="153" idx="1"/>
          </p:cNvCxnSpPr>
          <p:nvPr/>
        </p:nvCxnSpPr>
        <p:spPr>
          <a:xfrm>
            <a:off x="471168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3" idx="3"/>
            <a:endCxn id="156" idx="1"/>
          </p:cNvCxnSpPr>
          <p:nvPr/>
        </p:nvCxnSpPr>
        <p:spPr>
          <a:xfrm>
            <a:off x="661500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56" idx="2"/>
            <a:endCxn id="155" idx="0"/>
          </p:cNvCxnSpPr>
          <p:nvPr/>
        </p:nvCxnSpPr>
        <p:spPr>
          <a:xfrm>
            <a:off x="8102160" y="2623680"/>
            <a:ext cx="1080" cy="11660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0" idx="2"/>
            <a:endCxn id="159" idx="0"/>
          </p:cNvCxnSpPr>
          <p:nvPr/>
        </p:nvCxnSpPr>
        <p:spPr>
          <a:xfrm>
            <a:off x="1793520" y="4467240"/>
            <a:ext cx="1080" cy="10166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4" idx="3"/>
            <a:endCxn id="154" idx="1"/>
          </p:cNvCxnSpPr>
          <p:nvPr/>
        </p:nvCxnSpPr>
        <p:spPr>
          <a:xfrm>
            <a:off x="2504880" y="2376000"/>
            <a:ext cx="7657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55" idx="1"/>
            <a:endCxn id="158" idx="3"/>
          </p:cNvCxnSpPr>
          <p:nvPr/>
        </p:nvCxnSpPr>
        <p:spPr>
          <a:xfrm flipH="1">
            <a:off x="6928560" y="4036680"/>
            <a:ext cx="60588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8" idx="1"/>
            <a:endCxn id="157" idx="3"/>
          </p:cNvCxnSpPr>
          <p:nvPr/>
        </p:nvCxnSpPr>
        <p:spPr>
          <a:xfrm flipH="1">
            <a:off x="4568040" y="4036680"/>
            <a:ext cx="6152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7" idx="1"/>
            <a:endCxn id="160" idx="3"/>
          </p:cNvCxnSpPr>
          <p:nvPr/>
        </p:nvCxnSpPr>
        <p:spPr>
          <a:xfrm flipH="1">
            <a:off x="2514240" y="4036680"/>
            <a:ext cx="6134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59" idx="3"/>
            <a:endCxn id="162" idx="1"/>
          </p:cNvCxnSpPr>
          <p:nvPr/>
        </p:nvCxnSpPr>
        <p:spPr>
          <a:xfrm>
            <a:off x="2666520" y="5913000"/>
            <a:ext cx="46116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62" idx="3"/>
            <a:endCxn id="161" idx="1"/>
          </p:cNvCxnSpPr>
          <p:nvPr/>
        </p:nvCxnSpPr>
        <p:spPr>
          <a:xfrm>
            <a:off x="487332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61" idx="3"/>
            <a:endCxn id="163" idx="1"/>
          </p:cNvCxnSpPr>
          <p:nvPr/>
        </p:nvCxnSpPr>
        <p:spPr>
          <a:xfrm>
            <a:off x="677664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60" idx="0"/>
            <a:endCxn id="158" idx="0"/>
          </p:cNvCxnSpPr>
          <p:nvPr/>
        </p:nvCxnSpPr>
        <p:spPr>
          <a:xfrm flipH="1" rot="16200000">
            <a:off x="3924360" y="1476000"/>
            <a:ext cx="2160" cy="4263120"/>
          </a:xfrm>
          <a:prstGeom prst="curvedConnector5">
            <a:avLst>
              <a:gd name="adj1" fmla="val -24200000"/>
              <a:gd name="adj2" fmla="val 49995"/>
              <a:gd name="adj3" fmla="val -24200000"/>
            </a:avLst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196812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0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7780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75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292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75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12268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0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08800" y="426708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5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2788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46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6556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50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0816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39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9672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3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3008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1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3520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31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12268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6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補助モジュールも合計すると…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２千行で</a:t>
            </a:r>
            <a:r>
              <a:rPr b="0" lang="en-US" sz="40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サブセットの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コンパイラができた！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1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&gt; wc -l *.ml{l,y,i,}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100 lexer.mll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</a:t>
            </a:r>
            <a:r>
              <a:rPr b="1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171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parser.mly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 </a:t>
            </a:r>
            <a:r>
              <a:rPr b="0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（</a:t>
            </a:r>
            <a:r>
              <a:rPr b="0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中略）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   </a:t>
            </a:r>
            <a:r>
              <a:rPr b="1" lang="en-US" sz="40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2262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 total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性能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典型的な関数型プログラム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Ackermann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関数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OCamlOpt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0.9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未踏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コンパイラ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0.9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6.8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 -mflat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1.3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典型的な命令型プログラム（レイトレーシング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OCamlOpt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27.2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未踏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コンパイラ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14.1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（参考）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7.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 -mflat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（参考）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7.4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詳細：Ｋ正規化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(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a + b) - (c * d)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のようなネストした式に対し、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let tmp1 = a + b in</a:t>
            </a:r>
            <a:br>
              <a:rPr sz="3600"/>
            </a:b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let tmp2 = c * d in</a:t>
            </a:r>
            <a:br>
              <a:rPr sz="3600"/>
            </a:b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tmp1 - tmp2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のように中間値をすべて明示化す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とアセンブリのギャップ（の一つ）が埋ま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様々な最適化等が簡単にな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詳細：最適化等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Ｋ正規化すれば非常に簡単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インライン展開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inline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定数畳み込み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onstFold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不要定義削除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elim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  <a:ea typeface="HGS創英角ﾎﾟｯﾌﾟ体"/>
              </a:rPr>
              <a:t>コンパイラは完成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アルゴリズム・ソースコードも「きれい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テストプログラム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5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個が動作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レイトレーシングも動作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東大、お茶の水大、東工大、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IST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などで使用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成果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目的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短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「きれい」でわかりやすい</a:t>
            </a:r>
            <a:br>
              <a:rPr sz="4000"/>
            </a:b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を作る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中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自体の宣伝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長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プログラミング言語研究の</a:t>
            </a:r>
            <a:br>
              <a:rPr sz="3600"/>
            </a:b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「技術移転」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今後の方向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</a:rPr>
              <a:t>ドキュメントの整備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チュートリアル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「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30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分でわかる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OCaml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」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も予定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IA-32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アセンブリを生成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PAR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よりややこしい（２オペランドなど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サブセットの拡張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データ型、モジュール、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arbage Collection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など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蛇足：プログラミング言語研究の</a:t>
            </a:r>
            <a:br>
              <a:rPr sz="4000"/>
            </a:b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「技術移転」について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時間がかかりすぎ！</a:t>
            </a:r>
            <a:br>
              <a:rPr sz="3600"/>
            </a:b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もっと短縮できないか？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Garbage Collection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研究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Lisp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6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va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9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～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Parametric Polymorphis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研究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7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++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の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STL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9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～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#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や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va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の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Generics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つい最近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What is ML?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　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≠　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ailing List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　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≠　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arkup Language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　＝　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eta Language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単純で強力なプログラミング言語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主に関数型＋命令型、オブジェクトも有り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ilner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らにより設計・実装（チューリング賞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Appel, Leroy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らにより発展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ML/NJ, OCaml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ACM ICFP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コンテスト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プログラミング言語は自由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601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プロも参加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</a:rPr>
              <a:t>（</a:t>
            </a: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Leroy, Peyton Jones, topcoder, ...)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omputer Language Shootout (shootout.alioth.debian.org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様々な言語のマイクロベンチマーク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どう「単純で強力」なのか？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19320" y="3505320"/>
          <a:ext cx="7619760" cy="1369800"/>
        </p:xfrm>
        <a:graphic>
          <a:graphicData uri="http://schemas.openxmlformats.org/drawingml/2006/table">
            <a:tbl>
              <a:tblPr/>
              <a:tblGrid>
                <a:gridCol w="838080"/>
                <a:gridCol w="1219320"/>
                <a:gridCol w="838080"/>
                <a:gridCol w="1066680"/>
                <a:gridCol w="990720"/>
                <a:gridCol w="1295280"/>
                <a:gridCol w="1371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１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２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３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４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５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６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性能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Intel C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gcc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MLton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lean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g++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行数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Per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Ruby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Nice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S-Lang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SML/NJ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914400" y="1905120"/>
          <a:ext cx="8077320" cy="4566960"/>
        </p:xfrm>
        <a:graphic>
          <a:graphicData uri="http://schemas.openxmlformats.org/drawingml/2006/table">
            <a:tbl>
              <a:tblPr/>
              <a:tblGrid>
                <a:gridCol w="914400"/>
                <a:gridCol w="3048120"/>
                <a:gridCol w="205740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年度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課題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1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2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98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○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×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ゲーム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並列</a:t>
                      </a: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99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DSL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最適化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0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レイトレーシング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1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TML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最適化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Dylan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2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荷物配送ゲーム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3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レーシング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4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アリ対戦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&amp; 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ICFP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テスト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私の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宣伝活動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ACM ICFP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コンテスト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優勝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Penn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2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優勝（東大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4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主催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Penn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・コンパイラ授業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（東大理学部情報科学科）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[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PU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実験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]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Bioinformatics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に使用（東大医科研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O'Reilly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の本を共同翻訳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</a:rPr>
              <a:t>自分近傍のプログラミングはすべて</a:t>
            </a:r>
            <a:r>
              <a:rPr b="0" lang="en-US" sz="32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3886200"/>
            <a:ext cx="2057400" cy="60948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なぜ美しいコンパイラを作るの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Symbol"/>
                <a:ea typeface="Symbol"/>
              </a:rPr>
              <a:t>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プログラマや学生にわかりやすい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チュートリアルや実装や公開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（</a:t>
            </a: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短いほど良い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）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L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が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"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inor Language"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である原因：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「よく知らないから使わない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「仕組みがわからないから使わない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対象とする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サブセット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(1/2)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425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::=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式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定数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op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算術演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if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the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else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条件分岐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変数定義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変数読み出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rec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y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y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関数定義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関数呼び出し</a:t>
            </a:r>
            <a:br>
              <a:rPr sz="3200"/>
            </a:br>
            <a:r>
              <a:rPr b="1" lang="ja-JP" sz="3200" spc="-1" strike="noStrike">
                <a:solidFill>
                  <a:srgbClr val="ffffeb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対象とする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サブセット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(2/2)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 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::=</a:t>
            </a:r>
            <a:br>
              <a:rPr sz="3200"/>
            </a:br>
            <a:r>
              <a:rPr b="1" lang="ja-JP" sz="3200" spc="-1" strike="noStrike">
                <a:solidFill>
                  <a:srgbClr val="ffffeb"/>
                </a:solidFill>
                <a:latin typeface="Arial"/>
              </a:rPr>
              <a:t>...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組を作る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組から読み出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Array.create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を作る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.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から読み出し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.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</a:t>
            </a:r>
            <a:r>
              <a:rPr b="1" lang="en-US" sz="3200" spc="-1" strike="noStrike">
                <a:solidFill>
                  <a:srgbClr val="ffffeb"/>
                </a:solidFill>
                <a:latin typeface="Symbol"/>
                <a:ea typeface="Symbol"/>
              </a:rPr>
              <a:t>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へ書き込み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9:02:24Z</dcterms:created>
  <dc:creator>住井 英二郎</dc:creator>
  <dc:description/>
  <dc:language>en-US</dc:language>
  <cp:lastModifiedBy>住井 英二郎</cp:lastModifiedBy>
  <dcterms:modified xsi:type="dcterms:W3CDTF">2005-02-11T07:05:46Z</dcterms:modified>
  <cp:revision>944</cp:revision>
  <dc:subject/>
  <dc:title>A Bisimulation for Type Abstraction and Recursion</dc:title>
</cp:coreProperties>
</file>