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DE93-EB5A-4C55-9315-96B55F00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6378-58F8-4050-B1FD-13E28016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C43-7B58-4A28-8BC8-6378C29A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FFF7-A4C2-47CD-815B-436A39B3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BA48-2FE1-477B-B0D0-879B4991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F636-C584-46F6-A84E-B727EBB7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EB34-0581-4570-A4F5-E07DEAEE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5FBB-1165-4CC4-9683-2E501AA7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3F38-4545-4360-A751-C33CFAB2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A3B1-A839-49F2-B51C-5FCC2A1C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9C11-C5C9-45FC-BA4D-BF8C6CBD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25DB-C544-4E75-868D-3A63FCBB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A472-2C6A-4DB4-8550-25BCB500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253E-85C7-4DF4-9E22-E7F8668F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71D4-4978-403C-BB10-24382A38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8937-700E-4669-8919-816504AA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4D5F-B9C3-409B-A336-E828BD61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B87E-745A-4971-8925-C987FEE0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462F-5964-4D2E-A1D4-46EFC1EA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D0D0-F9D5-45DE-812D-DBDE35F3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64F1-E2AF-46BF-9AA7-025990C2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E7EE-0E55-4B85-AC4C-50D2FB8C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958E-23A2-4916-865D-31A3D3A7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1579-BF23-4901-BE2F-42DD3BB1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C05C-0662-4FB5-99CF-239EA2544737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6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1F66-B8DB-4658-A703-77D6A7EBAAA2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背景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単純で強力なプログラミング言語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++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の性能、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Java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Ruby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以上の簡単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HGP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国際プログラミングコンテストやベンチマークで実証ずみ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学界では有名だが、一般には無名　⇒　</a:t>
            </a:r>
            <a:r>
              <a:rPr b="0" lang="en-US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宣伝活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今回の目標：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「きれい」で「わかりやすい」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コンパイラ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⇒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　「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はよくわからないから使わない」を打ち破る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成果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わずか２千行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で有名コンパイラ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OCaml, GCC)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以上の性能を達成、東大などで教育利用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2004</a:t>
            </a:r>
            <a:r>
              <a:rPr b="0" lang="ja-JP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年度未踏ソフトウェア創造事業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「美しい日本の</a:t>
            </a:r>
            <a:r>
              <a:rPr b="0" lang="en-US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コンパイラ」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開発代表者： 住井英二郎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4343400"/>
            <a:ext cx="7010640" cy="5335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行数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&gt;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wc -l *.ml*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52 alpha.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2 alpha.mli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urier New"/>
              </a:rPr>
              <a:t>（中略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   </a:t>
            </a: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2241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tota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性能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関数型プログラム（アッカーマン関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6.8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命令型プログラム（レイトレーシン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14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36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17.0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2666880"/>
            <a:ext cx="2514600" cy="4572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4419720"/>
            <a:ext cx="2667240" cy="5331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5562720"/>
            <a:ext cx="2895480" cy="609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cp:lastPrinted>2009-04-22T19:24:48Z</cp:lastPrinted>
  <dcterms:modified xsi:type="dcterms:W3CDTF">2005-02-25T05:26:45Z</dcterms:modified>
  <cp:revision>999</cp:revision>
  <dc:subject/>
  <dc:title>A Bisimulation for Type Abstraction and Recursion</dc:title>
</cp:coreProperties>
</file>