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DDA0-62EF-4103-B77C-A822D68D4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DBB0-D82F-492C-B83B-95FAD5DF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495D-293C-4112-BA20-8BB029782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1D08-DE93-4566-AEB6-B78EAE650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8AE7-42FC-4DE1-BB1E-206D86681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ADC3-964C-49C1-A23A-2D2842F3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79FF-B83E-4175-BFDA-2BE1601E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FD3E-0FAD-4626-972A-B0F60C08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70FB-ACD1-4F4A-958E-56F4C4A9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DC37-D365-4607-91AB-7649126F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A5BD-8905-4F41-AE50-64E822B6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AA05-5CD2-4FD7-910D-FA2345DC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D70E-7064-4BCA-97B8-0FB8F06F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D861-1A39-41D7-BD60-BD0BC1A8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87FE-E365-492D-B58A-E214B93C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1AD9-9B6E-4900-82EE-355429702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65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567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63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65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567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EFE4-EEDE-4BBF-A2AD-551236630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7610-1A20-4F29-A81C-BEF76295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857B-6906-4C94-B26F-05AC2F1E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88DE-46E0-46C6-B7BA-027C74A9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6921-4D85-4EFE-BC35-FAC2E327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6983-23FB-4D0F-8E3B-29F145BF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9A61-B3C1-4B7B-A672-093FC3CC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5D17-0444-4287-9C97-1AB28313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36A5-B23D-4D8D-B951-22E47BA078A0}" type="slidenum">
              <a:rPr b="1" lang="en-US" sz="26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240" y="1295280"/>
            <a:ext cx="8686800" cy="319320"/>
            <a:chOff x="228240" y="1295280"/>
            <a:chExt cx="8686800" cy="319320"/>
          </a:xfrm>
        </p:grpSpPr>
        <p:sp>
          <p:nvSpPr>
            <p:cNvPr id="6" name=""/>
            <p:cNvSpPr/>
            <p:nvPr/>
          </p:nvSpPr>
          <p:spPr>
            <a:xfrm>
              <a:off x="676080" y="129528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227880" y="129528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7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BE30-80C6-4987-B7AC-B44E7EC7CBB1}" type="slidenum">
              <a:rPr b="1" lang="en-US" sz="26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背景： 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単純で強力なプログラミング言語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C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や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C++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と同等の性能、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Java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や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Ruby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以上の簡単さ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39000" indent="-24552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HGP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国際プログラミングコンテストやベンチマークで実証ずみ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学界では有名だが、一般には無名　⇒　</a:t>
            </a:r>
            <a:r>
              <a:rPr b="0" lang="en-US" sz="24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24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宣伝活動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今回の目標：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「きれい」で「わかりやすい」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コンパイラ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⇒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　「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はよくわからないから使わない」を打ち破る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成果： 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わずか２千行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で有名コンパイラ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OCaml, GCC)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と同等以上の性能を達成、東大などで教育利用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2004</a:t>
            </a:r>
            <a:r>
              <a:rPr b="0" lang="ja-JP" sz="16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年度未踏ソフトウェア創造事業</a:t>
            </a:r>
            <a:endParaRPr b="0" lang="en-US" sz="1600" spc="-1" strike="noStrike">
              <a:solidFill>
                <a:srgbClr val="ffffe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「美しい日本の</a:t>
            </a:r>
            <a:r>
              <a:rPr b="0" lang="en-US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コンパイラ」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開発代表者： 住井英二郎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4343400"/>
            <a:ext cx="7010640" cy="5335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6320" y="76320"/>
            <a:ext cx="899136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行数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&gt;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wc -l *.ml*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    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52 alpha.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     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2 alpha.mli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urier New"/>
              </a:rPr>
              <a:t>（中略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   </a:t>
            </a: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2241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tota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性能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典型的な関数型プログラム（アッカーマン関数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GCC 6.8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OCaml  0.9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未踏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 0.9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典型的な命令型プログラム（レイトレーシング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GCC 14.7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OCaml 36.7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未踏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 17.0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2666880"/>
            <a:ext cx="2514600" cy="4572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67280" y="4419720"/>
            <a:ext cx="2667240" cy="53316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3600" y="5562720"/>
            <a:ext cx="2895480" cy="6094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9:02:24Z</dcterms:created>
  <dc:creator>住井 英二郎</dc:creator>
  <dc:description/>
  <dc:language>en-US</dc:language>
  <cp:lastModifiedBy>住井 英二郎</cp:lastModifiedBy>
  <cp:lastPrinted>2009-04-22T19:24:48Z</cp:lastPrinted>
  <dcterms:modified xsi:type="dcterms:W3CDTF">2005-02-25T05:26:45Z</dcterms:modified>
  <cp:revision>999</cp:revision>
  <dc:subject/>
  <dc:title>A Bisimulation for Type Abstraction and Recursion</dc:title>
</cp:coreProperties>
</file>