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40C2-19BD-4802-B396-8535F9533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F6A6-4160-46B1-A843-91443611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D2A-6B54-4216-A6DD-16CDE1A5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1546-B5A5-42B8-A854-E64EF4E4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0EC1-7579-4044-96BD-D014FD8E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D1A9-1D00-4E07-8D5C-D0F66283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83A0-191B-49AD-A3FF-5E2AFADF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4871-D47F-4398-B20E-7E41A7B3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048D-E37F-4FB0-ADEC-762BD0AC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3EBD-5BA1-476B-9785-3CC27BD9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D950-22B4-48D7-8E44-5EF9AA5B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54AE-5B84-45AC-89B3-46F504E3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645B-EE53-4C2F-854F-5FE185C2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8700-7913-439D-A29E-0ECEA6A5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315F-F5F3-4124-9440-1D2CBAA4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3256-CB37-45C0-B520-DFD2A1D4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220D-E6DF-4E6B-895F-0CB2B776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26B4-0AE3-4BAD-B434-78EAAF54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C341-0AA1-40F4-8CF2-36A485F4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58F-0314-4520-9084-4596EDD7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61B3-5C3B-441B-A393-9F96C95C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926F-BC1F-4925-BE30-20834CCA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1ACC-3F3C-4641-8DF0-13F17D63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C988-C1F9-4B40-8AA0-D763F97F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AAA6-6A02-4FBB-98A3-AFF2F7ED5D3A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6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AF30-9E95-4FA2-AEC1-6BE358B40966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背景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単純で強力なプログラミング言語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++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の性能、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Java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Ruby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以上の簡単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HGP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国際プログラミングコンテストやベンチマークで実証ずみ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学界では有名だが、一般には無名　⇒　</a:t>
            </a:r>
            <a:r>
              <a:rPr b="0" lang="en-US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宣伝活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今回の目標：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「きれい」で「わかりやすい」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コンパイラ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⇒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　「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はよくわからないから使わない」を打ち破る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成果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わずか２千行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で有名コンパイラ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OCaml, GCC)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以上の性能を達成、東大などで教育利用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2004</a:t>
            </a:r>
            <a:r>
              <a:rPr b="0" lang="ja-JP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年度未踏ソフトウェア創造事業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「美しい日本の</a:t>
            </a:r>
            <a:r>
              <a:rPr b="0" lang="en-US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コンパイラ」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開発代表者： 住井英二郎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343400"/>
            <a:ext cx="7010640" cy="5335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行数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&gt;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wc -l *.ml*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52 alpha.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2 alpha.mli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urier New"/>
              </a:rPr>
              <a:t>（中略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2241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tota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性能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関数型プログラム（アッカーマン関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6.8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命令型プログラム（レイトレーシン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14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36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17.0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666880"/>
            <a:ext cx="2514600" cy="457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419720"/>
            <a:ext cx="2667240" cy="533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5562720"/>
            <a:ext cx="2895480" cy="609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cp:lastPrinted>2009-04-22T19:24:48Z</cp:lastPrinted>
  <dcterms:modified xsi:type="dcterms:W3CDTF">2005-02-25T05:26:45Z</dcterms:modified>
  <cp:revision>999</cp:revision>
  <dc:subject/>
  <dc:title>A Bisimulation for Type Abstraction and Recursion</dc:title>
</cp:coreProperties>
</file>