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D8D32-C1D5-4820-8BC0-9FFA9EFAF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040AB-0688-4213-B6D5-A7951ECD4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4440" y="689040"/>
            <a:ext cx="4565880" cy="34243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although m4 is redefined in E, it still requires a pointer to 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21DB-DB37-4508-A150-631143365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7CB2-E4CA-4B98-8666-C6007C81D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70B2-0755-4FF7-957F-EA91D4FFD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D18D-2B25-4E09-8768-8FEE214D7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D36E-940B-4D52-83EC-8BE361806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4C8D-01A3-4CA7-9EEC-22571F336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823B-87D3-449E-9DF5-E0845D541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0E7F-7FCD-497E-851F-42F953556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FFB0-212C-4B51-B0BD-5352D6A2A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52C8-7098-4583-AD25-D548335BF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5303-7F8C-4385-8E53-FD400D16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7CF4-8D3D-487D-98DF-71BCC3D64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97441-1621-4C68-BF24-AE74842DE5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92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15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Object Orientatio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06440" y="25542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4987800"/>
            <a:ext cx="7010640" cy="27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of the slides in this lecture are by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Koen Langendoe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Delft University of Technology The Nether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6628-158A-467A-86EA-C04C1D49CB8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Black"/>
              </a:rPr>
              <a:t>Dynamic dispatch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lementation: dispatch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025720" y="2666880"/>
            <a:ext cx="20872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tr to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also a ptr to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58920" y="3063960"/>
            <a:ext cx="2387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4564080" y="3063960"/>
            <a:ext cx="1209600" cy="1554120"/>
            <a:chOff x="4564080" y="3063960"/>
            <a:chExt cx="1209600" cy="1554120"/>
          </a:xfrm>
        </p:grpSpPr>
        <p:sp>
          <p:nvSpPr>
            <p:cNvPr id="148" name=""/>
            <p:cNvSpPr/>
            <p:nvPr/>
          </p:nvSpPr>
          <p:spPr>
            <a:xfrm>
              <a:off x="4564080" y="3063960"/>
              <a:ext cx="1209600" cy="395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564080" y="345924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564080" y="385452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564080" y="424980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969240" y="3063960"/>
            <a:ext cx="1209600" cy="1158840"/>
            <a:chOff x="6969240" y="3063960"/>
            <a:chExt cx="1209600" cy="1158840"/>
          </a:xfrm>
        </p:grpSpPr>
        <p:sp>
          <p:nvSpPr>
            <p:cNvPr id="153" name=""/>
            <p:cNvSpPr/>
            <p:nvPr/>
          </p:nvSpPr>
          <p:spPr>
            <a:xfrm>
              <a:off x="6969240" y="306396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1_A_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969240" y="345924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2_A_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969240" y="385452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3_C_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5130720" y="3276720"/>
            <a:ext cx="1838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340080" y="5353200"/>
            <a:ext cx="5184720" cy="395280"/>
            <a:chOff x="3340080" y="5353200"/>
            <a:chExt cx="5184720" cy="395280"/>
          </a:xfrm>
        </p:grpSpPr>
        <p:sp>
          <p:nvSpPr>
            <p:cNvPr id="158" name=""/>
            <p:cNvSpPr/>
            <p:nvPr/>
          </p:nvSpPr>
          <p:spPr>
            <a:xfrm>
              <a:off x="4029120" y="5353200"/>
              <a:ext cx="44956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*(a-&gt;dispatch_table[1])(a, 3)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340080" y="5367600"/>
              <a:ext cx="457200" cy="380880"/>
            </a:xfrm>
            <a:prstGeom prst="rightArrow">
              <a:avLst>
                <a:gd name="adj1" fmla="val 50000"/>
                <a:gd name="adj2" fmla="val 30009"/>
              </a:avLst>
            </a:prstGeom>
            <a:solidFill>
              <a:srgbClr val="ffffff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696240" y="5105520"/>
            <a:ext cx="2512440" cy="136296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C *c = ...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A *a =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-&gt;m2(3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03CF-5E43-41D8-800C-7236864B3625}" type="slidenum">
              <a:t>10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 Black"/>
              </a:rPr>
              <a:t>Dynamic typing:implementation </a:t>
            </a:r>
            <a:br>
              <a:rPr sz="2400"/>
            </a:br>
            <a:r>
              <a:rPr b="0" lang="en-GB" sz="2400" spc="-1" strike="noStrike">
                <a:solidFill>
                  <a:srgbClr val="333399"/>
                </a:solidFill>
                <a:latin typeface="Arial Black"/>
              </a:rPr>
              <a:t>requires </a:t>
            </a:r>
            <a:r>
              <a:rPr b="0" lang="en-GB" sz="2400" spc="-1" strike="noStrike">
                <a:solidFill>
                  <a:srgbClr val="0033cc"/>
                </a:solidFill>
                <a:latin typeface="Arial Black"/>
              </a:rPr>
              <a:t>pointer subtyping</a:t>
            </a:r>
            <a:r>
              <a:rPr b="0" lang="en-GB" sz="24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2" name=""/>
          <p:cNvSpPr/>
          <p:nvPr/>
        </p:nvSpPr>
        <p:spPr>
          <a:xfrm>
            <a:off x="876240" y="3814920"/>
            <a:ext cx="6829560" cy="169452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2_A_C(class_A *this_A, int i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_C *this = </a:t>
            </a:r>
            <a:r>
              <a:rPr b="1" lang="en-GB" sz="1800" spc="-1" strike="noStrike">
                <a:solidFill>
                  <a:srgbClr val="0033cc"/>
                </a:solidFill>
                <a:latin typeface="Courier New"/>
              </a:rPr>
              <a:t>convert_ptrA_to_ptrC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this_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his-&gt;a2 = this-&gt;c1 + 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85040" y="1714680"/>
            <a:ext cx="2649600" cy="103140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2(int i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2 = c1 + 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340160" y="2048040"/>
            <a:ext cx="938160" cy="1122120"/>
          </a:xfrm>
          <a:prstGeom prst="downArrow">
            <a:avLst>
              <a:gd name="adj1" fmla="val 50000"/>
              <a:gd name="adj2" fmla="val 299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3F18-D3B4-4735-B61E-B7DC9F184B2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Black"/>
              </a:rPr>
              <a:t>Multiple inheritanc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6" name=""/>
          <p:cNvSpPr/>
          <p:nvPr/>
        </p:nvSpPr>
        <p:spPr>
          <a:xfrm>
            <a:off x="1383480" y="1612800"/>
            <a:ext cx="2649600" cy="20260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C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c1, c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1() {...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2() {...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99480" y="3867120"/>
            <a:ext cx="3335400" cy="235764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E : public C, D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e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2() {...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4() {...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5() {...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53400" y="1612800"/>
            <a:ext cx="2649600" cy="20260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D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d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3() {...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4() {...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9927-1CE8-430D-9450-BC66C9B4369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860400" y="6056280"/>
            <a:ext cx="6829560" cy="699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nvert_ptrC_to_ptrE(c) </a:t>
            </a:r>
            <a:r>
              <a:rPr b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nvert_ptrD_to_ptrE(d) </a:t>
            </a:r>
            <a:r>
              <a:rPr b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d - sizeof(Class_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60400" y="6056280"/>
            <a:ext cx="6829560" cy="699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nvert_ptrC_to_ptrE(c) 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nvert_ptrD_to_ptrE(d) 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d - sizeof(Class_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87400" y="4770360"/>
            <a:ext cx="6829560" cy="699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nvert_ptrE_to_ptrC(e) </a:t>
            </a:r>
            <a:r>
              <a:rPr b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nvert_ptrE_to_ptrD(e) </a:t>
            </a:r>
            <a:r>
              <a:rPr b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e + sizeof(Class_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87400" y="4770360"/>
            <a:ext cx="6829560" cy="699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nvert_ptrE_to_ptrC(e) 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nvert_ptrE_to_ptrD(e) 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e + sizeof(Class_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Black"/>
              </a:rPr>
              <a:t>Multiple inheritanc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2285640" y="1600200"/>
            <a:ext cx="6561360" cy="3050280"/>
            <a:chOff x="2285640" y="1600200"/>
            <a:chExt cx="6561360" cy="3050280"/>
          </a:xfrm>
        </p:grpSpPr>
        <p:sp>
          <p:nvSpPr>
            <p:cNvPr id="175" name=""/>
            <p:cNvSpPr/>
            <p:nvPr/>
          </p:nvSpPr>
          <p:spPr>
            <a:xfrm>
              <a:off x="4351320" y="1733760"/>
              <a:ext cx="2057400" cy="2914560"/>
            </a:xfrm>
            <a:prstGeom prst="rect">
              <a:avLst/>
            </a:prstGeom>
            <a:noFill/>
            <a:ln w="284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21480" y="4251600"/>
              <a:ext cx="111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E-obje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789600" y="1733760"/>
              <a:ext cx="2057400" cy="2914560"/>
            </a:xfrm>
            <a:prstGeom prst="rect">
              <a:avLst/>
            </a:prstGeom>
            <a:noFill/>
            <a:ln w="284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308720" y="4251600"/>
              <a:ext cx="1017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E-clas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285640" y="1600200"/>
              <a:ext cx="1989720" cy="7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tr to 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tr to C inside 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70240" y="1997280"/>
              <a:ext cx="2387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775040" y="1857600"/>
              <a:ext cx="1209960" cy="395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75040" y="2252880"/>
              <a:ext cx="120996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775040" y="2648160"/>
              <a:ext cx="120996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775040" y="3043440"/>
              <a:ext cx="1209960" cy="395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180200" y="185760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1_C_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80200" y="225288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2_C_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180200" y="264816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3_D_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342040" y="2070360"/>
              <a:ext cx="1838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75040" y="3438720"/>
              <a:ext cx="120996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d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775040" y="3834000"/>
              <a:ext cx="120996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e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285640" y="2816280"/>
              <a:ext cx="198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tr to D inside 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370240" y="3213360"/>
              <a:ext cx="2387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180200" y="304344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4_D_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180200" y="343872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5_E_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42040" y="2816280"/>
              <a:ext cx="1838160" cy="399960"/>
            </a:xfrm>
            <a:custGeom>
              <a:avLst/>
              <a:gdLst/>
              <a:ahLst/>
              <a:rect l="l" t="t" r="r" b="b"/>
              <a:pathLst>
                <a:path w="1158" h="252">
                  <a:moveTo>
                    <a:pt x="0" y="250"/>
                  </a:moveTo>
                  <a:lnTo>
                    <a:pt x="787" y="252"/>
                  </a:lnTo>
                  <a:lnTo>
                    <a:pt x="787" y="2"/>
                  </a:lnTo>
                  <a:lnTo>
                    <a:pt x="1158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628200" y="429084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erty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2880" y="5653080"/>
            <a:ext cx="105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ty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8A61-050A-4398-A1CE-3F1D2035F38A}" type="slidenum">
              <a:t>13</a:t>
            </a:fld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given an object </a:t>
            </a:r>
            <a:r>
              <a:rPr b="1" lang="en-US" sz="3200" spc="-1" strike="noStrike">
                <a:solidFill>
                  <a:srgbClr val="0033cc"/>
                </a:solidFill>
                <a:latin typeface="Courier New"/>
              </a:rPr>
              <a:t>e</a:t>
            </a: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 of class </a:t>
            </a:r>
            <a:r>
              <a:rPr b="1" lang="en-US" sz="3200" spc="-1" strike="noStrike">
                <a:solidFill>
                  <a:srgbClr val="0033cc"/>
                </a:solidFill>
                <a:latin typeface="Courier New"/>
              </a:rPr>
              <a:t>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06440" y="2362320"/>
          <a:ext cx="8508960" cy="3319200"/>
        </p:xfrm>
        <a:graphic>
          <a:graphicData uri="http://schemas.openxmlformats.org/drawingml/2006/table">
            <a:tbl>
              <a:tblPr/>
              <a:tblGrid>
                <a:gridCol w="1346040"/>
                <a:gridCol w="7162920"/>
              </a:tblGrid>
              <a:tr h="110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e.m1(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*(e-&gt;dispatch_table[0]))((Class_C *) 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e.m3(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*(e-&gt;dispatch_table[2]))(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class_D *)((char *)e + sizeof(Class_C))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e.m4(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*(e-&gt;dispatch_table[3]))(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class_D *)((char *)e + sizeof(Class_C))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01C8-53CD-4B24-BCE9-E81235937A8B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nother OO Featur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ction mech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ncapsulate local state within an object, Java has “private” “protected” and “public” qualif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vate methods/fields can’t be called/used outside of the class in which they are def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is is really a scope/visibility issue!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nt-end during semantic analysis (type checking and so on), the compiler maintains this information in the symbol table for each class and enforces visibility r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639D-0D2F-4752-94E2-4FD8B5F5F91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Objects (with single inheritance)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2" name=""/>
          <p:cNvSpPr/>
          <p:nvPr/>
        </p:nvSpPr>
        <p:spPr>
          <a:xfrm>
            <a:off x="226440" y="982800"/>
            <a:ext cx="594144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start :=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lass Vehicle extends Object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var position := star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method move(int x) = {position := position + x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lass Car extends Vehicl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var passengers :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method await(v : Vehicle) 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f (v.position &lt; posi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n v.move(position – v.position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else self.move(10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lass Truck extends Vehicl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method move(int x) 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f x &lt;= 55 then position := position +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var t := new Tru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var c := new Ca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var v : Vehicle :=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.passengers := 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.move(6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v.move(7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.await(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e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9600" y="4014720"/>
            <a:ext cx="202176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ethod overr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46800" y="5259240"/>
            <a:ext cx="3592800" cy="1008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ubtyping allows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ruck or Car to be viewed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used as a Vehi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804680" y="6087960"/>
            <a:ext cx="3647880" cy="1857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503160" y="4105080"/>
            <a:ext cx="3103560" cy="442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2855880" y="5217840"/>
            <a:ext cx="2604960" cy="3682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248A-C66D-44E6-A364-3176CF192E7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Object Implementation?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how do we access object fiel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both inherited fields and fields for the current objec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how do we access method co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if the current class does not define a particular method, where do we go to get the inherited method co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how do we handle method overri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How do we implement subtyping (“object polymorphism”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If B is derived from A, then need to be able to treat a pointer to a B-object as if it were an A-ob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F9FF-BF72-4582-9177-7796BACFAFA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tatic &amp; Dynamic Method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sult of compiling a method is some machine code located at a particular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a method invocation point, we need to figure out what code location to jump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 has static &amp; dynamic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resolve static method calls, we look at the static type of the calling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resolve dynamic method calls, we need the dynamic type of the calling obje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CCF9-B1C5-4A79-A186-7BDFB27976A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Black"/>
              </a:rPr>
              <a:t>Object representa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3" name=""/>
          <p:cNvSpPr/>
          <p:nvPr/>
        </p:nvSpPr>
        <p:spPr>
          <a:xfrm>
            <a:off x="597240" y="1752480"/>
            <a:ext cx="2786760" cy="349956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A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a1, a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1(int i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1 = 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2(int i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2 = a1 + 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21160" y="1752480"/>
            <a:ext cx="756720" cy="4597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46400" y="248292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c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5165640" y="2354400"/>
            <a:ext cx="1209600" cy="763560"/>
            <a:chOff x="5165640" y="2354400"/>
            <a:chExt cx="1209600" cy="763560"/>
          </a:xfrm>
        </p:grpSpPr>
        <p:sp>
          <p:nvSpPr>
            <p:cNvPr id="67" name=""/>
            <p:cNvSpPr/>
            <p:nvPr/>
          </p:nvSpPr>
          <p:spPr>
            <a:xfrm>
              <a:off x="5165640" y="235440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65640" y="274968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165640" y="4138560"/>
            <a:ext cx="1209600" cy="763560"/>
            <a:chOff x="5165640" y="4138560"/>
            <a:chExt cx="1209600" cy="763560"/>
          </a:xfrm>
        </p:grpSpPr>
        <p:sp>
          <p:nvSpPr>
            <p:cNvPr id="70" name=""/>
            <p:cNvSpPr/>
            <p:nvPr/>
          </p:nvSpPr>
          <p:spPr>
            <a:xfrm>
              <a:off x="5165640" y="413856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1_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165640" y="453384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2_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6673320" y="4157640"/>
            <a:ext cx="194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thod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62400" y="1955880"/>
            <a:ext cx="1209960" cy="395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186080" y="2151000"/>
            <a:ext cx="1312920" cy="1994040"/>
          </a:xfrm>
          <a:custGeom>
            <a:avLst/>
            <a:gdLst/>
            <a:ahLst/>
            <a:rect l="l" t="t" r="r" b="b"/>
            <a:pathLst>
              <a:path w="827" h="1256">
                <a:moveTo>
                  <a:pt x="773" y="20"/>
                </a:moveTo>
                <a:cubicBezTo>
                  <a:pt x="800" y="10"/>
                  <a:pt x="827" y="0"/>
                  <a:pt x="727" y="20"/>
                </a:cubicBezTo>
                <a:cubicBezTo>
                  <a:pt x="627" y="40"/>
                  <a:pt x="284" y="9"/>
                  <a:pt x="174" y="143"/>
                </a:cubicBezTo>
                <a:cubicBezTo>
                  <a:pt x="64" y="277"/>
                  <a:pt x="0" y="641"/>
                  <a:pt x="66" y="826"/>
                </a:cubicBezTo>
                <a:cubicBezTo>
                  <a:pt x="132" y="1011"/>
                  <a:pt x="352" y="1133"/>
                  <a:pt x="573" y="1256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6377040" y="1573200"/>
            <a:ext cx="706320" cy="35244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120080" y="1320840"/>
            <a:ext cx="18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A ob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D2A9-DE18-48DD-974B-717BD800CA5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 Black"/>
              </a:rPr>
              <a:t>Inheritance (“pointer polymorphism”)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8" name=""/>
          <p:cNvSpPr/>
          <p:nvPr/>
        </p:nvSpPr>
        <p:spPr>
          <a:xfrm>
            <a:off x="6604920" y="275112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c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805280" y="4200480"/>
            <a:ext cx="1209600" cy="368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1_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805280" y="4595760"/>
            <a:ext cx="1209600" cy="368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2_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80840" y="4033800"/>
            <a:ext cx="2262600" cy="15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thod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code en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ints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mory loc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805280" y="2416320"/>
            <a:ext cx="1209600" cy="1158840"/>
            <a:chOff x="4805280" y="2416320"/>
            <a:chExt cx="1209600" cy="1158840"/>
          </a:xfrm>
        </p:grpSpPr>
        <p:sp>
          <p:nvSpPr>
            <p:cNvPr id="83" name=""/>
            <p:cNvSpPr/>
            <p:nvPr/>
          </p:nvSpPr>
          <p:spPr>
            <a:xfrm>
              <a:off x="4805280" y="241632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05280" y="281160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05280" y="320688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4805280" y="4991040"/>
            <a:ext cx="1209600" cy="368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3_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00040" y="1289160"/>
            <a:ext cx="2923920" cy="268920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B : public A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b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3(void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1 = a1 + a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95920" y="2028960"/>
            <a:ext cx="1209600" cy="395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19600" y="2224080"/>
            <a:ext cx="1312920" cy="1994040"/>
          </a:xfrm>
          <a:custGeom>
            <a:avLst/>
            <a:gdLst/>
            <a:ahLst/>
            <a:rect l="l" t="t" r="r" b="b"/>
            <a:pathLst>
              <a:path w="827" h="1256">
                <a:moveTo>
                  <a:pt x="773" y="20"/>
                </a:moveTo>
                <a:cubicBezTo>
                  <a:pt x="800" y="10"/>
                  <a:pt x="827" y="0"/>
                  <a:pt x="727" y="20"/>
                </a:cubicBezTo>
                <a:cubicBezTo>
                  <a:pt x="627" y="40"/>
                  <a:pt x="284" y="9"/>
                  <a:pt x="174" y="143"/>
                </a:cubicBezTo>
                <a:cubicBezTo>
                  <a:pt x="64" y="277"/>
                  <a:pt x="0" y="641"/>
                  <a:pt x="66" y="826"/>
                </a:cubicBezTo>
                <a:cubicBezTo>
                  <a:pt x="132" y="1011"/>
                  <a:pt x="352" y="1133"/>
                  <a:pt x="573" y="1256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09840" y="1646280"/>
            <a:ext cx="706680" cy="35244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37120" y="1393920"/>
            <a:ext cx="165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B ob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18360" y="5888160"/>
            <a:ext cx="6964200" cy="8254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 that a pointer to a B object c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treated as if it were a pointer to an A objec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141F-4217-4261-9B95-D6489905353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Black"/>
              </a:rPr>
              <a:t>Method overriding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4" name=""/>
          <p:cNvSpPr/>
          <p:nvPr/>
        </p:nvSpPr>
        <p:spPr>
          <a:xfrm>
            <a:off x="6287400" y="265284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c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92680" y="4162320"/>
            <a:ext cx="1209600" cy="368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1_A_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792680" y="4557600"/>
            <a:ext cx="1209600" cy="368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2_A_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90560" y="4132440"/>
            <a:ext cx="194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thod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4780080" y="2427120"/>
            <a:ext cx="1209600" cy="1158840"/>
            <a:chOff x="4780080" y="2427120"/>
            <a:chExt cx="1209600" cy="1158840"/>
          </a:xfrm>
        </p:grpSpPr>
        <p:sp>
          <p:nvSpPr>
            <p:cNvPr id="99" name=""/>
            <p:cNvSpPr/>
            <p:nvPr/>
          </p:nvSpPr>
          <p:spPr>
            <a:xfrm>
              <a:off x="4780080" y="242712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780080" y="282240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780080" y="321768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4792680" y="4952880"/>
            <a:ext cx="1209600" cy="368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3_C_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96880" y="2057400"/>
            <a:ext cx="2923920" cy="3683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C : public A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c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3(void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1 = a1 + a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2(int i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2 = c1 + 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5435640" y="5460480"/>
            <a:ext cx="0" cy="582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730840" y="5460480"/>
            <a:ext cx="0" cy="582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386240" y="5967360"/>
            <a:ext cx="115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cla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545800" y="596736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f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795920" y="2028960"/>
            <a:ext cx="1209600" cy="395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19600" y="2224080"/>
            <a:ext cx="1312920" cy="1994040"/>
          </a:xfrm>
          <a:custGeom>
            <a:avLst/>
            <a:gdLst/>
            <a:ahLst/>
            <a:rect l="l" t="t" r="r" b="b"/>
            <a:pathLst>
              <a:path w="827" h="1256">
                <a:moveTo>
                  <a:pt x="773" y="20"/>
                </a:moveTo>
                <a:cubicBezTo>
                  <a:pt x="800" y="10"/>
                  <a:pt x="827" y="0"/>
                  <a:pt x="727" y="20"/>
                </a:cubicBezTo>
                <a:cubicBezTo>
                  <a:pt x="627" y="40"/>
                  <a:pt x="284" y="9"/>
                  <a:pt x="174" y="143"/>
                </a:cubicBezTo>
                <a:cubicBezTo>
                  <a:pt x="64" y="277"/>
                  <a:pt x="0" y="641"/>
                  <a:pt x="66" y="826"/>
                </a:cubicBezTo>
                <a:cubicBezTo>
                  <a:pt x="132" y="1011"/>
                  <a:pt x="352" y="1133"/>
                  <a:pt x="573" y="1256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6009840" y="1646280"/>
            <a:ext cx="706680" cy="35244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29560" y="139392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C ob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0004-5563-4070-8161-018D04AF783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Exampl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3" name=""/>
          <p:cNvSpPr/>
          <p:nvPr/>
        </p:nvSpPr>
        <p:spPr>
          <a:xfrm>
            <a:off x="547560" y="1962000"/>
            <a:ext cx="3838320" cy="292464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bstract class Shap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oolean IsShape() {return true;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oolean IsRectangle() {return false;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oolean IsSquare() {return false;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bstract double SurfaceArea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lass Rectangle extends Shap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double SurfaceArea { ...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oolean IsRectangle() {return true;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lass Squrae extends Rectangl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oolean IsSquare() {return true;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5246640" y="1179360"/>
          <a:ext cx="2678040" cy="2211480"/>
        </p:xfrm>
        <a:graphic>
          <a:graphicData uri="http://schemas.openxmlformats.org/drawingml/2006/table">
            <a:tbl>
              <a:tblPr/>
              <a:tblGrid>
                <a:gridCol w="2678040"/>
              </a:tblGrid>
              <a:tr h="55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hod table for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ectang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Shape_Shape_</a:t>
                      </a:r>
                      <a:r>
                        <a:rPr b="1" lang="en-US" sz="12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Sha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Rectangle_Shape_</a:t>
                      </a:r>
                      <a:r>
                        <a:rPr b="1" lang="en-US" sz="12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Rectang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Square_Shape_</a:t>
                      </a:r>
                      <a:r>
                        <a:rPr b="1" lang="en-US" sz="12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Sha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rfaceArea_Shape_</a:t>
                      </a:r>
                      <a:r>
                        <a:rPr b="1" lang="en-US" sz="12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Rectang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>
            <a:off x="5216400" y="3797280"/>
            <a:ext cx="283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hod table fo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Squ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16400" y="5888160"/>
            <a:ext cx="283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urfaceArea_Shape_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Rectang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216400" y="5356080"/>
            <a:ext cx="2830680" cy="532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sSquare_Shape_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216400" y="4838760"/>
            <a:ext cx="283068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sRectangle_Shape_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Rectang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216400" y="4317840"/>
            <a:ext cx="2830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sShape_Shape_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216400" y="3797280"/>
            <a:ext cx="2830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216400" y="4838760"/>
            <a:ext cx="2830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216400" y="5356080"/>
            <a:ext cx="2830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216400" y="5888160"/>
            <a:ext cx="2830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216400" y="6408720"/>
            <a:ext cx="28306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216400" y="3797280"/>
            <a:ext cx="0" cy="520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047080" y="3797280"/>
            <a:ext cx="0" cy="520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216400" y="4317840"/>
            <a:ext cx="2830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047080" y="4317840"/>
            <a:ext cx="0" cy="20908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216400" y="4317840"/>
            <a:ext cx="0" cy="20908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5920" y="5450040"/>
            <a:ext cx="3341520" cy="8240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compiler needs to u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SYMBOL TABLE to keep tr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object types and relationsh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BA59-DCDA-4978-BF17-02700CEA0E7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Black"/>
              </a:rPr>
              <a:t>Static vs. Dynamic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ich method to invoke on overloaded polymorphic typ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7240" y="3890880"/>
            <a:ext cx="2771640" cy="15037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C *c = ...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A *a = 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-&gt;m2(3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37000" y="4137480"/>
            <a:ext cx="739080" cy="7970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4297320" y="3733920"/>
            <a:ext cx="3929040" cy="1592280"/>
            <a:chOff x="4297320" y="3733920"/>
            <a:chExt cx="3929040" cy="1592280"/>
          </a:xfrm>
        </p:grpSpPr>
        <p:grpSp>
          <p:nvGrpSpPr>
            <p:cNvPr id="136" name=""/>
            <p:cNvGrpSpPr/>
            <p:nvPr/>
          </p:nvGrpSpPr>
          <p:grpSpPr>
            <a:xfrm>
              <a:off x="4602240" y="3886200"/>
              <a:ext cx="3200400" cy="459720"/>
              <a:chOff x="4602240" y="3886200"/>
              <a:chExt cx="3200400" cy="459720"/>
            </a:xfrm>
          </p:grpSpPr>
          <p:sp>
            <p:nvSpPr>
              <p:cNvPr id="137" name=""/>
              <p:cNvSpPr/>
              <p:nvPr/>
            </p:nvSpPr>
            <p:spPr>
              <a:xfrm>
                <a:off x="4602240" y="3917880"/>
                <a:ext cx="2112840" cy="368280"/>
              </a:xfrm>
              <a:prstGeom prst="rect">
                <a:avLst/>
              </a:prstGeom>
              <a:noFill/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Courier New"/>
                  </a:rPr>
                  <a:t>m2_A_A(a, 3);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910200" y="3886200"/>
                <a:ext cx="892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stati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4602240" y="4724280"/>
              <a:ext cx="3624120" cy="459720"/>
              <a:chOff x="4602240" y="4724280"/>
              <a:chExt cx="3624120" cy="459720"/>
            </a:xfrm>
          </p:grpSpPr>
          <p:sp>
            <p:nvSpPr>
              <p:cNvPr id="140" name=""/>
              <p:cNvSpPr/>
              <p:nvPr/>
            </p:nvSpPr>
            <p:spPr>
              <a:xfrm>
                <a:off x="4602240" y="4754520"/>
                <a:ext cx="2112840" cy="368280"/>
              </a:xfrm>
              <a:prstGeom prst="rect">
                <a:avLst/>
              </a:prstGeom>
              <a:noFill/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Courier New"/>
                  </a:rPr>
                  <a:t>m2_A_C(a, 3);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911640" y="4724280"/>
                <a:ext cx="131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dynami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4297320" y="3733920"/>
              <a:ext cx="304920" cy="159228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41400 h 1592280"/>
                <a:gd name="textAreaBottom" fmla="*/ 1550880 h 159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782B-BDBA-460F-B7D8-2ABB1955A43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21T10:20:51Z</dcterms:modified>
  <cp:revision>274</cp:revision>
  <dc:subject/>
  <dc:title>Slide 1</dc:title>
</cp:coreProperties>
</file>