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CFF8-986A-443C-90F0-E9F323B74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E2EE-2373-483B-9069-19E185B1A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B25-1DB5-4E8B-906D-E950DD58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74CF-9068-47C6-8DB0-F03C96DE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C79-F5BA-45C3-95DE-282CA546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8B1-A180-42BC-B987-4F5B1900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5C64-D0F0-493F-9EB7-4D8CD012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08A-C2EA-4362-89E8-CAA75ACA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883F-EFD3-42D8-B76E-F88F612E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485-6318-4D5D-8FEA-511BA1BF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B1D8-6D41-48C7-9F9B-8E3C7215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C8A-38DC-4A4A-836A-14C0153C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6A0-7D29-4789-BE56-65420DF0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64D2-3602-46FD-A69D-B052FE9F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C7BE-D346-4293-A45B-88BF8CC08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41120" y="0"/>
            <a:ext cx="9285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59120" y="-360"/>
            <a:ext cx="2652840" cy="193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cture 14</a:t>
            </a:r>
            <a:br>
              <a:rPr sz="1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arbage Colle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nt Term 2007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imothy G. Griffi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University of Cambridge </a:t>
            </a:r>
            <a:endParaRPr b="0" lang="en-US" sz="1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899-5492-4BB7-8042-8C58C05E34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ference counting can’t detect cycles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6" idx="3"/>
            <a:endCxn id="159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BF84-5D07-45C0-A039-9536C5D03C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s and C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/time overhead to maintain cou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leakage when cycles in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re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 long pauses to collect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many useful ap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 File System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mbolic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’s RMI management of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Functional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E9B-59AD-46FA-9D79-7E5113E010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ark and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rk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pth 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versal of object graph from the root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weep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terate over entire heap, adding the unmarked data back onto the fre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2EA6-D4AC-436A-BC40-BA2D509BA2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st of Mark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17520" y="1060560"/>
            <a:ext cx="82296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ark ph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R) where R is the # of reachabl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1 * R (c1 may be 10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sweep ph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H) where H is the # of words in entire 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2 * H (c2 may be 3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good” = each collection returns H - R words reclai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rtized cost = time-collecting/amount-reclaim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c1 * R) + (c2 * H)) / (H -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is close to H, then each collection reclaims little spac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/ H must be sufficiently small or GC cost is hig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dynamically adjust. Say, if R / H is larger than .5, increase heap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BB4A-1D87-4BF1-93AA-EB63252BCA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Probl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th-first search is usually implemented as a recursiv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tack space proportional to the longest path in the graph of reachable ob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ctivation record/node in th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ion records are b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heap is one long linked list, the stack space used in the algorithm will be greater than the heap siz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do? Pointer reversal [See Appe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4EC-7632-4F9B-AE3F-DB110BFA3A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121-1969-464F-82F6-C4BB664034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0D1-FB5F-4DD6-9A29-810B9F3046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GC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5F6-670B-4FE1-952B-5A5AE7CF1F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BSERVATION: for a copying garbage collector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14332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28560" y="4532400"/>
            <a:ext cx="7764480" cy="174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0%  to 98% new objects die very quick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 object that has survived several collections has a bigger chance to become a long-lived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t’s a inefficient that long-lived objects be copied over and over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FAA0-D313-4747-AD90-61EF7EF9BE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A: Generational garbage collec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43680" cy="3505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74560" y="4870440"/>
            <a:ext cx="769644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egregate objects into multiple areas by age, and collect areas containing older objects less often than the younger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035-D747-4C85-BFA6-A25367CEF9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Garbage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170000" y="113364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33120" y="2135160"/>
            <a:ext cx="6715800" cy="703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value is garbage if it will not be used in any subsequ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utation by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040" y="4373640"/>
            <a:ext cx="7916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General, determining what is and is not garbage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 deci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8480" y="5680080"/>
            <a:ext cx="38232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Read Chapter 13 of Ap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8C1-847F-461B-9E9D-80241F493A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issues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3600" y="136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</a:t>
            </a:r>
            <a:r>
              <a:rPr b="0" lang="en-US" sz="1800" spc="-1" strike="noStrike">
                <a:solidFill>
                  <a:srgbClr val="009999"/>
                </a:solidFill>
                <a:latin typeface="Arial Black"/>
              </a:rPr>
              <a:t>promot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objects from young generation to old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ually after an object survives a collection, it will be promo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eed to keep track of older objects pointing to newer on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ow big should the generations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pel says each should be exponentially larger than the 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collect the old gene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fter several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inor collection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we do a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ajor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ometimes different GC algorithms are used for the new and older gen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y? Because the have different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pying collection for the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ss than 10% of the new data is usually 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pying collection cost is proportional to the liv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rk-sweep for the 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D25-6546-49D1-BA86-C7E8BD7C40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3660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 programming language so the problem goes away!  That is, use FORT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programmer to worry about it (use malloc and free in 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and Sw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ther techniqu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7B1-820A-476C-88FD-ACEF3A4B73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strict Languages? NO WAY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E16E-0507-4C1F-B331-18017582D1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plicit M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are very clever primat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too clever and make mistakes. Getting it right can be costly. And don’t we want to automate-away tediu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ws us to implement Garbage Colle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463-AEE8-4BAA-8721-1BCBDFD644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utom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9" idx="3"/>
            <a:endCxn id="72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8520" y="1090440"/>
            <a:ext cx="2462040" cy="5615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89360" y="10684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OOT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1760" y="5942160"/>
            <a:ext cx="47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--------------------  HEAP 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141-F515-4E8A-AF51-C135C1D5A7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ntify Cells Reachable From Root Set…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2" idx="3"/>
            <a:endCxn id="10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BAB9-F085-457B-A4CA-5BC372FEDD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reclaim unreachable cells, 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epeat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3"/>
            <a:endCxn id="130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318-EDB5-4C2B-8CF6-09C9469FC4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 Counting, basic idea: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2280" y="157608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bject is created, set count t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 new pointer to the object is created, increment the cou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n existing pointer to an object is destroyed, decrement the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96440" y="5121360"/>
            <a:ext cx="35046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learly --- this can be VERY costly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60B8-EB00-4994-A02C-09DB533C9C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9T12:48:01Z</dcterms:modified>
  <cp:revision>263</cp:revision>
  <dc:subject/>
  <dc:title>Slide 1</dc:title>
</cp:coreProperties>
</file>