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0855-1840-4DB7-9F76-EF067A6AF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not going to lecture a full compiler cours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8FF-EA37-4296-8902-CBD73F40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FA72-F3CA-4493-8686-F1C89E5D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C3F-F17B-4C70-B2AE-F8F4A907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E8F-FF82-4DD1-AEF3-C142891E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E9C-71F0-41E3-B7C9-C1456592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0A5-69D4-46A9-BE30-40002EAB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BB2-3226-4B59-B544-0EDADF7F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90E-8AF5-4849-9DCF-B8B084EB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E95-FCD5-45A8-8335-226B8193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3D2-811D-4E38-A832-87DFBE45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FBD-CCFE-419B-8EC0-7AFB3EB1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2EC-5BD5-4CC0-9AED-3647377E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6770-9756-4E40-9C03-77EA35FA7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1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gister Machines and th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in-Caml Middle-End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90D-2DA7-4AB7-8E94-09A56E3678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129680" y="565200"/>
            <a:ext cx="548424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8200" y="3263760"/>
            <a:ext cx="740448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9DC-F9CC-412C-A14C-1147CA3602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630360" y="103032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23880" y="110016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84840" y="1076400"/>
            <a:ext cx="3762000" cy="46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240" y="6083280"/>
            <a:ext cx="694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Knormal.f : Syntax.t -&gt; Knormal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68360" y="123516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EF2-A9DE-469E-A77E-21B1E5DE90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-Reduction, Nested "Let" Reduc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536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y in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[y/x]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39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y = (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2120" y="3365640"/>
            <a:ext cx="862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55D-DF77-4F25-99D0-1B14B8247E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Inlin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lines all "small"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s recursiv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mall" = less than a consta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nline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 for a constant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ter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C23-258F-4320-BD26-339079C2BE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Constant Folding an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Variable Elimin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x +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effective after inli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D81-DB50-4B3F-845F-89FD8892CD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plific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81040"/>
            <a:ext cx="6200280" cy="26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1280" y="340668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5C2-89D2-44EC-8D69-A91ECD6BFE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unction defini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  func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-level function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cre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applic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n function call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E20-8226-4E73-B3F6-8C1A002E91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1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reation/Appl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y = x + y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x] y = x + y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x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147-6AA4-4EE9-A5C6-79FE63A5C3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2: Known Function Ca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f 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apply_direct f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936-AFBE-4E2B-90A6-069D4F838E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3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Closure Elimin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CDB-4806-4895-A572-958E715D9B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Register Machine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asic (Abstract) Opera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32040" y="433692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4280" y="1324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8760" y="13762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L to register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600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47840" y="26668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 to memory location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0520" y="4213080"/>
            <a:ext cx="54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 operation op in values in registers R2 and R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store the result in register R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0320" y="180648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R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9360" y="1752480"/>
            <a:ext cx="458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register 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58240" y="317196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2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46040" y="3129120"/>
            <a:ext cx="47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1 to memory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CBDE-246E-4DF5-BFA2-FB906AC803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7280" y="378000"/>
            <a:ext cx="2511360" cy="110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2182680"/>
            <a:ext cx="0" cy="118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0" y="20016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490-D549-44EB-8369-55845BF090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36600" y="1006560"/>
            <a:ext cx="37620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200" y="6059520"/>
            <a:ext cx="767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Closure.f : Knormal.t -&gt; Closure.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8640" y="109368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84600" y="1220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16400" y="1878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34040" y="1017720"/>
            <a:ext cx="429552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closure = { entry : Id.l; actual_fv : Id.t lis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MakeCls of (Id.t * Type.t) * closure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Cls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Dir of Id.l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fundef = { name : Id.l * Type.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formal_fv : (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    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prog = Prog of fundef lis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68800" y="1744560"/>
            <a:ext cx="1569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53E-1B53-43FD-94F9-3638607B58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6600" y="0"/>
            <a:ext cx="852804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small steps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1000" y="884160"/>
            <a:ext cx="493560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1684440"/>
            <a:ext cx="12600" cy="177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585800"/>
            <a:ext cx="261288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-norm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ure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197-88A4-4844-84D3-D722D26735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EE7-A4B1-461D-A55E-E01242E7AE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Example: ack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1854000" y="1179360"/>
            <a:ext cx="5057640" cy="2040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x y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2840" y="4095720"/>
            <a:ext cx="639864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 : (int, int) -&gt; int x : int y : int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7200" y="3013200"/>
            <a:ext cx="691920" cy="831600"/>
          </a:xfrm>
          <a:prstGeom prst="downArrow">
            <a:avLst>
              <a:gd name="adj1" fmla="val 50000"/>
              <a:gd name="adj2" fmla="val 3004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6400" y="34480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7724-C967-458E-9471-1F12082278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1806480" y="13273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4720" y="1619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7480" y="10987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7480" y="2220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5320" y="1569960"/>
            <a:ext cx="8318880" cy="447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  : (int, int) -&gt; int x :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 &lt;= Ti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 + Ti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 &lt;= Ti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  : int = let Ti7  : int = 1 in (x - Ti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  : int = 1 in (ack Ti8 Ti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  : int = let Ti10  : int = 1 in (x - Ti1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  : int =  let Ti13  : int =  (let Ti12  : int = 1 in (y - Ti12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    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x Ti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Ti11 Ti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  : int = let Ti1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  : int = 10 in (ack Ti1 Ti2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XTERN(print_int Ti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C4E-34DA-4475-BA42-0C0BD893FA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fter Simplif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4760" y="1057320"/>
            <a:ext cx="539280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 y.17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EXTERN(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409-9B00-4C79-8D20-B282BB6484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403560" y="1017720"/>
            <a:ext cx="621576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, y.17 : int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APPLY_DIRECT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APPLY_DIRECT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min_caml_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891-A0F5-4537-93AB-BEADF3EDB9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Yet another example : funcomp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741240" y="2031840"/>
            <a:ext cx="749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 f g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d x = g (f x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mpo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bl x = x + x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inc x = x +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ec x = x -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h = compose inc (compose dbl dec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_int (h 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F7D-75AC-483F-8815-398202130D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Machine to Register Mach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323640" y="1206360"/>
            <a:ext cx="49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imple translation that produces terrible co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6400" y="2433600"/>
            <a:ext cx="1119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1520" y="2278080"/>
            <a:ext cx="1414800" cy="7081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60000" y="3664080"/>
            <a:ext cx="1922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960" y="4098960"/>
            <a:ext cx="12675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[SP]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0440" y="4595760"/>
            <a:ext cx="15127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31920" y="27273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3200" y="320040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3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1120" y="225756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2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03480" y="17985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000" y="5656320"/>
            <a:ext cx="31968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is assumes that stack 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pwards, and SP always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o the next free s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7000" y="4352760"/>
            <a:ext cx="465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this defeats the whole point of registers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are FAST local memory that shou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used to reduce CPU to memory traff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F36-6726-4AAD-9E6E-F8E9B6300C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Better wa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402120" y="2322360"/>
            <a:ext cx="14274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rogram 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13120" y="251136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32400" y="257004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8840" y="2039760"/>
            <a:ext cx="142740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ive explic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ames to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51560" y="2135160"/>
            <a:ext cx="246528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enerat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an abs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chine with an infin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mber of regis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2880" y="3236760"/>
            <a:ext cx="10800" cy="90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48040" y="4143240"/>
            <a:ext cx="3252960" cy="1554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erform “Register Allocation”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p abstract registe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tual machine regist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illing” registers into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nly when you run out of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reg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91080" y="4908600"/>
            <a:ext cx="816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38960" y="4745160"/>
            <a:ext cx="16484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mit asse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DC1-046C-404E-8DC6-728074A7CF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98600" y="644400"/>
            <a:ext cx="7580520" cy="568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1560" y="633420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t’s look at the MinCaml Middle-End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5604120" y="117648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7640" y="124632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E01-2BFF-46B5-8A30-EDCB9230B4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 Compiler Road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1" idx="3"/>
            <a:endCxn id="90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3" name=""/>
          <p:cNvCxnSpPr>
            <a:stCxn id="90" idx="3"/>
            <a:endCxn id="93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4" name=""/>
          <p:cNvCxnSpPr>
            <a:stCxn id="93" idx="3"/>
            <a:endCxn id="92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5" name=""/>
          <p:cNvCxnSpPr>
            <a:stCxn id="97" idx="2"/>
            <a:endCxn id="96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6" name=""/>
          <p:cNvCxnSpPr>
            <a:stCxn id="101" idx="3"/>
            <a:endCxn id="91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7" name=""/>
          <p:cNvCxnSpPr/>
          <p:nvPr/>
        </p:nvCxnSpPr>
        <p:spPr>
          <a:xfrm>
            <a:off x="8494200" y="2813040"/>
            <a:ext cx="1080" cy="103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95" idx="1"/>
            <a:endCxn id="94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9" name=""/>
          <p:cNvCxnSpPr>
            <a:stCxn id="94" idx="1"/>
            <a:endCxn id="97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0" name=""/>
          <p:cNvCxnSpPr>
            <a:stCxn id="96" idx="3"/>
            <a:endCxn id="99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1" name=""/>
          <p:cNvCxnSpPr>
            <a:stCxn id="99" idx="3"/>
            <a:endCxn id="98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2" name=""/>
          <p:cNvCxnSpPr>
            <a:stCxn id="98" idx="3"/>
            <a:endCxn id="113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" name=""/>
          <p:cNvCxnSpPr>
            <a:stCxn id="97" idx="0"/>
            <a:endCxn id="115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27700000"/>
              <a:gd name="adj2" fmla="val 49997"/>
              <a:gd name="adj3" fmla="val -27700000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6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5" idx="1"/>
            <a:endCxn id="128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1"/>
            <a:endCxn id="95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13" idx="3"/>
            <a:endCxn id="100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4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4800" y="1230480"/>
            <a:ext cx="3373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ges, with lines of ocaml cod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ED3-8C88-4356-90D4-012BD68A3A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utting it all together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84040" y="1047600"/>
            <a:ext cx="8379000" cy="4717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iter n e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n = 0 then e 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e' = Elim.f (ConstFold.f (Inline.f (Assoc.f (Beta.f e))))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e = e' then e else iter (n - 1) e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lexbuf outchan l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d.counter :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yping.extenv := M.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mit.f outc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RegAlloc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Simm13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Virtu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Closure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iter !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Alpha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KNorm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Typing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Parser.exp Lexer.token l))))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40600" y="3211560"/>
            <a:ext cx="24681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rom min-caml/main.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94440" y="6105600"/>
            <a:ext cx="199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ean code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33F-4097-406C-ADEB-57D3A40310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K-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 + b + c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1 = a + b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2 = c * d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mp1 + tm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s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low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(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5FE-CA74-4052-9BFC-BC9E6047FA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xample.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863720" y="617400"/>
            <a:ext cx="572796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78480" y="3652920"/>
            <a:ext cx="6368040" cy="26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6840" y="297504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880" y="3436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8DD-EEE9-4EDA-9B48-AB0BF96D50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5T20:28:48Z</dcterms:modified>
  <cp:revision>295</cp:revision>
  <dc:subject/>
  <dc:title>Slide 1</dc:title>
</cp:coreProperties>
</file>