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E0F9-B827-4123-929E-EA1BBE8A5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A29A-7262-47E1-81DA-78BCA84E1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DAC8-2274-4B11-9D8C-C13F33944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18A0-9CA1-45E0-87C5-294979C57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32D5-2C8B-41C0-9780-02661A160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6161-7FF0-4545-B08A-8D8FB15E8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2538-2D80-4F4F-B45D-CAB926DC0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C17C-4415-4451-BA60-49D65192D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C0C-35C6-4414-8DDE-0744B416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323-8FE6-4003-97D4-DC17C890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116-20A5-460A-8EA5-6F3CF893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08E-F641-4335-B25B-D316E317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735-672D-4E76-8C2C-D10B3A5A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B4F-54AC-4EDC-BC3C-2877ABA3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BBB-4A19-4E7C-8696-CDA6F94A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A9E-B21C-4DD2-BA0F-3CD5A025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CB2-365C-4E9A-87B4-8334BDAE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208-8C80-4808-9BFF-A71A8EAF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41A-AAF1-4219-A3D2-554297C4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FD66-945B-4D9F-9CD3-C5D97660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894B-D9B6-4FAB-B15C-07ABF265B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B49-1820-4654-B746-7C6DED3BE6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Stat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120" y="11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for example the LR(1)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e sam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n be merged to the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/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/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alled LALR(1)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s for LookAhead 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10 times fewer LALR(1) states than LR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69C-6959-4862-8D1C-4C6FBD49AC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For LALR(1), Collapse States .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83108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5440" y="5197320"/>
            <a:ext cx="4803840" cy="6368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6760" y="3576600"/>
            <a:ext cx="2211480" cy="1065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27240" y="3830760"/>
            <a:ext cx="7662600" cy="2512800"/>
          </a:xfrm>
          <a:custGeom>
            <a:avLst/>
            <a:gdLst/>
            <a:ahLst/>
            <a:rect l="l" t="t" r="r" b="b"/>
            <a:pathLst>
              <a:path w="4827" h="1583">
                <a:moveTo>
                  <a:pt x="0" y="336"/>
                </a:moveTo>
                <a:lnTo>
                  <a:pt x="51" y="1583"/>
                </a:lnTo>
                <a:lnTo>
                  <a:pt x="4827" y="1546"/>
                </a:lnTo>
                <a:lnTo>
                  <a:pt x="4754" y="0"/>
                </a:lnTo>
                <a:lnTo>
                  <a:pt x="3084" y="15"/>
                </a:lnTo>
                <a:lnTo>
                  <a:pt x="3069" y="751"/>
                </a:lnTo>
                <a:lnTo>
                  <a:pt x="4681" y="759"/>
                </a:lnTo>
                <a:lnTo>
                  <a:pt x="4717" y="1451"/>
                </a:lnTo>
                <a:lnTo>
                  <a:pt x="1123" y="1444"/>
                </a:lnTo>
                <a:lnTo>
                  <a:pt x="1247" y="292"/>
                </a:lnTo>
                <a:lnTo>
                  <a:pt x="0" y="336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49520" y="3067200"/>
            <a:ext cx="2511720" cy="2025360"/>
          </a:xfrm>
          <a:custGeom>
            <a:avLst/>
            <a:gdLst/>
            <a:ahLst/>
            <a:rect l="l" t="t" r="r" b="b"/>
            <a:pathLst>
              <a:path w="1582" h="1276">
                <a:moveTo>
                  <a:pt x="58" y="29"/>
                </a:moveTo>
                <a:lnTo>
                  <a:pt x="51" y="241"/>
                </a:lnTo>
                <a:lnTo>
                  <a:pt x="1538" y="241"/>
                </a:lnTo>
                <a:lnTo>
                  <a:pt x="1538" y="1050"/>
                </a:lnTo>
                <a:lnTo>
                  <a:pt x="7" y="1043"/>
                </a:lnTo>
                <a:lnTo>
                  <a:pt x="0" y="1276"/>
                </a:lnTo>
                <a:lnTo>
                  <a:pt x="1582" y="1262"/>
                </a:lnTo>
                <a:lnTo>
                  <a:pt x="1582" y="0"/>
                </a:lnTo>
                <a:lnTo>
                  <a:pt x="58" y="2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119240"/>
            <a:ext cx="54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mbine states 6 and 13, 7 and 12, 8 and 11, 10 and 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C5B-8FC1-4205-9F58-95AEB1DA46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ALR(1)-parse-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B52-F27C-4629-92FC-9DB3A384A3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vs. LR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LR languages are not “natu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n efficiency hack on L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see claims that any reasonable programming language has a LALR(1) grammar, {Arguably this is done by defining languages without an LALR(1) grammar as unreason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case, LALR(1) has become a standard for programming languages and for parser generators, in spite of its apparent complex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F66A-AFA4-4CB0-9579-5CB05EBF5D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 and Parser Generato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471600" y="123840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http://catalog.compilertools.net/lexpars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5960" y="1746360"/>
            <a:ext cx="1829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FLEX A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N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/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T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GEN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PO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0040" y="1798560"/>
            <a:ext cx="209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AP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C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O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ISUALPARSE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AC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99040" y="5722920"/>
            <a:ext cx="422388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’ll use ocamllex and ocamlyacc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71C-DD03-4A17-BB20-E57A1D5ADA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t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1589040"/>
            <a:ext cx="810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unary_op = UnaryMinus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ast = Ident of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Unary of unary_op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Binary of binary_op * ast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AB1-E1B4-4414-B7C3-A9E757EF50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er.ml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-322920" y="966960"/>
            <a:ext cx="70081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int&gt; 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string&gt; 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PLUS MINUS TIMES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LPAREN RP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PLUS MINUS        /* low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TIMES DIV         /* medium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nonassoc UMINUS        /* high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start parse_it         /* the entry poi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ype &lt;ast&gt; parse_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se_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 EOF                { $1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                     { Number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IDENT                   { Ident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LPAREN expr RPAREN      { $2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PLUS expr          { Binary(Pl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MINUS expr         { Binary(Min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TIMES expr         { Binary(Time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DIV expr           { Binary(Div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MINUS expr %prec UMINUS { Unary(UnaryMinusOp, $2)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55440" y="6089760"/>
            <a:ext cx="4280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yacc parser.mly 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parser.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this case producing a 21-state D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F4F-A2C6-4265-8477-9E49B49ED8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.m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88960" y="1873080"/>
            <a:ext cx="8181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ule tokenize = p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[' ' '\t' '\n' ]     { tokenize lexbuf } (* skip white-space 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a'-'z' 'A'-'Z']['a'-'z' 'A'-'Z' '0'-'9']* as lxm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{ IDENT(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0'-'9']+ as lxm    { INT(int_of_string 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+'                  { PL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-'                  { MIN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*'                  { TIME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/'                  { DIV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('                  { L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)'                  { R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of                  { EO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93960" y="5354640"/>
            <a:ext cx="481824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ocamllex lexer.mll 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lexer.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in this case producing an 11-state D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with 342 trans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1600" y="58039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7B22-BAA3-4262-B113-199C03BA27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Parse i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95000" y="1262160"/>
            <a:ext cx="8349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ast_of_string s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lexbuf = Lexing.from_string 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rse_it tokenize lexbu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(9 - 10) + ((-xyz100) * 44)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9 - 10 + -xyz100 * 44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FAB-BE55-4BC9-8F8C-FDFDDF4E3E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crete vs. Abstract Syntax Tre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64080" y="1202400"/>
            <a:ext cx="1911240" cy="3812400"/>
            <a:chOff x="1864080" y="1202400"/>
            <a:chExt cx="1911240" cy="3812400"/>
          </a:xfrm>
        </p:grpSpPr>
        <p:sp>
          <p:nvSpPr>
            <p:cNvPr id="99" name=""/>
            <p:cNvSpPr/>
            <p:nvPr/>
          </p:nvSpPr>
          <p:spPr>
            <a:xfrm>
              <a:off x="3083400" y="12024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51480" y="161028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0" y="206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96600" y="251676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 S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90880" y="1579680"/>
              <a:ext cx="14760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7760" y="1550880"/>
              <a:ext cx="1494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57280" y="1579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0160" y="1996920"/>
              <a:ext cx="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00160" y="242892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647800" y="2398680"/>
              <a:ext cx="1634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90880" y="2398680"/>
              <a:ext cx="1476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0720" y="206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5720" y="1996920"/>
              <a:ext cx="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5760" y="295812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0160" y="2874960"/>
              <a:ext cx="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4320" y="340560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33400" y="2905200"/>
              <a:ext cx="1922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5040" y="2874960"/>
              <a:ext cx="16344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280" y="333540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25000" y="33897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S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3480" y="332100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75680" y="38199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109320" y="3753000"/>
              <a:ext cx="11916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7760" y="3767040"/>
              <a:ext cx="103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273480" y="378288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27240" y="3276720"/>
              <a:ext cx="32688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334600" y="3321000"/>
              <a:ext cx="149400" cy="22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4080" y="379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066760" y="376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880" y="426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35160" y="41990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4520" y="425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066760" y="4199040"/>
              <a:ext cx="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93640" y="391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43040" y="379728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6960" y="4555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63480" y="4134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206760" y="238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388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0536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26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80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068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16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6372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22520" y="3500280"/>
            <a:ext cx="2379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3530520"/>
            <a:ext cx="30240" cy="22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54520" y="3083040"/>
            <a:ext cx="2527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12920"/>
            <a:ext cx="29664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89840" y="3514680"/>
            <a:ext cx="149040" cy="22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3500280"/>
            <a:ext cx="11916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56280" y="2697120"/>
            <a:ext cx="22392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2666880"/>
            <a:ext cx="20808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720" y="1218240"/>
            <a:ext cx="221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arse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rivation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ncret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3480" y="205632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bstract Syntax Tree (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1040" y="2776680"/>
            <a:ext cx="815760" cy="352440"/>
          </a:xfrm>
          <a:prstGeom prst="rightArrow">
            <a:avLst>
              <a:gd name="adj1" fmla="val 50000"/>
              <a:gd name="adj2" fmla="val 5786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84800" y="4267080"/>
            <a:ext cx="4140000" cy="811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 AST contains only the information needed to generate an intermediate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1320" y="5562720"/>
            <a:ext cx="8110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 compiler constructs the concrete syntax tree only im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the parsing process) and explicitly constructs the AST vi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78A-F47B-4B8A-8FBC-92D8B1B2E0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roblem With LR(0)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19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No look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Vulnerable to unnecessar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Shift/Reduce Conflicts (may reduce too soon in some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Reduce/Reduc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LR(1) parsing - systematic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A89-5B77-4FB1-90DD-144BBEF8AD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1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7160" y="161100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R(1)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rminal (the lookahead 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means 1 lookahead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a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context of the pars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find 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 (at least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ready on top of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we need to see nex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fix deri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D93-0766-4837-B7D1-6C48E5ACBF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Closure Oper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28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modify closure operation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ure(Items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 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] i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 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Items is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6BB-214F-4D4A-BAD0-0E59873D5C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the Parsing DFA (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473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FA state is a closed set of LR(1)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 state contai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’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$, dumm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labeled with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duce with 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n lookahead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w the transitio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07F-5FCD-450C-A999-1215956F08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DFA Transi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346040"/>
            <a:ext cx="8229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s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transition label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 obtained from Transition(s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can be a terminal or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(s, 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=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Closure(I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5C5-E7A3-4FBD-8E3D-9ACA4F9B5C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the 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ift and goto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tate I with item (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., z) gives a reduce 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if z is the next character in the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R(1)-parse tables are very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046-4CC4-41F3-8D27-DD068B62CC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DF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65320" y="1693800"/>
            <a:ext cx="7078680" cy="364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59480" y="5965920"/>
            <a:ext cx="70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0520" y="1897200"/>
            <a:ext cx="1250640" cy="3111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’ ::= 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V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*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C5A-4367-41FD-8A0D-2F89235757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1484280"/>
          <a:ext cx="8569080" cy="4064040"/>
        </p:xfrm>
        <a:graphic>
          <a:graphicData uri="http://schemas.openxmlformats.org/drawingml/2006/table">
            <a:tbl>
              <a:tblPr/>
              <a:tblGrid>
                <a:gridCol w="536400"/>
                <a:gridCol w="534960"/>
                <a:gridCol w="534960"/>
                <a:gridCol w="534960"/>
                <a:gridCol w="536760"/>
                <a:gridCol w="534960"/>
                <a:gridCol w="536400"/>
                <a:gridCol w="536760"/>
                <a:gridCol w="533520"/>
                <a:gridCol w="536400"/>
                <a:gridCol w="534960"/>
                <a:gridCol w="536760"/>
                <a:gridCol w="534960"/>
                <a:gridCol w="534960"/>
                <a:gridCol w="534960"/>
                <a:gridCol w="536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2C7-4F7F-4E86-B595-7245C584E1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2Z</dcterms:modified>
  <cp:revision>268</cp:revision>
  <dc:subject/>
  <dc:title>Slide 1</dc:title>
</cp:coreProperties>
</file>