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1B8B-D669-4A46-9AB0-2C71B93CE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going to talk abou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_very_ simple _and_ efficient compil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B3B-05FE-4899-B3C5-B9927B25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AE8-CDC2-4AE6-8250-A4F36412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C9D3-C1CD-4BB5-840A-261C10C5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623-557E-4AFE-90CE-C0A7902B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0ADF-97AD-4FCF-9C16-6905FD4A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228-F4A3-419A-AFC1-91BFF2D5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1DA9-8437-4FCC-92CC-51FE511C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F09-989C-46F5-AFCB-80AC8DFF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3D26-C82B-4929-939E-FA918681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F721-6BB2-45A4-86A7-18F83E55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A75-D924-4550-AE42-2E3480A9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1DE-1370-4204-9E9F-4C237BF5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B15A-A4C1-4F68-83F5-C0BF8CB85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5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1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9BF4-270A-4E08-BE3D-01596F0EBB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oser look at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2360" y="236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,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9840" y="2332080"/>
            <a:ext cx="430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s an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lat sc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,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29040" y="1901880"/>
            <a:ext cx="21801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gh Level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0440" y="1962000"/>
            <a:ext cx="2091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ssembly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E174-41AA-4625-9146-197C472A99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r Approach ---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transformation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2960" y="4114440"/>
            <a:ext cx="82137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preserves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addresses only one aspect of “the g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is fairly easy to underst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081080" y="2760840"/>
                <a:ext cx="68040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⋯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26600" y="214956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03480" y="1944720"/>
            <a:ext cx="131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ssemb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4167360" y="524520"/>
            <a:ext cx="409680" cy="4078440"/>
          </a:xfrm>
          <a:custGeom>
            <a:avLst/>
            <a:gdLst>
              <a:gd name="textAreaLeft" fmla="*/ 261720 w 409680"/>
              <a:gd name="textAreaRight" fmla="*/ 410040 w 409680"/>
              <a:gd name="textAreaTop" fmla="*/ 106200 h 4078440"/>
              <a:gd name="textAreaBottom" fmla="*/ 3972240 h 407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21280" y="192096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mediate 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3B56-44EC-4466-9990-FC72C08539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600200"/>
            <a:ext cx="51055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0574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1447920"/>
            <a:ext cx="12189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733920"/>
            <a:ext cx="1752480" cy="83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6240" y="20574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41560" y="2057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22860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94400" y="1447920"/>
            <a:ext cx="128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ocuments"/>
          <p:cNvSpPr/>
          <p:nvPr/>
        </p:nvSpPr>
        <p:spPr>
          <a:xfrm>
            <a:off x="228600" y="129528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3400" y="190512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4680" y="28195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00440" y="41227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590920"/>
            <a:ext cx="0" cy="106668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65160" y="1219320"/>
            <a:ext cx="1613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i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13840" y="205740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648320"/>
            <a:ext cx="4876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657600" y="5715000"/>
            <a:ext cx="1671480" cy="519120"/>
            <a:chOff x="3657600" y="5715000"/>
            <a:chExt cx="1671480" cy="519120"/>
          </a:xfrm>
        </p:grpSpPr>
        <p:sp>
          <p:nvSpPr>
            <p:cNvPr id="137" name="Gear"/>
            <p:cNvSpPr/>
            <p:nvPr/>
          </p:nvSpPr>
          <p:spPr>
            <a:xfrm>
              <a:off x="458424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57600" y="5812920"/>
              <a:ext cx="89028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35040" y="5918040"/>
              <a:ext cx="98964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955400" y="48006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5334120"/>
            <a:ext cx="48765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8920" y="57913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6080" y="380988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example: JV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4040" y="3284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TERPR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6120" y="297180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dware indepen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mediate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781680" y="5715000"/>
            <a:ext cx="1671840" cy="519120"/>
            <a:chOff x="6781680" y="5715000"/>
            <a:chExt cx="1671840" cy="519120"/>
          </a:xfrm>
        </p:grpSpPr>
        <p:sp>
          <p:nvSpPr>
            <p:cNvPr id="147" name="Gear"/>
            <p:cNvSpPr/>
            <p:nvPr/>
          </p:nvSpPr>
          <p:spPr>
            <a:xfrm>
              <a:off x="770868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1680" y="5812920"/>
              <a:ext cx="89064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9480" y="5918040"/>
              <a:ext cx="99000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83960" y="5105520"/>
            <a:ext cx="3073320" cy="146556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omething to Pon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compiler is just a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t how did it get compi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s this a chicken-and-eg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b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5BBA-3951-4B3D-8D5E-29F641559E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Front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556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8EFE-6F5E-4C0E-8746-30B4AE6EC4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“Middle End”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190512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56640" y="19810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312408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2362320"/>
            <a:ext cx="67820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2514600"/>
            <a:ext cx="1219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438280"/>
            <a:ext cx="1828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22096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25909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30481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0481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576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32767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32767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38862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600" y="5257800"/>
            <a:ext cx="46432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re is a lot of diversity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ddle-end” -- some compilers a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le others are very simpl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26668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 of sym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tion and u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14600" y="35812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22680" y="3962520"/>
            <a:ext cx="189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on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7 of file main.c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clared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03520" y="312408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5240" y="266688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429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2040" y="3886200"/>
            <a:ext cx="191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decla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 string but u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n integer”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29718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13560" y="304812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2590920"/>
            <a:ext cx="1218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3560" y="2666880"/>
            <a:ext cx="129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4680" y="3048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547400" y="296856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te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1981080"/>
            <a:ext cx="1067040" cy="60984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7010280" y="3200400"/>
            <a:ext cx="609480" cy="1218960"/>
          </a:xfrm>
          <a:custGeom>
            <a:avLst/>
            <a:gdLst>
              <a:gd name="textAreaLeft" fmla="*/ 81360 w 609480"/>
              <a:gd name="textAreaRight" fmla="*/ 528120 w 60948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7880" y="4227480"/>
            <a:ext cx="224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hase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disti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s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3B6-4E48-4A95-8CCF-CF1D9AABEB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Back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231120" y="2819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35053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1905120"/>
            <a:ext cx="52578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71800" y="251460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1240" y="2209680"/>
            <a:ext cx="2506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generation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26440" y="2971800"/>
            <a:ext cx="22352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67480" y="3657600"/>
            <a:ext cx="2412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71800" y="3123720"/>
            <a:ext cx="6858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3505320"/>
            <a:ext cx="6858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41920" y="5029200"/>
            <a:ext cx="24836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6939360" y="402264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66264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33916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3581280"/>
            <a:ext cx="7621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17720" y="3276720"/>
            <a:ext cx="981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arg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64800" y="1523880"/>
            <a:ext cx="113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23623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259400" y="2971800"/>
            <a:ext cx="1186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57960" y="2209680"/>
            <a:ext cx="1084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3124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00440" y="3657600"/>
            <a:ext cx="1363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74880" y="5029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5181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9960" y="1332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0326-0E7A-46FD-915C-2E4870C8B1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ssembly, Linking, Loadin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48276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120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5892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8772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6444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992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35600" y="76212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35600" y="25146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35600" y="16002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98960" y="4038480"/>
            <a:ext cx="12031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inker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3429000"/>
            <a:ext cx="45720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2804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572000" y="3505320"/>
            <a:ext cx="129528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440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3505320"/>
            <a:ext cx="198144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152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44956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4876920"/>
            <a:ext cx="4800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ingle executable object 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5638680"/>
            <a:ext cx="6705720" cy="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1120" y="57150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257800"/>
            <a:ext cx="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17520" y="52261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10400" y="5943600"/>
            <a:ext cx="122760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oader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4114800"/>
            <a:ext cx="2286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code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4343400"/>
            <a:ext cx="53352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1066680"/>
            <a:ext cx="685800" cy="2438640"/>
          </a:xfrm>
          <a:custGeom>
            <a:avLst/>
            <a:gdLst>
              <a:gd name="textAreaLeft" fmla="*/ 0 w 685800"/>
              <a:gd name="textAreaRight" fmla="*/ 247680 w 6858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56840" y="1504800"/>
            <a:ext cx="145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rom symbo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umeric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nd nume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365760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37400" y="3886200"/>
            <a:ext cx="1433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solu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re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ingle 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556272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708680" y="5276880"/>
            <a:ext cx="1114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lo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lloca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ynam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ink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69640" y="9144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main tas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4419720"/>
            <a:ext cx="380880" cy="152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8360" y="4303800"/>
            <a:ext cx="1258200" cy="368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k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4F8-7352-4810-93BF-CBAA005E56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a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 in Java/C/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3 books). Appel.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s --- Principles, Techniques, and 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Aho, Sethi, and Ullman (19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ilhelm, Maurer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Compiling Techniq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ennett (199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etargetable C Compiler: Design and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Frazer, Hanson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Constr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ite, Goos (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level Languages and Their Compil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tson (19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4160" y="1297080"/>
            <a:ext cx="8577000" cy="116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774200" y="2104920"/>
            <a:ext cx="107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24C3-F2FF-45F3-AC67-F0E48D9C01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this Cours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ype 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 Sc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Function Closu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, linker, object fil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ntinu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90720" y="26733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17640" y="4570560"/>
            <a:ext cx="453708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40600" y="1330200"/>
            <a:ext cx="196920" cy="1135080"/>
          </a:xfrm>
          <a:custGeom>
            <a:avLst/>
            <a:gdLst>
              <a:gd name="textAreaLeft" fmla="*/ 0 w 196920"/>
              <a:gd name="textAreaRight" fmla="*/ 70920 w 196920"/>
              <a:gd name="textAreaTop" fmla="*/ 29520 h 1135080"/>
              <a:gd name="textAreaBottom" fmla="*/ 110556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76560" y="1719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210440" y="2786040"/>
            <a:ext cx="185760" cy="1611360"/>
          </a:xfrm>
          <a:custGeom>
            <a:avLst/>
            <a:gdLst>
              <a:gd name="textAreaLeft" fmla="*/ 0 w 185760"/>
              <a:gd name="textAreaRight" fmla="*/ 66960 w 185760"/>
              <a:gd name="textAreaTop" fmla="*/ 41760 h 1611360"/>
              <a:gd name="textAreaBottom" fmla="*/ 1569600 h 16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35240" y="2840040"/>
            <a:ext cx="1409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n-Caml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94600" y="473868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CF1-E902-4F61-BFA8-E43E5D290F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is a type of Transla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9880" y="2133360"/>
            <a:ext cx="4114800" cy="422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correct in the sense that meaning is p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enerate efficient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oduce usable 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well-structured and maintain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080" y="20574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18288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9400" y="198108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0512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 rot="16200000">
            <a:off x="266040" y="323748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4267080"/>
            <a:ext cx="1752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0040" y="441972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4120" y="25146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9560" y="3429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0" y="563868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ation is a trans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“high level” to “low leve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0520" y="1752480"/>
            <a:ext cx="29804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 good compiler shoul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3276720"/>
            <a:ext cx="10666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3352680"/>
            <a:ext cx="304560" cy="2971800"/>
          </a:xfrm>
          <a:custGeom>
            <a:avLst/>
            <a:gdLst>
              <a:gd name="textAreaLeft" fmla="*/ 0 w 304560"/>
              <a:gd name="textAreaRight" fmla="*/ 109800 w 30456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7199280" y="4547880"/>
            <a:ext cx="22762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rade offs aboun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5835-C8E4-4AAD-B549-801E4608E1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ll Hail Grace Hopper 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263760" cy="414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48800" y="1981080"/>
            <a:ext cx="455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rote first compiler in 19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r the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hort Cod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langua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ile working for Remington 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compiler was called A-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e wrote it because she fou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rmal process of compiling Short Code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nd was boring and tedious, and s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anted to spend her time doing “inter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thematics” instead of task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uld be done by a stupid mach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59400" y="597996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note: as with all claims of priority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 will be endlessly disputed…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D4D-9EC9-4B1F-B9C3-4006E521EE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y Study Compiler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hough many of the basic ideas where developed over 30 years ago, compiler construction is still an evolving and active area of research and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intimately related to programming language design and ev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a Computer Science success story that illustrate the hallmarks of our field --- high-level abstractions implemented with low-level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You are computer scientist.  Nothing done with machines should be mysterious to you!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DAA-E6D8-4533-B407-F1EFBC86DA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29480" cy="6477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7000" y="0"/>
            <a:ext cx="64580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erd.sourceforge.net/pixel/language-study/diagra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80" y="609480"/>
            <a:ext cx="290880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es of descent sh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 be taken too serious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l from Algol 60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4320" y="2286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22760" y="0"/>
            <a:ext cx="1220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r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CC68-8215-4DAD-A010-2EEA0CB78C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CAML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http://caml.inria.fr/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66840" cy="2033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21320" y="1752480"/>
            <a:ext cx="481824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 is a dialect of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is course will frequently mine the Oca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mpiler for examp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7080" y="3581280"/>
            <a:ext cx="673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rec map f l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match l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] -&gt; [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head::tail -&gt; (f head) :: (map f t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‘a -&gt; ‘b) -&gt; ‘a list -&gt; ‘b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31120" y="50292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ferred typ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BE2-2D75-4126-BC11-D72F3513CD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11080" y="2505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A Simple and Efficient Compiler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for a Minimal Functional Languag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43080" y="3762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jiro Sum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hoku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kb.ecei.tohoku.ac.jp/~sumi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90520" y="53942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09520" y="1693800"/>
            <a:ext cx="50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PLAN :Proceedings of the 2005 workshop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and declarative programming in edu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1680" y="603108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7720" y="2457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美しい日本の</a:t>
            </a:r>
            <a:r>
              <a:rPr b="0" lang="en-US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L</a:t>
            </a: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コンパイ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2785-923E-4428-98D2-A3BCB94D50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MinCaml Languag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00160" y="1025640"/>
            <a:ext cx="7580160" cy="5684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23960" y="936720"/>
            <a:ext cx="29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nimal functional langu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AC5B-38BD-4204-9991-37EB7EE3DA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0960" y="0"/>
            <a:ext cx="8229600" cy="78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ind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761760" y="912960"/>
            <a:ext cx="7450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t rec gcd m 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= 0 then n 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&lt;= n then gcd m (n - m) else gcd n (m - 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 print_int (gcd 21600 3375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51840" y="2467080"/>
            <a:ext cx="3472560" cy="31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global min_caml_st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in_caml_star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ave    %sp, -112, %s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21600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337500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gcd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min_caml_print_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st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24200" y="2384280"/>
            <a:ext cx="246672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rodata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align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text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cd.7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ne     be_else.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e_else.19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g      ble_else.2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3,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le_else.20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2,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o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o4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2560" y="901800"/>
            <a:ext cx="98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Ca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9280" y="2384280"/>
            <a:ext cx="6770520" cy="46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83080" y="2489040"/>
            <a:ext cx="0" cy="41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873000" y="2323800"/>
            <a:ext cx="2097000" cy="1678320"/>
          </a:xfrm>
          <a:custGeom>
            <a:avLst/>
            <a:gdLst>
              <a:gd name="textAreaLeft" fmla="*/ 698760 w 2097000"/>
              <a:gd name="textAreaRight" fmla="*/ 1796040 w 2097000"/>
              <a:gd name="textAreaTop" fmla="*/ 966600 h 1678320"/>
              <a:gd name="textAreaBottom" fmla="*/ 1437480 h 1678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70360" y="339084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25680" y="5972040"/>
            <a:ext cx="1828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C ass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EF6-4C83-4A73-B7F8-0739024BA8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19T14:06:18Z</dcterms:modified>
  <cp:revision>281</cp:revision>
  <dc:subject/>
  <dc:title>Slide 1</dc:title>
</cp:coreProperties>
</file>