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D68D6-A439-4E46-B0B2-A69E14145A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06566-ED85-4957-B988-B7A6336B1F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CC1F-262E-4D77-A957-8CACB9DCB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728F-FCE9-4F34-99F2-02044D5BE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5BFF-F620-413B-A4E4-C545C1F00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C920-6FE2-47E3-B2F2-67F456925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5C59-9384-4269-B87C-75AD56CDC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612C-1A95-44D8-B7A3-EE179757C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6AA0-676F-49E1-810D-26ADD3859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6BB8-F99F-45C1-9135-44327714A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99B1-96B0-45DE-926B-75A8197B5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8E6C-1380-400F-90E3-746B28F2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97D0-DF21-4D71-81E7-3BCF05681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C4CE-644B-4B5B-A453-F73E25EAB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6F8ED-2B4C-44E9-8D78-0AB58CC339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2102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 17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Java Virtual Machine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1544-E8B1-40AB-B0F4-A7B2BCB88C5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286000" y="838080"/>
            <a:ext cx="2743200" cy="2590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lass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53920" y="0"/>
            <a:ext cx="7772400" cy="557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Organization of JVM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1447920"/>
            <a:ext cx="259056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ass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362320" y="2057400"/>
            <a:ext cx="259056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nstant P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362320" y="2666880"/>
            <a:ext cx="2590560" cy="609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ethod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181480" y="838080"/>
            <a:ext cx="1067040" cy="2590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e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400800" y="838080"/>
            <a:ext cx="1066680" cy="2590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20120" y="838080"/>
            <a:ext cx="1218960" cy="2590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N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3733920"/>
            <a:ext cx="2286000" cy="2286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Exec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Eng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315200" y="4038480"/>
            <a:ext cx="1676520" cy="114300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90920" y="4343400"/>
            <a:ext cx="1676160" cy="990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o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04920" y="5486400"/>
            <a:ext cx="1904760" cy="990720"/>
          </a:xfrm>
          <a:prstGeom prst="can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l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*.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Cloud"/>
          <p:cNvSpPr/>
          <p:nvPr/>
        </p:nvSpPr>
        <p:spPr>
          <a:xfrm>
            <a:off x="0" y="3581280"/>
            <a:ext cx="2286000" cy="129564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*.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24280" y="3962520"/>
            <a:ext cx="1905120" cy="7617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C, FP, S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1631400">
            <a:off x="1988640" y="4613040"/>
            <a:ext cx="533520" cy="304560"/>
          </a:xfrm>
          <a:prstGeom prst="rightArrow">
            <a:avLst>
              <a:gd name="adj1" fmla="val 50000"/>
              <a:gd name="adj2" fmla="val 43794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rot="19781400">
            <a:off x="1990800" y="5143320"/>
            <a:ext cx="533160" cy="304560"/>
          </a:xfrm>
          <a:prstGeom prst="rightArrow">
            <a:avLst>
              <a:gd name="adj1" fmla="val 50000"/>
              <a:gd name="adj2" fmla="val 43765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352680" y="3505320"/>
            <a:ext cx="457200" cy="761760"/>
          </a:xfrm>
          <a:prstGeom prst="upArrow">
            <a:avLst>
              <a:gd name="adj1" fmla="val 50000"/>
              <a:gd name="adj2" fmla="val 41654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315200" y="5638680"/>
            <a:ext cx="1676520" cy="990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N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153280" y="51814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153280" y="34290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46483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EBAC-BDB2-4412-8DE4-753BE3BCB4E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ass Loader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64880" y="990360"/>
            <a:ext cx="876276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oa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nding and importing the binary data for a cla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ink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33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Verif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ensuring the correctness of the imported typ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33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Prepar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llocating memory for class variables and initializing the memory to default valu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33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Resolu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ransforming symbolic references from the type into direct referenc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itializ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invoking Java code that initializes class variables to their proper starting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1778-B3D5-4C6F-9F70-7888F5F34A7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ass File</a:t>
            </a: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 Black"/>
              </a:rPr>
              <a:t>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337760"/>
            <a:ext cx="3581280" cy="4900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able of consta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ables describing th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name, superclass, interf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ttributes, constru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ables describing fields and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name, type/signa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ttributes (private, public, et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he code for metho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613320" y="1353960"/>
            <a:ext cx="6198840" cy="4865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lassFil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4 magic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2 minor_versio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2 major_versio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2 constant_pool_cou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p_info constant_pool[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constant_pool_count-1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2 access_flag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2 this_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2 super_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2 interfaces_cou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2 interfaces[interfaces_count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2 fields_cou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field_info fields[fields_count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2 methods_cou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method_info methods[methods_count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2 attributes_cou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ttribute_info attributes[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attributes_count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2DB4-5C43-4C62-B06F-02E17AF42FA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tack Fram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1104840"/>
            <a:ext cx="4191120" cy="4953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class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...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f(int 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(i=0; i&lt;x; i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 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410080" y="5562720"/>
            <a:ext cx="1676520" cy="609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eturn 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410080" y="4952880"/>
            <a:ext cx="1676520" cy="609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aller’s 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410080" y="4343400"/>
            <a:ext cx="1676520" cy="609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aller’s 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733920"/>
            <a:ext cx="167652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10080" y="3124080"/>
            <a:ext cx="1676520" cy="6098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410080" y="1066680"/>
            <a:ext cx="1676520" cy="2057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ter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ed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505400" y="909720"/>
            <a:ext cx="85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SP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589520" y="3114720"/>
            <a:ext cx="11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r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50040" y="5564160"/>
            <a:ext cx="84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FP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086600" y="3124080"/>
            <a:ext cx="304920" cy="1219320"/>
          </a:xfrm>
          <a:custGeom>
            <a:avLst/>
            <a:gdLst>
              <a:gd name="textAreaLeft" fmla="*/ 0 w 304920"/>
              <a:gd name="textAreaRight" fmla="*/ 110160 w 3049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086600" y="1066680"/>
            <a:ext cx="304920" cy="2057400"/>
          </a:xfrm>
          <a:custGeom>
            <a:avLst/>
            <a:gdLst>
              <a:gd name="textAreaLeft" fmla="*/ 0 w 304920"/>
              <a:gd name="textAreaRight" fmla="*/ 110160 w 30492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571880" y="1590840"/>
            <a:ext cx="120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pe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71D7-D5CE-4BEC-AB65-8D1F4D3D9DC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91440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tack – Each Thread Has its own Stack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838080"/>
            <a:ext cx="8077320" cy="1295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e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" y="2438280"/>
            <a:ext cx="8077320" cy="3886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38080" y="1447920"/>
            <a:ext cx="1600200" cy="4572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rea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657600" y="1447920"/>
            <a:ext cx="1600200" cy="457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rea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248520" y="1447920"/>
            <a:ext cx="160020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read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14400" y="2590920"/>
            <a:ext cx="1447920" cy="8380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14400" y="3733920"/>
            <a:ext cx="1447920" cy="8380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4876920"/>
            <a:ext cx="1447920" cy="8380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81280" y="2590920"/>
            <a:ext cx="160020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581280" y="3733920"/>
            <a:ext cx="160020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248520" y="2590920"/>
            <a:ext cx="160020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248520" y="3733920"/>
            <a:ext cx="160020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48520" y="4876920"/>
            <a:ext cx="160020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60020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4572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41972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01028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01028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010280" y="4572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A536-D1B9-40DB-996D-AE9D470CF70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Heap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Java objects are allocated in the he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 applications cannot explicitly free an 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arbage Collec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invoked from time to time automatically to reclaim the objects that are no longer needed by the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eap is shared by all Java th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6FD6-96E1-4139-A6C7-A7B1C088105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31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Java Objects in the Heap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0" name=""/>
          <p:cNvSpPr/>
          <p:nvPr/>
        </p:nvSpPr>
        <p:spPr>
          <a:xfrm>
            <a:off x="1143000" y="2286000"/>
            <a:ext cx="2971800" cy="2666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ass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523880" y="3200400"/>
            <a:ext cx="2210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ass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2666880"/>
            <a:ext cx="2210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ass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419720" y="838080"/>
            <a:ext cx="4419360" cy="5791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e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105520" y="1066680"/>
            <a:ext cx="1676160" cy="381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az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05520" y="1447920"/>
            <a:ext cx="167616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eld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105520" y="1905120"/>
            <a:ext cx="167616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elds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105520" y="2362320"/>
            <a:ext cx="167616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…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105520" y="2819520"/>
            <a:ext cx="167616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elds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800600" y="4343400"/>
            <a:ext cx="1676520" cy="380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az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800600" y="4724280"/>
            <a:ext cx="1676520" cy="1219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…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3657600"/>
            <a:ext cx="1676520" cy="380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az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858000" y="4038480"/>
            <a:ext cx="1676520" cy="914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…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523880" y="3733920"/>
            <a:ext cx="2210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ass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219320" y="2971800"/>
            <a:ext cx="304560" cy="457200"/>
          </a:xfrm>
          <a:custGeom>
            <a:avLst/>
            <a:gdLst/>
            <a:ahLst/>
            <a:rect l="l" t="t" r="r" b="b"/>
            <a:pathLst>
              <a:path w="248" h="336">
                <a:moveTo>
                  <a:pt x="248" y="336"/>
                </a:moveTo>
                <a:cubicBezTo>
                  <a:pt x="132" y="268"/>
                  <a:pt x="16" y="200"/>
                  <a:pt x="8" y="144"/>
                </a:cubicBezTo>
                <a:cubicBezTo>
                  <a:pt x="0" y="88"/>
                  <a:pt x="176" y="24"/>
                  <a:pt x="20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60240" y="2819520"/>
            <a:ext cx="863640" cy="1143000"/>
          </a:xfrm>
          <a:custGeom>
            <a:avLst/>
            <a:gdLst/>
            <a:ahLst/>
            <a:rect l="l" t="t" r="r" b="b"/>
            <a:pathLst>
              <a:path w="544" h="720">
                <a:moveTo>
                  <a:pt x="544" y="720"/>
                </a:moveTo>
                <a:cubicBezTo>
                  <a:pt x="336" y="620"/>
                  <a:pt x="128" y="520"/>
                  <a:pt x="64" y="432"/>
                </a:cubicBezTo>
                <a:cubicBezTo>
                  <a:pt x="0" y="344"/>
                  <a:pt x="80" y="264"/>
                  <a:pt x="160" y="192"/>
                </a:cubicBezTo>
                <a:cubicBezTo>
                  <a:pt x="240" y="120"/>
                  <a:pt x="392" y="60"/>
                  <a:pt x="544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1219320"/>
            <a:ext cx="1371600" cy="2209680"/>
          </a:xfrm>
          <a:custGeom>
            <a:avLst/>
            <a:gdLst/>
            <a:ahLst/>
            <a:rect l="l" t="t" r="r" b="b"/>
            <a:pathLst>
              <a:path w="864" h="1392">
                <a:moveTo>
                  <a:pt x="864" y="0"/>
                </a:moveTo>
                <a:cubicBezTo>
                  <a:pt x="792" y="112"/>
                  <a:pt x="720" y="224"/>
                  <a:pt x="672" y="384"/>
                </a:cubicBezTo>
                <a:cubicBezTo>
                  <a:pt x="624" y="544"/>
                  <a:pt x="688" y="792"/>
                  <a:pt x="576" y="960"/>
                </a:cubicBezTo>
                <a:cubicBezTo>
                  <a:pt x="464" y="1128"/>
                  <a:pt x="96" y="1320"/>
                  <a:pt x="0" y="139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3962520"/>
            <a:ext cx="1066680" cy="685800"/>
          </a:xfrm>
          <a:custGeom>
            <a:avLst/>
            <a:gdLst/>
            <a:ahLst/>
            <a:rect l="l" t="t" r="r" b="b"/>
            <a:pathLst>
              <a:path w="672" h="672">
                <a:moveTo>
                  <a:pt x="672" y="672"/>
                </a:moveTo>
                <a:cubicBezTo>
                  <a:pt x="560" y="512"/>
                  <a:pt x="448" y="352"/>
                  <a:pt x="336" y="240"/>
                </a:cubicBezTo>
                <a:cubicBezTo>
                  <a:pt x="224" y="128"/>
                  <a:pt x="56" y="40"/>
                  <a:pt x="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521240" y="3048120"/>
            <a:ext cx="584280" cy="1447560"/>
          </a:xfrm>
          <a:custGeom>
            <a:avLst/>
            <a:gdLst/>
            <a:ahLst/>
            <a:rect l="l" t="t" r="r" b="b"/>
            <a:pathLst>
              <a:path w="368" h="864">
                <a:moveTo>
                  <a:pt x="368" y="0"/>
                </a:moveTo>
                <a:cubicBezTo>
                  <a:pt x="216" y="216"/>
                  <a:pt x="64" y="432"/>
                  <a:pt x="32" y="576"/>
                </a:cubicBezTo>
                <a:cubicBezTo>
                  <a:pt x="0" y="720"/>
                  <a:pt x="88" y="792"/>
                  <a:pt x="176" y="86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616800" y="2133720"/>
            <a:ext cx="1079280" cy="1676160"/>
          </a:xfrm>
          <a:custGeom>
            <a:avLst/>
            <a:gdLst/>
            <a:ahLst/>
            <a:rect l="l" t="t" r="r" b="b"/>
            <a:pathLst>
              <a:path w="680" h="1056">
                <a:moveTo>
                  <a:pt x="104" y="0"/>
                </a:moveTo>
                <a:cubicBezTo>
                  <a:pt x="392" y="96"/>
                  <a:pt x="680" y="192"/>
                  <a:pt x="680" y="336"/>
                </a:cubicBezTo>
                <a:cubicBezTo>
                  <a:pt x="680" y="480"/>
                  <a:pt x="208" y="752"/>
                  <a:pt x="104" y="864"/>
                </a:cubicBezTo>
                <a:cubicBezTo>
                  <a:pt x="0" y="976"/>
                  <a:pt x="48" y="976"/>
                  <a:pt x="56" y="1008"/>
                </a:cubicBezTo>
                <a:cubicBezTo>
                  <a:pt x="64" y="1040"/>
                  <a:pt x="136" y="1048"/>
                  <a:pt x="152" y="105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733920" y="2806560"/>
            <a:ext cx="3124080" cy="1168560"/>
          </a:xfrm>
          <a:custGeom>
            <a:avLst/>
            <a:gdLst/>
            <a:ahLst/>
            <a:rect l="l" t="t" r="r" b="b"/>
            <a:pathLst>
              <a:path w="1968" h="736">
                <a:moveTo>
                  <a:pt x="1968" y="680"/>
                </a:moveTo>
                <a:cubicBezTo>
                  <a:pt x="1536" y="708"/>
                  <a:pt x="1104" y="736"/>
                  <a:pt x="864" y="680"/>
                </a:cubicBezTo>
                <a:cubicBezTo>
                  <a:pt x="624" y="624"/>
                  <a:pt x="616" y="448"/>
                  <a:pt x="528" y="344"/>
                </a:cubicBezTo>
                <a:cubicBezTo>
                  <a:pt x="440" y="240"/>
                  <a:pt x="424" y="112"/>
                  <a:pt x="336" y="56"/>
                </a:cubicBezTo>
                <a:cubicBezTo>
                  <a:pt x="248" y="0"/>
                  <a:pt x="124" y="4"/>
                  <a:pt x="0" y="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575F-29B9-4085-95F7-1FAB505B21D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Bytecode Interpreter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12" name=""/>
          <p:cNvSpPr/>
          <p:nvPr/>
        </p:nvSpPr>
        <p:spPr>
          <a:xfrm>
            <a:off x="3956040" y="1417680"/>
            <a:ext cx="5187960" cy="415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(</a:t>
            </a:r>
            <a:r>
              <a:rPr b="1" i="1" lang="en-US" sz="1400" spc="-1" strike="noStrike">
                <a:solidFill>
                  <a:srgbClr val="000000"/>
                </a:solidFill>
                <a:latin typeface="Courier New"/>
              </a:rPr>
              <a:t>program not en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etch next bytecode =&gt;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witch(b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se ILO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oad an integer from the lo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iable array and push on t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of current operand stack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se ISTO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op an integer from the top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urrent operand stack and st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t into the local variable array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se ALO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.. 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end of swi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end of wh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38040" y="2071800"/>
            <a:ext cx="34038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e to imp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need extra memory to store compiled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advan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ch slower than execution of native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4C24-B46F-4813-B30A-FC96BCCF21E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22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Just-In-Time Compiler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33000" y="649080"/>
            <a:ext cx="8381880" cy="21222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ally compiles bytecode into native code at runtime, usually in method gran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native code is much faster than interpretation of byte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ilation is time consuming and may slow down the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deoffs between execution time and compilation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93640" y="5757840"/>
            <a:ext cx="228600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P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93640" y="4691160"/>
            <a:ext cx="2286000" cy="10666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93640" y="3471840"/>
            <a:ext cx="2286000" cy="1219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yte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10000" y="2987640"/>
            <a:ext cx="179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Interpre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848640" y="4336920"/>
            <a:ext cx="1676160" cy="1143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J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mpi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800520" y="5708520"/>
            <a:ext cx="4876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P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800520" y="3956040"/>
            <a:ext cx="2286000" cy="17524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N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451560" y="2786040"/>
            <a:ext cx="2286000" cy="1219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yte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381800" y="3727440"/>
            <a:ext cx="457200" cy="533520"/>
          </a:xfrm>
          <a:prstGeom prst="downArrow">
            <a:avLst>
              <a:gd name="adj1" fmla="val 50000"/>
              <a:gd name="adj2" fmla="val 29173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162840" y="4718160"/>
            <a:ext cx="609480" cy="457200"/>
          </a:xfrm>
          <a:prstGeom prst="leftArrow">
            <a:avLst>
              <a:gd name="adj1" fmla="val 50000"/>
              <a:gd name="adj2" fmla="val 33327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930840" y="3024360"/>
            <a:ext cx="205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JIT Compi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D82F-A6AF-4BD8-82FC-EF37303E050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daptive Compiler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5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 less than 20% of the methods account for more than 80% of execution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ethods contains loop with large number of iteration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ethods that are frequently invo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Idea 1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 only compile the methods where the application spends a lot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Idea 2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 perform advanced compiler optimization for the hottest methods, simple or no compiler optimization for less hot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2814-506B-4975-93F7-B92DC2ED9CA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Java system overview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19280" y="1428840"/>
            <a:ext cx="5260680" cy="4368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865160" y="3608280"/>
            <a:ext cx="4096080" cy="14400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31200" y="3632040"/>
            <a:ext cx="2250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JVM do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 depend on J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chine In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S independ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99A7-7906-4823-B635-D6D5C4CE1D2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How Adaptive Compiler Work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16000" y="99072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three thresholds T1, T2 (T1&lt;T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method has a counter that is initialized to 0. Whenever the method is invoked, increase its counter by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ethods with counter lower than T1 are executed using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 method’s counter reaches T1, compile this method with simple optim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 method’s counter reaches T2, recompile this method with advanced optim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ED3E-582C-4917-8ED5-BAD82485533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What Is in the JVM Spec?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153640" cy="43434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tecodes – the instruction set for Java Virtual Mac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File Format – The platform independent representation of Java binary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ification Rules – the algorithm for identifying programs that cannot compromise the integrity of the J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55080" y="5397480"/>
            <a:ext cx="6974640" cy="10688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VM Specification does not specify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a JVM is impleme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B84E-86BE-44A3-ADAC-F859BA9CABF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Instruction-set: typed instructions!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8" name=""/>
          <p:cNvSpPr/>
          <p:nvPr/>
        </p:nvSpPr>
        <p:spPr>
          <a:xfrm>
            <a:off x="212760" y="974880"/>
            <a:ext cx="8931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JVM instructions are explicitly typed: different opCodes for instructions for integers, floats, arrays and reference typ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his is reflected by a naming convention in the first letter of the opCode mnemonic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67040" y="2936880"/>
            <a:ext cx="1095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i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l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f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d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a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77800" y="2968560"/>
            <a:ext cx="2986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nteger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long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loat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ouble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eference-type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BC63-3314-42CC-BC8B-4E00433EDC0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Instruction set: kinds of operand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2" name=""/>
          <p:cNvSpPr/>
          <p:nvPr/>
        </p:nvSpPr>
        <p:spPr>
          <a:xfrm>
            <a:off x="212760" y="1195560"/>
            <a:ext cx="8931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JVM instructions have three kinds of operand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- from the top of the operand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- from the bytes following the op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- part of the op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One instructions may have different “forms” supporting different kinds of opera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07800" y="3798720"/>
            <a:ext cx="1460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iload_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iload_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iload_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iload_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74960" y="3498840"/>
            <a:ext cx="178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ssembly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30000" y="3487680"/>
            <a:ext cx="159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Binary lay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44800" y="3830760"/>
            <a:ext cx="546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438800" y="38322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438800" y="421308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38800" y="459432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438800" y="49752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438800" y="539100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744800" y="5418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1800" y="539100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964120" y="5418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107800" y="532296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iload </a:t>
            </a:r>
            <a:r>
              <a:rPr b="0" i="1" lang="en-US" sz="2400" spc="-1" strike="noStrike">
                <a:solidFill>
                  <a:srgbClr val="000000"/>
                </a:solidFill>
                <a:latin typeface="Lucida Console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54920" y="6130800"/>
            <a:ext cx="524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iload 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push the n-th local var on the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8CBA-DDD3-456E-B953-B1DD01316A6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Instruction-set example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8" name=""/>
          <p:cNvSpPr/>
          <p:nvPr/>
        </p:nvSpPr>
        <p:spPr>
          <a:xfrm>
            <a:off x="682200" y="1390680"/>
            <a:ext cx="556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add, ladd, fadd, da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tract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sub, lsub, fsub, dsu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ltiply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mul, lmul, fmul, dm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2760" y="914400"/>
            <a:ext cx="17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ithmeth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82880" y="2608200"/>
            <a:ext cx="16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13880" y="3168720"/>
            <a:ext cx="255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2l, i2f, i2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2f, l2d, f2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2i, d2i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4080" y="4514760"/>
            <a:ext cx="8686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erand stack mani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p, pop2, dup, dup2, dup_x1, swa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rol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conditional 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oto, goto_w, jsr, re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ditional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eq, iflt, ifg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8B5E-3E4C-47F9-97E1-4280695DA9D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…</a:t>
            </a: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Instruction-set …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258920"/>
            <a:ext cx="8686800" cy="31114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hod invoc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vokevirtu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: usual instruction for calling a method on an objec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vokeinterfa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as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vokevirtu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but used when the called method is declared in an interface. (requires different kind of method looku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vokespeci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calling things such as constructors. These are not dynamically dispatched (this instruction is also known as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vokenonvirtu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vokestat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for calling methods that have the “static” modifier (these methods “belong” to a class, rather an objec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ing from method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return, ireturn, lreturn, areturn, fretur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4710240"/>
            <a:ext cx="8686800" cy="1465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 new class instance (object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n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 new arra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newarra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for creating arrays of primitive typ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anewarray, multianewarra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for arrays of reference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B2D0-77A3-4F51-8288-5D16FB55891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Goto instruction – 3 and 5 byte version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7" name=""/>
          <p:cNvSpPr/>
          <p:nvPr/>
        </p:nvSpPr>
        <p:spPr>
          <a:xfrm>
            <a:off x="183960" y="3351240"/>
            <a:ext cx="450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C := PC + (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ranchbyte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&lt;&lt; 8) |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ranchbyte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878120" y="1231920"/>
            <a:ext cx="1279440" cy="130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78120" y="1682640"/>
            <a:ext cx="130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87480" y="2082960"/>
            <a:ext cx="1303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6840" y="12780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27000" y="1461960"/>
            <a:ext cx="828720" cy="1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142000" y="13082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go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855080" y="171468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Lucida Console"/>
              </a:rPr>
              <a:t>branchbyte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851840" y="213660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Lucida Console"/>
              </a:rPr>
              <a:t>branchbyte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241600" y="3309840"/>
            <a:ext cx="3358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C := PC + (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ranchbyte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&lt;&lt; 24) |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ranchbyte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&lt;&lt; 16) |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ranchbyte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&lt;&lt;  8) |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ranchbyte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630840" y="1203480"/>
            <a:ext cx="1279800" cy="194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630840" y="1654200"/>
            <a:ext cx="1303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640560" y="2054160"/>
            <a:ext cx="130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209560" y="12492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680080" y="1433520"/>
            <a:ext cx="828720" cy="1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95440" y="127944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goto_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560280" y="280656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Lucida Console"/>
              </a:rPr>
              <a:t>branchbyte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568200" y="209700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Lucida Console"/>
              </a:rPr>
              <a:t>branchbyte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626160" y="2441520"/>
            <a:ext cx="1303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659640" y="2792520"/>
            <a:ext cx="130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606360" y="245268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Lucida Console"/>
              </a:rPr>
              <a:t>branchbyte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77560" y="171612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Lucida Console"/>
              </a:rPr>
              <a:t>branchbyte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36160" y="4254480"/>
            <a:ext cx="401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6-bit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ranch offse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(signed 2’s compliment representation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5400000">
            <a:off x="2779200" y="2498400"/>
            <a:ext cx="341280" cy="3024360"/>
          </a:xfrm>
          <a:custGeom>
            <a:avLst/>
            <a:gdLst>
              <a:gd name="textAreaLeft" fmla="*/ 0 w 341280"/>
              <a:gd name="textAreaRight" fmla="*/ 123120 w 341280"/>
              <a:gd name="textAreaTop" fmla="*/ 78840 h 3024360"/>
              <a:gd name="textAreaBottom" fmla="*/ 2945520 h 302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95120" y="4848120"/>
            <a:ext cx="211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ranch offs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5400000">
            <a:off x="7263000" y="3629520"/>
            <a:ext cx="341280" cy="1901880"/>
          </a:xfrm>
          <a:custGeom>
            <a:avLst/>
            <a:gdLst>
              <a:gd name="textAreaLeft" fmla="*/ 0 w 341280"/>
              <a:gd name="textAreaRight" fmla="*/ 123120 w 341280"/>
              <a:gd name="textAreaTop" fmla="*/ 49320 h 1901880"/>
              <a:gd name="textAreaBottom" fmla="*/ 1852560 h 190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19640" y="5530680"/>
            <a:ext cx="384120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he target address must be that of 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opcode of an instruction within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ethod that contai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his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goto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(or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goto_w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) instructi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4BEA-5AA2-4AA8-AA93-8A7A50CE717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44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 Black"/>
              </a:rPr>
              <a:t>Fibonacci Forever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5" name=""/>
          <p:cNvSpPr/>
          <p:nvPr/>
        </p:nvSpPr>
        <p:spPr>
          <a:xfrm>
            <a:off x="838440" y="358920"/>
            <a:ext cx="7617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http://www.artima.com/insidejvm/applets/FibonacciForever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560" y="1636560"/>
            <a:ext cx="3106800" cy="228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lass Fibonacci {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static void calcSequence() {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ong fiboNum = 1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ong a = 1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ong b = 1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for (;;) {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fiboNum = a + b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a = b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 = fiboNum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696760" y="793800"/>
            <a:ext cx="308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, 1, 2, 3, 5, 8, 13, 21, 34, 55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72760" y="1428840"/>
            <a:ext cx="594144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0 lconst_1  % Push long constant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1 lstore_0  % Pop long into local vars 0 &amp; 1: long a = 1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2 lconst_1  % Push long constant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3 lstore_2  % Pop long into local vars 2 &amp; 3: long b = 1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4 lconst_1  % Push long constant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5 lstore 4  % Pop long into local vars 4 &amp; 5: long fiboNum = 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7 lload_0   % Push long from local vars 0 &amp;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8 lload_2   % Push long from local vars 2 &amp; 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9 ladd      % Pop two longs, add them, push resul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10 lstore 4 % Pop long into local vars 4 &amp; 5: fiboNum = a + b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12 lload_2  % Push long from local vars 2 &amp; 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13 lstore_0 % Pop long into local vars 0 &amp; 1: a = b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14 lload 4  % Push long from local vars 4 &amp; 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16 lstore_2 % Pop long into local vars 2 &amp; 3: b = fiboNum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17 goto 7   % Jump back to offset 7: for (;;) {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22280" y="4941720"/>
            <a:ext cx="547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a 3f 0a 41 0a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37 0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le 20 61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37 0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0 3f 16 04 41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7 ff f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47840" y="4948200"/>
            <a:ext cx="156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YTE COD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96680" y="525780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stor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849200" y="525636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stor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6360" y="52545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goto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324480" y="5516640"/>
            <a:ext cx="227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(“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ssembles” to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goto -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1EF1-269D-44B2-A138-ADB4B15EADD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2-26T07:16:58Z</dcterms:modified>
  <cp:revision>288</cp:revision>
  <dc:subject/>
  <dc:title>Slide 1</dc:title>
</cp:coreProperties>
</file>