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move the slid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D9184-7BFE-4696-9BCB-9A6598FF43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’m Eijiro Sumii from Tohoku Univers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’m going to talk abou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 _very_ simple _and_ efficient compil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r a small but non-trivial functional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789B-A29C-4F9C-BC7D-3676580E0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C3A6-5A03-4EE9-ABD0-26EA42340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51A3-9B3E-4917-B9A3-76F04A4A4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E246-4A89-4BCA-B5B9-058E067C0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56AA-E656-42F2-8D9D-55F7CDFFB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8F5B-49AB-4549-81AE-99C0D5328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043E-49C5-475B-92F6-9ECE02722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F01D-20FA-42EF-A17D-F7FCABD12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E9D3-B5CF-4FA8-B4F1-1FB32DC9A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80A7-CDA6-4CBB-93C4-E6C6E5522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6414-6D68-45A2-93A9-E2FCF4926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2F9B-12B1-42EF-BEE8-EF7D2D265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8F25B-8EE5-43CE-BFA3-356CF9578F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timeanddate.com/calendar/monthly.html?year=2007&amp;month=1&amp;country=1" TargetMode="External"/><Relationship Id="rId2" Type="http://schemas.openxmlformats.org/officeDocument/2006/relationships/hyperlink" Target="http://www.timeanddate.com/calendar/monthly.html?year=2007&amp;month=2&amp;country=1" TargetMode="External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5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ompiler Construction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Lecture 01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2004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nt Term,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r: Timothy G. Griff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uter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University of Cambridg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C376-E2E9-4537-BF49-D1381F4DC33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A closer look at the Gap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52360" y="23670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chine indepen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x synta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sted sc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x data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dures,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39840" y="2332080"/>
            <a:ext cx="430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chine specif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e synta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tions and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flat scop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s, w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imple 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229040" y="1901880"/>
            <a:ext cx="21801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High Level Langu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410440" y="1962000"/>
            <a:ext cx="20919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Assembly Langu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B0AF-19AD-4EFB-BE7D-D9E35EE2B6F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Our Approach ---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Compilation as a sequence of transformations </a:t>
            </a:r>
            <a:endParaRPr b="0" lang="en-US" sz="2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72960" y="4114440"/>
            <a:ext cx="8213760" cy="19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transformation preserves seman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transformation addresses only one aspect of “the gap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transformation is fairly easy to understan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081080" y="2760840"/>
                <a:ext cx="6804000" cy="77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⇒</m:t>
                    </m:r>
                    <m:r>
                      <m:t xml:space="preserve">⋯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0" name=""/>
          <p:cNvSpPr/>
          <p:nvPr/>
        </p:nvSpPr>
        <p:spPr>
          <a:xfrm>
            <a:off x="426600" y="2149560"/>
            <a:ext cx="1069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ngu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503480" y="1944720"/>
            <a:ext cx="131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ngu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assembl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5400000">
            <a:off x="4167360" y="524520"/>
            <a:ext cx="409680" cy="4078440"/>
          </a:xfrm>
          <a:custGeom>
            <a:avLst/>
            <a:gdLst>
              <a:gd name="textAreaLeft" fmla="*/ 261720 w 409680"/>
              <a:gd name="textAreaRight" fmla="*/ 410040 w 409680"/>
              <a:gd name="textAreaTop" fmla="*/ 106200 h 4078440"/>
              <a:gd name="textAreaBottom" fmla="*/ 3972240 h 407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21280" y="192096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mediate  langua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9DE9-7738-4A2D-B30C-649BC8691C8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699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The Shape of a Compiler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600200"/>
            <a:ext cx="510552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133720" y="2057400"/>
            <a:ext cx="12189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391520" y="1447920"/>
            <a:ext cx="121896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733920" y="3733920"/>
            <a:ext cx="1752480" cy="8380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136240" y="205740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nt-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641560" y="2057400"/>
            <a:ext cx="11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k-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600200" y="2286000"/>
            <a:ext cx="5335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05520" y="2286000"/>
            <a:ext cx="5331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352680" y="2286000"/>
            <a:ext cx="5335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86200" y="2057400"/>
            <a:ext cx="12193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638680" y="2057400"/>
            <a:ext cx="12193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0" y="2286000"/>
            <a:ext cx="5335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394400" y="1447920"/>
            <a:ext cx="128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cu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Documents"/>
          <p:cNvSpPr/>
          <p:nvPr/>
        </p:nvSpPr>
        <p:spPr>
          <a:xfrm>
            <a:off x="228600" y="1295280"/>
            <a:ext cx="1352520" cy="1809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83400" y="1905120"/>
            <a:ext cx="105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4680" y="2819520"/>
            <a:ext cx="0" cy="1828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200440" y="4122720"/>
            <a:ext cx="7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RU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495680" y="2590920"/>
            <a:ext cx="0" cy="1066680"/>
          </a:xfrm>
          <a:prstGeom prst="line">
            <a:avLst/>
          </a:prstGeom>
          <a:ln w="76320">
            <a:solidFill>
              <a:srgbClr val="3333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665160" y="1219320"/>
            <a:ext cx="16131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ompil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13840" y="205740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ddle-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733920" y="4648320"/>
            <a:ext cx="487656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3657600" y="5715000"/>
            <a:ext cx="1671480" cy="519120"/>
            <a:chOff x="3657600" y="5715000"/>
            <a:chExt cx="1671480" cy="519120"/>
          </a:xfrm>
        </p:grpSpPr>
        <p:sp>
          <p:nvSpPr>
            <p:cNvPr id="137" name="Gear"/>
            <p:cNvSpPr/>
            <p:nvPr/>
          </p:nvSpPr>
          <p:spPr>
            <a:xfrm>
              <a:off x="4584240" y="5715000"/>
              <a:ext cx="744840" cy="23796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657600" y="5812920"/>
              <a:ext cx="890280" cy="28440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235040" y="5918040"/>
              <a:ext cx="989640" cy="31608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4955400" y="4800600"/>
            <a:ext cx="200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ing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733920" y="5334120"/>
            <a:ext cx="487656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488920" y="579132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w Me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736080" y="3809880"/>
            <a:ext cx="177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nterpr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(example: JV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74040" y="328464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INTERPRE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986120" y="2971800"/>
            <a:ext cx="254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ardware independ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ntermediate c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6781680" y="5715000"/>
            <a:ext cx="1671840" cy="519120"/>
            <a:chOff x="6781680" y="5715000"/>
            <a:chExt cx="1671840" cy="519120"/>
          </a:xfrm>
        </p:grpSpPr>
        <p:sp>
          <p:nvSpPr>
            <p:cNvPr id="147" name="Gear"/>
            <p:cNvSpPr/>
            <p:nvPr/>
          </p:nvSpPr>
          <p:spPr>
            <a:xfrm>
              <a:off x="7708680" y="5715000"/>
              <a:ext cx="744840" cy="23796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781680" y="5812920"/>
              <a:ext cx="890640" cy="28440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359480" y="5918040"/>
              <a:ext cx="990000" cy="31608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183960" y="5105520"/>
            <a:ext cx="3073320" cy="1465560"/>
          </a:xfrm>
          <a:prstGeom prst="rect">
            <a:avLst/>
          </a:prstGeom>
          <a:noFill/>
          <a:ln w="5724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Something to Pond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 compiler is just a progra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ut how did it get compil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s this a chicken-and-eg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roble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3F92-014F-4946-ABB0-E2592B62F1D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The Shape of a Front End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1676520"/>
            <a:ext cx="12193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31520" y="175248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nt-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600200" y="2895480"/>
            <a:ext cx="6094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Documents"/>
          <p:cNvSpPr/>
          <p:nvPr/>
        </p:nvSpPr>
        <p:spPr>
          <a:xfrm>
            <a:off x="228600" y="1905120"/>
            <a:ext cx="1352520" cy="1809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83400" y="2514600"/>
            <a:ext cx="105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057400" y="2133720"/>
            <a:ext cx="419112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48320" y="2743200"/>
            <a:ext cx="12189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286000" y="2666880"/>
            <a:ext cx="12193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288880" y="266688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Lexic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505320" y="289548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83800" y="2971800"/>
            <a:ext cx="8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xic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k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727160" y="2819520"/>
            <a:ext cx="9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ar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375560" y="4343400"/>
            <a:ext cx="22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Lexical theory ba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n finite automa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nd reg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expres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117320" y="4343400"/>
            <a:ext cx="2477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arsing Theo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ased on push-dow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utomaton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text-free gramm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5867280" y="2057400"/>
            <a:ext cx="914400" cy="838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921720" y="1789200"/>
            <a:ext cx="209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ror mess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cating syntac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rors in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867280" y="2971800"/>
            <a:ext cx="99072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995880" y="3236760"/>
            <a:ext cx="1857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se 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bstract Synt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e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91520" y="3962520"/>
            <a:ext cx="990360" cy="6094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391520" y="4419720"/>
            <a:ext cx="533160" cy="6858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924680" y="4419720"/>
            <a:ext cx="533520" cy="3045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315200" y="5029200"/>
            <a:ext cx="533520" cy="3049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8229600" y="4648320"/>
            <a:ext cx="152280" cy="5331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8001000" y="4648320"/>
            <a:ext cx="76320" cy="3045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391520" y="5257800"/>
            <a:ext cx="75960" cy="3049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CC72-1CCE-42C8-B9F2-DA7DA6A5F56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The Shape of a “Middle End”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1905120"/>
            <a:ext cx="19051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356640" y="198108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ddle-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3124080"/>
            <a:ext cx="60984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295280" y="2362320"/>
            <a:ext cx="678204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495680" y="2514600"/>
            <a:ext cx="121932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2438280"/>
            <a:ext cx="18288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05320" y="304812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160" y="2209680"/>
            <a:ext cx="13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se 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6320" y="2590920"/>
            <a:ext cx="990360" cy="6094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320" y="3048120"/>
            <a:ext cx="533160" cy="6858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3048120"/>
            <a:ext cx="533520" cy="3045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657600"/>
            <a:ext cx="533520" cy="3049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914400" y="3276720"/>
            <a:ext cx="152280" cy="5331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85800" y="3276720"/>
            <a:ext cx="76320" cy="3045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6320" y="3886200"/>
            <a:ext cx="75960" cy="3049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43600" y="5257800"/>
            <a:ext cx="4643280" cy="916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…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here is a lot of diversity in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iddle-end” -- some compilers are compl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while others are very simple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676520" y="266688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alysis of symb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finition and us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514600" y="3581280"/>
            <a:ext cx="0" cy="3812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822680" y="3962520"/>
            <a:ext cx="18982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Error reporting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variable x on 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17 of file main.c no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declared”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503520" y="3124080"/>
            <a:ext cx="100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nota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se tr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575240" y="2666880"/>
            <a:ext cx="113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342900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262040" y="3886200"/>
            <a:ext cx="1915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Error reporting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variable x decla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as a string but us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as an integer”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715000" y="297180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713560" y="3048120"/>
            <a:ext cx="100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nota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se tr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705720" y="2590920"/>
            <a:ext cx="121896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703560" y="2666880"/>
            <a:ext cx="1291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d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nera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924680" y="3048120"/>
            <a:ext cx="4572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rot="5400000">
            <a:off x="7547400" y="2968560"/>
            <a:ext cx="218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mediate-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781680" y="1981080"/>
            <a:ext cx="1067040" cy="609840"/>
          </a:xfrm>
          <a:custGeom>
            <a:avLst/>
            <a:gdLst>
              <a:gd name="textAreaLeft" fmla="*/ 186480 w 1067040"/>
              <a:gd name="textAreaRight" fmla="*/ 773640 w 1067040"/>
              <a:gd name="textAreaTop" fmla="*/ 81720 h 609840"/>
              <a:gd name="textAreaBottom" fmla="*/ 528120 h 609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rot="5400000">
            <a:off x="7010280" y="3200400"/>
            <a:ext cx="609480" cy="1218960"/>
          </a:xfrm>
          <a:custGeom>
            <a:avLst/>
            <a:gdLst>
              <a:gd name="textAreaLeft" fmla="*/ 81360 w 609480"/>
              <a:gd name="textAreaRight" fmla="*/ 528120 w 609480"/>
              <a:gd name="textAreaTop" fmla="*/ 213120 h 1218960"/>
              <a:gd name="textAreaBottom" fmla="*/ 88380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617880" y="4227480"/>
            <a:ext cx="2245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phase ma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olve man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ses,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ral distin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medi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nguages,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 optim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gorith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BB34-64B6-480A-8C2A-29C3C1F4D18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The Shape of a Back End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11" name=""/>
          <p:cNvSpPr/>
          <p:nvPr/>
        </p:nvSpPr>
        <p:spPr>
          <a:xfrm>
            <a:off x="231120" y="2819520"/>
            <a:ext cx="15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medi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28600" y="3505320"/>
            <a:ext cx="16002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600200" y="1905120"/>
            <a:ext cx="525780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2971800" y="2514600"/>
            <a:ext cx="609480" cy="838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801240" y="2209680"/>
            <a:ext cx="250632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x86 code generation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826440" y="2971800"/>
            <a:ext cx="223524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ARM code gene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867480" y="3657600"/>
            <a:ext cx="241200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SPARC code gene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2971800" y="3123720"/>
            <a:ext cx="68580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971800" y="3505320"/>
            <a:ext cx="685800" cy="304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841920" y="5029200"/>
            <a:ext cx="248364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PDP-11 code gene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rot="16200000">
            <a:off x="6939360" y="4022640"/>
            <a:ext cx="662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 Black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rot="16200000">
            <a:off x="3662640" y="4098960"/>
            <a:ext cx="662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 Black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5339160" y="4098960"/>
            <a:ext cx="662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 Black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895480" y="3581280"/>
            <a:ext cx="762120" cy="1600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917720" y="3276720"/>
            <a:ext cx="9810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Targe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664800" y="1523880"/>
            <a:ext cx="1131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k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553080" y="2362320"/>
            <a:ext cx="6098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259400" y="2971800"/>
            <a:ext cx="118656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ARM co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257960" y="2209680"/>
            <a:ext cx="108432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x86 co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248520" y="3124080"/>
            <a:ext cx="9144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300440" y="3657600"/>
            <a:ext cx="136332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SPARC co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477120" y="3809880"/>
            <a:ext cx="6858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274880" y="5029200"/>
            <a:ext cx="143496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PDP-11 co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477120" y="5181480"/>
            <a:ext cx="6858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149960" y="1332000"/>
            <a:ext cx="17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embly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47EA-9C37-413C-AA99-35F189F4EBF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685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Assembly, Linking, Loading</a:t>
            </a:r>
            <a:endParaRPr b="0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7" name=""/>
          <p:cNvSpPr/>
          <p:nvPr/>
        </p:nvSpPr>
        <p:spPr>
          <a:xfrm>
            <a:off x="482760" y="1066680"/>
            <a:ext cx="1247400" cy="6426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assembl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code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066680" y="1752480"/>
            <a:ext cx="0" cy="38124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11200" y="2133720"/>
            <a:ext cx="1294920" cy="368280"/>
          </a:xfrm>
          <a:prstGeom prst="rect">
            <a:avLst/>
          </a:pr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assemb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066680" y="2514600"/>
            <a:ext cx="0" cy="38088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158920" y="1066680"/>
            <a:ext cx="1247400" cy="6426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assembl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code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743200" y="1752480"/>
            <a:ext cx="0" cy="38124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87720" y="2133720"/>
            <a:ext cx="1294920" cy="368280"/>
          </a:xfrm>
          <a:prstGeom prst="rect">
            <a:avLst/>
          </a:pr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assemb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743200" y="2514600"/>
            <a:ext cx="0" cy="38088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435640" y="1066680"/>
            <a:ext cx="1247400" cy="6426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assembl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code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019920" y="1752480"/>
            <a:ext cx="0" cy="38124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464440" y="2133720"/>
            <a:ext cx="1294920" cy="368280"/>
          </a:xfrm>
          <a:prstGeom prst="rect">
            <a:avLst/>
          </a:pr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assemb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019920" y="2514600"/>
            <a:ext cx="0" cy="38088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035600" y="762120"/>
            <a:ext cx="723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Arial Black"/>
              </a:rPr>
              <a:t>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035600" y="2514600"/>
            <a:ext cx="723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Arial Black"/>
              </a:rPr>
              <a:t>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035600" y="1600200"/>
            <a:ext cx="723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Arial Black"/>
              </a:rPr>
              <a:t>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198960" y="4038480"/>
            <a:ext cx="1203120" cy="368280"/>
          </a:xfrm>
          <a:prstGeom prst="rect">
            <a:avLst/>
          </a:pr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linker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743200" y="3429000"/>
            <a:ext cx="457200" cy="60948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228040" y="2895480"/>
            <a:ext cx="108432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obje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code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4572000" y="3505320"/>
            <a:ext cx="1295280" cy="60948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504400" y="2895480"/>
            <a:ext cx="108432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obje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code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066680" y="3505320"/>
            <a:ext cx="1981440" cy="68580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51520" y="2895480"/>
            <a:ext cx="108432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obje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code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733920" y="4495680"/>
            <a:ext cx="0" cy="38124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371600" y="4876920"/>
            <a:ext cx="48006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ingle executable object code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0" y="5638680"/>
            <a:ext cx="6705720" cy="0"/>
          </a:xfrm>
          <a:prstGeom prst="line">
            <a:avLst/>
          </a:prstGeom>
          <a:ln w="7632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31120" y="5715000"/>
            <a:ext cx="200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Operating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733920" y="5257800"/>
            <a:ext cx="0" cy="68580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917520" y="5226120"/>
            <a:ext cx="7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RU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110400" y="5943600"/>
            <a:ext cx="1227600" cy="368280"/>
          </a:xfrm>
          <a:prstGeom prst="rect">
            <a:avLst/>
          </a:pr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loader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52280" y="4114800"/>
            <a:ext cx="22860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Object code libra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438280" y="4343400"/>
            <a:ext cx="533520" cy="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0" y="1066680"/>
            <a:ext cx="685800" cy="2438640"/>
          </a:xfrm>
          <a:custGeom>
            <a:avLst/>
            <a:gdLst>
              <a:gd name="textAreaLeft" fmla="*/ 0 w 685800"/>
              <a:gd name="textAreaRight" fmla="*/ 247680 w 685800"/>
              <a:gd name="textAreaTop" fmla="*/ 63360 h 2438640"/>
              <a:gd name="textAreaBottom" fmla="*/ 2375280 h 2438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656840" y="1504800"/>
            <a:ext cx="14518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From symbo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names an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addresses t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numeric cod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and nume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addres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858000" y="3657600"/>
            <a:ext cx="685800" cy="1523880"/>
          </a:xfrm>
          <a:custGeom>
            <a:avLst/>
            <a:gdLst>
              <a:gd name="textAreaLeft" fmla="*/ 0 w 685800"/>
              <a:gd name="textAreaRight" fmla="*/ 247680 w 68580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7637400" y="3886200"/>
            <a:ext cx="14335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Nam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resolution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creation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single addr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5562720"/>
            <a:ext cx="685800" cy="914400"/>
          </a:xfrm>
          <a:custGeom>
            <a:avLst/>
            <a:gdLst>
              <a:gd name="textAreaLeft" fmla="*/ 0 w 685800"/>
              <a:gd name="textAreaRight" fmla="*/ 247680 w 6858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708680" y="5276880"/>
            <a:ext cx="1114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Addr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relocation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memo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allocation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dynamic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link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7469640" y="914400"/>
            <a:ext cx="142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(main task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572000" y="4419720"/>
            <a:ext cx="380880" cy="15228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968360" y="4303800"/>
            <a:ext cx="1258200" cy="368280"/>
          </a:xfrm>
          <a:prstGeom prst="rect">
            <a:avLst/>
          </a:prstGeom>
          <a:noFill/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Link err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910F-A7C9-4212-8D4D-B1F616FFBEE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990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Reading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iler Design in Java/C/M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3 books). Appel. (199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ilers --- Principles, Techniques, and 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Aho, Sethi, and Ullman (198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iler Desig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Wilhelm, Maurer (199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roduction to Compiling Techniqu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Bennett (1990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Retargetable C Compiler: Design and Implement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Frazer, Hanson (199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iler Constru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Waite, Goos (198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gh-level Languages and Their Compil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Watson (198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54160" y="1297080"/>
            <a:ext cx="8577000" cy="1168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774200" y="2104920"/>
            <a:ext cx="10724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in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989F-20C3-451E-B143-0EF68DA63CE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The Shape of this Course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832120" y="1187280"/>
            <a:ext cx="44323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Lexical Analysi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Theory of Context Free Grammars (CFGs) and Predictive (recursive descent) Pars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LR Parsing 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LR Parsing 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Type check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Variable Scop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Function Closur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Using the Stack 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Using the Stack 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Assembler, linker, object files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Assembler generation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Assembler genera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Continu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Object Orienta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Garbage Coll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Interpreters, Byte Code interpreters, virtual mach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Review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94920" y="1687680"/>
            <a:ext cx="2099160" cy="398772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January 2007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   T  W  T   F   S  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   2   3   4   5   6  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   9 10 11 12 13 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5 16 17 18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19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4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5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6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7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9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30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February 2007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   T  W  T   F   S  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  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3  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6  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7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8  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9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10 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13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1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15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16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17 1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19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20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1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22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24 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6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27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855880" y="3701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90720" y="2673360"/>
            <a:ext cx="453708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717640" y="4570560"/>
            <a:ext cx="4537080" cy="10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140600" y="1330200"/>
            <a:ext cx="196920" cy="1135080"/>
          </a:xfrm>
          <a:custGeom>
            <a:avLst/>
            <a:gdLst>
              <a:gd name="textAreaLeft" fmla="*/ 0 w 196920"/>
              <a:gd name="textAreaRight" fmla="*/ 70920 w 196920"/>
              <a:gd name="textAreaTop" fmla="*/ 29520 h 1135080"/>
              <a:gd name="textAreaBottom" fmla="*/ 1105560 h 113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576560" y="1719360"/>
            <a:ext cx="110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Front 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7210440" y="2786040"/>
            <a:ext cx="185760" cy="1611360"/>
          </a:xfrm>
          <a:custGeom>
            <a:avLst/>
            <a:gdLst>
              <a:gd name="textAreaLeft" fmla="*/ 0 w 185760"/>
              <a:gd name="textAreaRight" fmla="*/ 66960 w 185760"/>
              <a:gd name="textAreaTop" fmla="*/ 41760 h 1611360"/>
              <a:gd name="textAreaBottom" fmla="*/ 1569600 h 1611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635240" y="2840040"/>
            <a:ext cx="14090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Middle a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back-en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Us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Min-Caml 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run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194600" y="4738680"/>
            <a:ext cx="198360" cy="1287360"/>
          </a:xfrm>
          <a:custGeom>
            <a:avLst/>
            <a:gdLst>
              <a:gd name="textAreaLeft" fmla="*/ 0 w 198360"/>
              <a:gd name="textAreaRight" fmla="*/ 71640 w 198360"/>
              <a:gd name="textAreaTop" fmla="*/ 33480 h 1287360"/>
              <a:gd name="textAreaBottom" fmla="*/ 1253880 h 1287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7661880" y="5024520"/>
            <a:ext cx="84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pe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top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4639-3FE3-4FE7-A2B6-A03F12ABFB2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Compilation is a type of Translation</a:t>
            </a:r>
            <a:endParaRPr b="0" lang="en-US" sz="2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9880" y="2133360"/>
            <a:ext cx="4114800" cy="42210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be correct in the sense that meaning is preser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be effic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generate efficient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produce usable error mess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be well-structured and maintainab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05120"/>
            <a:ext cx="914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07080" y="2057400"/>
            <a:ext cx="105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43200" y="1828800"/>
            <a:ext cx="914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669400" y="1981080"/>
            <a:ext cx="105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1905120"/>
            <a:ext cx="1219320" cy="685800"/>
          </a:xfrm>
          <a:prstGeom prst="rightArrow">
            <a:avLst>
              <a:gd name="adj1" fmla="val 50000"/>
              <a:gd name="adj2" fmla="val 444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 flipV="1" rot="16200000">
            <a:off x="266040" y="3237480"/>
            <a:ext cx="1219320" cy="685800"/>
          </a:xfrm>
          <a:prstGeom prst="rightArrow">
            <a:avLst>
              <a:gd name="adj1" fmla="val 50000"/>
              <a:gd name="adj2" fmla="val 444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52280" y="4267080"/>
            <a:ext cx="175284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30040" y="4419720"/>
            <a:ext cx="127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ntium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374120" y="2514600"/>
            <a:ext cx="10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069560" y="3429000"/>
            <a:ext cx="96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60" y="5638680"/>
            <a:ext cx="323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ilation is a transl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“high level” to “low level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340520" y="1752480"/>
            <a:ext cx="298044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A good compiler should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772400" y="3276720"/>
            <a:ext cx="1066680" cy="320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848720" y="3352680"/>
            <a:ext cx="304560" cy="2971800"/>
          </a:xfrm>
          <a:custGeom>
            <a:avLst/>
            <a:gdLst>
              <a:gd name="textAreaLeft" fmla="*/ 0 w 304560"/>
              <a:gd name="textAreaRight" fmla="*/ 109800 w 304560"/>
              <a:gd name="textAreaTop" fmla="*/ 77400 h 2971800"/>
              <a:gd name="textAreaBottom" fmla="*/ 2894400 h 2971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rot="16200000">
            <a:off x="7199280" y="4547880"/>
            <a:ext cx="227628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Trade offs abound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FDE8-1D6D-4A27-8D55-1D50C79819E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All Hail Grace Hopper !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1752480"/>
            <a:ext cx="3263760" cy="41403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348800" y="1981080"/>
            <a:ext cx="4554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Wrote first compiler in 19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or the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Short Code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languag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while working for Remington Ran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e compiler was called A-0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he wrote it because she found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ormal process of compiling Short Code 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and was boring and tedious, and s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wanted to spend her time doing “inter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mathematics” instead of tasks th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uld be done by a stupid machin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59400" y="5979960"/>
            <a:ext cx="402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(note: as with all claims of priority th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ne will be endlessly disputed….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8FF4-A5D5-472E-9960-6F83DAFDC72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Why Study Compilers?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Although many of the basic ideas where developed over 30 years ago, compiler construction is still an evolving and active area of research and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Compilers are intimately related to programming language design and evolu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Compilers are a Computer Science success story that illustrate the hallmarks of our field --- high-level abstractions implemented with low-level resourc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You are computer scientist.  Nothing done with machines should be mysterious to you!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0721-CA49-40BD-A708-1F36BCBB657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8529480" cy="64771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87000" y="0"/>
            <a:ext cx="645804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merd.sourceforge.net/pixel/language-study/diagram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12480" y="609480"/>
            <a:ext cx="2908800" cy="916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Lines of descent shou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ot be taken too seriousl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erl from Algol 60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6934320" y="228600"/>
            <a:ext cx="4572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322760" y="0"/>
            <a:ext cx="12200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or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C8FD-D9DF-4070-ACC7-69DCBE38316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OCAML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 http://caml.inria.fr/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6705720" y="304920"/>
            <a:ext cx="2166840" cy="20336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021320" y="1752480"/>
            <a:ext cx="4818240" cy="11912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Ocaml is a dialect of 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This course will frequently mine the Ocam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compiler for exampl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297080" y="3581280"/>
            <a:ext cx="67338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let rec map f l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match l wit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[] -&gt; []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| head::tail -&gt; (f head) :: (map f tai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(‘a -&gt; ‘b) -&gt; ‘a list -&gt; ‘b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131120" y="5029200"/>
            <a:ext cx="188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Inferred type 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416F-8C8E-4831-9753-26D42611747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11080" y="250560"/>
            <a:ext cx="7772400" cy="1469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  <a:ea typeface="ＭＳ Ｐゴシック"/>
              </a:rPr>
              <a:t>MinCaml: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  <a:ea typeface="ＭＳ Ｐゴシック"/>
              </a:rPr>
              <a:t>A Simple and Efficient Compiler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  <a:ea typeface="ＭＳ Ｐゴシック"/>
              </a:rPr>
              <a:t>for a Minimal Functional Language 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243080" y="3762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ijiro Sum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hoku Univer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ttp://www.kb.ecei.tohoku.ac.jp/~sumii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190520" y="5394240"/>
            <a:ext cx="3051360" cy="11588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2009520" y="1693800"/>
            <a:ext cx="501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GPLAN :Proceedings of the 2005 workshop 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nctional and declarative programming in educ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1680" y="6031080"/>
            <a:ext cx="408204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http://min-caml.sourceforge.net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47720" y="2457360"/>
            <a:ext cx="77724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333399"/>
                </a:solidFill>
                <a:latin typeface="Arial Black"/>
                <a:ea typeface="ＭＳ Ｐゴシック"/>
              </a:rPr>
              <a:t>美しい日本の</a:t>
            </a:r>
            <a:r>
              <a:rPr b="0" lang="en-US" sz="4000" spc="-1" strike="noStrike">
                <a:solidFill>
                  <a:srgbClr val="333399"/>
                </a:solidFill>
                <a:latin typeface="Arial Black"/>
                <a:ea typeface="ＭＳ Ｐゴシック"/>
              </a:rPr>
              <a:t>ML</a:t>
            </a:r>
            <a:r>
              <a:rPr b="0" lang="ja-JP" sz="4000" spc="-1" strike="noStrike">
                <a:solidFill>
                  <a:srgbClr val="333399"/>
                </a:solidFill>
                <a:latin typeface="Arial Black"/>
                <a:ea typeface="ＭＳ Ｐゴシック"/>
              </a:rPr>
              <a:t>コンパイ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28E5-C5FA-4880-AF17-88E20A2200B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The MinCaml Languag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100160" y="1025640"/>
            <a:ext cx="7580160" cy="56847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523960" y="936720"/>
            <a:ext cx="294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minimal functional languag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0036-B6F6-49B3-A6F1-0DAFC01472F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80960" y="0"/>
            <a:ext cx="8229600" cy="782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Mind The Gap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93" name=""/>
          <p:cNvSpPr/>
          <p:nvPr/>
        </p:nvSpPr>
        <p:spPr>
          <a:xfrm>
            <a:off x="761760" y="912960"/>
            <a:ext cx="745020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let rec gcd m 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if m = 0 then n el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if m &lt;= n then gcd m (n - m) else gcd n (m - 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in print_int (gcd 21600 337500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451840" y="2467080"/>
            <a:ext cx="3472560" cy="31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.global min_caml_star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min_caml_start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save    %sp, -112, %s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set     21600, %i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set     337500, %i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st      %o7, [%i0 + 4]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call    gcd.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add     %i0, 8, %i0 ! delay slo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sub     %i0, 8, %i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d      [%i0 + 4], %o7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st      %o7, [%i0 + 4]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call    min_caml_print_i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add     %i0, 8, %i0 ! delay slo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sub     %i0, 8, %i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d      [%i0 + 4], %o7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re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resto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24200" y="2384280"/>
            <a:ext cx="2466720" cy="447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.section ".rodata"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.align 8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.section ".text"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gcd.7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cmp     %i2,  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bne     be_else.19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no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mov     %i3, %i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ret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no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be_else.19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cmp     %i2, %i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bg      ble_else.2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no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sub     %i3, %i2, %i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b       gcd.7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no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ble_else.20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sub     %i2, %i3, %i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mov     %i3, %o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mov     %i2, %i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mov     %o4, %i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b       gcd.7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n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252560" y="901800"/>
            <a:ext cx="9824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nCa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89280" y="2384280"/>
            <a:ext cx="6770520" cy="464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83080" y="2489040"/>
            <a:ext cx="0" cy="4143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rot="5400000">
            <a:off x="873000" y="2323800"/>
            <a:ext cx="2097000" cy="1678320"/>
          </a:xfrm>
          <a:custGeom>
            <a:avLst/>
            <a:gdLst>
              <a:gd name="textAreaLeft" fmla="*/ 698760 w 2097000"/>
              <a:gd name="textAreaRight" fmla="*/ 1796040 w 2097000"/>
              <a:gd name="textAreaTop" fmla="*/ 966600 h 1678320"/>
              <a:gd name="textAreaBottom" fmla="*/ 1437480 h 16783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70360" y="3390840"/>
            <a:ext cx="92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25680" y="5972040"/>
            <a:ext cx="18280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ARC assem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D463-176E-490A-BA64-66B943C7563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0T10:45:36Z</dcterms:created>
  <dc:creator>Tim Griffin</dc:creator>
  <dc:description/>
  <dc:language>en-US</dc:language>
  <cp:lastModifiedBy>Tim Griffin</cp:lastModifiedBy>
  <dcterms:modified xsi:type="dcterms:W3CDTF">2007-01-19T14:06:18Z</dcterms:modified>
  <cp:revision>281</cp:revision>
  <dc:subject/>
  <dc:title>Slide 1</dc:title>
</cp:coreProperties>
</file>