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7CBA-09D2-45B9-A400-0ACD496A5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4332-1C86-4638-A9D0-A15B06F6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BE81-1097-4CA6-BB65-3C2AFA20C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A01D-08E9-4BEB-AC76-110BEB33C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C770-792F-4CBA-B8FB-8865F7CF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1A37-88E5-4785-8385-93DC4DF0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5D59-C557-4E6E-B584-6FAFC409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1CE2-4E22-42DC-A188-761E5799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6A1B-26CE-4211-9A3A-58514758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5354-D756-496D-9750-732D0B55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61B4-7F86-422A-B026-148F2C81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7FA9-F319-4AD8-BC01-616EC0C4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C946-62F4-4ED4-B0E8-329493D2C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9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unctions 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A73A-C8E1-4CAF-8D66-682E1FCDF2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862680" y="6243480"/>
            <a:ext cx="8557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035760" cy="622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lternative 2: Single Static Link per Frame 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2" name=""/>
          <p:cNvSpPr/>
          <p:nvPr/>
        </p:nvSpPr>
        <p:spPr>
          <a:xfrm>
            <a:off x="6843600" y="4962600"/>
            <a:ext cx="855720" cy="112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65920" y="5805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81760" y="55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37400" y="5475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91400" y="6191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91480" y="64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781680" y="4878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718320" y="514512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43600" y="52228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29560" y="3381480"/>
            <a:ext cx="855360" cy="139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1520" y="42274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32440" y="398952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69080" y="3897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38840" y="361476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35680" y="3683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746760" y="33703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62000" y="521172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377760" y="3608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34240" y="2098800"/>
            <a:ext cx="855720" cy="113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76680" y="2259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819840" y="2441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756480" y="2360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746760" y="20908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19840" y="814320"/>
            <a:ext cx="85572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456960" y="10904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59440" y="299412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51520" y="44989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508880" y="4361040"/>
            <a:ext cx="690480" cy="1547640"/>
          </a:xfrm>
          <a:custGeom>
            <a:avLst/>
            <a:gdLst/>
            <a:ahLst/>
            <a:rect l="l" t="t" r="r" b="b"/>
            <a:pathLst>
              <a:path w="435" h="975">
                <a:moveTo>
                  <a:pt x="0" y="0"/>
                </a:moveTo>
                <a:cubicBezTo>
                  <a:pt x="133" y="24"/>
                  <a:pt x="267" y="49"/>
                  <a:pt x="332" y="155"/>
                </a:cubicBezTo>
                <a:cubicBezTo>
                  <a:pt x="397" y="261"/>
                  <a:pt x="435" y="498"/>
                  <a:pt x="391" y="635"/>
                </a:cubicBezTo>
                <a:cubicBezTo>
                  <a:pt x="347" y="772"/>
                  <a:pt x="206" y="873"/>
                  <a:pt x="66" y="975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51520" y="15811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81760" y="27590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81760" y="12938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356600" y="2868480"/>
            <a:ext cx="853920" cy="1773360"/>
          </a:xfrm>
          <a:custGeom>
            <a:avLst/>
            <a:gdLst/>
            <a:ahLst/>
            <a:rect l="l" t="t" r="r" b="b"/>
            <a:pathLst>
              <a:path w="538" h="1117">
                <a:moveTo>
                  <a:pt x="0" y="24"/>
                </a:moveTo>
                <a:cubicBezTo>
                  <a:pt x="157" y="12"/>
                  <a:pt x="314" y="0"/>
                  <a:pt x="398" y="106"/>
                </a:cubicBezTo>
                <a:cubicBezTo>
                  <a:pt x="482" y="212"/>
                  <a:pt x="488" y="505"/>
                  <a:pt x="502" y="659"/>
                </a:cubicBezTo>
                <a:cubicBezTo>
                  <a:pt x="516" y="813"/>
                  <a:pt x="538" y="953"/>
                  <a:pt x="480" y="1029"/>
                </a:cubicBezTo>
                <a:cubicBezTo>
                  <a:pt x="422" y="1105"/>
                  <a:pt x="288" y="1111"/>
                  <a:pt x="155" y="1117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251840" y="1440000"/>
            <a:ext cx="1892160" cy="4808520"/>
          </a:xfrm>
          <a:custGeom>
            <a:avLst/>
            <a:gdLst/>
            <a:ahLst/>
            <a:rect l="l" t="t" r="r" b="b"/>
            <a:pathLst>
              <a:path w="1192" h="3029">
                <a:moveTo>
                  <a:pt x="58" y="16"/>
                </a:moveTo>
                <a:cubicBezTo>
                  <a:pt x="29" y="18"/>
                  <a:pt x="0" y="21"/>
                  <a:pt x="103" y="23"/>
                </a:cubicBezTo>
                <a:cubicBezTo>
                  <a:pt x="206" y="25"/>
                  <a:pt x="529" y="0"/>
                  <a:pt x="679" y="31"/>
                </a:cubicBezTo>
                <a:cubicBezTo>
                  <a:pt x="829" y="62"/>
                  <a:pt x="943" y="49"/>
                  <a:pt x="1003" y="208"/>
                </a:cubicBezTo>
                <a:cubicBezTo>
                  <a:pt x="1063" y="367"/>
                  <a:pt x="1024" y="567"/>
                  <a:pt x="1040" y="983"/>
                </a:cubicBezTo>
                <a:cubicBezTo>
                  <a:pt x="1056" y="1399"/>
                  <a:pt x="1192" y="2379"/>
                  <a:pt x="1099" y="2704"/>
                </a:cubicBezTo>
                <a:cubicBezTo>
                  <a:pt x="1006" y="3029"/>
                  <a:pt x="742" y="2981"/>
                  <a:pt x="479" y="2933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6360" y="1098720"/>
            <a:ext cx="27410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f(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h(y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b = …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g(w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else return h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b + g(y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x + h(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411800" y="1838160"/>
            <a:ext cx="1184040" cy="50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33880" y="1312920"/>
            <a:ext cx="194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rame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122720" y="1319040"/>
            <a:ext cx="2062080" cy="9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6960" y="1085760"/>
            <a:ext cx="3181320" cy="303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752920" y="108756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9320" y="1522440"/>
            <a:ext cx="2718000" cy="21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30440" y="152388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93600" y="1995480"/>
            <a:ext cx="2303640" cy="149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30720" y="199692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6160" y="5378400"/>
            <a:ext cx="4516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functi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t static nesting dep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use a single static link to the m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nt frame for nesting dep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-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964680" y="2768760"/>
            <a:ext cx="23677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+) uses less space, ta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ss time to set up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ar dow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-) At run-time, need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se pointers” to fi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value of a non-loc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8236-2D14-4D2B-BC96-8292E1447A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ingle Static Link vs. Dijkstra Display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8" name=""/>
          <p:cNvSpPr/>
          <p:nvPr/>
        </p:nvSpPr>
        <p:spPr>
          <a:xfrm>
            <a:off x="3615480" y="1415880"/>
            <a:ext cx="1737000" cy="3501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un f(x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let a = …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un g(y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let b = …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un h(z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let c = …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un j(w) {…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…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j(…)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…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h(…)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…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g(…) 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…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(..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392160" y="1146240"/>
            <a:ext cx="175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ijkstra Displ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24760" y="1222200"/>
            <a:ext cx="17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ingle Static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564240" y="1887480"/>
            <a:ext cx="938160" cy="116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02120" y="176040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558120" y="3137040"/>
            <a:ext cx="938160" cy="11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583040" y="383076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599160" y="4819680"/>
            <a:ext cx="938160" cy="64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765560" y="487980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760880" y="5892840"/>
            <a:ext cx="11149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605640" y="5925960"/>
            <a:ext cx="938160" cy="6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235560" y="2965320"/>
            <a:ext cx="293760" cy="1254240"/>
          </a:xfrm>
          <a:custGeom>
            <a:avLst/>
            <a:gdLst/>
            <a:ahLst/>
            <a:rect l="l" t="t" r="r" b="b"/>
            <a:pathLst>
              <a:path w="185" h="790">
                <a:moveTo>
                  <a:pt x="178" y="0"/>
                </a:moveTo>
                <a:cubicBezTo>
                  <a:pt x="89" y="144"/>
                  <a:pt x="0" y="289"/>
                  <a:pt x="1" y="421"/>
                </a:cubicBezTo>
                <a:cubicBezTo>
                  <a:pt x="2" y="553"/>
                  <a:pt x="93" y="671"/>
                  <a:pt x="185" y="79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65920" y="2790720"/>
            <a:ext cx="610920" cy="2590920"/>
          </a:xfrm>
          <a:custGeom>
            <a:avLst/>
            <a:gdLst/>
            <a:ahLst/>
            <a:rect l="l" t="t" r="r" b="b"/>
            <a:pathLst>
              <a:path w="385" h="1632">
                <a:moveTo>
                  <a:pt x="385" y="0"/>
                </a:moveTo>
                <a:cubicBezTo>
                  <a:pt x="230" y="120"/>
                  <a:pt x="76" y="241"/>
                  <a:pt x="38" y="465"/>
                </a:cubicBezTo>
                <a:cubicBezTo>
                  <a:pt x="0" y="689"/>
                  <a:pt x="100" y="1150"/>
                  <a:pt x="156" y="1344"/>
                </a:cubicBezTo>
                <a:cubicBezTo>
                  <a:pt x="212" y="1538"/>
                  <a:pt x="294" y="1585"/>
                  <a:pt x="377" y="1632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668920" y="2614680"/>
            <a:ext cx="907920" cy="3868560"/>
          </a:xfrm>
          <a:custGeom>
            <a:avLst/>
            <a:gdLst/>
            <a:ahLst/>
            <a:rect l="l" t="t" r="r" b="b"/>
            <a:pathLst>
              <a:path w="572" h="2437">
                <a:moveTo>
                  <a:pt x="564" y="0"/>
                </a:moveTo>
                <a:cubicBezTo>
                  <a:pt x="352" y="100"/>
                  <a:pt x="140" y="200"/>
                  <a:pt x="70" y="435"/>
                </a:cubicBezTo>
                <a:cubicBezTo>
                  <a:pt x="0" y="670"/>
                  <a:pt x="120" y="1154"/>
                  <a:pt x="143" y="1410"/>
                </a:cubicBezTo>
                <a:cubicBezTo>
                  <a:pt x="166" y="1666"/>
                  <a:pt x="180" y="1823"/>
                  <a:pt x="210" y="1971"/>
                </a:cubicBezTo>
                <a:cubicBezTo>
                  <a:pt x="240" y="2119"/>
                  <a:pt x="261" y="2218"/>
                  <a:pt x="321" y="2296"/>
                </a:cubicBezTo>
                <a:cubicBezTo>
                  <a:pt x="381" y="2374"/>
                  <a:pt x="476" y="2405"/>
                  <a:pt x="572" y="2437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5880" y="2884320"/>
            <a:ext cx="78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653160" y="2714760"/>
            <a:ext cx="78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59640" y="2592360"/>
            <a:ext cx="78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623360" y="2424240"/>
            <a:ext cx="1256760" cy="6415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Lin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Info is an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Of poi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66800" y="1870200"/>
            <a:ext cx="938160" cy="11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804680" y="174312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60320" y="3119400"/>
            <a:ext cx="938160" cy="116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785600" y="381312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01720" y="4802040"/>
            <a:ext cx="938160" cy="6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968120" y="486252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963440" y="5875200"/>
            <a:ext cx="11149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08200" y="5908680"/>
            <a:ext cx="938160" cy="64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0720" y="2760840"/>
            <a:ext cx="293760" cy="1476360"/>
          </a:xfrm>
          <a:custGeom>
            <a:avLst/>
            <a:gdLst/>
            <a:ahLst/>
            <a:rect l="l" t="t" r="r" b="b"/>
            <a:pathLst>
              <a:path w="185" h="790">
                <a:moveTo>
                  <a:pt x="178" y="0"/>
                </a:moveTo>
                <a:cubicBezTo>
                  <a:pt x="89" y="144"/>
                  <a:pt x="0" y="289"/>
                  <a:pt x="1" y="421"/>
                </a:cubicBezTo>
                <a:cubicBezTo>
                  <a:pt x="2" y="553"/>
                  <a:pt x="93" y="671"/>
                  <a:pt x="185" y="79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4600" y="3822840"/>
            <a:ext cx="293760" cy="1582560"/>
          </a:xfrm>
          <a:custGeom>
            <a:avLst/>
            <a:gdLst/>
            <a:ahLst/>
            <a:rect l="l" t="t" r="r" b="b"/>
            <a:pathLst>
              <a:path w="185" h="790">
                <a:moveTo>
                  <a:pt x="178" y="0"/>
                </a:moveTo>
                <a:cubicBezTo>
                  <a:pt x="89" y="144"/>
                  <a:pt x="0" y="289"/>
                  <a:pt x="1" y="421"/>
                </a:cubicBezTo>
                <a:cubicBezTo>
                  <a:pt x="2" y="553"/>
                  <a:pt x="93" y="671"/>
                  <a:pt x="185" y="79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38120" y="5048280"/>
            <a:ext cx="352440" cy="1500120"/>
          </a:xfrm>
          <a:custGeom>
            <a:avLst/>
            <a:gdLst/>
            <a:ahLst/>
            <a:rect l="l" t="t" r="r" b="b"/>
            <a:pathLst>
              <a:path w="185" h="790">
                <a:moveTo>
                  <a:pt x="178" y="0"/>
                </a:moveTo>
                <a:cubicBezTo>
                  <a:pt x="89" y="144"/>
                  <a:pt x="0" y="289"/>
                  <a:pt x="1" y="421"/>
                </a:cubicBezTo>
                <a:cubicBezTo>
                  <a:pt x="2" y="553"/>
                  <a:pt x="93" y="671"/>
                  <a:pt x="185" y="79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787080" y="546084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828480" y="436392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030680" y="545940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89640" y="437508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C0DA-BE38-4BFD-9519-7E22BD592F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dd commands to JARGON for non-local variables, using single static link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2" name=""/>
          <p:cNvSpPr/>
          <p:nvPr/>
        </p:nvSpPr>
        <p:spPr>
          <a:xfrm>
            <a:off x="3927600" y="241632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31480" y="1711440"/>
            <a:ext cx="13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etch d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10400" y="1852560"/>
            <a:ext cx="1157400" cy="21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734160" y="369720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680160" y="185436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662880" y="212868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270480" y="19828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732280" y="17208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372360" y="379404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647440" y="3100320"/>
            <a:ext cx="1459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 fp + 2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254240" y="1959120"/>
            <a:ext cx="1157040" cy="198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278000" y="36860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01680" y="19717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49240" y="21463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1040" y="188424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915840" y="37828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47040" y="348948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217520" y="3125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c-f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081680" y="4711680"/>
            <a:ext cx="4197960" cy="131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get(0, fp)        = f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get(d + 1,  fp) = get(d, Stack[fp+2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value = Stack[get(d, static-fp) + j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815800" y="355428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225440" y="4005360"/>
            <a:ext cx="1157400" cy="28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70000" y="56404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73280" y="6283440"/>
            <a:ext cx="468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84040" y="6386400"/>
            <a:ext cx="14382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get(d, static-f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86160" y="5838840"/>
            <a:ext cx="350640" cy="514440"/>
          </a:xfrm>
          <a:custGeom>
            <a:avLst/>
            <a:gdLst>
              <a:gd name="textAreaLeft" fmla="*/ 0 w 350640"/>
              <a:gd name="textAreaRight" fmla="*/ 126720 w 350640"/>
              <a:gd name="textAreaTop" fmla="*/ 13320 h 514440"/>
              <a:gd name="textAreaBottom" fmla="*/ 501120 h 5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945160" y="582300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B635-32E5-42B0-931C-29482832E6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lternative 3: “Lambda Lifting”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69" name=""/>
          <p:cNvSpPr/>
          <p:nvPr/>
        </p:nvSpPr>
        <p:spPr>
          <a:xfrm>
            <a:off x="6480" y="1023840"/>
            <a:ext cx="3838320" cy="5277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x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y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b = …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w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else return h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b + g(y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x + h(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(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98880" y="1028880"/>
            <a:ext cx="5057640" cy="5277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’(w, x, a, y, b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else return h’(c, x, 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’(y, x, a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b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b + g’(y, x, a, y, b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’(x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x + h’(a, x, 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’(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1989000" y="6586200"/>
            <a:ext cx="4157640" cy="111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3865-5299-4980-9A60-A375EEC2B7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6200640" y="6243480"/>
            <a:ext cx="8557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2892600" cy="1494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tack Evaluation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74" name=""/>
          <p:cNvSpPr/>
          <p:nvPr/>
        </p:nvSpPr>
        <p:spPr>
          <a:xfrm>
            <a:off x="166320" y="1703520"/>
            <a:ext cx="3594600" cy="3717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g’(w, x, a, y, b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else return h’(c, x, 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h’(y, x, a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b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b + g’(y, x, a, y, b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f’(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x + h’(a, x, 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’(1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181560" y="4600440"/>
            <a:ext cx="855720" cy="14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203880" y="5805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219720" y="55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75360" y="5475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29360" y="6191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29440" y="64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130800" y="45626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149880" y="4791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26120" y="521640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205680" y="48592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122880" y="49831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238800" y="5078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35560" y="52592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167520" y="2536920"/>
            <a:ext cx="855720" cy="196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189840" y="42274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170760" y="3989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107040" y="3897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076800" y="361476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173640" y="368316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137280" y="30193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081840" y="2927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100920" y="31431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167520" y="32367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84720" y="338292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165720" y="28065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151680" y="3440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084720" y="271476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72120" y="24908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247160" y="501156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13760" y="35258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148440" y="1158840"/>
            <a:ext cx="855720" cy="12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47960" y="163656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153120" y="21193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134040" y="1881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070680" y="178920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068880" y="1109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087960" y="13381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43760" y="1406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060960" y="1530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176880" y="16257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34040" y="41400"/>
            <a:ext cx="85572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125120" y="2937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808600" y="950760"/>
            <a:ext cx="405000" cy="1219320"/>
          </a:xfrm>
          <a:custGeom>
            <a:avLst/>
            <a:gdLst/>
            <a:ahLst/>
            <a:rect l="l" t="t" r="r" b="b"/>
            <a:pathLst>
              <a:path w="255" h="768">
                <a:moveTo>
                  <a:pt x="255" y="0"/>
                </a:moveTo>
                <a:cubicBezTo>
                  <a:pt x="145" y="46"/>
                  <a:pt x="36" y="93"/>
                  <a:pt x="18" y="221"/>
                </a:cubicBezTo>
                <a:cubicBezTo>
                  <a:pt x="0" y="349"/>
                  <a:pt x="72" y="558"/>
                  <a:pt x="144" y="7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884920" y="2235240"/>
            <a:ext cx="345960" cy="2155680"/>
          </a:xfrm>
          <a:custGeom>
            <a:avLst/>
            <a:gdLst/>
            <a:ahLst/>
            <a:rect l="l" t="t" r="r" b="b"/>
            <a:pathLst>
              <a:path w="255" h="768">
                <a:moveTo>
                  <a:pt x="255" y="0"/>
                </a:moveTo>
                <a:cubicBezTo>
                  <a:pt x="145" y="46"/>
                  <a:pt x="36" y="93"/>
                  <a:pt x="18" y="221"/>
                </a:cubicBezTo>
                <a:cubicBezTo>
                  <a:pt x="0" y="349"/>
                  <a:pt x="72" y="558"/>
                  <a:pt x="144" y="7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832360" y="4467240"/>
            <a:ext cx="405000" cy="1430280"/>
          </a:xfrm>
          <a:custGeom>
            <a:avLst/>
            <a:gdLst/>
            <a:ahLst/>
            <a:rect l="l" t="t" r="r" b="b"/>
            <a:pathLst>
              <a:path w="255" h="768">
                <a:moveTo>
                  <a:pt x="255" y="0"/>
                </a:moveTo>
                <a:cubicBezTo>
                  <a:pt x="145" y="46"/>
                  <a:pt x="36" y="93"/>
                  <a:pt x="18" y="221"/>
                </a:cubicBezTo>
                <a:cubicBezTo>
                  <a:pt x="0" y="349"/>
                  <a:pt x="72" y="558"/>
                  <a:pt x="144" y="7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743440" y="5927760"/>
            <a:ext cx="405000" cy="1219320"/>
          </a:xfrm>
          <a:custGeom>
            <a:avLst/>
            <a:gdLst/>
            <a:ahLst/>
            <a:rect l="l" t="t" r="r" b="b"/>
            <a:pathLst>
              <a:path w="255" h="768">
                <a:moveTo>
                  <a:pt x="255" y="0"/>
                </a:moveTo>
                <a:cubicBezTo>
                  <a:pt x="145" y="46"/>
                  <a:pt x="36" y="93"/>
                  <a:pt x="18" y="221"/>
                </a:cubicBezTo>
                <a:cubicBezTo>
                  <a:pt x="0" y="349"/>
                  <a:pt x="72" y="558"/>
                  <a:pt x="144" y="7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8CDA-7A13-4663-8725-A30690353C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200640" y="6243480"/>
            <a:ext cx="8557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2892600" cy="1494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roblem: a lot of Duplication!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3" name=""/>
          <p:cNvSpPr/>
          <p:nvPr/>
        </p:nvSpPr>
        <p:spPr>
          <a:xfrm>
            <a:off x="166320" y="1703520"/>
            <a:ext cx="3594600" cy="3717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g’(w, x, a, y, b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else return h’(c, x, 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h’(y, x, a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b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b + g’(y, x, a, y, b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f’(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x + h’(a, x, 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’(1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181560" y="4600440"/>
            <a:ext cx="855720" cy="14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203880" y="5805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219720" y="55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075360" y="5475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129360" y="6191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229440" y="64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130800" y="45626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49880" y="4791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26120" y="521640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205680" y="48592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22880" y="49831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238800" y="5078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235560" y="52592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167520" y="2536920"/>
            <a:ext cx="855720" cy="196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189840" y="42274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170760" y="3989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107040" y="3897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076800" y="361476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173640" y="368316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137280" y="30193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081840" y="2927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100920" y="31431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167520" y="32367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084720" y="338292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165720" y="28065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151680" y="3440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084720" y="271476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072120" y="24908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247160" y="501156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313760" y="35258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48440" y="1158840"/>
            <a:ext cx="855720" cy="12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347960" y="163656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153120" y="21193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134040" y="1881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070680" y="178920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068880" y="1109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87960" y="13381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143760" y="1406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060960" y="1530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176880" y="16257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134040" y="41400"/>
            <a:ext cx="85572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125120" y="2937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856120" y="4606920"/>
            <a:ext cx="1447920" cy="45072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854680" y="2995560"/>
            <a:ext cx="1447920" cy="43992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865840" y="1163520"/>
            <a:ext cx="1447920" cy="45108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4987800" y="1238400"/>
            <a:ext cx="59040" cy="4816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057640" y="1434960"/>
            <a:ext cx="671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043600" y="4870440"/>
            <a:ext cx="752400" cy="1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992840" y="3235320"/>
            <a:ext cx="799920" cy="1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886360" y="5564160"/>
            <a:ext cx="1447920" cy="91296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052960" y="5932440"/>
            <a:ext cx="752400" cy="1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838840" y="3989520"/>
            <a:ext cx="1447920" cy="85716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786280" y="2413080"/>
            <a:ext cx="1447920" cy="57924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4406400" y="2440080"/>
            <a:ext cx="9720" cy="26953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443480" y="2620800"/>
            <a:ext cx="1299960" cy="274680"/>
          </a:xfrm>
          <a:custGeom>
            <a:avLst/>
            <a:gdLst/>
            <a:ahLst/>
            <a:rect l="l" t="t" r="r" b="b"/>
            <a:pathLst>
              <a:path w="819" h="173">
                <a:moveTo>
                  <a:pt x="0" y="173"/>
                </a:moveTo>
                <a:cubicBezTo>
                  <a:pt x="138" y="104"/>
                  <a:pt x="277" y="36"/>
                  <a:pt x="413" y="18"/>
                </a:cubicBezTo>
                <a:cubicBezTo>
                  <a:pt x="549" y="0"/>
                  <a:pt x="684" y="31"/>
                  <a:pt x="819" y="62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437000" y="4292640"/>
            <a:ext cx="1300320" cy="274680"/>
          </a:xfrm>
          <a:custGeom>
            <a:avLst/>
            <a:gdLst/>
            <a:ahLst/>
            <a:rect l="l" t="t" r="r" b="b"/>
            <a:pathLst>
              <a:path w="819" h="173">
                <a:moveTo>
                  <a:pt x="0" y="173"/>
                </a:moveTo>
                <a:cubicBezTo>
                  <a:pt x="138" y="104"/>
                  <a:pt x="277" y="36"/>
                  <a:pt x="413" y="18"/>
                </a:cubicBezTo>
                <a:cubicBezTo>
                  <a:pt x="549" y="0"/>
                  <a:pt x="684" y="31"/>
                  <a:pt x="819" y="62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1DA6-594A-4377-8794-4E038E2A22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 Classic Trade Off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81" name=""/>
          <p:cNvSpPr/>
          <p:nvPr/>
        </p:nvSpPr>
        <p:spPr>
          <a:xfrm>
            <a:off x="2467080" y="1992240"/>
            <a:ext cx="5603760" cy="284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2678040" y="5229360"/>
            <a:ext cx="3611520" cy="1080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519640" y="5383080"/>
            <a:ext cx="286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Call-time set up c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n a stack-oriented mach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1944360" y="2046240"/>
            <a:ext cx="11160" cy="281304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95200" y="4262400"/>
            <a:ext cx="154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run-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 of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167800" y="356400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ispl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773440" y="2360520"/>
            <a:ext cx="144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tic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h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030480" y="3740040"/>
            <a:ext cx="668520" cy="515880"/>
          </a:xfrm>
          <a:prstGeom prst="smileyFace">
            <a:avLst>
              <a:gd name="adj" fmla="val 9282"/>
            </a:avLst>
          </a:prstGeom>
          <a:solidFill>
            <a:srgbClr val="fb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692080" y="4206960"/>
            <a:ext cx="166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here we w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 be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781320" y="4249800"/>
            <a:ext cx="122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los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3B9D-BFFA-4954-8BAF-DE6E54095C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rgon Stack Fram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64880" y="1593720"/>
            <a:ext cx="16272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76600" y="1382760"/>
            <a:ext cx="1157400" cy="31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0640" y="1422360"/>
            <a:ext cx="1625760" cy="360360"/>
          </a:xfrm>
          <a:custGeom>
            <a:avLst/>
            <a:gdLst/>
            <a:ahLst/>
            <a:rect l="l" t="t" r="r" b="b"/>
            <a:pathLst>
              <a:path w="780" h="627">
                <a:moveTo>
                  <a:pt x="0" y="627"/>
                </a:moveTo>
                <a:cubicBezTo>
                  <a:pt x="183" y="601"/>
                  <a:pt x="367" y="576"/>
                  <a:pt x="430" y="496"/>
                </a:cubicBezTo>
                <a:cubicBezTo>
                  <a:pt x="493" y="416"/>
                  <a:pt x="321" y="229"/>
                  <a:pt x="379" y="146"/>
                </a:cubicBezTo>
                <a:cubicBezTo>
                  <a:pt x="437" y="63"/>
                  <a:pt x="608" y="31"/>
                  <a:pt x="780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811160" y="3751200"/>
            <a:ext cx="1579680" cy="703440"/>
          </a:xfrm>
          <a:custGeom>
            <a:avLst/>
            <a:gdLst/>
            <a:ahLst/>
            <a:rect l="l" t="t" r="r" b="b"/>
            <a:pathLst>
              <a:path w="817" h="597">
                <a:moveTo>
                  <a:pt x="0" y="597"/>
                </a:moveTo>
                <a:cubicBezTo>
                  <a:pt x="131" y="596"/>
                  <a:pt x="263" y="595"/>
                  <a:pt x="372" y="510"/>
                </a:cubicBezTo>
                <a:cubicBezTo>
                  <a:pt x="481" y="425"/>
                  <a:pt x="583" y="172"/>
                  <a:pt x="657" y="87"/>
                </a:cubicBezTo>
                <a:cubicBezTo>
                  <a:pt x="731" y="2"/>
                  <a:pt x="774" y="1"/>
                  <a:pt x="817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62680" y="2046240"/>
            <a:ext cx="24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urrent “working stack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65640" y="4324320"/>
            <a:ext cx="315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] contains the fp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lling proced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00360" y="43178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08280" y="40482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11000" y="4010040"/>
            <a:ext cx="31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 + 1] contains return 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11520" y="302112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90480" y="3265560"/>
            <a:ext cx="292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 + 2]  to Stack[fp + k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s of local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2200" y="4611600"/>
            <a:ext cx="1157400" cy="224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36640" y="25560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08160" y="1550880"/>
            <a:ext cx="417600" cy="2847960"/>
          </a:xfrm>
          <a:custGeom>
            <a:avLst/>
            <a:gdLst>
              <a:gd name="textAreaLeft" fmla="*/ 266760 w 417600"/>
              <a:gd name="textAreaRight" fmla="*/ 417960 w 417600"/>
              <a:gd name="textAreaTop" fmla="*/ 74160 h 2847960"/>
              <a:gd name="textAreaBottom" fmla="*/ 2773800 h 2847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68160" y="1290600"/>
            <a:ext cx="326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sp] = next available slot 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 of 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49240" y="2693880"/>
            <a:ext cx="196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stack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ctivation reco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94120" y="4692600"/>
            <a:ext cx="417240" cy="2594160"/>
          </a:xfrm>
          <a:custGeom>
            <a:avLst/>
            <a:gdLst>
              <a:gd name="textAreaLeft" fmla="*/ 266760 w 417240"/>
              <a:gd name="textAreaRight" fmla="*/ 417600 w 417240"/>
              <a:gd name="textAreaTop" fmla="*/ 67320 h 2594160"/>
              <a:gd name="textAreaBottom" fmla="*/ 2526840 h 259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08560" y="569916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ous stack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f ca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33840" y="4734000"/>
            <a:ext cx="1041480" cy="1238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43680" y="5102280"/>
            <a:ext cx="31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 - 1]  to Stack[fp - n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re arguments passed by ca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65EE-24D4-4D24-88C7-26AC738025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all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3540240" y="321480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54360" y="2789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ll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74960" y="13176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89040" y="18939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86760" y="16430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97880" y="28065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74960" y="417816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9872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06640" y="60930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09880" y="5065560"/>
            <a:ext cx="108720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43280" y="41781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06680" y="42609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8480" y="40338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36560" y="64594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6776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78200" y="17827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call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47960" y="22446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42120" y="12780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91120" y="2370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77680" y="216540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65040" y="27669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42120" y="4138560"/>
            <a:ext cx="115740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65880" y="632304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73800" y="605304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77040" y="502596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10440" y="41385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15160" y="36702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1880" y="34084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34240" y="42861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3280" y="40640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45360" y="17431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call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15120" y="22050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99280" y="351648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94600" y="38257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200480"/>
            <a:ext cx="1463760" cy="2224080"/>
          </a:xfrm>
          <a:custGeom>
            <a:avLst/>
            <a:gdLst/>
            <a:ahLst/>
            <a:rect l="l" t="t" r="r" b="b"/>
            <a:pathLst>
              <a:path w="922" h="1401">
                <a:moveTo>
                  <a:pt x="0" y="57"/>
                </a:moveTo>
                <a:cubicBezTo>
                  <a:pt x="202" y="28"/>
                  <a:pt x="404" y="0"/>
                  <a:pt x="532" y="57"/>
                </a:cubicBezTo>
                <a:cubicBezTo>
                  <a:pt x="660" y="114"/>
                  <a:pt x="714" y="279"/>
                  <a:pt x="768" y="396"/>
                </a:cubicBezTo>
                <a:cubicBezTo>
                  <a:pt x="822" y="513"/>
                  <a:pt x="847" y="635"/>
                  <a:pt x="857" y="758"/>
                </a:cubicBezTo>
                <a:cubicBezTo>
                  <a:pt x="867" y="881"/>
                  <a:pt x="922" y="1028"/>
                  <a:pt x="827" y="1135"/>
                </a:cubicBezTo>
                <a:cubicBezTo>
                  <a:pt x="732" y="1242"/>
                  <a:pt x="510" y="1321"/>
                  <a:pt x="288" y="1401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16680" y="4219560"/>
            <a:ext cx="163440" cy="165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43440" y="4491000"/>
            <a:ext cx="505080" cy="2050920"/>
          </a:xfrm>
          <a:custGeom>
            <a:avLst/>
            <a:gdLst>
              <a:gd name="textAreaLeft" fmla="*/ 322920 w 505080"/>
              <a:gd name="textAreaRight" fmla="*/ 505440 w 50508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04640" y="5248440"/>
            <a:ext cx="82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ller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43C0-5423-490A-94A8-83A8C1AB3F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15960" y="2936880"/>
            <a:ext cx="11574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0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turn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3540240" y="321480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06840" y="278928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12720" y="73836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62080" y="137304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3560" y="106380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36000" y="222732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440" y="4243320"/>
            <a:ext cx="115740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6200" y="642780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54120" y="615780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57360" y="5670720"/>
            <a:ext cx="1087560" cy="44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90760" y="42433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49400" y="28494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6120" y="25876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4560" y="439092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3600" y="416880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15960" y="12034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2440" y="1689120"/>
            <a:ext cx="1243080" cy="27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92200" y="267192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95440" y="39546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90600" y="4305240"/>
            <a:ext cx="1463760" cy="2224080"/>
          </a:xfrm>
          <a:custGeom>
            <a:avLst/>
            <a:gdLst/>
            <a:ahLst/>
            <a:rect l="l" t="t" r="r" b="b"/>
            <a:pathLst>
              <a:path w="922" h="1401">
                <a:moveTo>
                  <a:pt x="0" y="57"/>
                </a:moveTo>
                <a:cubicBezTo>
                  <a:pt x="202" y="28"/>
                  <a:pt x="404" y="0"/>
                  <a:pt x="532" y="57"/>
                </a:cubicBezTo>
                <a:cubicBezTo>
                  <a:pt x="660" y="114"/>
                  <a:pt x="714" y="279"/>
                  <a:pt x="768" y="396"/>
                </a:cubicBezTo>
                <a:cubicBezTo>
                  <a:pt x="822" y="513"/>
                  <a:pt x="847" y="635"/>
                  <a:pt x="857" y="758"/>
                </a:cubicBezTo>
                <a:cubicBezTo>
                  <a:pt x="867" y="881"/>
                  <a:pt x="922" y="1028"/>
                  <a:pt x="827" y="1135"/>
                </a:cubicBezTo>
                <a:cubicBezTo>
                  <a:pt x="732" y="1242"/>
                  <a:pt x="510" y="1321"/>
                  <a:pt x="288" y="1401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97000" y="4324320"/>
            <a:ext cx="163440" cy="165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39720" y="3624120"/>
            <a:ext cx="1122480" cy="328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76360" y="2936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26120" y="72072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7440" y="17780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18920" y="14684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49040" y="220968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35840" y="422604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59600" y="6410160"/>
            <a:ext cx="112212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67520" y="6140520"/>
            <a:ext cx="112212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70760" y="5653080"/>
            <a:ext cx="1087200" cy="444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27520" y="4062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24240" y="38005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49920" y="6483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79320" y="623736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29360" y="1185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35840" y="1671480"/>
            <a:ext cx="1242720" cy="27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70680" y="38847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02360" y="41860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D1B3-6072-4217-85BA-2E0CC262EF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expression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463680" y="1127160"/>
            <a:ext cx="239976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(e_1, …, e_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7880" y="1903320"/>
            <a:ext cx="2192400" cy="495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89840" y="213372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_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2800" y="26305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3720" y="352728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17360" y="42642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all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7320" y="3676680"/>
            <a:ext cx="16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_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0200" y="42242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06440" y="46465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44000" y="469260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w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44800" y="500364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3720" y="504036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1360" y="54338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1600" y="61898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15560" y="614196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w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27160" y="646128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6440" y="65232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84640" y="550872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76680" y="550224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03800" y="285912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57680" y="281772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73360" y="1933560"/>
            <a:ext cx="398520" cy="2274840"/>
          </a:xfrm>
          <a:custGeom>
            <a:avLst/>
            <a:gdLst>
              <a:gd name="textAreaLeft" fmla="*/ 0 w 398520"/>
              <a:gd name="textAreaRight" fmla="*/ 144000 w 398520"/>
              <a:gd name="textAreaTop" fmla="*/ 59040 h 2274840"/>
              <a:gd name="textAreaBottom" fmla="*/ 2215800 h 22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25560" y="4718160"/>
            <a:ext cx="398520" cy="2139840"/>
          </a:xfrm>
          <a:custGeom>
            <a:avLst/>
            <a:gdLst>
              <a:gd name="textAreaLeft" fmla="*/ 0 w 398520"/>
              <a:gd name="textAreaRight" fmla="*/ 144000 w 398520"/>
              <a:gd name="textAreaTop" fmla="*/ 55800 h 2139840"/>
              <a:gd name="textAreaBottom" fmla="*/ 2084040 h 213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37920" y="5133960"/>
            <a:ext cx="1587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ake n args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stack, alw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eaving 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value at 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58720" y="2678040"/>
            <a:ext cx="1689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is will le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values of e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rg on the stack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ith the value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e_n at the 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03480" y="4191120"/>
            <a:ext cx="139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k = address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de for 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096920"/>
            <a:ext cx="0" cy="560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300720" y="2384280"/>
            <a:ext cx="1909800" cy="14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85040" y="1098720"/>
            <a:ext cx="16268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turn 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16600" y="338472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99280" y="3405240"/>
            <a:ext cx="192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59200" y="26938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8206-69CC-42A5-AD38-A18331B916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9760" y="0"/>
            <a:ext cx="424836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LANG to JARGON example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5559120" y="158760"/>
            <a:ext cx="2601000" cy="62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0 : push 0         ; slot for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 : push 0          ; slot for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 : push 19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 : popto 2         ; store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4 : push 10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5 : popto 3         ; store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6 : push 20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7 : pushfrom 2    ; load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8 : pushfrom 3    ; loa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9 : call 24           ; call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0 : swap           ; remove arg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1 : pop              ; 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2 : swap           ; remove arg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3 : pop               ; 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4 : pushfrom 3  ; loa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5 : pushfrom 2  ; load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6 : call 24          ; call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7 : swap            ; remove arg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8 : pop               ; 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9 : swap            ; remove arg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0 : pop               ; 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1 : arith -   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2 : arith *  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3 : stop              ; that's all folk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4 : push 0          ; f entry, slot fo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5 : push 17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6 : popto 2         ; store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7 : pushfrom 2   ; load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8 : pushfrom -2  ; loa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9 : pushfrom -1  ; load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0 : arith +  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1 : arith *  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2 : return           ; return from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58240" y="1539720"/>
            <a:ext cx="3228480" cy="301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(y, 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z = 1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z * (y + 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x = 19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y = 1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20 * (f(x, y) - f(y, x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29240" y="4583160"/>
            <a:ext cx="4075200" cy="170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72160" y="506736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EF25-B60E-4212-86BC-079856802E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Q:Did we do something wrong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4925160" y="1353960"/>
            <a:ext cx="39420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0 : push 4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 : call 5             ; call 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 : swap             ; remove arg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 : pop                ;  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 : stop               ; that's all folk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 : pushfrom -1   ; load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 : push 0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 : arith =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 : test 12           ; if (x 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 : push 1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0 : return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1 : goto 21         ; jump over els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2 : pushfrom -1  ; load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3 : pushfrom -1  ; load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4 : push 1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5 : arith -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6 : call 5             ; call 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7 : swap             ; remove arg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8 : pop                ;  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9 : arith *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0 : return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1 : skip               ; end 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56080" y="2637000"/>
            <a:ext cx="4267080" cy="4221000"/>
          </a:xfrm>
          <a:prstGeom prst="rect">
            <a:avLst/>
          </a:prstGeom>
          <a:noFill/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9000" y="957240"/>
            <a:ext cx="3838320" cy="1797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act(x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x =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return 1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return x * fact(x-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act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12600" y="3103560"/>
            <a:ext cx="2337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Implementation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conditional cont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“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dead code” at lines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and 2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78400" y="4349880"/>
            <a:ext cx="4138560" cy="12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70280" y="6845400"/>
            <a:ext cx="4138920" cy="12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5240" y="5288040"/>
            <a:ext cx="381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: Probably not.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t might be better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keep the code generation phase clea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nd leave optimizations to another pa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6013-6875-4C79-B864-C4F01FB565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Nested functions, procedur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1" name=""/>
          <p:cNvSpPr/>
          <p:nvPr/>
        </p:nvSpPr>
        <p:spPr>
          <a:xfrm>
            <a:off x="366840" y="1274760"/>
            <a:ext cx="3838320" cy="5277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x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y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b = …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w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else return h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b + g(y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x + h(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(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13120" y="1716120"/>
            <a:ext cx="202644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How this call to 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ccess the value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 and x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67280" y="5265720"/>
            <a:ext cx="1146240" cy="91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38560" y="578484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’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5545080"/>
            <a:ext cx="114624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37360" y="5568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65840" y="6273720"/>
            <a:ext cx="1157040" cy="173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62600" y="6281640"/>
            <a:ext cx="114624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27640" y="6261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78440" y="1768320"/>
            <a:ext cx="1146240" cy="10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49000" y="239544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’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989600" y="2035080"/>
            <a:ext cx="114624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61120" y="2046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64040" y="2906640"/>
            <a:ext cx="1146240" cy="11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34600" y="366696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’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62600" y="3171960"/>
            <a:ext cx="1146240" cy="30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46360" y="31701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05040" y="6237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62600" y="4143240"/>
            <a:ext cx="1146240" cy="10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33160" y="477036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’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73760" y="4410000"/>
            <a:ext cx="114588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45280" y="4421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968B-20B4-420E-BD8C-FF522A9408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62680" y="6243480"/>
            <a:ext cx="8557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5643360" cy="903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Alternative 1: Dijkstra Displays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6843600" y="4962600"/>
            <a:ext cx="855720" cy="112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65920" y="5805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81760" y="55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737400" y="5475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91400" y="6191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91480" y="64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92840" y="508320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29560" y="3381480"/>
            <a:ext cx="855360" cy="139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1520" y="42274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32440" y="398952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769080" y="3897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750000" y="347976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62000" y="521172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377760" y="3608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34240" y="1933560"/>
            <a:ext cx="855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76680" y="2259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38920" y="25052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69080" y="199080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19840" y="814320"/>
            <a:ext cx="85572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56960" y="10904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6360" y="1098720"/>
            <a:ext cx="27410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f(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h(y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b = …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g(w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else return h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b + g(y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x + h(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9440" y="299412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51520" y="44989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508880" y="4361040"/>
            <a:ext cx="690480" cy="1547640"/>
          </a:xfrm>
          <a:custGeom>
            <a:avLst/>
            <a:gdLst/>
            <a:ahLst/>
            <a:rect l="l" t="t" r="r" b="b"/>
            <a:pathLst>
              <a:path w="435" h="975">
                <a:moveTo>
                  <a:pt x="0" y="0"/>
                </a:moveTo>
                <a:cubicBezTo>
                  <a:pt x="133" y="24"/>
                  <a:pt x="267" y="49"/>
                  <a:pt x="332" y="155"/>
                </a:cubicBezTo>
                <a:cubicBezTo>
                  <a:pt x="397" y="261"/>
                  <a:pt x="435" y="498"/>
                  <a:pt x="391" y="635"/>
                </a:cubicBezTo>
                <a:cubicBezTo>
                  <a:pt x="347" y="772"/>
                  <a:pt x="206" y="873"/>
                  <a:pt x="66" y="975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51520" y="15811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81760" y="27590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81760" y="12938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56600" y="2868480"/>
            <a:ext cx="853920" cy="1773360"/>
          </a:xfrm>
          <a:custGeom>
            <a:avLst/>
            <a:gdLst/>
            <a:ahLst/>
            <a:rect l="l" t="t" r="r" b="b"/>
            <a:pathLst>
              <a:path w="538" h="1117">
                <a:moveTo>
                  <a:pt x="0" y="24"/>
                </a:moveTo>
                <a:cubicBezTo>
                  <a:pt x="157" y="12"/>
                  <a:pt x="314" y="0"/>
                  <a:pt x="398" y="106"/>
                </a:cubicBezTo>
                <a:cubicBezTo>
                  <a:pt x="482" y="212"/>
                  <a:pt x="488" y="505"/>
                  <a:pt x="502" y="659"/>
                </a:cubicBezTo>
                <a:cubicBezTo>
                  <a:pt x="516" y="813"/>
                  <a:pt x="538" y="953"/>
                  <a:pt x="480" y="1029"/>
                </a:cubicBezTo>
                <a:cubicBezTo>
                  <a:pt x="422" y="1105"/>
                  <a:pt x="288" y="1111"/>
                  <a:pt x="155" y="1117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367760" y="2521080"/>
            <a:ext cx="1180800" cy="3422520"/>
          </a:xfrm>
          <a:custGeom>
            <a:avLst/>
            <a:gdLst/>
            <a:ahLst/>
            <a:rect l="l" t="t" r="r" b="b"/>
            <a:pathLst>
              <a:path w="744" h="2156">
                <a:moveTo>
                  <a:pt x="0" y="81"/>
                </a:moveTo>
                <a:cubicBezTo>
                  <a:pt x="195" y="40"/>
                  <a:pt x="390" y="0"/>
                  <a:pt x="502" y="81"/>
                </a:cubicBezTo>
                <a:cubicBezTo>
                  <a:pt x="614" y="162"/>
                  <a:pt x="639" y="307"/>
                  <a:pt x="672" y="568"/>
                </a:cubicBezTo>
                <a:cubicBezTo>
                  <a:pt x="705" y="829"/>
                  <a:pt x="701" y="1407"/>
                  <a:pt x="702" y="1646"/>
                </a:cubicBezTo>
                <a:cubicBezTo>
                  <a:pt x="703" y="1885"/>
                  <a:pt x="744" y="1916"/>
                  <a:pt x="679" y="2001"/>
                </a:cubicBezTo>
                <a:cubicBezTo>
                  <a:pt x="614" y="2086"/>
                  <a:pt x="462" y="2121"/>
                  <a:pt x="310" y="2156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251840" y="1440000"/>
            <a:ext cx="1892160" cy="4808520"/>
          </a:xfrm>
          <a:custGeom>
            <a:avLst/>
            <a:gdLst/>
            <a:ahLst/>
            <a:rect l="l" t="t" r="r" b="b"/>
            <a:pathLst>
              <a:path w="1192" h="3029">
                <a:moveTo>
                  <a:pt x="58" y="16"/>
                </a:moveTo>
                <a:cubicBezTo>
                  <a:pt x="29" y="18"/>
                  <a:pt x="0" y="21"/>
                  <a:pt x="103" y="23"/>
                </a:cubicBezTo>
                <a:cubicBezTo>
                  <a:pt x="206" y="25"/>
                  <a:pt x="529" y="0"/>
                  <a:pt x="679" y="31"/>
                </a:cubicBezTo>
                <a:cubicBezTo>
                  <a:pt x="829" y="62"/>
                  <a:pt x="943" y="49"/>
                  <a:pt x="1003" y="208"/>
                </a:cubicBezTo>
                <a:cubicBezTo>
                  <a:pt x="1063" y="367"/>
                  <a:pt x="1024" y="567"/>
                  <a:pt x="1040" y="983"/>
                </a:cubicBezTo>
                <a:cubicBezTo>
                  <a:pt x="1056" y="1399"/>
                  <a:pt x="1192" y="2379"/>
                  <a:pt x="1099" y="2704"/>
                </a:cubicBezTo>
                <a:cubicBezTo>
                  <a:pt x="1006" y="3029"/>
                  <a:pt x="742" y="2981"/>
                  <a:pt x="479" y="2933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1800" y="1838160"/>
            <a:ext cx="1184040" cy="50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133880" y="1312920"/>
            <a:ext cx="194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rame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22720" y="1319040"/>
            <a:ext cx="2062080" cy="9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6960" y="1085760"/>
            <a:ext cx="3181320" cy="303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52920" y="108756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79320" y="1522440"/>
            <a:ext cx="2718000" cy="21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30440" y="152388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93600" y="1995480"/>
            <a:ext cx="2303640" cy="149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30720" y="199692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5720" y="4902120"/>
            <a:ext cx="48322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functi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t static nesting dep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use an arra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si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[j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frame pointer of the most rec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 frame for the enclosing function 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sting dep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33160" y="12826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[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29920" y="247320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[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50440" y="268920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[1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47200" y="418464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[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64680" y="2768760"/>
            <a:ext cx="2262600" cy="201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+) at run-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ly need a fix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mber of indir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find the value of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n-local vari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-) can use a lot of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 the stack, and sl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wn function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152B-6C79-41F3-B3DD-4AE27AFA45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07T12:58:29Z</dcterms:modified>
  <cp:revision>270</cp:revision>
  <dc:subject/>
  <dc:title>Slide 1</dc:title>
</cp:coreProperties>
</file>