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6FCA-A171-4710-BCA2-CE3911137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B830-8417-4412-9AE9-832F8162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6F41-E0AD-41A4-BE9B-1579687C6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FC62-5E62-49AD-8B41-2B9AB849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B0F5-DCE8-455E-8EEB-35636ECC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6860-AE21-49DE-BB70-94753D4A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30BB-0AEB-4DDF-A122-BFC2AAC0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68A4-D421-4937-8E39-99D8D32B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A56E-22F1-41D1-AB5C-57B654C3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EA6B-94F3-42E7-8D1D-49556829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96FC-EEF0-447D-87F1-F75CF39B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1239-1E71-43B4-9222-CB2A6BF3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7E19-5D5B-4AD5-B140-08F19BAA2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imeanddate.com/calendar/monthly.html?year=2007&amp;month=1&amp;country=1" TargetMode="External"/><Relationship Id="rId2" Type="http://schemas.openxmlformats.org/officeDocument/2006/relationships/hyperlink" Target="http://www.timeanddate.com/calendar/monthly.html?year=2007&amp;month=2&amp;country=1" TargetMode="External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, Revised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832120" y="1187280"/>
            <a:ext cx="443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exical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heory of Context Free Grammars (CFGs) and Predictive (recursive descent) Par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Variables, Scope, Typ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Machine abst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MinCaml middle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y code, linker, loa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MinCaml back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Garbage Coll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bject Ori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Interpreters, Byte Code interpreters, virtual mach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4920" y="1687680"/>
            <a:ext cx="2099160" cy="3987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an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2   3   4   5   6  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  9 10 11 12 13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16 17 18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br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3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6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8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7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2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4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7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55880" y="37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16280" y="279396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28880" y="392580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104240" y="1330200"/>
            <a:ext cx="233280" cy="1403640"/>
          </a:xfrm>
          <a:custGeom>
            <a:avLst/>
            <a:gdLst>
              <a:gd name="textAreaLeft" fmla="*/ 0 w 233280"/>
              <a:gd name="textAreaRight" fmla="*/ 84240 w 233280"/>
              <a:gd name="textAreaTop" fmla="*/ 36360 h 1403640"/>
              <a:gd name="textAreaBottom" fmla="*/ 1367280 h 14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81160" y="173196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ont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82000" y="4871880"/>
            <a:ext cx="198360" cy="1287720"/>
          </a:xfrm>
          <a:custGeom>
            <a:avLst/>
            <a:gdLst>
              <a:gd name="textAreaLeft" fmla="*/ 0 w 198360"/>
              <a:gd name="textAreaRight" fmla="*/ 71640 w 198360"/>
              <a:gd name="textAreaTop" fmla="*/ 33480 h 1287720"/>
              <a:gd name="textAreaBottom" fmla="*/ 1254240 h 128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61880" y="50245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2863800"/>
            <a:ext cx="183960" cy="965160"/>
          </a:xfrm>
          <a:custGeom>
            <a:avLst/>
            <a:gdLst>
              <a:gd name="textAreaLeft" fmla="*/ 0 w 183960"/>
              <a:gd name="textAreaRight" fmla="*/ 66240 w 183960"/>
              <a:gd name="textAreaTop" fmla="*/ 24840 h 965160"/>
              <a:gd name="textAreaBottom" fmla="*/ 940320 h 9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11320" y="468000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47080" y="4068720"/>
            <a:ext cx="207720" cy="514440"/>
          </a:xfrm>
          <a:custGeom>
            <a:avLst/>
            <a:gdLst>
              <a:gd name="textAreaLeft" fmla="*/ 0 w 207720"/>
              <a:gd name="textAreaRight" fmla="*/ 74880 w 207720"/>
              <a:gd name="textAreaTop" fmla="*/ 13320 h 514440"/>
              <a:gd name="textAreaBottom" fmla="*/ 501120 h 5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80800" y="3094200"/>
            <a:ext cx="12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ddle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03200" y="4260960"/>
            <a:ext cx="10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ck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2411-5829-49F4-8A8F-3A591FB62DD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8T23:26:11Z</dcterms:modified>
  <cp:revision>292</cp:revision>
  <dc:subject/>
  <dc:title>Slide 1</dc:title>
</cp:coreProperties>
</file>