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8AD7-01ED-4BF4-865C-5B695AB67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overall structure of the MinCaml compiler look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is a sequence of transformations from the source language to SPARC assemb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se numbers are the code lines of each modul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have lexing, parsing, type inference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am not going to lecture a full compiler cours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let’s have a short look at each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B488-5447-47F7-AE36-5DCA26BD2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B0A8-5372-4B12-B3EB-5DB76464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DB33-8443-474A-9556-E3AC4BC3E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F335-2745-48C5-96A4-7DADA0988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3886-40D1-41A4-B182-AF55195C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3FF2-BF1F-4E71-B58C-28C54B76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FBFB-68FB-4845-B271-00D17752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44B1-9A41-4DD8-B741-621E3395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D42B-8E0D-4262-BF18-0BC849F2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72A4-54DB-4C40-B988-7C910806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7FBD-CCAA-41A7-A3EA-926D1EC0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4422-38BA-4734-9739-A5123ACD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39A0-87E6-4AB3-84F4-5430B97CA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9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1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gister Machines and the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Min-Caml Middle-End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1AFB-6BA4-4B44-9238-97ADE22743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Knormaliza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8" name=""/>
          <p:cNvSpPr/>
          <p:nvPr/>
        </p:nvSpPr>
        <p:spPr>
          <a:xfrm>
            <a:off x="1129680" y="565200"/>
            <a:ext cx="548424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  : int =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c f  : (int) -&gt; (int) -&gt; int y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c g  : (int) -&gt; int z : int = ((x + y) + 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  : (int) -&gt; int = (f 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  : (int) -&gt; int = (f 8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  : int = ((first 99) + (second 44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(print_int resul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8120" y="2695680"/>
            <a:ext cx="0" cy="1182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68200" y="3263760"/>
            <a:ext cx="7404480" cy="319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  : int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  : (int) -&gt; (int) -&gt; int y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g  : (int) -&gt; int z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  : int = (x + y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Ti7 + 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  : (int) -&gt; int = let Ti1  : int = 21 in (f Ti1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  : (int) -&gt; int = let Ti2  : int = 88 in (f Ti2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  : int = let Ti4  : int = let Ti3  : int = 99 in (first Ti3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  : int = let Ti5  : int = 44 in (second Ti5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Ti4 + Ti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EXTERN(print_int resul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67C5-C7BB-4434-B564-F395F359EB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KNormaliz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630360" y="1030320"/>
            <a:ext cx="3533400" cy="4814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Bool of b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ot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q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 of 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Rec of fundef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 of t * 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rray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nd fundef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{ name : Id.t * Type.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(Id.t * Type.t) lis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23880" y="1100160"/>
            <a:ext cx="14684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yntax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84840" y="1076400"/>
            <a:ext cx="3762000" cy="46623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Eq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LE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Rec of fundef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Id.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Id.t *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Array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FunApp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nd fundef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{ name : Id.t * Type.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(Id.t * Type.t) lis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44240" y="6083280"/>
            <a:ext cx="69472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val Knormal.f : Syntax.t -&gt; Knormal.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68360" y="1235160"/>
            <a:ext cx="167112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normal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3A77-39F9-441F-BB29-D91E4D90C1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Simplification: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-Reduction, Nested "Let" Reduc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536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y in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[y/x]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3394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y = (let x =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1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)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1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in let y =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2120" y="3365640"/>
            <a:ext cx="862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28F9-54BA-4C9E-ABB6-542C5BEACE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Simplification: Inlin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Inlines all "small"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ludes recursive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mall" = less than a constant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-specified by "-inline"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eat for a constant number of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-specified by "-iter"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452E-C84F-4431-BB45-2F8B4BEBB5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Simplification: Constant Folding and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Unused Variable Elimina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3 in let y = 7 in x +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3 in let y = 7 in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y effective after inli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CCD3-0590-43D1-8B0C-C067C68F43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implifica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708120" y="2695680"/>
            <a:ext cx="0" cy="1182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06640" y="581040"/>
            <a:ext cx="6200280" cy="268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x  : int = 17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f  : (int) -&gt; (int) -&gt; int y : int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g  : (int) -&gt; int z : int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Ti7  : int = (x + y)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(Ti7 + z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first  : (int) -&gt; int = let Ti1  : int = 21 in (f Ti1)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second  : (int) -&gt; int = let Ti2  : int = 88 in (f Ti2)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result  : int = let Ti4  : int = let Ti3  : int = 99 in (first Ti3) 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Ti6  : int = let Ti5  : int = 44 in (second Ti5) 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(Ti4 + Ti6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EXTERN(print_int resul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51280" y="3406680"/>
            <a:ext cx="5301360" cy="319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.8  : int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.9  : (int) -&gt; (int) -&gt; in ty.10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g.20  : (int) -&gt; int z.21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.22  : int = (x.8 + y.10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Ti7.22 + z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1.19  : int             = 2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.11  : (int) -&gt; int  = (f.9 Ti1.19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2.18  : int             = 88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.12  : (int) -&gt; int = (f.9 Ti2.18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3.17  : int             = 99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4.14  : int             = (first.11 Ti3.1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5.16  : int             = 44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.15  : int             = (second.12 Ti5.1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.13  : int          = (Ti4.14 + Ti6.15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EXTERN(print_int result.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03F3-B2AC-4052-AC68-55019669CF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Closure Convers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 function definition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+   function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p-level function 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osure creation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make_clos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osure application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pply_clos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nown function call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pply_dir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74FD-A535-4D99-8C13-C4E332BAE7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Example 1: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Closure Creation/Applic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3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 y = x + y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f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[x] y = x + y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3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make_closure f = (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, [x])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pply_closure f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446B-31EA-42C2-BF5A-FA1DC2CFA4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Example 2: Known Function Cal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 x = x + 3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(f, f 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[] x = x + 3 ;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make_closure f = (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, [])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(f, apply_direct f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4346-2989-47BF-A164-F87F5A9285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Example 3: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Unused Closure Elimin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 x = x + 3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f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[] x = x + 3 ;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pply_direct f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69C1-37A5-48A0-9DF0-5C6BC290E0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 Black"/>
              </a:rPr>
              <a:t>Register Machine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Basic (Abstract) Operation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932040" y="4336920"/>
            <a:ext cx="197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2 op R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4280" y="13240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8760" y="1376280"/>
            <a:ext cx="478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data from memory location L to register 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8560" y="26002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47840" y="2666880"/>
            <a:ext cx="478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data from register R to memory location 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0520" y="4213080"/>
            <a:ext cx="541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form operation op in values in registers R2 and R3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hen store the result in register R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50320" y="1806480"/>
            <a:ext cx="13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R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59360" y="1752480"/>
            <a:ext cx="458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data from memory location stored in 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register 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58240" y="3171960"/>
            <a:ext cx="13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2]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46040" y="3129120"/>
            <a:ext cx="47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data from register R1 to memory lo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ed in 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5454-9A03-4C6F-B0AE-C6A4B85EAE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7280" y="378000"/>
            <a:ext cx="2511360" cy="1109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osure Convers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2182680"/>
            <a:ext cx="0" cy="1182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30800" y="200160"/>
            <a:ext cx="5301360" cy="319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.8  : int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.9  : (int) -&gt; (int) -&gt; in ty.10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g.20  : (int) -&gt; int z.21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.22  : int = (x.8 + y.10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Ti7.22 + z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1.19  : int             = 2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.11  : (int) -&gt; int  = (f.9 Ti1.19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2.18  : int             = 88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.12  : (int) -&gt; int = (f.9 Ti2.18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3.17  : int             = 99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4.14  : int             = (first.11 Ti3.1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5.16  : int             = 44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.15  : int             = (second.12 Ti5.1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.13  : int          = (Ti4.14 + Ti6.15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EXTERN(print_int result.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4320" y="3456000"/>
            <a:ext cx="7221600" cy="356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ABEL(g.20) [x.8 : int, y.10 : int] z.21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.22  : int = (x.8 + y.10) in (Ti7.22 + z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ABEL(f.9) [x.8 : int] y.10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closure g.20  : (int) -&gt; int = ( LABEL(g.20); [x.8, y.10] ) in g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.8  : int                          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closure f.9  : (int) -&gt; (int) -&gt; int = ( LABEL(f.9); [x.8] 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1.19  : int                        = 2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.11  : (int) -&gt; int             = APPLY_CLOSURE(f.9 Ti1.19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2.18  : int                        = 88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.12  : (int) -&gt; int            = APPLY_CLOSURE(f.9 Ti2.18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3.17  : int                        = 99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4.14  : int                        = APPLY_CLOSURE(first.11 Ti3.1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5.16  : int                        = 44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.15  : int                        = APPLY_CLOSURE(second.12 Ti5.1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.13  : int                     = (Ti4.14 + Ti6.15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PPLY_DIRECT(LABEL(min_caml_print_int) result.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DD71-0B34-4099-9C3E-FE3A155D88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osure Convers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2" name=""/>
          <p:cNvSpPr/>
          <p:nvPr/>
        </p:nvSpPr>
        <p:spPr>
          <a:xfrm>
            <a:off x="336600" y="1006560"/>
            <a:ext cx="3762000" cy="4814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Eq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LE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Rec of fundef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Id.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Id.t *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Array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FunApp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nd fundef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{ name : Id.t * Type.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(Id.t * Type.t) lis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1200" y="6059520"/>
            <a:ext cx="76788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val Closure.f : Knormal.t -&gt; Closure.pr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8640" y="1093680"/>
            <a:ext cx="167112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normal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84600" y="12207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16400" y="18781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334040" y="1017720"/>
            <a:ext cx="4295520" cy="4814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closure = { entry : Id.l; actual_fv : Id.t lis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Eq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LE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MakeCls of (Id.t * Type.t) * closure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Cls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Dir of Id.l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Id.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Id.t *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Array of Id.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fundef = { name : Id.l * Type.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Id.t * Type.t) lis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formal_fv : (Id.t * Type.t) lis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    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prog = Prog of fundef lis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68800" y="1744560"/>
            <a:ext cx="15692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losure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BE5A-0FEE-4FE0-B4EB-84B4296D191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6600" y="0"/>
            <a:ext cx="8528040" cy="54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ation as a sequence of small steps…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634320" y="3456000"/>
            <a:ext cx="7221600" cy="356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ABEL(g.20) [x.8 : int, y.10 : int] z.21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.22  : int = (x.8 + y.10) in (Ti7.22 + z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ABEL(f.9) [x.8 : int] y.10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closure g.20  : (int) -&gt; int = ( LABEL(g.20); [x.8, y.10] ) in g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.8  : int                          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closure f.9  : (int) -&gt; (int) -&gt; int = ( LABEL(f.9); [x.8] 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1.19  : int                        = 2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.11  : (int) -&gt; int             = APPLY_CLOSURE(f.9 Ti1.19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2.18  : int                        = 88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.12  : (int) -&gt; int            = APPLY_CLOSURE(f.9 Ti2.18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3.17  : int                        = 99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4.14  : int                        = APPLY_CLOSURE(first.11 Ti3.1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5.16  : int                        = 44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.15  : int                        = APPLY_CLOSURE(second.12 Ti5.1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.13  : int                     = (Ti4.14 + Ti6.15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PPLY_DIRECT(LABEL(min_caml_print_int) result.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71000" y="884160"/>
            <a:ext cx="4935600" cy="24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  =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c f  y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c g  z = ((x + y) + 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  = (f 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  = (f 8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  = ((first 99) + (second 44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(print_int resul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49520" y="1684440"/>
            <a:ext cx="12600" cy="177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585800"/>
            <a:ext cx="2612880" cy="23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x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-norm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osure 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C5A3-8AFD-48A0-9909-2A0CBA230D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7147-CCAD-49B8-B771-CB8AF07BC3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nother Example: ack.m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8" name=""/>
          <p:cNvSpPr/>
          <p:nvPr/>
        </p:nvSpPr>
        <p:spPr>
          <a:xfrm>
            <a:off x="1854000" y="1179360"/>
            <a:ext cx="5057640" cy="2040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rec ack x y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(x &lt;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(y +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(y &lt;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(ack (x - 1)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(ack (x - 1) (ack x (y - 1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n (print_int (ack 3 10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12840" y="4095720"/>
            <a:ext cx="6398640" cy="2284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rec ack  : (int, int) -&gt; int x : int y : int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(x &lt;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(y +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(y &lt;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(ack (x - 1)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(ack (x - 1) (ack x (y - 1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n (print_int (ack 3 10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27200" y="3013200"/>
            <a:ext cx="691920" cy="831600"/>
          </a:xfrm>
          <a:prstGeom prst="downArrow">
            <a:avLst>
              <a:gd name="adj1" fmla="val 50000"/>
              <a:gd name="adj2" fmla="val 3004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96400" y="34480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3B70-D884-403D-8DCF-0E02394FB46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KNormalization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3" name=""/>
          <p:cNvSpPr/>
          <p:nvPr/>
        </p:nvSpPr>
        <p:spPr>
          <a:xfrm>
            <a:off x="1806480" y="132732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44720" y="1619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17480" y="109872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17480" y="22208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55320" y="1569960"/>
            <a:ext cx="8318880" cy="44744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ack  : (int, int) -&gt; int x : int y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4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x &lt;= Ti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5  : int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y + Ti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6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y &lt;= Ti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8  : int = let Ti7  : int = 1 in (x - Ti7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9  : int = 1 in (ack Ti8 Ti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1  : int = let Ti10  : int = 1 in (x - Ti10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4  : int =  let Ti13  : int =  (let Ti12  : int = 1 in (y - Ti12)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    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ack x Ti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ack Ti11 Ti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3  : int = let Ti1  : int = 3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2  : int = 10 in (ack Ti1 Ti2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XTERN(print_int Ti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B670-BD22-455A-BCB5-94AA655A78D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fter Simplific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9" name=""/>
          <p:cNvSpPr/>
          <p:nvPr/>
        </p:nvSpPr>
        <p:spPr>
          <a:xfrm>
            <a:off x="284760" y="1057320"/>
            <a:ext cx="5392800" cy="5387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ack.15  : (int, int) -&gt; int x.16 : int y.17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4.21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x.16 &lt;= Ti4.2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5.31  : int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y.17 + Ti5.3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6.22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y.17 &lt;= Ti6.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7.30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8.28  : int = (x.16 - Ti7.30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9.29  : int =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ack.15 Ti8.28 Ti9.2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0.27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1.23  : int = (x.16 - Ti10.2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2.26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3.25  : int = (y.17 - Ti12.26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4.24  : int = (ack.15 x.16 Ti13.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ack.15 Ti11.23 Ti14.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.19  : int = 3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2.20  : int = 10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3.18  : int = (ack.15 Ti1.19 Ti2.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EXTERN(print_int Ti3.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87C9-1930-43FE-A288-E74283F2730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osure Convers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403560" y="1017720"/>
            <a:ext cx="6215760" cy="5387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ack.15  : (int, int) -&gt; int x.16 : int, y.17 : int 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4.21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x.16 &lt;= Ti4.2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5.31  : int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y.17 + Ti5.3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6.22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y.17 &lt;= Ti6.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7.30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8.28  : int = (x.16 - Ti7.30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9.29  : int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APPLY_DIRECT(ack.15 Ti8.28 Ti9.2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0.27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1.23  : int = (x.16 - Ti10.27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2.26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3.25  : int = (y.17 - Ti12.2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4.24  : int = APPLY_DIRECT(ack.15 x.16 Ti13.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APPLY_DIRECT(ack.15 Ti11.23 Ti14.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.19  : int = 3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2.20  : int = 10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3.18  : int = APPLY_DIRECT(ack.15 Ti1.19 Ti2.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APPLY_DIRECT(min_caml_print_int Ti3.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4F4D-6492-4542-BBF4-FC3BAAEE225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Yet another example : funcomp.m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3" name=""/>
          <p:cNvSpPr/>
          <p:nvPr/>
        </p:nvSpPr>
        <p:spPr>
          <a:xfrm>
            <a:off x="741240" y="2031840"/>
            <a:ext cx="749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compose f g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composed x = g (f x)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compose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dbl x = x + x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inc x = x + 1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dec x = x - 1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h = compose inc (compose dbl dec)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rint_int (h 1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D4BF-4F3E-473B-8F82-3977A903A8C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Machine to Register Machin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323640" y="1206360"/>
            <a:ext cx="49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simple translation that produces terrible cod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16400" y="2433600"/>
            <a:ext cx="111960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rith 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41520" y="2278080"/>
            <a:ext cx="1414800" cy="708120"/>
          </a:xfrm>
          <a:prstGeom prst="rightArrow">
            <a:avLst>
              <a:gd name="adj1" fmla="val 50000"/>
              <a:gd name="adj2" fmla="val 499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60000" y="3664080"/>
            <a:ext cx="192276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1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R2 op R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27960" y="4098960"/>
            <a:ext cx="126756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[SP]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70440" y="4595760"/>
            <a:ext cx="151272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31920" y="2727360"/>
            <a:ext cx="144864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13200" y="3200400"/>
            <a:ext cx="139860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3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[SP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21120" y="2257560"/>
            <a:ext cx="139860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2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[SP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03480" y="1798560"/>
            <a:ext cx="144864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4000" y="5656320"/>
            <a:ext cx="3196800" cy="824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his assumes that stack g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upwards, and SP always 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o the next free sl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7000" y="4352760"/>
            <a:ext cx="465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this defeats the whole point of registers 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are FAST local memory that shou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used to reduce CPU to memory traffi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A213-FF01-434A-8CD8-B744A9D705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 Better way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5" name=""/>
          <p:cNvSpPr/>
          <p:nvPr/>
        </p:nvSpPr>
        <p:spPr>
          <a:xfrm>
            <a:off x="402120" y="2322360"/>
            <a:ext cx="142740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Program 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13120" y="2511360"/>
            <a:ext cx="8157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32400" y="2570040"/>
            <a:ext cx="8157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58840" y="2039760"/>
            <a:ext cx="1427400" cy="1067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Give explic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ames to 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51560" y="2135160"/>
            <a:ext cx="2465280" cy="1067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Generat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or an abstra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Machine with an infin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umber of regist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62880" y="3236760"/>
            <a:ext cx="10800" cy="901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648040" y="4143240"/>
            <a:ext cx="3252960" cy="15541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Perform “Register Allocation”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map abstract registers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ctual machine register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“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pilling” registers into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only when you run out of actu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registe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91080" y="4908600"/>
            <a:ext cx="816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38960" y="4745160"/>
            <a:ext cx="16484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mit assemb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EAF2-114F-44D6-837C-B531785E01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498600" y="644400"/>
            <a:ext cx="7580520" cy="5685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11560" y="6334200"/>
            <a:ext cx="40820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http://min-caml.sourceforge.ne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t’s look at the MinCaml Middle-End!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5604120" y="1176480"/>
            <a:ext cx="3533400" cy="4814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Bool of b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ot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q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 of 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Rec of fundef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 of t * 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rray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nd fundef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{ name : Id.t * Type.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(Id.t * Type.t) lis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97640" y="1246320"/>
            <a:ext cx="14684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yntax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3A09-41E3-450B-A115-8BBB20CDA3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MinCaml Compiler Roadm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c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8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91" idx="3"/>
            <a:endCxn id="90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3" name=""/>
          <p:cNvCxnSpPr>
            <a:stCxn id="90" idx="3"/>
            <a:endCxn id="93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4" name=""/>
          <p:cNvCxnSpPr>
            <a:stCxn id="93" idx="3"/>
            <a:endCxn id="92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5" name=""/>
          <p:cNvCxnSpPr>
            <a:stCxn id="97" idx="2"/>
            <a:endCxn id="96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6" name=""/>
          <p:cNvCxnSpPr>
            <a:stCxn id="101" idx="3"/>
            <a:endCxn id="91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7" name=""/>
          <p:cNvCxnSpPr/>
          <p:nvPr/>
        </p:nvCxnSpPr>
        <p:spPr>
          <a:xfrm>
            <a:off x="8494200" y="2813040"/>
            <a:ext cx="1080" cy="1038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8" name=""/>
          <p:cNvCxnSpPr>
            <a:stCxn id="95" idx="1"/>
            <a:endCxn id="94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9" name=""/>
          <p:cNvCxnSpPr>
            <a:stCxn id="94" idx="1"/>
            <a:endCxn id="97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0" name=""/>
          <p:cNvCxnSpPr>
            <a:stCxn id="96" idx="3"/>
            <a:endCxn id="99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1" name=""/>
          <p:cNvCxnSpPr>
            <a:stCxn id="99" idx="3"/>
            <a:endCxn id="98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2" name=""/>
          <p:cNvCxnSpPr>
            <a:stCxn id="98" idx="3"/>
            <a:endCxn id="113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4" name=""/>
          <p:cNvCxnSpPr>
            <a:stCxn id="97" idx="0"/>
            <a:endCxn id="115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27700000"/>
              <a:gd name="adj2" fmla="val 49997"/>
              <a:gd name="adj3" fmla="val -27700000"/>
            </a:avLst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16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5" idx="1"/>
            <a:endCxn id="128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30" name=""/>
          <p:cNvCxnSpPr>
            <a:stCxn id="128" idx="1"/>
            <a:endCxn id="95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1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13" idx="3"/>
            <a:endCxn id="100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4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4800" y="1230480"/>
            <a:ext cx="33735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tages, with lines of ocaml cod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B8C2-5CDD-4DAC-B13E-1E0A1DECC1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utting it all together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7" name=""/>
          <p:cNvSpPr/>
          <p:nvPr/>
        </p:nvSpPr>
        <p:spPr>
          <a:xfrm>
            <a:off x="284040" y="1047600"/>
            <a:ext cx="8379000" cy="47178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rec iter n e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n = 0 then e 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e' = Elim.f (ConstFold.f (Inline.f (Assoc.f (Beta.f e))))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e = e' then e else iter (n - 1) e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lexbuf outchan l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d.counter :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yping.extenv := M.empt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mit.f outch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RegAlloc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Simm13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Virtual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Closure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iter !li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Alpha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KNormal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Typing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Parser.exp Lexer.token l))))))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40600" y="3211560"/>
            <a:ext cx="24681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rom min-caml/main.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94440" y="6105600"/>
            <a:ext cx="19972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lean code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5B0A-29E6-4915-9757-09E3BA9552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K-Normaliz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 + b + c *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tmp1 = a + b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tmp2 = c * d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tmp1 + tmp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st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llow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(let y =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1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)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B6DA-5CEE-4EC4-8EDD-A733BFDE36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Example.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1863720" y="617400"/>
            <a:ext cx="5727960" cy="286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x  =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c f  y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c g  z = ((x + y) + 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first  = (f 2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second  = (f 8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sult  = ((first 99) + (second 44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(print_int resu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78480" y="3652920"/>
            <a:ext cx="6368040" cy="26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x  : int =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c f  : (int) -&gt; (int) -&gt; int y : int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c g  : (int) -&gt; int z : int = ((x + y) + 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first  : (int) -&gt; int = (f 2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second  : (int) -&gt; int = (f 8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sult  : int = ((first 99) + (second 44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(print_int resu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36840" y="2975040"/>
            <a:ext cx="0" cy="1182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5880" y="34369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BC57-4221-4750-807F-34E74C6159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15T20:28:48Z</dcterms:modified>
  <cp:revision>295</cp:revision>
  <dc:subject/>
  <dc:title>Slide 1</dc:title>
</cp:coreProperties>
</file>