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8160D9-980C-4B76-93B9-C2652C121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6a040a"/>
                </a:gs>
                <a:gs pos="50000">
                  <a:srgbClr val="d50915"/>
                </a:gs>
                <a:gs pos="100000">
                  <a:srgbClr val="6a040a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afb100"/>
                </a:gs>
                <a:gs pos="50000">
                  <a:srgbClr val="fafd00"/>
                </a:gs>
                <a:gs pos="100000">
                  <a:srgbClr val="afb10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204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OPENSIG ‘97, Cambrid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2560" y="3457440"/>
            <a:ext cx="7953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nathan M.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8640" y="4299120"/>
            <a:ext cx="8104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. Penn./Camb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(with D. Farber, C. Gunter, S. Kannan, I.Lee and S. Nett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79720" y="5491080"/>
            <a:ext cx="12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5038560"/>
            <a:ext cx="79534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2080" y="2160720"/>
            <a:ext cx="6764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1840" y="2119320"/>
            <a:ext cx="867888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Self-Checking Active Net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Integrity: Nodes vs.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mple Problem: Denial-of-Service Attack on 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ssive Solution: IP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rel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fensiv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ields selected Admin. dom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t with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work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ctive Defenses! (Offenses?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f-Checking Active Network (SC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5053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39625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8862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14400" y="35812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58128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38098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295280" y="38862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505320"/>
            <a:ext cx="838440" cy="228960"/>
          </a:xfrm>
          <a:custGeom>
            <a:avLst/>
            <a:gdLst/>
            <a:ahLst/>
            <a:rect l="0" t="0" r="r" b="b"/>
            <a:pathLst>
              <a:path fill="none" w="2329" h="636">
                <a:moveTo>
                  <a:pt x="2329" y="636"/>
                </a:moveTo>
                <a:lnTo>
                  <a:pt x="2329" y="636"/>
                </a:lnTo>
                <a:cubicBezTo>
                  <a:pt x="2328" y="525"/>
                  <a:pt x="2221" y="415"/>
                  <a:pt x="2017" y="319"/>
                </a:cubicBezTo>
                <a:cubicBezTo>
                  <a:pt x="1813" y="222"/>
                  <a:pt x="1519" y="141"/>
                  <a:pt x="1165" y="85"/>
                </a:cubicBezTo>
                <a:cubicBezTo>
                  <a:pt x="810" y="29"/>
                  <a:pt x="409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5638680"/>
            <a:ext cx="1143000" cy="4572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5257800"/>
            <a:ext cx="990720" cy="12193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5638680"/>
            <a:ext cx="1143000" cy="4572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346480" y="5668920"/>
            <a:ext cx="495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74747"/>
                </a:solidFill>
                <a:latin typeface="Arial"/>
                <a:ea typeface="Arial"/>
              </a:rPr>
              <a:t>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37040" y="56689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74747"/>
                </a:solidFill>
                <a:latin typeface="Arial"/>
                <a:ea typeface="Arial"/>
              </a:rPr>
              <a:t>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69960" y="4175280"/>
            <a:ext cx="135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9625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358128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1911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5053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380988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44197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3581280"/>
            <a:ext cx="228600" cy="3049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4572000"/>
            <a:ext cx="228600" cy="3049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3733920"/>
            <a:ext cx="22860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4648320"/>
            <a:ext cx="22860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3733920"/>
            <a:ext cx="76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715000" y="411480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867280" y="3581280"/>
            <a:ext cx="30492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403848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3657600"/>
            <a:ext cx="7632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019920" y="3886200"/>
            <a:ext cx="3808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4495680"/>
            <a:ext cx="60984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705720" y="3733920"/>
            <a:ext cx="3045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4648320"/>
            <a:ext cx="76680" cy="228960"/>
          </a:xfrm>
          <a:custGeom>
            <a:avLst/>
            <a:gdLst/>
            <a:ahLst/>
            <a:rect l="0" t="0" r="r" b="b"/>
            <a:pathLst>
              <a:path fill="none" w="213" h="636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29"/>
                  <a:pt x="106" y="85"/>
                </a:cubicBezTo>
                <a:cubicBezTo>
                  <a:pt x="74" y="141"/>
                  <a:pt x="47" y="221"/>
                  <a:pt x="29" y="318"/>
                </a:cubicBezTo>
                <a:cubicBezTo>
                  <a:pt x="10" y="415"/>
                  <a:pt x="0" y="524"/>
                  <a:pt x="0" y="636"/>
                </a:cubicBezTo>
              </a:path>
            </a:pathLst>
          </a:custGeom>
          <a:ln w="12600">
            <a:solidFill>
              <a:srgbClr val="d5091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5867280"/>
            <a:ext cx="990720" cy="0"/>
          </a:xfrm>
          <a:prstGeom prst="line">
            <a:avLst/>
          </a:prstGeom>
          <a:ln w="76320">
            <a:solidFill>
              <a:srgbClr val="d50915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586728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5334120"/>
            <a:ext cx="838080" cy="380880"/>
          </a:xfrm>
          <a:prstGeom prst="rect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41760" y="543240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eck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4191120"/>
            <a:ext cx="1448280" cy="1143360"/>
          </a:xfrm>
          <a:custGeom>
            <a:avLst/>
            <a:gdLst/>
            <a:ahLst/>
            <a:rect l="0" t="0" r="r" b="b"/>
            <a:pathLst>
              <a:path fill="none" w="4023" h="3176">
                <a:moveTo>
                  <a:pt x="4023" y="3176"/>
                </a:moveTo>
                <a:lnTo>
                  <a:pt x="4023" y="3176"/>
                </a:lnTo>
                <a:lnTo>
                  <a:pt x="4023" y="3176"/>
                </a:lnTo>
                <a:cubicBezTo>
                  <a:pt x="4023" y="2618"/>
                  <a:pt x="3837" y="2071"/>
                  <a:pt x="3484" y="1588"/>
                </a:cubicBezTo>
                <a:cubicBezTo>
                  <a:pt x="3131" y="1105"/>
                  <a:pt x="2623" y="704"/>
                  <a:pt x="2011" y="426"/>
                </a:cubicBezTo>
                <a:cubicBezTo>
                  <a:pt x="1400" y="147"/>
                  <a:pt x="70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3657600"/>
            <a:ext cx="76680" cy="228960"/>
          </a:xfrm>
          <a:custGeom>
            <a:avLst/>
            <a:gdLst/>
            <a:ahLst/>
            <a:rect l="0" t="0" r="r" b="b"/>
            <a:pathLst>
              <a:path fill="none" w="213" h="636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29"/>
                  <a:pt x="106" y="85"/>
                </a:cubicBezTo>
                <a:cubicBezTo>
                  <a:pt x="74" y="141"/>
                  <a:pt x="47" y="221"/>
                  <a:pt x="29" y="318"/>
                </a:cubicBezTo>
                <a:cubicBezTo>
                  <a:pt x="10" y="415"/>
                  <a:pt x="0" y="524"/>
                  <a:pt x="0" y="636"/>
                </a:cubicBezTo>
              </a:path>
            </a:pathLst>
          </a:custGeom>
          <a:ln w="12600">
            <a:solidFill>
              <a:srgbClr val="d5091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7238880" y="3733920"/>
            <a:ext cx="304920" cy="75960"/>
          </a:xfrm>
          <a:prstGeom prst="line">
            <a:avLst/>
          </a:prstGeom>
          <a:ln w="12600">
            <a:solidFill>
              <a:srgbClr val="d5091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4724280"/>
            <a:ext cx="304560" cy="0"/>
          </a:xfrm>
          <a:prstGeom prst="line">
            <a:avLst/>
          </a:prstGeom>
          <a:ln w="12600">
            <a:solidFill>
              <a:srgbClr val="d50915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32280" y="44038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461280" y="524196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Contai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d50915"/>
                </a:solidFill>
                <a:latin typeface="Book Antiqua"/>
                <a:ea typeface="Book Antiqua"/>
              </a:rPr>
              <a:t>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llenges: Network Security and 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is: Safe and Secure Programmabl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ept: Protocol-&gt;Graph-&gt;Chec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thod: Switchlets implement Chec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ult: Self-Checking Active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ttp://www.cis.upenn.edu/~jms/SoftSwitch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ttp://www.cis.upenn.edu/~jms/SCAN-full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‘‘</a:t>
            </a: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ctive’’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981080"/>
            <a:ext cx="8510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celerate service creation with programmable network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lancing flexibility with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 hoc architectures difficult to tr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nn/Bellcore “SwitchWare” research (with Dave Sincoskie, Mark Segal and Bill Marcus at Bellc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lank Slate” look at nod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Routing IP Pack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del: Store and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124080"/>
            <a:ext cx="5638680" cy="1523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75080" y="3328920"/>
            <a:ext cx="3703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Dequeue Packet from In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Determine “best” Out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Queue Packet on Out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224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54864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548640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43200" y="46483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648320"/>
            <a:ext cx="0" cy="7617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410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48720" y="54864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SwitchWare swit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ore, COMPUTE and Forwar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124080"/>
            <a:ext cx="5638680" cy="1523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75080" y="3328920"/>
            <a:ext cx="37036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2224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4864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548640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46483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4648320"/>
            <a:ext cx="0" cy="7617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5410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4864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74880" y="2421000"/>
            <a:ext cx="2711520" cy="2552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43200" y="3505320"/>
            <a:ext cx="1676880" cy="1143360"/>
          </a:xfrm>
          <a:custGeom>
            <a:avLst/>
            <a:gdLst/>
            <a:ahLst/>
            <a:rect l="0" t="0" r="r" b="b"/>
            <a:pathLst>
              <a:path fill="none" w="4658" h="3176">
                <a:moveTo>
                  <a:pt x="4658" y="0"/>
                </a:moveTo>
                <a:lnTo>
                  <a:pt x="4658" y="0"/>
                </a:lnTo>
                <a:cubicBezTo>
                  <a:pt x="3840" y="0"/>
                  <a:pt x="3037" y="147"/>
                  <a:pt x="2329" y="426"/>
                </a:cubicBezTo>
                <a:cubicBezTo>
                  <a:pt x="1621" y="704"/>
                  <a:pt x="1033" y="1105"/>
                  <a:pt x="624" y="1588"/>
                </a:cubicBezTo>
                <a:cubicBezTo>
                  <a:pt x="215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95680"/>
            <a:ext cx="533160" cy="15264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3429000"/>
            <a:ext cx="304920" cy="152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5960" y="3710160"/>
            <a:ext cx="1098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955960" y="3710160"/>
            <a:ext cx="1098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Switch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d50915"/>
                </a:solidFill>
                <a:latin typeface="Book Antiqua"/>
                <a:ea typeface="Book Antiqua"/>
              </a:rPr>
              <a:t>Gunter’s Trilingual Model</a:t>
            </a:r>
            <a:br>
              <a:rPr sz="3200"/>
            </a:br>
            <a:r>
              <a:rPr b="0" lang="en-US" sz="3200" spc="-1" strike="noStrike">
                <a:solidFill>
                  <a:srgbClr val="d50915"/>
                </a:solidFill>
                <a:latin typeface="Book Antiqua"/>
                <a:ea typeface="Book Antiqua"/>
              </a:rPr>
              <a:t>and the SwitchWare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witchlet Language for users (S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stricted ML for formal seman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Wire Language for communicating (W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IL-like, perhaps proof-carry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frastructure Language for Virtual Machine (I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deally “ML++”; ML with SwitchWare run-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 SwitchWare Proto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Bridging in Ca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666880"/>
            <a:ext cx="4191120" cy="2209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962520"/>
            <a:ext cx="4190760" cy="0"/>
          </a:xfrm>
          <a:prstGeom prst="line">
            <a:avLst/>
          </a:prstGeom>
          <a:ln w="25560">
            <a:solidFill>
              <a:srgbClr val="474747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70360" y="4014720"/>
            <a:ext cx="8445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267080"/>
            <a:ext cx="609480" cy="60948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4267080"/>
            <a:ext cx="609480" cy="60948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727360" y="4341960"/>
            <a:ext cx="636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70560" y="4341960"/>
            <a:ext cx="793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Out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876920"/>
            <a:ext cx="144792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4876920"/>
            <a:ext cx="144792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03480" y="502776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AN #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2160" y="502776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AN #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5181480"/>
            <a:ext cx="609480" cy="228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5181480"/>
            <a:ext cx="609480" cy="228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727360" y="5127480"/>
            <a:ext cx="698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46880" y="5203800"/>
            <a:ext cx="698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2578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048120" y="48769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8769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533412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971800"/>
            <a:ext cx="2362320" cy="685800"/>
          </a:xfrm>
          <a:prstGeom prst="rect">
            <a:avLst/>
          </a:prstGeom>
          <a:solidFill>
            <a:srgbClr val="d49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0880" y="3046320"/>
            <a:ext cx="861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Ca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Syst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124080"/>
            <a:ext cx="11430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3200400"/>
            <a:ext cx="11430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327560" y="324648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Loa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65640" y="280368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18280" y="272736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048120" y="3962520"/>
            <a:ext cx="533160" cy="30456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81280" y="3657600"/>
            <a:ext cx="228600" cy="30492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657600"/>
            <a:ext cx="609480" cy="30492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962520"/>
            <a:ext cx="0" cy="30456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809880" y="3505320"/>
            <a:ext cx="457200" cy="15228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3581280"/>
            <a:ext cx="76320" cy="7632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Hardware: x86 multiprocess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ared Memory MP as “Swit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124080"/>
            <a:ext cx="4952880" cy="2743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8769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35053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495288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5053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46280" y="36561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18480" y="36561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22240" y="50277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70760" y="5027760"/>
            <a:ext cx="884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OC3/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37339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889280" y="37321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51055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518148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37339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889280" y="51037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308640" y="37321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08640" y="518004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3581280"/>
            <a:ext cx="0" cy="205740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3581280"/>
            <a:ext cx="0" cy="205740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4572000"/>
            <a:ext cx="3657600" cy="0"/>
          </a:xfrm>
          <a:prstGeom prst="line">
            <a:avLst/>
          </a:prstGeom>
          <a:ln w="15228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7964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1808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5616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7056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95596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794040" y="4037040"/>
            <a:ext cx="46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3248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47056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4952880"/>
            <a:ext cx="3048120" cy="60948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89480" y="5013360"/>
            <a:ext cx="196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512 MB E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4572000"/>
            <a:ext cx="0" cy="380880"/>
          </a:xfrm>
          <a:prstGeom prst="line">
            <a:avLst/>
          </a:prstGeom>
          <a:ln w="15228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Lessons from prototy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6 Mbps vs. 32 Mbps for “C” equival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cremental Loa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ffered Rep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f-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anning Tree Algorithms (DEC &amp; IEE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tomatic STA Transition in &lt;0.1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://oilhead.cis.upenn.edu/~sa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From Nodes to 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tributed systems require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aph models (Cerf, Farber&amp;Post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ssage emissions on some ar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CK validity of message 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is of OVERSEER (Pickens&amp;Far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ch CHECKING is distributed &amp; sca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Nets can run CHEC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M. Smith</dc:creator>
  <dc:description/>
  <dc:language>en-US</dc:language>
  <cp:lastModifiedBy>Jonathan Smith</cp:lastModifiedBy>
  <cp:revision>0</cp:revision>
  <dc:subject>New use for programmable infrastructure</dc:subject>
  <dc:title>Self-Checking ACtive Networks</dc:title>
</cp:coreProperties>
</file>