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2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1" y="13"/>
                        </a:moveTo>
                        <a:lnTo>
                          <a:pt x="146" y="0"/>
                        </a:lnTo>
                        <a:lnTo>
                          <a:pt x="208" y="97"/>
                        </a:lnTo>
                        <a:lnTo>
                          <a:pt x="199" y="380"/>
                        </a:lnTo>
                        <a:lnTo>
                          <a:pt x="243" y="380"/>
                        </a:lnTo>
                        <a:lnTo>
                          <a:pt x="252" y="415"/>
                        </a:lnTo>
                        <a:lnTo>
                          <a:pt x="266" y="477"/>
                        </a:lnTo>
                        <a:lnTo>
                          <a:pt x="275" y="512"/>
                        </a:lnTo>
                        <a:lnTo>
                          <a:pt x="310" y="499"/>
                        </a:lnTo>
                        <a:lnTo>
                          <a:pt x="337" y="441"/>
                        </a:lnTo>
                        <a:lnTo>
                          <a:pt x="345" y="477"/>
                        </a:lnTo>
                        <a:lnTo>
                          <a:pt x="328" y="525"/>
                        </a:lnTo>
                        <a:lnTo>
                          <a:pt x="310" y="561"/>
                        </a:lnTo>
                        <a:lnTo>
                          <a:pt x="301" y="636"/>
                        </a:lnTo>
                        <a:lnTo>
                          <a:pt x="262" y="672"/>
                        </a:lnTo>
                        <a:lnTo>
                          <a:pt x="234" y="685"/>
                        </a:lnTo>
                        <a:lnTo>
                          <a:pt x="199" y="720"/>
                        </a:lnTo>
                        <a:lnTo>
                          <a:pt x="190" y="756"/>
                        </a:lnTo>
                        <a:lnTo>
                          <a:pt x="199" y="795"/>
                        </a:lnTo>
                        <a:lnTo>
                          <a:pt x="208" y="831"/>
                        </a:lnTo>
                        <a:lnTo>
                          <a:pt x="164" y="853"/>
                        </a:lnTo>
                        <a:lnTo>
                          <a:pt x="137" y="866"/>
                        </a:lnTo>
                        <a:lnTo>
                          <a:pt x="111" y="879"/>
                        </a:lnTo>
                        <a:lnTo>
                          <a:pt x="93" y="866"/>
                        </a:lnTo>
                        <a:lnTo>
                          <a:pt x="52" y="853"/>
                        </a:lnTo>
                        <a:lnTo>
                          <a:pt x="35" y="831"/>
                        </a:lnTo>
                        <a:lnTo>
                          <a:pt x="52" y="804"/>
                        </a:lnTo>
                        <a:lnTo>
                          <a:pt x="89" y="795"/>
                        </a:lnTo>
                        <a:lnTo>
                          <a:pt x="111" y="734"/>
                        </a:lnTo>
                        <a:lnTo>
                          <a:pt x="111" y="707"/>
                        </a:lnTo>
                        <a:lnTo>
                          <a:pt x="89" y="685"/>
                        </a:lnTo>
                        <a:lnTo>
                          <a:pt x="52" y="644"/>
                        </a:lnTo>
                        <a:lnTo>
                          <a:pt x="26" y="644"/>
                        </a:lnTo>
                        <a:lnTo>
                          <a:pt x="8" y="636"/>
                        </a:lnTo>
                        <a:lnTo>
                          <a:pt x="0" y="596"/>
                        </a:lnTo>
                        <a:lnTo>
                          <a:pt x="8" y="574"/>
                        </a:lnTo>
                        <a:lnTo>
                          <a:pt x="26" y="574"/>
                        </a:lnTo>
                        <a:lnTo>
                          <a:pt x="52" y="561"/>
                        </a:lnTo>
                        <a:lnTo>
                          <a:pt x="89" y="525"/>
                        </a:lnTo>
                        <a:lnTo>
                          <a:pt x="102" y="512"/>
                        </a:lnTo>
                        <a:lnTo>
                          <a:pt x="120" y="380"/>
                        </a:lnTo>
                        <a:lnTo>
                          <a:pt x="102" y="340"/>
                        </a:lnTo>
                        <a:lnTo>
                          <a:pt x="79" y="318"/>
                        </a:lnTo>
                        <a:lnTo>
                          <a:pt x="70" y="243"/>
                        </a:lnTo>
                        <a:lnTo>
                          <a:pt x="79" y="171"/>
                        </a:lnTo>
                        <a:lnTo>
                          <a:pt x="89" y="123"/>
                        </a:lnTo>
                        <a:lnTo>
                          <a:pt x="111" y="1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30" y="0"/>
                        </a:lnTo>
                        <a:lnTo>
                          <a:pt x="640" y="194"/>
                        </a:lnTo>
                        <a:lnTo>
                          <a:pt x="521" y="366"/>
                        </a:lnTo>
                        <a:lnTo>
                          <a:pt x="521" y="441"/>
                        </a:lnTo>
                        <a:lnTo>
                          <a:pt x="494" y="464"/>
                        </a:lnTo>
                        <a:lnTo>
                          <a:pt x="424" y="464"/>
                        </a:lnTo>
                        <a:lnTo>
                          <a:pt x="336" y="561"/>
                        </a:lnTo>
                        <a:lnTo>
                          <a:pt x="260" y="662"/>
                        </a:lnTo>
                        <a:lnTo>
                          <a:pt x="207" y="746"/>
                        </a:lnTo>
                        <a:lnTo>
                          <a:pt x="207" y="671"/>
                        </a:lnTo>
                        <a:lnTo>
                          <a:pt x="110" y="684"/>
                        </a:lnTo>
                        <a:lnTo>
                          <a:pt x="70" y="684"/>
                        </a:lnTo>
                        <a:lnTo>
                          <a:pt x="0" y="684"/>
                        </a:lnTo>
                        <a:lnTo>
                          <a:pt x="97" y="561"/>
                        </a:lnTo>
                        <a:lnTo>
                          <a:pt x="127" y="503"/>
                        </a:lnTo>
                        <a:lnTo>
                          <a:pt x="163" y="503"/>
                        </a:lnTo>
                        <a:lnTo>
                          <a:pt x="233" y="402"/>
                        </a:lnTo>
                        <a:lnTo>
                          <a:pt x="260" y="402"/>
                        </a:lnTo>
                        <a:lnTo>
                          <a:pt x="260" y="393"/>
                        </a:lnTo>
                        <a:lnTo>
                          <a:pt x="295" y="352"/>
                        </a:lnTo>
                        <a:lnTo>
                          <a:pt x="336" y="352"/>
                        </a:lnTo>
                        <a:lnTo>
                          <a:pt x="322" y="242"/>
                        </a:lnTo>
                        <a:lnTo>
                          <a:pt x="327" y="242"/>
                        </a:lnTo>
                        <a:lnTo>
                          <a:pt x="371" y="185"/>
                        </a:lnTo>
                        <a:lnTo>
                          <a:pt x="389" y="233"/>
                        </a:lnTo>
                        <a:lnTo>
                          <a:pt x="459" y="145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2" y="0"/>
                        </a:lnTo>
                        <a:lnTo>
                          <a:pt x="115" y="48"/>
                        </a:lnTo>
                        <a:lnTo>
                          <a:pt x="244" y="48"/>
                        </a:lnTo>
                        <a:lnTo>
                          <a:pt x="226" y="110"/>
                        </a:lnTo>
                        <a:lnTo>
                          <a:pt x="244" y="185"/>
                        </a:lnTo>
                        <a:lnTo>
                          <a:pt x="200" y="185"/>
                        </a:lnTo>
                        <a:lnTo>
                          <a:pt x="191" y="199"/>
                        </a:lnTo>
                        <a:lnTo>
                          <a:pt x="164" y="208"/>
                        </a:lnTo>
                        <a:lnTo>
                          <a:pt x="191" y="393"/>
                        </a:lnTo>
                        <a:lnTo>
                          <a:pt x="115" y="380"/>
                        </a:lnTo>
                        <a:lnTo>
                          <a:pt x="44" y="318"/>
                        </a:lnTo>
                        <a:lnTo>
                          <a:pt x="44" y="199"/>
                        </a:lnTo>
                        <a:lnTo>
                          <a:pt x="44" y="145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70" y="164"/>
                      </a:moveTo>
                      <a:lnTo>
                        <a:pt x="0" y="354"/>
                      </a:lnTo>
                      <a:lnTo>
                        <a:pt x="26" y="429"/>
                      </a:lnTo>
                      <a:lnTo>
                        <a:pt x="136" y="442"/>
                      </a:lnTo>
                      <a:lnTo>
                        <a:pt x="234" y="442"/>
                      </a:lnTo>
                      <a:lnTo>
                        <a:pt x="269" y="368"/>
                      </a:lnTo>
                      <a:lnTo>
                        <a:pt x="287" y="292"/>
                      </a:lnTo>
                      <a:lnTo>
                        <a:pt x="389" y="292"/>
                      </a:lnTo>
                      <a:lnTo>
                        <a:pt x="371" y="177"/>
                      </a:lnTo>
                      <a:lnTo>
                        <a:pt x="371" y="61"/>
                      </a:lnTo>
                      <a:lnTo>
                        <a:pt x="269" y="0"/>
                      </a:lnTo>
                      <a:lnTo>
                        <a:pt x="261" y="128"/>
                      </a:lnTo>
                      <a:lnTo>
                        <a:pt x="318" y="203"/>
                      </a:lnTo>
                      <a:lnTo>
                        <a:pt x="225" y="203"/>
                      </a:lnTo>
                      <a:lnTo>
                        <a:pt x="189" y="252"/>
                      </a:lnTo>
                      <a:lnTo>
                        <a:pt x="70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8"/>
                        </a:moveTo>
                        <a:lnTo>
                          <a:pt x="44" y="310"/>
                        </a:lnTo>
                        <a:lnTo>
                          <a:pt x="98" y="297"/>
                        </a:lnTo>
                        <a:lnTo>
                          <a:pt x="172" y="323"/>
                        </a:lnTo>
                        <a:lnTo>
                          <a:pt x="235" y="323"/>
                        </a:lnTo>
                        <a:lnTo>
                          <a:pt x="244" y="212"/>
                        </a:lnTo>
                        <a:lnTo>
                          <a:pt x="226" y="137"/>
                        </a:lnTo>
                        <a:lnTo>
                          <a:pt x="181" y="48"/>
                        </a:lnTo>
                        <a:lnTo>
                          <a:pt x="137" y="48"/>
                        </a:lnTo>
                        <a:lnTo>
                          <a:pt x="124" y="0"/>
                        </a:lnTo>
                        <a:lnTo>
                          <a:pt x="62" y="0"/>
                        </a:lnTo>
                        <a:lnTo>
                          <a:pt x="62" y="9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2" y="0"/>
                        </a:moveTo>
                        <a:lnTo>
                          <a:pt x="155" y="13"/>
                        </a:lnTo>
                        <a:lnTo>
                          <a:pt x="191" y="123"/>
                        </a:lnTo>
                        <a:lnTo>
                          <a:pt x="235" y="185"/>
                        </a:lnTo>
                        <a:lnTo>
                          <a:pt x="200" y="239"/>
                        </a:lnTo>
                        <a:lnTo>
                          <a:pt x="235" y="300"/>
                        </a:lnTo>
                        <a:lnTo>
                          <a:pt x="218" y="375"/>
                        </a:lnTo>
                        <a:lnTo>
                          <a:pt x="182" y="411"/>
                        </a:lnTo>
                        <a:lnTo>
                          <a:pt x="115" y="397"/>
                        </a:lnTo>
                        <a:lnTo>
                          <a:pt x="71" y="397"/>
                        </a:lnTo>
                        <a:lnTo>
                          <a:pt x="44" y="349"/>
                        </a:lnTo>
                        <a:lnTo>
                          <a:pt x="17" y="287"/>
                        </a:lnTo>
                        <a:lnTo>
                          <a:pt x="17" y="225"/>
                        </a:lnTo>
                        <a:lnTo>
                          <a:pt x="0" y="136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1" y="0"/>
                        </a:moveTo>
                        <a:lnTo>
                          <a:pt x="111" y="61"/>
                        </a:lnTo>
                        <a:lnTo>
                          <a:pt x="164" y="48"/>
                        </a:lnTo>
                        <a:lnTo>
                          <a:pt x="243" y="61"/>
                        </a:lnTo>
                        <a:lnTo>
                          <a:pt x="315" y="61"/>
                        </a:lnTo>
                        <a:lnTo>
                          <a:pt x="345" y="97"/>
                        </a:lnTo>
                        <a:lnTo>
                          <a:pt x="390" y="185"/>
                        </a:lnTo>
                        <a:lnTo>
                          <a:pt x="416" y="221"/>
                        </a:lnTo>
                        <a:lnTo>
                          <a:pt x="319" y="243"/>
                        </a:lnTo>
                        <a:lnTo>
                          <a:pt x="296" y="269"/>
                        </a:lnTo>
                        <a:lnTo>
                          <a:pt x="319" y="318"/>
                        </a:lnTo>
                        <a:lnTo>
                          <a:pt x="319" y="367"/>
                        </a:lnTo>
                        <a:lnTo>
                          <a:pt x="225" y="318"/>
                        </a:lnTo>
                        <a:lnTo>
                          <a:pt x="146" y="283"/>
                        </a:lnTo>
                        <a:lnTo>
                          <a:pt x="111" y="296"/>
                        </a:lnTo>
                        <a:lnTo>
                          <a:pt x="111" y="367"/>
                        </a:lnTo>
                        <a:lnTo>
                          <a:pt x="61" y="380"/>
                        </a:lnTo>
                        <a:lnTo>
                          <a:pt x="35" y="318"/>
                        </a:lnTo>
                        <a:lnTo>
                          <a:pt x="26" y="243"/>
                        </a:lnTo>
                        <a:lnTo>
                          <a:pt x="0" y="234"/>
                        </a:lnTo>
                        <a:lnTo>
                          <a:pt x="26" y="158"/>
                        </a:lnTo>
                        <a:lnTo>
                          <a:pt x="70" y="136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3" y="0"/>
                      </a:moveTo>
                      <a:lnTo>
                        <a:pt x="2228" y="0"/>
                      </a:lnTo>
                      <a:lnTo>
                        <a:pt x="2228" y="246"/>
                      </a:lnTo>
                      <a:lnTo>
                        <a:pt x="2290" y="308"/>
                      </a:lnTo>
                      <a:lnTo>
                        <a:pt x="2308" y="343"/>
                      </a:lnTo>
                      <a:lnTo>
                        <a:pt x="2343" y="343"/>
                      </a:lnTo>
                      <a:lnTo>
                        <a:pt x="2356" y="392"/>
                      </a:lnTo>
                      <a:lnTo>
                        <a:pt x="2374" y="639"/>
                      </a:lnTo>
                      <a:lnTo>
                        <a:pt x="2462" y="799"/>
                      </a:lnTo>
                      <a:lnTo>
                        <a:pt x="2590" y="1032"/>
                      </a:lnTo>
                      <a:lnTo>
                        <a:pt x="2590" y="1068"/>
                      </a:lnTo>
                      <a:lnTo>
                        <a:pt x="2727" y="1266"/>
                      </a:lnTo>
                      <a:lnTo>
                        <a:pt x="2727" y="1301"/>
                      </a:lnTo>
                      <a:lnTo>
                        <a:pt x="2863" y="1460"/>
                      </a:lnTo>
                      <a:lnTo>
                        <a:pt x="2881" y="1742"/>
                      </a:lnTo>
                      <a:lnTo>
                        <a:pt x="2863" y="2003"/>
                      </a:lnTo>
                      <a:lnTo>
                        <a:pt x="2819" y="2122"/>
                      </a:lnTo>
                      <a:lnTo>
                        <a:pt x="2771" y="2183"/>
                      </a:lnTo>
                      <a:lnTo>
                        <a:pt x="2753" y="2308"/>
                      </a:lnTo>
                      <a:lnTo>
                        <a:pt x="2700" y="2418"/>
                      </a:lnTo>
                      <a:lnTo>
                        <a:pt x="2656" y="2467"/>
                      </a:lnTo>
                      <a:lnTo>
                        <a:pt x="2665" y="2506"/>
                      </a:lnTo>
                      <a:lnTo>
                        <a:pt x="2616" y="2577"/>
                      </a:lnTo>
                      <a:lnTo>
                        <a:pt x="2590" y="2740"/>
                      </a:lnTo>
                      <a:lnTo>
                        <a:pt x="2581" y="2824"/>
                      </a:lnTo>
                      <a:lnTo>
                        <a:pt x="2528" y="2859"/>
                      </a:lnTo>
                      <a:lnTo>
                        <a:pt x="2519" y="2899"/>
                      </a:lnTo>
                      <a:lnTo>
                        <a:pt x="2489" y="2974"/>
                      </a:lnTo>
                      <a:lnTo>
                        <a:pt x="2427" y="2982"/>
                      </a:lnTo>
                      <a:lnTo>
                        <a:pt x="2383" y="3009"/>
                      </a:lnTo>
                      <a:lnTo>
                        <a:pt x="2325" y="3057"/>
                      </a:lnTo>
                      <a:lnTo>
                        <a:pt x="2246" y="2960"/>
                      </a:lnTo>
                      <a:lnTo>
                        <a:pt x="2162" y="2974"/>
                      </a:lnTo>
                      <a:lnTo>
                        <a:pt x="2135" y="2974"/>
                      </a:lnTo>
                      <a:lnTo>
                        <a:pt x="2016" y="2996"/>
                      </a:lnTo>
                      <a:lnTo>
                        <a:pt x="1936" y="2899"/>
                      </a:lnTo>
                      <a:lnTo>
                        <a:pt x="1888" y="2802"/>
                      </a:lnTo>
                      <a:lnTo>
                        <a:pt x="1853" y="2810"/>
                      </a:lnTo>
                      <a:lnTo>
                        <a:pt x="1817" y="2727"/>
                      </a:lnTo>
                      <a:lnTo>
                        <a:pt x="1800" y="2652"/>
                      </a:lnTo>
                      <a:lnTo>
                        <a:pt x="1782" y="2630"/>
                      </a:lnTo>
                      <a:lnTo>
                        <a:pt x="1782" y="2506"/>
                      </a:lnTo>
                      <a:lnTo>
                        <a:pt x="1791" y="2431"/>
                      </a:lnTo>
                      <a:lnTo>
                        <a:pt x="1773" y="2383"/>
                      </a:lnTo>
                      <a:lnTo>
                        <a:pt x="1707" y="2405"/>
                      </a:lnTo>
                      <a:lnTo>
                        <a:pt x="1672" y="2418"/>
                      </a:lnTo>
                      <a:lnTo>
                        <a:pt x="1610" y="2418"/>
                      </a:lnTo>
                      <a:lnTo>
                        <a:pt x="1588" y="2418"/>
                      </a:lnTo>
                      <a:lnTo>
                        <a:pt x="1562" y="2418"/>
                      </a:lnTo>
                      <a:lnTo>
                        <a:pt x="1517" y="2347"/>
                      </a:lnTo>
                      <a:lnTo>
                        <a:pt x="1473" y="2245"/>
                      </a:lnTo>
                      <a:lnTo>
                        <a:pt x="1465" y="2258"/>
                      </a:lnTo>
                      <a:lnTo>
                        <a:pt x="1390" y="2258"/>
                      </a:lnTo>
                      <a:lnTo>
                        <a:pt x="1381" y="2223"/>
                      </a:lnTo>
                      <a:lnTo>
                        <a:pt x="1337" y="2258"/>
                      </a:lnTo>
                      <a:lnTo>
                        <a:pt x="1293" y="2245"/>
                      </a:lnTo>
                      <a:lnTo>
                        <a:pt x="1226" y="2245"/>
                      </a:lnTo>
                      <a:lnTo>
                        <a:pt x="1182" y="2223"/>
                      </a:lnTo>
                      <a:lnTo>
                        <a:pt x="1165" y="2258"/>
                      </a:lnTo>
                      <a:lnTo>
                        <a:pt x="1099" y="2272"/>
                      </a:lnTo>
                      <a:lnTo>
                        <a:pt x="1081" y="2245"/>
                      </a:lnTo>
                      <a:lnTo>
                        <a:pt x="1037" y="2308"/>
                      </a:lnTo>
                      <a:lnTo>
                        <a:pt x="984" y="2370"/>
                      </a:lnTo>
                      <a:lnTo>
                        <a:pt x="953" y="2370"/>
                      </a:lnTo>
                      <a:lnTo>
                        <a:pt x="900" y="2444"/>
                      </a:lnTo>
                      <a:lnTo>
                        <a:pt x="825" y="2444"/>
                      </a:lnTo>
                      <a:lnTo>
                        <a:pt x="763" y="2467"/>
                      </a:lnTo>
                      <a:lnTo>
                        <a:pt x="692" y="2506"/>
                      </a:lnTo>
                      <a:lnTo>
                        <a:pt x="661" y="2555"/>
                      </a:lnTo>
                      <a:lnTo>
                        <a:pt x="635" y="2542"/>
                      </a:lnTo>
                      <a:lnTo>
                        <a:pt x="608" y="2590"/>
                      </a:lnTo>
                      <a:lnTo>
                        <a:pt x="573" y="2603"/>
                      </a:lnTo>
                      <a:lnTo>
                        <a:pt x="529" y="2665"/>
                      </a:lnTo>
                      <a:lnTo>
                        <a:pt x="392" y="2665"/>
                      </a:lnTo>
                      <a:lnTo>
                        <a:pt x="335" y="2577"/>
                      </a:lnTo>
                      <a:lnTo>
                        <a:pt x="326" y="2542"/>
                      </a:lnTo>
                      <a:lnTo>
                        <a:pt x="308" y="2577"/>
                      </a:lnTo>
                      <a:lnTo>
                        <a:pt x="282" y="2519"/>
                      </a:lnTo>
                      <a:lnTo>
                        <a:pt x="291" y="2356"/>
                      </a:lnTo>
                      <a:lnTo>
                        <a:pt x="308" y="2258"/>
                      </a:lnTo>
                      <a:lnTo>
                        <a:pt x="282" y="2183"/>
                      </a:lnTo>
                      <a:lnTo>
                        <a:pt x="255" y="2113"/>
                      </a:lnTo>
                      <a:lnTo>
                        <a:pt x="246" y="2025"/>
                      </a:lnTo>
                      <a:lnTo>
                        <a:pt x="207" y="1989"/>
                      </a:lnTo>
                      <a:lnTo>
                        <a:pt x="198" y="1976"/>
                      </a:lnTo>
                      <a:lnTo>
                        <a:pt x="189" y="1941"/>
                      </a:lnTo>
                      <a:lnTo>
                        <a:pt x="127" y="1831"/>
                      </a:lnTo>
                      <a:lnTo>
                        <a:pt x="52" y="1557"/>
                      </a:lnTo>
                      <a:lnTo>
                        <a:pt x="26" y="1376"/>
                      </a:lnTo>
                      <a:lnTo>
                        <a:pt x="26" y="1266"/>
                      </a:lnTo>
                      <a:lnTo>
                        <a:pt x="0" y="1226"/>
                      </a:lnTo>
                      <a:lnTo>
                        <a:pt x="8" y="1129"/>
                      </a:lnTo>
                      <a:lnTo>
                        <a:pt x="35" y="1081"/>
                      </a:lnTo>
                      <a:lnTo>
                        <a:pt x="127" y="944"/>
                      </a:lnTo>
                      <a:lnTo>
                        <a:pt x="224" y="957"/>
                      </a:lnTo>
                      <a:lnTo>
                        <a:pt x="238" y="984"/>
                      </a:lnTo>
                      <a:lnTo>
                        <a:pt x="361" y="984"/>
                      </a:lnTo>
                      <a:lnTo>
                        <a:pt x="370" y="944"/>
                      </a:lnTo>
                      <a:lnTo>
                        <a:pt x="392" y="957"/>
                      </a:lnTo>
                      <a:lnTo>
                        <a:pt x="427" y="922"/>
                      </a:lnTo>
                      <a:lnTo>
                        <a:pt x="454" y="935"/>
                      </a:lnTo>
                      <a:lnTo>
                        <a:pt x="480" y="909"/>
                      </a:lnTo>
                      <a:lnTo>
                        <a:pt x="471" y="874"/>
                      </a:lnTo>
                      <a:lnTo>
                        <a:pt x="498" y="785"/>
                      </a:lnTo>
                      <a:lnTo>
                        <a:pt x="529" y="749"/>
                      </a:lnTo>
                      <a:lnTo>
                        <a:pt x="515" y="723"/>
                      </a:lnTo>
                      <a:lnTo>
                        <a:pt x="529" y="701"/>
                      </a:lnTo>
                      <a:lnTo>
                        <a:pt x="515" y="661"/>
                      </a:lnTo>
                      <a:lnTo>
                        <a:pt x="564" y="599"/>
                      </a:lnTo>
                      <a:lnTo>
                        <a:pt x="643" y="590"/>
                      </a:lnTo>
                      <a:lnTo>
                        <a:pt x="718" y="440"/>
                      </a:lnTo>
                      <a:lnTo>
                        <a:pt x="816" y="317"/>
                      </a:lnTo>
                      <a:lnTo>
                        <a:pt x="856" y="308"/>
                      </a:lnTo>
                      <a:lnTo>
                        <a:pt x="882" y="282"/>
                      </a:lnTo>
                      <a:lnTo>
                        <a:pt x="927" y="282"/>
                      </a:lnTo>
                      <a:lnTo>
                        <a:pt x="1002" y="379"/>
                      </a:lnTo>
                      <a:lnTo>
                        <a:pt x="1028" y="392"/>
                      </a:lnTo>
                      <a:lnTo>
                        <a:pt x="1054" y="343"/>
                      </a:lnTo>
                      <a:lnTo>
                        <a:pt x="1107" y="282"/>
                      </a:lnTo>
                      <a:lnTo>
                        <a:pt x="1138" y="268"/>
                      </a:lnTo>
                      <a:lnTo>
                        <a:pt x="1173" y="171"/>
                      </a:lnTo>
                      <a:lnTo>
                        <a:pt x="1209" y="158"/>
                      </a:lnTo>
                      <a:lnTo>
                        <a:pt x="1253" y="123"/>
                      </a:lnTo>
                      <a:lnTo>
                        <a:pt x="1293" y="83"/>
                      </a:lnTo>
                      <a:lnTo>
                        <a:pt x="1337" y="83"/>
                      </a:lnTo>
                      <a:lnTo>
                        <a:pt x="1372" y="35"/>
                      </a:lnTo>
                      <a:lnTo>
                        <a:pt x="1425" y="35"/>
                      </a:lnTo>
                      <a:lnTo>
                        <a:pt x="1482" y="35"/>
                      </a:lnTo>
                      <a:lnTo>
                        <a:pt x="1562" y="61"/>
                      </a:lnTo>
                      <a:lnTo>
                        <a:pt x="1610" y="110"/>
                      </a:lnTo>
                      <a:lnTo>
                        <a:pt x="1619" y="145"/>
                      </a:lnTo>
                      <a:lnTo>
                        <a:pt x="1628" y="171"/>
                      </a:lnTo>
                      <a:lnTo>
                        <a:pt x="1637" y="233"/>
                      </a:lnTo>
                      <a:lnTo>
                        <a:pt x="1628" y="255"/>
                      </a:lnTo>
                      <a:lnTo>
                        <a:pt x="1628" y="308"/>
                      </a:lnTo>
                      <a:lnTo>
                        <a:pt x="1619" y="343"/>
                      </a:lnTo>
                      <a:lnTo>
                        <a:pt x="1747" y="480"/>
                      </a:lnTo>
                      <a:lnTo>
                        <a:pt x="1791" y="551"/>
                      </a:lnTo>
                      <a:lnTo>
                        <a:pt x="1844" y="577"/>
                      </a:lnTo>
                      <a:lnTo>
                        <a:pt x="1897" y="612"/>
                      </a:lnTo>
                      <a:lnTo>
                        <a:pt x="1928" y="626"/>
                      </a:lnTo>
                      <a:lnTo>
                        <a:pt x="1980" y="590"/>
                      </a:lnTo>
                      <a:lnTo>
                        <a:pt x="2025" y="480"/>
                      </a:lnTo>
                      <a:lnTo>
                        <a:pt x="2042" y="392"/>
                      </a:lnTo>
                      <a:lnTo>
                        <a:pt x="2055" y="233"/>
                      </a:lnTo>
                      <a:lnTo>
                        <a:pt x="2073" y="158"/>
                      </a:lnTo>
                      <a:lnTo>
                        <a:pt x="20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19" y="61"/>
                      </a:lnTo>
                      <a:lnTo>
                        <a:pt x="224" y="61"/>
                      </a:lnTo>
                      <a:lnTo>
                        <a:pt x="317" y="61"/>
                      </a:lnTo>
                      <a:lnTo>
                        <a:pt x="388" y="61"/>
                      </a:lnTo>
                      <a:lnTo>
                        <a:pt x="436" y="74"/>
                      </a:lnTo>
                      <a:lnTo>
                        <a:pt x="507" y="111"/>
                      </a:lnTo>
                      <a:lnTo>
                        <a:pt x="542" y="195"/>
                      </a:lnTo>
                      <a:lnTo>
                        <a:pt x="573" y="234"/>
                      </a:lnTo>
                      <a:lnTo>
                        <a:pt x="635" y="221"/>
                      </a:lnTo>
                      <a:lnTo>
                        <a:pt x="705" y="221"/>
                      </a:lnTo>
                      <a:lnTo>
                        <a:pt x="780" y="269"/>
                      </a:lnTo>
                      <a:lnTo>
                        <a:pt x="834" y="292"/>
                      </a:lnTo>
                      <a:lnTo>
                        <a:pt x="869" y="292"/>
                      </a:lnTo>
                      <a:lnTo>
                        <a:pt x="878" y="234"/>
                      </a:lnTo>
                      <a:lnTo>
                        <a:pt x="900" y="195"/>
                      </a:lnTo>
                      <a:lnTo>
                        <a:pt x="1006" y="221"/>
                      </a:lnTo>
                      <a:lnTo>
                        <a:pt x="1090" y="221"/>
                      </a:lnTo>
                      <a:lnTo>
                        <a:pt x="1169" y="221"/>
                      </a:lnTo>
                      <a:lnTo>
                        <a:pt x="1226" y="256"/>
                      </a:lnTo>
                      <a:lnTo>
                        <a:pt x="1262" y="283"/>
                      </a:lnTo>
                      <a:lnTo>
                        <a:pt x="1323" y="269"/>
                      </a:lnTo>
                      <a:lnTo>
                        <a:pt x="1363" y="243"/>
                      </a:lnTo>
                      <a:lnTo>
                        <a:pt x="1390" y="221"/>
                      </a:lnTo>
                      <a:lnTo>
                        <a:pt x="1460" y="221"/>
                      </a:lnTo>
                      <a:lnTo>
                        <a:pt x="1504" y="195"/>
                      </a:lnTo>
                      <a:lnTo>
                        <a:pt x="1562" y="172"/>
                      </a:lnTo>
                      <a:lnTo>
                        <a:pt x="1597" y="172"/>
                      </a:lnTo>
                      <a:lnTo>
                        <a:pt x="1588" y="256"/>
                      </a:lnTo>
                      <a:lnTo>
                        <a:pt x="1570" y="292"/>
                      </a:lnTo>
                      <a:lnTo>
                        <a:pt x="1535" y="332"/>
                      </a:lnTo>
                      <a:lnTo>
                        <a:pt x="1504" y="332"/>
                      </a:lnTo>
                      <a:lnTo>
                        <a:pt x="1495" y="332"/>
                      </a:lnTo>
                      <a:lnTo>
                        <a:pt x="1451" y="341"/>
                      </a:lnTo>
                      <a:lnTo>
                        <a:pt x="1416" y="390"/>
                      </a:lnTo>
                      <a:lnTo>
                        <a:pt x="1381" y="381"/>
                      </a:lnTo>
                      <a:lnTo>
                        <a:pt x="1350" y="354"/>
                      </a:lnTo>
                      <a:lnTo>
                        <a:pt x="1315" y="381"/>
                      </a:lnTo>
                      <a:lnTo>
                        <a:pt x="1279" y="390"/>
                      </a:lnTo>
                      <a:lnTo>
                        <a:pt x="1253" y="390"/>
                      </a:lnTo>
                      <a:lnTo>
                        <a:pt x="1226" y="416"/>
                      </a:lnTo>
                      <a:lnTo>
                        <a:pt x="1160" y="416"/>
                      </a:lnTo>
                      <a:lnTo>
                        <a:pt x="1134" y="381"/>
                      </a:lnTo>
                      <a:lnTo>
                        <a:pt x="1099" y="332"/>
                      </a:lnTo>
                      <a:lnTo>
                        <a:pt x="1054" y="381"/>
                      </a:lnTo>
                      <a:lnTo>
                        <a:pt x="1032" y="416"/>
                      </a:lnTo>
                      <a:lnTo>
                        <a:pt x="997" y="416"/>
                      </a:lnTo>
                      <a:lnTo>
                        <a:pt x="935" y="332"/>
                      </a:lnTo>
                      <a:lnTo>
                        <a:pt x="918" y="341"/>
                      </a:lnTo>
                      <a:lnTo>
                        <a:pt x="882" y="341"/>
                      </a:lnTo>
                      <a:lnTo>
                        <a:pt x="860" y="390"/>
                      </a:lnTo>
                      <a:lnTo>
                        <a:pt x="807" y="381"/>
                      </a:lnTo>
                      <a:lnTo>
                        <a:pt x="754" y="381"/>
                      </a:lnTo>
                      <a:lnTo>
                        <a:pt x="727" y="354"/>
                      </a:lnTo>
                      <a:lnTo>
                        <a:pt x="696" y="332"/>
                      </a:lnTo>
                      <a:lnTo>
                        <a:pt x="643" y="341"/>
                      </a:lnTo>
                      <a:lnTo>
                        <a:pt x="590" y="390"/>
                      </a:lnTo>
                      <a:lnTo>
                        <a:pt x="560" y="381"/>
                      </a:lnTo>
                      <a:lnTo>
                        <a:pt x="507" y="354"/>
                      </a:lnTo>
                      <a:lnTo>
                        <a:pt x="445" y="319"/>
                      </a:lnTo>
                      <a:lnTo>
                        <a:pt x="396" y="319"/>
                      </a:lnTo>
                      <a:lnTo>
                        <a:pt x="291" y="283"/>
                      </a:lnTo>
                      <a:lnTo>
                        <a:pt x="224" y="256"/>
                      </a:lnTo>
                      <a:lnTo>
                        <a:pt x="180" y="243"/>
                      </a:lnTo>
                      <a:lnTo>
                        <a:pt x="110" y="234"/>
                      </a:lnTo>
                      <a:lnTo>
                        <a:pt x="70" y="181"/>
                      </a:lnTo>
                      <a:lnTo>
                        <a:pt x="26" y="172"/>
                      </a:lnTo>
                      <a:lnTo>
                        <a:pt x="8" y="159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3"/>
                      </a:lnTo>
                      <a:lnTo>
                        <a:pt x="516" y="13"/>
                      </a:lnTo>
                      <a:lnTo>
                        <a:pt x="605" y="0"/>
                      </a:lnTo>
                      <a:lnTo>
                        <a:pt x="724" y="74"/>
                      </a:lnTo>
                      <a:lnTo>
                        <a:pt x="644" y="97"/>
                      </a:lnTo>
                      <a:lnTo>
                        <a:pt x="605" y="136"/>
                      </a:lnTo>
                      <a:lnTo>
                        <a:pt x="578" y="158"/>
                      </a:lnTo>
                      <a:lnTo>
                        <a:pt x="561" y="185"/>
                      </a:lnTo>
                      <a:lnTo>
                        <a:pt x="561" y="207"/>
                      </a:lnTo>
                      <a:lnTo>
                        <a:pt x="561" y="246"/>
                      </a:lnTo>
                      <a:lnTo>
                        <a:pt x="508" y="268"/>
                      </a:lnTo>
                      <a:lnTo>
                        <a:pt x="464" y="268"/>
                      </a:lnTo>
                      <a:lnTo>
                        <a:pt x="450" y="282"/>
                      </a:lnTo>
                      <a:lnTo>
                        <a:pt x="406" y="282"/>
                      </a:lnTo>
                      <a:lnTo>
                        <a:pt x="389" y="246"/>
                      </a:lnTo>
                      <a:lnTo>
                        <a:pt x="352" y="198"/>
                      </a:lnTo>
                      <a:lnTo>
                        <a:pt x="317" y="158"/>
                      </a:lnTo>
                      <a:lnTo>
                        <a:pt x="251" y="158"/>
                      </a:lnTo>
                      <a:lnTo>
                        <a:pt x="233" y="158"/>
                      </a:lnTo>
                      <a:lnTo>
                        <a:pt x="216" y="220"/>
                      </a:lnTo>
                      <a:lnTo>
                        <a:pt x="224" y="282"/>
                      </a:lnTo>
                      <a:lnTo>
                        <a:pt x="224" y="317"/>
                      </a:lnTo>
                      <a:lnTo>
                        <a:pt x="233" y="357"/>
                      </a:lnTo>
                      <a:lnTo>
                        <a:pt x="268" y="343"/>
                      </a:lnTo>
                      <a:lnTo>
                        <a:pt x="317" y="308"/>
                      </a:lnTo>
                      <a:lnTo>
                        <a:pt x="352" y="308"/>
                      </a:lnTo>
                      <a:lnTo>
                        <a:pt x="380" y="330"/>
                      </a:lnTo>
                      <a:lnTo>
                        <a:pt x="380" y="357"/>
                      </a:lnTo>
                      <a:lnTo>
                        <a:pt x="361" y="406"/>
                      </a:lnTo>
                      <a:lnTo>
                        <a:pt x="352" y="428"/>
                      </a:lnTo>
                      <a:lnTo>
                        <a:pt x="352" y="455"/>
                      </a:lnTo>
                      <a:lnTo>
                        <a:pt x="343" y="490"/>
                      </a:lnTo>
                      <a:lnTo>
                        <a:pt x="361" y="530"/>
                      </a:lnTo>
                      <a:lnTo>
                        <a:pt x="397" y="578"/>
                      </a:lnTo>
                      <a:lnTo>
                        <a:pt x="406" y="565"/>
                      </a:lnTo>
                      <a:lnTo>
                        <a:pt x="406" y="613"/>
                      </a:lnTo>
                      <a:lnTo>
                        <a:pt x="389" y="653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6" y="772"/>
                      </a:lnTo>
                      <a:lnTo>
                        <a:pt x="299" y="772"/>
                      </a:lnTo>
                      <a:lnTo>
                        <a:pt x="273" y="772"/>
                      </a:lnTo>
                      <a:lnTo>
                        <a:pt x="273" y="724"/>
                      </a:lnTo>
                      <a:lnTo>
                        <a:pt x="268" y="640"/>
                      </a:lnTo>
                      <a:lnTo>
                        <a:pt x="242" y="613"/>
                      </a:lnTo>
                      <a:lnTo>
                        <a:pt x="233" y="578"/>
                      </a:lnTo>
                      <a:lnTo>
                        <a:pt x="242" y="503"/>
                      </a:lnTo>
                      <a:lnTo>
                        <a:pt x="216" y="481"/>
                      </a:lnTo>
                      <a:lnTo>
                        <a:pt x="154" y="503"/>
                      </a:lnTo>
                      <a:lnTo>
                        <a:pt x="127" y="481"/>
                      </a:lnTo>
                      <a:lnTo>
                        <a:pt x="101" y="516"/>
                      </a:lnTo>
                      <a:lnTo>
                        <a:pt x="127" y="543"/>
                      </a:lnTo>
                      <a:lnTo>
                        <a:pt x="171" y="565"/>
                      </a:lnTo>
                      <a:lnTo>
                        <a:pt x="180" y="591"/>
                      </a:lnTo>
                      <a:lnTo>
                        <a:pt x="207" y="640"/>
                      </a:lnTo>
                      <a:lnTo>
                        <a:pt x="207" y="675"/>
                      </a:lnTo>
                      <a:lnTo>
                        <a:pt x="180" y="737"/>
                      </a:lnTo>
                      <a:lnTo>
                        <a:pt x="145" y="785"/>
                      </a:lnTo>
                      <a:lnTo>
                        <a:pt x="127" y="799"/>
                      </a:lnTo>
                      <a:lnTo>
                        <a:pt x="127" y="763"/>
                      </a:lnTo>
                      <a:lnTo>
                        <a:pt x="127" y="724"/>
                      </a:lnTo>
                      <a:lnTo>
                        <a:pt x="136" y="675"/>
                      </a:lnTo>
                      <a:lnTo>
                        <a:pt x="92" y="640"/>
                      </a:lnTo>
                      <a:lnTo>
                        <a:pt x="52" y="600"/>
                      </a:lnTo>
                      <a:lnTo>
                        <a:pt x="44" y="565"/>
                      </a:lnTo>
                      <a:lnTo>
                        <a:pt x="0" y="543"/>
                      </a:lnTo>
                      <a:lnTo>
                        <a:pt x="8" y="481"/>
                      </a:lnTo>
                      <a:lnTo>
                        <a:pt x="44" y="441"/>
                      </a:lnTo>
                      <a:lnTo>
                        <a:pt x="70" y="379"/>
                      </a:lnTo>
                      <a:lnTo>
                        <a:pt x="92" y="317"/>
                      </a:lnTo>
                      <a:lnTo>
                        <a:pt x="101" y="255"/>
                      </a:lnTo>
                      <a:lnTo>
                        <a:pt x="92" y="198"/>
                      </a:lnTo>
                      <a:lnTo>
                        <a:pt x="110" y="171"/>
                      </a:lnTo>
                      <a:lnTo>
                        <a:pt x="127" y="145"/>
                      </a:lnTo>
                      <a:lnTo>
                        <a:pt x="101" y="97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7"/>
                      </a:moveTo>
                      <a:lnTo>
                        <a:pt x="163" y="194"/>
                      </a:lnTo>
                      <a:lnTo>
                        <a:pt x="246" y="123"/>
                      </a:lnTo>
                      <a:lnTo>
                        <a:pt x="291" y="61"/>
                      </a:lnTo>
                      <a:lnTo>
                        <a:pt x="419" y="0"/>
                      </a:lnTo>
                      <a:lnTo>
                        <a:pt x="490" y="132"/>
                      </a:lnTo>
                      <a:lnTo>
                        <a:pt x="561" y="74"/>
                      </a:lnTo>
                      <a:lnTo>
                        <a:pt x="583" y="35"/>
                      </a:lnTo>
                      <a:lnTo>
                        <a:pt x="644" y="0"/>
                      </a:lnTo>
                      <a:lnTo>
                        <a:pt x="680" y="0"/>
                      </a:lnTo>
                      <a:lnTo>
                        <a:pt x="688" y="48"/>
                      </a:lnTo>
                      <a:lnTo>
                        <a:pt x="688" y="83"/>
                      </a:lnTo>
                      <a:lnTo>
                        <a:pt x="653" y="145"/>
                      </a:lnTo>
                      <a:lnTo>
                        <a:pt x="653" y="180"/>
                      </a:lnTo>
                      <a:lnTo>
                        <a:pt x="746" y="340"/>
                      </a:lnTo>
                      <a:lnTo>
                        <a:pt x="763" y="437"/>
                      </a:lnTo>
                      <a:lnTo>
                        <a:pt x="790" y="437"/>
                      </a:lnTo>
                      <a:lnTo>
                        <a:pt x="799" y="486"/>
                      </a:lnTo>
                      <a:lnTo>
                        <a:pt x="763" y="534"/>
                      </a:lnTo>
                      <a:lnTo>
                        <a:pt x="737" y="512"/>
                      </a:lnTo>
                      <a:lnTo>
                        <a:pt x="680" y="547"/>
                      </a:lnTo>
                      <a:lnTo>
                        <a:pt x="688" y="644"/>
                      </a:lnTo>
                      <a:lnTo>
                        <a:pt x="618" y="706"/>
                      </a:lnTo>
                      <a:lnTo>
                        <a:pt x="618" y="866"/>
                      </a:lnTo>
                      <a:lnTo>
                        <a:pt x="618" y="972"/>
                      </a:lnTo>
                      <a:lnTo>
                        <a:pt x="583" y="1020"/>
                      </a:lnTo>
                      <a:lnTo>
                        <a:pt x="561" y="1095"/>
                      </a:lnTo>
                      <a:lnTo>
                        <a:pt x="525" y="1082"/>
                      </a:lnTo>
                      <a:lnTo>
                        <a:pt x="472" y="1047"/>
                      </a:lnTo>
                      <a:lnTo>
                        <a:pt x="428" y="1011"/>
                      </a:lnTo>
                      <a:lnTo>
                        <a:pt x="396" y="950"/>
                      </a:lnTo>
                      <a:lnTo>
                        <a:pt x="273" y="963"/>
                      </a:lnTo>
                      <a:lnTo>
                        <a:pt x="171" y="923"/>
                      </a:lnTo>
                      <a:lnTo>
                        <a:pt x="101" y="826"/>
                      </a:lnTo>
                      <a:lnTo>
                        <a:pt x="61" y="755"/>
                      </a:lnTo>
                      <a:lnTo>
                        <a:pt x="26" y="693"/>
                      </a:lnTo>
                      <a:lnTo>
                        <a:pt x="26" y="574"/>
                      </a:lnTo>
                      <a:lnTo>
                        <a:pt x="0" y="3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6" y="13"/>
                      </a:lnTo>
                      <a:lnTo>
                        <a:pt x="251" y="26"/>
                      </a:lnTo>
                      <a:lnTo>
                        <a:pt x="299" y="171"/>
                      </a:lnTo>
                      <a:lnTo>
                        <a:pt x="308" y="220"/>
                      </a:lnTo>
                      <a:lnTo>
                        <a:pt x="326" y="246"/>
                      </a:lnTo>
                      <a:lnTo>
                        <a:pt x="361" y="207"/>
                      </a:lnTo>
                      <a:lnTo>
                        <a:pt x="423" y="207"/>
                      </a:lnTo>
                      <a:lnTo>
                        <a:pt x="454" y="246"/>
                      </a:lnTo>
                      <a:lnTo>
                        <a:pt x="471" y="233"/>
                      </a:lnTo>
                      <a:lnTo>
                        <a:pt x="524" y="171"/>
                      </a:lnTo>
                      <a:lnTo>
                        <a:pt x="533" y="171"/>
                      </a:lnTo>
                      <a:lnTo>
                        <a:pt x="577" y="136"/>
                      </a:lnTo>
                      <a:lnTo>
                        <a:pt x="617" y="136"/>
                      </a:lnTo>
                      <a:lnTo>
                        <a:pt x="758" y="207"/>
                      </a:lnTo>
                      <a:lnTo>
                        <a:pt x="816" y="207"/>
                      </a:lnTo>
                      <a:lnTo>
                        <a:pt x="878" y="269"/>
                      </a:lnTo>
                      <a:lnTo>
                        <a:pt x="935" y="296"/>
                      </a:lnTo>
                      <a:lnTo>
                        <a:pt x="988" y="344"/>
                      </a:lnTo>
                      <a:lnTo>
                        <a:pt x="1032" y="358"/>
                      </a:lnTo>
                      <a:lnTo>
                        <a:pt x="1143" y="406"/>
                      </a:lnTo>
                      <a:lnTo>
                        <a:pt x="1196" y="490"/>
                      </a:lnTo>
                      <a:lnTo>
                        <a:pt x="1222" y="543"/>
                      </a:lnTo>
                      <a:lnTo>
                        <a:pt x="1213" y="565"/>
                      </a:lnTo>
                      <a:lnTo>
                        <a:pt x="1257" y="613"/>
                      </a:lnTo>
                      <a:lnTo>
                        <a:pt x="1288" y="627"/>
                      </a:lnTo>
                      <a:lnTo>
                        <a:pt x="1306" y="640"/>
                      </a:lnTo>
                      <a:lnTo>
                        <a:pt x="1350" y="653"/>
                      </a:lnTo>
                      <a:lnTo>
                        <a:pt x="1420" y="724"/>
                      </a:lnTo>
                      <a:lnTo>
                        <a:pt x="1420" y="778"/>
                      </a:lnTo>
                      <a:lnTo>
                        <a:pt x="1460" y="826"/>
                      </a:lnTo>
                      <a:lnTo>
                        <a:pt x="1469" y="848"/>
                      </a:lnTo>
                      <a:lnTo>
                        <a:pt x="1531" y="950"/>
                      </a:lnTo>
                      <a:lnTo>
                        <a:pt x="1478" y="1033"/>
                      </a:lnTo>
                      <a:lnTo>
                        <a:pt x="1460" y="1033"/>
                      </a:lnTo>
                      <a:lnTo>
                        <a:pt x="1412" y="1033"/>
                      </a:lnTo>
                      <a:lnTo>
                        <a:pt x="1394" y="998"/>
                      </a:lnTo>
                      <a:lnTo>
                        <a:pt x="1368" y="998"/>
                      </a:lnTo>
                      <a:lnTo>
                        <a:pt x="1341" y="1007"/>
                      </a:lnTo>
                      <a:lnTo>
                        <a:pt x="1213" y="813"/>
                      </a:lnTo>
                      <a:lnTo>
                        <a:pt x="1134" y="826"/>
                      </a:lnTo>
                      <a:lnTo>
                        <a:pt x="1059" y="813"/>
                      </a:lnTo>
                      <a:lnTo>
                        <a:pt x="1032" y="835"/>
                      </a:lnTo>
                      <a:lnTo>
                        <a:pt x="1006" y="875"/>
                      </a:lnTo>
                      <a:lnTo>
                        <a:pt x="997" y="848"/>
                      </a:lnTo>
                      <a:lnTo>
                        <a:pt x="962" y="910"/>
                      </a:lnTo>
                      <a:lnTo>
                        <a:pt x="913" y="998"/>
                      </a:lnTo>
                      <a:lnTo>
                        <a:pt x="869" y="958"/>
                      </a:lnTo>
                      <a:lnTo>
                        <a:pt x="816" y="936"/>
                      </a:lnTo>
                      <a:lnTo>
                        <a:pt x="781" y="936"/>
                      </a:lnTo>
                      <a:lnTo>
                        <a:pt x="732" y="910"/>
                      </a:lnTo>
                      <a:lnTo>
                        <a:pt x="705" y="936"/>
                      </a:lnTo>
                      <a:lnTo>
                        <a:pt x="670" y="813"/>
                      </a:lnTo>
                      <a:lnTo>
                        <a:pt x="608" y="702"/>
                      </a:lnTo>
                      <a:lnTo>
                        <a:pt x="551" y="565"/>
                      </a:lnTo>
                      <a:lnTo>
                        <a:pt x="498" y="490"/>
                      </a:lnTo>
                      <a:lnTo>
                        <a:pt x="454" y="419"/>
                      </a:lnTo>
                      <a:lnTo>
                        <a:pt x="361" y="419"/>
                      </a:lnTo>
                      <a:lnTo>
                        <a:pt x="273" y="455"/>
                      </a:lnTo>
                      <a:lnTo>
                        <a:pt x="233" y="406"/>
                      </a:lnTo>
                      <a:lnTo>
                        <a:pt x="145" y="371"/>
                      </a:lnTo>
                      <a:lnTo>
                        <a:pt x="101" y="331"/>
                      </a:lnTo>
                      <a:lnTo>
                        <a:pt x="101" y="185"/>
                      </a:lnTo>
                      <a:lnTo>
                        <a:pt x="110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5"/>
                      </a:moveTo>
                      <a:lnTo>
                        <a:pt x="92" y="0"/>
                      </a:lnTo>
                      <a:lnTo>
                        <a:pt x="202" y="61"/>
                      </a:lnTo>
                      <a:lnTo>
                        <a:pt x="220" y="123"/>
                      </a:lnTo>
                      <a:lnTo>
                        <a:pt x="220" y="145"/>
                      </a:lnTo>
                      <a:lnTo>
                        <a:pt x="246" y="158"/>
                      </a:lnTo>
                      <a:lnTo>
                        <a:pt x="246" y="185"/>
                      </a:lnTo>
                      <a:lnTo>
                        <a:pt x="282" y="198"/>
                      </a:lnTo>
                      <a:lnTo>
                        <a:pt x="282" y="246"/>
                      </a:lnTo>
                      <a:lnTo>
                        <a:pt x="392" y="393"/>
                      </a:lnTo>
                      <a:lnTo>
                        <a:pt x="405" y="393"/>
                      </a:lnTo>
                      <a:lnTo>
                        <a:pt x="423" y="428"/>
                      </a:lnTo>
                      <a:lnTo>
                        <a:pt x="440" y="468"/>
                      </a:lnTo>
                      <a:lnTo>
                        <a:pt x="458" y="468"/>
                      </a:lnTo>
                      <a:lnTo>
                        <a:pt x="534" y="516"/>
                      </a:lnTo>
                      <a:lnTo>
                        <a:pt x="680" y="538"/>
                      </a:lnTo>
                      <a:lnTo>
                        <a:pt x="688" y="710"/>
                      </a:lnTo>
                      <a:lnTo>
                        <a:pt x="724" y="737"/>
                      </a:lnTo>
                      <a:lnTo>
                        <a:pt x="715" y="799"/>
                      </a:lnTo>
                      <a:lnTo>
                        <a:pt x="799" y="882"/>
                      </a:lnTo>
                      <a:lnTo>
                        <a:pt x="874" y="922"/>
                      </a:lnTo>
                      <a:lnTo>
                        <a:pt x="874" y="1205"/>
                      </a:lnTo>
                      <a:lnTo>
                        <a:pt x="918" y="1316"/>
                      </a:lnTo>
                      <a:lnTo>
                        <a:pt x="891" y="1351"/>
                      </a:lnTo>
                      <a:lnTo>
                        <a:pt x="843" y="1364"/>
                      </a:lnTo>
                      <a:lnTo>
                        <a:pt x="834" y="1267"/>
                      </a:lnTo>
                      <a:lnTo>
                        <a:pt x="746" y="1364"/>
                      </a:lnTo>
                      <a:lnTo>
                        <a:pt x="688" y="1219"/>
                      </a:lnTo>
                      <a:lnTo>
                        <a:pt x="653" y="1117"/>
                      </a:lnTo>
                      <a:lnTo>
                        <a:pt x="552" y="984"/>
                      </a:lnTo>
                      <a:lnTo>
                        <a:pt x="525" y="984"/>
                      </a:lnTo>
                      <a:lnTo>
                        <a:pt x="432" y="909"/>
                      </a:lnTo>
                      <a:lnTo>
                        <a:pt x="414" y="834"/>
                      </a:lnTo>
                      <a:lnTo>
                        <a:pt x="414" y="785"/>
                      </a:lnTo>
                      <a:lnTo>
                        <a:pt x="339" y="591"/>
                      </a:lnTo>
                      <a:lnTo>
                        <a:pt x="304" y="468"/>
                      </a:lnTo>
                      <a:lnTo>
                        <a:pt x="211" y="358"/>
                      </a:lnTo>
                      <a:lnTo>
                        <a:pt x="83" y="18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1" y="0"/>
                      </a:moveTo>
                      <a:lnTo>
                        <a:pt x="136" y="0"/>
                      </a:lnTo>
                      <a:lnTo>
                        <a:pt x="224" y="158"/>
                      </a:lnTo>
                      <a:lnTo>
                        <a:pt x="207" y="308"/>
                      </a:lnTo>
                      <a:lnTo>
                        <a:pt x="261" y="357"/>
                      </a:lnTo>
                      <a:lnTo>
                        <a:pt x="287" y="454"/>
                      </a:lnTo>
                      <a:lnTo>
                        <a:pt x="344" y="502"/>
                      </a:lnTo>
                      <a:lnTo>
                        <a:pt x="415" y="515"/>
                      </a:lnTo>
                      <a:lnTo>
                        <a:pt x="521" y="590"/>
                      </a:lnTo>
                      <a:lnTo>
                        <a:pt x="587" y="674"/>
                      </a:lnTo>
                      <a:lnTo>
                        <a:pt x="605" y="674"/>
                      </a:lnTo>
                      <a:lnTo>
                        <a:pt x="694" y="749"/>
                      </a:lnTo>
                      <a:lnTo>
                        <a:pt x="694" y="935"/>
                      </a:lnTo>
                      <a:lnTo>
                        <a:pt x="720" y="1019"/>
                      </a:lnTo>
                      <a:lnTo>
                        <a:pt x="747" y="1068"/>
                      </a:lnTo>
                      <a:lnTo>
                        <a:pt x="782" y="1121"/>
                      </a:lnTo>
                      <a:lnTo>
                        <a:pt x="813" y="1182"/>
                      </a:lnTo>
                      <a:lnTo>
                        <a:pt x="831" y="1253"/>
                      </a:lnTo>
                      <a:lnTo>
                        <a:pt x="901" y="1315"/>
                      </a:lnTo>
                      <a:lnTo>
                        <a:pt x="892" y="1390"/>
                      </a:lnTo>
                      <a:lnTo>
                        <a:pt x="822" y="1403"/>
                      </a:lnTo>
                      <a:lnTo>
                        <a:pt x="795" y="1341"/>
                      </a:lnTo>
                      <a:lnTo>
                        <a:pt x="747" y="1341"/>
                      </a:lnTo>
                      <a:lnTo>
                        <a:pt x="747" y="1500"/>
                      </a:lnTo>
                      <a:lnTo>
                        <a:pt x="703" y="1500"/>
                      </a:lnTo>
                      <a:lnTo>
                        <a:pt x="649" y="1425"/>
                      </a:lnTo>
                      <a:lnTo>
                        <a:pt x="613" y="1390"/>
                      </a:lnTo>
                      <a:lnTo>
                        <a:pt x="613" y="1301"/>
                      </a:lnTo>
                      <a:lnTo>
                        <a:pt x="538" y="1301"/>
                      </a:lnTo>
                      <a:lnTo>
                        <a:pt x="512" y="1390"/>
                      </a:lnTo>
                      <a:lnTo>
                        <a:pt x="486" y="1301"/>
                      </a:lnTo>
                      <a:lnTo>
                        <a:pt x="477" y="1218"/>
                      </a:lnTo>
                      <a:lnTo>
                        <a:pt x="569" y="1182"/>
                      </a:lnTo>
                      <a:lnTo>
                        <a:pt x="622" y="1204"/>
                      </a:lnTo>
                      <a:lnTo>
                        <a:pt x="631" y="1059"/>
                      </a:lnTo>
                      <a:lnTo>
                        <a:pt x="578" y="1010"/>
                      </a:lnTo>
                      <a:lnTo>
                        <a:pt x="547" y="887"/>
                      </a:lnTo>
                      <a:lnTo>
                        <a:pt x="521" y="736"/>
                      </a:lnTo>
                      <a:lnTo>
                        <a:pt x="424" y="687"/>
                      </a:lnTo>
                      <a:lnTo>
                        <a:pt x="380" y="626"/>
                      </a:lnTo>
                      <a:lnTo>
                        <a:pt x="305" y="590"/>
                      </a:lnTo>
                      <a:lnTo>
                        <a:pt x="344" y="723"/>
                      </a:lnTo>
                      <a:lnTo>
                        <a:pt x="261" y="785"/>
                      </a:lnTo>
                      <a:lnTo>
                        <a:pt x="207" y="639"/>
                      </a:lnTo>
                      <a:lnTo>
                        <a:pt x="163" y="604"/>
                      </a:lnTo>
                      <a:lnTo>
                        <a:pt x="163" y="515"/>
                      </a:lnTo>
                      <a:lnTo>
                        <a:pt x="105" y="418"/>
                      </a:lnTo>
                      <a:lnTo>
                        <a:pt x="35" y="357"/>
                      </a:lnTo>
                      <a:lnTo>
                        <a:pt x="0" y="295"/>
                      </a:lnTo>
                      <a:lnTo>
                        <a:pt x="17" y="246"/>
                      </a:lnTo>
                      <a:lnTo>
                        <a:pt x="70" y="268"/>
                      </a:lnTo>
                      <a:lnTo>
                        <a:pt x="88" y="207"/>
                      </a:lnTo>
                      <a:lnTo>
                        <a:pt x="70" y="123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8"/>
                      </a:lnTo>
                      <a:lnTo>
                        <a:pt x="340" y="158"/>
                      </a:lnTo>
                      <a:lnTo>
                        <a:pt x="393" y="273"/>
                      </a:lnTo>
                      <a:lnTo>
                        <a:pt x="437" y="273"/>
                      </a:lnTo>
                      <a:lnTo>
                        <a:pt x="428" y="343"/>
                      </a:lnTo>
                      <a:lnTo>
                        <a:pt x="477" y="392"/>
                      </a:lnTo>
                      <a:lnTo>
                        <a:pt x="512" y="467"/>
                      </a:lnTo>
                      <a:lnTo>
                        <a:pt x="596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59" y="755"/>
                      </a:lnTo>
                      <a:lnTo>
                        <a:pt x="521" y="878"/>
                      </a:lnTo>
                      <a:lnTo>
                        <a:pt x="521" y="949"/>
                      </a:lnTo>
                      <a:lnTo>
                        <a:pt x="521" y="1024"/>
                      </a:lnTo>
                      <a:lnTo>
                        <a:pt x="486" y="988"/>
                      </a:lnTo>
                      <a:lnTo>
                        <a:pt x="446" y="927"/>
                      </a:lnTo>
                      <a:lnTo>
                        <a:pt x="367" y="852"/>
                      </a:lnTo>
                      <a:lnTo>
                        <a:pt x="326" y="816"/>
                      </a:lnTo>
                      <a:lnTo>
                        <a:pt x="255" y="852"/>
                      </a:lnTo>
                      <a:lnTo>
                        <a:pt x="211" y="878"/>
                      </a:lnTo>
                      <a:lnTo>
                        <a:pt x="238" y="940"/>
                      </a:lnTo>
                      <a:lnTo>
                        <a:pt x="308" y="988"/>
                      </a:lnTo>
                      <a:lnTo>
                        <a:pt x="375" y="1037"/>
                      </a:lnTo>
                      <a:lnTo>
                        <a:pt x="402" y="1121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6" y="1235"/>
                      </a:lnTo>
                      <a:lnTo>
                        <a:pt x="308" y="1222"/>
                      </a:lnTo>
                      <a:lnTo>
                        <a:pt x="282" y="1196"/>
                      </a:lnTo>
                      <a:lnTo>
                        <a:pt x="255" y="1257"/>
                      </a:lnTo>
                      <a:lnTo>
                        <a:pt x="211" y="1271"/>
                      </a:lnTo>
                      <a:lnTo>
                        <a:pt x="180" y="1222"/>
                      </a:lnTo>
                      <a:lnTo>
                        <a:pt x="180" y="1112"/>
                      </a:lnTo>
                      <a:lnTo>
                        <a:pt x="171" y="1050"/>
                      </a:lnTo>
                      <a:lnTo>
                        <a:pt x="127" y="1010"/>
                      </a:lnTo>
                      <a:lnTo>
                        <a:pt x="83" y="1072"/>
                      </a:lnTo>
                      <a:lnTo>
                        <a:pt x="17" y="1072"/>
                      </a:lnTo>
                      <a:lnTo>
                        <a:pt x="0" y="1024"/>
                      </a:lnTo>
                      <a:lnTo>
                        <a:pt x="17" y="900"/>
                      </a:lnTo>
                      <a:lnTo>
                        <a:pt x="66" y="825"/>
                      </a:lnTo>
                      <a:lnTo>
                        <a:pt x="61" y="630"/>
                      </a:lnTo>
                      <a:lnTo>
                        <a:pt x="61" y="577"/>
                      </a:lnTo>
                      <a:lnTo>
                        <a:pt x="110" y="568"/>
                      </a:lnTo>
                      <a:lnTo>
                        <a:pt x="154" y="617"/>
                      </a:lnTo>
                      <a:lnTo>
                        <a:pt x="229" y="640"/>
                      </a:lnTo>
                      <a:lnTo>
                        <a:pt x="229" y="555"/>
                      </a:lnTo>
                      <a:lnTo>
                        <a:pt x="198" y="507"/>
                      </a:lnTo>
                      <a:lnTo>
                        <a:pt x="180" y="467"/>
                      </a:lnTo>
                      <a:lnTo>
                        <a:pt x="202" y="467"/>
                      </a:lnTo>
                      <a:lnTo>
                        <a:pt x="220" y="467"/>
                      </a:lnTo>
                      <a:lnTo>
                        <a:pt x="238" y="467"/>
                      </a:lnTo>
                      <a:lnTo>
                        <a:pt x="255" y="467"/>
                      </a:lnTo>
                      <a:lnTo>
                        <a:pt x="282" y="432"/>
                      </a:lnTo>
                      <a:lnTo>
                        <a:pt x="273" y="392"/>
                      </a:lnTo>
                      <a:lnTo>
                        <a:pt x="246" y="308"/>
                      </a:lnTo>
                      <a:lnTo>
                        <a:pt x="198" y="220"/>
                      </a:lnTo>
                      <a:lnTo>
                        <a:pt x="127" y="171"/>
                      </a:lnTo>
                      <a:lnTo>
                        <a:pt x="101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92" y="74"/>
                      </a:lnTo>
                      <a:lnTo>
                        <a:pt x="189" y="185"/>
                      </a:lnTo>
                      <a:lnTo>
                        <a:pt x="233" y="305"/>
                      </a:lnTo>
                      <a:lnTo>
                        <a:pt x="299" y="318"/>
                      </a:lnTo>
                      <a:lnTo>
                        <a:pt x="352" y="344"/>
                      </a:lnTo>
                      <a:lnTo>
                        <a:pt x="397" y="393"/>
                      </a:lnTo>
                      <a:lnTo>
                        <a:pt x="450" y="393"/>
                      </a:lnTo>
                      <a:lnTo>
                        <a:pt x="508" y="468"/>
                      </a:lnTo>
                      <a:lnTo>
                        <a:pt x="561" y="525"/>
                      </a:lnTo>
                      <a:lnTo>
                        <a:pt x="622" y="565"/>
                      </a:lnTo>
                      <a:lnTo>
                        <a:pt x="613" y="600"/>
                      </a:lnTo>
                      <a:lnTo>
                        <a:pt x="578" y="627"/>
                      </a:lnTo>
                      <a:lnTo>
                        <a:pt x="543" y="627"/>
                      </a:lnTo>
                      <a:lnTo>
                        <a:pt x="525" y="662"/>
                      </a:lnTo>
                      <a:lnTo>
                        <a:pt x="596" y="737"/>
                      </a:lnTo>
                      <a:lnTo>
                        <a:pt x="644" y="808"/>
                      </a:lnTo>
                      <a:lnTo>
                        <a:pt x="724" y="883"/>
                      </a:lnTo>
                      <a:lnTo>
                        <a:pt x="671" y="967"/>
                      </a:lnTo>
                      <a:lnTo>
                        <a:pt x="631" y="994"/>
                      </a:lnTo>
                      <a:lnTo>
                        <a:pt x="636" y="1042"/>
                      </a:lnTo>
                      <a:lnTo>
                        <a:pt x="561" y="1042"/>
                      </a:lnTo>
                      <a:lnTo>
                        <a:pt x="534" y="1007"/>
                      </a:lnTo>
                      <a:lnTo>
                        <a:pt x="472" y="905"/>
                      </a:lnTo>
                      <a:lnTo>
                        <a:pt x="433" y="822"/>
                      </a:lnTo>
                      <a:lnTo>
                        <a:pt x="361" y="675"/>
                      </a:lnTo>
                      <a:lnTo>
                        <a:pt x="282" y="565"/>
                      </a:lnTo>
                      <a:lnTo>
                        <a:pt x="198" y="406"/>
                      </a:lnTo>
                      <a:lnTo>
                        <a:pt x="145" y="358"/>
                      </a:lnTo>
                      <a:lnTo>
                        <a:pt x="101" y="318"/>
                      </a:lnTo>
                      <a:lnTo>
                        <a:pt x="88" y="233"/>
                      </a:lnTo>
                      <a:lnTo>
                        <a:pt x="8" y="158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2" y="948"/>
                      </a:moveTo>
                      <a:lnTo>
                        <a:pt x="3997" y="1278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5" y="2695"/>
                      </a:lnTo>
                      <a:lnTo>
                        <a:pt x="4685" y="2929"/>
                      </a:lnTo>
                      <a:lnTo>
                        <a:pt x="4940" y="2920"/>
                      </a:lnTo>
                      <a:lnTo>
                        <a:pt x="5112" y="2845"/>
                      </a:lnTo>
                      <a:lnTo>
                        <a:pt x="5231" y="2845"/>
                      </a:lnTo>
                      <a:lnTo>
                        <a:pt x="5223" y="3167"/>
                      </a:lnTo>
                      <a:lnTo>
                        <a:pt x="5179" y="3339"/>
                      </a:lnTo>
                      <a:lnTo>
                        <a:pt x="4707" y="4053"/>
                      </a:lnTo>
                      <a:lnTo>
                        <a:pt x="4279" y="4789"/>
                      </a:lnTo>
                      <a:lnTo>
                        <a:pt x="4288" y="5072"/>
                      </a:lnTo>
                      <a:lnTo>
                        <a:pt x="4407" y="5283"/>
                      </a:lnTo>
                      <a:lnTo>
                        <a:pt x="4349" y="5442"/>
                      </a:lnTo>
                      <a:lnTo>
                        <a:pt x="4385" y="5649"/>
                      </a:lnTo>
                      <a:lnTo>
                        <a:pt x="4349" y="5813"/>
                      </a:lnTo>
                      <a:lnTo>
                        <a:pt x="4244" y="5950"/>
                      </a:lnTo>
                      <a:lnTo>
                        <a:pt x="4160" y="5950"/>
                      </a:lnTo>
                      <a:lnTo>
                        <a:pt x="4014" y="6184"/>
                      </a:lnTo>
                      <a:lnTo>
                        <a:pt x="3885" y="6453"/>
                      </a:lnTo>
                      <a:lnTo>
                        <a:pt x="3912" y="6748"/>
                      </a:lnTo>
                      <a:lnTo>
                        <a:pt x="3780" y="6885"/>
                      </a:lnTo>
                      <a:lnTo>
                        <a:pt x="3661" y="7189"/>
                      </a:lnTo>
                      <a:lnTo>
                        <a:pt x="3524" y="7476"/>
                      </a:lnTo>
                      <a:lnTo>
                        <a:pt x="3449" y="7586"/>
                      </a:lnTo>
                      <a:lnTo>
                        <a:pt x="3378" y="7608"/>
                      </a:lnTo>
                      <a:lnTo>
                        <a:pt x="3259" y="7793"/>
                      </a:lnTo>
                      <a:lnTo>
                        <a:pt x="3061" y="7904"/>
                      </a:lnTo>
                      <a:lnTo>
                        <a:pt x="2814" y="7930"/>
                      </a:lnTo>
                      <a:lnTo>
                        <a:pt x="2677" y="7807"/>
                      </a:lnTo>
                      <a:lnTo>
                        <a:pt x="2660" y="7683"/>
                      </a:lnTo>
                      <a:lnTo>
                        <a:pt x="2633" y="7524"/>
                      </a:lnTo>
                      <a:lnTo>
                        <a:pt x="2541" y="7436"/>
                      </a:lnTo>
                      <a:lnTo>
                        <a:pt x="2461" y="7132"/>
                      </a:lnTo>
                      <a:lnTo>
                        <a:pt x="2435" y="6982"/>
                      </a:lnTo>
                      <a:lnTo>
                        <a:pt x="2426" y="6797"/>
                      </a:lnTo>
                      <a:lnTo>
                        <a:pt x="2386" y="6660"/>
                      </a:lnTo>
                      <a:lnTo>
                        <a:pt x="2377" y="6576"/>
                      </a:lnTo>
                      <a:lnTo>
                        <a:pt x="2298" y="6440"/>
                      </a:lnTo>
                      <a:lnTo>
                        <a:pt x="2214" y="6329"/>
                      </a:lnTo>
                      <a:lnTo>
                        <a:pt x="2152" y="6144"/>
                      </a:lnTo>
                      <a:lnTo>
                        <a:pt x="2108" y="6008"/>
                      </a:lnTo>
                      <a:lnTo>
                        <a:pt x="2126" y="5786"/>
                      </a:lnTo>
                      <a:lnTo>
                        <a:pt x="2254" y="5469"/>
                      </a:lnTo>
                      <a:lnTo>
                        <a:pt x="2280" y="5111"/>
                      </a:lnTo>
                      <a:lnTo>
                        <a:pt x="2188" y="4706"/>
                      </a:lnTo>
                      <a:lnTo>
                        <a:pt x="2051" y="4543"/>
                      </a:lnTo>
                      <a:lnTo>
                        <a:pt x="1954" y="4322"/>
                      </a:lnTo>
                      <a:lnTo>
                        <a:pt x="1989" y="3978"/>
                      </a:lnTo>
                      <a:lnTo>
                        <a:pt x="1923" y="3718"/>
                      </a:lnTo>
                      <a:lnTo>
                        <a:pt x="1760" y="3696"/>
                      </a:lnTo>
                      <a:lnTo>
                        <a:pt x="1588" y="3497"/>
                      </a:lnTo>
                      <a:lnTo>
                        <a:pt x="1372" y="3387"/>
                      </a:lnTo>
                      <a:lnTo>
                        <a:pt x="1150" y="3559"/>
                      </a:lnTo>
                      <a:lnTo>
                        <a:pt x="564" y="3511"/>
                      </a:lnTo>
                      <a:lnTo>
                        <a:pt x="246" y="3078"/>
                      </a:lnTo>
                      <a:lnTo>
                        <a:pt x="0" y="2501"/>
                      </a:lnTo>
                      <a:lnTo>
                        <a:pt x="44" y="2302"/>
                      </a:lnTo>
                      <a:lnTo>
                        <a:pt x="154" y="2157"/>
                      </a:lnTo>
                      <a:lnTo>
                        <a:pt x="207" y="1746"/>
                      </a:lnTo>
                      <a:lnTo>
                        <a:pt x="282" y="1450"/>
                      </a:lnTo>
                      <a:lnTo>
                        <a:pt x="507" y="1146"/>
                      </a:lnTo>
                      <a:lnTo>
                        <a:pt x="736" y="1009"/>
                      </a:lnTo>
                      <a:lnTo>
                        <a:pt x="952" y="687"/>
                      </a:lnTo>
                      <a:lnTo>
                        <a:pt x="1001" y="555"/>
                      </a:lnTo>
                      <a:lnTo>
                        <a:pt x="1287" y="207"/>
                      </a:lnTo>
                      <a:lnTo>
                        <a:pt x="1465" y="343"/>
                      </a:lnTo>
                      <a:lnTo>
                        <a:pt x="1597" y="330"/>
                      </a:lnTo>
                      <a:lnTo>
                        <a:pt x="1751" y="149"/>
                      </a:lnTo>
                      <a:lnTo>
                        <a:pt x="1928" y="123"/>
                      </a:lnTo>
                      <a:lnTo>
                        <a:pt x="2051" y="171"/>
                      </a:lnTo>
                      <a:lnTo>
                        <a:pt x="2161" y="26"/>
                      </a:lnTo>
                      <a:lnTo>
                        <a:pt x="2307" y="0"/>
                      </a:lnTo>
                      <a:lnTo>
                        <a:pt x="2342" y="268"/>
                      </a:lnTo>
                      <a:lnTo>
                        <a:pt x="2435" y="467"/>
                      </a:lnTo>
                      <a:lnTo>
                        <a:pt x="2699" y="665"/>
                      </a:lnTo>
                      <a:lnTo>
                        <a:pt x="2924" y="701"/>
                      </a:lnTo>
                      <a:lnTo>
                        <a:pt x="2951" y="480"/>
                      </a:lnTo>
                      <a:lnTo>
                        <a:pt x="3123" y="480"/>
                      </a:lnTo>
                      <a:lnTo>
                        <a:pt x="3325" y="617"/>
                      </a:lnTo>
                      <a:lnTo>
                        <a:pt x="3550" y="687"/>
                      </a:lnTo>
                      <a:lnTo>
                        <a:pt x="3740" y="604"/>
                      </a:lnTo>
                      <a:lnTo>
                        <a:pt x="3912" y="9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6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9" y="177"/>
                          </a:moveTo>
                          <a:lnTo>
                            <a:pt x="106" y="114"/>
                          </a:lnTo>
                          <a:lnTo>
                            <a:pt x="168" y="114"/>
                          </a:lnTo>
                          <a:lnTo>
                            <a:pt x="252" y="0"/>
                          </a:lnTo>
                          <a:lnTo>
                            <a:pt x="279" y="74"/>
                          </a:lnTo>
                          <a:lnTo>
                            <a:pt x="323" y="74"/>
                          </a:lnTo>
                          <a:lnTo>
                            <a:pt x="341" y="114"/>
                          </a:lnTo>
                          <a:lnTo>
                            <a:pt x="315" y="177"/>
                          </a:lnTo>
                          <a:lnTo>
                            <a:pt x="279" y="203"/>
                          </a:lnTo>
                          <a:lnTo>
                            <a:pt x="279" y="252"/>
                          </a:lnTo>
                          <a:lnTo>
                            <a:pt x="270" y="278"/>
                          </a:lnTo>
                          <a:lnTo>
                            <a:pt x="262" y="314"/>
                          </a:lnTo>
                          <a:lnTo>
                            <a:pt x="279" y="367"/>
                          </a:lnTo>
                          <a:lnTo>
                            <a:pt x="252" y="415"/>
                          </a:lnTo>
                          <a:lnTo>
                            <a:pt x="225" y="442"/>
                          </a:lnTo>
                          <a:lnTo>
                            <a:pt x="199" y="442"/>
                          </a:lnTo>
                          <a:lnTo>
                            <a:pt x="190" y="456"/>
                          </a:lnTo>
                          <a:lnTo>
                            <a:pt x="181" y="491"/>
                          </a:lnTo>
                          <a:lnTo>
                            <a:pt x="142" y="504"/>
                          </a:lnTo>
                          <a:lnTo>
                            <a:pt x="133" y="491"/>
                          </a:lnTo>
                          <a:lnTo>
                            <a:pt x="98" y="531"/>
                          </a:lnTo>
                          <a:lnTo>
                            <a:pt x="89" y="539"/>
                          </a:lnTo>
                          <a:lnTo>
                            <a:pt x="44" y="579"/>
                          </a:lnTo>
                          <a:lnTo>
                            <a:pt x="26" y="579"/>
                          </a:lnTo>
                          <a:lnTo>
                            <a:pt x="17" y="553"/>
                          </a:lnTo>
                          <a:lnTo>
                            <a:pt x="8" y="491"/>
                          </a:lnTo>
                          <a:lnTo>
                            <a:pt x="0" y="478"/>
                          </a:lnTo>
                          <a:lnTo>
                            <a:pt x="0" y="428"/>
                          </a:lnTo>
                          <a:lnTo>
                            <a:pt x="26" y="402"/>
                          </a:lnTo>
                          <a:lnTo>
                            <a:pt x="52" y="375"/>
                          </a:lnTo>
                          <a:lnTo>
                            <a:pt x="70" y="327"/>
                          </a:lnTo>
                          <a:lnTo>
                            <a:pt x="98" y="327"/>
                          </a:lnTo>
                          <a:lnTo>
                            <a:pt x="115" y="340"/>
                          </a:lnTo>
                          <a:lnTo>
                            <a:pt x="142" y="327"/>
                          </a:lnTo>
                          <a:lnTo>
                            <a:pt x="115" y="314"/>
                          </a:lnTo>
                          <a:lnTo>
                            <a:pt x="79" y="17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2" y="149"/>
                          </a:moveTo>
                          <a:lnTo>
                            <a:pt x="158" y="110"/>
                          </a:lnTo>
                          <a:lnTo>
                            <a:pt x="234" y="123"/>
                          </a:lnTo>
                          <a:lnTo>
                            <a:pt x="252" y="97"/>
                          </a:lnTo>
                          <a:lnTo>
                            <a:pt x="269" y="61"/>
                          </a:lnTo>
                          <a:lnTo>
                            <a:pt x="287" y="61"/>
                          </a:lnTo>
                          <a:lnTo>
                            <a:pt x="305" y="48"/>
                          </a:lnTo>
                          <a:lnTo>
                            <a:pt x="331" y="26"/>
                          </a:lnTo>
                          <a:lnTo>
                            <a:pt x="367" y="0"/>
                          </a:lnTo>
                          <a:lnTo>
                            <a:pt x="411" y="13"/>
                          </a:lnTo>
                          <a:lnTo>
                            <a:pt x="402" y="61"/>
                          </a:lnTo>
                          <a:lnTo>
                            <a:pt x="384" y="97"/>
                          </a:lnTo>
                          <a:lnTo>
                            <a:pt x="367" y="110"/>
                          </a:lnTo>
                          <a:lnTo>
                            <a:pt x="349" y="123"/>
                          </a:lnTo>
                          <a:lnTo>
                            <a:pt x="296" y="149"/>
                          </a:lnTo>
                          <a:lnTo>
                            <a:pt x="296" y="198"/>
                          </a:lnTo>
                          <a:lnTo>
                            <a:pt x="305" y="220"/>
                          </a:lnTo>
                          <a:lnTo>
                            <a:pt x="358" y="198"/>
                          </a:lnTo>
                          <a:lnTo>
                            <a:pt x="402" y="171"/>
                          </a:lnTo>
                          <a:lnTo>
                            <a:pt x="411" y="198"/>
                          </a:lnTo>
                          <a:lnTo>
                            <a:pt x="411" y="268"/>
                          </a:lnTo>
                          <a:lnTo>
                            <a:pt x="375" y="282"/>
                          </a:lnTo>
                          <a:lnTo>
                            <a:pt x="340" y="282"/>
                          </a:lnTo>
                          <a:lnTo>
                            <a:pt x="314" y="321"/>
                          </a:lnTo>
                          <a:lnTo>
                            <a:pt x="305" y="343"/>
                          </a:lnTo>
                          <a:lnTo>
                            <a:pt x="305" y="383"/>
                          </a:lnTo>
                          <a:lnTo>
                            <a:pt x="331" y="432"/>
                          </a:lnTo>
                          <a:lnTo>
                            <a:pt x="358" y="467"/>
                          </a:lnTo>
                          <a:lnTo>
                            <a:pt x="375" y="507"/>
                          </a:lnTo>
                          <a:lnTo>
                            <a:pt x="384" y="556"/>
                          </a:lnTo>
                          <a:lnTo>
                            <a:pt x="393" y="605"/>
                          </a:lnTo>
                          <a:lnTo>
                            <a:pt x="411" y="666"/>
                          </a:lnTo>
                          <a:lnTo>
                            <a:pt x="411" y="755"/>
                          </a:lnTo>
                          <a:lnTo>
                            <a:pt x="393" y="803"/>
                          </a:lnTo>
                          <a:lnTo>
                            <a:pt x="358" y="838"/>
                          </a:lnTo>
                          <a:lnTo>
                            <a:pt x="349" y="865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1" y="962"/>
                          </a:lnTo>
                          <a:lnTo>
                            <a:pt x="287" y="962"/>
                          </a:lnTo>
                          <a:lnTo>
                            <a:pt x="269" y="949"/>
                          </a:lnTo>
                          <a:lnTo>
                            <a:pt x="234" y="949"/>
                          </a:lnTo>
                          <a:lnTo>
                            <a:pt x="194" y="962"/>
                          </a:lnTo>
                          <a:lnTo>
                            <a:pt x="158" y="988"/>
                          </a:lnTo>
                          <a:lnTo>
                            <a:pt x="132" y="988"/>
                          </a:lnTo>
                          <a:lnTo>
                            <a:pt x="114" y="997"/>
                          </a:lnTo>
                          <a:lnTo>
                            <a:pt x="70" y="1024"/>
                          </a:lnTo>
                          <a:lnTo>
                            <a:pt x="61" y="1010"/>
                          </a:lnTo>
                          <a:lnTo>
                            <a:pt x="44" y="988"/>
                          </a:lnTo>
                          <a:lnTo>
                            <a:pt x="17" y="975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2"/>
                          </a:lnTo>
                          <a:lnTo>
                            <a:pt x="44" y="852"/>
                          </a:lnTo>
                          <a:lnTo>
                            <a:pt x="70" y="838"/>
                          </a:lnTo>
                          <a:lnTo>
                            <a:pt x="105" y="838"/>
                          </a:lnTo>
                          <a:lnTo>
                            <a:pt x="105" y="825"/>
                          </a:lnTo>
                          <a:lnTo>
                            <a:pt x="70" y="803"/>
                          </a:lnTo>
                          <a:lnTo>
                            <a:pt x="70" y="763"/>
                          </a:lnTo>
                          <a:lnTo>
                            <a:pt x="70" y="741"/>
                          </a:lnTo>
                          <a:lnTo>
                            <a:pt x="105" y="715"/>
                          </a:lnTo>
                          <a:lnTo>
                            <a:pt x="123" y="702"/>
                          </a:lnTo>
                          <a:lnTo>
                            <a:pt x="141" y="693"/>
                          </a:lnTo>
                          <a:lnTo>
                            <a:pt x="167" y="693"/>
                          </a:lnTo>
                          <a:lnTo>
                            <a:pt x="185" y="680"/>
                          </a:lnTo>
                          <a:lnTo>
                            <a:pt x="194" y="578"/>
                          </a:lnTo>
                          <a:lnTo>
                            <a:pt x="217" y="507"/>
                          </a:lnTo>
                          <a:lnTo>
                            <a:pt x="217" y="467"/>
                          </a:lnTo>
                          <a:lnTo>
                            <a:pt x="158" y="454"/>
                          </a:lnTo>
                          <a:lnTo>
                            <a:pt x="176" y="392"/>
                          </a:lnTo>
                          <a:lnTo>
                            <a:pt x="132" y="357"/>
                          </a:lnTo>
                          <a:lnTo>
                            <a:pt x="88" y="370"/>
                          </a:lnTo>
                          <a:lnTo>
                            <a:pt x="141" y="282"/>
                          </a:lnTo>
                          <a:lnTo>
                            <a:pt x="132" y="14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81"/>
                        </a:lnTo>
                        <a:lnTo>
                          <a:pt x="198" y="1606"/>
                        </a:lnTo>
                        <a:lnTo>
                          <a:pt x="233" y="1557"/>
                        </a:lnTo>
                        <a:lnTo>
                          <a:pt x="246" y="1517"/>
                        </a:lnTo>
                        <a:lnTo>
                          <a:pt x="282" y="1517"/>
                        </a:lnTo>
                        <a:lnTo>
                          <a:pt x="317" y="1482"/>
                        </a:lnTo>
                        <a:lnTo>
                          <a:pt x="361" y="1482"/>
                        </a:lnTo>
                        <a:lnTo>
                          <a:pt x="388" y="1482"/>
                        </a:lnTo>
                        <a:lnTo>
                          <a:pt x="418" y="1482"/>
                        </a:lnTo>
                        <a:lnTo>
                          <a:pt x="436" y="1482"/>
                        </a:lnTo>
                        <a:lnTo>
                          <a:pt x="471" y="1434"/>
                        </a:lnTo>
                        <a:lnTo>
                          <a:pt x="489" y="1394"/>
                        </a:lnTo>
                        <a:lnTo>
                          <a:pt x="533" y="1359"/>
                        </a:lnTo>
                        <a:lnTo>
                          <a:pt x="564" y="1345"/>
                        </a:lnTo>
                        <a:lnTo>
                          <a:pt x="590" y="1319"/>
                        </a:lnTo>
                        <a:lnTo>
                          <a:pt x="626" y="1310"/>
                        </a:lnTo>
                        <a:lnTo>
                          <a:pt x="652" y="1284"/>
                        </a:lnTo>
                        <a:lnTo>
                          <a:pt x="687" y="1257"/>
                        </a:lnTo>
                        <a:lnTo>
                          <a:pt x="718" y="1235"/>
                        </a:lnTo>
                        <a:lnTo>
                          <a:pt x="762" y="1196"/>
                        </a:lnTo>
                        <a:lnTo>
                          <a:pt x="806" y="1209"/>
                        </a:lnTo>
                        <a:lnTo>
                          <a:pt x="873" y="1235"/>
                        </a:lnTo>
                        <a:lnTo>
                          <a:pt x="943" y="1235"/>
                        </a:lnTo>
                        <a:lnTo>
                          <a:pt x="1018" y="1196"/>
                        </a:lnTo>
                        <a:lnTo>
                          <a:pt x="1053" y="1187"/>
                        </a:lnTo>
                        <a:lnTo>
                          <a:pt x="1080" y="1112"/>
                        </a:lnTo>
                        <a:lnTo>
                          <a:pt x="1115" y="1063"/>
                        </a:lnTo>
                        <a:lnTo>
                          <a:pt x="1173" y="1002"/>
                        </a:lnTo>
                        <a:lnTo>
                          <a:pt x="1191" y="962"/>
                        </a:lnTo>
                        <a:lnTo>
                          <a:pt x="1191" y="913"/>
                        </a:lnTo>
                        <a:lnTo>
                          <a:pt x="1244" y="878"/>
                        </a:lnTo>
                        <a:lnTo>
                          <a:pt x="1271" y="837"/>
                        </a:lnTo>
                        <a:lnTo>
                          <a:pt x="1288" y="802"/>
                        </a:lnTo>
                        <a:lnTo>
                          <a:pt x="1306" y="802"/>
                        </a:lnTo>
                        <a:lnTo>
                          <a:pt x="1390" y="727"/>
                        </a:lnTo>
                        <a:lnTo>
                          <a:pt x="1390" y="802"/>
                        </a:lnTo>
                        <a:lnTo>
                          <a:pt x="1372" y="829"/>
                        </a:lnTo>
                        <a:lnTo>
                          <a:pt x="1390" y="865"/>
                        </a:lnTo>
                        <a:lnTo>
                          <a:pt x="1451" y="878"/>
                        </a:lnTo>
                        <a:lnTo>
                          <a:pt x="1482" y="878"/>
                        </a:lnTo>
                        <a:lnTo>
                          <a:pt x="1517" y="837"/>
                        </a:lnTo>
                        <a:lnTo>
                          <a:pt x="1544" y="802"/>
                        </a:lnTo>
                        <a:lnTo>
                          <a:pt x="1544" y="767"/>
                        </a:lnTo>
                        <a:lnTo>
                          <a:pt x="1570" y="727"/>
                        </a:lnTo>
                        <a:lnTo>
                          <a:pt x="1570" y="692"/>
                        </a:lnTo>
                        <a:lnTo>
                          <a:pt x="1597" y="643"/>
                        </a:lnTo>
                        <a:lnTo>
                          <a:pt x="1614" y="617"/>
                        </a:lnTo>
                        <a:lnTo>
                          <a:pt x="1654" y="617"/>
                        </a:lnTo>
                        <a:lnTo>
                          <a:pt x="1742" y="617"/>
                        </a:lnTo>
                        <a:lnTo>
                          <a:pt x="1808" y="568"/>
                        </a:lnTo>
                        <a:lnTo>
                          <a:pt x="1870" y="493"/>
                        </a:lnTo>
                        <a:lnTo>
                          <a:pt x="1936" y="467"/>
                        </a:lnTo>
                        <a:lnTo>
                          <a:pt x="1998" y="405"/>
                        </a:lnTo>
                        <a:lnTo>
                          <a:pt x="2042" y="308"/>
                        </a:lnTo>
                        <a:lnTo>
                          <a:pt x="2135" y="198"/>
                        </a:lnTo>
                        <a:lnTo>
                          <a:pt x="2197" y="149"/>
                        </a:lnTo>
                        <a:lnTo>
                          <a:pt x="2254" y="97"/>
                        </a:lnTo>
                        <a:lnTo>
                          <a:pt x="2316" y="35"/>
                        </a:lnTo>
                        <a:lnTo>
                          <a:pt x="2214" y="0"/>
                        </a:lnTo>
                        <a:lnTo>
                          <a:pt x="2108" y="0"/>
                        </a:lnTo>
                        <a:lnTo>
                          <a:pt x="2007" y="61"/>
                        </a:lnTo>
                        <a:lnTo>
                          <a:pt x="1954" y="97"/>
                        </a:lnTo>
                        <a:lnTo>
                          <a:pt x="1870" y="123"/>
                        </a:lnTo>
                        <a:lnTo>
                          <a:pt x="1778" y="136"/>
                        </a:lnTo>
                        <a:lnTo>
                          <a:pt x="1725" y="158"/>
                        </a:lnTo>
                        <a:lnTo>
                          <a:pt x="1614" y="220"/>
                        </a:lnTo>
                        <a:lnTo>
                          <a:pt x="1544" y="260"/>
                        </a:lnTo>
                        <a:lnTo>
                          <a:pt x="1473" y="295"/>
                        </a:lnTo>
                        <a:lnTo>
                          <a:pt x="1390" y="321"/>
                        </a:lnTo>
                        <a:lnTo>
                          <a:pt x="1306" y="357"/>
                        </a:lnTo>
                        <a:lnTo>
                          <a:pt x="1226" y="405"/>
                        </a:lnTo>
                        <a:lnTo>
                          <a:pt x="1165" y="467"/>
                        </a:lnTo>
                        <a:lnTo>
                          <a:pt x="1115" y="529"/>
                        </a:lnTo>
                        <a:lnTo>
                          <a:pt x="1062" y="582"/>
                        </a:lnTo>
                        <a:lnTo>
                          <a:pt x="1018" y="617"/>
                        </a:lnTo>
                        <a:lnTo>
                          <a:pt x="926" y="692"/>
                        </a:lnTo>
                        <a:lnTo>
                          <a:pt x="833" y="767"/>
                        </a:lnTo>
                        <a:lnTo>
                          <a:pt x="718" y="837"/>
                        </a:lnTo>
                        <a:lnTo>
                          <a:pt x="643" y="949"/>
                        </a:lnTo>
                        <a:lnTo>
                          <a:pt x="555" y="1037"/>
                        </a:lnTo>
                        <a:lnTo>
                          <a:pt x="480" y="1085"/>
                        </a:lnTo>
                        <a:lnTo>
                          <a:pt x="401" y="1196"/>
                        </a:lnTo>
                        <a:lnTo>
                          <a:pt x="352" y="1271"/>
                        </a:lnTo>
                        <a:lnTo>
                          <a:pt x="282" y="1345"/>
                        </a:lnTo>
                        <a:lnTo>
                          <a:pt x="216" y="1394"/>
                        </a:lnTo>
                        <a:lnTo>
                          <a:pt x="145" y="1442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7" y="515"/>
                      </a:moveTo>
                      <a:lnTo>
                        <a:pt x="114" y="852"/>
                      </a:lnTo>
                      <a:lnTo>
                        <a:pt x="52" y="1059"/>
                      </a:lnTo>
                      <a:lnTo>
                        <a:pt x="0" y="1257"/>
                      </a:lnTo>
                      <a:lnTo>
                        <a:pt x="0" y="1403"/>
                      </a:lnTo>
                      <a:lnTo>
                        <a:pt x="17" y="1526"/>
                      </a:lnTo>
                      <a:lnTo>
                        <a:pt x="79" y="1637"/>
                      </a:lnTo>
                      <a:lnTo>
                        <a:pt x="127" y="1650"/>
                      </a:lnTo>
                      <a:lnTo>
                        <a:pt x="171" y="1650"/>
                      </a:lnTo>
                      <a:lnTo>
                        <a:pt x="224" y="1663"/>
                      </a:lnTo>
                      <a:lnTo>
                        <a:pt x="251" y="1575"/>
                      </a:lnTo>
                      <a:lnTo>
                        <a:pt x="277" y="1354"/>
                      </a:lnTo>
                      <a:lnTo>
                        <a:pt x="353" y="1209"/>
                      </a:lnTo>
                      <a:lnTo>
                        <a:pt x="371" y="984"/>
                      </a:lnTo>
                      <a:lnTo>
                        <a:pt x="406" y="900"/>
                      </a:lnTo>
                      <a:lnTo>
                        <a:pt x="441" y="838"/>
                      </a:lnTo>
                      <a:lnTo>
                        <a:pt x="468" y="679"/>
                      </a:lnTo>
                      <a:lnTo>
                        <a:pt x="521" y="577"/>
                      </a:lnTo>
                      <a:lnTo>
                        <a:pt x="556" y="502"/>
                      </a:lnTo>
                      <a:lnTo>
                        <a:pt x="587" y="445"/>
                      </a:lnTo>
                      <a:lnTo>
                        <a:pt x="587" y="405"/>
                      </a:lnTo>
                      <a:lnTo>
                        <a:pt x="666" y="321"/>
                      </a:lnTo>
                      <a:lnTo>
                        <a:pt x="675" y="185"/>
                      </a:lnTo>
                      <a:lnTo>
                        <a:pt x="693" y="97"/>
                      </a:lnTo>
                      <a:lnTo>
                        <a:pt x="622" y="61"/>
                      </a:lnTo>
                      <a:lnTo>
                        <a:pt x="578" y="0"/>
                      </a:lnTo>
                      <a:lnTo>
                        <a:pt x="521" y="61"/>
                      </a:lnTo>
                      <a:lnTo>
                        <a:pt x="468" y="207"/>
                      </a:lnTo>
                      <a:lnTo>
                        <a:pt x="406" y="308"/>
                      </a:lnTo>
                      <a:lnTo>
                        <a:pt x="353" y="392"/>
                      </a:lnTo>
                      <a:lnTo>
                        <a:pt x="330" y="392"/>
                      </a:lnTo>
                      <a:lnTo>
                        <a:pt x="277" y="445"/>
                      </a:lnTo>
                      <a:lnTo>
                        <a:pt x="251" y="493"/>
                      </a:lnTo>
                      <a:lnTo>
                        <a:pt x="127" y="5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2"/>
                      </a:moveTo>
                      <a:lnTo>
                        <a:pt x="83" y="3431"/>
                      </a:lnTo>
                      <a:lnTo>
                        <a:pt x="136" y="3347"/>
                      </a:lnTo>
                      <a:lnTo>
                        <a:pt x="246" y="3347"/>
                      </a:lnTo>
                      <a:lnTo>
                        <a:pt x="370" y="3370"/>
                      </a:lnTo>
                      <a:lnTo>
                        <a:pt x="454" y="3321"/>
                      </a:lnTo>
                      <a:lnTo>
                        <a:pt x="546" y="3308"/>
                      </a:lnTo>
                      <a:lnTo>
                        <a:pt x="555" y="3162"/>
                      </a:lnTo>
                      <a:lnTo>
                        <a:pt x="608" y="3065"/>
                      </a:lnTo>
                      <a:lnTo>
                        <a:pt x="480" y="2951"/>
                      </a:lnTo>
                      <a:lnTo>
                        <a:pt x="463" y="2867"/>
                      </a:lnTo>
                      <a:lnTo>
                        <a:pt x="471" y="2743"/>
                      </a:lnTo>
                      <a:lnTo>
                        <a:pt x="564" y="2743"/>
                      </a:lnTo>
                      <a:lnTo>
                        <a:pt x="626" y="2730"/>
                      </a:lnTo>
                      <a:lnTo>
                        <a:pt x="635" y="2743"/>
                      </a:lnTo>
                      <a:lnTo>
                        <a:pt x="701" y="2668"/>
                      </a:lnTo>
                      <a:lnTo>
                        <a:pt x="771" y="2633"/>
                      </a:lnTo>
                      <a:lnTo>
                        <a:pt x="798" y="2633"/>
                      </a:lnTo>
                      <a:lnTo>
                        <a:pt x="842" y="2558"/>
                      </a:lnTo>
                      <a:lnTo>
                        <a:pt x="890" y="2536"/>
                      </a:lnTo>
                      <a:lnTo>
                        <a:pt x="943" y="2399"/>
                      </a:lnTo>
                      <a:lnTo>
                        <a:pt x="978" y="2435"/>
                      </a:lnTo>
                      <a:lnTo>
                        <a:pt x="1045" y="2351"/>
                      </a:lnTo>
                      <a:lnTo>
                        <a:pt x="1053" y="2351"/>
                      </a:lnTo>
                      <a:lnTo>
                        <a:pt x="1142" y="2249"/>
                      </a:lnTo>
                      <a:lnTo>
                        <a:pt x="1190" y="2241"/>
                      </a:lnTo>
                      <a:lnTo>
                        <a:pt x="1261" y="2241"/>
                      </a:lnTo>
                      <a:lnTo>
                        <a:pt x="1305" y="2241"/>
                      </a:lnTo>
                      <a:lnTo>
                        <a:pt x="1270" y="2117"/>
                      </a:lnTo>
                      <a:lnTo>
                        <a:pt x="1252" y="2016"/>
                      </a:lnTo>
                      <a:lnTo>
                        <a:pt x="1234" y="1807"/>
                      </a:lnTo>
                      <a:lnTo>
                        <a:pt x="1336" y="1794"/>
                      </a:lnTo>
                      <a:lnTo>
                        <a:pt x="1389" y="1759"/>
                      </a:lnTo>
                      <a:lnTo>
                        <a:pt x="1362" y="1843"/>
                      </a:lnTo>
                      <a:lnTo>
                        <a:pt x="1406" y="1905"/>
                      </a:lnTo>
                      <a:lnTo>
                        <a:pt x="1450" y="1980"/>
                      </a:lnTo>
                      <a:lnTo>
                        <a:pt x="1472" y="2029"/>
                      </a:lnTo>
                      <a:lnTo>
                        <a:pt x="1596" y="2016"/>
                      </a:lnTo>
                      <a:lnTo>
                        <a:pt x="1697" y="1834"/>
                      </a:lnTo>
                      <a:lnTo>
                        <a:pt x="1772" y="1746"/>
                      </a:lnTo>
                      <a:lnTo>
                        <a:pt x="1816" y="1684"/>
                      </a:lnTo>
                      <a:lnTo>
                        <a:pt x="1869" y="1609"/>
                      </a:lnTo>
                      <a:lnTo>
                        <a:pt x="1918" y="1512"/>
                      </a:lnTo>
                      <a:lnTo>
                        <a:pt x="1962" y="1547"/>
                      </a:lnTo>
                      <a:lnTo>
                        <a:pt x="1962" y="1490"/>
                      </a:lnTo>
                      <a:lnTo>
                        <a:pt x="1988" y="1450"/>
                      </a:lnTo>
                      <a:lnTo>
                        <a:pt x="2068" y="1477"/>
                      </a:lnTo>
                      <a:lnTo>
                        <a:pt x="2196" y="1636"/>
                      </a:lnTo>
                      <a:lnTo>
                        <a:pt x="2169" y="1195"/>
                      </a:lnTo>
                      <a:lnTo>
                        <a:pt x="2059" y="1389"/>
                      </a:lnTo>
                      <a:lnTo>
                        <a:pt x="1971" y="1375"/>
                      </a:lnTo>
                      <a:lnTo>
                        <a:pt x="1944" y="1256"/>
                      </a:lnTo>
                      <a:lnTo>
                        <a:pt x="1944" y="1195"/>
                      </a:lnTo>
                      <a:lnTo>
                        <a:pt x="1918" y="1155"/>
                      </a:lnTo>
                      <a:lnTo>
                        <a:pt x="1988" y="1058"/>
                      </a:lnTo>
                      <a:lnTo>
                        <a:pt x="2032" y="983"/>
                      </a:lnTo>
                      <a:lnTo>
                        <a:pt x="2072" y="961"/>
                      </a:lnTo>
                      <a:lnTo>
                        <a:pt x="2107" y="948"/>
                      </a:lnTo>
                      <a:lnTo>
                        <a:pt x="2134" y="886"/>
                      </a:lnTo>
                      <a:lnTo>
                        <a:pt x="2169" y="873"/>
                      </a:lnTo>
                      <a:lnTo>
                        <a:pt x="2213" y="873"/>
                      </a:lnTo>
                      <a:lnTo>
                        <a:pt x="2134" y="762"/>
                      </a:lnTo>
                      <a:lnTo>
                        <a:pt x="2059" y="789"/>
                      </a:lnTo>
                      <a:lnTo>
                        <a:pt x="2006" y="789"/>
                      </a:lnTo>
                      <a:lnTo>
                        <a:pt x="1962" y="749"/>
                      </a:lnTo>
                      <a:lnTo>
                        <a:pt x="1962" y="824"/>
                      </a:lnTo>
                      <a:lnTo>
                        <a:pt x="1918" y="899"/>
                      </a:lnTo>
                      <a:lnTo>
                        <a:pt x="1860" y="1023"/>
                      </a:lnTo>
                      <a:lnTo>
                        <a:pt x="1799" y="1071"/>
                      </a:lnTo>
                      <a:lnTo>
                        <a:pt x="1759" y="1071"/>
                      </a:lnTo>
                      <a:lnTo>
                        <a:pt x="1741" y="1155"/>
                      </a:lnTo>
                      <a:lnTo>
                        <a:pt x="1741" y="1195"/>
                      </a:lnTo>
                      <a:lnTo>
                        <a:pt x="1706" y="1230"/>
                      </a:lnTo>
                      <a:lnTo>
                        <a:pt x="1750" y="1375"/>
                      </a:lnTo>
                      <a:lnTo>
                        <a:pt x="1772" y="1450"/>
                      </a:lnTo>
                      <a:lnTo>
                        <a:pt x="1724" y="1561"/>
                      </a:lnTo>
                      <a:lnTo>
                        <a:pt x="1662" y="1636"/>
                      </a:lnTo>
                      <a:lnTo>
                        <a:pt x="1644" y="1746"/>
                      </a:lnTo>
                      <a:lnTo>
                        <a:pt x="1613" y="1834"/>
                      </a:lnTo>
                      <a:lnTo>
                        <a:pt x="1578" y="1834"/>
                      </a:lnTo>
                      <a:lnTo>
                        <a:pt x="1525" y="1843"/>
                      </a:lnTo>
                      <a:lnTo>
                        <a:pt x="1472" y="1882"/>
                      </a:lnTo>
                      <a:lnTo>
                        <a:pt x="1459" y="1869"/>
                      </a:lnTo>
                      <a:lnTo>
                        <a:pt x="1459" y="1807"/>
                      </a:lnTo>
                      <a:lnTo>
                        <a:pt x="1450" y="1710"/>
                      </a:lnTo>
                      <a:lnTo>
                        <a:pt x="1406" y="1710"/>
                      </a:lnTo>
                      <a:lnTo>
                        <a:pt x="1380" y="1649"/>
                      </a:lnTo>
                      <a:lnTo>
                        <a:pt x="1389" y="1561"/>
                      </a:lnTo>
                      <a:lnTo>
                        <a:pt x="1397" y="1512"/>
                      </a:lnTo>
                      <a:lnTo>
                        <a:pt x="1389" y="1490"/>
                      </a:lnTo>
                      <a:lnTo>
                        <a:pt x="1353" y="1512"/>
                      </a:lnTo>
                      <a:lnTo>
                        <a:pt x="1336" y="1512"/>
                      </a:lnTo>
                      <a:lnTo>
                        <a:pt x="1309" y="1499"/>
                      </a:lnTo>
                      <a:lnTo>
                        <a:pt x="1296" y="1490"/>
                      </a:lnTo>
                      <a:lnTo>
                        <a:pt x="1252" y="1538"/>
                      </a:lnTo>
                      <a:lnTo>
                        <a:pt x="1208" y="1600"/>
                      </a:lnTo>
                      <a:lnTo>
                        <a:pt x="1164" y="1662"/>
                      </a:lnTo>
                      <a:lnTo>
                        <a:pt x="1071" y="1649"/>
                      </a:lnTo>
                      <a:lnTo>
                        <a:pt x="1009" y="1636"/>
                      </a:lnTo>
                      <a:lnTo>
                        <a:pt x="970" y="1574"/>
                      </a:lnTo>
                      <a:lnTo>
                        <a:pt x="970" y="1538"/>
                      </a:lnTo>
                      <a:lnTo>
                        <a:pt x="996" y="1490"/>
                      </a:lnTo>
                      <a:lnTo>
                        <a:pt x="1027" y="1450"/>
                      </a:lnTo>
                      <a:lnTo>
                        <a:pt x="1053" y="1402"/>
                      </a:lnTo>
                      <a:lnTo>
                        <a:pt x="996" y="1428"/>
                      </a:lnTo>
                      <a:lnTo>
                        <a:pt x="970" y="1367"/>
                      </a:lnTo>
                      <a:lnTo>
                        <a:pt x="970" y="1327"/>
                      </a:lnTo>
                      <a:lnTo>
                        <a:pt x="1053" y="1314"/>
                      </a:lnTo>
                      <a:lnTo>
                        <a:pt x="1133" y="1305"/>
                      </a:lnTo>
                      <a:lnTo>
                        <a:pt x="1080" y="1265"/>
                      </a:lnTo>
                      <a:lnTo>
                        <a:pt x="1001" y="1278"/>
                      </a:lnTo>
                      <a:lnTo>
                        <a:pt x="1001" y="1203"/>
                      </a:lnTo>
                      <a:lnTo>
                        <a:pt x="1036" y="1155"/>
                      </a:lnTo>
                      <a:lnTo>
                        <a:pt x="1115" y="1106"/>
                      </a:lnTo>
                      <a:lnTo>
                        <a:pt x="1142" y="1058"/>
                      </a:lnTo>
                      <a:lnTo>
                        <a:pt x="1164" y="1031"/>
                      </a:lnTo>
                      <a:lnTo>
                        <a:pt x="1225" y="1023"/>
                      </a:lnTo>
                      <a:lnTo>
                        <a:pt x="1278" y="1031"/>
                      </a:lnTo>
                      <a:lnTo>
                        <a:pt x="1305" y="1058"/>
                      </a:lnTo>
                      <a:lnTo>
                        <a:pt x="1344" y="1023"/>
                      </a:lnTo>
                      <a:lnTo>
                        <a:pt x="1305" y="1009"/>
                      </a:lnTo>
                      <a:lnTo>
                        <a:pt x="1305" y="908"/>
                      </a:lnTo>
                      <a:lnTo>
                        <a:pt x="1415" y="798"/>
                      </a:lnTo>
                      <a:lnTo>
                        <a:pt x="1472" y="727"/>
                      </a:lnTo>
                      <a:lnTo>
                        <a:pt x="1508" y="714"/>
                      </a:lnTo>
                      <a:lnTo>
                        <a:pt x="1499" y="674"/>
                      </a:lnTo>
                      <a:lnTo>
                        <a:pt x="1552" y="604"/>
                      </a:lnTo>
                      <a:lnTo>
                        <a:pt x="1613" y="493"/>
                      </a:lnTo>
                      <a:lnTo>
                        <a:pt x="1680" y="440"/>
                      </a:lnTo>
                      <a:lnTo>
                        <a:pt x="1627" y="392"/>
                      </a:lnTo>
                      <a:lnTo>
                        <a:pt x="1768" y="282"/>
                      </a:lnTo>
                      <a:lnTo>
                        <a:pt x="1825" y="295"/>
                      </a:lnTo>
                      <a:lnTo>
                        <a:pt x="1816" y="233"/>
                      </a:lnTo>
                      <a:lnTo>
                        <a:pt x="1935" y="220"/>
                      </a:lnTo>
                      <a:lnTo>
                        <a:pt x="2160" y="26"/>
                      </a:lnTo>
                      <a:lnTo>
                        <a:pt x="2196" y="0"/>
                      </a:lnTo>
                      <a:lnTo>
                        <a:pt x="2151" y="145"/>
                      </a:lnTo>
                      <a:lnTo>
                        <a:pt x="2204" y="74"/>
                      </a:lnTo>
                      <a:lnTo>
                        <a:pt x="2262" y="48"/>
                      </a:lnTo>
                      <a:lnTo>
                        <a:pt x="2253" y="110"/>
                      </a:lnTo>
                      <a:lnTo>
                        <a:pt x="2426" y="35"/>
                      </a:lnTo>
                      <a:lnTo>
                        <a:pt x="2505" y="97"/>
                      </a:lnTo>
                      <a:lnTo>
                        <a:pt x="2391" y="158"/>
                      </a:lnTo>
                      <a:lnTo>
                        <a:pt x="2435" y="233"/>
                      </a:lnTo>
                      <a:lnTo>
                        <a:pt x="2598" y="220"/>
                      </a:lnTo>
                      <a:lnTo>
                        <a:pt x="2845" y="330"/>
                      </a:lnTo>
                      <a:lnTo>
                        <a:pt x="2832" y="454"/>
                      </a:lnTo>
                      <a:lnTo>
                        <a:pt x="2726" y="564"/>
                      </a:lnTo>
                      <a:lnTo>
                        <a:pt x="2571" y="626"/>
                      </a:lnTo>
                      <a:lnTo>
                        <a:pt x="2545" y="749"/>
                      </a:lnTo>
                      <a:lnTo>
                        <a:pt x="2554" y="873"/>
                      </a:lnTo>
                      <a:lnTo>
                        <a:pt x="2598" y="899"/>
                      </a:lnTo>
                      <a:lnTo>
                        <a:pt x="2607" y="961"/>
                      </a:lnTo>
                      <a:lnTo>
                        <a:pt x="2624" y="983"/>
                      </a:lnTo>
                      <a:lnTo>
                        <a:pt x="2660" y="1009"/>
                      </a:lnTo>
                      <a:lnTo>
                        <a:pt x="2668" y="1080"/>
                      </a:lnTo>
                      <a:lnTo>
                        <a:pt x="2717" y="1168"/>
                      </a:lnTo>
                      <a:lnTo>
                        <a:pt x="2717" y="1203"/>
                      </a:lnTo>
                      <a:lnTo>
                        <a:pt x="2770" y="1203"/>
                      </a:lnTo>
                      <a:lnTo>
                        <a:pt x="2787" y="1230"/>
                      </a:lnTo>
                      <a:lnTo>
                        <a:pt x="2832" y="1256"/>
                      </a:lnTo>
                      <a:lnTo>
                        <a:pt x="2854" y="1217"/>
                      </a:lnTo>
                      <a:lnTo>
                        <a:pt x="2880" y="1155"/>
                      </a:lnTo>
                      <a:lnTo>
                        <a:pt x="2898" y="1120"/>
                      </a:lnTo>
                      <a:lnTo>
                        <a:pt x="2942" y="1142"/>
                      </a:lnTo>
                      <a:lnTo>
                        <a:pt x="2995" y="1058"/>
                      </a:lnTo>
                      <a:lnTo>
                        <a:pt x="2995" y="996"/>
                      </a:lnTo>
                      <a:lnTo>
                        <a:pt x="3008" y="948"/>
                      </a:lnTo>
                      <a:lnTo>
                        <a:pt x="3017" y="908"/>
                      </a:lnTo>
                      <a:lnTo>
                        <a:pt x="3123" y="873"/>
                      </a:lnTo>
                      <a:lnTo>
                        <a:pt x="3206" y="837"/>
                      </a:lnTo>
                      <a:lnTo>
                        <a:pt x="3317" y="789"/>
                      </a:lnTo>
                      <a:lnTo>
                        <a:pt x="3449" y="824"/>
                      </a:lnTo>
                      <a:lnTo>
                        <a:pt x="3577" y="824"/>
                      </a:lnTo>
                      <a:lnTo>
                        <a:pt x="3788" y="824"/>
                      </a:lnTo>
                      <a:lnTo>
                        <a:pt x="3824" y="529"/>
                      </a:lnTo>
                      <a:lnTo>
                        <a:pt x="3943" y="542"/>
                      </a:lnTo>
                      <a:lnTo>
                        <a:pt x="4031" y="762"/>
                      </a:lnTo>
                      <a:lnTo>
                        <a:pt x="4049" y="577"/>
                      </a:lnTo>
                      <a:lnTo>
                        <a:pt x="4441" y="35"/>
                      </a:lnTo>
                      <a:lnTo>
                        <a:pt x="4595" y="35"/>
                      </a:lnTo>
                      <a:lnTo>
                        <a:pt x="4732" y="145"/>
                      </a:lnTo>
                      <a:lnTo>
                        <a:pt x="4913" y="136"/>
                      </a:lnTo>
                      <a:lnTo>
                        <a:pt x="5151" y="330"/>
                      </a:lnTo>
                      <a:lnTo>
                        <a:pt x="5429" y="440"/>
                      </a:lnTo>
                      <a:lnTo>
                        <a:pt x="5623" y="418"/>
                      </a:lnTo>
                      <a:lnTo>
                        <a:pt x="5883" y="542"/>
                      </a:lnTo>
                      <a:lnTo>
                        <a:pt x="6095" y="542"/>
                      </a:lnTo>
                      <a:lnTo>
                        <a:pt x="6201" y="454"/>
                      </a:lnTo>
                      <a:lnTo>
                        <a:pt x="6439" y="454"/>
                      </a:lnTo>
                      <a:lnTo>
                        <a:pt x="6567" y="555"/>
                      </a:lnTo>
                      <a:lnTo>
                        <a:pt x="6893" y="555"/>
                      </a:lnTo>
                      <a:lnTo>
                        <a:pt x="7167" y="714"/>
                      </a:lnTo>
                      <a:lnTo>
                        <a:pt x="7657" y="687"/>
                      </a:lnTo>
                      <a:lnTo>
                        <a:pt x="8455" y="762"/>
                      </a:lnTo>
                      <a:lnTo>
                        <a:pt x="8839" y="996"/>
                      </a:lnTo>
                      <a:lnTo>
                        <a:pt x="9165" y="1142"/>
                      </a:lnTo>
                      <a:lnTo>
                        <a:pt x="9372" y="1265"/>
                      </a:lnTo>
                      <a:lnTo>
                        <a:pt x="9310" y="1305"/>
                      </a:lnTo>
                      <a:lnTo>
                        <a:pt x="9165" y="1203"/>
                      </a:lnTo>
                      <a:lnTo>
                        <a:pt x="8834" y="1168"/>
                      </a:lnTo>
                      <a:lnTo>
                        <a:pt x="8927" y="1265"/>
                      </a:lnTo>
                      <a:lnTo>
                        <a:pt x="9072" y="1314"/>
                      </a:lnTo>
                      <a:lnTo>
                        <a:pt x="9028" y="1477"/>
                      </a:lnTo>
                      <a:lnTo>
                        <a:pt x="8874" y="1574"/>
                      </a:lnTo>
                      <a:lnTo>
                        <a:pt x="8825" y="1733"/>
                      </a:lnTo>
                      <a:lnTo>
                        <a:pt x="9028" y="1882"/>
                      </a:lnTo>
                      <a:lnTo>
                        <a:pt x="9174" y="2077"/>
                      </a:lnTo>
                      <a:lnTo>
                        <a:pt x="9253" y="2364"/>
                      </a:lnTo>
                      <a:lnTo>
                        <a:pt x="9156" y="2386"/>
                      </a:lnTo>
                      <a:lnTo>
                        <a:pt x="8953" y="2302"/>
                      </a:lnTo>
                      <a:lnTo>
                        <a:pt x="8737" y="2091"/>
                      </a:lnTo>
                      <a:lnTo>
                        <a:pt x="8653" y="1980"/>
                      </a:lnTo>
                      <a:lnTo>
                        <a:pt x="8600" y="1834"/>
                      </a:lnTo>
                      <a:lnTo>
                        <a:pt x="8548" y="1609"/>
                      </a:lnTo>
                      <a:lnTo>
                        <a:pt x="8464" y="1538"/>
                      </a:lnTo>
                      <a:lnTo>
                        <a:pt x="8384" y="1525"/>
                      </a:lnTo>
                      <a:lnTo>
                        <a:pt x="8318" y="1547"/>
                      </a:lnTo>
                      <a:lnTo>
                        <a:pt x="8393" y="1724"/>
                      </a:lnTo>
                      <a:lnTo>
                        <a:pt x="8190" y="1746"/>
                      </a:lnTo>
                      <a:lnTo>
                        <a:pt x="8093" y="1662"/>
                      </a:lnTo>
                      <a:lnTo>
                        <a:pt x="7913" y="1710"/>
                      </a:lnTo>
                      <a:lnTo>
                        <a:pt x="7776" y="1843"/>
                      </a:lnTo>
                      <a:lnTo>
                        <a:pt x="7776" y="1918"/>
                      </a:lnTo>
                      <a:lnTo>
                        <a:pt x="7829" y="2042"/>
                      </a:lnTo>
                      <a:lnTo>
                        <a:pt x="8045" y="2077"/>
                      </a:lnTo>
                      <a:lnTo>
                        <a:pt x="8217" y="2227"/>
                      </a:lnTo>
                      <a:lnTo>
                        <a:pt x="8508" y="2633"/>
                      </a:lnTo>
                      <a:lnTo>
                        <a:pt x="8627" y="2902"/>
                      </a:lnTo>
                      <a:lnTo>
                        <a:pt x="8645" y="3184"/>
                      </a:lnTo>
                      <a:lnTo>
                        <a:pt x="8618" y="3418"/>
                      </a:lnTo>
                      <a:lnTo>
                        <a:pt x="8548" y="3418"/>
                      </a:lnTo>
                      <a:lnTo>
                        <a:pt x="8473" y="3334"/>
                      </a:lnTo>
                      <a:lnTo>
                        <a:pt x="8362" y="3444"/>
                      </a:lnTo>
                      <a:lnTo>
                        <a:pt x="8248" y="3542"/>
                      </a:lnTo>
                      <a:lnTo>
                        <a:pt x="8230" y="3705"/>
                      </a:lnTo>
                      <a:lnTo>
                        <a:pt x="8354" y="3899"/>
                      </a:lnTo>
                      <a:lnTo>
                        <a:pt x="8274" y="4057"/>
                      </a:lnTo>
                      <a:lnTo>
                        <a:pt x="8248" y="4331"/>
                      </a:lnTo>
                      <a:lnTo>
                        <a:pt x="8393" y="4503"/>
                      </a:lnTo>
                      <a:lnTo>
                        <a:pt x="8556" y="4551"/>
                      </a:lnTo>
                      <a:lnTo>
                        <a:pt x="8728" y="4737"/>
                      </a:lnTo>
                      <a:lnTo>
                        <a:pt x="8874" y="4983"/>
                      </a:lnTo>
                      <a:lnTo>
                        <a:pt x="8883" y="5349"/>
                      </a:lnTo>
                      <a:lnTo>
                        <a:pt x="8834" y="5521"/>
                      </a:lnTo>
                      <a:lnTo>
                        <a:pt x="8680" y="5671"/>
                      </a:lnTo>
                      <a:lnTo>
                        <a:pt x="8490" y="5746"/>
                      </a:lnTo>
                      <a:lnTo>
                        <a:pt x="8371" y="5857"/>
                      </a:lnTo>
                      <a:lnTo>
                        <a:pt x="8301" y="5795"/>
                      </a:lnTo>
                      <a:lnTo>
                        <a:pt x="8239" y="5857"/>
                      </a:lnTo>
                      <a:lnTo>
                        <a:pt x="8221" y="6127"/>
                      </a:lnTo>
                      <a:lnTo>
                        <a:pt x="8265" y="6285"/>
                      </a:lnTo>
                      <a:lnTo>
                        <a:pt x="8455" y="6471"/>
                      </a:lnTo>
                      <a:lnTo>
                        <a:pt x="8530" y="6656"/>
                      </a:lnTo>
                      <a:lnTo>
                        <a:pt x="8592" y="6753"/>
                      </a:lnTo>
                      <a:lnTo>
                        <a:pt x="8574" y="6951"/>
                      </a:lnTo>
                      <a:lnTo>
                        <a:pt x="8455" y="7110"/>
                      </a:lnTo>
                      <a:lnTo>
                        <a:pt x="8327" y="7110"/>
                      </a:lnTo>
                      <a:lnTo>
                        <a:pt x="8120" y="6876"/>
                      </a:lnTo>
                      <a:lnTo>
                        <a:pt x="7974" y="6792"/>
                      </a:lnTo>
                      <a:lnTo>
                        <a:pt x="7913" y="6744"/>
                      </a:lnTo>
                      <a:lnTo>
                        <a:pt x="7855" y="6863"/>
                      </a:lnTo>
                      <a:lnTo>
                        <a:pt x="7873" y="7039"/>
                      </a:lnTo>
                      <a:lnTo>
                        <a:pt x="7921" y="7172"/>
                      </a:lnTo>
                      <a:lnTo>
                        <a:pt x="7957" y="7383"/>
                      </a:lnTo>
                      <a:lnTo>
                        <a:pt x="8085" y="7454"/>
                      </a:lnTo>
                      <a:lnTo>
                        <a:pt x="8045" y="7564"/>
                      </a:lnTo>
                      <a:lnTo>
                        <a:pt x="8054" y="7727"/>
                      </a:lnTo>
                      <a:lnTo>
                        <a:pt x="8093" y="7886"/>
                      </a:lnTo>
                      <a:lnTo>
                        <a:pt x="8010" y="7873"/>
                      </a:lnTo>
                      <a:lnTo>
                        <a:pt x="7913" y="7688"/>
                      </a:lnTo>
                      <a:lnTo>
                        <a:pt x="7921" y="7494"/>
                      </a:lnTo>
                      <a:lnTo>
                        <a:pt x="7890" y="7432"/>
                      </a:lnTo>
                      <a:lnTo>
                        <a:pt x="7855" y="7211"/>
                      </a:lnTo>
                      <a:lnTo>
                        <a:pt x="7811" y="7150"/>
                      </a:lnTo>
                      <a:lnTo>
                        <a:pt x="7793" y="6841"/>
                      </a:lnTo>
                      <a:lnTo>
                        <a:pt x="7736" y="6656"/>
                      </a:lnTo>
                      <a:lnTo>
                        <a:pt x="7630" y="6484"/>
                      </a:lnTo>
                      <a:lnTo>
                        <a:pt x="7445" y="6387"/>
                      </a:lnTo>
                      <a:lnTo>
                        <a:pt x="7313" y="6224"/>
                      </a:lnTo>
                      <a:lnTo>
                        <a:pt x="7264" y="6105"/>
                      </a:lnTo>
                      <a:lnTo>
                        <a:pt x="7167" y="5968"/>
                      </a:lnTo>
                      <a:lnTo>
                        <a:pt x="7021" y="5658"/>
                      </a:lnTo>
                      <a:lnTo>
                        <a:pt x="6893" y="5685"/>
                      </a:lnTo>
                      <a:lnTo>
                        <a:pt x="6721" y="5830"/>
                      </a:lnTo>
                      <a:lnTo>
                        <a:pt x="6646" y="5955"/>
                      </a:lnTo>
                      <a:lnTo>
                        <a:pt x="6492" y="6188"/>
                      </a:lnTo>
                      <a:lnTo>
                        <a:pt x="6377" y="6435"/>
                      </a:lnTo>
                      <a:lnTo>
                        <a:pt x="6337" y="6519"/>
                      </a:lnTo>
                      <a:lnTo>
                        <a:pt x="6377" y="6806"/>
                      </a:lnTo>
                      <a:lnTo>
                        <a:pt x="6373" y="7088"/>
                      </a:lnTo>
                      <a:lnTo>
                        <a:pt x="6231" y="7282"/>
                      </a:lnTo>
                      <a:lnTo>
                        <a:pt x="6156" y="7295"/>
                      </a:lnTo>
                      <a:lnTo>
                        <a:pt x="5993" y="6889"/>
                      </a:lnTo>
                      <a:lnTo>
                        <a:pt x="5865" y="6607"/>
                      </a:lnTo>
                      <a:lnTo>
                        <a:pt x="5610" y="6065"/>
                      </a:lnTo>
                      <a:lnTo>
                        <a:pt x="5601" y="5857"/>
                      </a:lnTo>
                      <a:lnTo>
                        <a:pt x="5539" y="5755"/>
                      </a:lnTo>
                      <a:lnTo>
                        <a:pt x="5495" y="5892"/>
                      </a:lnTo>
                      <a:lnTo>
                        <a:pt x="5275" y="5583"/>
                      </a:lnTo>
                      <a:lnTo>
                        <a:pt x="4975" y="5349"/>
                      </a:lnTo>
                      <a:lnTo>
                        <a:pt x="4785" y="5402"/>
                      </a:lnTo>
                      <a:lnTo>
                        <a:pt x="4512" y="5376"/>
                      </a:lnTo>
                      <a:lnTo>
                        <a:pt x="4379" y="5204"/>
                      </a:lnTo>
                      <a:lnTo>
                        <a:pt x="4234" y="5226"/>
                      </a:lnTo>
                      <a:lnTo>
                        <a:pt x="4031" y="5155"/>
                      </a:lnTo>
                      <a:lnTo>
                        <a:pt x="3603" y="4578"/>
                      </a:lnTo>
                      <a:lnTo>
                        <a:pt x="3625" y="4812"/>
                      </a:lnTo>
                      <a:lnTo>
                        <a:pt x="3758" y="5142"/>
                      </a:lnTo>
                      <a:lnTo>
                        <a:pt x="3903" y="5376"/>
                      </a:lnTo>
                      <a:lnTo>
                        <a:pt x="4057" y="5499"/>
                      </a:lnTo>
                      <a:lnTo>
                        <a:pt x="4225" y="5402"/>
                      </a:lnTo>
                      <a:lnTo>
                        <a:pt x="4366" y="5402"/>
                      </a:lnTo>
                      <a:lnTo>
                        <a:pt x="4543" y="5610"/>
                      </a:lnTo>
                      <a:lnTo>
                        <a:pt x="4648" y="5768"/>
                      </a:lnTo>
                      <a:lnTo>
                        <a:pt x="4631" y="5870"/>
                      </a:lnTo>
                      <a:lnTo>
                        <a:pt x="4322" y="6325"/>
                      </a:lnTo>
                      <a:lnTo>
                        <a:pt x="4115" y="6497"/>
                      </a:lnTo>
                      <a:lnTo>
                        <a:pt x="3687" y="6718"/>
                      </a:lnTo>
                      <a:lnTo>
                        <a:pt x="3559" y="6792"/>
                      </a:lnTo>
                      <a:lnTo>
                        <a:pt x="3480" y="6718"/>
                      </a:lnTo>
                      <a:lnTo>
                        <a:pt x="3458" y="6629"/>
                      </a:lnTo>
                      <a:lnTo>
                        <a:pt x="3449" y="6497"/>
                      </a:lnTo>
                      <a:lnTo>
                        <a:pt x="3414" y="6360"/>
                      </a:lnTo>
                      <a:lnTo>
                        <a:pt x="3352" y="6250"/>
                      </a:lnTo>
                      <a:lnTo>
                        <a:pt x="3303" y="6153"/>
                      </a:lnTo>
                      <a:lnTo>
                        <a:pt x="3224" y="6016"/>
                      </a:lnTo>
                      <a:lnTo>
                        <a:pt x="3180" y="5928"/>
                      </a:lnTo>
                      <a:lnTo>
                        <a:pt x="3149" y="5817"/>
                      </a:lnTo>
                      <a:lnTo>
                        <a:pt x="3087" y="5720"/>
                      </a:lnTo>
                      <a:lnTo>
                        <a:pt x="2995" y="5473"/>
                      </a:lnTo>
                      <a:lnTo>
                        <a:pt x="2942" y="5376"/>
                      </a:lnTo>
                      <a:lnTo>
                        <a:pt x="2871" y="5239"/>
                      </a:lnTo>
                      <a:lnTo>
                        <a:pt x="2761" y="5054"/>
                      </a:lnTo>
                      <a:lnTo>
                        <a:pt x="2699" y="4944"/>
                      </a:lnTo>
                      <a:lnTo>
                        <a:pt x="2651" y="4873"/>
                      </a:lnTo>
                      <a:lnTo>
                        <a:pt x="2589" y="4710"/>
                      </a:lnTo>
                      <a:lnTo>
                        <a:pt x="2770" y="4565"/>
                      </a:lnTo>
                      <a:lnTo>
                        <a:pt x="2845" y="4243"/>
                      </a:lnTo>
                      <a:lnTo>
                        <a:pt x="2677" y="4159"/>
                      </a:lnTo>
                      <a:lnTo>
                        <a:pt x="2443" y="4207"/>
                      </a:lnTo>
                      <a:lnTo>
                        <a:pt x="2391" y="4172"/>
                      </a:lnTo>
                      <a:lnTo>
                        <a:pt x="2369" y="4172"/>
                      </a:lnTo>
                      <a:lnTo>
                        <a:pt x="2332" y="4172"/>
                      </a:lnTo>
                      <a:lnTo>
                        <a:pt x="2306" y="4172"/>
                      </a:lnTo>
                      <a:lnTo>
                        <a:pt x="2297" y="4110"/>
                      </a:lnTo>
                      <a:lnTo>
                        <a:pt x="2279" y="4057"/>
                      </a:lnTo>
                      <a:lnTo>
                        <a:pt x="2279" y="3960"/>
                      </a:lnTo>
                      <a:lnTo>
                        <a:pt x="2235" y="3912"/>
                      </a:lnTo>
                      <a:lnTo>
                        <a:pt x="2226" y="3850"/>
                      </a:lnTo>
                      <a:lnTo>
                        <a:pt x="2204" y="3837"/>
                      </a:lnTo>
                      <a:lnTo>
                        <a:pt x="2178" y="3788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5"/>
                      </a:lnTo>
                      <a:lnTo>
                        <a:pt x="2081" y="3665"/>
                      </a:lnTo>
                      <a:lnTo>
                        <a:pt x="2050" y="3665"/>
                      </a:lnTo>
                      <a:lnTo>
                        <a:pt x="2032" y="3665"/>
                      </a:lnTo>
                      <a:lnTo>
                        <a:pt x="2024" y="3727"/>
                      </a:lnTo>
                      <a:lnTo>
                        <a:pt x="2024" y="3788"/>
                      </a:lnTo>
                      <a:lnTo>
                        <a:pt x="2024" y="3863"/>
                      </a:lnTo>
                      <a:lnTo>
                        <a:pt x="2024" y="3938"/>
                      </a:lnTo>
                      <a:lnTo>
                        <a:pt x="2024" y="3987"/>
                      </a:lnTo>
                      <a:lnTo>
                        <a:pt x="1979" y="4009"/>
                      </a:lnTo>
                      <a:lnTo>
                        <a:pt x="1944" y="4057"/>
                      </a:lnTo>
                      <a:lnTo>
                        <a:pt x="1896" y="3987"/>
                      </a:lnTo>
                      <a:lnTo>
                        <a:pt x="1860" y="3885"/>
                      </a:lnTo>
                      <a:lnTo>
                        <a:pt x="1869" y="3775"/>
                      </a:lnTo>
                      <a:lnTo>
                        <a:pt x="1816" y="3630"/>
                      </a:lnTo>
                      <a:lnTo>
                        <a:pt x="1790" y="3533"/>
                      </a:lnTo>
                      <a:lnTo>
                        <a:pt x="1733" y="3471"/>
                      </a:lnTo>
                      <a:lnTo>
                        <a:pt x="1662" y="3409"/>
                      </a:lnTo>
                      <a:lnTo>
                        <a:pt x="1627" y="3321"/>
                      </a:lnTo>
                      <a:lnTo>
                        <a:pt x="1605" y="3259"/>
                      </a:lnTo>
                      <a:lnTo>
                        <a:pt x="1543" y="3246"/>
                      </a:lnTo>
                      <a:lnTo>
                        <a:pt x="1525" y="3211"/>
                      </a:lnTo>
                      <a:lnTo>
                        <a:pt x="1481" y="3211"/>
                      </a:lnTo>
                      <a:lnTo>
                        <a:pt x="1450" y="3273"/>
                      </a:lnTo>
                      <a:lnTo>
                        <a:pt x="1415" y="3321"/>
                      </a:lnTo>
                      <a:lnTo>
                        <a:pt x="1490" y="3383"/>
                      </a:lnTo>
                      <a:lnTo>
                        <a:pt x="1534" y="3471"/>
                      </a:lnTo>
                      <a:lnTo>
                        <a:pt x="1613" y="3581"/>
                      </a:lnTo>
                      <a:lnTo>
                        <a:pt x="1644" y="3630"/>
                      </a:lnTo>
                      <a:lnTo>
                        <a:pt x="1706" y="3665"/>
                      </a:lnTo>
                      <a:lnTo>
                        <a:pt x="1750" y="3740"/>
                      </a:lnTo>
                      <a:lnTo>
                        <a:pt x="1697" y="3828"/>
                      </a:lnTo>
                      <a:lnTo>
                        <a:pt x="1688" y="3788"/>
                      </a:lnTo>
                      <a:lnTo>
                        <a:pt x="1688" y="3740"/>
                      </a:lnTo>
                      <a:lnTo>
                        <a:pt x="1662" y="3850"/>
                      </a:lnTo>
                      <a:lnTo>
                        <a:pt x="1653" y="3947"/>
                      </a:lnTo>
                      <a:lnTo>
                        <a:pt x="1605" y="3974"/>
                      </a:lnTo>
                      <a:lnTo>
                        <a:pt x="1618" y="3850"/>
                      </a:lnTo>
                      <a:lnTo>
                        <a:pt x="1613" y="3788"/>
                      </a:lnTo>
                      <a:lnTo>
                        <a:pt x="1552" y="3753"/>
                      </a:lnTo>
                      <a:lnTo>
                        <a:pt x="1525" y="3727"/>
                      </a:lnTo>
                      <a:lnTo>
                        <a:pt x="1499" y="3678"/>
                      </a:lnTo>
                      <a:lnTo>
                        <a:pt x="1450" y="3652"/>
                      </a:lnTo>
                      <a:lnTo>
                        <a:pt x="1415" y="3616"/>
                      </a:lnTo>
                      <a:lnTo>
                        <a:pt x="1380" y="3542"/>
                      </a:lnTo>
                      <a:lnTo>
                        <a:pt x="1336" y="3506"/>
                      </a:lnTo>
                      <a:lnTo>
                        <a:pt x="1309" y="3431"/>
                      </a:lnTo>
                      <a:lnTo>
                        <a:pt x="1305" y="3370"/>
                      </a:lnTo>
                      <a:lnTo>
                        <a:pt x="1270" y="3347"/>
                      </a:lnTo>
                      <a:lnTo>
                        <a:pt x="1234" y="3308"/>
                      </a:lnTo>
                      <a:lnTo>
                        <a:pt x="1164" y="3308"/>
                      </a:lnTo>
                      <a:lnTo>
                        <a:pt x="1106" y="3321"/>
                      </a:lnTo>
                      <a:lnTo>
                        <a:pt x="1036" y="3308"/>
                      </a:lnTo>
                      <a:lnTo>
                        <a:pt x="917" y="3321"/>
                      </a:lnTo>
                      <a:lnTo>
                        <a:pt x="833" y="3334"/>
                      </a:lnTo>
                      <a:lnTo>
                        <a:pt x="806" y="3361"/>
                      </a:lnTo>
                      <a:lnTo>
                        <a:pt x="798" y="3431"/>
                      </a:lnTo>
                      <a:lnTo>
                        <a:pt x="798" y="3519"/>
                      </a:lnTo>
                      <a:lnTo>
                        <a:pt x="745" y="3603"/>
                      </a:lnTo>
                      <a:lnTo>
                        <a:pt x="709" y="3643"/>
                      </a:lnTo>
                      <a:lnTo>
                        <a:pt x="692" y="3665"/>
                      </a:lnTo>
                      <a:lnTo>
                        <a:pt x="670" y="3727"/>
                      </a:lnTo>
                      <a:lnTo>
                        <a:pt x="652" y="3775"/>
                      </a:lnTo>
                      <a:lnTo>
                        <a:pt x="679" y="3815"/>
                      </a:lnTo>
                      <a:lnTo>
                        <a:pt x="679" y="3885"/>
                      </a:lnTo>
                      <a:lnTo>
                        <a:pt x="670" y="3925"/>
                      </a:lnTo>
                      <a:lnTo>
                        <a:pt x="652" y="3974"/>
                      </a:lnTo>
                      <a:lnTo>
                        <a:pt x="608" y="4057"/>
                      </a:lnTo>
                      <a:lnTo>
                        <a:pt x="582" y="4022"/>
                      </a:lnTo>
                      <a:lnTo>
                        <a:pt x="555" y="4049"/>
                      </a:lnTo>
                      <a:lnTo>
                        <a:pt x="524" y="4084"/>
                      </a:lnTo>
                      <a:lnTo>
                        <a:pt x="471" y="4097"/>
                      </a:lnTo>
                      <a:lnTo>
                        <a:pt x="418" y="4159"/>
                      </a:lnTo>
                      <a:lnTo>
                        <a:pt x="370" y="4172"/>
                      </a:lnTo>
                      <a:lnTo>
                        <a:pt x="317" y="4172"/>
                      </a:lnTo>
                      <a:lnTo>
                        <a:pt x="264" y="4172"/>
                      </a:lnTo>
                      <a:lnTo>
                        <a:pt x="154" y="4207"/>
                      </a:lnTo>
                      <a:lnTo>
                        <a:pt x="101" y="4207"/>
                      </a:lnTo>
                      <a:lnTo>
                        <a:pt x="74" y="4119"/>
                      </a:lnTo>
                      <a:lnTo>
                        <a:pt x="52" y="4009"/>
                      </a:lnTo>
                      <a:lnTo>
                        <a:pt x="35" y="3912"/>
                      </a:lnTo>
                      <a:lnTo>
                        <a:pt x="26" y="3815"/>
                      </a:lnTo>
                      <a:lnTo>
                        <a:pt x="26" y="3691"/>
                      </a:lnTo>
                      <a:lnTo>
                        <a:pt x="0" y="35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3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6"/>
                    </a:moveTo>
                    <a:lnTo>
                      <a:pt x="264" y="1521"/>
                    </a:lnTo>
                    <a:lnTo>
                      <a:pt x="418" y="1424"/>
                    </a:lnTo>
                    <a:lnTo>
                      <a:pt x="445" y="1278"/>
                    </a:lnTo>
                    <a:lnTo>
                      <a:pt x="326" y="1190"/>
                    </a:lnTo>
                    <a:lnTo>
                      <a:pt x="317" y="1018"/>
                    </a:lnTo>
                    <a:lnTo>
                      <a:pt x="370" y="970"/>
                    </a:lnTo>
                    <a:lnTo>
                      <a:pt x="361" y="895"/>
                    </a:lnTo>
                    <a:lnTo>
                      <a:pt x="564" y="873"/>
                    </a:lnTo>
                    <a:lnTo>
                      <a:pt x="617" y="736"/>
                    </a:lnTo>
                    <a:lnTo>
                      <a:pt x="626" y="612"/>
                    </a:lnTo>
                    <a:lnTo>
                      <a:pt x="798" y="577"/>
                    </a:lnTo>
                    <a:lnTo>
                      <a:pt x="815" y="454"/>
                    </a:lnTo>
                    <a:lnTo>
                      <a:pt x="652" y="418"/>
                    </a:lnTo>
                    <a:lnTo>
                      <a:pt x="727" y="330"/>
                    </a:lnTo>
                    <a:lnTo>
                      <a:pt x="992" y="330"/>
                    </a:lnTo>
                    <a:lnTo>
                      <a:pt x="1071" y="233"/>
                    </a:lnTo>
                    <a:lnTo>
                      <a:pt x="1181" y="220"/>
                    </a:lnTo>
                    <a:lnTo>
                      <a:pt x="1252" y="145"/>
                    </a:lnTo>
                    <a:lnTo>
                      <a:pt x="1336" y="282"/>
                    </a:lnTo>
                    <a:lnTo>
                      <a:pt x="1672" y="260"/>
                    </a:lnTo>
                    <a:lnTo>
                      <a:pt x="1826" y="405"/>
                    </a:lnTo>
                    <a:lnTo>
                      <a:pt x="2324" y="370"/>
                    </a:lnTo>
                    <a:lnTo>
                      <a:pt x="2399" y="295"/>
                    </a:lnTo>
                    <a:lnTo>
                      <a:pt x="2589" y="418"/>
                    </a:lnTo>
                    <a:lnTo>
                      <a:pt x="2783" y="529"/>
                    </a:lnTo>
                    <a:lnTo>
                      <a:pt x="2880" y="480"/>
                    </a:lnTo>
                    <a:lnTo>
                      <a:pt x="2937" y="418"/>
                    </a:lnTo>
                    <a:lnTo>
                      <a:pt x="3101" y="454"/>
                    </a:lnTo>
                    <a:lnTo>
                      <a:pt x="2990" y="370"/>
                    </a:lnTo>
                    <a:lnTo>
                      <a:pt x="2889" y="379"/>
                    </a:lnTo>
                    <a:lnTo>
                      <a:pt x="2735" y="405"/>
                    </a:lnTo>
                    <a:lnTo>
                      <a:pt x="2655" y="282"/>
                    </a:lnTo>
                    <a:lnTo>
                      <a:pt x="2571" y="220"/>
                    </a:lnTo>
                    <a:lnTo>
                      <a:pt x="2571" y="123"/>
                    </a:lnTo>
                    <a:lnTo>
                      <a:pt x="2598" y="13"/>
                    </a:lnTo>
                    <a:lnTo>
                      <a:pt x="2664" y="0"/>
                    </a:lnTo>
                    <a:lnTo>
                      <a:pt x="2761" y="97"/>
                    </a:lnTo>
                    <a:lnTo>
                      <a:pt x="2783" y="48"/>
                    </a:lnTo>
                    <a:lnTo>
                      <a:pt x="2862" y="0"/>
                    </a:lnTo>
                    <a:lnTo>
                      <a:pt x="2955" y="74"/>
                    </a:lnTo>
                    <a:lnTo>
                      <a:pt x="3008" y="13"/>
                    </a:lnTo>
                    <a:lnTo>
                      <a:pt x="3061" y="110"/>
                    </a:lnTo>
                    <a:lnTo>
                      <a:pt x="3070" y="171"/>
                    </a:lnTo>
                    <a:lnTo>
                      <a:pt x="3206" y="260"/>
                    </a:lnTo>
                    <a:lnTo>
                      <a:pt x="3153" y="330"/>
                    </a:lnTo>
                    <a:lnTo>
                      <a:pt x="3153" y="432"/>
                    </a:lnTo>
                    <a:lnTo>
                      <a:pt x="3383" y="454"/>
                    </a:lnTo>
                    <a:lnTo>
                      <a:pt x="3444" y="330"/>
                    </a:lnTo>
                    <a:lnTo>
                      <a:pt x="3400" y="268"/>
                    </a:lnTo>
                    <a:lnTo>
                      <a:pt x="3299" y="282"/>
                    </a:lnTo>
                    <a:lnTo>
                      <a:pt x="3325" y="145"/>
                    </a:lnTo>
                    <a:lnTo>
                      <a:pt x="3533" y="220"/>
                    </a:lnTo>
                    <a:lnTo>
                      <a:pt x="3572" y="317"/>
                    </a:lnTo>
                    <a:lnTo>
                      <a:pt x="3744" y="317"/>
                    </a:lnTo>
                    <a:lnTo>
                      <a:pt x="3899" y="440"/>
                    </a:lnTo>
                    <a:lnTo>
                      <a:pt x="3982" y="418"/>
                    </a:lnTo>
                    <a:lnTo>
                      <a:pt x="4079" y="529"/>
                    </a:lnTo>
                    <a:lnTo>
                      <a:pt x="3982" y="674"/>
                    </a:lnTo>
                    <a:lnTo>
                      <a:pt x="3908" y="564"/>
                    </a:lnTo>
                    <a:lnTo>
                      <a:pt x="3855" y="604"/>
                    </a:lnTo>
                    <a:lnTo>
                      <a:pt x="3788" y="687"/>
                    </a:lnTo>
                    <a:lnTo>
                      <a:pt x="3678" y="762"/>
                    </a:lnTo>
                    <a:lnTo>
                      <a:pt x="3736" y="873"/>
                    </a:lnTo>
                    <a:lnTo>
                      <a:pt x="3634" y="886"/>
                    </a:lnTo>
                    <a:lnTo>
                      <a:pt x="3546" y="1031"/>
                    </a:lnTo>
                    <a:lnTo>
                      <a:pt x="3462" y="1217"/>
                    </a:lnTo>
                    <a:lnTo>
                      <a:pt x="3590" y="1375"/>
                    </a:lnTo>
                    <a:lnTo>
                      <a:pt x="3691" y="1561"/>
                    </a:lnTo>
                    <a:lnTo>
                      <a:pt x="3872" y="1583"/>
                    </a:lnTo>
                    <a:lnTo>
                      <a:pt x="4044" y="1561"/>
                    </a:lnTo>
                    <a:lnTo>
                      <a:pt x="4124" y="1658"/>
                    </a:lnTo>
                    <a:lnTo>
                      <a:pt x="4088" y="1706"/>
                    </a:lnTo>
                    <a:lnTo>
                      <a:pt x="4035" y="1808"/>
                    </a:lnTo>
                    <a:lnTo>
                      <a:pt x="4115" y="1980"/>
                    </a:lnTo>
                    <a:lnTo>
                      <a:pt x="4137" y="2100"/>
                    </a:lnTo>
                    <a:lnTo>
                      <a:pt x="4235" y="2161"/>
                    </a:lnTo>
                    <a:lnTo>
                      <a:pt x="4363" y="2051"/>
                    </a:lnTo>
                    <a:lnTo>
                      <a:pt x="4327" y="1892"/>
                    </a:lnTo>
                    <a:lnTo>
                      <a:pt x="4217" y="1756"/>
                    </a:lnTo>
                    <a:lnTo>
                      <a:pt x="4345" y="1596"/>
                    </a:lnTo>
                    <a:lnTo>
                      <a:pt x="4235" y="1327"/>
                    </a:lnTo>
                    <a:lnTo>
                      <a:pt x="4132" y="1217"/>
                    </a:lnTo>
                    <a:lnTo>
                      <a:pt x="4217" y="1120"/>
                    </a:lnTo>
                    <a:lnTo>
                      <a:pt x="4200" y="970"/>
                    </a:lnTo>
                    <a:lnTo>
                      <a:pt x="4261" y="886"/>
                    </a:lnTo>
                    <a:lnTo>
                      <a:pt x="4363" y="970"/>
                    </a:lnTo>
                    <a:lnTo>
                      <a:pt x="4601" y="1292"/>
                    </a:lnTo>
                    <a:lnTo>
                      <a:pt x="4746" y="1340"/>
                    </a:lnTo>
                    <a:lnTo>
                      <a:pt x="4790" y="1252"/>
                    </a:lnTo>
                    <a:lnTo>
                      <a:pt x="4755" y="1080"/>
                    </a:lnTo>
                    <a:lnTo>
                      <a:pt x="4843" y="1106"/>
                    </a:lnTo>
                    <a:lnTo>
                      <a:pt x="4989" y="1300"/>
                    </a:lnTo>
                    <a:lnTo>
                      <a:pt x="5015" y="1411"/>
                    </a:lnTo>
                    <a:lnTo>
                      <a:pt x="5099" y="1486"/>
                    </a:lnTo>
                    <a:lnTo>
                      <a:pt x="5271" y="1574"/>
                    </a:lnTo>
                    <a:lnTo>
                      <a:pt x="5355" y="1734"/>
                    </a:lnTo>
                    <a:lnTo>
                      <a:pt x="5487" y="1844"/>
                    </a:lnTo>
                    <a:lnTo>
                      <a:pt x="5553" y="1879"/>
                    </a:lnTo>
                    <a:lnTo>
                      <a:pt x="5562" y="1980"/>
                    </a:lnTo>
                    <a:lnTo>
                      <a:pt x="5461" y="2038"/>
                    </a:lnTo>
                    <a:lnTo>
                      <a:pt x="5399" y="1967"/>
                    </a:lnTo>
                    <a:lnTo>
                      <a:pt x="5346" y="1980"/>
                    </a:lnTo>
                    <a:lnTo>
                      <a:pt x="5333" y="2139"/>
                    </a:lnTo>
                    <a:lnTo>
                      <a:pt x="5245" y="2174"/>
                    </a:lnTo>
                    <a:lnTo>
                      <a:pt x="5152" y="2091"/>
                    </a:lnTo>
                    <a:lnTo>
                      <a:pt x="4954" y="2091"/>
                    </a:lnTo>
                    <a:lnTo>
                      <a:pt x="4927" y="2272"/>
                    </a:lnTo>
                    <a:lnTo>
                      <a:pt x="4980" y="2382"/>
                    </a:lnTo>
                    <a:lnTo>
                      <a:pt x="5055" y="2324"/>
                    </a:lnTo>
                    <a:lnTo>
                      <a:pt x="5134" y="2298"/>
                    </a:lnTo>
                    <a:lnTo>
                      <a:pt x="5209" y="2360"/>
                    </a:lnTo>
                    <a:lnTo>
                      <a:pt x="5108" y="2496"/>
                    </a:lnTo>
                    <a:lnTo>
                      <a:pt x="5209" y="2615"/>
                    </a:lnTo>
                    <a:lnTo>
                      <a:pt x="5346" y="2655"/>
                    </a:lnTo>
                    <a:lnTo>
                      <a:pt x="5333" y="2726"/>
                    </a:lnTo>
                    <a:lnTo>
                      <a:pt x="5280" y="2739"/>
                    </a:lnTo>
                    <a:lnTo>
                      <a:pt x="5152" y="3158"/>
                    </a:lnTo>
                    <a:lnTo>
                      <a:pt x="5161" y="2889"/>
                    </a:lnTo>
                    <a:lnTo>
                      <a:pt x="5218" y="2752"/>
                    </a:lnTo>
                    <a:lnTo>
                      <a:pt x="5152" y="2690"/>
                    </a:lnTo>
                    <a:lnTo>
                      <a:pt x="5073" y="2779"/>
                    </a:lnTo>
                    <a:lnTo>
                      <a:pt x="5117" y="2849"/>
                    </a:lnTo>
                    <a:lnTo>
                      <a:pt x="5055" y="2898"/>
                    </a:lnTo>
                    <a:lnTo>
                      <a:pt x="4998" y="2959"/>
                    </a:lnTo>
                    <a:lnTo>
                      <a:pt x="5007" y="3145"/>
                    </a:lnTo>
                    <a:lnTo>
                      <a:pt x="4918" y="3206"/>
                    </a:lnTo>
                    <a:lnTo>
                      <a:pt x="4799" y="3220"/>
                    </a:lnTo>
                    <a:lnTo>
                      <a:pt x="4843" y="3317"/>
                    </a:lnTo>
                    <a:lnTo>
                      <a:pt x="4799" y="3427"/>
                    </a:lnTo>
                    <a:lnTo>
                      <a:pt x="4843" y="3515"/>
                    </a:lnTo>
                    <a:lnTo>
                      <a:pt x="4773" y="3700"/>
                    </a:lnTo>
                    <a:lnTo>
                      <a:pt x="4746" y="3872"/>
                    </a:lnTo>
                    <a:lnTo>
                      <a:pt x="4645" y="3969"/>
                    </a:lnTo>
                    <a:lnTo>
                      <a:pt x="4517" y="4238"/>
                    </a:lnTo>
                    <a:lnTo>
                      <a:pt x="4499" y="4423"/>
                    </a:lnTo>
                    <a:lnTo>
                      <a:pt x="4544" y="4569"/>
                    </a:lnTo>
                    <a:lnTo>
                      <a:pt x="4601" y="4754"/>
                    </a:lnTo>
                    <a:lnTo>
                      <a:pt x="4636" y="4953"/>
                    </a:lnTo>
                    <a:lnTo>
                      <a:pt x="4579" y="5036"/>
                    </a:lnTo>
                    <a:lnTo>
                      <a:pt x="4499" y="4975"/>
                    </a:lnTo>
                    <a:lnTo>
                      <a:pt x="4517" y="4878"/>
                    </a:lnTo>
                    <a:lnTo>
                      <a:pt x="4473" y="4657"/>
                    </a:lnTo>
                    <a:lnTo>
                      <a:pt x="4424" y="4622"/>
                    </a:lnTo>
                    <a:lnTo>
                      <a:pt x="4389" y="4485"/>
                    </a:lnTo>
                    <a:lnTo>
                      <a:pt x="4319" y="4485"/>
                    </a:lnTo>
                    <a:lnTo>
                      <a:pt x="4244" y="4410"/>
                    </a:lnTo>
                    <a:lnTo>
                      <a:pt x="4154" y="4437"/>
                    </a:lnTo>
                    <a:lnTo>
                      <a:pt x="4079" y="4388"/>
                    </a:lnTo>
                    <a:lnTo>
                      <a:pt x="3982" y="4450"/>
                    </a:lnTo>
                    <a:lnTo>
                      <a:pt x="3815" y="4397"/>
                    </a:lnTo>
                    <a:lnTo>
                      <a:pt x="3925" y="4560"/>
                    </a:lnTo>
                    <a:lnTo>
                      <a:pt x="3788" y="4547"/>
                    </a:lnTo>
                    <a:lnTo>
                      <a:pt x="3691" y="4423"/>
                    </a:lnTo>
                    <a:lnTo>
                      <a:pt x="3524" y="4423"/>
                    </a:lnTo>
                    <a:lnTo>
                      <a:pt x="3546" y="4622"/>
                    </a:lnTo>
                    <a:lnTo>
                      <a:pt x="3418" y="4560"/>
                    </a:lnTo>
                    <a:lnTo>
                      <a:pt x="3352" y="4754"/>
                    </a:lnTo>
                    <a:lnTo>
                      <a:pt x="3400" y="4842"/>
                    </a:lnTo>
                    <a:lnTo>
                      <a:pt x="3352" y="5076"/>
                    </a:lnTo>
                    <a:lnTo>
                      <a:pt x="3409" y="5346"/>
                    </a:lnTo>
                    <a:lnTo>
                      <a:pt x="3480" y="5531"/>
                    </a:lnTo>
                    <a:lnTo>
                      <a:pt x="3555" y="5703"/>
                    </a:lnTo>
                    <a:lnTo>
                      <a:pt x="3788" y="5690"/>
                    </a:lnTo>
                    <a:lnTo>
                      <a:pt x="3881" y="5655"/>
                    </a:lnTo>
                    <a:lnTo>
                      <a:pt x="3899" y="5531"/>
                    </a:lnTo>
                    <a:lnTo>
                      <a:pt x="3846" y="5430"/>
                    </a:lnTo>
                    <a:lnTo>
                      <a:pt x="3855" y="5346"/>
                    </a:lnTo>
                    <a:lnTo>
                      <a:pt x="4000" y="5368"/>
                    </a:lnTo>
                    <a:lnTo>
                      <a:pt x="4146" y="5320"/>
                    </a:lnTo>
                    <a:lnTo>
                      <a:pt x="4146" y="5430"/>
                    </a:lnTo>
                    <a:lnTo>
                      <a:pt x="4106" y="5593"/>
                    </a:lnTo>
                    <a:lnTo>
                      <a:pt x="4035" y="5712"/>
                    </a:lnTo>
                    <a:lnTo>
                      <a:pt x="4018" y="5884"/>
                    </a:lnTo>
                    <a:lnTo>
                      <a:pt x="4115" y="5959"/>
                    </a:lnTo>
                    <a:lnTo>
                      <a:pt x="4244" y="5937"/>
                    </a:lnTo>
                    <a:lnTo>
                      <a:pt x="4319" y="5999"/>
                    </a:lnTo>
                    <a:lnTo>
                      <a:pt x="4389" y="5972"/>
                    </a:lnTo>
                    <a:lnTo>
                      <a:pt x="4416" y="6083"/>
                    </a:lnTo>
                    <a:lnTo>
                      <a:pt x="4354" y="6241"/>
                    </a:lnTo>
                    <a:lnTo>
                      <a:pt x="4407" y="6343"/>
                    </a:lnTo>
                    <a:lnTo>
                      <a:pt x="4416" y="6537"/>
                    </a:lnTo>
                    <a:lnTo>
                      <a:pt x="4499" y="6673"/>
                    </a:lnTo>
                    <a:lnTo>
                      <a:pt x="4610" y="6709"/>
                    </a:lnTo>
                    <a:lnTo>
                      <a:pt x="4689" y="6673"/>
                    </a:lnTo>
                    <a:lnTo>
                      <a:pt x="4724" y="6687"/>
                    </a:lnTo>
                    <a:lnTo>
                      <a:pt x="4870" y="6687"/>
                    </a:lnTo>
                    <a:lnTo>
                      <a:pt x="4998" y="6695"/>
                    </a:lnTo>
                    <a:lnTo>
                      <a:pt x="5033" y="6612"/>
                    </a:lnTo>
                    <a:lnTo>
                      <a:pt x="4918" y="6757"/>
                    </a:lnTo>
                    <a:lnTo>
                      <a:pt x="4843" y="6744"/>
                    </a:lnTo>
                    <a:lnTo>
                      <a:pt x="4764" y="6757"/>
                    </a:lnTo>
                    <a:lnTo>
                      <a:pt x="4610" y="6832"/>
                    </a:lnTo>
                    <a:lnTo>
                      <a:pt x="4482" y="6735"/>
                    </a:lnTo>
                    <a:lnTo>
                      <a:pt x="4363" y="6673"/>
                    </a:lnTo>
                    <a:lnTo>
                      <a:pt x="4310" y="6687"/>
                    </a:lnTo>
                    <a:lnTo>
                      <a:pt x="4319" y="6598"/>
                    </a:lnTo>
                    <a:lnTo>
                      <a:pt x="4310" y="6462"/>
                    </a:lnTo>
                    <a:lnTo>
                      <a:pt x="4208" y="6343"/>
                    </a:lnTo>
                    <a:lnTo>
                      <a:pt x="3991" y="6268"/>
                    </a:lnTo>
                    <a:lnTo>
                      <a:pt x="3960" y="6219"/>
                    </a:lnTo>
                    <a:lnTo>
                      <a:pt x="3899" y="6228"/>
                    </a:lnTo>
                    <a:lnTo>
                      <a:pt x="3837" y="6171"/>
                    </a:lnTo>
                    <a:lnTo>
                      <a:pt x="3762" y="6109"/>
                    </a:lnTo>
                    <a:lnTo>
                      <a:pt x="3661" y="5937"/>
                    </a:lnTo>
                    <a:lnTo>
                      <a:pt x="3537" y="5884"/>
                    </a:lnTo>
                    <a:lnTo>
                      <a:pt x="3471" y="5999"/>
                    </a:lnTo>
                    <a:lnTo>
                      <a:pt x="3392" y="5911"/>
                    </a:lnTo>
                    <a:lnTo>
                      <a:pt x="3299" y="5911"/>
                    </a:lnTo>
                    <a:lnTo>
                      <a:pt x="3109" y="5849"/>
                    </a:lnTo>
                    <a:lnTo>
                      <a:pt x="2770" y="5553"/>
                    </a:lnTo>
                    <a:lnTo>
                      <a:pt x="2743" y="5249"/>
                    </a:lnTo>
                    <a:lnTo>
                      <a:pt x="2708" y="5126"/>
                    </a:lnTo>
                    <a:lnTo>
                      <a:pt x="2646" y="5036"/>
                    </a:lnTo>
                    <a:lnTo>
                      <a:pt x="2571" y="4864"/>
                    </a:lnTo>
                    <a:lnTo>
                      <a:pt x="2210" y="4278"/>
                    </a:lnTo>
                    <a:lnTo>
                      <a:pt x="2210" y="4498"/>
                    </a:lnTo>
                    <a:lnTo>
                      <a:pt x="2435" y="4891"/>
                    </a:lnTo>
                    <a:lnTo>
                      <a:pt x="2527" y="5223"/>
                    </a:lnTo>
                    <a:lnTo>
                      <a:pt x="2391" y="5148"/>
                    </a:lnTo>
                    <a:lnTo>
                      <a:pt x="2364" y="4953"/>
                    </a:lnTo>
                    <a:lnTo>
                      <a:pt x="2183" y="4829"/>
                    </a:lnTo>
                    <a:lnTo>
                      <a:pt x="2289" y="4754"/>
                    </a:lnTo>
                    <a:lnTo>
                      <a:pt x="2047" y="4547"/>
                    </a:lnTo>
                    <a:lnTo>
                      <a:pt x="2144" y="4423"/>
                    </a:lnTo>
                    <a:lnTo>
                      <a:pt x="2055" y="4177"/>
                    </a:lnTo>
                    <a:lnTo>
                      <a:pt x="1764" y="3661"/>
                    </a:lnTo>
                    <a:lnTo>
                      <a:pt x="1729" y="3365"/>
                    </a:lnTo>
                    <a:lnTo>
                      <a:pt x="1747" y="3145"/>
                    </a:lnTo>
                    <a:lnTo>
                      <a:pt x="1826" y="2898"/>
                    </a:lnTo>
                    <a:lnTo>
                      <a:pt x="1826" y="2655"/>
                    </a:lnTo>
                    <a:lnTo>
                      <a:pt x="1764" y="2505"/>
                    </a:lnTo>
                    <a:lnTo>
                      <a:pt x="1928" y="2457"/>
                    </a:lnTo>
                    <a:lnTo>
                      <a:pt x="1729" y="2161"/>
                    </a:lnTo>
                    <a:lnTo>
                      <a:pt x="1738" y="2029"/>
                    </a:lnTo>
                    <a:lnTo>
                      <a:pt x="1654" y="1844"/>
                    </a:lnTo>
                    <a:lnTo>
                      <a:pt x="1689" y="1734"/>
                    </a:lnTo>
                    <a:lnTo>
                      <a:pt x="1628" y="1671"/>
                    </a:lnTo>
                    <a:lnTo>
                      <a:pt x="1619" y="1547"/>
                    </a:lnTo>
                    <a:lnTo>
                      <a:pt x="1562" y="1450"/>
                    </a:lnTo>
                    <a:lnTo>
                      <a:pt x="1628" y="1362"/>
                    </a:lnTo>
                    <a:lnTo>
                      <a:pt x="1535" y="1300"/>
                    </a:lnTo>
                    <a:lnTo>
                      <a:pt x="1456" y="1389"/>
                    </a:lnTo>
                    <a:lnTo>
                      <a:pt x="1344" y="1217"/>
                    </a:lnTo>
                    <a:lnTo>
                      <a:pt x="1225" y="1168"/>
                    </a:lnTo>
                    <a:lnTo>
                      <a:pt x="1053" y="1168"/>
                    </a:lnTo>
                    <a:lnTo>
                      <a:pt x="943" y="1327"/>
                    </a:lnTo>
                    <a:lnTo>
                      <a:pt x="890" y="1278"/>
                    </a:lnTo>
                    <a:lnTo>
                      <a:pt x="983" y="1067"/>
                    </a:lnTo>
                    <a:lnTo>
                      <a:pt x="899" y="1106"/>
                    </a:lnTo>
                    <a:lnTo>
                      <a:pt x="727" y="1327"/>
                    </a:lnTo>
                    <a:lnTo>
                      <a:pt x="546" y="1521"/>
                    </a:lnTo>
                    <a:lnTo>
                      <a:pt x="383" y="1574"/>
                    </a:lnTo>
                    <a:lnTo>
                      <a:pt x="110" y="1769"/>
                    </a:lnTo>
                    <a:lnTo>
                      <a:pt x="0" y="17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70"/>
                    </a:moveTo>
                    <a:lnTo>
                      <a:pt x="44" y="233"/>
                    </a:lnTo>
                    <a:lnTo>
                      <a:pt x="44" y="136"/>
                    </a:lnTo>
                    <a:lnTo>
                      <a:pt x="110" y="0"/>
                    </a:lnTo>
                    <a:lnTo>
                      <a:pt x="454" y="88"/>
                    </a:lnTo>
                    <a:lnTo>
                      <a:pt x="1041" y="246"/>
                    </a:lnTo>
                    <a:lnTo>
                      <a:pt x="1275" y="379"/>
                    </a:lnTo>
                    <a:lnTo>
                      <a:pt x="1579" y="503"/>
                    </a:lnTo>
                    <a:lnTo>
                      <a:pt x="1734" y="737"/>
                    </a:lnTo>
                    <a:lnTo>
                      <a:pt x="1888" y="847"/>
                    </a:lnTo>
                    <a:lnTo>
                      <a:pt x="1826" y="935"/>
                    </a:lnTo>
                    <a:lnTo>
                      <a:pt x="1826" y="1046"/>
                    </a:lnTo>
                    <a:lnTo>
                      <a:pt x="1769" y="1072"/>
                    </a:lnTo>
                    <a:lnTo>
                      <a:pt x="1716" y="1169"/>
                    </a:lnTo>
                    <a:lnTo>
                      <a:pt x="1769" y="1266"/>
                    </a:lnTo>
                    <a:lnTo>
                      <a:pt x="1760" y="1341"/>
                    </a:lnTo>
                    <a:lnTo>
                      <a:pt x="1698" y="1439"/>
                    </a:lnTo>
                    <a:lnTo>
                      <a:pt x="1707" y="1536"/>
                    </a:lnTo>
                    <a:lnTo>
                      <a:pt x="1813" y="1638"/>
                    </a:lnTo>
                    <a:lnTo>
                      <a:pt x="1822" y="1735"/>
                    </a:lnTo>
                    <a:lnTo>
                      <a:pt x="1795" y="1783"/>
                    </a:lnTo>
                    <a:lnTo>
                      <a:pt x="1689" y="1796"/>
                    </a:lnTo>
                    <a:lnTo>
                      <a:pt x="1614" y="1748"/>
                    </a:lnTo>
                    <a:lnTo>
                      <a:pt x="1531" y="1624"/>
                    </a:lnTo>
                    <a:lnTo>
                      <a:pt x="1495" y="1624"/>
                    </a:lnTo>
                    <a:lnTo>
                      <a:pt x="1451" y="1576"/>
                    </a:lnTo>
                    <a:lnTo>
                      <a:pt x="1412" y="1426"/>
                    </a:lnTo>
                    <a:lnTo>
                      <a:pt x="1359" y="1377"/>
                    </a:lnTo>
                    <a:lnTo>
                      <a:pt x="1248" y="1301"/>
                    </a:lnTo>
                    <a:lnTo>
                      <a:pt x="1151" y="1253"/>
                    </a:lnTo>
                    <a:lnTo>
                      <a:pt x="1015" y="1121"/>
                    </a:lnTo>
                    <a:lnTo>
                      <a:pt x="957" y="1019"/>
                    </a:lnTo>
                    <a:lnTo>
                      <a:pt x="966" y="949"/>
                    </a:lnTo>
                    <a:lnTo>
                      <a:pt x="1024" y="887"/>
                    </a:lnTo>
                    <a:lnTo>
                      <a:pt x="975" y="812"/>
                    </a:lnTo>
                    <a:lnTo>
                      <a:pt x="921" y="847"/>
                    </a:lnTo>
                    <a:lnTo>
                      <a:pt x="837" y="737"/>
                    </a:lnTo>
                    <a:lnTo>
                      <a:pt x="820" y="799"/>
                    </a:lnTo>
                    <a:lnTo>
                      <a:pt x="740" y="799"/>
                    </a:lnTo>
                    <a:lnTo>
                      <a:pt x="727" y="750"/>
                    </a:lnTo>
                    <a:lnTo>
                      <a:pt x="727" y="666"/>
                    </a:lnTo>
                    <a:lnTo>
                      <a:pt x="692" y="613"/>
                    </a:lnTo>
                    <a:lnTo>
                      <a:pt x="639" y="627"/>
                    </a:lnTo>
                    <a:lnTo>
                      <a:pt x="573" y="494"/>
                    </a:lnTo>
                    <a:lnTo>
                      <a:pt x="520" y="481"/>
                    </a:lnTo>
                    <a:lnTo>
                      <a:pt x="445" y="418"/>
                    </a:lnTo>
                    <a:lnTo>
                      <a:pt x="282" y="432"/>
                    </a:lnTo>
                    <a:lnTo>
                      <a:pt x="119" y="418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4" y="0"/>
                    </a:moveTo>
                    <a:lnTo>
                      <a:pt x="0" y="74"/>
                    </a:lnTo>
                    <a:lnTo>
                      <a:pt x="0" y="158"/>
                    </a:lnTo>
                    <a:lnTo>
                      <a:pt x="83" y="247"/>
                    </a:lnTo>
                    <a:lnTo>
                      <a:pt x="136" y="220"/>
                    </a:lnTo>
                    <a:lnTo>
                      <a:pt x="154" y="261"/>
                    </a:lnTo>
                    <a:lnTo>
                      <a:pt x="202" y="269"/>
                    </a:lnTo>
                    <a:lnTo>
                      <a:pt x="238" y="207"/>
                    </a:lnTo>
                    <a:lnTo>
                      <a:pt x="358" y="220"/>
                    </a:lnTo>
                    <a:lnTo>
                      <a:pt x="375" y="283"/>
                    </a:lnTo>
                    <a:lnTo>
                      <a:pt x="415" y="309"/>
                    </a:lnTo>
                    <a:lnTo>
                      <a:pt x="516" y="296"/>
                    </a:lnTo>
                    <a:lnTo>
                      <a:pt x="552" y="331"/>
                    </a:lnTo>
                    <a:lnTo>
                      <a:pt x="605" y="371"/>
                    </a:lnTo>
                    <a:lnTo>
                      <a:pt x="644" y="441"/>
                    </a:lnTo>
                    <a:lnTo>
                      <a:pt x="644" y="543"/>
                    </a:lnTo>
                    <a:lnTo>
                      <a:pt x="609" y="565"/>
                    </a:lnTo>
                    <a:lnTo>
                      <a:pt x="627" y="605"/>
                    </a:lnTo>
                    <a:lnTo>
                      <a:pt x="578" y="662"/>
                    </a:lnTo>
                    <a:lnTo>
                      <a:pt x="578" y="751"/>
                    </a:lnTo>
                    <a:lnTo>
                      <a:pt x="653" y="764"/>
                    </a:lnTo>
                    <a:lnTo>
                      <a:pt x="697" y="738"/>
                    </a:lnTo>
                    <a:lnTo>
                      <a:pt x="710" y="703"/>
                    </a:lnTo>
                    <a:lnTo>
                      <a:pt x="737" y="738"/>
                    </a:lnTo>
                    <a:lnTo>
                      <a:pt x="781" y="716"/>
                    </a:lnTo>
                    <a:lnTo>
                      <a:pt x="874" y="764"/>
                    </a:lnTo>
                    <a:lnTo>
                      <a:pt x="932" y="848"/>
                    </a:lnTo>
                    <a:lnTo>
                      <a:pt x="950" y="848"/>
                    </a:lnTo>
                    <a:lnTo>
                      <a:pt x="958" y="897"/>
                    </a:lnTo>
                    <a:lnTo>
                      <a:pt x="1020" y="923"/>
                    </a:lnTo>
                    <a:lnTo>
                      <a:pt x="1086" y="923"/>
                    </a:lnTo>
                    <a:lnTo>
                      <a:pt x="1042" y="875"/>
                    </a:lnTo>
                    <a:lnTo>
                      <a:pt x="1060" y="826"/>
                    </a:lnTo>
                    <a:lnTo>
                      <a:pt x="1113" y="875"/>
                    </a:lnTo>
                    <a:lnTo>
                      <a:pt x="1170" y="888"/>
                    </a:lnTo>
                    <a:lnTo>
                      <a:pt x="1179" y="813"/>
                    </a:lnTo>
                    <a:lnTo>
                      <a:pt x="1122" y="751"/>
                    </a:lnTo>
                    <a:lnTo>
                      <a:pt x="1077" y="751"/>
                    </a:lnTo>
                    <a:lnTo>
                      <a:pt x="1020" y="688"/>
                    </a:lnTo>
                    <a:lnTo>
                      <a:pt x="1077" y="688"/>
                    </a:lnTo>
                    <a:lnTo>
                      <a:pt x="1122" y="725"/>
                    </a:lnTo>
                    <a:lnTo>
                      <a:pt x="1205" y="725"/>
                    </a:lnTo>
                    <a:lnTo>
                      <a:pt x="1188" y="653"/>
                    </a:lnTo>
                    <a:lnTo>
                      <a:pt x="1113" y="578"/>
                    </a:lnTo>
                    <a:lnTo>
                      <a:pt x="1060" y="565"/>
                    </a:lnTo>
                    <a:lnTo>
                      <a:pt x="985" y="481"/>
                    </a:lnTo>
                    <a:lnTo>
                      <a:pt x="891" y="455"/>
                    </a:lnTo>
                    <a:lnTo>
                      <a:pt x="816" y="419"/>
                    </a:lnTo>
                    <a:lnTo>
                      <a:pt x="755" y="309"/>
                    </a:lnTo>
                    <a:lnTo>
                      <a:pt x="710" y="171"/>
                    </a:lnTo>
                    <a:lnTo>
                      <a:pt x="653" y="171"/>
                    </a:lnTo>
                    <a:lnTo>
                      <a:pt x="636" y="136"/>
                    </a:lnTo>
                    <a:lnTo>
                      <a:pt x="605" y="145"/>
                    </a:lnTo>
                    <a:lnTo>
                      <a:pt x="543" y="88"/>
                    </a:lnTo>
                    <a:lnTo>
                      <a:pt x="441" y="61"/>
                    </a:lnTo>
                    <a:lnTo>
                      <a:pt x="397" y="97"/>
                    </a:lnTo>
                    <a:lnTo>
                      <a:pt x="305" y="61"/>
                    </a:lnTo>
                    <a:lnTo>
                      <a:pt x="246" y="61"/>
                    </a:lnTo>
                    <a:lnTo>
                      <a:pt x="220" y="13"/>
                    </a:lnTo>
                    <a:lnTo>
                      <a:pt x="194" y="0"/>
                    </a:lnTo>
                    <a:lnTo>
                      <a:pt x="154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7"/>
                    </a:moveTo>
                    <a:lnTo>
                      <a:pt x="74" y="88"/>
                    </a:lnTo>
                    <a:lnTo>
                      <a:pt x="110" y="88"/>
                    </a:lnTo>
                    <a:lnTo>
                      <a:pt x="167" y="26"/>
                    </a:lnTo>
                    <a:lnTo>
                      <a:pt x="238" y="26"/>
                    </a:lnTo>
                    <a:lnTo>
                      <a:pt x="255" y="13"/>
                    </a:lnTo>
                    <a:lnTo>
                      <a:pt x="277" y="0"/>
                    </a:lnTo>
                    <a:lnTo>
                      <a:pt x="366" y="74"/>
                    </a:lnTo>
                    <a:lnTo>
                      <a:pt x="388" y="128"/>
                    </a:lnTo>
                    <a:lnTo>
                      <a:pt x="405" y="101"/>
                    </a:lnTo>
                    <a:lnTo>
                      <a:pt x="477" y="150"/>
                    </a:lnTo>
                    <a:lnTo>
                      <a:pt x="516" y="150"/>
                    </a:lnTo>
                    <a:lnTo>
                      <a:pt x="552" y="190"/>
                    </a:lnTo>
                    <a:lnTo>
                      <a:pt x="609" y="217"/>
                    </a:lnTo>
                    <a:lnTo>
                      <a:pt x="609" y="278"/>
                    </a:lnTo>
                    <a:lnTo>
                      <a:pt x="719" y="278"/>
                    </a:lnTo>
                    <a:lnTo>
                      <a:pt x="746" y="341"/>
                    </a:lnTo>
                    <a:lnTo>
                      <a:pt x="812" y="341"/>
                    </a:lnTo>
                    <a:lnTo>
                      <a:pt x="856" y="416"/>
                    </a:lnTo>
                    <a:lnTo>
                      <a:pt x="830" y="429"/>
                    </a:lnTo>
                    <a:lnTo>
                      <a:pt x="812" y="403"/>
                    </a:lnTo>
                    <a:lnTo>
                      <a:pt x="803" y="390"/>
                    </a:lnTo>
                    <a:lnTo>
                      <a:pt x="746" y="403"/>
                    </a:lnTo>
                    <a:lnTo>
                      <a:pt x="728" y="416"/>
                    </a:lnTo>
                    <a:lnTo>
                      <a:pt x="680" y="429"/>
                    </a:lnTo>
                    <a:lnTo>
                      <a:pt x="600" y="429"/>
                    </a:lnTo>
                    <a:lnTo>
                      <a:pt x="552" y="429"/>
                    </a:lnTo>
                    <a:lnTo>
                      <a:pt x="552" y="390"/>
                    </a:lnTo>
                    <a:lnTo>
                      <a:pt x="477" y="292"/>
                    </a:lnTo>
                    <a:lnTo>
                      <a:pt x="477" y="225"/>
                    </a:lnTo>
                    <a:lnTo>
                      <a:pt x="388" y="225"/>
                    </a:lnTo>
                    <a:lnTo>
                      <a:pt x="357" y="190"/>
                    </a:lnTo>
                    <a:lnTo>
                      <a:pt x="330" y="225"/>
                    </a:lnTo>
                    <a:lnTo>
                      <a:pt x="304" y="177"/>
                    </a:lnTo>
                    <a:lnTo>
                      <a:pt x="277" y="177"/>
                    </a:lnTo>
                    <a:lnTo>
                      <a:pt x="277" y="115"/>
                    </a:lnTo>
                    <a:lnTo>
                      <a:pt x="255" y="88"/>
                    </a:lnTo>
                    <a:lnTo>
                      <a:pt x="176" y="101"/>
                    </a:lnTo>
                    <a:lnTo>
                      <a:pt x="127" y="177"/>
                    </a:lnTo>
                    <a:lnTo>
                      <a:pt x="66" y="190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5"/>
                    </a:moveTo>
                    <a:lnTo>
                      <a:pt x="52" y="288"/>
                    </a:lnTo>
                    <a:lnTo>
                      <a:pt x="176" y="275"/>
                    </a:lnTo>
                    <a:lnTo>
                      <a:pt x="229" y="350"/>
                    </a:lnTo>
                    <a:lnTo>
                      <a:pt x="300" y="363"/>
                    </a:lnTo>
                    <a:lnTo>
                      <a:pt x="336" y="275"/>
                    </a:lnTo>
                    <a:lnTo>
                      <a:pt x="318" y="252"/>
                    </a:lnTo>
                    <a:lnTo>
                      <a:pt x="353" y="212"/>
                    </a:lnTo>
                    <a:lnTo>
                      <a:pt x="424" y="275"/>
                    </a:lnTo>
                    <a:lnTo>
                      <a:pt x="477" y="275"/>
                    </a:lnTo>
                    <a:lnTo>
                      <a:pt x="477" y="239"/>
                    </a:lnTo>
                    <a:lnTo>
                      <a:pt x="512" y="239"/>
                    </a:lnTo>
                    <a:lnTo>
                      <a:pt x="565" y="177"/>
                    </a:lnTo>
                    <a:lnTo>
                      <a:pt x="530" y="164"/>
                    </a:lnTo>
                    <a:lnTo>
                      <a:pt x="530" y="102"/>
                    </a:lnTo>
                    <a:lnTo>
                      <a:pt x="530" y="48"/>
                    </a:lnTo>
                    <a:lnTo>
                      <a:pt x="450" y="35"/>
                    </a:lnTo>
                    <a:lnTo>
                      <a:pt x="389" y="48"/>
                    </a:lnTo>
                    <a:lnTo>
                      <a:pt x="336" y="48"/>
                    </a:lnTo>
                    <a:lnTo>
                      <a:pt x="255" y="35"/>
                    </a:lnTo>
                    <a:lnTo>
                      <a:pt x="194" y="0"/>
                    </a:lnTo>
                    <a:lnTo>
                      <a:pt x="176" y="35"/>
                    </a:lnTo>
                    <a:lnTo>
                      <a:pt x="167" y="111"/>
                    </a:lnTo>
                    <a:lnTo>
                      <a:pt x="105" y="111"/>
                    </a:lnTo>
                    <a:lnTo>
                      <a:pt x="88" y="177"/>
                    </a:lnTo>
                    <a:lnTo>
                      <a:pt x="52" y="199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3" y="330"/>
                    </a:moveTo>
                    <a:lnTo>
                      <a:pt x="317" y="246"/>
                    </a:lnTo>
                    <a:lnTo>
                      <a:pt x="405" y="123"/>
                    </a:lnTo>
                    <a:lnTo>
                      <a:pt x="533" y="48"/>
                    </a:lnTo>
                    <a:lnTo>
                      <a:pt x="599" y="0"/>
                    </a:lnTo>
                    <a:lnTo>
                      <a:pt x="670" y="13"/>
                    </a:lnTo>
                    <a:lnTo>
                      <a:pt x="652" y="74"/>
                    </a:lnTo>
                    <a:lnTo>
                      <a:pt x="577" y="136"/>
                    </a:lnTo>
                    <a:lnTo>
                      <a:pt x="560" y="260"/>
                    </a:lnTo>
                    <a:lnTo>
                      <a:pt x="577" y="357"/>
                    </a:lnTo>
                    <a:lnTo>
                      <a:pt x="643" y="357"/>
                    </a:lnTo>
                    <a:lnTo>
                      <a:pt x="670" y="246"/>
                    </a:lnTo>
                    <a:lnTo>
                      <a:pt x="687" y="136"/>
                    </a:lnTo>
                    <a:lnTo>
                      <a:pt x="732" y="171"/>
                    </a:lnTo>
                    <a:lnTo>
                      <a:pt x="780" y="233"/>
                    </a:lnTo>
                    <a:lnTo>
                      <a:pt x="868" y="207"/>
                    </a:lnTo>
                    <a:lnTo>
                      <a:pt x="921" y="260"/>
                    </a:lnTo>
                    <a:lnTo>
                      <a:pt x="934" y="321"/>
                    </a:lnTo>
                    <a:lnTo>
                      <a:pt x="1067" y="295"/>
                    </a:lnTo>
                    <a:lnTo>
                      <a:pt x="1322" y="260"/>
                    </a:lnTo>
                    <a:lnTo>
                      <a:pt x="1419" y="454"/>
                    </a:lnTo>
                    <a:lnTo>
                      <a:pt x="1583" y="555"/>
                    </a:lnTo>
                    <a:lnTo>
                      <a:pt x="1574" y="639"/>
                    </a:lnTo>
                    <a:lnTo>
                      <a:pt x="1640" y="590"/>
                    </a:lnTo>
                    <a:lnTo>
                      <a:pt x="1719" y="590"/>
                    </a:lnTo>
                    <a:lnTo>
                      <a:pt x="1813" y="679"/>
                    </a:lnTo>
                    <a:lnTo>
                      <a:pt x="1928" y="665"/>
                    </a:lnTo>
                    <a:lnTo>
                      <a:pt x="2020" y="679"/>
                    </a:lnTo>
                    <a:lnTo>
                      <a:pt x="2174" y="837"/>
                    </a:lnTo>
                    <a:lnTo>
                      <a:pt x="2338" y="1031"/>
                    </a:lnTo>
                    <a:lnTo>
                      <a:pt x="2408" y="1256"/>
                    </a:lnTo>
                    <a:lnTo>
                      <a:pt x="2364" y="1428"/>
                    </a:lnTo>
                    <a:lnTo>
                      <a:pt x="2563" y="1490"/>
                    </a:lnTo>
                    <a:lnTo>
                      <a:pt x="2889" y="1574"/>
                    </a:lnTo>
                    <a:lnTo>
                      <a:pt x="3224" y="1675"/>
                    </a:lnTo>
                    <a:lnTo>
                      <a:pt x="3440" y="1869"/>
                    </a:lnTo>
                    <a:lnTo>
                      <a:pt x="3533" y="2054"/>
                    </a:lnTo>
                    <a:lnTo>
                      <a:pt x="3533" y="2288"/>
                    </a:lnTo>
                    <a:lnTo>
                      <a:pt x="3449" y="2500"/>
                    </a:lnTo>
                    <a:lnTo>
                      <a:pt x="3352" y="2610"/>
                    </a:lnTo>
                    <a:lnTo>
                      <a:pt x="3290" y="2681"/>
                    </a:lnTo>
                    <a:lnTo>
                      <a:pt x="3224" y="2831"/>
                    </a:lnTo>
                    <a:lnTo>
                      <a:pt x="3215" y="2967"/>
                    </a:lnTo>
                    <a:lnTo>
                      <a:pt x="3224" y="3139"/>
                    </a:lnTo>
                    <a:lnTo>
                      <a:pt x="3189" y="3311"/>
                    </a:lnTo>
                    <a:lnTo>
                      <a:pt x="3136" y="3346"/>
                    </a:lnTo>
                    <a:lnTo>
                      <a:pt x="3118" y="3448"/>
                    </a:lnTo>
                    <a:lnTo>
                      <a:pt x="3061" y="3518"/>
                    </a:lnTo>
                    <a:lnTo>
                      <a:pt x="3052" y="3607"/>
                    </a:lnTo>
                    <a:lnTo>
                      <a:pt x="2973" y="3704"/>
                    </a:lnTo>
                    <a:lnTo>
                      <a:pt x="2854" y="3877"/>
                    </a:lnTo>
                    <a:lnTo>
                      <a:pt x="2752" y="3925"/>
                    </a:lnTo>
                    <a:lnTo>
                      <a:pt x="2682" y="3916"/>
                    </a:lnTo>
                    <a:lnTo>
                      <a:pt x="2554" y="4000"/>
                    </a:lnTo>
                    <a:lnTo>
                      <a:pt x="2426" y="4199"/>
                    </a:lnTo>
                    <a:lnTo>
                      <a:pt x="2399" y="4274"/>
                    </a:lnTo>
                    <a:lnTo>
                      <a:pt x="2399" y="4371"/>
                    </a:lnTo>
                    <a:lnTo>
                      <a:pt x="2426" y="4481"/>
                    </a:lnTo>
                    <a:lnTo>
                      <a:pt x="2364" y="4591"/>
                    </a:lnTo>
                    <a:lnTo>
                      <a:pt x="2364" y="4679"/>
                    </a:lnTo>
                    <a:lnTo>
                      <a:pt x="2263" y="4776"/>
                    </a:lnTo>
                    <a:lnTo>
                      <a:pt x="2183" y="4851"/>
                    </a:lnTo>
                    <a:lnTo>
                      <a:pt x="2122" y="4961"/>
                    </a:lnTo>
                    <a:lnTo>
                      <a:pt x="2100" y="5072"/>
                    </a:lnTo>
                    <a:lnTo>
                      <a:pt x="2011" y="5208"/>
                    </a:lnTo>
                    <a:lnTo>
                      <a:pt x="1976" y="5182"/>
                    </a:lnTo>
                    <a:lnTo>
                      <a:pt x="1910" y="5182"/>
                    </a:lnTo>
                    <a:lnTo>
                      <a:pt x="1822" y="5230"/>
                    </a:lnTo>
                    <a:lnTo>
                      <a:pt x="1883" y="5292"/>
                    </a:lnTo>
                    <a:lnTo>
                      <a:pt x="1883" y="5416"/>
                    </a:lnTo>
                    <a:lnTo>
                      <a:pt x="1875" y="5513"/>
                    </a:lnTo>
                    <a:lnTo>
                      <a:pt x="1831" y="5588"/>
                    </a:lnTo>
                    <a:lnTo>
                      <a:pt x="1719" y="5601"/>
                    </a:lnTo>
                    <a:lnTo>
                      <a:pt x="1631" y="5636"/>
                    </a:lnTo>
                    <a:lnTo>
                      <a:pt x="1591" y="5711"/>
                    </a:lnTo>
                    <a:lnTo>
                      <a:pt x="1591" y="5835"/>
                    </a:lnTo>
                    <a:lnTo>
                      <a:pt x="1486" y="5848"/>
                    </a:lnTo>
                    <a:lnTo>
                      <a:pt x="1402" y="5835"/>
                    </a:lnTo>
                    <a:lnTo>
                      <a:pt x="1375" y="5883"/>
                    </a:lnTo>
                    <a:lnTo>
                      <a:pt x="1419" y="5932"/>
                    </a:lnTo>
                    <a:lnTo>
                      <a:pt x="1393" y="6117"/>
                    </a:lnTo>
                    <a:lnTo>
                      <a:pt x="1358" y="6276"/>
                    </a:lnTo>
                    <a:lnTo>
                      <a:pt x="1247" y="6276"/>
                    </a:lnTo>
                    <a:lnTo>
                      <a:pt x="1212" y="6337"/>
                    </a:lnTo>
                    <a:lnTo>
                      <a:pt x="1221" y="6461"/>
                    </a:lnTo>
                    <a:lnTo>
                      <a:pt x="1278" y="6461"/>
                    </a:lnTo>
                    <a:lnTo>
                      <a:pt x="1322" y="6536"/>
                    </a:lnTo>
                    <a:lnTo>
                      <a:pt x="1296" y="6659"/>
                    </a:lnTo>
                    <a:lnTo>
                      <a:pt x="1239" y="6672"/>
                    </a:lnTo>
                    <a:lnTo>
                      <a:pt x="1142" y="6721"/>
                    </a:lnTo>
                    <a:lnTo>
                      <a:pt x="1115" y="6818"/>
                    </a:lnTo>
                    <a:lnTo>
                      <a:pt x="1106" y="6968"/>
                    </a:lnTo>
                    <a:lnTo>
                      <a:pt x="1049" y="7043"/>
                    </a:lnTo>
                    <a:lnTo>
                      <a:pt x="1261" y="7285"/>
                    </a:lnTo>
                    <a:lnTo>
                      <a:pt x="1322" y="7409"/>
                    </a:lnTo>
                    <a:lnTo>
                      <a:pt x="1287" y="7484"/>
                    </a:lnTo>
                    <a:lnTo>
                      <a:pt x="1195" y="7435"/>
                    </a:lnTo>
                    <a:lnTo>
                      <a:pt x="1115" y="7338"/>
                    </a:lnTo>
                    <a:lnTo>
                      <a:pt x="1005" y="7263"/>
                    </a:lnTo>
                    <a:lnTo>
                      <a:pt x="903" y="7140"/>
                    </a:lnTo>
                    <a:lnTo>
                      <a:pt x="833" y="6990"/>
                    </a:lnTo>
                    <a:lnTo>
                      <a:pt x="824" y="6866"/>
                    </a:lnTo>
                    <a:lnTo>
                      <a:pt x="842" y="6769"/>
                    </a:lnTo>
                    <a:lnTo>
                      <a:pt x="833" y="5971"/>
                    </a:lnTo>
                    <a:lnTo>
                      <a:pt x="806" y="5835"/>
                    </a:lnTo>
                    <a:lnTo>
                      <a:pt x="732" y="5685"/>
                    </a:lnTo>
                    <a:lnTo>
                      <a:pt x="732" y="5552"/>
                    </a:lnTo>
                    <a:lnTo>
                      <a:pt x="780" y="5394"/>
                    </a:lnTo>
                    <a:lnTo>
                      <a:pt x="824" y="5195"/>
                    </a:lnTo>
                    <a:lnTo>
                      <a:pt x="806" y="4997"/>
                    </a:lnTo>
                    <a:lnTo>
                      <a:pt x="798" y="4913"/>
                    </a:lnTo>
                    <a:lnTo>
                      <a:pt x="789" y="4803"/>
                    </a:lnTo>
                    <a:lnTo>
                      <a:pt x="815" y="4750"/>
                    </a:lnTo>
                    <a:lnTo>
                      <a:pt x="833" y="4529"/>
                    </a:lnTo>
                    <a:lnTo>
                      <a:pt x="815" y="4419"/>
                    </a:lnTo>
                    <a:lnTo>
                      <a:pt x="851" y="4150"/>
                    </a:lnTo>
                    <a:lnTo>
                      <a:pt x="815" y="3916"/>
                    </a:lnTo>
                    <a:lnTo>
                      <a:pt x="842" y="3793"/>
                    </a:lnTo>
                    <a:lnTo>
                      <a:pt x="886" y="3558"/>
                    </a:lnTo>
                    <a:lnTo>
                      <a:pt x="842" y="3408"/>
                    </a:lnTo>
                    <a:lnTo>
                      <a:pt x="758" y="3298"/>
                    </a:lnTo>
                    <a:lnTo>
                      <a:pt x="732" y="3175"/>
                    </a:lnTo>
                    <a:lnTo>
                      <a:pt x="635" y="3064"/>
                    </a:lnTo>
                    <a:lnTo>
                      <a:pt x="533" y="2989"/>
                    </a:lnTo>
                    <a:lnTo>
                      <a:pt x="388" y="2954"/>
                    </a:lnTo>
                    <a:lnTo>
                      <a:pt x="317" y="2795"/>
                    </a:lnTo>
                    <a:lnTo>
                      <a:pt x="224" y="2632"/>
                    </a:lnTo>
                    <a:lnTo>
                      <a:pt x="216" y="2500"/>
                    </a:lnTo>
                    <a:lnTo>
                      <a:pt x="207" y="2376"/>
                    </a:lnTo>
                    <a:lnTo>
                      <a:pt x="180" y="2288"/>
                    </a:lnTo>
                    <a:lnTo>
                      <a:pt x="127" y="2191"/>
                    </a:lnTo>
                    <a:lnTo>
                      <a:pt x="61" y="2143"/>
                    </a:lnTo>
                    <a:lnTo>
                      <a:pt x="8" y="2041"/>
                    </a:lnTo>
                    <a:lnTo>
                      <a:pt x="70" y="1957"/>
                    </a:lnTo>
                    <a:lnTo>
                      <a:pt x="70" y="1746"/>
                    </a:lnTo>
                    <a:lnTo>
                      <a:pt x="35" y="1636"/>
                    </a:lnTo>
                    <a:lnTo>
                      <a:pt x="0" y="1525"/>
                    </a:lnTo>
                    <a:lnTo>
                      <a:pt x="35" y="1367"/>
                    </a:lnTo>
                    <a:lnTo>
                      <a:pt x="171" y="970"/>
                    </a:lnTo>
                    <a:lnTo>
                      <a:pt x="180" y="798"/>
                    </a:lnTo>
                    <a:lnTo>
                      <a:pt x="255" y="617"/>
                    </a:lnTo>
                    <a:lnTo>
                      <a:pt x="255" y="515"/>
                    </a:lnTo>
                    <a:lnTo>
                      <a:pt x="273" y="3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79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81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1" y="13"/>
                        </a:moveTo>
                        <a:lnTo>
                          <a:pt x="146" y="0"/>
                        </a:lnTo>
                        <a:lnTo>
                          <a:pt x="208" y="97"/>
                        </a:lnTo>
                        <a:lnTo>
                          <a:pt x="199" y="380"/>
                        </a:lnTo>
                        <a:lnTo>
                          <a:pt x="243" y="380"/>
                        </a:lnTo>
                        <a:lnTo>
                          <a:pt x="252" y="415"/>
                        </a:lnTo>
                        <a:lnTo>
                          <a:pt x="266" y="477"/>
                        </a:lnTo>
                        <a:lnTo>
                          <a:pt x="275" y="512"/>
                        </a:lnTo>
                        <a:lnTo>
                          <a:pt x="310" y="499"/>
                        </a:lnTo>
                        <a:lnTo>
                          <a:pt x="337" y="441"/>
                        </a:lnTo>
                        <a:lnTo>
                          <a:pt x="345" y="477"/>
                        </a:lnTo>
                        <a:lnTo>
                          <a:pt x="328" y="525"/>
                        </a:lnTo>
                        <a:lnTo>
                          <a:pt x="310" y="561"/>
                        </a:lnTo>
                        <a:lnTo>
                          <a:pt x="301" y="636"/>
                        </a:lnTo>
                        <a:lnTo>
                          <a:pt x="262" y="672"/>
                        </a:lnTo>
                        <a:lnTo>
                          <a:pt x="234" y="685"/>
                        </a:lnTo>
                        <a:lnTo>
                          <a:pt x="199" y="720"/>
                        </a:lnTo>
                        <a:lnTo>
                          <a:pt x="190" y="756"/>
                        </a:lnTo>
                        <a:lnTo>
                          <a:pt x="199" y="795"/>
                        </a:lnTo>
                        <a:lnTo>
                          <a:pt x="208" y="831"/>
                        </a:lnTo>
                        <a:lnTo>
                          <a:pt x="164" y="853"/>
                        </a:lnTo>
                        <a:lnTo>
                          <a:pt x="137" y="866"/>
                        </a:lnTo>
                        <a:lnTo>
                          <a:pt x="111" y="879"/>
                        </a:lnTo>
                        <a:lnTo>
                          <a:pt x="93" y="866"/>
                        </a:lnTo>
                        <a:lnTo>
                          <a:pt x="52" y="853"/>
                        </a:lnTo>
                        <a:lnTo>
                          <a:pt x="35" y="831"/>
                        </a:lnTo>
                        <a:lnTo>
                          <a:pt x="52" y="804"/>
                        </a:lnTo>
                        <a:lnTo>
                          <a:pt x="89" y="795"/>
                        </a:lnTo>
                        <a:lnTo>
                          <a:pt x="111" y="734"/>
                        </a:lnTo>
                        <a:lnTo>
                          <a:pt x="111" y="707"/>
                        </a:lnTo>
                        <a:lnTo>
                          <a:pt x="89" y="685"/>
                        </a:lnTo>
                        <a:lnTo>
                          <a:pt x="52" y="644"/>
                        </a:lnTo>
                        <a:lnTo>
                          <a:pt x="26" y="644"/>
                        </a:lnTo>
                        <a:lnTo>
                          <a:pt x="8" y="636"/>
                        </a:lnTo>
                        <a:lnTo>
                          <a:pt x="0" y="596"/>
                        </a:lnTo>
                        <a:lnTo>
                          <a:pt x="8" y="574"/>
                        </a:lnTo>
                        <a:lnTo>
                          <a:pt x="26" y="574"/>
                        </a:lnTo>
                        <a:lnTo>
                          <a:pt x="52" y="561"/>
                        </a:lnTo>
                        <a:lnTo>
                          <a:pt x="89" y="525"/>
                        </a:lnTo>
                        <a:lnTo>
                          <a:pt x="102" y="512"/>
                        </a:lnTo>
                        <a:lnTo>
                          <a:pt x="120" y="380"/>
                        </a:lnTo>
                        <a:lnTo>
                          <a:pt x="102" y="340"/>
                        </a:lnTo>
                        <a:lnTo>
                          <a:pt x="79" y="318"/>
                        </a:lnTo>
                        <a:lnTo>
                          <a:pt x="70" y="243"/>
                        </a:lnTo>
                        <a:lnTo>
                          <a:pt x="79" y="171"/>
                        </a:lnTo>
                        <a:lnTo>
                          <a:pt x="89" y="123"/>
                        </a:lnTo>
                        <a:lnTo>
                          <a:pt x="111" y="1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30" y="0"/>
                        </a:lnTo>
                        <a:lnTo>
                          <a:pt x="640" y="194"/>
                        </a:lnTo>
                        <a:lnTo>
                          <a:pt x="521" y="366"/>
                        </a:lnTo>
                        <a:lnTo>
                          <a:pt x="521" y="441"/>
                        </a:lnTo>
                        <a:lnTo>
                          <a:pt x="494" y="464"/>
                        </a:lnTo>
                        <a:lnTo>
                          <a:pt x="424" y="464"/>
                        </a:lnTo>
                        <a:lnTo>
                          <a:pt x="336" y="561"/>
                        </a:lnTo>
                        <a:lnTo>
                          <a:pt x="260" y="662"/>
                        </a:lnTo>
                        <a:lnTo>
                          <a:pt x="207" y="746"/>
                        </a:lnTo>
                        <a:lnTo>
                          <a:pt x="207" y="671"/>
                        </a:lnTo>
                        <a:lnTo>
                          <a:pt x="110" y="684"/>
                        </a:lnTo>
                        <a:lnTo>
                          <a:pt x="70" y="684"/>
                        </a:lnTo>
                        <a:lnTo>
                          <a:pt x="0" y="684"/>
                        </a:lnTo>
                        <a:lnTo>
                          <a:pt x="97" y="561"/>
                        </a:lnTo>
                        <a:lnTo>
                          <a:pt x="127" y="503"/>
                        </a:lnTo>
                        <a:lnTo>
                          <a:pt x="163" y="503"/>
                        </a:lnTo>
                        <a:lnTo>
                          <a:pt x="233" y="402"/>
                        </a:lnTo>
                        <a:lnTo>
                          <a:pt x="260" y="402"/>
                        </a:lnTo>
                        <a:lnTo>
                          <a:pt x="260" y="393"/>
                        </a:lnTo>
                        <a:lnTo>
                          <a:pt x="295" y="352"/>
                        </a:lnTo>
                        <a:lnTo>
                          <a:pt x="336" y="352"/>
                        </a:lnTo>
                        <a:lnTo>
                          <a:pt x="322" y="242"/>
                        </a:lnTo>
                        <a:lnTo>
                          <a:pt x="327" y="242"/>
                        </a:lnTo>
                        <a:lnTo>
                          <a:pt x="371" y="185"/>
                        </a:lnTo>
                        <a:lnTo>
                          <a:pt x="389" y="233"/>
                        </a:lnTo>
                        <a:lnTo>
                          <a:pt x="459" y="145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2" y="0"/>
                        </a:lnTo>
                        <a:lnTo>
                          <a:pt x="115" y="48"/>
                        </a:lnTo>
                        <a:lnTo>
                          <a:pt x="244" y="48"/>
                        </a:lnTo>
                        <a:lnTo>
                          <a:pt x="226" y="110"/>
                        </a:lnTo>
                        <a:lnTo>
                          <a:pt x="244" y="185"/>
                        </a:lnTo>
                        <a:lnTo>
                          <a:pt x="200" y="185"/>
                        </a:lnTo>
                        <a:lnTo>
                          <a:pt x="191" y="199"/>
                        </a:lnTo>
                        <a:lnTo>
                          <a:pt x="164" y="208"/>
                        </a:lnTo>
                        <a:lnTo>
                          <a:pt x="191" y="393"/>
                        </a:lnTo>
                        <a:lnTo>
                          <a:pt x="115" y="380"/>
                        </a:lnTo>
                        <a:lnTo>
                          <a:pt x="44" y="318"/>
                        </a:lnTo>
                        <a:lnTo>
                          <a:pt x="44" y="199"/>
                        </a:lnTo>
                        <a:lnTo>
                          <a:pt x="44" y="145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70" y="164"/>
                      </a:moveTo>
                      <a:lnTo>
                        <a:pt x="0" y="354"/>
                      </a:lnTo>
                      <a:lnTo>
                        <a:pt x="26" y="429"/>
                      </a:lnTo>
                      <a:lnTo>
                        <a:pt x="136" y="442"/>
                      </a:lnTo>
                      <a:lnTo>
                        <a:pt x="234" y="442"/>
                      </a:lnTo>
                      <a:lnTo>
                        <a:pt x="269" y="368"/>
                      </a:lnTo>
                      <a:lnTo>
                        <a:pt x="287" y="292"/>
                      </a:lnTo>
                      <a:lnTo>
                        <a:pt x="389" y="292"/>
                      </a:lnTo>
                      <a:lnTo>
                        <a:pt x="371" y="177"/>
                      </a:lnTo>
                      <a:lnTo>
                        <a:pt x="371" y="61"/>
                      </a:lnTo>
                      <a:lnTo>
                        <a:pt x="269" y="0"/>
                      </a:lnTo>
                      <a:lnTo>
                        <a:pt x="261" y="128"/>
                      </a:lnTo>
                      <a:lnTo>
                        <a:pt x="318" y="203"/>
                      </a:lnTo>
                      <a:lnTo>
                        <a:pt x="225" y="203"/>
                      </a:lnTo>
                      <a:lnTo>
                        <a:pt x="189" y="252"/>
                      </a:lnTo>
                      <a:lnTo>
                        <a:pt x="70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8"/>
                        </a:moveTo>
                        <a:lnTo>
                          <a:pt x="44" y="310"/>
                        </a:lnTo>
                        <a:lnTo>
                          <a:pt x="98" y="297"/>
                        </a:lnTo>
                        <a:lnTo>
                          <a:pt x="172" y="323"/>
                        </a:lnTo>
                        <a:lnTo>
                          <a:pt x="235" y="323"/>
                        </a:lnTo>
                        <a:lnTo>
                          <a:pt x="244" y="212"/>
                        </a:lnTo>
                        <a:lnTo>
                          <a:pt x="226" y="137"/>
                        </a:lnTo>
                        <a:lnTo>
                          <a:pt x="181" y="48"/>
                        </a:lnTo>
                        <a:lnTo>
                          <a:pt x="137" y="48"/>
                        </a:lnTo>
                        <a:lnTo>
                          <a:pt x="124" y="0"/>
                        </a:lnTo>
                        <a:lnTo>
                          <a:pt x="62" y="0"/>
                        </a:lnTo>
                        <a:lnTo>
                          <a:pt x="62" y="9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2" y="0"/>
                        </a:moveTo>
                        <a:lnTo>
                          <a:pt x="155" y="13"/>
                        </a:lnTo>
                        <a:lnTo>
                          <a:pt x="191" y="123"/>
                        </a:lnTo>
                        <a:lnTo>
                          <a:pt x="235" y="185"/>
                        </a:lnTo>
                        <a:lnTo>
                          <a:pt x="200" y="239"/>
                        </a:lnTo>
                        <a:lnTo>
                          <a:pt x="235" y="300"/>
                        </a:lnTo>
                        <a:lnTo>
                          <a:pt x="218" y="375"/>
                        </a:lnTo>
                        <a:lnTo>
                          <a:pt x="182" y="411"/>
                        </a:lnTo>
                        <a:lnTo>
                          <a:pt x="115" y="397"/>
                        </a:lnTo>
                        <a:lnTo>
                          <a:pt x="71" y="397"/>
                        </a:lnTo>
                        <a:lnTo>
                          <a:pt x="44" y="349"/>
                        </a:lnTo>
                        <a:lnTo>
                          <a:pt x="17" y="287"/>
                        </a:lnTo>
                        <a:lnTo>
                          <a:pt x="17" y="225"/>
                        </a:lnTo>
                        <a:lnTo>
                          <a:pt x="0" y="136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1" y="0"/>
                        </a:moveTo>
                        <a:lnTo>
                          <a:pt x="111" y="61"/>
                        </a:lnTo>
                        <a:lnTo>
                          <a:pt x="164" y="48"/>
                        </a:lnTo>
                        <a:lnTo>
                          <a:pt x="243" y="61"/>
                        </a:lnTo>
                        <a:lnTo>
                          <a:pt x="315" y="61"/>
                        </a:lnTo>
                        <a:lnTo>
                          <a:pt x="345" y="97"/>
                        </a:lnTo>
                        <a:lnTo>
                          <a:pt x="390" y="185"/>
                        </a:lnTo>
                        <a:lnTo>
                          <a:pt x="416" y="221"/>
                        </a:lnTo>
                        <a:lnTo>
                          <a:pt x="319" y="243"/>
                        </a:lnTo>
                        <a:lnTo>
                          <a:pt x="296" y="269"/>
                        </a:lnTo>
                        <a:lnTo>
                          <a:pt x="319" y="318"/>
                        </a:lnTo>
                        <a:lnTo>
                          <a:pt x="319" y="367"/>
                        </a:lnTo>
                        <a:lnTo>
                          <a:pt x="225" y="318"/>
                        </a:lnTo>
                        <a:lnTo>
                          <a:pt x="146" y="283"/>
                        </a:lnTo>
                        <a:lnTo>
                          <a:pt x="111" y="296"/>
                        </a:lnTo>
                        <a:lnTo>
                          <a:pt x="111" y="367"/>
                        </a:lnTo>
                        <a:lnTo>
                          <a:pt x="61" y="380"/>
                        </a:lnTo>
                        <a:lnTo>
                          <a:pt x="35" y="318"/>
                        </a:lnTo>
                        <a:lnTo>
                          <a:pt x="26" y="243"/>
                        </a:lnTo>
                        <a:lnTo>
                          <a:pt x="0" y="234"/>
                        </a:lnTo>
                        <a:lnTo>
                          <a:pt x="26" y="158"/>
                        </a:lnTo>
                        <a:lnTo>
                          <a:pt x="70" y="136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3" y="0"/>
                      </a:moveTo>
                      <a:lnTo>
                        <a:pt x="2228" y="0"/>
                      </a:lnTo>
                      <a:lnTo>
                        <a:pt x="2228" y="246"/>
                      </a:lnTo>
                      <a:lnTo>
                        <a:pt x="2290" y="308"/>
                      </a:lnTo>
                      <a:lnTo>
                        <a:pt x="2308" y="343"/>
                      </a:lnTo>
                      <a:lnTo>
                        <a:pt x="2343" y="343"/>
                      </a:lnTo>
                      <a:lnTo>
                        <a:pt x="2356" y="392"/>
                      </a:lnTo>
                      <a:lnTo>
                        <a:pt x="2374" y="639"/>
                      </a:lnTo>
                      <a:lnTo>
                        <a:pt x="2462" y="799"/>
                      </a:lnTo>
                      <a:lnTo>
                        <a:pt x="2590" y="1032"/>
                      </a:lnTo>
                      <a:lnTo>
                        <a:pt x="2590" y="1068"/>
                      </a:lnTo>
                      <a:lnTo>
                        <a:pt x="2727" y="1266"/>
                      </a:lnTo>
                      <a:lnTo>
                        <a:pt x="2727" y="1301"/>
                      </a:lnTo>
                      <a:lnTo>
                        <a:pt x="2863" y="1460"/>
                      </a:lnTo>
                      <a:lnTo>
                        <a:pt x="2881" y="1742"/>
                      </a:lnTo>
                      <a:lnTo>
                        <a:pt x="2863" y="2003"/>
                      </a:lnTo>
                      <a:lnTo>
                        <a:pt x="2819" y="2122"/>
                      </a:lnTo>
                      <a:lnTo>
                        <a:pt x="2771" y="2183"/>
                      </a:lnTo>
                      <a:lnTo>
                        <a:pt x="2753" y="2308"/>
                      </a:lnTo>
                      <a:lnTo>
                        <a:pt x="2700" y="2418"/>
                      </a:lnTo>
                      <a:lnTo>
                        <a:pt x="2656" y="2467"/>
                      </a:lnTo>
                      <a:lnTo>
                        <a:pt x="2665" y="2506"/>
                      </a:lnTo>
                      <a:lnTo>
                        <a:pt x="2616" y="2577"/>
                      </a:lnTo>
                      <a:lnTo>
                        <a:pt x="2590" y="2740"/>
                      </a:lnTo>
                      <a:lnTo>
                        <a:pt x="2581" y="2824"/>
                      </a:lnTo>
                      <a:lnTo>
                        <a:pt x="2528" y="2859"/>
                      </a:lnTo>
                      <a:lnTo>
                        <a:pt x="2519" y="2899"/>
                      </a:lnTo>
                      <a:lnTo>
                        <a:pt x="2489" y="2974"/>
                      </a:lnTo>
                      <a:lnTo>
                        <a:pt x="2427" y="2982"/>
                      </a:lnTo>
                      <a:lnTo>
                        <a:pt x="2383" y="3009"/>
                      </a:lnTo>
                      <a:lnTo>
                        <a:pt x="2325" y="3057"/>
                      </a:lnTo>
                      <a:lnTo>
                        <a:pt x="2246" y="2960"/>
                      </a:lnTo>
                      <a:lnTo>
                        <a:pt x="2162" y="2974"/>
                      </a:lnTo>
                      <a:lnTo>
                        <a:pt x="2135" y="2974"/>
                      </a:lnTo>
                      <a:lnTo>
                        <a:pt x="2016" y="2996"/>
                      </a:lnTo>
                      <a:lnTo>
                        <a:pt x="1936" y="2899"/>
                      </a:lnTo>
                      <a:lnTo>
                        <a:pt x="1888" y="2802"/>
                      </a:lnTo>
                      <a:lnTo>
                        <a:pt x="1853" y="2810"/>
                      </a:lnTo>
                      <a:lnTo>
                        <a:pt x="1817" y="2727"/>
                      </a:lnTo>
                      <a:lnTo>
                        <a:pt x="1800" y="2652"/>
                      </a:lnTo>
                      <a:lnTo>
                        <a:pt x="1782" y="2630"/>
                      </a:lnTo>
                      <a:lnTo>
                        <a:pt x="1782" y="2506"/>
                      </a:lnTo>
                      <a:lnTo>
                        <a:pt x="1791" y="2431"/>
                      </a:lnTo>
                      <a:lnTo>
                        <a:pt x="1773" y="2383"/>
                      </a:lnTo>
                      <a:lnTo>
                        <a:pt x="1707" y="2405"/>
                      </a:lnTo>
                      <a:lnTo>
                        <a:pt x="1672" y="2418"/>
                      </a:lnTo>
                      <a:lnTo>
                        <a:pt x="1610" y="2418"/>
                      </a:lnTo>
                      <a:lnTo>
                        <a:pt x="1588" y="2418"/>
                      </a:lnTo>
                      <a:lnTo>
                        <a:pt x="1562" y="2418"/>
                      </a:lnTo>
                      <a:lnTo>
                        <a:pt x="1517" y="2347"/>
                      </a:lnTo>
                      <a:lnTo>
                        <a:pt x="1473" y="2245"/>
                      </a:lnTo>
                      <a:lnTo>
                        <a:pt x="1465" y="2258"/>
                      </a:lnTo>
                      <a:lnTo>
                        <a:pt x="1390" y="2258"/>
                      </a:lnTo>
                      <a:lnTo>
                        <a:pt x="1381" y="2223"/>
                      </a:lnTo>
                      <a:lnTo>
                        <a:pt x="1337" y="2258"/>
                      </a:lnTo>
                      <a:lnTo>
                        <a:pt x="1293" y="2245"/>
                      </a:lnTo>
                      <a:lnTo>
                        <a:pt x="1226" y="2245"/>
                      </a:lnTo>
                      <a:lnTo>
                        <a:pt x="1182" y="2223"/>
                      </a:lnTo>
                      <a:lnTo>
                        <a:pt x="1165" y="2258"/>
                      </a:lnTo>
                      <a:lnTo>
                        <a:pt x="1099" y="2272"/>
                      </a:lnTo>
                      <a:lnTo>
                        <a:pt x="1081" y="2245"/>
                      </a:lnTo>
                      <a:lnTo>
                        <a:pt x="1037" y="2308"/>
                      </a:lnTo>
                      <a:lnTo>
                        <a:pt x="984" y="2370"/>
                      </a:lnTo>
                      <a:lnTo>
                        <a:pt x="953" y="2370"/>
                      </a:lnTo>
                      <a:lnTo>
                        <a:pt x="900" y="2444"/>
                      </a:lnTo>
                      <a:lnTo>
                        <a:pt x="825" y="2444"/>
                      </a:lnTo>
                      <a:lnTo>
                        <a:pt x="763" y="2467"/>
                      </a:lnTo>
                      <a:lnTo>
                        <a:pt x="692" y="2506"/>
                      </a:lnTo>
                      <a:lnTo>
                        <a:pt x="661" y="2555"/>
                      </a:lnTo>
                      <a:lnTo>
                        <a:pt x="635" y="2542"/>
                      </a:lnTo>
                      <a:lnTo>
                        <a:pt x="608" y="2590"/>
                      </a:lnTo>
                      <a:lnTo>
                        <a:pt x="573" y="2603"/>
                      </a:lnTo>
                      <a:lnTo>
                        <a:pt x="529" y="2665"/>
                      </a:lnTo>
                      <a:lnTo>
                        <a:pt x="392" y="2665"/>
                      </a:lnTo>
                      <a:lnTo>
                        <a:pt x="335" y="2577"/>
                      </a:lnTo>
                      <a:lnTo>
                        <a:pt x="326" y="2542"/>
                      </a:lnTo>
                      <a:lnTo>
                        <a:pt x="308" y="2577"/>
                      </a:lnTo>
                      <a:lnTo>
                        <a:pt x="282" y="2519"/>
                      </a:lnTo>
                      <a:lnTo>
                        <a:pt x="291" y="2356"/>
                      </a:lnTo>
                      <a:lnTo>
                        <a:pt x="308" y="2258"/>
                      </a:lnTo>
                      <a:lnTo>
                        <a:pt x="282" y="2183"/>
                      </a:lnTo>
                      <a:lnTo>
                        <a:pt x="255" y="2113"/>
                      </a:lnTo>
                      <a:lnTo>
                        <a:pt x="246" y="2025"/>
                      </a:lnTo>
                      <a:lnTo>
                        <a:pt x="207" y="1989"/>
                      </a:lnTo>
                      <a:lnTo>
                        <a:pt x="198" y="1976"/>
                      </a:lnTo>
                      <a:lnTo>
                        <a:pt x="189" y="1941"/>
                      </a:lnTo>
                      <a:lnTo>
                        <a:pt x="127" y="1831"/>
                      </a:lnTo>
                      <a:lnTo>
                        <a:pt x="52" y="1557"/>
                      </a:lnTo>
                      <a:lnTo>
                        <a:pt x="26" y="1376"/>
                      </a:lnTo>
                      <a:lnTo>
                        <a:pt x="26" y="1266"/>
                      </a:lnTo>
                      <a:lnTo>
                        <a:pt x="0" y="1226"/>
                      </a:lnTo>
                      <a:lnTo>
                        <a:pt x="8" y="1129"/>
                      </a:lnTo>
                      <a:lnTo>
                        <a:pt x="35" y="1081"/>
                      </a:lnTo>
                      <a:lnTo>
                        <a:pt x="127" y="944"/>
                      </a:lnTo>
                      <a:lnTo>
                        <a:pt x="224" y="957"/>
                      </a:lnTo>
                      <a:lnTo>
                        <a:pt x="238" y="984"/>
                      </a:lnTo>
                      <a:lnTo>
                        <a:pt x="361" y="984"/>
                      </a:lnTo>
                      <a:lnTo>
                        <a:pt x="370" y="944"/>
                      </a:lnTo>
                      <a:lnTo>
                        <a:pt x="392" y="957"/>
                      </a:lnTo>
                      <a:lnTo>
                        <a:pt x="427" y="922"/>
                      </a:lnTo>
                      <a:lnTo>
                        <a:pt x="454" y="935"/>
                      </a:lnTo>
                      <a:lnTo>
                        <a:pt x="480" y="909"/>
                      </a:lnTo>
                      <a:lnTo>
                        <a:pt x="471" y="874"/>
                      </a:lnTo>
                      <a:lnTo>
                        <a:pt x="498" y="785"/>
                      </a:lnTo>
                      <a:lnTo>
                        <a:pt x="529" y="749"/>
                      </a:lnTo>
                      <a:lnTo>
                        <a:pt x="515" y="723"/>
                      </a:lnTo>
                      <a:lnTo>
                        <a:pt x="529" y="701"/>
                      </a:lnTo>
                      <a:lnTo>
                        <a:pt x="515" y="661"/>
                      </a:lnTo>
                      <a:lnTo>
                        <a:pt x="564" y="599"/>
                      </a:lnTo>
                      <a:lnTo>
                        <a:pt x="643" y="590"/>
                      </a:lnTo>
                      <a:lnTo>
                        <a:pt x="718" y="440"/>
                      </a:lnTo>
                      <a:lnTo>
                        <a:pt x="816" y="317"/>
                      </a:lnTo>
                      <a:lnTo>
                        <a:pt x="856" y="308"/>
                      </a:lnTo>
                      <a:lnTo>
                        <a:pt x="882" y="282"/>
                      </a:lnTo>
                      <a:lnTo>
                        <a:pt x="927" y="282"/>
                      </a:lnTo>
                      <a:lnTo>
                        <a:pt x="1002" y="379"/>
                      </a:lnTo>
                      <a:lnTo>
                        <a:pt x="1028" y="392"/>
                      </a:lnTo>
                      <a:lnTo>
                        <a:pt x="1054" y="343"/>
                      </a:lnTo>
                      <a:lnTo>
                        <a:pt x="1107" y="282"/>
                      </a:lnTo>
                      <a:lnTo>
                        <a:pt x="1138" y="268"/>
                      </a:lnTo>
                      <a:lnTo>
                        <a:pt x="1173" y="171"/>
                      </a:lnTo>
                      <a:lnTo>
                        <a:pt x="1209" y="158"/>
                      </a:lnTo>
                      <a:lnTo>
                        <a:pt x="1253" y="123"/>
                      </a:lnTo>
                      <a:lnTo>
                        <a:pt x="1293" y="83"/>
                      </a:lnTo>
                      <a:lnTo>
                        <a:pt x="1337" y="83"/>
                      </a:lnTo>
                      <a:lnTo>
                        <a:pt x="1372" y="35"/>
                      </a:lnTo>
                      <a:lnTo>
                        <a:pt x="1425" y="35"/>
                      </a:lnTo>
                      <a:lnTo>
                        <a:pt x="1482" y="35"/>
                      </a:lnTo>
                      <a:lnTo>
                        <a:pt x="1562" y="61"/>
                      </a:lnTo>
                      <a:lnTo>
                        <a:pt x="1610" y="110"/>
                      </a:lnTo>
                      <a:lnTo>
                        <a:pt x="1619" y="145"/>
                      </a:lnTo>
                      <a:lnTo>
                        <a:pt x="1628" y="171"/>
                      </a:lnTo>
                      <a:lnTo>
                        <a:pt x="1637" y="233"/>
                      </a:lnTo>
                      <a:lnTo>
                        <a:pt x="1628" y="255"/>
                      </a:lnTo>
                      <a:lnTo>
                        <a:pt x="1628" y="308"/>
                      </a:lnTo>
                      <a:lnTo>
                        <a:pt x="1619" y="343"/>
                      </a:lnTo>
                      <a:lnTo>
                        <a:pt x="1747" y="480"/>
                      </a:lnTo>
                      <a:lnTo>
                        <a:pt x="1791" y="551"/>
                      </a:lnTo>
                      <a:lnTo>
                        <a:pt x="1844" y="577"/>
                      </a:lnTo>
                      <a:lnTo>
                        <a:pt x="1897" y="612"/>
                      </a:lnTo>
                      <a:lnTo>
                        <a:pt x="1928" y="626"/>
                      </a:lnTo>
                      <a:lnTo>
                        <a:pt x="1980" y="590"/>
                      </a:lnTo>
                      <a:lnTo>
                        <a:pt x="2025" y="480"/>
                      </a:lnTo>
                      <a:lnTo>
                        <a:pt x="2042" y="392"/>
                      </a:lnTo>
                      <a:lnTo>
                        <a:pt x="2055" y="233"/>
                      </a:lnTo>
                      <a:lnTo>
                        <a:pt x="2073" y="158"/>
                      </a:lnTo>
                      <a:lnTo>
                        <a:pt x="20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19" y="61"/>
                      </a:lnTo>
                      <a:lnTo>
                        <a:pt x="224" y="61"/>
                      </a:lnTo>
                      <a:lnTo>
                        <a:pt x="317" y="61"/>
                      </a:lnTo>
                      <a:lnTo>
                        <a:pt x="388" y="61"/>
                      </a:lnTo>
                      <a:lnTo>
                        <a:pt x="436" y="74"/>
                      </a:lnTo>
                      <a:lnTo>
                        <a:pt x="507" y="111"/>
                      </a:lnTo>
                      <a:lnTo>
                        <a:pt x="542" y="195"/>
                      </a:lnTo>
                      <a:lnTo>
                        <a:pt x="573" y="234"/>
                      </a:lnTo>
                      <a:lnTo>
                        <a:pt x="635" y="221"/>
                      </a:lnTo>
                      <a:lnTo>
                        <a:pt x="705" y="221"/>
                      </a:lnTo>
                      <a:lnTo>
                        <a:pt x="780" y="269"/>
                      </a:lnTo>
                      <a:lnTo>
                        <a:pt x="834" y="292"/>
                      </a:lnTo>
                      <a:lnTo>
                        <a:pt x="869" y="292"/>
                      </a:lnTo>
                      <a:lnTo>
                        <a:pt x="878" y="234"/>
                      </a:lnTo>
                      <a:lnTo>
                        <a:pt x="900" y="195"/>
                      </a:lnTo>
                      <a:lnTo>
                        <a:pt x="1006" y="221"/>
                      </a:lnTo>
                      <a:lnTo>
                        <a:pt x="1090" y="221"/>
                      </a:lnTo>
                      <a:lnTo>
                        <a:pt x="1169" y="221"/>
                      </a:lnTo>
                      <a:lnTo>
                        <a:pt x="1226" y="256"/>
                      </a:lnTo>
                      <a:lnTo>
                        <a:pt x="1262" y="283"/>
                      </a:lnTo>
                      <a:lnTo>
                        <a:pt x="1323" y="269"/>
                      </a:lnTo>
                      <a:lnTo>
                        <a:pt x="1363" y="243"/>
                      </a:lnTo>
                      <a:lnTo>
                        <a:pt x="1390" y="221"/>
                      </a:lnTo>
                      <a:lnTo>
                        <a:pt x="1460" y="221"/>
                      </a:lnTo>
                      <a:lnTo>
                        <a:pt x="1504" y="195"/>
                      </a:lnTo>
                      <a:lnTo>
                        <a:pt x="1562" y="172"/>
                      </a:lnTo>
                      <a:lnTo>
                        <a:pt x="1597" y="172"/>
                      </a:lnTo>
                      <a:lnTo>
                        <a:pt x="1588" y="256"/>
                      </a:lnTo>
                      <a:lnTo>
                        <a:pt x="1570" y="292"/>
                      </a:lnTo>
                      <a:lnTo>
                        <a:pt x="1535" y="332"/>
                      </a:lnTo>
                      <a:lnTo>
                        <a:pt x="1504" y="332"/>
                      </a:lnTo>
                      <a:lnTo>
                        <a:pt x="1495" y="332"/>
                      </a:lnTo>
                      <a:lnTo>
                        <a:pt x="1451" y="341"/>
                      </a:lnTo>
                      <a:lnTo>
                        <a:pt x="1416" y="390"/>
                      </a:lnTo>
                      <a:lnTo>
                        <a:pt x="1381" y="381"/>
                      </a:lnTo>
                      <a:lnTo>
                        <a:pt x="1350" y="354"/>
                      </a:lnTo>
                      <a:lnTo>
                        <a:pt x="1315" y="381"/>
                      </a:lnTo>
                      <a:lnTo>
                        <a:pt x="1279" y="390"/>
                      </a:lnTo>
                      <a:lnTo>
                        <a:pt x="1253" y="390"/>
                      </a:lnTo>
                      <a:lnTo>
                        <a:pt x="1226" y="416"/>
                      </a:lnTo>
                      <a:lnTo>
                        <a:pt x="1160" y="416"/>
                      </a:lnTo>
                      <a:lnTo>
                        <a:pt x="1134" y="381"/>
                      </a:lnTo>
                      <a:lnTo>
                        <a:pt x="1099" y="332"/>
                      </a:lnTo>
                      <a:lnTo>
                        <a:pt x="1054" y="381"/>
                      </a:lnTo>
                      <a:lnTo>
                        <a:pt x="1032" y="416"/>
                      </a:lnTo>
                      <a:lnTo>
                        <a:pt x="997" y="416"/>
                      </a:lnTo>
                      <a:lnTo>
                        <a:pt x="935" y="332"/>
                      </a:lnTo>
                      <a:lnTo>
                        <a:pt x="918" y="341"/>
                      </a:lnTo>
                      <a:lnTo>
                        <a:pt x="882" y="341"/>
                      </a:lnTo>
                      <a:lnTo>
                        <a:pt x="860" y="390"/>
                      </a:lnTo>
                      <a:lnTo>
                        <a:pt x="807" y="381"/>
                      </a:lnTo>
                      <a:lnTo>
                        <a:pt x="754" y="381"/>
                      </a:lnTo>
                      <a:lnTo>
                        <a:pt x="727" y="354"/>
                      </a:lnTo>
                      <a:lnTo>
                        <a:pt x="696" y="332"/>
                      </a:lnTo>
                      <a:lnTo>
                        <a:pt x="643" y="341"/>
                      </a:lnTo>
                      <a:lnTo>
                        <a:pt x="590" y="390"/>
                      </a:lnTo>
                      <a:lnTo>
                        <a:pt x="560" y="381"/>
                      </a:lnTo>
                      <a:lnTo>
                        <a:pt x="507" y="354"/>
                      </a:lnTo>
                      <a:lnTo>
                        <a:pt x="445" y="319"/>
                      </a:lnTo>
                      <a:lnTo>
                        <a:pt x="396" y="319"/>
                      </a:lnTo>
                      <a:lnTo>
                        <a:pt x="291" y="283"/>
                      </a:lnTo>
                      <a:lnTo>
                        <a:pt x="224" y="256"/>
                      </a:lnTo>
                      <a:lnTo>
                        <a:pt x="180" y="243"/>
                      </a:lnTo>
                      <a:lnTo>
                        <a:pt x="110" y="234"/>
                      </a:lnTo>
                      <a:lnTo>
                        <a:pt x="70" y="181"/>
                      </a:lnTo>
                      <a:lnTo>
                        <a:pt x="26" y="172"/>
                      </a:lnTo>
                      <a:lnTo>
                        <a:pt x="8" y="159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3"/>
                      </a:lnTo>
                      <a:lnTo>
                        <a:pt x="516" y="13"/>
                      </a:lnTo>
                      <a:lnTo>
                        <a:pt x="605" y="0"/>
                      </a:lnTo>
                      <a:lnTo>
                        <a:pt x="724" y="74"/>
                      </a:lnTo>
                      <a:lnTo>
                        <a:pt x="644" y="97"/>
                      </a:lnTo>
                      <a:lnTo>
                        <a:pt x="605" y="136"/>
                      </a:lnTo>
                      <a:lnTo>
                        <a:pt x="578" y="158"/>
                      </a:lnTo>
                      <a:lnTo>
                        <a:pt x="561" y="185"/>
                      </a:lnTo>
                      <a:lnTo>
                        <a:pt x="561" y="207"/>
                      </a:lnTo>
                      <a:lnTo>
                        <a:pt x="561" y="246"/>
                      </a:lnTo>
                      <a:lnTo>
                        <a:pt x="508" y="268"/>
                      </a:lnTo>
                      <a:lnTo>
                        <a:pt x="464" y="268"/>
                      </a:lnTo>
                      <a:lnTo>
                        <a:pt x="450" y="282"/>
                      </a:lnTo>
                      <a:lnTo>
                        <a:pt x="406" y="282"/>
                      </a:lnTo>
                      <a:lnTo>
                        <a:pt x="389" y="246"/>
                      </a:lnTo>
                      <a:lnTo>
                        <a:pt x="352" y="198"/>
                      </a:lnTo>
                      <a:lnTo>
                        <a:pt x="317" y="158"/>
                      </a:lnTo>
                      <a:lnTo>
                        <a:pt x="251" y="158"/>
                      </a:lnTo>
                      <a:lnTo>
                        <a:pt x="233" y="158"/>
                      </a:lnTo>
                      <a:lnTo>
                        <a:pt x="216" y="220"/>
                      </a:lnTo>
                      <a:lnTo>
                        <a:pt x="224" y="282"/>
                      </a:lnTo>
                      <a:lnTo>
                        <a:pt x="224" y="317"/>
                      </a:lnTo>
                      <a:lnTo>
                        <a:pt x="233" y="357"/>
                      </a:lnTo>
                      <a:lnTo>
                        <a:pt x="268" y="343"/>
                      </a:lnTo>
                      <a:lnTo>
                        <a:pt x="317" y="308"/>
                      </a:lnTo>
                      <a:lnTo>
                        <a:pt x="352" y="308"/>
                      </a:lnTo>
                      <a:lnTo>
                        <a:pt x="380" y="330"/>
                      </a:lnTo>
                      <a:lnTo>
                        <a:pt x="380" y="357"/>
                      </a:lnTo>
                      <a:lnTo>
                        <a:pt x="361" y="406"/>
                      </a:lnTo>
                      <a:lnTo>
                        <a:pt x="352" y="428"/>
                      </a:lnTo>
                      <a:lnTo>
                        <a:pt x="352" y="455"/>
                      </a:lnTo>
                      <a:lnTo>
                        <a:pt x="343" y="490"/>
                      </a:lnTo>
                      <a:lnTo>
                        <a:pt x="361" y="530"/>
                      </a:lnTo>
                      <a:lnTo>
                        <a:pt x="397" y="578"/>
                      </a:lnTo>
                      <a:lnTo>
                        <a:pt x="406" y="565"/>
                      </a:lnTo>
                      <a:lnTo>
                        <a:pt x="406" y="613"/>
                      </a:lnTo>
                      <a:lnTo>
                        <a:pt x="389" y="653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6" y="772"/>
                      </a:lnTo>
                      <a:lnTo>
                        <a:pt x="299" y="772"/>
                      </a:lnTo>
                      <a:lnTo>
                        <a:pt x="273" y="772"/>
                      </a:lnTo>
                      <a:lnTo>
                        <a:pt x="273" y="724"/>
                      </a:lnTo>
                      <a:lnTo>
                        <a:pt x="268" y="640"/>
                      </a:lnTo>
                      <a:lnTo>
                        <a:pt x="242" y="613"/>
                      </a:lnTo>
                      <a:lnTo>
                        <a:pt x="233" y="578"/>
                      </a:lnTo>
                      <a:lnTo>
                        <a:pt x="242" y="503"/>
                      </a:lnTo>
                      <a:lnTo>
                        <a:pt x="216" y="481"/>
                      </a:lnTo>
                      <a:lnTo>
                        <a:pt x="154" y="503"/>
                      </a:lnTo>
                      <a:lnTo>
                        <a:pt x="127" y="481"/>
                      </a:lnTo>
                      <a:lnTo>
                        <a:pt x="101" y="516"/>
                      </a:lnTo>
                      <a:lnTo>
                        <a:pt x="127" y="543"/>
                      </a:lnTo>
                      <a:lnTo>
                        <a:pt x="171" y="565"/>
                      </a:lnTo>
                      <a:lnTo>
                        <a:pt x="180" y="591"/>
                      </a:lnTo>
                      <a:lnTo>
                        <a:pt x="207" y="640"/>
                      </a:lnTo>
                      <a:lnTo>
                        <a:pt x="207" y="675"/>
                      </a:lnTo>
                      <a:lnTo>
                        <a:pt x="180" y="737"/>
                      </a:lnTo>
                      <a:lnTo>
                        <a:pt x="145" y="785"/>
                      </a:lnTo>
                      <a:lnTo>
                        <a:pt x="127" y="799"/>
                      </a:lnTo>
                      <a:lnTo>
                        <a:pt x="127" y="763"/>
                      </a:lnTo>
                      <a:lnTo>
                        <a:pt x="127" y="724"/>
                      </a:lnTo>
                      <a:lnTo>
                        <a:pt x="136" y="675"/>
                      </a:lnTo>
                      <a:lnTo>
                        <a:pt x="92" y="640"/>
                      </a:lnTo>
                      <a:lnTo>
                        <a:pt x="52" y="600"/>
                      </a:lnTo>
                      <a:lnTo>
                        <a:pt x="44" y="565"/>
                      </a:lnTo>
                      <a:lnTo>
                        <a:pt x="0" y="543"/>
                      </a:lnTo>
                      <a:lnTo>
                        <a:pt x="8" y="481"/>
                      </a:lnTo>
                      <a:lnTo>
                        <a:pt x="44" y="441"/>
                      </a:lnTo>
                      <a:lnTo>
                        <a:pt x="70" y="379"/>
                      </a:lnTo>
                      <a:lnTo>
                        <a:pt x="92" y="317"/>
                      </a:lnTo>
                      <a:lnTo>
                        <a:pt x="101" y="255"/>
                      </a:lnTo>
                      <a:lnTo>
                        <a:pt x="92" y="198"/>
                      </a:lnTo>
                      <a:lnTo>
                        <a:pt x="110" y="171"/>
                      </a:lnTo>
                      <a:lnTo>
                        <a:pt x="127" y="145"/>
                      </a:lnTo>
                      <a:lnTo>
                        <a:pt x="101" y="97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7"/>
                      </a:moveTo>
                      <a:lnTo>
                        <a:pt x="163" y="194"/>
                      </a:lnTo>
                      <a:lnTo>
                        <a:pt x="246" y="123"/>
                      </a:lnTo>
                      <a:lnTo>
                        <a:pt x="291" y="61"/>
                      </a:lnTo>
                      <a:lnTo>
                        <a:pt x="419" y="0"/>
                      </a:lnTo>
                      <a:lnTo>
                        <a:pt x="490" y="132"/>
                      </a:lnTo>
                      <a:lnTo>
                        <a:pt x="561" y="74"/>
                      </a:lnTo>
                      <a:lnTo>
                        <a:pt x="583" y="35"/>
                      </a:lnTo>
                      <a:lnTo>
                        <a:pt x="644" y="0"/>
                      </a:lnTo>
                      <a:lnTo>
                        <a:pt x="680" y="0"/>
                      </a:lnTo>
                      <a:lnTo>
                        <a:pt x="688" y="48"/>
                      </a:lnTo>
                      <a:lnTo>
                        <a:pt x="688" y="83"/>
                      </a:lnTo>
                      <a:lnTo>
                        <a:pt x="653" y="145"/>
                      </a:lnTo>
                      <a:lnTo>
                        <a:pt x="653" y="180"/>
                      </a:lnTo>
                      <a:lnTo>
                        <a:pt x="746" y="340"/>
                      </a:lnTo>
                      <a:lnTo>
                        <a:pt x="763" y="437"/>
                      </a:lnTo>
                      <a:lnTo>
                        <a:pt x="790" y="437"/>
                      </a:lnTo>
                      <a:lnTo>
                        <a:pt x="799" y="486"/>
                      </a:lnTo>
                      <a:lnTo>
                        <a:pt x="763" y="534"/>
                      </a:lnTo>
                      <a:lnTo>
                        <a:pt x="737" y="512"/>
                      </a:lnTo>
                      <a:lnTo>
                        <a:pt x="680" y="547"/>
                      </a:lnTo>
                      <a:lnTo>
                        <a:pt x="688" y="644"/>
                      </a:lnTo>
                      <a:lnTo>
                        <a:pt x="618" y="706"/>
                      </a:lnTo>
                      <a:lnTo>
                        <a:pt x="618" y="866"/>
                      </a:lnTo>
                      <a:lnTo>
                        <a:pt x="618" y="972"/>
                      </a:lnTo>
                      <a:lnTo>
                        <a:pt x="583" y="1020"/>
                      </a:lnTo>
                      <a:lnTo>
                        <a:pt x="561" y="1095"/>
                      </a:lnTo>
                      <a:lnTo>
                        <a:pt x="525" y="1082"/>
                      </a:lnTo>
                      <a:lnTo>
                        <a:pt x="472" y="1047"/>
                      </a:lnTo>
                      <a:lnTo>
                        <a:pt x="428" y="1011"/>
                      </a:lnTo>
                      <a:lnTo>
                        <a:pt x="396" y="950"/>
                      </a:lnTo>
                      <a:lnTo>
                        <a:pt x="273" y="963"/>
                      </a:lnTo>
                      <a:lnTo>
                        <a:pt x="171" y="923"/>
                      </a:lnTo>
                      <a:lnTo>
                        <a:pt x="101" y="826"/>
                      </a:lnTo>
                      <a:lnTo>
                        <a:pt x="61" y="755"/>
                      </a:lnTo>
                      <a:lnTo>
                        <a:pt x="26" y="693"/>
                      </a:lnTo>
                      <a:lnTo>
                        <a:pt x="26" y="574"/>
                      </a:lnTo>
                      <a:lnTo>
                        <a:pt x="0" y="3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6" y="13"/>
                      </a:lnTo>
                      <a:lnTo>
                        <a:pt x="251" y="26"/>
                      </a:lnTo>
                      <a:lnTo>
                        <a:pt x="299" y="171"/>
                      </a:lnTo>
                      <a:lnTo>
                        <a:pt x="308" y="220"/>
                      </a:lnTo>
                      <a:lnTo>
                        <a:pt x="326" y="246"/>
                      </a:lnTo>
                      <a:lnTo>
                        <a:pt x="361" y="207"/>
                      </a:lnTo>
                      <a:lnTo>
                        <a:pt x="423" y="207"/>
                      </a:lnTo>
                      <a:lnTo>
                        <a:pt x="454" y="246"/>
                      </a:lnTo>
                      <a:lnTo>
                        <a:pt x="471" y="233"/>
                      </a:lnTo>
                      <a:lnTo>
                        <a:pt x="524" y="171"/>
                      </a:lnTo>
                      <a:lnTo>
                        <a:pt x="533" y="171"/>
                      </a:lnTo>
                      <a:lnTo>
                        <a:pt x="577" y="136"/>
                      </a:lnTo>
                      <a:lnTo>
                        <a:pt x="617" y="136"/>
                      </a:lnTo>
                      <a:lnTo>
                        <a:pt x="758" y="207"/>
                      </a:lnTo>
                      <a:lnTo>
                        <a:pt x="816" y="207"/>
                      </a:lnTo>
                      <a:lnTo>
                        <a:pt x="878" y="269"/>
                      </a:lnTo>
                      <a:lnTo>
                        <a:pt x="935" y="296"/>
                      </a:lnTo>
                      <a:lnTo>
                        <a:pt x="988" y="344"/>
                      </a:lnTo>
                      <a:lnTo>
                        <a:pt x="1032" y="358"/>
                      </a:lnTo>
                      <a:lnTo>
                        <a:pt x="1143" y="406"/>
                      </a:lnTo>
                      <a:lnTo>
                        <a:pt x="1196" y="490"/>
                      </a:lnTo>
                      <a:lnTo>
                        <a:pt x="1222" y="543"/>
                      </a:lnTo>
                      <a:lnTo>
                        <a:pt x="1213" y="565"/>
                      </a:lnTo>
                      <a:lnTo>
                        <a:pt x="1257" y="613"/>
                      </a:lnTo>
                      <a:lnTo>
                        <a:pt x="1288" y="627"/>
                      </a:lnTo>
                      <a:lnTo>
                        <a:pt x="1306" y="640"/>
                      </a:lnTo>
                      <a:lnTo>
                        <a:pt x="1350" y="653"/>
                      </a:lnTo>
                      <a:lnTo>
                        <a:pt x="1420" y="724"/>
                      </a:lnTo>
                      <a:lnTo>
                        <a:pt x="1420" y="778"/>
                      </a:lnTo>
                      <a:lnTo>
                        <a:pt x="1460" y="826"/>
                      </a:lnTo>
                      <a:lnTo>
                        <a:pt x="1469" y="848"/>
                      </a:lnTo>
                      <a:lnTo>
                        <a:pt x="1531" y="950"/>
                      </a:lnTo>
                      <a:lnTo>
                        <a:pt x="1478" y="1033"/>
                      </a:lnTo>
                      <a:lnTo>
                        <a:pt x="1460" y="1033"/>
                      </a:lnTo>
                      <a:lnTo>
                        <a:pt x="1412" y="1033"/>
                      </a:lnTo>
                      <a:lnTo>
                        <a:pt x="1394" y="998"/>
                      </a:lnTo>
                      <a:lnTo>
                        <a:pt x="1368" y="998"/>
                      </a:lnTo>
                      <a:lnTo>
                        <a:pt x="1341" y="1007"/>
                      </a:lnTo>
                      <a:lnTo>
                        <a:pt x="1213" y="813"/>
                      </a:lnTo>
                      <a:lnTo>
                        <a:pt x="1134" y="826"/>
                      </a:lnTo>
                      <a:lnTo>
                        <a:pt x="1059" y="813"/>
                      </a:lnTo>
                      <a:lnTo>
                        <a:pt x="1032" y="835"/>
                      </a:lnTo>
                      <a:lnTo>
                        <a:pt x="1006" y="875"/>
                      </a:lnTo>
                      <a:lnTo>
                        <a:pt x="997" y="848"/>
                      </a:lnTo>
                      <a:lnTo>
                        <a:pt x="962" y="910"/>
                      </a:lnTo>
                      <a:lnTo>
                        <a:pt x="913" y="998"/>
                      </a:lnTo>
                      <a:lnTo>
                        <a:pt x="869" y="958"/>
                      </a:lnTo>
                      <a:lnTo>
                        <a:pt x="816" y="936"/>
                      </a:lnTo>
                      <a:lnTo>
                        <a:pt x="781" y="936"/>
                      </a:lnTo>
                      <a:lnTo>
                        <a:pt x="732" y="910"/>
                      </a:lnTo>
                      <a:lnTo>
                        <a:pt x="705" y="936"/>
                      </a:lnTo>
                      <a:lnTo>
                        <a:pt x="670" y="813"/>
                      </a:lnTo>
                      <a:lnTo>
                        <a:pt x="608" y="702"/>
                      </a:lnTo>
                      <a:lnTo>
                        <a:pt x="551" y="565"/>
                      </a:lnTo>
                      <a:lnTo>
                        <a:pt x="498" y="490"/>
                      </a:lnTo>
                      <a:lnTo>
                        <a:pt x="454" y="419"/>
                      </a:lnTo>
                      <a:lnTo>
                        <a:pt x="361" y="419"/>
                      </a:lnTo>
                      <a:lnTo>
                        <a:pt x="273" y="455"/>
                      </a:lnTo>
                      <a:lnTo>
                        <a:pt x="233" y="406"/>
                      </a:lnTo>
                      <a:lnTo>
                        <a:pt x="145" y="371"/>
                      </a:lnTo>
                      <a:lnTo>
                        <a:pt x="101" y="331"/>
                      </a:lnTo>
                      <a:lnTo>
                        <a:pt x="101" y="185"/>
                      </a:lnTo>
                      <a:lnTo>
                        <a:pt x="110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5"/>
                      </a:moveTo>
                      <a:lnTo>
                        <a:pt x="92" y="0"/>
                      </a:lnTo>
                      <a:lnTo>
                        <a:pt x="202" y="61"/>
                      </a:lnTo>
                      <a:lnTo>
                        <a:pt x="220" y="123"/>
                      </a:lnTo>
                      <a:lnTo>
                        <a:pt x="220" y="145"/>
                      </a:lnTo>
                      <a:lnTo>
                        <a:pt x="246" y="158"/>
                      </a:lnTo>
                      <a:lnTo>
                        <a:pt x="246" y="185"/>
                      </a:lnTo>
                      <a:lnTo>
                        <a:pt x="282" y="198"/>
                      </a:lnTo>
                      <a:lnTo>
                        <a:pt x="282" y="246"/>
                      </a:lnTo>
                      <a:lnTo>
                        <a:pt x="392" y="393"/>
                      </a:lnTo>
                      <a:lnTo>
                        <a:pt x="405" y="393"/>
                      </a:lnTo>
                      <a:lnTo>
                        <a:pt x="423" y="428"/>
                      </a:lnTo>
                      <a:lnTo>
                        <a:pt x="440" y="468"/>
                      </a:lnTo>
                      <a:lnTo>
                        <a:pt x="458" y="468"/>
                      </a:lnTo>
                      <a:lnTo>
                        <a:pt x="534" y="516"/>
                      </a:lnTo>
                      <a:lnTo>
                        <a:pt x="680" y="538"/>
                      </a:lnTo>
                      <a:lnTo>
                        <a:pt x="688" y="710"/>
                      </a:lnTo>
                      <a:lnTo>
                        <a:pt x="724" y="737"/>
                      </a:lnTo>
                      <a:lnTo>
                        <a:pt x="715" y="799"/>
                      </a:lnTo>
                      <a:lnTo>
                        <a:pt x="799" y="882"/>
                      </a:lnTo>
                      <a:lnTo>
                        <a:pt x="874" y="922"/>
                      </a:lnTo>
                      <a:lnTo>
                        <a:pt x="874" y="1205"/>
                      </a:lnTo>
                      <a:lnTo>
                        <a:pt x="918" y="1316"/>
                      </a:lnTo>
                      <a:lnTo>
                        <a:pt x="891" y="1351"/>
                      </a:lnTo>
                      <a:lnTo>
                        <a:pt x="843" y="1364"/>
                      </a:lnTo>
                      <a:lnTo>
                        <a:pt x="834" y="1267"/>
                      </a:lnTo>
                      <a:lnTo>
                        <a:pt x="746" y="1364"/>
                      </a:lnTo>
                      <a:lnTo>
                        <a:pt x="688" y="1219"/>
                      </a:lnTo>
                      <a:lnTo>
                        <a:pt x="653" y="1117"/>
                      </a:lnTo>
                      <a:lnTo>
                        <a:pt x="552" y="984"/>
                      </a:lnTo>
                      <a:lnTo>
                        <a:pt x="525" y="984"/>
                      </a:lnTo>
                      <a:lnTo>
                        <a:pt x="432" y="909"/>
                      </a:lnTo>
                      <a:lnTo>
                        <a:pt x="414" y="834"/>
                      </a:lnTo>
                      <a:lnTo>
                        <a:pt x="414" y="785"/>
                      </a:lnTo>
                      <a:lnTo>
                        <a:pt x="339" y="591"/>
                      </a:lnTo>
                      <a:lnTo>
                        <a:pt x="304" y="468"/>
                      </a:lnTo>
                      <a:lnTo>
                        <a:pt x="211" y="358"/>
                      </a:lnTo>
                      <a:lnTo>
                        <a:pt x="83" y="18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1" y="0"/>
                      </a:moveTo>
                      <a:lnTo>
                        <a:pt x="136" y="0"/>
                      </a:lnTo>
                      <a:lnTo>
                        <a:pt x="224" y="158"/>
                      </a:lnTo>
                      <a:lnTo>
                        <a:pt x="207" y="308"/>
                      </a:lnTo>
                      <a:lnTo>
                        <a:pt x="261" y="357"/>
                      </a:lnTo>
                      <a:lnTo>
                        <a:pt x="287" y="454"/>
                      </a:lnTo>
                      <a:lnTo>
                        <a:pt x="344" y="502"/>
                      </a:lnTo>
                      <a:lnTo>
                        <a:pt x="415" y="515"/>
                      </a:lnTo>
                      <a:lnTo>
                        <a:pt x="521" y="590"/>
                      </a:lnTo>
                      <a:lnTo>
                        <a:pt x="587" y="674"/>
                      </a:lnTo>
                      <a:lnTo>
                        <a:pt x="605" y="674"/>
                      </a:lnTo>
                      <a:lnTo>
                        <a:pt x="694" y="749"/>
                      </a:lnTo>
                      <a:lnTo>
                        <a:pt x="694" y="935"/>
                      </a:lnTo>
                      <a:lnTo>
                        <a:pt x="720" y="1019"/>
                      </a:lnTo>
                      <a:lnTo>
                        <a:pt x="747" y="1068"/>
                      </a:lnTo>
                      <a:lnTo>
                        <a:pt x="782" y="1121"/>
                      </a:lnTo>
                      <a:lnTo>
                        <a:pt x="813" y="1182"/>
                      </a:lnTo>
                      <a:lnTo>
                        <a:pt x="831" y="1253"/>
                      </a:lnTo>
                      <a:lnTo>
                        <a:pt x="901" y="1315"/>
                      </a:lnTo>
                      <a:lnTo>
                        <a:pt x="892" y="1390"/>
                      </a:lnTo>
                      <a:lnTo>
                        <a:pt x="822" y="1403"/>
                      </a:lnTo>
                      <a:lnTo>
                        <a:pt x="795" y="1341"/>
                      </a:lnTo>
                      <a:lnTo>
                        <a:pt x="747" y="1341"/>
                      </a:lnTo>
                      <a:lnTo>
                        <a:pt x="747" y="1500"/>
                      </a:lnTo>
                      <a:lnTo>
                        <a:pt x="703" y="1500"/>
                      </a:lnTo>
                      <a:lnTo>
                        <a:pt x="649" y="1425"/>
                      </a:lnTo>
                      <a:lnTo>
                        <a:pt x="613" y="1390"/>
                      </a:lnTo>
                      <a:lnTo>
                        <a:pt x="613" y="1301"/>
                      </a:lnTo>
                      <a:lnTo>
                        <a:pt x="538" y="1301"/>
                      </a:lnTo>
                      <a:lnTo>
                        <a:pt x="512" y="1390"/>
                      </a:lnTo>
                      <a:lnTo>
                        <a:pt x="486" y="1301"/>
                      </a:lnTo>
                      <a:lnTo>
                        <a:pt x="477" y="1218"/>
                      </a:lnTo>
                      <a:lnTo>
                        <a:pt x="569" y="1182"/>
                      </a:lnTo>
                      <a:lnTo>
                        <a:pt x="622" y="1204"/>
                      </a:lnTo>
                      <a:lnTo>
                        <a:pt x="631" y="1059"/>
                      </a:lnTo>
                      <a:lnTo>
                        <a:pt x="578" y="1010"/>
                      </a:lnTo>
                      <a:lnTo>
                        <a:pt x="547" y="887"/>
                      </a:lnTo>
                      <a:lnTo>
                        <a:pt x="521" y="736"/>
                      </a:lnTo>
                      <a:lnTo>
                        <a:pt x="424" y="687"/>
                      </a:lnTo>
                      <a:lnTo>
                        <a:pt x="380" y="626"/>
                      </a:lnTo>
                      <a:lnTo>
                        <a:pt x="305" y="590"/>
                      </a:lnTo>
                      <a:lnTo>
                        <a:pt x="344" y="723"/>
                      </a:lnTo>
                      <a:lnTo>
                        <a:pt x="261" y="785"/>
                      </a:lnTo>
                      <a:lnTo>
                        <a:pt x="207" y="639"/>
                      </a:lnTo>
                      <a:lnTo>
                        <a:pt x="163" y="604"/>
                      </a:lnTo>
                      <a:lnTo>
                        <a:pt x="163" y="515"/>
                      </a:lnTo>
                      <a:lnTo>
                        <a:pt x="105" y="418"/>
                      </a:lnTo>
                      <a:lnTo>
                        <a:pt x="35" y="357"/>
                      </a:lnTo>
                      <a:lnTo>
                        <a:pt x="0" y="295"/>
                      </a:lnTo>
                      <a:lnTo>
                        <a:pt x="17" y="246"/>
                      </a:lnTo>
                      <a:lnTo>
                        <a:pt x="70" y="268"/>
                      </a:lnTo>
                      <a:lnTo>
                        <a:pt x="88" y="207"/>
                      </a:lnTo>
                      <a:lnTo>
                        <a:pt x="70" y="123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8"/>
                      </a:lnTo>
                      <a:lnTo>
                        <a:pt x="340" y="158"/>
                      </a:lnTo>
                      <a:lnTo>
                        <a:pt x="393" y="273"/>
                      </a:lnTo>
                      <a:lnTo>
                        <a:pt x="437" y="273"/>
                      </a:lnTo>
                      <a:lnTo>
                        <a:pt x="428" y="343"/>
                      </a:lnTo>
                      <a:lnTo>
                        <a:pt x="477" y="392"/>
                      </a:lnTo>
                      <a:lnTo>
                        <a:pt x="512" y="467"/>
                      </a:lnTo>
                      <a:lnTo>
                        <a:pt x="596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59" y="755"/>
                      </a:lnTo>
                      <a:lnTo>
                        <a:pt x="521" y="878"/>
                      </a:lnTo>
                      <a:lnTo>
                        <a:pt x="521" y="949"/>
                      </a:lnTo>
                      <a:lnTo>
                        <a:pt x="521" y="1024"/>
                      </a:lnTo>
                      <a:lnTo>
                        <a:pt x="486" y="988"/>
                      </a:lnTo>
                      <a:lnTo>
                        <a:pt x="446" y="927"/>
                      </a:lnTo>
                      <a:lnTo>
                        <a:pt x="367" y="852"/>
                      </a:lnTo>
                      <a:lnTo>
                        <a:pt x="326" y="816"/>
                      </a:lnTo>
                      <a:lnTo>
                        <a:pt x="255" y="852"/>
                      </a:lnTo>
                      <a:lnTo>
                        <a:pt x="211" y="878"/>
                      </a:lnTo>
                      <a:lnTo>
                        <a:pt x="238" y="940"/>
                      </a:lnTo>
                      <a:lnTo>
                        <a:pt x="308" y="988"/>
                      </a:lnTo>
                      <a:lnTo>
                        <a:pt x="375" y="1037"/>
                      </a:lnTo>
                      <a:lnTo>
                        <a:pt x="402" y="1121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6" y="1235"/>
                      </a:lnTo>
                      <a:lnTo>
                        <a:pt x="308" y="1222"/>
                      </a:lnTo>
                      <a:lnTo>
                        <a:pt x="282" y="1196"/>
                      </a:lnTo>
                      <a:lnTo>
                        <a:pt x="255" y="1257"/>
                      </a:lnTo>
                      <a:lnTo>
                        <a:pt x="211" y="1271"/>
                      </a:lnTo>
                      <a:lnTo>
                        <a:pt x="180" y="1222"/>
                      </a:lnTo>
                      <a:lnTo>
                        <a:pt x="180" y="1112"/>
                      </a:lnTo>
                      <a:lnTo>
                        <a:pt x="171" y="1050"/>
                      </a:lnTo>
                      <a:lnTo>
                        <a:pt x="127" y="1010"/>
                      </a:lnTo>
                      <a:lnTo>
                        <a:pt x="83" y="1072"/>
                      </a:lnTo>
                      <a:lnTo>
                        <a:pt x="17" y="1072"/>
                      </a:lnTo>
                      <a:lnTo>
                        <a:pt x="0" y="1024"/>
                      </a:lnTo>
                      <a:lnTo>
                        <a:pt x="17" y="900"/>
                      </a:lnTo>
                      <a:lnTo>
                        <a:pt x="66" y="825"/>
                      </a:lnTo>
                      <a:lnTo>
                        <a:pt x="61" y="630"/>
                      </a:lnTo>
                      <a:lnTo>
                        <a:pt x="61" y="577"/>
                      </a:lnTo>
                      <a:lnTo>
                        <a:pt x="110" y="568"/>
                      </a:lnTo>
                      <a:lnTo>
                        <a:pt x="154" y="617"/>
                      </a:lnTo>
                      <a:lnTo>
                        <a:pt x="229" y="640"/>
                      </a:lnTo>
                      <a:lnTo>
                        <a:pt x="229" y="555"/>
                      </a:lnTo>
                      <a:lnTo>
                        <a:pt x="198" y="507"/>
                      </a:lnTo>
                      <a:lnTo>
                        <a:pt x="180" y="467"/>
                      </a:lnTo>
                      <a:lnTo>
                        <a:pt x="202" y="467"/>
                      </a:lnTo>
                      <a:lnTo>
                        <a:pt x="220" y="467"/>
                      </a:lnTo>
                      <a:lnTo>
                        <a:pt x="238" y="467"/>
                      </a:lnTo>
                      <a:lnTo>
                        <a:pt x="255" y="467"/>
                      </a:lnTo>
                      <a:lnTo>
                        <a:pt x="282" y="432"/>
                      </a:lnTo>
                      <a:lnTo>
                        <a:pt x="273" y="392"/>
                      </a:lnTo>
                      <a:lnTo>
                        <a:pt x="246" y="308"/>
                      </a:lnTo>
                      <a:lnTo>
                        <a:pt x="198" y="220"/>
                      </a:lnTo>
                      <a:lnTo>
                        <a:pt x="127" y="171"/>
                      </a:lnTo>
                      <a:lnTo>
                        <a:pt x="101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92" y="74"/>
                      </a:lnTo>
                      <a:lnTo>
                        <a:pt x="189" y="185"/>
                      </a:lnTo>
                      <a:lnTo>
                        <a:pt x="233" y="305"/>
                      </a:lnTo>
                      <a:lnTo>
                        <a:pt x="299" y="318"/>
                      </a:lnTo>
                      <a:lnTo>
                        <a:pt x="352" y="344"/>
                      </a:lnTo>
                      <a:lnTo>
                        <a:pt x="397" y="393"/>
                      </a:lnTo>
                      <a:lnTo>
                        <a:pt x="450" y="393"/>
                      </a:lnTo>
                      <a:lnTo>
                        <a:pt x="508" y="468"/>
                      </a:lnTo>
                      <a:lnTo>
                        <a:pt x="561" y="525"/>
                      </a:lnTo>
                      <a:lnTo>
                        <a:pt x="622" y="565"/>
                      </a:lnTo>
                      <a:lnTo>
                        <a:pt x="613" y="600"/>
                      </a:lnTo>
                      <a:lnTo>
                        <a:pt x="578" y="627"/>
                      </a:lnTo>
                      <a:lnTo>
                        <a:pt x="543" y="627"/>
                      </a:lnTo>
                      <a:lnTo>
                        <a:pt x="525" y="662"/>
                      </a:lnTo>
                      <a:lnTo>
                        <a:pt x="596" y="737"/>
                      </a:lnTo>
                      <a:lnTo>
                        <a:pt x="644" y="808"/>
                      </a:lnTo>
                      <a:lnTo>
                        <a:pt x="724" y="883"/>
                      </a:lnTo>
                      <a:lnTo>
                        <a:pt x="671" y="967"/>
                      </a:lnTo>
                      <a:lnTo>
                        <a:pt x="631" y="994"/>
                      </a:lnTo>
                      <a:lnTo>
                        <a:pt x="636" y="1042"/>
                      </a:lnTo>
                      <a:lnTo>
                        <a:pt x="561" y="1042"/>
                      </a:lnTo>
                      <a:lnTo>
                        <a:pt x="534" y="1007"/>
                      </a:lnTo>
                      <a:lnTo>
                        <a:pt x="472" y="905"/>
                      </a:lnTo>
                      <a:lnTo>
                        <a:pt x="433" y="822"/>
                      </a:lnTo>
                      <a:lnTo>
                        <a:pt x="361" y="675"/>
                      </a:lnTo>
                      <a:lnTo>
                        <a:pt x="282" y="565"/>
                      </a:lnTo>
                      <a:lnTo>
                        <a:pt x="198" y="406"/>
                      </a:lnTo>
                      <a:lnTo>
                        <a:pt x="145" y="358"/>
                      </a:lnTo>
                      <a:lnTo>
                        <a:pt x="101" y="318"/>
                      </a:lnTo>
                      <a:lnTo>
                        <a:pt x="88" y="233"/>
                      </a:lnTo>
                      <a:lnTo>
                        <a:pt x="8" y="158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2" y="948"/>
                      </a:moveTo>
                      <a:lnTo>
                        <a:pt x="3997" y="1278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5" y="2695"/>
                      </a:lnTo>
                      <a:lnTo>
                        <a:pt x="4685" y="2929"/>
                      </a:lnTo>
                      <a:lnTo>
                        <a:pt x="4940" y="2920"/>
                      </a:lnTo>
                      <a:lnTo>
                        <a:pt x="5112" y="2845"/>
                      </a:lnTo>
                      <a:lnTo>
                        <a:pt x="5231" y="2845"/>
                      </a:lnTo>
                      <a:lnTo>
                        <a:pt x="5223" y="3167"/>
                      </a:lnTo>
                      <a:lnTo>
                        <a:pt x="5179" y="3339"/>
                      </a:lnTo>
                      <a:lnTo>
                        <a:pt x="4707" y="4053"/>
                      </a:lnTo>
                      <a:lnTo>
                        <a:pt x="4279" y="4789"/>
                      </a:lnTo>
                      <a:lnTo>
                        <a:pt x="4288" y="5072"/>
                      </a:lnTo>
                      <a:lnTo>
                        <a:pt x="4407" y="5283"/>
                      </a:lnTo>
                      <a:lnTo>
                        <a:pt x="4349" y="5442"/>
                      </a:lnTo>
                      <a:lnTo>
                        <a:pt x="4385" y="5649"/>
                      </a:lnTo>
                      <a:lnTo>
                        <a:pt x="4349" y="5813"/>
                      </a:lnTo>
                      <a:lnTo>
                        <a:pt x="4244" y="5950"/>
                      </a:lnTo>
                      <a:lnTo>
                        <a:pt x="4160" y="5950"/>
                      </a:lnTo>
                      <a:lnTo>
                        <a:pt x="4014" y="6184"/>
                      </a:lnTo>
                      <a:lnTo>
                        <a:pt x="3885" y="6453"/>
                      </a:lnTo>
                      <a:lnTo>
                        <a:pt x="3912" y="6748"/>
                      </a:lnTo>
                      <a:lnTo>
                        <a:pt x="3780" y="6885"/>
                      </a:lnTo>
                      <a:lnTo>
                        <a:pt x="3661" y="7189"/>
                      </a:lnTo>
                      <a:lnTo>
                        <a:pt x="3524" y="7476"/>
                      </a:lnTo>
                      <a:lnTo>
                        <a:pt x="3449" y="7586"/>
                      </a:lnTo>
                      <a:lnTo>
                        <a:pt x="3378" y="7608"/>
                      </a:lnTo>
                      <a:lnTo>
                        <a:pt x="3259" y="7793"/>
                      </a:lnTo>
                      <a:lnTo>
                        <a:pt x="3061" y="7904"/>
                      </a:lnTo>
                      <a:lnTo>
                        <a:pt x="2814" y="7930"/>
                      </a:lnTo>
                      <a:lnTo>
                        <a:pt x="2677" y="7807"/>
                      </a:lnTo>
                      <a:lnTo>
                        <a:pt x="2660" y="7683"/>
                      </a:lnTo>
                      <a:lnTo>
                        <a:pt x="2633" y="7524"/>
                      </a:lnTo>
                      <a:lnTo>
                        <a:pt x="2541" y="7436"/>
                      </a:lnTo>
                      <a:lnTo>
                        <a:pt x="2461" y="7132"/>
                      </a:lnTo>
                      <a:lnTo>
                        <a:pt x="2435" y="6982"/>
                      </a:lnTo>
                      <a:lnTo>
                        <a:pt x="2426" y="6797"/>
                      </a:lnTo>
                      <a:lnTo>
                        <a:pt x="2386" y="6660"/>
                      </a:lnTo>
                      <a:lnTo>
                        <a:pt x="2377" y="6576"/>
                      </a:lnTo>
                      <a:lnTo>
                        <a:pt x="2298" y="6440"/>
                      </a:lnTo>
                      <a:lnTo>
                        <a:pt x="2214" y="6329"/>
                      </a:lnTo>
                      <a:lnTo>
                        <a:pt x="2152" y="6144"/>
                      </a:lnTo>
                      <a:lnTo>
                        <a:pt x="2108" y="6008"/>
                      </a:lnTo>
                      <a:lnTo>
                        <a:pt x="2126" y="5786"/>
                      </a:lnTo>
                      <a:lnTo>
                        <a:pt x="2254" y="5469"/>
                      </a:lnTo>
                      <a:lnTo>
                        <a:pt x="2280" y="5111"/>
                      </a:lnTo>
                      <a:lnTo>
                        <a:pt x="2188" y="4706"/>
                      </a:lnTo>
                      <a:lnTo>
                        <a:pt x="2051" y="4543"/>
                      </a:lnTo>
                      <a:lnTo>
                        <a:pt x="1954" y="4322"/>
                      </a:lnTo>
                      <a:lnTo>
                        <a:pt x="1989" y="3978"/>
                      </a:lnTo>
                      <a:lnTo>
                        <a:pt x="1923" y="3718"/>
                      </a:lnTo>
                      <a:lnTo>
                        <a:pt x="1760" y="3696"/>
                      </a:lnTo>
                      <a:lnTo>
                        <a:pt x="1588" y="3497"/>
                      </a:lnTo>
                      <a:lnTo>
                        <a:pt x="1372" y="3387"/>
                      </a:lnTo>
                      <a:lnTo>
                        <a:pt x="1150" y="3559"/>
                      </a:lnTo>
                      <a:lnTo>
                        <a:pt x="564" y="3511"/>
                      </a:lnTo>
                      <a:lnTo>
                        <a:pt x="246" y="3078"/>
                      </a:lnTo>
                      <a:lnTo>
                        <a:pt x="0" y="2501"/>
                      </a:lnTo>
                      <a:lnTo>
                        <a:pt x="44" y="2302"/>
                      </a:lnTo>
                      <a:lnTo>
                        <a:pt x="154" y="2157"/>
                      </a:lnTo>
                      <a:lnTo>
                        <a:pt x="207" y="1746"/>
                      </a:lnTo>
                      <a:lnTo>
                        <a:pt x="282" y="1450"/>
                      </a:lnTo>
                      <a:lnTo>
                        <a:pt x="507" y="1146"/>
                      </a:lnTo>
                      <a:lnTo>
                        <a:pt x="736" y="1009"/>
                      </a:lnTo>
                      <a:lnTo>
                        <a:pt x="952" y="687"/>
                      </a:lnTo>
                      <a:lnTo>
                        <a:pt x="1001" y="555"/>
                      </a:lnTo>
                      <a:lnTo>
                        <a:pt x="1287" y="207"/>
                      </a:lnTo>
                      <a:lnTo>
                        <a:pt x="1465" y="343"/>
                      </a:lnTo>
                      <a:lnTo>
                        <a:pt x="1597" y="330"/>
                      </a:lnTo>
                      <a:lnTo>
                        <a:pt x="1751" y="149"/>
                      </a:lnTo>
                      <a:lnTo>
                        <a:pt x="1928" y="123"/>
                      </a:lnTo>
                      <a:lnTo>
                        <a:pt x="2051" y="171"/>
                      </a:lnTo>
                      <a:lnTo>
                        <a:pt x="2161" y="26"/>
                      </a:lnTo>
                      <a:lnTo>
                        <a:pt x="2307" y="0"/>
                      </a:lnTo>
                      <a:lnTo>
                        <a:pt x="2342" y="268"/>
                      </a:lnTo>
                      <a:lnTo>
                        <a:pt x="2435" y="467"/>
                      </a:lnTo>
                      <a:lnTo>
                        <a:pt x="2699" y="665"/>
                      </a:lnTo>
                      <a:lnTo>
                        <a:pt x="2924" y="701"/>
                      </a:lnTo>
                      <a:lnTo>
                        <a:pt x="2951" y="480"/>
                      </a:lnTo>
                      <a:lnTo>
                        <a:pt x="3123" y="480"/>
                      </a:lnTo>
                      <a:lnTo>
                        <a:pt x="3325" y="617"/>
                      </a:lnTo>
                      <a:lnTo>
                        <a:pt x="3550" y="687"/>
                      </a:lnTo>
                      <a:lnTo>
                        <a:pt x="3740" y="604"/>
                      </a:lnTo>
                      <a:lnTo>
                        <a:pt x="3912" y="9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9" y="177"/>
                          </a:moveTo>
                          <a:lnTo>
                            <a:pt x="106" y="114"/>
                          </a:lnTo>
                          <a:lnTo>
                            <a:pt x="168" y="114"/>
                          </a:lnTo>
                          <a:lnTo>
                            <a:pt x="252" y="0"/>
                          </a:lnTo>
                          <a:lnTo>
                            <a:pt x="279" y="74"/>
                          </a:lnTo>
                          <a:lnTo>
                            <a:pt x="323" y="74"/>
                          </a:lnTo>
                          <a:lnTo>
                            <a:pt x="341" y="114"/>
                          </a:lnTo>
                          <a:lnTo>
                            <a:pt x="315" y="177"/>
                          </a:lnTo>
                          <a:lnTo>
                            <a:pt x="279" y="203"/>
                          </a:lnTo>
                          <a:lnTo>
                            <a:pt x="279" y="252"/>
                          </a:lnTo>
                          <a:lnTo>
                            <a:pt x="270" y="278"/>
                          </a:lnTo>
                          <a:lnTo>
                            <a:pt x="262" y="314"/>
                          </a:lnTo>
                          <a:lnTo>
                            <a:pt x="279" y="367"/>
                          </a:lnTo>
                          <a:lnTo>
                            <a:pt x="252" y="415"/>
                          </a:lnTo>
                          <a:lnTo>
                            <a:pt x="225" y="442"/>
                          </a:lnTo>
                          <a:lnTo>
                            <a:pt x="199" y="442"/>
                          </a:lnTo>
                          <a:lnTo>
                            <a:pt x="190" y="456"/>
                          </a:lnTo>
                          <a:lnTo>
                            <a:pt x="181" y="491"/>
                          </a:lnTo>
                          <a:lnTo>
                            <a:pt x="142" y="504"/>
                          </a:lnTo>
                          <a:lnTo>
                            <a:pt x="133" y="491"/>
                          </a:lnTo>
                          <a:lnTo>
                            <a:pt x="98" y="531"/>
                          </a:lnTo>
                          <a:lnTo>
                            <a:pt x="89" y="539"/>
                          </a:lnTo>
                          <a:lnTo>
                            <a:pt x="44" y="579"/>
                          </a:lnTo>
                          <a:lnTo>
                            <a:pt x="26" y="579"/>
                          </a:lnTo>
                          <a:lnTo>
                            <a:pt x="17" y="553"/>
                          </a:lnTo>
                          <a:lnTo>
                            <a:pt x="8" y="491"/>
                          </a:lnTo>
                          <a:lnTo>
                            <a:pt x="0" y="478"/>
                          </a:lnTo>
                          <a:lnTo>
                            <a:pt x="0" y="428"/>
                          </a:lnTo>
                          <a:lnTo>
                            <a:pt x="26" y="402"/>
                          </a:lnTo>
                          <a:lnTo>
                            <a:pt x="52" y="375"/>
                          </a:lnTo>
                          <a:lnTo>
                            <a:pt x="70" y="327"/>
                          </a:lnTo>
                          <a:lnTo>
                            <a:pt x="98" y="327"/>
                          </a:lnTo>
                          <a:lnTo>
                            <a:pt x="115" y="340"/>
                          </a:lnTo>
                          <a:lnTo>
                            <a:pt x="142" y="327"/>
                          </a:lnTo>
                          <a:lnTo>
                            <a:pt x="115" y="314"/>
                          </a:lnTo>
                          <a:lnTo>
                            <a:pt x="79" y="17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2" y="149"/>
                          </a:moveTo>
                          <a:lnTo>
                            <a:pt x="158" y="110"/>
                          </a:lnTo>
                          <a:lnTo>
                            <a:pt x="234" y="123"/>
                          </a:lnTo>
                          <a:lnTo>
                            <a:pt x="252" y="97"/>
                          </a:lnTo>
                          <a:lnTo>
                            <a:pt x="269" y="61"/>
                          </a:lnTo>
                          <a:lnTo>
                            <a:pt x="287" y="61"/>
                          </a:lnTo>
                          <a:lnTo>
                            <a:pt x="305" y="48"/>
                          </a:lnTo>
                          <a:lnTo>
                            <a:pt x="331" y="26"/>
                          </a:lnTo>
                          <a:lnTo>
                            <a:pt x="367" y="0"/>
                          </a:lnTo>
                          <a:lnTo>
                            <a:pt x="411" y="13"/>
                          </a:lnTo>
                          <a:lnTo>
                            <a:pt x="402" y="61"/>
                          </a:lnTo>
                          <a:lnTo>
                            <a:pt x="384" y="97"/>
                          </a:lnTo>
                          <a:lnTo>
                            <a:pt x="367" y="110"/>
                          </a:lnTo>
                          <a:lnTo>
                            <a:pt x="349" y="123"/>
                          </a:lnTo>
                          <a:lnTo>
                            <a:pt x="296" y="149"/>
                          </a:lnTo>
                          <a:lnTo>
                            <a:pt x="296" y="198"/>
                          </a:lnTo>
                          <a:lnTo>
                            <a:pt x="305" y="220"/>
                          </a:lnTo>
                          <a:lnTo>
                            <a:pt x="358" y="198"/>
                          </a:lnTo>
                          <a:lnTo>
                            <a:pt x="402" y="171"/>
                          </a:lnTo>
                          <a:lnTo>
                            <a:pt x="411" y="198"/>
                          </a:lnTo>
                          <a:lnTo>
                            <a:pt x="411" y="268"/>
                          </a:lnTo>
                          <a:lnTo>
                            <a:pt x="375" y="282"/>
                          </a:lnTo>
                          <a:lnTo>
                            <a:pt x="340" y="282"/>
                          </a:lnTo>
                          <a:lnTo>
                            <a:pt x="314" y="321"/>
                          </a:lnTo>
                          <a:lnTo>
                            <a:pt x="305" y="343"/>
                          </a:lnTo>
                          <a:lnTo>
                            <a:pt x="305" y="383"/>
                          </a:lnTo>
                          <a:lnTo>
                            <a:pt x="331" y="432"/>
                          </a:lnTo>
                          <a:lnTo>
                            <a:pt x="358" y="467"/>
                          </a:lnTo>
                          <a:lnTo>
                            <a:pt x="375" y="507"/>
                          </a:lnTo>
                          <a:lnTo>
                            <a:pt x="384" y="556"/>
                          </a:lnTo>
                          <a:lnTo>
                            <a:pt x="393" y="605"/>
                          </a:lnTo>
                          <a:lnTo>
                            <a:pt x="411" y="666"/>
                          </a:lnTo>
                          <a:lnTo>
                            <a:pt x="411" y="755"/>
                          </a:lnTo>
                          <a:lnTo>
                            <a:pt x="393" y="803"/>
                          </a:lnTo>
                          <a:lnTo>
                            <a:pt x="358" y="838"/>
                          </a:lnTo>
                          <a:lnTo>
                            <a:pt x="349" y="865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1" y="962"/>
                          </a:lnTo>
                          <a:lnTo>
                            <a:pt x="287" y="962"/>
                          </a:lnTo>
                          <a:lnTo>
                            <a:pt x="269" y="949"/>
                          </a:lnTo>
                          <a:lnTo>
                            <a:pt x="234" y="949"/>
                          </a:lnTo>
                          <a:lnTo>
                            <a:pt x="194" y="962"/>
                          </a:lnTo>
                          <a:lnTo>
                            <a:pt x="158" y="988"/>
                          </a:lnTo>
                          <a:lnTo>
                            <a:pt x="132" y="988"/>
                          </a:lnTo>
                          <a:lnTo>
                            <a:pt x="114" y="997"/>
                          </a:lnTo>
                          <a:lnTo>
                            <a:pt x="70" y="1024"/>
                          </a:lnTo>
                          <a:lnTo>
                            <a:pt x="61" y="1010"/>
                          </a:lnTo>
                          <a:lnTo>
                            <a:pt x="44" y="988"/>
                          </a:lnTo>
                          <a:lnTo>
                            <a:pt x="17" y="975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2"/>
                          </a:lnTo>
                          <a:lnTo>
                            <a:pt x="44" y="852"/>
                          </a:lnTo>
                          <a:lnTo>
                            <a:pt x="70" y="838"/>
                          </a:lnTo>
                          <a:lnTo>
                            <a:pt x="105" y="838"/>
                          </a:lnTo>
                          <a:lnTo>
                            <a:pt x="105" y="825"/>
                          </a:lnTo>
                          <a:lnTo>
                            <a:pt x="70" y="803"/>
                          </a:lnTo>
                          <a:lnTo>
                            <a:pt x="70" y="763"/>
                          </a:lnTo>
                          <a:lnTo>
                            <a:pt x="70" y="741"/>
                          </a:lnTo>
                          <a:lnTo>
                            <a:pt x="105" y="715"/>
                          </a:lnTo>
                          <a:lnTo>
                            <a:pt x="123" y="702"/>
                          </a:lnTo>
                          <a:lnTo>
                            <a:pt x="141" y="693"/>
                          </a:lnTo>
                          <a:lnTo>
                            <a:pt x="167" y="693"/>
                          </a:lnTo>
                          <a:lnTo>
                            <a:pt x="185" y="680"/>
                          </a:lnTo>
                          <a:lnTo>
                            <a:pt x="194" y="578"/>
                          </a:lnTo>
                          <a:lnTo>
                            <a:pt x="217" y="507"/>
                          </a:lnTo>
                          <a:lnTo>
                            <a:pt x="217" y="467"/>
                          </a:lnTo>
                          <a:lnTo>
                            <a:pt x="158" y="454"/>
                          </a:lnTo>
                          <a:lnTo>
                            <a:pt x="176" y="392"/>
                          </a:lnTo>
                          <a:lnTo>
                            <a:pt x="132" y="357"/>
                          </a:lnTo>
                          <a:lnTo>
                            <a:pt x="88" y="370"/>
                          </a:lnTo>
                          <a:lnTo>
                            <a:pt x="141" y="282"/>
                          </a:lnTo>
                          <a:lnTo>
                            <a:pt x="132" y="14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81"/>
                        </a:lnTo>
                        <a:lnTo>
                          <a:pt x="198" y="1606"/>
                        </a:lnTo>
                        <a:lnTo>
                          <a:pt x="233" y="1557"/>
                        </a:lnTo>
                        <a:lnTo>
                          <a:pt x="246" y="1517"/>
                        </a:lnTo>
                        <a:lnTo>
                          <a:pt x="282" y="1517"/>
                        </a:lnTo>
                        <a:lnTo>
                          <a:pt x="317" y="1482"/>
                        </a:lnTo>
                        <a:lnTo>
                          <a:pt x="361" y="1482"/>
                        </a:lnTo>
                        <a:lnTo>
                          <a:pt x="388" y="1482"/>
                        </a:lnTo>
                        <a:lnTo>
                          <a:pt x="418" y="1482"/>
                        </a:lnTo>
                        <a:lnTo>
                          <a:pt x="436" y="1482"/>
                        </a:lnTo>
                        <a:lnTo>
                          <a:pt x="471" y="1434"/>
                        </a:lnTo>
                        <a:lnTo>
                          <a:pt x="489" y="1394"/>
                        </a:lnTo>
                        <a:lnTo>
                          <a:pt x="533" y="1359"/>
                        </a:lnTo>
                        <a:lnTo>
                          <a:pt x="564" y="1345"/>
                        </a:lnTo>
                        <a:lnTo>
                          <a:pt x="590" y="1319"/>
                        </a:lnTo>
                        <a:lnTo>
                          <a:pt x="626" y="1310"/>
                        </a:lnTo>
                        <a:lnTo>
                          <a:pt x="652" y="1284"/>
                        </a:lnTo>
                        <a:lnTo>
                          <a:pt x="687" y="1257"/>
                        </a:lnTo>
                        <a:lnTo>
                          <a:pt x="718" y="1235"/>
                        </a:lnTo>
                        <a:lnTo>
                          <a:pt x="762" y="1196"/>
                        </a:lnTo>
                        <a:lnTo>
                          <a:pt x="806" y="1209"/>
                        </a:lnTo>
                        <a:lnTo>
                          <a:pt x="873" y="1235"/>
                        </a:lnTo>
                        <a:lnTo>
                          <a:pt x="943" y="1235"/>
                        </a:lnTo>
                        <a:lnTo>
                          <a:pt x="1018" y="1196"/>
                        </a:lnTo>
                        <a:lnTo>
                          <a:pt x="1053" y="1187"/>
                        </a:lnTo>
                        <a:lnTo>
                          <a:pt x="1080" y="1112"/>
                        </a:lnTo>
                        <a:lnTo>
                          <a:pt x="1115" y="1063"/>
                        </a:lnTo>
                        <a:lnTo>
                          <a:pt x="1173" y="1002"/>
                        </a:lnTo>
                        <a:lnTo>
                          <a:pt x="1191" y="962"/>
                        </a:lnTo>
                        <a:lnTo>
                          <a:pt x="1191" y="913"/>
                        </a:lnTo>
                        <a:lnTo>
                          <a:pt x="1244" y="878"/>
                        </a:lnTo>
                        <a:lnTo>
                          <a:pt x="1271" y="837"/>
                        </a:lnTo>
                        <a:lnTo>
                          <a:pt x="1288" y="802"/>
                        </a:lnTo>
                        <a:lnTo>
                          <a:pt x="1306" y="802"/>
                        </a:lnTo>
                        <a:lnTo>
                          <a:pt x="1390" y="727"/>
                        </a:lnTo>
                        <a:lnTo>
                          <a:pt x="1390" y="802"/>
                        </a:lnTo>
                        <a:lnTo>
                          <a:pt x="1372" y="829"/>
                        </a:lnTo>
                        <a:lnTo>
                          <a:pt x="1390" y="865"/>
                        </a:lnTo>
                        <a:lnTo>
                          <a:pt x="1451" y="878"/>
                        </a:lnTo>
                        <a:lnTo>
                          <a:pt x="1482" y="878"/>
                        </a:lnTo>
                        <a:lnTo>
                          <a:pt x="1517" y="837"/>
                        </a:lnTo>
                        <a:lnTo>
                          <a:pt x="1544" y="802"/>
                        </a:lnTo>
                        <a:lnTo>
                          <a:pt x="1544" y="767"/>
                        </a:lnTo>
                        <a:lnTo>
                          <a:pt x="1570" y="727"/>
                        </a:lnTo>
                        <a:lnTo>
                          <a:pt x="1570" y="692"/>
                        </a:lnTo>
                        <a:lnTo>
                          <a:pt x="1597" y="643"/>
                        </a:lnTo>
                        <a:lnTo>
                          <a:pt x="1614" y="617"/>
                        </a:lnTo>
                        <a:lnTo>
                          <a:pt x="1654" y="617"/>
                        </a:lnTo>
                        <a:lnTo>
                          <a:pt x="1742" y="617"/>
                        </a:lnTo>
                        <a:lnTo>
                          <a:pt x="1808" y="568"/>
                        </a:lnTo>
                        <a:lnTo>
                          <a:pt x="1870" y="493"/>
                        </a:lnTo>
                        <a:lnTo>
                          <a:pt x="1936" y="467"/>
                        </a:lnTo>
                        <a:lnTo>
                          <a:pt x="1998" y="405"/>
                        </a:lnTo>
                        <a:lnTo>
                          <a:pt x="2042" y="308"/>
                        </a:lnTo>
                        <a:lnTo>
                          <a:pt x="2135" y="198"/>
                        </a:lnTo>
                        <a:lnTo>
                          <a:pt x="2197" y="149"/>
                        </a:lnTo>
                        <a:lnTo>
                          <a:pt x="2254" y="97"/>
                        </a:lnTo>
                        <a:lnTo>
                          <a:pt x="2316" y="35"/>
                        </a:lnTo>
                        <a:lnTo>
                          <a:pt x="2214" y="0"/>
                        </a:lnTo>
                        <a:lnTo>
                          <a:pt x="2108" y="0"/>
                        </a:lnTo>
                        <a:lnTo>
                          <a:pt x="2007" y="61"/>
                        </a:lnTo>
                        <a:lnTo>
                          <a:pt x="1954" y="97"/>
                        </a:lnTo>
                        <a:lnTo>
                          <a:pt x="1870" y="123"/>
                        </a:lnTo>
                        <a:lnTo>
                          <a:pt x="1778" y="136"/>
                        </a:lnTo>
                        <a:lnTo>
                          <a:pt x="1725" y="158"/>
                        </a:lnTo>
                        <a:lnTo>
                          <a:pt x="1614" y="220"/>
                        </a:lnTo>
                        <a:lnTo>
                          <a:pt x="1544" y="260"/>
                        </a:lnTo>
                        <a:lnTo>
                          <a:pt x="1473" y="295"/>
                        </a:lnTo>
                        <a:lnTo>
                          <a:pt x="1390" y="321"/>
                        </a:lnTo>
                        <a:lnTo>
                          <a:pt x="1306" y="357"/>
                        </a:lnTo>
                        <a:lnTo>
                          <a:pt x="1226" y="405"/>
                        </a:lnTo>
                        <a:lnTo>
                          <a:pt x="1165" y="467"/>
                        </a:lnTo>
                        <a:lnTo>
                          <a:pt x="1115" y="529"/>
                        </a:lnTo>
                        <a:lnTo>
                          <a:pt x="1062" y="582"/>
                        </a:lnTo>
                        <a:lnTo>
                          <a:pt x="1018" y="617"/>
                        </a:lnTo>
                        <a:lnTo>
                          <a:pt x="926" y="692"/>
                        </a:lnTo>
                        <a:lnTo>
                          <a:pt x="833" y="767"/>
                        </a:lnTo>
                        <a:lnTo>
                          <a:pt x="718" y="837"/>
                        </a:lnTo>
                        <a:lnTo>
                          <a:pt x="643" y="949"/>
                        </a:lnTo>
                        <a:lnTo>
                          <a:pt x="555" y="1037"/>
                        </a:lnTo>
                        <a:lnTo>
                          <a:pt x="480" y="1085"/>
                        </a:lnTo>
                        <a:lnTo>
                          <a:pt x="401" y="1196"/>
                        </a:lnTo>
                        <a:lnTo>
                          <a:pt x="352" y="1271"/>
                        </a:lnTo>
                        <a:lnTo>
                          <a:pt x="282" y="1345"/>
                        </a:lnTo>
                        <a:lnTo>
                          <a:pt x="216" y="1394"/>
                        </a:lnTo>
                        <a:lnTo>
                          <a:pt x="145" y="1442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7" y="515"/>
                      </a:moveTo>
                      <a:lnTo>
                        <a:pt x="114" y="852"/>
                      </a:lnTo>
                      <a:lnTo>
                        <a:pt x="52" y="1059"/>
                      </a:lnTo>
                      <a:lnTo>
                        <a:pt x="0" y="1257"/>
                      </a:lnTo>
                      <a:lnTo>
                        <a:pt x="0" y="1403"/>
                      </a:lnTo>
                      <a:lnTo>
                        <a:pt x="17" y="1526"/>
                      </a:lnTo>
                      <a:lnTo>
                        <a:pt x="79" y="1637"/>
                      </a:lnTo>
                      <a:lnTo>
                        <a:pt x="127" y="1650"/>
                      </a:lnTo>
                      <a:lnTo>
                        <a:pt x="171" y="1650"/>
                      </a:lnTo>
                      <a:lnTo>
                        <a:pt x="224" y="1663"/>
                      </a:lnTo>
                      <a:lnTo>
                        <a:pt x="251" y="1575"/>
                      </a:lnTo>
                      <a:lnTo>
                        <a:pt x="277" y="1354"/>
                      </a:lnTo>
                      <a:lnTo>
                        <a:pt x="353" y="1209"/>
                      </a:lnTo>
                      <a:lnTo>
                        <a:pt x="371" y="984"/>
                      </a:lnTo>
                      <a:lnTo>
                        <a:pt x="406" y="900"/>
                      </a:lnTo>
                      <a:lnTo>
                        <a:pt x="441" y="838"/>
                      </a:lnTo>
                      <a:lnTo>
                        <a:pt x="468" y="679"/>
                      </a:lnTo>
                      <a:lnTo>
                        <a:pt x="521" y="577"/>
                      </a:lnTo>
                      <a:lnTo>
                        <a:pt x="556" y="502"/>
                      </a:lnTo>
                      <a:lnTo>
                        <a:pt x="587" y="445"/>
                      </a:lnTo>
                      <a:lnTo>
                        <a:pt x="587" y="405"/>
                      </a:lnTo>
                      <a:lnTo>
                        <a:pt x="666" y="321"/>
                      </a:lnTo>
                      <a:lnTo>
                        <a:pt x="675" y="185"/>
                      </a:lnTo>
                      <a:lnTo>
                        <a:pt x="693" y="97"/>
                      </a:lnTo>
                      <a:lnTo>
                        <a:pt x="622" y="61"/>
                      </a:lnTo>
                      <a:lnTo>
                        <a:pt x="578" y="0"/>
                      </a:lnTo>
                      <a:lnTo>
                        <a:pt x="521" y="61"/>
                      </a:lnTo>
                      <a:lnTo>
                        <a:pt x="468" y="207"/>
                      </a:lnTo>
                      <a:lnTo>
                        <a:pt x="406" y="308"/>
                      </a:lnTo>
                      <a:lnTo>
                        <a:pt x="353" y="392"/>
                      </a:lnTo>
                      <a:lnTo>
                        <a:pt x="330" y="392"/>
                      </a:lnTo>
                      <a:lnTo>
                        <a:pt x="277" y="445"/>
                      </a:lnTo>
                      <a:lnTo>
                        <a:pt x="251" y="493"/>
                      </a:lnTo>
                      <a:lnTo>
                        <a:pt x="127" y="5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2"/>
                      </a:moveTo>
                      <a:lnTo>
                        <a:pt x="83" y="3431"/>
                      </a:lnTo>
                      <a:lnTo>
                        <a:pt x="136" y="3347"/>
                      </a:lnTo>
                      <a:lnTo>
                        <a:pt x="246" y="3347"/>
                      </a:lnTo>
                      <a:lnTo>
                        <a:pt x="370" y="3370"/>
                      </a:lnTo>
                      <a:lnTo>
                        <a:pt x="454" y="3321"/>
                      </a:lnTo>
                      <a:lnTo>
                        <a:pt x="546" y="3308"/>
                      </a:lnTo>
                      <a:lnTo>
                        <a:pt x="555" y="3162"/>
                      </a:lnTo>
                      <a:lnTo>
                        <a:pt x="608" y="3065"/>
                      </a:lnTo>
                      <a:lnTo>
                        <a:pt x="480" y="2951"/>
                      </a:lnTo>
                      <a:lnTo>
                        <a:pt x="463" y="2867"/>
                      </a:lnTo>
                      <a:lnTo>
                        <a:pt x="471" y="2743"/>
                      </a:lnTo>
                      <a:lnTo>
                        <a:pt x="564" y="2743"/>
                      </a:lnTo>
                      <a:lnTo>
                        <a:pt x="626" y="2730"/>
                      </a:lnTo>
                      <a:lnTo>
                        <a:pt x="635" y="2743"/>
                      </a:lnTo>
                      <a:lnTo>
                        <a:pt x="701" y="2668"/>
                      </a:lnTo>
                      <a:lnTo>
                        <a:pt x="771" y="2633"/>
                      </a:lnTo>
                      <a:lnTo>
                        <a:pt x="798" y="2633"/>
                      </a:lnTo>
                      <a:lnTo>
                        <a:pt x="842" y="2558"/>
                      </a:lnTo>
                      <a:lnTo>
                        <a:pt x="890" y="2536"/>
                      </a:lnTo>
                      <a:lnTo>
                        <a:pt x="943" y="2399"/>
                      </a:lnTo>
                      <a:lnTo>
                        <a:pt x="978" y="2435"/>
                      </a:lnTo>
                      <a:lnTo>
                        <a:pt x="1045" y="2351"/>
                      </a:lnTo>
                      <a:lnTo>
                        <a:pt x="1053" y="2351"/>
                      </a:lnTo>
                      <a:lnTo>
                        <a:pt x="1142" y="2249"/>
                      </a:lnTo>
                      <a:lnTo>
                        <a:pt x="1190" y="2241"/>
                      </a:lnTo>
                      <a:lnTo>
                        <a:pt x="1261" y="2241"/>
                      </a:lnTo>
                      <a:lnTo>
                        <a:pt x="1305" y="2241"/>
                      </a:lnTo>
                      <a:lnTo>
                        <a:pt x="1270" y="2117"/>
                      </a:lnTo>
                      <a:lnTo>
                        <a:pt x="1252" y="2016"/>
                      </a:lnTo>
                      <a:lnTo>
                        <a:pt x="1234" y="1807"/>
                      </a:lnTo>
                      <a:lnTo>
                        <a:pt x="1336" y="1794"/>
                      </a:lnTo>
                      <a:lnTo>
                        <a:pt x="1389" y="1759"/>
                      </a:lnTo>
                      <a:lnTo>
                        <a:pt x="1362" y="1843"/>
                      </a:lnTo>
                      <a:lnTo>
                        <a:pt x="1406" y="1905"/>
                      </a:lnTo>
                      <a:lnTo>
                        <a:pt x="1450" y="1980"/>
                      </a:lnTo>
                      <a:lnTo>
                        <a:pt x="1472" y="2029"/>
                      </a:lnTo>
                      <a:lnTo>
                        <a:pt x="1596" y="2016"/>
                      </a:lnTo>
                      <a:lnTo>
                        <a:pt x="1697" y="1834"/>
                      </a:lnTo>
                      <a:lnTo>
                        <a:pt x="1772" y="1746"/>
                      </a:lnTo>
                      <a:lnTo>
                        <a:pt x="1816" y="1684"/>
                      </a:lnTo>
                      <a:lnTo>
                        <a:pt x="1869" y="1609"/>
                      </a:lnTo>
                      <a:lnTo>
                        <a:pt x="1918" y="1512"/>
                      </a:lnTo>
                      <a:lnTo>
                        <a:pt x="1962" y="1547"/>
                      </a:lnTo>
                      <a:lnTo>
                        <a:pt x="1962" y="1490"/>
                      </a:lnTo>
                      <a:lnTo>
                        <a:pt x="1988" y="1450"/>
                      </a:lnTo>
                      <a:lnTo>
                        <a:pt x="2068" y="1477"/>
                      </a:lnTo>
                      <a:lnTo>
                        <a:pt x="2196" y="1636"/>
                      </a:lnTo>
                      <a:lnTo>
                        <a:pt x="2169" y="1195"/>
                      </a:lnTo>
                      <a:lnTo>
                        <a:pt x="2059" y="1389"/>
                      </a:lnTo>
                      <a:lnTo>
                        <a:pt x="1971" y="1375"/>
                      </a:lnTo>
                      <a:lnTo>
                        <a:pt x="1944" y="1256"/>
                      </a:lnTo>
                      <a:lnTo>
                        <a:pt x="1944" y="1195"/>
                      </a:lnTo>
                      <a:lnTo>
                        <a:pt x="1918" y="1155"/>
                      </a:lnTo>
                      <a:lnTo>
                        <a:pt x="1988" y="1058"/>
                      </a:lnTo>
                      <a:lnTo>
                        <a:pt x="2032" y="983"/>
                      </a:lnTo>
                      <a:lnTo>
                        <a:pt x="2072" y="961"/>
                      </a:lnTo>
                      <a:lnTo>
                        <a:pt x="2107" y="948"/>
                      </a:lnTo>
                      <a:lnTo>
                        <a:pt x="2134" y="886"/>
                      </a:lnTo>
                      <a:lnTo>
                        <a:pt x="2169" y="873"/>
                      </a:lnTo>
                      <a:lnTo>
                        <a:pt x="2213" y="873"/>
                      </a:lnTo>
                      <a:lnTo>
                        <a:pt x="2134" y="762"/>
                      </a:lnTo>
                      <a:lnTo>
                        <a:pt x="2059" y="789"/>
                      </a:lnTo>
                      <a:lnTo>
                        <a:pt x="2006" y="789"/>
                      </a:lnTo>
                      <a:lnTo>
                        <a:pt x="1962" y="749"/>
                      </a:lnTo>
                      <a:lnTo>
                        <a:pt x="1962" y="824"/>
                      </a:lnTo>
                      <a:lnTo>
                        <a:pt x="1918" y="899"/>
                      </a:lnTo>
                      <a:lnTo>
                        <a:pt x="1860" y="1023"/>
                      </a:lnTo>
                      <a:lnTo>
                        <a:pt x="1799" y="1071"/>
                      </a:lnTo>
                      <a:lnTo>
                        <a:pt x="1759" y="1071"/>
                      </a:lnTo>
                      <a:lnTo>
                        <a:pt x="1741" y="1155"/>
                      </a:lnTo>
                      <a:lnTo>
                        <a:pt x="1741" y="1195"/>
                      </a:lnTo>
                      <a:lnTo>
                        <a:pt x="1706" y="1230"/>
                      </a:lnTo>
                      <a:lnTo>
                        <a:pt x="1750" y="1375"/>
                      </a:lnTo>
                      <a:lnTo>
                        <a:pt x="1772" y="1450"/>
                      </a:lnTo>
                      <a:lnTo>
                        <a:pt x="1724" y="1561"/>
                      </a:lnTo>
                      <a:lnTo>
                        <a:pt x="1662" y="1636"/>
                      </a:lnTo>
                      <a:lnTo>
                        <a:pt x="1644" y="1746"/>
                      </a:lnTo>
                      <a:lnTo>
                        <a:pt x="1613" y="1834"/>
                      </a:lnTo>
                      <a:lnTo>
                        <a:pt x="1578" y="1834"/>
                      </a:lnTo>
                      <a:lnTo>
                        <a:pt x="1525" y="1843"/>
                      </a:lnTo>
                      <a:lnTo>
                        <a:pt x="1472" y="1882"/>
                      </a:lnTo>
                      <a:lnTo>
                        <a:pt x="1459" y="1869"/>
                      </a:lnTo>
                      <a:lnTo>
                        <a:pt x="1459" y="1807"/>
                      </a:lnTo>
                      <a:lnTo>
                        <a:pt x="1450" y="1710"/>
                      </a:lnTo>
                      <a:lnTo>
                        <a:pt x="1406" y="1710"/>
                      </a:lnTo>
                      <a:lnTo>
                        <a:pt x="1380" y="1649"/>
                      </a:lnTo>
                      <a:lnTo>
                        <a:pt x="1389" y="1561"/>
                      </a:lnTo>
                      <a:lnTo>
                        <a:pt x="1397" y="1512"/>
                      </a:lnTo>
                      <a:lnTo>
                        <a:pt x="1389" y="1490"/>
                      </a:lnTo>
                      <a:lnTo>
                        <a:pt x="1353" y="1512"/>
                      </a:lnTo>
                      <a:lnTo>
                        <a:pt x="1336" y="1512"/>
                      </a:lnTo>
                      <a:lnTo>
                        <a:pt x="1309" y="1499"/>
                      </a:lnTo>
                      <a:lnTo>
                        <a:pt x="1296" y="1490"/>
                      </a:lnTo>
                      <a:lnTo>
                        <a:pt x="1252" y="1538"/>
                      </a:lnTo>
                      <a:lnTo>
                        <a:pt x="1208" y="1600"/>
                      </a:lnTo>
                      <a:lnTo>
                        <a:pt x="1164" y="1662"/>
                      </a:lnTo>
                      <a:lnTo>
                        <a:pt x="1071" y="1649"/>
                      </a:lnTo>
                      <a:lnTo>
                        <a:pt x="1009" y="1636"/>
                      </a:lnTo>
                      <a:lnTo>
                        <a:pt x="970" y="1574"/>
                      </a:lnTo>
                      <a:lnTo>
                        <a:pt x="970" y="1538"/>
                      </a:lnTo>
                      <a:lnTo>
                        <a:pt x="996" y="1490"/>
                      </a:lnTo>
                      <a:lnTo>
                        <a:pt x="1027" y="1450"/>
                      </a:lnTo>
                      <a:lnTo>
                        <a:pt x="1053" y="1402"/>
                      </a:lnTo>
                      <a:lnTo>
                        <a:pt x="996" y="1428"/>
                      </a:lnTo>
                      <a:lnTo>
                        <a:pt x="970" y="1367"/>
                      </a:lnTo>
                      <a:lnTo>
                        <a:pt x="970" y="1327"/>
                      </a:lnTo>
                      <a:lnTo>
                        <a:pt x="1053" y="1314"/>
                      </a:lnTo>
                      <a:lnTo>
                        <a:pt x="1133" y="1305"/>
                      </a:lnTo>
                      <a:lnTo>
                        <a:pt x="1080" y="1265"/>
                      </a:lnTo>
                      <a:lnTo>
                        <a:pt x="1001" y="1278"/>
                      </a:lnTo>
                      <a:lnTo>
                        <a:pt x="1001" y="1203"/>
                      </a:lnTo>
                      <a:lnTo>
                        <a:pt x="1036" y="1155"/>
                      </a:lnTo>
                      <a:lnTo>
                        <a:pt x="1115" y="1106"/>
                      </a:lnTo>
                      <a:lnTo>
                        <a:pt x="1142" y="1058"/>
                      </a:lnTo>
                      <a:lnTo>
                        <a:pt x="1164" y="1031"/>
                      </a:lnTo>
                      <a:lnTo>
                        <a:pt x="1225" y="1023"/>
                      </a:lnTo>
                      <a:lnTo>
                        <a:pt x="1278" y="1031"/>
                      </a:lnTo>
                      <a:lnTo>
                        <a:pt x="1305" y="1058"/>
                      </a:lnTo>
                      <a:lnTo>
                        <a:pt x="1344" y="1023"/>
                      </a:lnTo>
                      <a:lnTo>
                        <a:pt x="1305" y="1009"/>
                      </a:lnTo>
                      <a:lnTo>
                        <a:pt x="1305" y="908"/>
                      </a:lnTo>
                      <a:lnTo>
                        <a:pt x="1415" y="798"/>
                      </a:lnTo>
                      <a:lnTo>
                        <a:pt x="1472" y="727"/>
                      </a:lnTo>
                      <a:lnTo>
                        <a:pt x="1508" y="714"/>
                      </a:lnTo>
                      <a:lnTo>
                        <a:pt x="1499" y="674"/>
                      </a:lnTo>
                      <a:lnTo>
                        <a:pt x="1552" y="604"/>
                      </a:lnTo>
                      <a:lnTo>
                        <a:pt x="1613" y="493"/>
                      </a:lnTo>
                      <a:lnTo>
                        <a:pt x="1680" y="440"/>
                      </a:lnTo>
                      <a:lnTo>
                        <a:pt x="1627" y="392"/>
                      </a:lnTo>
                      <a:lnTo>
                        <a:pt x="1768" y="282"/>
                      </a:lnTo>
                      <a:lnTo>
                        <a:pt x="1825" y="295"/>
                      </a:lnTo>
                      <a:lnTo>
                        <a:pt x="1816" y="233"/>
                      </a:lnTo>
                      <a:lnTo>
                        <a:pt x="1935" y="220"/>
                      </a:lnTo>
                      <a:lnTo>
                        <a:pt x="2160" y="26"/>
                      </a:lnTo>
                      <a:lnTo>
                        <a:pt x="2196" y="0"/>
                      </a:lnTo>
                      <a:lnTo>
                        <a:pt x="2151" y="145"/>
                      </a:lnTo>
                      <a:lnTo>
                        <a:pt x="2204" y="74"/>
                      </a:lnTo>
                      <a:lnTo>
                        <a:pt x="2262" y="48"/>
                      </a:lnTo>
                      <a:lnTo>
                        <a:pt x="2253" y="110"/>
                      </a:lnTo>
                      <a:lnTo>
                        <a:pt x="2426" y="35"/>
                      </a:lnTo>
                      <a:lnTo>
                        <a:pt x="2505" y="97"/>
                      </a:lnTo>
                      <a:lnTo>
                        <a:pt x="2391" y="158"/>
                      </a:lnTo>
                      <a:lnTo>
                        <a:pt x="2435" y="233"/>
                      </a:lnTo>
                      <a:lnTo>
                        <a:pt x="2598" y="220"/>
                      </a:lnTo>
                      <a:lnTo>
                        <a:pt x="2845" y="330"/>
                      </a:lnTo>
                      <a:lnTo>
                        <a:pt x="2832" y="454"/>
                      </a:lnTo>
                      <a:lnTo>
                        <a:pt x="2726" y="564"/>
                      </a:lnTo>
                      <a:lnTo>
                        <a:pt x="2571" y="626"/>
                      </a:lnTo>
                      <a:lnTo>
                        <a:pt x="2545" y="749"/>
                      </a:lnTo>
                      <a:lnTo>
                        <a:pt x="2554" y="873"/>
                      </a:lnTo>
                      <a:lnTo>
                        <a:pt x="2598" y="899"/>
                      </a:lnTo>
                      <a:lnTo>
                        <a:pt x="2607" y="961"/>
                      </a:lnTo>
                      <a:lnTo>
                        <a:pt x="2624" y="983"/>
                      </a:lnTo>
                      <a:lnTo>
                        <a:pt x="2660" y="1009"/>
                      </a:lnTo>
                      <a:lnTo>
                        <a:pt x="2668" y="1080"/>
                      </a:lnTo>
                      <a:lnTo>
                        <a:pt x="2717" y="1168"/>
                      </a:lnTo>
                      <a:lnTo>
                        <a:pt x="2717" y="1203"/>
                      </a:lnTo>
                      <a:lnTo>
                        <a:pt x="2770" y="1203"/>
                      </a:lnTo>
                      <a:lnTo>
                        <a:pt x="2787" y="1230"/>
                      </a:lnTo>
                      <a:lnTo>
                        <a:pt x="2832" y="1256"/>
                      </a:lnTo>
                      <a:lnTo>
                        <a:pt x="2854" y="1217"/>
                      </a:lnTo>
                      <a:lnTo>
                        <a:pt x="2880" y="1155"/>
                      </a:lnTo>
                      <a:lnTo>
                        <a:pt x="2898" y="1120"/>
                      </a:lnTo>
                      <a:lnTo>
                        <a:pt x="2942" y="1142"/>
                      </a:lnTo>
                      <a:lnTo>
                        <a:pt x="2995" y="1058"/>
                      </a:lnTo>
                      <a:lnTo>
                        <a:pt x="2995" y="996"/>
                      </a:lnTo>
                      <a:lnTo>
                        <a:pt x="3008" y="948"/>
                      </a:lnTo>
                      <a:lnTo>
                        <a:pt x="3017" y="908"/>
                      </a:lnTo>
                      <a:lnTo>
                        <a:pt x="3123" y="873"/>
                      </a:lnTo>
                      <a:lnTo>
                        <a:pt x="3206" y="837"/>
                      </a:lnTo>
                      <a:lnTo>
                        <a:pt x="3317" y="789"/>
                      </a:lnTo>
                      <a:lnTo>
                        <a:pt x="3449" y="824"/>
                      </a:lnTo>
                      <a:lnTo>
                        <a:pt x="3577" y="824"/>
                      </a:lnTo>
                      <a:lnTo>
                        <a:pt x="3788" y="824"/>
                      </a:lnTo>
                      <a:lnTo>
                        <a:pt x="3824" y="529"/>
                      </a:lnTo>
                      <a:lnTo>
                        <a:pt x="3943" y="542"/>
                      </a:lnTo>
                      <a:lnTo>
                        <a:pt x="4031" y="762"/>
                      </a:lnTo>
                      <a:lnTo>
                        <a:pt x="4049" y="577"/>
                      </a:lnTo>
                      <a:lnTo>
                        <a:pt x="4441" y="35"/>
                      </a:lnTo>
                      <a:lnTo>
                        <a:pt x="4595" y="35"/>
                      </a:lnTo>
                      <a:lnTo>
                        <a:pt x="4732" y="145"/>
                      </a:lnTo>
                      <a:lnTo>
                        <a:pt x="4913" y="136"/>
                      </a:lnTo>
                      <a:lnTo>
                        <a:pt x="5151" y="330"/>
                      </a:lnTo>
                      <a:lnTo>
                        <a:pt x="5429" y="440"/>
                      </a:lnTo>
                      <a:lnTo>
                        <a:pt x="5623" y="418"/>
                      </a:lnTo>
                      <a:lnTo>
                        <a:pt x="5883" y="542"/>
                      </a:lnTo>
                      <a:lnTo>
                        <a:pt x="6095" y="542"/>
                      </a:lnTo>
                      <a:lnTo>
                        <a:pt x="6201" y="454"/>
                      </a:lnTo>
                      <a:lnTo>
                        <a:pt x="6439" y="454"/>
                      </a:lnTo>
                      <a:lnTo>
                        <a:pt x="6567" y="555"/>
                      </a:lnTo>
                      <a:lnTo>
                        <a:pt x="6893" y="555"/>
                      </a:lnTo>
                      <a:lnTo>
                        <a:pt x="7167" y="714"/>
                      </a:lnTo>
                      <a:lnTo>
                        <a:pt x="7657" y="687"/>
                      </a:lnTo>
                      <a:lnTo>
                        <a:pt x="8455" y="762"/>
                      </a:lnTo>
                      <a:lnTo>
                        <a:pt x="8839" y="996"/>
                      </a:lnTo>
                      <a:lnTo>
                        <a:pt x="9165" y="1142"/>
                      </a:lnTo>
                      <a:lnTo>
                        <a:pt x="9372" y="1265"/>
                      </a:lnTo>
                      <a:lnTo>
                        <a:pt x="9310" y="1305"/>
                      </a:lnTo>
                      <a:lnTo>
                        <a:pt x="9165" y="1203"/>
                      </a:lnTo>
                      <a:lnTo>
                        <a:pt x="8834" y="1168"/>
                      </a:lnTo>
                      <a:lnTo>
                        <a:pt x="8927" y="1265"/>
                      </a:lnTo>
                      <a:lnTo>
                        <a:pt x="9072" y="1314"/>
                      </a:lnTo>
                      <a:lnTo>
                        <a:pt x="9028" y="1477"/>
                      </a:lnTo>
                      <a:lnTo>
                        <a:pt x="8874" y="1574"/>
                      </a:lnTo>
                      <a:lnTo>
                        <a:pt x="8825" y="1733"/>
                      </a:lnTo>
                      <a:lnTo>
                        <a:pt x="9028" y="1882"/>
                      </a:lnTo>
                      <a:lnTo>
                        <a:pt x="9174" y="2077"/>
                      </a:lnTo>
                      <a:lnTo>
                        <a:pt x="9253" y="2364"/>
                      </a:lnTo>
                      <a:lnTo>
                        <a:pt x="9156" y="2386"/>
                      </a:lnTo>
                      <a:lnTo>
                        <a:pt x="8953" y="2302"/>
                      </a:lnTo>
                      <a:lnTo>
                        <a:pt x="8737" y="2091"/>
                      </a:lnTo>
                      <a:lnTo>
                        <a:pt x="8653" y="1980"/>
                      </a:lnTo>
                      <a:lnTo>
                        <a:pt x="8600" y="1834"/>
                      </a:lnTo>
                      <a:lnTo>
                        <a:pt x="8548" y="1609"/>
                      </a:lnTo>
                      <a:lnTo>
                        <a:pt x="8464" y="1538"/>
                      </a:lnTo>
                      <a:lnTo>
                        <a:pt x="8384" y="1525"/>
                      </a:lnTo>
                      <a:lnTo>
                        <a:pt x="8318" y="1547"/>
                      </a:lnTo>
                      <a:lnTo>
                        <a:pt x="8393" y="1724"/>
                      </a:lnTo>
                      <a:lnTo>
                        <a:pt x="8190" y="1746"/>
                      </a:lnTo>
                      <a:lnTo>
                        <a:pt x="8093" y="1662"/>
                      </a:lnTo>
                      <a:lnTo>
                        <a:pt x="7913" y="1710"/>
                      </a:lnTo>
                      <a:lnTo>
                        <a:pt x="7776" y="1843"/>
                      </a:lnTo>
                      <a:lnTo>
                        <a:pt x="7776" y="1918"/>
                      </a:lnTo>
                      <a:lnTo>
                        <a:pt x="7829" y="2042"/>
                      </a:lnTo>
                      <a:lnTo>
                        <a:pt x="8045" y="2077"/>
                      </a:lnTo>
                      <a:lnTo>
                        <a:pt x="8217" y="2227"/>
                      </a:lnTo>
                      <a:lnTo>
                        <a:pt x="8508" y="2633"/>
                      </a:lnTo>
                      <a:lnTo>
                        <a:pt x="8627" y="2902"/>
                      </a:lnTo>
                      <a:lnTo>
                        <a:pt x="8645" y="3184"/>
                      </a:lnTo>
                      <a:lnTo>
                        <a:pt x="8618" y="3418"/>
                      </a:lnTo>
                      <a:lnTo>
                        <a:pt x="8548" y="3418"/>
                      </a:lnTo>
                      <a:lnTo>
                        <a:pt x="8473" y="3334"/>
                      </a:lnTo>
                      <a:lnTo>
                        <a:pt x="8362" y="3444"/>
                      </a:lnTo>
                      <a:lnTo>
                        <a:pt x="8248" y="3542"/>
                      </a:lnTo>
                      <a:lnTo>
                        <a:pt x="8230" y="3705"/>
                      </a:lnTo>
                      <a:lnTo>
                        <a:pt x="8354" y="3899"/>
                      </a:lnTo>
                      <a:lnTo>
                        <a:pt x="8274" y="4057"/>
                      </a:lnTo>
                      <a:lnTo>
                        <a:pt x="8248" y="4331"/>
                      </a:lnTo>
                      <a:lnTo>
                        <a:pt x="8393" y="4503"/>
                      </a:lnTo>
                      <a:lnTo>
                        <a:pt x="8556" y="4551"/>
                      </a:lnTo>
                      <a:lnTo>
                        <a:pt x="8728" y="4737"/>
                      </a:lnTo>
                      <a:lnTo>
                        <a:pt x="8874" y="4983"/>
                      </a:lnTo>
                      <a:lnTo>
                        <a:pt x="8883" y="5349"/>
                      </a:lnTo>
                      <a:lnTo>
                        <a:pt x="8834" y="5521"/>
                      </a:lnTo>
                      <a:lnTo>
                        <a:pt x="8680" y="5671"/>
                      </a:lnTo>
                      <a:lnTo>
                        <a:pt x="8490" y="5746"/>
                      </a:lnTo>
                      <a:lnTo>
                        <a:pt x="8371" y="5857"/>
                      </a:lnTo>
                      <a:lnTo>
                        <a:pt x="8301" y="5795"/>
                      </a:lnTo>
                      <a:lnTo>
                        <a:pt x="8239" y="5857"/>
                      </a:lnTo>
                      <a:lnTo>
                        <a:pt x="8221" y="6127"/>
                      </a:lnTo>
                      <a:lnTo>
                        <a:pt x="8265" y="6285"/>
                      </a:lnTo>
                      <a:lnTo>
                        <a:pt x="8455" y="6471"/>
                      </a:lnTo>
                      <a:lnTo>
                        <a:pt x="8530" y="6656"/>
                      </a:lnTo>
                      <a:lnTo>
                        <a:pt x="8592" y="6753"/>
                      </a:lnTo>
                      <a:lnTo>
                        <a:pt x="8574" y="6951"/>
                      </a:lnTo>
                      <a:lnTo>
                        <a:pt x="8455" y="7110"/>
                      </a:lnTo>
                      <a:lnTo>
                        <a:pt x="8327" y="7110"/>
                      </a:lnTo>
                      <a:lnTo>
                        <a:pt x="8120" y="6876"/>
                      </a:lnTo>
                      <a:lnTo>
                        <a:pt x="7974" y="6792"/>
                      </a:lnTo>
                      <a:lnTo>
                        <a:pt x="7913" y="6744"/>
                      </a:lnTo>
                      <a:lnTo>
                        <a:pt x="7855" y="6863"/>
                      </a:lnTo>
                      <a:lnTo>
                        <a:pt x="7873" y="7039"/>
                      </a:lnTo>
                      <a:lnTo>
                        <a:pt x="7921" y="7172"/>
                      </a:lnTo>
                      <a:lnTo>
                        <a:pt x="7957" y="7383"/>
                      </a:lnTo>
                      <a:lnTo>
                        <a:pt x="8085" y="7454"/>
                      </a:lnTo>
                      <a:lnTo>
                        <a:pt x="8045" y="7564"/>
                      </a:lnTo>
                      <a:lnTo>
                        <a:pt x="8054" y="7727"/>
                      </a:lnTo>
                      <a:lnTo>
                        <a:pt x="8093" y="7886"/>
                      </a:lnTo>
                      <a:lnTo>
                        <a:pt x="8010" y="7873"/>
                      </a:lnTo>
                      <a:lnTo>
                        <a:pt x="7913" y="7688"/>
                      </a:lnTo>
                      <a:lnTo>
                        <a:pt x="7921" y="7494"/>
                      </a:lnTo>
                      <a:lnTo>
                        <a:pt x="7890" y="7432"/>
                      </a:lnTo>
                      <a:lnTo>
                        <a:pt x="7855" y="7211"/>
                      </a:lnTo>
                      <a:lnTo>
                        <a:pt x="7811" y="7150"/>
                      </a:lnTo>
                      <a:lnTo>
                        <a:pt x="7793" y="6841"/>
                      </a:lnTo>
                      <a:lnTo>
                        <a:pt x="7736" y="6656"/>
                      </a:lnTo>
                      <a:lnTo>
                        <a:pt x="7630" y="6484"/>
                      </a:lnTo>
                      <a:lnTo>
                        <a:pt x="7445" y="6387"/>
                      </a:lnTo>
                      <a:lnTo>
                        <a:pt x="7313" y="6224"/>
                      </a:lnTo>
                      <a:lnTo>
                        <a:pt x="7264" y="6105"/>
                      </a:lnTo>
                      <a:lnTo>
                        <a:pt x="7167" y="5968"/>
                      </a:lnTo>
                      <a:lnTo>
                        <a:pt x="7021" y="5658"/>
                      </a:lnTo>
                      <a:lnTo>
                        <a:pt x="6893" y="5685"/>
                      </a:lnTo>
                      <a:lnTo>
                        <a:pt x="6721" y="5830"/>
                      </a:lnTo>
                      <a:lnTo>
                        <a:pt x="6646" y="5955"/>
                      </a:lnTo>
                      <a:lnTo>
                        <a:pt x="6492" y="6188"/>
                      </a:lnTo>
                      <a:lnTo>
                        <a:pt x="6377" y="6435"/>
                      </a:lnTo>
                      <a:lnTo>
                        <a:pt x="6337" y="6519"/>
                      </a:lnTo>
                      <a:lnTo>
                        <a:pt x="6377" y="6806"/>
                      </a:lnTo>
                      <a:lnTo>
                        <a:pt x="6373" y="7088"/>
                      </a:lnTo>
                      <a:lnTo>
                        <a:pt x="6231" y="7282"/>
                      </a:lnTo>
                      <a:lnTo>
                        <a:pt x="6156" y="7295"/>
                      </a:lnTo>
                      <a:lnTo>
                        <a:pt x="5993" y="6889"/>
                      </a:lnTo>
                      <a:lnTo>
                        <a:pt x="5865" y="6607"/>
                      </a:lnTo>
                      <a:lnTo>
                        <a:pt x="5610" y="6065"/>
                      </a:lnTo>
                      <a:lnTo>
                        <a:pt x="5601" y="5857"/>
                      </a:lnTo>
                      <a:lnTo>
                        <a:pt x="5539" y="5755"/>
                      </a:lnTo>
                      <a:lnTo>
                        <a:pt x="5495" y="5892"/>
                      </a:lnTo>
                      <a:lnTo>
                        <a:pt x="5275" y="5583"/>
                      </a:lnTo>
                      <a:lnTo>
                        <a:pt x="4975" y="5349"/>
                      </a:lnTo>
                      <a:lnTo>
                        <a:pt x="4785" y="5402"/>
                      </a:lnTo>
                      <a:lnTo>
                        <a:pt x="4512" y="5376"/>
                      </a:lnTo>
                      <a:lnTo>
                        <a:pt x="4379" y="5204"/>
                      </a:lnTo>
                      <a:lnTo>
                        <a:pt x="4234" y="5226"/>
                      </a:lnTo>
                      <a:lnTo>
                        <a:pt x="4031" y="5155"/>
                      </a:lnTo>
                      <a:lnTo>
                        <a:pt x="3603" y="4578"/>
                      </a:lnTo>
                      <a:lnTo>
                        <a:pt x="3625" y="4812"/>
                      </a:lnTo>
                      <a:lnTo>
                        <a:pt x="3758" y="5142"/>
                      </a:lnTo>
                      <a:lnTo>
                        <a:pt x="3903" y="5376"/>
                      </a:lnTo>
                      <a:lnTo>
                        <a:pt x="4057" y="5499"/>
                      </a:lnTo>
                      <a:lnTo>
                        <a:pt x="4225" y="5402"/>
                      </a:lnTo>
                      <a:lnTo>
                        <a:pt x="4366" y="5402"/>
                      </a:lnTo>
                      <a:lnTo>
                        <a:pt x="4543" y="5610"/>
                      </a:lnTo>
                      <a:lnTo>
                        <a:pt x="4648" y="5768"/>
                      </a:lnTo>
                      <a:lnTo>
                        <a:pt x="4631" y="5870"/>
                      </a:lnTo>
                      <a:lnTo>
                        <a:pt x="4322" y="6325"/>
                      </a:lnTo>
                      <a:lnTo>
                        <a:pt x="4115" y="6497"/>
                      </a:lnTo>
                      <a:lnTo>
                        <a:pt x="3687" y="6718"/>
                      </a:lnTo>
                      <a:lnTo>
                        <a:pt x="3559" y="6792"/>
                      </a:lnTo>
                      <a:lnTo>
                        <a:pt x="3480" y="6718"/>
                      </a:lnTo>
                      <a:lnTo>
                        <a:pt x="3458" y="6629"/>
                      </a:lnTo>
                      <a:lnTo>
                        <a:pt x="3449" y="6497"/>
                      </a:lnTo>
                      <a:lnTo>
                        <a:pt x="3414" y="6360"/>
                      </a:lnTo>
                      <a:lnTo>
                        <a:pt x="3352" y="6250"/>
                      </a:lnTo>
                      <a:lnTo>
                        <a:pt x="3303" y="6153"/>
                      </a:lnTo>
                      <a:lnTo>
                        <a:pt x="3224" y="6016"/>
                      </a:lnTo>
                      <a:lnTo>
                        <a:pt x="3180" y="5928"/>
                      </a:lnTo>
                      <a:lnTo>
                        <a:pt x="3149" y="5817"/>
                      </a:lnTo>
                      <a:lnTo>
                        <a:pt x="3087" y="5720"/>
                      </a:lnTo>
                      <a:lnTo>
                        <a:pt x="2995" y="5473"/>
                      </a:lnTo>
                      <a:lnTo>
                        <a:pt x="2942" y="5376"/>
                      </a:lnTo>
                      <a:lnTo>
                        <a:pt x="2871" y="5239"/>
                      </a:lnTo>
                      <a:lnTo>
                        <a:pt x="2761" y="5054"/>
                      </a:lnTo>
                      <a:lnTo>
                        <a:pt x="2699" y="4944"/>
                      </a:lnTo>
                      <a:lnTo>
                        <a:pt x="2651" y="4873"/>
                      </a:lnTo>
                      <a:lnTo>
                        <a:pt x="2589" y="4710"/>
                      </a:lnTo>
                      <a:lnTo>
                        <a:pt x="2770" y="4565"/>
                      </a:lnTo>
                      <a:lnTo>
                        <a:pt x="2845" y="4243"/>
                      </a:lnTo>
                      <a:lnTo>
                        <a:pt x="2677" y="4159"/>
                      </a:lnTo>
                      <a:lnTo>
                        <a:pt x="2443" y="4207"/>
                      </a:lnTo>
                      <a:lnTo>
                        <a:pt x="2391" y="4172"/>
                      </a:lnTo>
                      <a:lnTo>
                        <a:pt x="2369" y="4172"/>
                      </a:lnTo>
                      <a:lnTo>
                        <a:pt x="2332" y="4172"/>
                      </a:lnTo>
                      <a:lnTo>
                        <a:pt x="2306" y="4172"/>
                      </a:lnTo>
                      <a:lnTo>
                        <a:pt x="2297" y="4110"/>
                      </a:lnTo>
                      <a:lnTo>
                        <a:pt x="2279" y="4057"/>
                      </a:lnTo>
                      <a:lnTo>
                        <a:pt x="2279" y="3960"/>
                      </a:lnTo>
                      <a:lnTo>
                        <a:pt x="2235" y="3912"/>
                      </a:lnTo>
                      <a:lnTo>
                        <a:pt x="2226" y="3850"/>
                      </a:lnTo>
                      <a:lnTo>
                        <a:pt x="2204" y="3837"/>
                      </a:lnTo>
                      <a:lnTo>
                        <a:pt x="2178" y="3788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5"/>
                      </a:lnTo>
                      <a:lnTo>
                        <a:pt x="2081" y="3665"/>
                      </a:lnTo>
                      <a:lnTo>
                        <a:pt x="2050" y="3665"/>
                      </a:lnTo>
                      <a:lnTo>
                        <a:pt x="2032" y="3665"/>
                      </a:lnTo>
                      <a:lnTo>
                        <a:pt x="2024" y="3727"/>
                      </a:lnTo>
                      <a:lnTo>
                        <a:pt x="2024" y="3788"/>
                      </a:lnTo>
                      <a:lnTo>
                        <a:pt x="2024" y="3863"/>
                      </a:lnTo>
                      <a:lnTo>
                        <a:pt x="2024" y="3938"/>
                      </a:lnTo>
                      <a:lnTo>
                        <a:pt x="2024" y="3987"/>
                      </a:lnTo>
                      <a:lnTo>
                        <a:pt x="1979" y="4009"/>
                      </a:lnTo>
                      <a:lnTo>
                        <a:pt x="1944" y="4057"/>
                      </a:lnTo>
                      <a:lnTo>
                        <a:pt x="1896" y="3987"/>
                      </a:lnTo>
                      <a:lnTo>
                        <a:pt x="1860" y="3885"/>
                      </a:lnTo>
                      <a:lnTo>
                        <a:pt x="1869" y="3775"/>
                      </a:lnTo>
                      <a:lnTo>
                        <a:pt x="1816" y="3630"/>
                      </a:lnTo>
                      <a:lnTo>
                        <a:pt x="1790" y="3533"/>
                      </a:lnTo>
                      <a:lnTo>
                        <a:pt x="1733" y="3471"/>
                      </a:lnTo>
                      <a:lnTo>
                        <a:pt x="1662" y="3409"/>
                      </a:lnTo>
                      <a:lnTo>
                        <a:pt x="1627" y="3321"/>
                      </a:lnTo>
                      <a:lnTo>
                        <a:pt x="1605" y="3259"/>
                      </a:lnTo>
                      <a:lnTo>
                        <a:pt x="1543" y="3246"/>
                      </a:lnTo>
                      <a:lnTo>
                        <a:pt x="1525" y="3211"/>
                      </a:lnTo>
                      <a:lnTo>
                        <a:pt x="1481" y="3211"/>
                      </a:lnTo>
                      <a:lnTo>
                        <a:pt x="1450" y="3273"/>
                      </a:lnTo>
                      <a:lnTo>
                        <a:pt x="1415" y="3321"/>
                      </a:lnTo>
                      <a:lnTo>
                        <a:pt x="1490" y="3383"/>
                      </a:lnTo>
                      <a:lnTo>
                        <a:pt x="1534" y="3471"/>
                      </a:lnTo>
                      <a:lnTo>
                        <a:pt x="1613" y="3581"/>
                      </a:lnTo>
                      <a:lnTo>
                        <a:pt x="1644" y="3630"/>
                      </a:lnTo>
                      <a:lnTo>
                        <a:pt x="1706" y="3665"/>
                      </a:lnTo>
                      <a:lnTo>
                        <a:pt x="1750" y="3740"/>
                      </a:lnTo>
                      <a:lnTo>
                        <a:pt x="1697" y="3828"/>
                      </a:lnTo>
                      <a:lnTo>
                        <a:pt x="1688" y="3788"/>
                      </a:lnTo>
                      <a:lnTo>
                        <a:pt x="1688" y="3740"/>
                      </a:lnTo>
                      <a:lnTo>
                        <a:pt x="1662" y="3850"/>
                      </a:lnTo>
                      <a:lnTo>
                        <a:pt x="1653" y="3947"/>
                      </a:lnTo>
                      <a:lnTo>
                        <a:pt x="1605" y="3974"/>
                      </a:lnTo>
                      <a:lnTo>
                        <a:pt x="1618" y="3850"/>
                      </a:lnTo>
                      <a:lnTo>
                        <a:pt x="1613" y="3788"/>
                      </a:lnTo>
                      <a:lnTo>
                        <a:pt x="1552" y="3753"/>
                      </a:lnTo>
                      <a:lnTo>
                        <a:pt x="1525" y="3727"/>
                      </a:lnTo>
                      <a:lnTo>
                        <a:pt x="1499" y="3678"/>
                      </a:lnTo>
                      <a:lnTo>
                        <a:pt x="1450" y="3652"/>
                      </a:lnTo>
                      <a:lnTo>
                        <a:pt x="1415" y="3616"/>
                      </a:lnTo>
                      <a:lnTo>
                        <a:pt x="1380" y="3542"/>
                      </a:lnTo>
                      <a:lnTo>
                        <a:pt x="1336" y="3506"/>
                      </a:lnTo>
                      <a:lnTo>
                        <a:pt x="1309" y="3431"/>
                      </a:lnTo>
                      <a:lnTo>
                        <a:pt x="1305" y="3370"/>
                      </a:lnTo>
                      <a:lnTo>
                        <a:pt x="1270" y="3347"/>
                      </a:lnTo>
                      <a:lnTo>
                        <a:pt x="1234" y="3308"/>
                      </a:lnTo>
                      <a:lnTo>
                        <a:pt x="1164" y="3308"/>
                      </a:lnTo>
                      <a:lnTo>
                        <a:pt x="1106" y="3321"/>
                      </a:lnTo>
                      <a:lnTo>
                        <a:pt x="1036" y="3308"/>
                      </a:lnTo>
                      <a:lnTo>
                        <a:pt x="917" y="3321"/>
                      </a:lnTo>
                      <a:lnTo>
                        <a:pt x="833" y="3334"/>
                      </a:lnTo>
                      <a:lnTo>
                        <a:pt x="806" y="3361"/>
                      </a:lnTo>
                      <a:lnTo>
                        <a:pt x="798" y="3431"/>
                      </a:lnTo>
                      <a:lnTo>
                        <a:pt x="798" y="3519"/>
                      </a:lnTo>
                      <a:lnTo>
                        <a:pt x="745" y="3603"/>
                      </a:lnTo>
                      <a:lnTo>
                        <a:pt x="709" y="3643"/>
                      </a:lnTo>
                      <a:lnTo>
                        <a:pt x="692" y="3665"/>
                      </a:lnTo>
                      <a:lnTo>
                        <a:pt x="670" y="3727"/>
                      </a:lnTo>
                      <a:lnTo>
                        <a:pt x="652" y="3775"/>
                      </a:lnTo>
                      <a:lnTo>
                        <a:pt x="679" y="3815"/>
                      </a:lnTo>
                      <a:lnTo>
                        <a:pt x="679" y="3885"/>
                      </a:lnTo>
                      <a:lnTo>
                        <a:pt x="670" y="3925"/>
                      </a:lnTo>
                      <a:lnTo>
                        <a:pt x="652" y="3974"/>
                      </a:lnTo>
                      <a:lnTo>
                        <a:pt x="608" y="4057"/>
                      </a:lnTo>
                      <a:lnTo>
                        <a:pt x="582" y="4022"/>
                      </a:lnTo>
                      <a:lnTo>
                        <a:pt x="555" y="4049"/>
                      </a:lnTo>
                      <a:lnTo>
                        <a:pt x="524" y="4084"/>
                      </a:lnTo>
                      <a:lnTo>
                        <a:pt x="471" y="4097"/>
                      </a:lnTo>
                      <a:lnTo>
                        <a:pt x="418" y="4159"/>
                      </a:lnTo>
                      <a:lnTo>
                        <a:pt x="370" y="4172"/>
                      </a:lnTo>
                      <a:lnTo>
                        <a:pt x="317" y="4172"/>
                      </a:lnTo>
                      <a:lnTo>
                        <a:pt x="264" y="4172"/>
                      </a:lnTo>
                      <a:lnTo>
                        <a:pt x="154" y="4207"/>
                      </a:lnTo>
                      <a:lnTo>
                        <a:pt x="101" y="4207"/>
                      </a:lnTo>
                      <a:lnTo>
                        <a:pt x="74" y="4119"/>
                      </a:lnTo>
                      <a:lnTo>
                        <a:pt x="52" y="4009"/>
                      </a:lnTo>
                      <a:lnTo>
                        <a:pt x="35" y="3912"/>
                      </a:lnTo>
                      <a:lnTo>
                        <a:pt x="26" y="3815"/>
                      </a:lnTo>
                      <a:lnTo>
                        <a:pt x="26" y="3691"/>
                      </a:lnTo>
                      <a:lnTo>
                        <a:pt x="0" y="35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6"/>
                    </a:moveTo>
                    <a:lnTo>
                      <a:pt x="264" y="1521"/>
                    </a:lnTo>
                    <a:lnTo>
                      <a:pt x="418" y="1424"/>
                    </a:lnTo>
                    <a:lnTo>
                      <a:pt x="445" y="1278"/>
                    </a:lnTo>
                    <a:lnTo>
                      <a:pt x="326" y="1190"/>
                    </a:lnTo>
                    <a:lnTo>
                      <a:pt x="317" y="1018"/>
                    </a:lnTo>
                    <a:lnTo>
                      <a:pt x="370" y="970"/>
                    </a:lnTo>
                    <a:lnTo>
                      <a:pt x="361" y="895"/>
                    </a:lnTo>
                    <a:lnTo>
                      <a:pt x="564" y="873"/>
                    </a:lnTo>
                    <a:lnTo>
                      <a:pt x="617" y="736"/>
                    </a:lnTo>
                    <a:lnTo>
                      <a:pt x="626" y="612"/>
                    </a:lnTo>
                    <a:lnTo>
                      <a:pt x="798" y="577"/>
                    </a:lnTo>
                    <a:lnTo>
                      <a:pt x="815" y="454"/>
                    </a:lnTo>
                    <a:lnTo>
                      <a:pt x="652" y="418"/>
                    </a:lnTo>
                    <a:lnTo>
                      <a:pt x="727" y="330"/>
                    </a:lnTo>
                    <a:lnTo>
                      <a:pt x="992" y="330"/>
                    </a:lnTo>
                    <a:lnTo>
                      <a:pt x="1071" y="233"/>
                    </a:lnTo>
                    <a:lnTo>
                      <a:pt x="1181" y="220"/>
                    </a:lnTo>
                    <a:lnTo>
                      <a:pt x="1252" y="145"/>
                    </a:lnTo>
                    <a:lnTo>
                      <a:pt x="1336" y="282"/>
                    </a:lnTo>
                    <a:lnTo>
                      <a:pt x="1672" y="260"/>
                    </a:lnTo>
                    <a:lnTo>
                      <a:pt x="1826" y="405"/>
                    </a:lnTo>
                    <a:lnTo>
                      <a:pt x="2324" y="370"/>
                    </a:lnTo>
                    <a:lnTo>
                      <a:pt x="2399" y="295"/>
                    </a:lnTo>
                    <a:lnTo>
                      <a:pt x="2589" y="418"/>
                    </a:lnTo>
                    <a:lnTo>
                      <a:pt x="2783" y="529"/>
                    </a:lnTo>
                    <a:lnTo>
                      <a:pt x="2880" y="480"/>
                    </a:lnTo>
                    <a:lnTo>
                      <a:pt x="2937" y="418"/>
                    </a:lnTo>
                    <a:lnTo>
                      <a:pt x="3101" y="454"/>
                    </a:lnTo>
                    <a:lnTo>
                      <a:pt x="2990" y="370"/>
                    </a:lnTo>
                    <a:lnTo>
                      <a:pt x="2889" y="379"/>
                    </a:lnTo>
                    <a:lnTo>
                      <a:pt x="2735" y="405"/>
                    </a:lnTo>
                    <a:lnTo>
                      <a:pt x="2655" y="282"/>
                    </a:lnTo>
                    <a:lnTo>
                      <a:pt x="2571" y="220"/>
                    </a:lnTo>
                    <a:lnTo>
                      <a:pt x="2571" y="123"/>
                    </a:lnTo>
                    <a:lnTo>
                      <a:pt x="2598" y="13"/>
                    </a:lnTo>
                    <a:lnTo>
                      <a:pt x="2664" y="0"/>
                    </a:lnTo>
                    <a:lnTo>
                      <a:pt x="2761" y="97"/>
                    </a:lnTo>
                    <a:lnTo>
                      <a:pt x="2783" y="48"/>
                    </a:lnTo>
                    <a:lnTo>
                      <a:pt x="2862" y="0"/>
                    </a:lnTo>
                    <a:lnTo>
                      <a:pt x="2955" y="74"/>
                    </a:lnTo>
                    <a:lnTo>
                      <a:pt x="3008" y="13"/>
                    </a:lnTo>
                    <a:lnTo>
                      <a:pt x="3061" y="110"/>
                    </a:lnTo>
                    <a:lnTo>
                      <a:pt x="3070" y="171"/>
                    </a:lnTo>
                    <a:lnTo>
                      <a:pt x="3206" y="260"/>
                    </a:lnTo>
                    <a:lnTo>
                      <a:pt x="3153" y="330"/>
                    </a:lnTo>
                    <a:lnTo>
                      <a:pt x="3153" y="432"/>
                    </a:lnTo>
                    <a:lnTo>
                      <a:pt x="3383" y="454"/>
                    </a:lnTo>
                    <a:lnTo>
                      <a:pt x="3444" y="330"/>
                    </a:lnTo>
                    <a:lnTo>
                      <a:pt x="3400" y="268"/>
                    </a:lnTo>
                    <a:lnTo>
                      <a:pt x="3299" y="282"/>
                    </a:lnTo>
                    <a:lnTo>
                      <a:pt x="3325" y="145"/>
                    </a:lnTo>
                    <a:lnTo>
                      <a:pt x="3533" y="220"/>
                    </a:lnTo>
                    <a:lnTo>
                      <a:pt x="3572" y="317"/>
                    </a:lnTo>
                    <a:lnTo>
                      <a:pt x="3744" y="317"/>
                    </a:lnTo>
                    <a:lnTo>
                      <a:pt x="3899" y="440"/>
                    </a:lnTo>
                    <a:lnTo>
                      <a:pt x="3982" y="418"/>
                    </a:lnTo>
                    <a:lnTo>
                      <a:pt x="4079" y="529"/>
                    </a:lnTo>
                    <a:lnTo>
                      <a:pt x="3982" y="674"/>
                    </a:lnTo>
                    <a:lnTo>
                      <a:pt x="3908" y="564"/>
                    </a:lnTo>
                    <a:lnTo>
                      <a:pt x="3855" y="604"/>
                    </a:lnTo>
                    <a:lnTo>
                      <a:pt x="3788" y="687"/>
                    </a:lnTo>
                    <a:lnTo>
                      <a:pt x="3678" y="762"/>
                    </a:lnTo>
                    <a:lnTo>
                      <a:pt x="3736" y="873"/>
                    </a:lnTo>
                    <a:lnTo>
                      <a:pt x="3634" y="886"/>
                    </a:lnTo>
                    <a:lnTo>
                      <a:pt x="3546" y="1031"/>
                    </a:lnTo>
                    <a:lnTo>
                      <a:pt x="3462" y="1217"/>
                    </a:lnTo>
                    <a:lnTo>
                      <a:pt x="3590" y="1375"/>
                    </a:lnTo>
                    <a:lnTo>
                      <a:pt x="3691" y="1561"/>
                    </a:lnTo>
                    <a:lnTo>
                      <a:pt x="3872" y="1583"/>
                    </a:lnTo>
                    <a:lnTo>
                      <a:pt x="4044" y="1561"/>
                    </a:lnTo>
                    <a:lnTo>
                      <a:pt x="4124" y="1658"/>
                    </a:lnTo>
                    <a:lnTo>
                      <a:pt x="4088" y="1706"/>
                    </a:lnTo>
                    <a:lnTo>
                      <a:pt x="4035" y="1808"/>
                    </a:lnTo>
                    <a:lnTo>
                      <a:pt x="4115" y="1980"/>
                    </a:lnTo>
                    <a:lnTo>
                      <a:pt x="4137" y="2100"/>
                    </a:lnTo>
                    <a:lnTo>
                      <a:pt x="4235" y="2161"/>
                    </a:lnTo>
                    <a:lnTo>
                      <a:pt x="4363" y="2051"/>
                    </a:lnTo>
                    <a:lnTo>
                      <a:pt x="4327" y="1892"/>
                    </a:lnTo>
                    <a:lnTo>
                      <a:pt x="4217" y="1756"/>
                    </a:lnTo>
                    <a:lnTo>
                      <a:pt x="4345" y="1596"/>
                    </a:lnTo>
                    <a:lnTo>
                      <a:pt x="4235" y="1327"/>
                    </a:lnTo>
                    <a:lnTo>
                      <a:pt x="4132" y="1217"/>
                    </a:lnTo>
                    <a:lnTo>
                      <a:pt x="4217" y="1120"/>
                    </a:lnTo>
                    <a:lnTo>
                      <a:pt x="4200" y="970"/>
                    </a:lnTo>
                    <a:lnTo>
                      <a:pt x="4261" y="886"/>
                    </a:lnTo>
                    <a:lnTo>
                      <a:pt x="4363" y="970"/>
                    </a:lnTo>
                    <a:lnTo>
                      <a:pt x="4601" y="1292"/>
                    </a:lnTo>
                    <a:lnTo>
                      <a:pt x="4746" y="1340"/>
                    </a:lnTo>
                    <a:lnTo>
                      <a:pt x="4790" y="1252"/>
                    </a:lnTo>
                    <a:lnTo>
                      <a:pt x="4755" y="1080"/>
                    </a:lnTo>
                    <a:lnTo>
                      <a:pt x="4843" y="1106"/>
                    </a:lnTo>
                    <a:lnTo>
                      <a:pt x="4989" y="1300"/>
                    </a:lnTo>
                    <a:lnTo>
                      <a:pt x="5015" y="1411"/>
                    </a:lnTo>
                    <a:lnTo>
                      <a:pt x="5099" y="1486"/>
                    </a:lnTo>
                    <a:lnTo>
                      <a:pt x="5271" y="1574"/>
                    </a:lnTo>
                    <a:lnTo>
                      <a:pt x="5355" y="1734"/>
                    </a:lnTo>
                    <a:lnTo>
                      <a:pt x="5487" y="1844"/>
                    </a:lnTo>
                    <a:lnTo>
                      <a:pt x="5553" y="1879"/>
                    </a:lnTo>
                    <a:lnTo>
                      <a:pt x="5562" y="1980"/>
                    </a:lnTo>
                    <a:lnTo>
                      <a:pt x="5461" y="2038"/>
                    </a:lnTo>
                    <a:lnTo>
                      <a:pt x="5399" y="1967"/>
                    </a:lnTo>
                    <a:lnTo>
                      <a:pt x="5346" y="1980"/>
                    </a:lnTo>
                    <a:lnTo>
                      <a:pt x="5333" y="2139"/>
                    </a:lnTo>
                    <a:lnTo>
                      <a:pt x="5245" y="2174"/>
                    </a:lnTo>
                    <a:lnTo>
                      <a:pt x="5152" y="2091"/>
                    </a:lnTo>
                    <a:lnTo>
                      <a:pt x="4954" y="2091"/>
                    </a:lnTo>
                    <a:lnTo>
                      <a:pt x="4927" y="2272"/>
                    </a:lnTo>
                    <a:lnTo>
                      <a:pt x="4980" y="2382"/>
                    </a:lnTo>
                    <a:lnTo>
                      <a:pt x="5055" y="2324"/>
                    </a:lnTo>
                    <a:lnTo>
                      <a:pt x="5134" y="2298"/>
                    </a:lnTo>
                    <a:lnTo>
                      <a:pt x="5209" y="2360"/>
                    </a:lnTo>
                    <a:lnTo>
                      <a:pt x="5108" y="2496"/>
                    </a:lnTo>
                    <a:lnTo>
                      <a:pt x="5209" y="2615"/>
                    </a:lnTo>
                    <a:lnTo>
                      <a:pt x="5346" y="2655"/>
                    </a:lnTo>
                    <a:lnTo>
                      <a:pt x="5333" y="2726"/>
                    </a:lnTo>
                    <a:lnTo>
                      <a:pt x="5280" y="2739"/>
                    </a:lnTo>
                    <a:lnTo>
                      <a:pt x="5152" y="3158"/>
                    </a:lnTo>
                    <a:lnTo>
                      <a:pt x="5161" y="2889"/>
                    </a:lnTo>
                    <a:lnTo>
                      <a:pt x="5218" y="2752"/>
                    </a:lnTo>
                    <a:lnTo>
                      <a:pt x="5152" y="2690"/>
                    </a:lnTo>
                    <a:lnTo>
                      <a:pt x="5073" y="2779"/>
                    </a:lnTo>
                    <a:lnTo>
                      <a:pt x="5117" y="2849"/>
                    </a:lnTo>
                    <a:lnTo>
                      <a:pt x="5055" y="2898"/>
                    </a:lnTo>
                    <a:lnTo>
                      <a:pt x="4998" y="2959"/>
                    </a:lnTo>
                    <a:lnTo>
                      <a:pt x="5007" y="3145"/>
                    </a:lnTo>
                    <a:lnTo>
                      <a:pt x="4918" y="3206"/>
                    </a:lnTo>
                    <a:lnTo>
                      <a:pt x="4799" y="3220"/>
                    </a:lnTo>
                    <a:lnTo>
                      <a:pt x="4843" y="3317"/>
                    </a:lnTo>
                    <a:lnTo>
                      <a:pt x="4799" y="3427"/>
                    </a:lnTo>
                    <a:lnTo>
                      <a:pt x="4843" y="3515"/>
                    </a:lnTo>
                    <a:lnTo>
                      <a:pt x="4773" y="3700"/>
                    </a:lnTo>
                    <a:lnTo>
                      <a:pt x="4746" y="3872"/>
                    </a:lnTo>
                    <a:lnTo>
                      <a:pt x="4645" y="3969"/>
                    </a:lnTo>
                    <a:lnTo>
                      <a:pt x="4517" y="4238"/>
                    </a:lnTo>
                    <a:lnTo>
                      <a:pt x="4499" y="4423"/>
                    </a:lnTo>
                    <a:lnTo>
                      <a:pt x="4544" y="4569"/>
                    </a:lnTo>
                    <a:lnTo>
                      <a:pt x="4601" y="4754"/>
                    </a:lnTo>
                    <a:lnTo>
                      <a:pt x="4636" y="4953"/>
                    </a:lnTo>
                    <a:lnTo>
                      <a:pt x="4579" y="5036"/>
                    </a:lnTo>
                    <a:lnTo>
                      <a:pt x="4499" y="4975"/>
                    </a:lnTo>
                    <a:lnTo>
                      <a:pt x="4517" y="4878"/>
                    </a:lnTo>
                    <a:lnTo>
                      <a:pt x="4473" y="4657"/>
                    </a:lnTo>
                    <a:lnTo>
                      <a:pt x="4424" y="4622"/>
                    </a:lnTo>
                    <a:lnTo>
                      <a:pt x="4389" y="4485"/>
                    </a:lnTo>
                    <a:lnTo>
                      <a:pt x="4319" y="4485"/>
                    </a:lnTo>
                    <a:lnTo>
                      <a:pt x="4244" y="4410"/>
                    </a:lnTo>
                    <a:lnTo>
                      <a:pt x="4154" y="4437"/>
                    </a:lnTo>
                    <a:lnTo>
                      <a:pt x="4079" y="4388"/>
                    </a:lnTo>
                    <a:lnTo>
                      <a:pt x="3982" y="4450"/>
                    </a:lnTo>
                    <a:lnTo>
                      <a:pt x="3815" y="4397"/>
                    </a:lnTo>
                    <a:lnTo>
                      <a:pt x="3925" y="4560"/>
                    </a:lnTo>
                    <a:lnTo>
                      <a:pt x="3788" y="4547"/>
                    </a:lnTo>
                    <a:lnTo>
                      <a:pt x="3691" y="4423"/>
                    </a:lnTo>
                    <a:lnTo>
                      <a:pt x="3524" y="4423"/>
                    </a:lnTo>
                    <a:lnTo>
                      <a:pt x="3546" y="4622"/>
                    </a:lnTo>
                    <a:lnTo>
                      <a:pt x="3418" y="4560"/>
                    </a:lnTo>
                    <a:lnTo>
                      <a:pt x="3352" y="4754"/>
                    </a:lnTo>
                    <a:lnTo>
                      <a:pt x="3400" y="4842"/>
                    </a:lnTo>
                    <a:lnTo>
                      <a:pt x="3352" y="5076"/>
                    </a:lnTo>
                    <a:lnTo>
                      <a:pt x="3409" y="5346"/>
                    </a:lnTo>
                    <a:lnTo>
                      <a:pt x="3480" y="5531"/>
                    </a:lnTo>
                    <a:lnTo>
                      <a:pt x="3555" y="5703"/>
                    </a:lnTo>
                    <a:lnTo>
                      <a:pt x="3788" y="5690"/>
                    </a:lnTo>
                    <a:lnTo>
                      <a:pt x="3881" y="5655"/>
                    </a:lnTo>
                    <a:lnTo>
                      <a:pt x="3899" y="5531"/>
                    </a:lnTo>
                    <a:lnTo>
                      <a:pt x="3846" y="5430"/>
                    </a:lnTo>
                    <a:lnTo>
                      <a:pt x="3855" y="5346"/>
                    </a:lnTo>
                    <a:lnTo>
                      <a:pt x="4000" y="5368"/>
                    </a:lnTo>
                    <a:lnTo>
                      <a:pt x="4146" y="5320"/>
                    </a:lnTo>
                    <a:lnTo>
                      <a:pt x="4146" y="5430"/>
                    </a:lnTo>
                    <a:lnTo>
                      <a:pt x="4106" y="5593"/>
                    </a:lnTo>
                    <a:lnTo>
                      <a:pt x="4035" y="5712"/>
                    </a:lnTo>
                    <a:lnTo>
                      <a:pt x="4018" y="5884"/>
                    </a:lnTo>
                    <a:lnTo>
                      <a:pt x="4115" y="5959"/>
                    </a:lnTo>
                    <a:lnTo>
                      <a:pt x="4244" y="5937"/>
                    </a:lnTo>
                    <a:lnTo>
                      <a:pt x="4319" y="5999"/>
                    </a:lnTo>
                    <a:lnTo>
                      <a:pt x="4389" y="5972"/>
                    </a:lnTo>
                    <a:lnTo>
                      <a:pt x="4416" y="6083"/>
                    </a:lnTo>
                    <a:lnTo>
                      <a:pt x="4354" y="6241"/>
                    </a:lnTo>
                    <a:lnTo>
                      <a:pt x="4407" y="6343"/>
                    </a:lnTo>
                    <a:lnTo>
                      <a:pt x="4416" y="6537"/>
                    </a:lnTo>
                    <a:lnTo>
                      <a:pt x="4499" y="6673"/>
                    </a:lnTo>
                    <a:lnTo>
                      <a:pt x="4610" y="6709"/>
                    </a:lnTo>
                    <a:lnTo>
                      <a:pt x="4689" y="6673"/>
                    </a:lnTo>
                    <a:lnTo>
                      <a:pt x="4724" y="6687"/>
                    </a:lnTo>
                    <a:lnTo>
                      <a:pt x="4870" y="6687"/>
                    </a:lnTo>
                    <a:lnTo>
                      <a:pt x="4998" y="6695"/>
                    </a:lnTo>
                    <a:lnTo>
                      <a:pt x="5033" y="6612"/>
                    </a:lnTo>
                    <a:lnTo>
                      <a:pt x="4918" y="6757"/>
                    </a:lnTo>
                    <a:lnTo>
                      <a:pt x="4843" y="6744"/>
                    </a:lnTo>
                    <a:lnTo>
                      <a:pt x="4764" y="6757"/>
                    </a:lnTo>
                    <a:lnTo>
                      <a:pt x="4610" y="6832"/>
                    </a:lnTo>
                    <a:lnTo>
                      <a:pt x="4482" y="6735"/>
                    </a:lnTo>
                    <a:lnTo>
                      <a:pt x="4363" y="6673"/>
                    </a:lnTo>
                    <a:lnTo>
                      <a:pt x="4310" y="6687"/>
                    </a:lnTo>
                    <a:lnTo>
                      <a:pt x="4319" y="6598"/>
                    </a:lnTo>
                    <a:lnTo>
                      <a:pt x="4310" y="6462"/>
                    </a:lnTo>
                    <a:lnTo>
                      <a:pt x="4208" y="6343"/>
                    </a:lnTo>
                    <a:lnTo>
                      <a:pt x="3991" y="6268"/>
                    </a:lnTo>
                    <a:lnTo>
                      <a:pt x="3960" y="6219"/>
                    </a:lnTo>
                    <a:lnTo>
                      <a:pt x="3899" y="6228"/>
                    </a:lnTo>
                    <a:lnTo>
                      <a:pt x="3837" y="6171"/>
                    </a:lnTo>
                    <a:lnTo>
                      <a:pt x="3762" y="6109"/>
                    </a:lnTo>
                    <a:lnTo>
                      <a:pt x="3661" y="5937"/>
                    </a:lnTo>
                    <a:lnTo>
                      <a:pt x="3537" y="5884"/>
                    </a:lnTo>
                    <a:lnTo>
                      <a:pt x="3471" y="5999"/>
                    </a:lnTo>
                    <a:lnTo>
                      <a:pt x="3392" y="5911"/>
                    </a:lnTo>
                    <a:lnTo>
                      <a:pt x="3299" y="5911"/>
                    </a:lnTo>
                    <a:lnTo>
                      <a:pt x="3109" y="5849"/>
                    </a:lnTo>
                    <a:lnTo>
                      <a:pt x="2770" y="5553"/>
                    </a:lnTo>
                    <a:lnTo>
                      <a:pt x="2743" y="5249"/>
                    </a:lnTo>
                    <a:lnTo>
                      <a:pt x="2708" y="5126"/>
                    </a:lnTo>
                    <a:lnTo>
                      <a:pt x="2646" y="5036"/>
                    </a:lnTo>
                    <a:lnTo>
                      <a:pt x="2571" y="4864"/>
                    </a:lnTo>
                    <a:lnTo>
                      <a:pt x="2210" y="4278"/>
                    </a:lnTo>
                    <a:lnTo>
                      <a:pt x="2210" y="4498"/>
                    </a:lnTo>
                    <a:lnTo>
                      <a:pt x="2435" y="4891"/>
                    </a:lnTo>
                    <a:lnTo>
                      <a:pt x="2527" y="5223"/>
                    </a:lnTo>
                    <a:lnTo>
                      <a:pt x="2391" y="5148"/>
                    </a:lnTo>
                    <a:lnTo>
                      <a:pt x="2364" y="4953"/>
                    </a:lnTo>
                    <a:lnTo>
                      <a:pt x="2183" y="4829"/>
                    </a:lnTo>
                    <a:lnTo>
                      <a:pt x="2289" y="4754"/>
                    </a:lnTo>
                    <a:lnTo>
                      <a:pt x="2047" y="4547"/>
                    </a:lnTo>
                    <a:lnTo>
                      <a:pt x="2144" y="4423"/>
                    </a:lnTo>
                    <a:lnTo>
                      <a:pt x="2055" y="4177"/>
                    </a:lnTo>
                    <a:lnTo>
                      <a:pt x="1764" y="3661"/>
                    </a:lnTo>
                    <a:lnTo>
                      <a:pt x="1729" y="3365"/>
                    </a:lnTo>
                    <a:lnTo>
                      <a:pt x="1747" y="3145"/>
                    </a:lnTo>
                    <a:lnTo>
                      <a:pt x="1826" y="2898"/>
                    </a:lnTo>
                    <a:lnTo>
                      <a:pt x="1826" y="2655"/>
                    </a:lnTo>
                    <a:lnTo>
                      <a:pt x="1764" y="2505"/>
                    </a:lnTo>
                    <a:lnTo>
                      <a:pt x="1928" y="2457"/>
                    </a:lnTo>
                    <a:lnTo>
                      <a:pt x="1729" y="2161"/>
                    </a:lnTo>
                    <a:lnTo>
                      <a:pt x="1738" y="2029"/>
                    </a:lnTo>
                    <a:lnTo>
                      <a:pt x="1654" y="1844"/>
                    </a:lnTo>
                    <a:lnTo>
                      <a:pt x="1689" y="1734"/>
                    </a:lnTo>
                    <a:lnTo>
                      <a:pt x="1628" y="1671"/>
                    </a:lnTo>
                    <a:lnTo>
                      <a:pt x="1619" y="1547"/>
                    </a:lnTo>
                    <a:lnTo>
                      <a:pt x="1562" y="1450"/>
                    </a:lnTo>
                    <a:lnTo>
                      <a:pt x="1628" y="1362"/>
                    </a:lnTo>
                    <a:lnTo>
                      <a:pt x="1535" y="1300"/>
                    </a:lnTo>
                    <a:lnTo>
                      <a:pt x="1456" y="1389"/>
                    </a:lnTo>
                    <a:lnTo>
                      <a:pt x="1344" y="1217"/>
                    </a:lnTo>
                    <a:lnTo>
                      <a:pt x="1225" y="1168"/>
                    </a:lnTo>
                    <a:lnTo>
                      <a:pt x="1053" y="1168"/>
                    </a:lnTo>
                    <a:lnTo>
                      <a:pt x="943" y="1327"/>
                    </a:lnTo>
                    <a:lnTo>
                      <a:pt x="890" y="1278"/>
                    </a:lnTo>
                    <a:lnTo>
                      <a:pt x="983" y="1067"/>
                    </a:lnTo>
                    <a:lnTo>
                      <a:pt x="899" y="1106"/>
                    </a:lnTo>
                    <a:lnTo>
                      <a:pt x="727" y="1327"/>
                    </a:lnTo>
                    <a:lnTo>
                      <a:pt x="546" y="1521"/>
                    </a:lnTo>
                    <a:lnTo>
                      <a:pt x="383" y="1574"/>
                    </a:lnTo>
                    <a:lnTo>
                      <a:pt x="110" y="1769"/>
                    </a:lnTo>
                    <a:lnTo>
                      <a:pt x="0" y="17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70"/>
                    </a:moveTo>
                    <a:lnTo>
                      <a:pt x="44" y="233"/>
                    </a:lnTo>
                    <a:lnTo>
                      <a:pt x="44" y="136"/>
                    </a:lnTo>
                    <a:lnTo>
                      <a:pt x="110" y="0"/>
                    </a:lnTo>
                    <a:lnTo>
                      <a:pt x="454" y="88"/>
                    </a:lnTo>
                    <a:lnTo>
                      <a:pt x="1041" y="246"/>
                    </a:lnTo>
                    <a:lnTo>
                      <a:pt x="1275" y="379"/>
                    </a:lnTo>
                    <a:lnTo>
                      <a:pt x="1579" y="503"/>
                    </a:lnTo>
                    <a:lnTo>
                      <a:pt x="1734" y="737"/>
                    </a:lnTo>
                    <a:lnTo>
                      <a:pt x="1888" y="847"/>
                    </a:lnTo>
                    <a:lnTo>
                      <a:pt x="1826" y="935"/>
                    </a:lnTo>
                    <a:lnTo>
                      <a:pt x="1826" y="1046"/>
                    </a:lnTo>
                    <a:lnTo>
                      <a:pt x="1769" y="1072"/>
                    </a:lnTo>
                    <a:lnTo>
                      <a:pt x="1716" y="1169"/>
                    </a:lnTo>
                    <a:lnTo>
                      <a:pt x="1769" y="1266"/>
                    </a:lnTo>
                    <a:lnTo>
                      <a:pt x="1760" y="1341"/>
                    </a:lnTo>
                    <a:lnTo>
                      <a:pt x="1698" y="1439"/>
                    </a:lnTo>
                    <a:lnTo>
                      <a:pt x="1707" y="1536"/>
                    </a:lnTo>
                    <a:lnTo>
                      <a:pt x="1813" y="1638"/>
                    </a:lnTo>
                    <a:lnTo>
                      <a:pt x="1822" y="1735"/>
                    </a:lnTo>
                    <a:lnTo>
                      <a:pt x="1795" y="1783"/>
                    </a:lnTo>
                    <a:lnTo>
                      <a:pt x="1689" y="1796"/>
                    </a:lnTo>
                    <a:lnTo>
                      <a:pt x="1614" y="1748"/>
                    </a:lnTo>
                    <a:lnTo>
                      <a:pt x="1531" y="1624"/>
                    </a:lnTo>
                    <a:lnTo>
                      <a:pt x="1495" y="1624"/>
                    </a:lnTo>
                    <a:lnTo>
                      <a:pt x="1451" y="1576"/>
                    </a:lnTo>
                    <a:lnTo>
                      <a:pt x="1412" y="1426"/>
                    </a:lnTo>
                    <a:lnTo>
                      <a:pt x="1359" y="1377"/>
                    </a:lnTo>
                    <a:lnTo>
                      <a:pt x="1248" y="1301"/>
                    </a:lnTo>
                    <a:lnTo>
                      <a:pt x="1151" y="1253"/>
                    </a:lnTo>
                    <a:lnTo>
                      <a:pt x="1015" y="1121"/>
                    </a:lnTo>
                    <a:lnTo>
                      <a:pt x="957" y="1019"/>
                    </a:lnTo>
                    <a:lnTo>
                      <a:pt x="966" y="949"/>
                    </a:lnTo>
                    <a:lnTo>
                      <a:pt x="1024" y="887"/>
                    </a:lnTo>
                    <a:lnTo>
                      <a:pt x="975" y="812"/>
                    </a:lnTo>
                    <a:lnTo>
                      <a:pt x="921" y="847"/>
                    </a:lnTo>
                    <a:lnTo>
                      <a:pt x="837" y="737"/>
                    </a:lnTo>
                    <a:lnTo>
                      <a:pt x="820" y="799"/>
                    </a:lnTo>
                    <a:lnTo>
                      <a:pt x="740" y="799"/>
                    </a:lnTo>
                    <a:lnTo>
                      <a:pt x="727" y="750"/>
                    </a:lnTo>
                    <a:lnTo>
                      <a:pt x="727" y="666"/>
                    </a:lnTo>
                    <a:lnTo>
                      <a:pt x="692" y="613"/>
                    </a:lnTo>
                    <a:lnTo>
                      <a:pt x="639" y="627"/>
                    </a:lnTo>
                    <a:lnTo>
                      <a:pt x="573" y="494"/>
                    </a:lnTo>
                    <a:lnTo>
                      <a:pt x="520" y="481"/>
                    </a:lnTo>
                    <a:lnTo>
                      <a:pt x="445" y="418"/>
                    </a:lnTo>
                    <a:lnTo>
                      <a:pt x="282" y="432"/>
                    </a:lnTo>
                    <a:lnTo>
                      <a:pt x="119" y="418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4" y="0"/>
                    </a:moveTo>
                    <a:lnTo>
                      <a:pt x="0" y="74"/>
                    </a:lnTo>
                    <a:lnTo>
                      <a:pt x="0" y="158"/>
                    </a:lnTo>
                    <a:lnTo>
                      <a:pt x="83" y="247"/>
                    </a:lnTo>
                    <a:lnTo>
                      <a:pt x="136" y="220"/>
                    </a:lnTo>
                    <a:lnTo>
                      <a:pt x="154" y="261"/>
                    </a:lnTo>
                    <a:lnTo>
                      <a:pt x="202" y="269"/>
                    </a:lnTo>
                    <a:lnTo>
                      <a:pt x="238" y="207"/>
                    </a:lnTo>
                    <a:lnTo>
                      <a:pt x="358" y="220"/>
                    </a:lnTo>
                    <a:lnTo>
                      <a:pt x="375" y="283"/>
                    </a:lnTo>
                    <a:lnTo>
                      <a:pt x="415" y="309"/>
                    </a:lnTo>
                    <a:lnTo>
                      <a:pt x="516" y="296"/>
                    </a:lnTo>
                    <a:lnTo>
                      <a:pt x="552" y="331"/>
                    </a:lnTo>
                    <a:lnTo>
                      <a:pt x="605" y="371"/>
                    </a:lnTo>
                    <a:lnTo>
                      <a:pt x="644" y="441"/>
                    </a:lnTo>
                    <a:lnTo>
                      <a:pt x="644" y="543"/>
                    </a:lnTo>
                    <a:lnTo>
                      <a:pt x="609" y="565"/>
                    </a:lnTo>
                    <a:lnTo>
                      <a:pt x="627" y="605"/>
                    </a:lnTo>
                    <a:lnTo>
                      <a:pt x="578" y="662"/>
                    </a:lnTo>
                    <a:lnTo>
                      <a:pt x="578" y="751"/>
                    </a:lnTo>
                    <a:lnTo>
                      <a:pt x="653" y="764"/>
                    </a:lnTo>
                    <a:lnTo>
                      <a:pt x="697" y="738"/>
                    </a:lnTo>
                    <a:lnTo>
                      <a:pt x="710" y="703"/>
                    </a:lnTo>
                    <a:lnTo>
                      <a:pt x="737" y="738"/>
                    </a:lnTo>
                    <a:lnTo>
                      <a:pt x="781" y="716"/>
                    </a:lnTo>
                    <a:lnTo>
                      <a:pt x="874" y="764"/>
                    </a:lnTo>
                    <a:lnTo>
                      <a:pt x="932" y="848"/>
                    </a:lnTo>
                    <a:lnTo>
                      <a:pt x="950" y="848"/>
                    </a:lnTo>
                    <a:lnTo>
                      <a:pt x="958" y="897"/>
                    </a:lnTo>
                    <a:lnTo>
                      <a:pt x="1020" y="923"/>
                    </a:lnTo>
                    <a:lnTo>
                      <a:pt x="1086" y="923"/>
                    </a:lnTo>
                    <a:lnTo>
                      <a:pt x="1042" y="875"/>
                    </a:lnTo>
                    <a:lnTo>
                      <a:pt x="1060" y="826"/>
                    </a:lnTo>
                    <a:lnTo>
                      <a:pt x="1113" y="875"/>
                    </a:lnTo>
                    <a:lnTo>
                      <a:pt x="1170" y="888"/>
                    </a:lnTo>
                    <a:lnTo>
                      <a:pt x="1179" y="813"/>
                    </a:lnTo>
                    <a:lnTo>
                      <a:pt x="1122" y="751"/>
                    </a:lnTo>
                    <a:lnTo>
                      <a:pt x="1077" y="751"/>
                    </a:lnTo>
                    <a:lnTo>
                      <a:pt x="1020" y="688"/>
                    </a:lnTo>
                    <a:lnTo>
                      <a:pt x="1077" y="688"/>
                    </a:lnTo>
                    <a:lnTo>
                      <a:pt x="1122" y="725"/>
                    </a:lnTo>
                    <a:lnTo>
                      <a:pt x="1205" y="725"/>
                    </a:lnTo>
                    <a:lnTo>
                      <a:pt x="1188" y="653"/>
                    </a:lnTo>
                    <a:lnTo>
                      <a:pt x="1113" y="578"/>
                    </a:lnTo>
                    <a:lnTo>
                      <a:pt x="1060" y="565"/>
                    </a:lnTo>
                    <a:lnTo>
                      <a:pt x="985" y="481"/>
                    </a:lnTo>
                    <a:lnTo>
                      <a:pt x="891" y="455"/>
                    </a:lnTo>
                    <a:lnTo>
                      <a:pt x="816" y="419"/>
                    </a:lnTo>
                    <a:lnTo>
                      <a:pt x="755" y="309"/>
                    </a:lnTo>
                    <a:lnTo>
                      <a:pt x="710" y="171"/>
                    </a:lnTo>
                    <a:lnTo>
                      <a:pt x="653" y="171"/>
                    </a:lnTo>
                    <a:lnTo>
                      <a:pt x="636" y="136"/>
                    </a:lnTo>
                    <a:lnTo>
                      <a:pt x="605" y="145"/>
                    </a:lnTo>
                    <a:lnTo>
                      <a:pt x="543" y="88"/>
                    </a:lnTo>
                    <a:lnTo>
                      <a:pt x="441" y="61"/>
                    </a:lnTo>
                    <a:lnTo>
                      <a:pt x="397" y="97"/>
                    </a:lnTo>
                    <a:lnTo>
                      <a:pt x="305" y="61"/>
                    </a:lnTo>
                    <a:lnTo>
                      <a:pt x="246" y="61"/>
                    </a:lnTo>
                    <a:lnTo>
                      <a:pt x="220" y="13"/>
                    </a:lnTo>
                    <a:lnTo>
                      <a:pt x="194" y="0"/>
                    </a:lnTo>
                    <a:lnTo>
                      <a:pt x="154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7"/>
                    </a:moveTo>
                    <a:lnTo>
                      <a:pt x="74" y="88"/>
                    </a:lnTo>
                    <a:lnTo>
                      <a:pt x="110" y="88"/>
                    </a:lnTo>
                    <a:lnTo>
                      <a:pt x="167" y="26"/>
                    </a:lnTo>
                    <a:lnTo>
                      <a:pt x="238" y="26"/>
                    </a:lnTo>
                    <a:lnTo>
                      <a:pt x="255" y="13"/>
                    </a:lnTo>
                    <a:lnTo>
                      <a:pt x="277" y="0"/>
                    </a:lnTo>
                    <a:lnTo>
                      <a:pt x="366" y="74"/>
                    </a:lnTo>
                    <a:lnTo>
                      <a:pt x="388" y="128"/>
                    </a:lnTo>
                    <a:lnTo>
                      <a:pt x="405" y="101"/>
                    </a:lnTo>
                    <a:lnTo>
                      <a:pt x="477" y="150"/>
                    </a:lnTo>
                    <a:lnTo>
                      <a:pt x="516" y="150"/>
                    </a:lnTo>
                    <a:lnTo>
                      <a:pt x="552" y="190"/>
                    </a:lnTo>
                    <a:lnTo>
                      <a:pt x="609" y="217"/>
                    </a:lnTo>
                    <a:lnTo>
                      <a:pt x="609" y="278"/>
                    </a:lnTo>
                    <a:lnTo>
                      <a:pt x="719" y="278"/>
                    </a:lnTo>
                    <a:lnTo>
                      <a:pt x="746" y="341"/>
                    </a:lnTo>
                    <a:lnTo>
                      <a:pt x="812" y="341"/>
                    </a:lnTo>
                    <a:lnTo>
                      <a:pt x="856" y="416"/>
                    </a:lnTo>
                    <a:lnTo>
                      <a:pt x="830" y="429"/>
                    </a:lnTo>
                    <a:lnTo>
                      <a:pt x="812" y="403"/>
                    </a:lnTo>
                    <a:lnTo>
                      <a:pt x="803" y="390"/>
                    </a:lnTo>
                    <a:lnTo>
                      <a:pt x="746" y="403"/>
                    </a:lnTo>
                    <a:lnTo>
                      <a:pt x="728" y="416"/>
                    </a:lnTo>
                    <a:lnTo>
                      <a:pt x="680" y="429"/>
                    </a:lnTo>
                    <a:lnTo>
                      <a:pt x="600" y="429"/>
                    </a:lnTo>
                    <a:lnTo>
                      <a:pt x="552" y="429"/>
                    </a:lnTo>
                    <a:lnTo>
                      <a:pt x="552" y="390"/>
                    </a:lnTo>
                    <a:lnTo>
                      <a:pt x="477" y="292"/>
                    </a:lnTo>
                    <a:lnTo>
                      <a:pt x="477" y="225"/>
                    </a:lnTo>
                    <a:lnTo>
                      <a:pt x="388" y="225"/>
                    </a:lnTo>
                    <a:lnTo>
                      <a:pt x="357" y="190"/>
                    </a:lnTo>
                    <a:lnTo>
                      <a:pt x="330" y="225"/>
                    </a:lnTo>
                    <a:lnTo>
                      <a:pt x="304" y="177"/>
                    </a:lnTo>
                    <a:lnTo>
                      <a:pt x="277" y="177"/>
                    </a:lnTo>
                    <a:lnTo>
                      <a:pt x="277" y="115"/>
                    </a:lnTo>
                    <a:lnTo>
                      <a:pt x="255" y="88"/>
                    </a:lnTo>
                    <a:lnTo>
                      <a:pt x="176" y="101"/>
                    </a:lnTo>
                    <a:lnTo>
                      <a:pt x="127" y="177"/>
                    </a:lnTo>
                    <a:lnTo>
                      <a:pt x="66" y="190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5"/>
                    </a:moveTo>
                    <a:lnTo>
                      <a:pt x="52" y="288"/>
                    </a:lnTo>
                    <a:lnTo>
                      <a:pt x="176" y="275"/>
                    </a:lnTo>
                    <a:lnTo>
                      <a:pt x="229" y="350"/>
                    </a:lnTo>
                    <a:lnTo>
                      <a:pt x="300" y="363"/>
                    </a:lnTo>
                    <a:lnTo>
                      <a:pt x="336" y="275"/>
                    </a:lnTo>
                    <a:lnTo>
                      <a:pt x="318" y="252"/>
                    </a:lnTo>
                    <a:lnTo>
                      <a:pt x="353" y="212"/>
                    </a:lnTo>
                    <a:lnTo>
                      <a:pt x="424" y="275"/>
                    </a:lnTo>
                    <a:lnTo>
                      <a:pt x="477" y="275"/>
                    </a:lnTo>
                    <a:lnTo>
                      <a:pt x="477" y="239"/>
                    </a:lnTo>
                    <a:lnTo>
                      <a:pt x="512" y="239"/>
                    </a:lnTo>
                    <a:lnTo>
                      <a:pt x="565" y="177"/>
                    </a:lnTo>
                    <a:lnTo>
                      <a:pt x="530" y="164"/>
                    </a:lnTo>
                    <a:lnTo>
                      <a:pt x="530" y="102"/>
                    </a:lnTo>
                    <a:lnTo>
                      <a:pt x="530" y="48"/>
                    </a:lnTo>
                    <a:lnTo>
                      <a:pt x="450" y="35"/>
                    </a:lnTo>
                    <a:lnTo>
                      <a:pt x="389" y="48"/>
                    </a:lnTo>
                    <a:lnTo>
                      <a:pt x="336" y="48"/>
                    </a:lnTo>
                    <a:lnTo>
                      <a:pt x="255" y="35"/>
                    </a:lnTo>
                    <a:lnTo>
                      <a:pt x="194" y="0"/>
                    </a:lnTo>
                    <a:lnTo>
                      <a:pt x="176" y="35"/>
                    </a:lnTo>
                    <a:lnTo>
                      <a:pt x="167" y="111"/>
                    </a:lnTo>
                    <a:lnTo>
                      <a:pt x="105" y="111"/>
                    </a:lnTo>
                    <a:lnTo>
                      <a:pt x="88" y="177"/>
                    </a:lnTo>
                    <a:lnTo>
                      <a:pt x="52" y="199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3" y="330"/>
                    </a:moveTo>
                    <a:lnTo>
                      <a:pt x="317" y="246"/>
                    </a:lnTo>
                    <a:lnTo>
                      <a:pt x="405" y="123"/>
                    </a:lnTo>
                    <a:lnTo>
                      <a:pt x="533" y="48"/>
                    </a:lnTo>
                    <a:lnTo>
                      <a:pt x="599" y="0"/>
                    </a:lnTo>
                    <a:lnTo>
                      <a:pt x="670" y="13"/>
                    </a:lnTo>
                    <a:lnTo>
                      <a:pt x="652" y="74"/>
                    </a:lnTo>
                    <a:lnTo>
                      <a:pt x="577" y="136"/>
                    </a:lnTo>
                    <a:lnTo>
                      <a:pt x="560" y="260"/>
                    </a:lnTo>
                    <a:lnTo>
                      <a:pt x="577" y="357"/>
                    </a:lnTo>
                    <a:lnTo>
                      <a:pt x="643" y="357"/>
                    </a:lnTo>
                    <a:lnTo>
                      <a:pt x="670" y="246"/>
                    </a:lnTo>
                    <a:lnTo>
                      <a:pt x="687" y="136"/>
                    </a:lnTo>
                    <a:lnTo>
                      <a:pt x="732" y="171"/>
                    </a:lnTo>
                    <a:lnTo>
                      <a:pt x="780" y="233"/>
                    </a:lnTo>
                    <a:lnTo>
                      <a:pt x="868" y="207"/>
                    </a:lnTo>
                    <a:lnTo>
                      <a:pt x="921" y="260"/>
                    </a:lnTo>
                    <a:lnTo>
                      <a:pt x="934" y="321"/>
                    </a:lnTo>
                    <a:lnTo>
                      <a:pt x="1067" y="295"/>
                    </a:lnTo>
                    <a:lnTo>
                      <a:pt x="1322" y="260"/>
                    </a:lnTo>
                    <a:lnTo>
                      <a:pt x="1419" y="454"/>
                    </a:lnTo>
                    <a:lnTo>
                      <a:pt x="1583" y="555"/>
                    </a:lnTo>
                    <a:lnTo>
                      <a:pt x="1574" y="639"/>
                    </a:lnTo>
                    <a:lnTo>
                      <a:pt x="1640" y="590"/>
                    </a:lnTo>
                    <a:lnTo>
                      <a:pt x="1719" y="590"/>
                    </a:lnTo>
                    <a:lnTo>
                      <a:pt x="1813" y="679"/>
                    </a:lnTo>
                    <a:lnTo>
                      <a:pt x="1928" y="665"/>
                    </a:lnTo>
                    <a:lnTo>
                      <a:pt x="2020" y="679"/>
                    </a:lnTo>
                    <a:lnTo>
                      <a:pt x="2174" y="837"/>
                    </a:lnTo>
                    <a:lnTo>
                      <a:pt x="2338" y="1031"/>
                    </a:lnTo>
                    <a:lnTo>
                      <a:pt x="2408" y="1256"/>
                    </a:lnTo>
                    <a:lnTo>
                      <a:pt x="2364" y="1428"/>
                    </a:lnTo>
                    <a:lnTo>
                      <a:pt x="2563" y="1490"/>
                    </a:lnTo>
                    <a:lnTo>
                      <a:pt x="2889" y="1574"/>
                    </a:lnTo>
                    <a:lnTo>
                      <a:pt x="3224" y="1675"/>
                    </a:lnTo>
                    <a:lnTo>
                      <a:pt x="3440" y="1869"/>
                    </a:lnTo>
                    <a:lnTo>
                      <a:pt x="3533" y="2054"/>
                    </a:lnTo>
                    <a:lnTo>
                      <a:pt x="3533" y="2288"/>
                    </a:lnTo>
                    <a:lnTo>
                      <a:pt x="3449" y="2500"/>
                    </a:lnTo>
                    <a:lnTo>
                      <a:pt x="3352" y="2610"/>
                    </a:lnTo>
                    <a:lnTo>
                      <a:pt x="3290" y="2681"/>
                    </a:lnTo>
                    <a:lnTo>
                      <a:pt x="3224" y="2831"/>
                    </a:lnTo>
                    <a:lnTo>
                      <a:pt x="3215" y="2967"/>
                    </a:lnTo>
                    <a:lnTo>
                      <a:pt x="3224" y="3139"/>
                    </a:lnTo>
                    <a:lnTo>
                      <a:pt x="3189" y="3311"/>
                    </a:lnTo>
                    <a:lnTo>
                      <a:pt x="3136" y="3346"/>
                    </a:lnTo>
                    <a:lnTo>
                      <a:pt x="3118" y="3448"/>
                    </a:lnTo>
                    <a:lnTo>
                      <a:pt x="3061" y="3518"/>
                    </a:lnTo>
                    <a:lnTo>
                      <a:pt x="3052" y="3607"/>
                    </a:lnTo>
                    <a:lnTo>
                      <a:pt x="2973" y="3704"/>
                    </a:lnTo>
                    <a:lnTo>
                      <a:pt x="2854" y="3877"/>
                    </a:lnTo>
                    <a:lnTo>
                      <a:pt x="2752" y="3925"/>
                    </a:lnTo>
                    <a:lnTo>
                      <a:pt x="2682" y="3916"/>
                    </a:lnTo>
                    <a:lnTo>
                      <a:pt x="2554" y="4000"/>
                    </a:lnTo>
                    <a:lnTo>
                      <a:pt x="2426" y="4199"/>
                    </a:lnTo>
                    <a:lnTo>
                      <a:pt x="2399" y="4274"/>
                    </a:lnTo>
                    <a:lnTo>
                      <a:pt x="2399" y="4371"/>
                    </a:lnTo>
                    <a:lnTo>
                      <a:pt x="2426" y="4481"/>
                    </a:lnTo>
                    <a:lnTo>
                      <a:pt x="2364" y="4591"/>
                    </a:lnTo>
                    <a:lnTo>
                      <a:pt x="2364" y="4679"/>
                    </a:lnTo>
                    <a:lnTo>
                      <a:pt x="2263" y="4776"/>
                    </a:lnTo>
                    <a:lnTo>
                      <a:pt x="2183" y="4851"/>
                    </a:lnTo>
                    <a:lnTo>
                      <a:pt x="2122" y="4961"/>
                    </a:lnTo>
                    <a:lnTo>
                      <a:pt x="2100" y="5072"/>
                    </a:lnTo>
                    <a:lnTo>
                      <a:pt x="2011" y="5208"/>
                    </a:lnTo>
                    <a:lnTo>
                      <a:pt x="1976" y="5182"/>
                    </a:lnTo>
                    <a:lnTo>
                      <a:pt x="1910" y="5182"/>
                    </a:lnTo>
                    <a:lnTo>
                      <a:pt x="1822" y="5230"/>
                    </a:lnTo>
                    <a:lnTo>
                      <a:pt x="1883" y="5292"/>
                    </a:lnTo>
                    <a:lnTo>
                      <a:pt x="1883" y="5416"/>
                    </a:lnTo>
                    <a:lnTo>
                      <a:pt x="1875" y="5513"/>
                    </a:lnTo>
                    <a:lnTo>
                      <a:pt x="1831" y="5588"/>
                    </a:lnTo>
                    <a:lnTo>
                      <a:pt x="1719" y="5601"/>
                    </a:lnTo>
                    <a:lnTo>
                      <a:pt x="1631" y="5636"/>
                    </a:lnTo>
                    <a:lnTo>
                      <a:pt x="1591" y="5711"/>
                    </a:lnTo>
                    <a:lnTo>
                      <a:pt x="1591" y="5835"/>
                    </a:lnTo>
                    <a:lnTo>
                      <a:pt x="1486" y="5848"/>
                    </a:lnTo>
                    <a:lnTo>
                      <a:pt x="1402" y="5835"/>
                    </a:lnTo>
                    <a:lnTo>
                      <a:pt x="1375" y="5883"/>
                    </a:lnTo>
                    <a:lnTo>
                      <a:pt x="1419" y="5932"/>
                    </a:lnTo>
                    <a:lnTo>
                      <a:pt x="1393" y="6117"/>
                    </a:lnTo>
                    <a:lnTo>
                      <a:pt x="1358" y="6276"/>
                    </a:lnTo>
                    <a:lnTo>
                      <a:pt x="1247" y="6276"/>
                    </a:lnTo>
                    <a:lnTo>
                      <a:pt x="1212" y="6337"/>
                    </a:lnTo>
                    <a:lnTo>
                      <a:pt x="1221" y="6461"/>
                    </a:lnTo>
                    <a:lnTo>
                      <a:pt x="1278" y="6461"/>
                    </a:lnTo>
                    <a:lnTo>
                      <a:pt x="1322" y="6536"/>
                    </a:lnTo>
                    <a:lnTo>
                      <a:pt x="1296" y="6659"/>
                    </a:lnTo>
                    <a:lnTo>
                      <a:pt x="1239" y="6672"/>
                    </a:lnTo>
                    <a:lnTo>
                      <a:pt x="1142" y="6721"/>
                    </a:lnTo>
                    <a:lnTo>
                      <a:pt x="1115" y="6818"/>
                    </a:lnTo>
                    <a:lnTo>
                      <a:pt x="1106" y="6968"/>
                    </a:lnTo>
                    <a:lnTo>
                      <a:pt x="1049" y="7043"/>
                    </a:lnTo>
                    <a:lnTo>
                      <a:pt x="1261" y="7285"/>
                    </a:lnTo>
                    <a:lnTo>
                      <a:pt x="1322" y="7409"/>
                    </a:lnTo>
                    <a:lnTo>
                      <a:pt x="1287" y="7484"/>
                    </a:lnTo>
                    <a:lnTo>
                      <a:pt x="1195" y="7435"/>
                    </a:lnTo>
                    <a:lnTo>
                      <a:pt x="1115" y="7338"/>
                    </a:lnTo>
                    <a:lnTo>
                      <a:pt x="1005" y="7263"/>
                    </a:lnTo>
                    <a:lnTo>
                      <a:pt x="903" y="7140"/>
                    </a:lnTo>
                    <a:lnTo>
                      <a:pt x="833" y="6990"/>
                    </a:lnTo>
                    <a:lnTo>
                      <a:pt x="824" y="6866"/>
                    </a:lnTo>
                    <a:lnTo>
                      <a:pt x="842" y="6769"/>
                    </a:lnTo>
                    <a:lnTo>
                      <a:pt x="833" y="5971"/>
                    </a:lnTo>
                    <a:lnTo>
                      <a:pt x="806" y="5835"/>
                    </a:lnTo>
                    <a:lnTo>
                      <a:pt x="732" y="5685"/>
                    </a:lnTo>
                    <a:lnTo>
                      <a:pt x="732" y="5552"/>
                    </a:lnTo>
                    <a:lnTo>
                      <a:pt x="780" y="5394"/>
                    </a:lnTo>
                    <a:lnTo>
                      <a:pt x="824" y="5195"/>
                    </a:lnTo>
                    <a:lnTo>
                      <a:pt x="806" y="4997"/>
                    </a:lnTo>
                    <a:lnTo>
                      <a:pt x="798" y="4913"/>
                    </a:lnTo>
                    <a:lnTo>
                      <a:pt x="789" y="4803"/>
                    </a:lnTo>
                    <a:lnTo>
                      <a:pt x="815" y="4750"/>
                    </a:lnTo>
                    <a:lnTo>
                      <a:pt x="833" y="4529"/>
                    </a:lnTo>
                    <a:lnTo>
                      <a:pt x="815" y="4419"/>
                    </a:lnTo>
                    <a:lnTo>
                      <a:pt x="851" y="4150"/>
                    </a:lnTo>
                    <a:lnTo>
                      <a:pt x="815" y="3916"/>
                    </a:lnTo>
                    <a:lnTo>
                      <a:pt x="842" y="3793"/>
                    </a:lnTo>
                    <a:lnTo>
                      <a:pt x="886" y="3558"/>
                    </a:lnTo>
                    <a:lnTo>
                      <a:pt x="842" y="3408"/>
                    </a:lnTo>
                    <a:lnTo>
                      <a:pt x="758" y="3298"/>
                    </a:lnTo>
                    <a:lnTo>
                      <a:pt x="732" y="3175"/>
                    </a:lnTo>
                    <a:lnTo>
                      <a:pt x="635" y="3064"/>
                    </a:lnTo>
                    <a:lnTo>
                      <a:pt x="533" y="2989"/>
                    </a:lnTo>
                    <a:lnTo>
                      <a:pt x="388" y="2954"/>
                    </a:lnTo>
                    <a:lnTo>
                      <a:pt x="317" y="2795"/>
                    </a:lnTo>
                    <a:lnTo>
                      <a:pt x="224" y="2632"/>
                    </a:lnTo>
                    <a:lnTo>
                      <a:pt x="216" y="2500"/>
                    </a:lnTo>
                    <a:lnTo>
                      <a:pt x="207" y="2376"/>
                    </a:lnTo>
                    <a:lnTo>
                      <a:pt x="180" y="2288"/>
                    </a:lnTo>
                    <a:lnTo>
                      <a:pt x="127" y="2191"/>
                    </a:lnTo>
                    <a:lnTo>
                      <a:pt x="61" y="2143"/>
                    </a:lnTo>
                    <a:lnTo>
                      <a:pt x="8" y="2041"/>
                    </a:lnTo>
                    <a:lnTo>
                      <a:pt x="70" y="1957"/>
                    </a:lnTo>
                    <a:lnTo>
                      <a:pt x="70" y="1746"/>
                    </a:lnTo>
                    <a:lnTo>
                      <a:pt x="35" y="1636"/>
                    </a:lnTo>
                    <a:lnTo>
                      <a:pt x="0" y="1525"/>
                    </a:lnTo>
                    <a:lnTo>
                      <a:pt x="35" y="1367"/>
                    </a:lnTo>
                    <a:lnTo>
                      <a:pt x="171" y="970"/>
                    </a:lnTo>
                    <a:lnTo>
                      <a:pt x="180" y="798"/>
                    </a:lnTo>
                    <a:lnTo>
                      <a:pt x="255" y="617"/>
                    </a:lnTo>
                    <a:lnTo>
                      <a:pt x="255" y="515"/>
                    </a:lnTo>
                    <a:lnTo>
                      <a:pt x="273" y="3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320" y="38088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Cell Switch Router</a:t>
            </a:r>
            <a:br>
              <a:rPr sz="1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abel Switching Router 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or ATM / SONET interf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33720" y="2268360"/>
            <a:ext cx="4784760" cy="2760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193840" y="5500800"/>
            <a:ext cx="46004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roshi  ESA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SHIBA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P Forwarding with 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41360" y="1203480"/>
            <a:ext cx="8396280" cy="4070520"/>
            <a:chOff x="441360" y="1203480"/>
            <a:chExt cx="8396280" cy="4070520"/>
          </a:xfrm>
        </p:grpSpPr>
        <p:sp>
          <p:nvSpPr>
            <p:cNvPr id="511" name=""/>
            <p:cNvSpPr txBox="1"/>
            <p:nvPr/>
          </p:nvSpPr>
          <p:spPr>
            <a:xfrm>
              <a:off x="441360" y="469440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70760" y="441972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3121200" y="1905120"/>
              <a:ext cx="3048120" cy="3048120"/>
              <a:chOff x="3121200" y="1905120"/>
              <a:chExt cx="3048120" cy="3048120"/>
            </a:xfrm>
          </p:grpSpPr>
          <p:sp>
            <p:nvSpPr>
              <p:cNvPr id="514" name=""/>
              <p:cNvSpPr/>
              <p:nvPr/>
            </p:nvSpPr>
            <p:spPr>
              <a:xfrm>
                <a:off x="3121200" y="1905120"/>
                <a:ext cx="3048120" cy="3048120"/>
              </a:xfrm>
              <a:prstGeom prst="rect">
                <a:avLst/>
              </a:prstGeom>
              <a:solidFill>
                <a:srgbClr val="83d8fe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3259080" y="1951200"/>
                <a:ext cx="2768760" cy="2849400"/>
                <a:chOff x="3259080" y="1951200"/>
                <a:chExt cx="2768760" cy="28494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274920" y="3581280"/>
                  <a:ext cx="2743200" cy="1219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274920" y="2057400"/>
                  <a:ext cx="2743200" cy="1219320"/>
                </a:xfrm>
                <a:prstGeom prst="rect">
                  <a:avLst/>
                </a:prstGeom>
                <a:solidFill>
                  <a:srgbClr val="ff66ff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 txBox="1"/>
                <p:nvPr/>
              </p:nvSpPr>
              <p:spPr>
                <a:xfrm>
                  <a:off x="3411360" y="1951200"/>
                  <a:ext cx="23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P processing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 txBox="1"/>
                <p:nvPr/>
              </p:nvSpPr>
              <p:spPr>
                <a:xfrm>
                  <a:off x="3259080" y="3475080"/>
                  <a:ext cx="2768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TM switching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"/>
            <p:cNvSpPr/>
            <p:nvPr/>
          </p:nvSpPr>
          <p:spPr>
            <a:xfrm>
              <a:off x="7770960" y="3657600"/>
              <a:ext cx="1066680" cy="1066680"/>
            </a:xfrm>
            <a:prstGeom prst="rect">
              <a:avLst/>
            </a:prstGeom>
            <a:solidFill>
              <a:srgbClr val="83d8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7831080" y="469440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3868560" y="1203480"/>
              <a:ext cx="13017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22440" y="434340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03320" y="3352680"/>
              <a:ext cx="762120" cy="167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760" y="3657600"/>
              <a:ext cx="1066680" cy="1066680"/>
            </a:xfrm>
            <a:prstGeom prst="rect">
              <a:avLst/>
            </a:prstGeom>
            <a:solidFill>
              <a:srgbClr val="83d8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29400" y="3429000"/>
              <a:ext cx="762120" cy="167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127160" y="3124080"/>
            <a:ext cx="6958080" cy="2911680"/>
            <a:chOff x="1127160" y="3124080"/>
            <a:chExt cx="6958080" cy="2911680"/>
          </a:xfrm>
        </p:grpSpPr>
        <p:sp>
          <p:nvSpPr>
            <p:cNvPr id="528" name=""/>
            <p:cNvSpPr/>
            <p:nvPr/>
          </p:nvSpPr>
          <p:spPr>
            <a:xfrm>
              <a:off x="1523880" y="3124080"/>
              <a:ext cx="6324840" cy="1143360"/>
            </a:xfrm>
            <a:custGeom>
              <a:avLst/>
              <a:gdLst/>
              <a:ahLst/>
              <a:rect l="0" t="0" r="r" b="b"/>
              <a:pathLst>
                <a:path fill="none" w="17569" h="3176">
                  <a:moveTo>
                    <a:pt x="0" y="2964"/>
                  </a:moveTo>
                  <a:lnTo>
                    <a:pt x="4656" y="2964"/>
                  </a:lnTo>
                  <a:lnTo>
                    <a:pt x="4656" y="0"/>
                  </a:lnTo>
                  <a:lnTo>
                    <a:pt x="12701" y="0"/>
                  </a:lnTo>
                  <a:lnTo>
                    <a:pt x="12701" y="3176"/>
                  </a:lnTo>
                  <a:lnTo>
                    <a:pt x="17569" y="3176"/>
                  </a:lnTo>
                </a:path>
              </a:pathLst>
            </a:custGeom>
            <a:ln w="127080">
              <a:solidFill>
                <a:srgbClr val="fc0128"/>
              </a:solidFill>
              <a:round/>
              <a:tailEnd len="med" type="triangle" w="med"/>
            </a:ln>
          </p:spPr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1127160" y="5456160"/>
              <a:ext cx="695808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&lt;&lt; Hop-by-Hop Packet Forwarding &gt;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" y="3200400"/>
            <a:ext cx="1371600" cy="304920"/>
            <a:chOff x="228600" y="3200400"/>
            <a:chExt cx="1371600" cy="304920"/>
          </a:xfrm>
        </p:grpSpPr>
        <p:sp>
          <p:nvSpPr>
            <p:cNvPr id="531" name=""/>
            <p:cNvSpPr/>
            <p:nvPr/>
          </p:nvSpPr>
          <p:spPr>
            <a:xfrm>
              <a:off x="228600" y="3200400"/>
              <a:ext cx="1371600" cy="3049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08160" y="3259080"/>
              <a:ext cx="326880" cy="184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779040" y="2912400"/>
            <a:ext cx="1185840" cy="1185840"/>
            <a:chOff x="779040" y="2912400"/>
            <a:chExt cx="1185840" cy="1185840"/>
          </a:xfrm>
        </p:grpSpPr>
        <p:sp>
          <p:nvSpPr>
            <p:cNvPr id="534" name=""/>
            <p:cNvSpPr/>
            <p:nvPr/>
          </p:nvSpPr>
          <p:spPr>
            <a:xfrm>
              <a:off x="779040" y="2912400"/>
              <a:ext cx="1185840" cy="1185840"/>
            </a:xfrm>
            <a:custGeom>
              <a:avLst/>
              <a:gdLst/>
              <a:ahLst/>
              <a:rect l="0" t="0" r="r" b="b"/>
              <a:pathLst>
                <a:path w="3294" h="3294">
                  <a:moveTo>
                    <a:pt x="0" y="598"/>
                  </a:moveTo>
                  <a:lnTo>
                    <a:pt x="2696" y="3294"/>
                  </a:lnTo>
                  <a:lnTo>
                    <a:pt x="3294" y="2696"/>
                  </a:lnTo>
                  <a:lnTo>
                    <a:pt x="598" y="0"/>
                  </a:lnTo>
                  <a:lnTo>
                    <a:pt x="0" y="598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13440" y="3645720"/>
              <a:ext cx="363960" cy="363960"/>
            </a:xfrm>
            <a:custGeom>
              <a:avLst/>
              <a:gdLst/>
              <a:ahLst/>
              <a:rect l="0" t="0" r="r" b="b"/>
              <a:pathLst>
                <a:path w="1011" h="1011">
                  <a:moveTo>
                    <a:pt x="0" y="361"/>
                  </a:moveTo>
                  <a:lnTo>
                    <a:pt x="649" y="1011"/>
                  </a:lnTo>
                  <a:lnTo>
                    <a:pt x="1011" y="649"/>
                  </a:lnTo>
                  <a:lnTo>
                    <a:pt x="361" y="0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295280" y="2743200"/>
            <a:ext cx="304920" cy="1371600"/>
            <a:chOff x="1295280" y="2743200"/>
            <a:chExt cx="304920" cy="1371600"/>
          </a:xfrm>
        </p:grpSpPr>
        <p:sp>
          <p:nvSpPr>
            <p:cNvPr id="537" name=""/>
            <p:cNvSpPr/>
            <p:nvPr/>
          </p:nvSpPr>
          <p:spPr>
            <a:xfrm>
              <a:off x="1295280" y="2743200"/>
              <a:ext cx="304920" cy="13716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57200" y="3722760"/>
              <a:ext cx="184320" cy="32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600200" y="3733920"/>
            <a:ext cx="15228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600200" y="3733920"/>
            <a:ext cx="380880" cy="304920"/>
            <a:chOff x="1600200" y="3733920"/>
            <a:chExt cx="380880" cy="304920"/>
          </a:xfrm>
        </p:grpSpPr>
        <p:sp>
          <p:nvSpPr>
            <p:cNvPr id="541" name=""/>
            <p:cNvSpPr/>
            <p:nvPr/>
          </p:nvSpPr>
          <p:spPr>
            <a:xfrm>
              <a:off x="1600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600200" y="3733920"/>
            <a:ext cx="609480" cy="304920"/>
            <a:chOff x="1600200" y="3733920"/>
            <a:chExt cx="609480" cy="304920"/>
          </a:xfrm>
        </p:grpSpPr>
        <p:sp>
          <p:nvSpPr>
            <p:cNvPr id="544" name=""/>
            <p:cNvSpPr/>
            <p:nvPr/>
          </p:nvSpPr>
          <p:spPr>
            <a:xfrm>
              <a:off x="1600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600200" y="3733920"/>
            <a:ext cx="838080" cy="304920"/>
            <a:chOff x="1600200" y="3733920"/>
            <a:chExt cx="838080" cy="304920"/>
          </a:xfrm>
        </p:grpSpPr>
        <p:sp>
          <p:nvSpPr>
            <p:cNvPr id="548" name=""/>
            <p:cNvSpPr/>
            <p:nvPr/>
          </p:nvSpPr>
          <p:spPr>
            <a:xfrm>
              <a:off x="1600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600200" y="3733920"/>
            <a:ext cx="1066680" cy="304920"/>
            <a:chOff x="1600200" y="3733920"/>
            <a:chExt cx="1066680" cy="304920"/>
          </a:xfrm>
        </p:grpSpPr>
        <p:sp>
          <p:nvSpPr>
            <p:cNvPr id="553" name=""/>
            <p:cNvSpPr/>
            <p:nvPr/>
          </p:nvSpPr>
          <p:spPr>
            <a:xfrm>
              <a:off x="1600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828800" y="3733920"/>
            <a:ext cx="1066680" cy="304920"/>
            <a:chOff x="1828800" y="3733920"/>
            <a:chExt cx="1066680" cy="304920"/>
          </a:xfrm>
        </p:grpSpPr>
        <p:sp>
          <p:nvSpPr>
            <p:cNvPr id="559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057400" y="3733920"/>
            <a:ext cx="1066680" cy="304920"/>
            <a:chOff x="2057400" y="3733920"/>
            <a:chExt cx="1066680" cy="304920"/>
          </a:xfrm>
        </p:grpSpPr>
        <p:sp>
          <p:nvSpPr>
            <p:cNvPr id="565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286000" y="3733920"/>
            <a:ext cx="838080" cy="304920"/>
            <a:chOff x="2286000" y="3733920"/>
            <a:chExt cx="838080" cy="304920"/>
          </a:xfrm>
        </p:grpSpPr>
        <p:sp>
          <p:nvSpPr>
            <p:cNvPr id="571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514600" y="3733920"/>
            <a:ext cx="609480" cy="304920"/>
            <a:chOff x="2514600" y="3733920"/>
            <a:chExt cx="609480" cy="304920"/>
          </a:xfrm>
        </p:grpSpPr>
        <p:sp>
          <p:nvSpPr>
            <p:cNvPr id="576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71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743200" y="3733920"/>
            <a:ext cx="380880" cy="304920"/>
            <a:chOff x="2743200" y="3733920"/>
            <a:chExt cx="380880" cy="304920"/>
          </a:xfrm>
        </p:grpSpPr>
        <p:sp>
          <p:nvSpPr>
            <p:cNvPr id="580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971800" y="3733920"/>
            <a:ext cx="15228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352680" y="2209680"/>
            <a:ext cx="304920" cy="1371600"/>
            <a:chOff x="3352680" y="2209680"/>
            <a:chExt cx="304920" cy="1371600"/>
          </a:xfrm>
        </p:grpSpPr>
        <p:sp>
          <p:nvSpPr>
            <p:cNvPr id="584" name=""/>
            <p:cNvSpPr/>
            <p:nvPr/>
          </p:nvSpPr>
          <p:spPr>
            <a:xfrm>
              <a:off x="3352680" y="2209680"/>
              <a:ext cx="304920" cy="13716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11360" y="2274840"/>
              <a:ext cx="184320" cy="32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3078360" y="1985400"/>
            <a:ext cx="1158840" cy="1211400"/>
            <a:chOff x="3078360" y="1985400"/>
            <a:chExt cx="1158840" cy="1211400"/>
          </a:xfrm>
        </p:grpSpPr>
        <p:sp>
          <p:nvSpPr>
            <p:cNvPr id="587" name=""/>
            <p:cNvSpPr/>
            <p:nvPr/>
          </p:nvSpPr>
          <p:spPr>
            <a:xfrm>
              <a:off x="3078360" y="1985400"/>
              <a:ext cx="1158840" cy="1211400"/>
            </a:xfrm>
            <a:custGeom>
              <a:avLst/>
              <a:gdLst/>
              <a:ahLst/>
              <a:rect l="0" t="0" r="r" b="b"/>
              <a:pathLst>
                <a:path w="3219" h="3365">
                  <a:moveTo>
                    <a:pt x="2600" y="0"/>
                  </a:moveTo>
                  <a:lnTo>
                    <a:pt x="0" y="2788"/>
                  </a:lnTo>
                  <a:lnTo>
                    <a:pt x="619" y="3365"/>
                  </a:lnTo>
                  <a:lnTo>
                    <a:pt x="3219" y="577"/>
                  </a:lnTo>
                  <a:lnTo>
                    <a:pt x="2600" y="0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87920" y="2071440"/>
              <a:ext cx="360360" cy="367560"/>
            </a:xfrm>
            <a:custGeom>
              <a:avLst/>
              <a:gdLst/>
              <a:ahLst/>
              <a:rect l="0" t="0" r="r" b="b"/>
              <a:pathLst>
                <a:path w="1001" h="1021">
                  <a:moveTo>
                    <a:pt x="623" y="0"/>
                  </a:moveTo>
                  <a:lnTo>
                    <a:pt x="0" y="668"/>
                  </a:lnTo>
                  <a:lnTo>
                    <a:pt x="378" y="1021"/>
                  </a:lnTo>
                  <a:lnTo>
                    <a:pt x="1001" y="352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886200" y="2666880"/>
            <a:ext cx="1371600" cy="304920"/>
            <a:chOff x="3886200" y="2666880"/>
            <a:chExt cx="1371600" cy="304920"/>
          </a:xfrm>
        </p:grpSpPr>
        <p:sp>
          <p:nvSpPr>
            <p:cNvPr id="590" name=""/>
            <p:cNvSpPr/>
            <p:nvPr/>
          </p:nvSpPr>
          <p:spPr>
            <a:xfrm>
              <a:off x="3886200" y="2666880"/>
              <a:ext cx="1371600" cy="3049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65760" y="2725560"/>
              <a:ext cx="326880" cy="184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970880" y="2151720"/>
            <a:ext cx="1183680" cy="1183680"/>
            <a:chOff x="4970880" y="2151720"/>
            <a:chExt cx="1183680" cy="1183680"/>
          </a:xfrm>
        </p:grpSpPr>
        <p:sp>
          <p:nvSpPr>
            <p:cNvPr id="593" name=""/>
            <p:cNvSpPr/>
            <p:nvPr/>
          </p:nvSpPr>
          <p:spPr>
            <a:xfrm>
              <a:off x="4970880" y="2151720"/>
              <a:ext cx="1183680" cy="1183680"/>
            </a:xfrm>
            <a:custGeom>
              <a:avLst/>
              <a:gdLst/>
              <a:ahLst/>
              <a:rect l="0" t="0" r="r" b="b"/>
              <a:pathLst>
                <a:path w="3288" h="3288">
                  <a:moveTo>
                    <a:pt x="0" y="592"/>
                  </a:moveTo>
                  <a:lnTo>
                    <a:pt x="2696" y="3288"/>
                  </a:lnTo>
                  <a:lnTo>
                    <a:pt x="3288" y="2696"/>
                  </a:lnTo>
                  <a:lnTo>
                    <a:pt x="592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706000" y="2884320"/>
              <a:ext cx="362880" cy="362880"/>
            </a:xfrm>
            <a:custGeom>
              <a:avLst/>
              <a:gdLst/>
              <a:ahLst/>
              <a:rect l="0" t="0" r="r" b="b"/>
              <a:pathLst>
                <a:path w="1008" h="1008">
                  <a:moveTo>
                    <a:pt x="0" y="364"/>
                  </a:moveTo>
                  <a:lnTo>
                    <a:pt x="643" y="1008"/>
                  </a:lnTo>
                  <a:lnTo>
                    <a:pt x="1008" y="643"/>
                  </a:lnTo>
                  <a:lnTo>
                    <a:pt x="364" y="0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638680" y="2286000"/>
            <a:ext cx="304920" cy="1371600"/>
            <a:chOff x="5638680" y="2286000"/>
            <a:chExt cx="304920" cy="1371600"/>
          </a:xfrm>
        </p:grpSpPr>
        <p:sp>
          <p:nvSpPr>
            <p:cNvPr id="596" name=""/>
            <p:cNvSpPr/>
            <p:nvPr/>
          </p:nvSpPr>
          <p:spPr>
            <a:xfrm>
              <a:off x="5638680" y="2286000"/>
              <a:ext cx="304920" cy="13716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00600" y="3265560"/>
              <a:ext cx="184320" cy="32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248520" y="3809880"/>
            <a:ext cx="15228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248520" y="3809880"/>
            <a:ext cx="380880" cy="304920"/>
            <a:chOff x="6248520" y="3809880"/>
            <a:chExt cx="380880" cy="304920"/>
          </a:xfrm>
        </p:grpSpPr>
        <p:sp>
          <p:nvSpPr>
            <p:cNvPr id="600" name=""/>
            <p:cNvSpPr/>
            <p:nvPr/>
          </p:nvSpPr>
          <p:spPr>
            <a:xfrm>
              <a:off x="62485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771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248520" y="3809880"/>
            <a:ext cx="609480" cy="304920"/>
            <a:chOff x="6248520" y="3809880"/>
            <a:chExt cx="609480" cy="304920"/>
          </a:xfrm>
        </p:grpSpPr>
        <p:sp>
          <p:nvSpPr>
            <p:cNvPr id="603" name=""/>
            <p:cNvSpPr/>
            <p:nvPr/>
          </p:nvSpPr>
          <p:spPr>
            <a:xfrm>
              <a:off x="62485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771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057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248520" y="3809880"/>
            <a:ext cx="838080" cy="304920"/>
            <a:chOff x="6248520" y="3809880"/>
            <a:chExt cx="838080" cy="304920"/>
          </a:xfrm>
        </p:grpSpPr>
        <p:sp>
          <p:nvSpPr>
            <p:cNvPr id="607" name=""/>
            <p:cNvSpPr/>
            <p:nvPr/>
          </p:nvSpPr>
          <p:spPr>
            <a:xfrm>
              <a:off x="62485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771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57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343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6248520" y="3809880"/>
            <a:ext cx="1066680" cy="304920"/>
            <a:chOff x="6248520" y="3809880"/>
            <a:chExt cx="1066680" cy="304920"/>
          </a:xfrm>
        </p:grpSpPr>
        <p:sp>
          <p:nvSpPr>
            <p:cNvPr id="612" name=""/>
            <p:cNvSpPr/>
            <p:nvPr/>
          </p:nvSpPr>
          <p:spPr>
            <a:xfrm>
              <a:off x="62485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771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057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343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629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477120" y="3809880"/>
            <a:ext cx="1066680" cy="304920"/>
            <a:chOff x="6477120" y="3809880"/>
            <a:chExt cx="1066680" cy="304920"/>
          </a:xfrm>
        </p:grpSpPr>
        <p:sp>
          <p:nvSpPr>
            <p:cNvPr id="618" name=""/>
            <p:cNvSpPr/>
            <p:nvPr/>
          </p:nvSpPr>
          <p:spPr>
            <a:xfrm>
              <a:off x="64771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057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629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915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705720" y="3809880"/>
            <a:ext cx="1066680" cy="304920"/>
            <a:chOff x="6705720" y="3809880"/>
            <a:chExt cx="1066680" cy="304920"/>
          </a:xfrm>
        </p:grpSpPr>
        <p:sp>
          <p:nvSpPr>
            <p:cNvPr id="624" name=""/>
            <p:cNvSpPr/>
            <p:nvPr/>
          </p:nvSpPr>
          <p:spPr>
            <a:xfrm>
              <a:off x="67057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343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629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915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201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6934320" y="3809880"/>
            <a:ext cx="838080" cy="304920"/>
            <a:chOff x="6934320" y="3809880"/>
            <a:chExt cx="838080" cy="304920"/>
          </a:xfrm>
        </p:grpSpPr>
        <p:sp>
          <p:nvSpPr>
            <p:cNvPr id="630" name=""/>
            <p:cNvSpPr/>
            <p:nvPr/>
          </p:nvSpPr>
          <p:spPr>
            <a:xfrm>
              <a:off x="69343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629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915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162920" y="3809880"/>
            <a:ext cx="609480" cy="304920"/>
            <a:chOff x="7162920" y="3809880"/>
            <a:chExt cx="609480" cy="304920"/>
          </a:xfrm>
        </p:grpSpPr>
        <p:sp>
          <p:nvSpPr>
            <p:cNvPr id="635" name=""/>
            <p:cNvSpPr/>
            <p:nvPr/>
          </p:nvSpPr>
          <p:spPr>
            <a:xfrm>
              <a:off x="71629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915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201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391520" y="3809880"/>
            <a:ext cx="380880" cy="304920"/>
            <a:chOff x="7391520" y="3809880"/>
            <a:chExt cx="380880" cy="304920"/>
          </a:xfrm>
        </p:grpSpPr>
        <p:sp>
          <p:nvSpPr>
            <p:cNvPr id="639" name=""/>
            <p:cNvSpPr/>
            <p:nvPr/>
          </p:nvSpPr>
          <p:spPr>
            <a:xfrm>
              <a:off x="73915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20120" y="380988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7620120" y="3809880"/>
            <a:ext cx="15228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772400" y="2743200"/>
            <a:ext cx="304920" cy="1371600"/>
            <a:chOff x="7772400" y="2743200"/>
            <a:chExt cx="304920" cy="1371600"/>
          </a:xfrm>
        </p:grpSpPr>
        <p:sp>
          <p:nvSpPr>
            <p:cNvPr id="643" name=""/>
            <p:cNvSpPr/>
            <p:nvPr/>
          </p:nvSpPr>
          <p:spPr>
            <a:xfrm>
              <a:off x="7772400" y="2743200"/>
              <a:ext cx="304920" cy="13716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31080" y="2808360"/>
              <a:ext cx="184320" cy="32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332120" y="2836440"/>
            <a:ext cx="1185840" cy="1185840"/>
            <a:chOff x="7332120" y="2836440"/>
            <a:chExt cx="1185840" cy="1185840"/>
          </a:xfrm>
        </p:grpSpPr>
        <p:sp>
          <p:nvSpPr>
            <p:cNvPr id="646" name=""/>
            <p:cNvSpPr/>
            <p:nvPr/>
          </p:nvSpPr>
          <p:spPr>
            <a:xfrm>
              <a:off x="7332120" y="2836440"/>
              <a:ext cx="1185840" cy="1185840"/>
            </a:xfrm>
            <a:custGeom>
              <a:avLst/>
              <a:gdLst/>
              <a:ahLst/>
              <a:rect l="0" t="0" r="r" b="b"/>
              <a:pathLst>
                <a:path w="3294" h="3294">
                  <a:moveTo>
                    <a:pt x="2696" y="0"/>
                  </a:moveTo>
                  <a:lnTo>
                    <a:pt x="0" y="2696"/>
                  </a:lnTo>
                  <a:lnTo>
                    <a:pt x="598" y="3294"/>
                  </a:lnTo>
                  <a:lnTo>
                    <a:pt x="3294" y="598"/>
                  </a:lnTo>
                  <a:lnTo>
                    <a:pt x="2696" y="0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66520" y="2924280"/>
              <a:ext cx="361800" cy="361800"/>
            </a:xfrm>
            <a:custGeom>
              <a:avLst/>
              <a:gdLst/>
              <a:ahLst/>
              <a:rect l="0" t="0" r="r" b="b"/>
              <a:pathLst>
                <a:path w="1005" h="1005">
                  <a:moveTo>
                    <a:pt x="643" y="0"/>
                  </a:moveTo>
                  <a:lnTo>
                    <a:pt x="0" y="643"/>
                  </a:lnTo>
                  <a:lnTo>
                    <a:pt x="361" y="1005"/>
                  </a:lnTo>
                  <a:lnTo>
                    <a:pt x="1005" y="361"/>
                  </a:lnTo>
                  <a:lnTo>
                    <a:pt x="643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620120" y="3276720"/>
            <a:ext cx="1371600" cy="304920"/>
            <a:chOff x="7620120" y="3276720"/>
            <a:chExt cx="1371600" cy="304920"/>
          </a:xfrm>
        </p:grpSpPr>
        <p:sp>
          <p:nvSpPr>
            <p:cNvPr id="649" name=""/>
            <p:cNvSpPr/>
            <p:nvPr/>
          </p:nvSpPr>
          <p:spPr>
            <a:xfrm>
              <a:off x="7620120" y="3276720"/>
              <a:ext cx="1371600" cy="3049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599320" y="3335400"/>
              <a:ext cx="326880" cy="184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P Forwarding with 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441360" y="1203480"/>
            <a:ext cx="8396280" cy="4070520"/>
            <a:chOff x="441360" y="1203480"/>
            <a:chExt cx="8396280" cy="4070520"/>
          </a:xfrm>
        </p:grpSpPr>
        <p:sp>
          <p:nvSpPr>
            <p:cNvPr id="653" name=""/>
            <p:cNvSpPr txBox="1"/>
            <p:nvPr/>
          </p:nvSpPr>
          <p:spPr>
            <a:xfrm>
              <a:off x="441360" y="469440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70760" y="441972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3121200" y="1905120"/>
              <a:ext cx="3048120" cy="3048120"/>
              <a:chOff x="3121200" y="1905120"/>
              <a:chExt cx="3048120" cy="3048120"/>
            </a:xfrm>
          </p:grpSpPr>
          <p:sp>
            <p:nvSpPr>
              <p:cNvPr id="656" name=""/>
              <p:cNvSpPr/>
              <p:nvPr/>
            </p:nvSpPr>
            <p:spPr>
              <a:xfrm>
                <a:off x="3121200" y="1905120"/>
                <a:ext cx="3048120" cy="3048120"/>
              </a:xfrm>
              <a:prstGeom prst="rect">
                <a:avLst/>
              </a:prstGeom>
              <a:solidFill>
                <a:srgbClr val="83d8fe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3259080" y="1951200"/>
                <a:ext cx="2768760" cy="2849400"/>
                <a:chOff x="3259080" y="1951200"/>
                <a:chExt cx="2768760" cy="28494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274920" y="3581280"/>
                  <a:ext cx="2743200" cy="1219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274920" y="2057400"/>
                  <a:ext cx="2743200" cy="1219320"/>
                </a:xfrm>
                <a:prstGeom prst="rect">
                  <a:avLst/>
                </a:prstGeom>
                <a:solidFill>
                  <a:srgbClr val="ff66ff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 txBox="1"/>
                <p:nvPr/>
              </p:nvSpPr>
              <p:spPr>
                <a:xfrm>
                  <a:off x="3411360" y="1951200"/>
                  <a:ext cx="23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P processing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 txBox="1"/>
                <p:nvPr/>
              </p:nvSpPr>
              <p:spPr>
                <a:xfrm>
                  <a:off x="3259080" y="3475080"/>
                  <a:ext cx="2768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TM switching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2" name=""/>
            <p:cNvSpPr/>
            <p:nvPr/>
          </p:nvSpPr>
          <p:spPr>
            <a:xfrm>
              <a:off x="7770960" y="3657600"/>
              <a:ext cx="1066680" cy="1066680"/>
            </a:xfrm>
            <a:prstGeom prst="rect">
              <a:avLst/>
            </a:prstGeom>
            <a:solidFill>
              <a:srgbClr val="83d8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>
              <a:off x="7831080" y="469440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>
              <a:off x="3868560" y="1203480"/>
              <a:ext cx="13017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22440" y="434340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903320" y="3352680"/>
              <a:ext cx="762120" cy="167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55760" y="3657600"/>
              <a:ext cx="1066680" cy="1066680"/>
            </a:xfrm>
            <a:prstGeom prst="rect">
              <a:avLst/>
            </a:prstGeom>
            <a:solidFill>
              <a:srgbClr val="83d8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3429000"/>
              <a:ext cx="762120" cy="167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1523880" y="3124080"/>
            <a:ext cx="6324840" cy="1143360"/>
          </a:xfrm>
          <a:custGeom>
            <a:avLst/>
            <a:gdLst/>
            <a:ahLst/>
            <a:rect l="0" t="0" r="r" b="b"/>
            <a:pathLst>
              <a:path fill="none" w="17569" h="3176">
                <a:moveTo>
                  <a:pt x="0" y="2964"/>
                </a:moveTo>
                <a:lnTo>
                  <a:pt x="4656" y="2964"/>
                </a:lnTo>
                <a:lnTo>
                  <a:pt x="4656" y="0"/>
                </a:lnTo>
                <a:lnTo>
                  <a:pt x="12701" y="0"/>
                </a:lnTo>
                <a:lnTo>
                  <a:pt x="12701" y="3176"/>
                </a:lnTo>
                <a:lnTo>
                  <a:pt x="17569" y="3176"/>
                </a:lnTo>
              </a:path>
            </a:pathLst>
          </a:custGeom>
          <a:ln w="127080">
            <a:solidFill>
              <a:srgbClr val="fc0128"/>
            </a:solidFill>
            <a:round/>
            <a:tailEnd len="med" type="triangle" w="med"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71400" y="5456160"/>
            <a:ext cx="745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&lt; Hop-Hop Mode =&gt; Cut-thru Mode &gt;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24040" y="1676520"/>
            <a:ext cx="7842240" cy="1904760"/>
            <a:chOff x="824040" y="1676520"/>
            <a:chExt cx="7842240" cy="1904760"/>
          </a:xfrm>
        </p:grpSpPr>
        <p:sp>
          <p:nvSpPr>
            <p:cNvPr id="672" name=""/>
            <p:cNvSpPr/>
            <p:nvPr/>
          </p:nvSpPr>
          <p:spPr>
            <a:xfrm flipV="1">
              <a:off x="1295280" y="1676520"/>
              <a:ext cx="1905120" cy="182880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6172200" y="1676520"/>
              <a:ext cx="2057400" cy="190476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824040" y="219384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6310440" y="227016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824040" y="1676520"/>
            <a:ext cx="7842240" cy="1904760"/>
            <a:chOff x="824040" y="1676520"/>
            <a:chExt cx="7842240" cy="1904760"/>
          </a:xfrm>
        </p:grpSpPr>
        <p:sp>
          <p:nvSpPr>
            <p:cNvPr id="677" name=""/>
            <p:cNvSpPr/>
            <p:nvPr/>
          </p:nvSpPr>
          <p:spPr>
            <a:xfrm flipV="1">
              <a:off x="1295280" y="1676520"/>
              <a:ext cx="1905120" cy="182880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6172200" y="1676520"/>
              <a:ext cx="2057400" cy="190476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 txBox="1"/>
            <p:nvPr/>
          </p:nvSpPr>
          <p:spPr>
            <a:xfrm>
              <a:off x="824040" y="219384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6310440" y="227016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824040" y="1676520"/>
            <a:ext cx="7842240" cy="1904760"/>
            <a:chOff x="824040" y="1676520"/>
            <a:chExt cx="7842240" cy="1904760"/>
          </a:xfrm>
        </p:grpSpPr>
        <p:sp>
          <p:nvSpPr>
            <p:cNvPr id="682" name=""/>
            <p:cNvSpPr/>
            <p:nvPr/>
          </p:nvSpPr>
          <p:spPr>
            <a:xfrm flipV="1">
              <a:off x="1295280" y="1676520"/>
              <a:ext cx="1905120" cy="182880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6172200" y="1676520"/>
              <a:ext cx="2057400" cy="190476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824040" y="219384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6310440" y="227016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P Forwarding with 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41360" y="4694400"/>
            <a:ext cx="952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170760" y="44197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121200" y="1905120"/>
            <a:ext cx="3048120" cy="3048120"/>
          </a:xfrm>
          <a:prstGeom prst="rect">
            <a:avLst/>
          </a:prstGeom>
          <a:solidFill>
            <a:srgbClr val="83d8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274920" y="3581280"/>
            <a:ext cx="2743200" cy="1219320"/>
          </a:xfrm>
          <a:prstGeom prst="rect">
            <a:avLst/>
          </a:prstGeom>
          <a:solidFill>
            <a:srgbClr val="ff66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274920" y="2057400"/>
            <a:ext cx="2743200" cy="12193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411360" y="1951200"/>
            <a:ext cx="2386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259080" y="3475080"/>
            <a:ext cx="2768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M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770960" y="3657600"/>
            <a:ext cx="1066680" cy="1066680"/>
          </a:xfrm>
          <a:prstGeom prst="rect">
            <a:avLst/>
          </a:prstGeom>
          <a:solidFill>
            <a:srgbClr val="83d8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7831080" y="4694400"/>
            <a:ext cx="952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68560" y="1203480"/>
            <a:ext cx="1301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522440" y="43434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03320" y="3352680"/>
            <a:ext cx="762120" cy="1676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55760" y="3657600"/>
            <a:ext cx="1066680" cy="1066680"/>
          </a:xfrm>
          <a:prstGeom prst="rect">
            <a:avLst/>
          </a:prstGeom>
          <a:solidFill>
            <a:srgbClr val="83d8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29400" y="3429000"/>
            <a:ext cx="762120" cy="1676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822240" y="5456160"/>
            <a:ext cx="734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&lt; Cut-thru packet forwarding mode 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3120" y="4495680"/>
            <a:ext cx="8763120" cy="0"/>
          </a:xfrm>
          <a:prstGeom prst="line">
            <a:avLst/>
          </a:prstGeom>
          <a:ln w="127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3360" rIns="153360" tIns="-108360" bIns="-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3962520"/>
            <a:ext cx="15228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28600" y="3962520"/>
            <a:ext cx="380880" cy="304920"/>
            <a:chOff x="228600" y="3962520"/>
            <a:chExt cx="380880" cy="304920"/>
          </a:xfrm>
        </p:grpSpPr>
        <p:sp>
          <p:nvSpPr>
            <p:cNvPr id="705" name=""/>
            <p:cNvSpPr/>
            <p:nvPr/>
          </p:nvSpPr>
          <p:spPr>
            <a:xfrm>
              <a:off x="228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57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28600" y="3962520"/>
            <a:ext cx="609480" cy="304920"/>
            <a:chOff x="228600" y="3962520"/>
            <a:chExt cx="609480" cy="304920"/>
          </a:xfrm>
        </p:grpSpPr>
        <p:sp>
          <p:nvSpPr>
            <p:cNvPr id="708" name=""/>
            <p:cNvSpPr/>
            <p:nvPr/>
          </p:nvSpPr>
          <p:spPr>
            <a:xfrm>
              <a:off x="228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7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5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28600" y="3962520"/>
            <a:ext cx="838080" cy="304920"/>
            <a:chOff x="228600" y="3962520"/>
            <a:chExt cx="838080" cy="304920"/>
          </a:xfrm>
        </p:grpSpPr>
        <p:sp>
          <p:nvSpPr>
            <p:cNvPr id="712" name=""/>
            <p:cNvSpPr/>
            <p:nvPr/>
          </p:nvSpPr>
          <p:spPr>
            <a:xfrm>
              <a:off x="228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7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5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14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28600" y="3962520"/>
            <a:ext cx="1066680" cy="304920"/>
            <a:chOff x="228600" y="3962520"/>
            <a:chExt cx="1066680" cy="304920"/>
          </a:xfrm>
        </p:grpSpPr>
        <p:sp>
          <p:nvSpPr>
            <p:cNvPr id="717" name=""/>
            <p:cNvSpPr/>
            <p:nvPr/>
          </p:nvSpPr>
          <p:spPr>
            <a:xfrm>
              <a:off x="228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7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5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14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430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28600" y="3962520"/>
            <a:ext cx="1295280" cy="304920"/>
            <a:chOff x="228600" y="3962520"/>
            <a:chExt cx="1295280" cy="304920"/>
          </a:xfrm>
        </p:grpSpPr>
        <p:grpSp>
          <p:nvGrpSpPr>
            <p:cNvPr id="723" name=""/>
            <p:cNvGrpSpPr/>
            <p:nvPr/>
          </p:nvGrpSpPr>
          <p:grpSpPr>
            <a:xfrm>
              <a:off x="228600" y="3962520"/>
              <a:ext cx="1066680" cy="304920"/>
              <a:chOff x="228600" y="3962520"/>
              <a:chExt cx="1066680" cy="304920"/>
            </a:xfrm>
          </p:grpSpPr>
          <p:sp>
            <p:nvSpPr>
              <p:cNvPr id="724" name=""/>
              <p:cNvSpPr/>
              <p:nvPr/>
            </p:nvSpPr>
            <p:spPr>
              <a:xfrm>
                <a:off x="2286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572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5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144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1430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1371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228600" y="3962520"/>
            <a:ext cx="1523880" cy="304920"/>
            <a:chOff x="228600" y="3962520"/>
            <a:chExt cx="1523880" cy="304920"/>
          </a:xfrm>
        </p:grpSpPr>
        <p:sp>
          <p:nvSpPr>
            <p:cNvPr id="731" name=""/>
            <p:cNvSpPr/>
            <p:nvPr/>
          </p:nvSpPr>
          <p:spPr>
            <a:xfrm>
              <a:off x="1600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28600" y="3962520"/>
              <a:ext cx="1295280" cy="304920"/>
              <a:chOff x="228600" y="3962520"/>
              <a:chExt cx="1295280" cy="304920"/>
            </a:xfrm>
          </p:grpSpPr>
          <p:grpSp>
            <p:nvGrpSpPr>
              <p:cNvPr id="733" name=""/>
              <p:cNvGrpSpPr/>
              <p:nvPr/>
            </p:nvGrpSpPr>
            <p:grpSpPr>
              <a:xfrm>
                <a:off x="228600" y="3962520"/>
                <a:ext cx="1066680" cy="304920"/>
                <a:chOff x="228600" y="3962520"/>
                <a:chExt cx="1066680" cy="3049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286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572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858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9144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1430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"/>
              <p:cNvSpPr/>
              <p:nvPr/>
            </p:nvSpPr>
            <p:spPr>
              <a:xfrm>
                <a:off x="13716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0" name=""/>
          <p:cNvGrpSpPr/>
          <p:nvPr/>
        </p:nvGrpSpPr>
        <p:grpSpPr>
          <a:xfrm>
            <a:off x="228600" y="3962520"/>
            <a:ext cx="1752480" cy="304920"/>
            <a:chOff x="228600" y="3962520"/>
            <a:chExt cx="1752480" cy="304920"/>
          </a:xfrm>
        </p:grpSpPr>
        <p:grpSp>
          <p:nvGrpSpPr>
            <p:cNvPr id="741" name=""/>
            <p:cNvGrpSpPr/>
            <p:nvPr/>
          </p:nvGrpSpPr>
          <p:grpSpPr>
            <a:xfrm>
              <a:off x="228600" y="3962520"/>
              <a:ext cx="1523880" cy="304920"/>
              <a:chOff x="228600" y="3962520"/>
              <a:chExt cx="1523880" cy="304920"/>
            </a:xfrm>
          </p:grpSpPr>
          <p:sp>
            <p:nvSpPr>
              <p:cNvPr id="742" name=""/>
              <p:cNvSpPr/>
              <p:nvPr/>
            </p:nvSpPr>
            <p:spPr>
              <a:xfrm>
                <a:off x="16002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228600" y="3962520"/>
                <a:ext cx="1295280" cy="304920"/>
                <a:chOff x="228600" y="3962520"/>
                <a:chExt cx="1295280" cy="304920"/>
              </a:xfrm>
            </p:grpSpPr>
            <p:grpSp>
              <p:nvGrpSpPr>
                <p:cNvPr id="744" name=""/>
                <p:cNvGrpSpPr/>
                <p:nvPr/>
              </p:nvGrpSpPr>
              <p:grpSpPr>
                <a:xfrm>
                  <a:off x="228600" y="3962520"/>
                  <a:ext cx="1066680" cy="304920"/>
                  <a:chOff x="228600" y="3962520"/>
                  <a:chExt cx="1066680" cy="30492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228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57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85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914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143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0" name=""/>
                <p:cNvSpPr/>
                <p:nvPr/>
              </p:nvSpPr>
              <p:spPr>
                <a:xfrm>
                  <a:off x="13716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1" name=""/>
            <p:cNvSpPr/>
            <p:nvPr/>
          </p:nvSpPr>
          <p:spPr>
            <a:xfrm>
              <a:off x="1828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57200" y="3962520"/>
            <a:ext cx="1752480" cy="304920"/>
            <a:chOff x="457200" y="3962520"/>
            <a:chExt cx="1752480" cy="304920"/>
          </a:xfrm>
        </p:grpSpPr>
        <p:grpSp>
          <p:nvGrpSpPr>
            <p:cNvPr id="753" name=""/>
            <p:cNvGrpSpPr/>
            <p:nvPr/>
          </p:nvGrpSpPr>
          <p:grpSpPr>
            <a:xfrm>
              <a:off x="457200" y="3962520"/>
              <a:ext cx="1523880" cy="304920"/>
              <a:chOff x="457200" y="3962520"/>
              <a:chExt cx="1523880" cy="304920"/>
            </a:xfrm>
          </p:grpSpPr>
          <p:sp>
            <p:nvSpPr>
              <p:cNvPr id="754" name=""/>
              <p:cNvSpPr/>
              <p:nvPr/>
            </p:nvSpPr>
            <p:spPr>
              <a:xfrm>
                <a:off x="1828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457200" y="3962520"/>
                <a:ext cx="1295280" cy="304920"/>
                <a:chOff x="457200" y="3962520"/>
                <a:chExt cx="1295280" cy="304920"/>
              </a:xfrm>
            </p:grpSpPr>
            <p:grpSp>
              <p:nvGrpSpPr>
                <p:cNvPr id="756" name=""/>
                <p:cNvGrpSpPr/>
                <p:nvPr/>
              </p:nvGrpSpPr>
              <p:grpSpPr>
                <a:xfrm>
                  <a:off x="457200" y="3962520"/>
                  <a:ext cx="1066680" cy="304920"/>
                  <a:chOff x="457200" y="3962520"/>
                  <a:chExt cx="1066680" cy="30492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>
                    <a:off x="457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85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914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143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371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6002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"/>
            <p:cNvSpPr/>
            <p:nvPr/>
          </p:nvSpPr>
          <p:spPr>
            <a:xfrm>
              <a:off x="2057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85800" y="3962520"/>
            <a:ext cx="1752480" cy="304920"/>
            <a:chOff x="685800" y="3962520"/>
            <a:chExt cx="1752480" cy="304920"/>
          </a:xfrm>
        </p:grpSpPr>
        <p:grpSp>
          <p:nvGrpSpPr>
            <p:cNvPr id="765" name=""/>
            <p:cNvGrpSpPr/>
            <p:nvPr/>
          </p:nvGrpSpPr>
          <p:grpSpPr>
            <a:xfrm>
              <a:off x="685800" y="3962520"/>
              <a:ext cx="1523880" cy="304920"/>
              <a:chOff x="685800" y="3962520"/>
              <a:chExt cx="1523880" cy="304920"/>
            </a:xfrm>
          </p:grpSpPr>
          <p:sp>
            <p:nvSpPr>
              <p:cNvPr id="766" name=""/>
              <p:cNvSpPr/>
              <p:nvPr/>
            </p:nvSpPr>
            <p:spPr>
              <a:xfrm>
                <a:off x="20574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685800" y="3962520"/>
                <a:ext cx="1295280" cy="304920"/>
                <a:chOff x="685800" y="3962520"/>
                <a:chExt cx="1295280" cy="30492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685800" y="3962520"/>
                  <a:ext cx="1066680" cy="304920"/>
                  <a:chOff x="685800" y="3962520"/>
                  <a:chExt cx="1066680" cy="30492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685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914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143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1371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1600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4" name=""/>
                <p:cNvSpPr/>
                <p:nvPr/>
              </p:nvSpPr>
              <p:spPr>
                <a:xfrm>
                  <a:off x="18288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5" name=""/>
            <p:cNvSpPr/>
            <p:nvPr/>
          </p:nvSpPr>
          <p:spPr>
            <a:xfrm>
              <a:off x="22860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914400" y="3962520"/>
            <a:ext cx="1752480" cy="304920"/>
            <a:chOff x="914400" y="3962520"/>
            <a:chExt cx="1752480" cy="304920"/>
          </a:xfrm>
        </p:grpSpPr>
        <p:grpSp>
          <p:nvGrpSpPr>
            <p:cNvPr id="777" name=""/>
            <p:cNvGrpSpPr/>
            <p:nvPr/>
          </p:nvGrpSpPr>
          <p:grpSpPr>
            <a:xfrm>
              <a:off x="914400" y="3962520"/>
              <a:ext cx="1523880" cy="304920"/>
              <a:chOff x="914400" y="3962520"/>
              <a:chExt cx="1523880" cy="304920"/>
            </a:xfrm>
          </p:grpSpPr>
          <p:sp>
            <p:nvSpPr>
              <p:cNvPr id="778" name=""/>
              <p:cNvSpPr/>
              <p:nvPr/>
            </p:nvSpPr>
            <p:spPr>
              <a:xfrm>
                <a:off x="22860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914400" y="3962520"/>
                <a:ext cx="1295280" cy="304920"/>
                <a:chOff x="914400" y="3962520"/>
                <a:chExt cx="1295280" cy="30492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914400" y="3962520"/>
                  <a:ext cx="1066680" cy="304920"/>
                  <a:chOff x="914400" y="3962520"/>
                  <a:chExt cx="1066680" cy="30492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>
                    <a:off x="914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1143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371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1600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1828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6" name=""/>
                <p:cNvSpPr/>
                <p:nvPr/>
              </p:nvSpPr>
              <p:spPr>
                <a:xfrm>
                  <a:off x="20574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7" name=""/>
            <p:cNvSpPr/>
            <p:nvPr/>
          </p:nvSpPr>
          <p:spPr>
            <a:xfrm>
              <a:off x="2514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143000" y="3962520"/>
            <a:ext cx="1752480" cy="304920"/>
            <a:chOff x="1143000" y="3962520"/>
            <a:chExt cx="1752480" cy="304920"/>
          </a:xfrm>
        </p:grpSpPr>
        <p:grpSp>
          <p:nvGrpSpPr>
            <p:cNvPr id="789" name=""/>
            <p:cNvGrpSpPr/>
            <p:nvPr/>
          </p:nvGrpSpPr>
          <p:grpSpPr>
            <a:xfrm>
              <a:off x="1143000" y="3962520"/>
              <a:ext cx="1523880" cy="304920"/>
              <a:chOff x="1143000" y="3962520"/>
              <a:chExt cx="1523880" cy="304920"/>
            </a:xfrm>
          </p:grpSpPr>
          <p:sp>
            <p:nvSpPr>
              <p:cNvPr id="790" name=""/>
              <p:cNvSpPr/>
              <p:nvPr/>
            </p:nvSpPr>
            <p:spPr>
              <a:xfrm>
                <a:off x="25146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1143000" y="3962520"/>
                <a:ext cx="1295280" cy="304920"/>
                <a:chOff x="1143000" y="3962520"/>
                <a:chExt cx="1295280" cy="3049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1143000" y="3962520"/>
                  <a:ext cx="1066680" cy="304920"/>
                  <a:chOff x="1143000" y="3962520"/>
                  <a:chExt cx="1066680" cy="30492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1143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371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600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1828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057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8" name=""/>
                <p:cNvSpPr/>
                <p:nvPr/>
              </p:nvSpPr>
              <p:spPr>
                <a:xfrm>
                  <a:off x="22860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9" name=""/>
            <p:cNvSpPr/>
            <p:nvPr/>
          </p:nvSpPr>
          <p:spPr>
            <a:xfrm>
              <a:off x="2743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371600" y="3962520"/>
            <a:ext cx="1752480" cy="304920"/>
            <a:chOff x="1371600" y="3962520"/>
            <a:chExt cx="1752480" cy="304920"/>
          </a:xfrm>
        </p:grpSpPr>
        <p:grpSp>
          <p:nvGrpSpPr>
            <p:cNvPr id="801" name=""/>
            <p:cNvGrpSpPr/>
            <p:nvPr/>
          </p:nvGrpSpPr>
          <p:grpSpPr>
            <a:xfrm>
              <a:off x="1371600" y="3962520"/>
              <a:ext cx="1523880" cy="304920"/>
              <a:chOff x="1371600" y="3962520"/>
              <a:chExt cx="1523880" cy="304920"/>
            </a:xfrm>
          </p:grpSpPr>
          <p:sp>
            <p:nvSpPr>
              <p:cNvPr id="802" name=""/>
              <p:cNvSpPr/>
              <p:nvPr/>
            </p:nvSpPr>
            <p:spPr>
              <a:xfrm>
                <a:off x="27432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1371600" y="3962520"/>
                <a:ext cx="1295280" cy="304920"/>
                <a:chOff x="1371600" y="3962520"/>
                <a:chExt cx="1295280" cy="304920"/>
              </a:xfrm>
            </p:grpSpPr>
            <p:grpSp>
              <p:nvGrpSpPr>
                <p:cNvPr id="804" name=""/>
                <p:cNvGrpSpPr/>
                <p:nvPr/>
              </p:nvGrpSpPr>
              <p:grpSpPr>
                <a:xfrm>
                  <a:off x="1371600" y="3962520"/>
                  <a:ext cx="1066680" cy="304920"/>
                  <a:chOff x="1371600" y="3962520"/>
                  <a:chExt cx="1066680" cy="30492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1371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1600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1828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057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286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0" name=""/>
                <p:cNvSpPr/>
                <p:nvPr/>
              </p:nvSpPr>
              <p:spPr>
                <a:xfrm>
                  <a:off x="25146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1" name=""/>
            <p:cNvSpPr/>
            <p:nvPr/>
          </p:nvSpPr>
          <p:spPr>
            <a:xfrm>
              <a:off x="2971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600200" y="3962520"/>
            <a:ext cx="1752480" cy="304920"/>
            <a:chOff x="1600200" y="3962520"/>
            <a:chExt cx="1752480" cy="304920"/>
          </a:xfrm>
        </p:grpSpPr>
        <p:grpSp>
          <p:nvGrpSpPr>
            <p:cNvPr id="813" name=""/>
            <p:cNvGrpSpPr/>
            <p:nvPr/>
          </p:nvGrpSpPr>
          <p:grpSpPr>
            <a:xfrm>
              <a:off x="1600200" y="3962520"/>
              <a:ext cx="1523880" cy="304920"/>
              <a:chOff x="1600200" y="3962520"/>
              <a:chExt cx="1523880" cy="304920"/>
            </a:xfrm>
          </p:grpSpPr>
          <p:sp>
            <p:nvSpPr>
              <p:cNvPr id="814" name=""/>
              <p:cNvSpPr/>
              <p:nvPr/>
            </p:nvSpPr>
            <p:spPr>
              <a:xfrm>
                <a:off x="2971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1600200" y="3962520"/>
                <a:ext cx="1295280" cy="304920"/>
                <a:chOff x="1600200" y="3962520"/>
                <a:chExt cx="1295280" cy="30492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1600200" y="3962520"/>
                  <a:ext cx="1066680" cy="304920"/>
                  <a:chOff x="1600200" y="3962520"/>
                  <a:chExt cx="1066680" cy="30492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1600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828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057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286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514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"/>
                <p:cNvSpPr/>
                <p:nvPr/>
              </p:nvSpPr>
              <p:spPr>
                <a:xfrm>
                  <a:off x="27432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3" name=""/>
            <p:cNvSpPr/>
            <p:nvPr/>
          </p:nvSpPr>
          <p:spPr>
            <a:xfrm>
              <a:off x="3200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828800" y="3962520"/>
            <a:ext cx="1752480" cy="304920"/>
            <a:chOff x="1828800" y="3962520"/>
            <a:chExt cx="1752480" cy="304920"/>
          </a:xfrm>
        </p:grpSpPr>
        <p:grpSp>
          <p:nvGrpSpPr>
            <p:cNvPr id="825" name=""/>
            <p:cNvGrpSpPr/>
            <p:nvPr/>
          </p:nvGrpSpPr>
          <p:grpSpPr>
            <a:xfrm>
              <a:off x="1828800" y="3962520"/>
              <a:ext cx="1523880" cy="304920"/>
              <a:chOff x="1828800" y="3962520"/>
              <a:chExt cx="1523880" cy="304920"/>
            </a:xfrm>
          </p:grpSpPr>
          <p:sp>
            <p:nvSpPr>
              <p:cNvPr id="826" name=""/>
              <p:cNvSpPr/>
              <p:nvPr/>
            </p:nvSpPr>
            <p:spPr>
              <a:xfrm>
                <a:off x="32004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1828800" y="3962520"/>
                <a:ext cx="1295280" cy="304920"/>
                <a:chOff x="1828800" y="3962520"/>
                <a:chExt cx="1295280" cy="304920"/>
              </a:xfrm>
            </p:grpSpPr>
            <p:grpSp>
              <p:nvGrpSpPr>
                <p:cNvPr id="828" name=""/>
                <p:cNvGrpSpPr/>
                <p:nvPr/>
              </p:nvGrpSpPr>
              <p:grpSpPr>
                <a:xfrm>
                  <a:off x="1828800" y="3962520"/>
                  <a:ext cx="1066680" cy="304920"/>
                  <a:chOff x="1828800" y="3962520"/>
                  <a:chExt cx="1066680" cy="30492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1828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057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286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514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743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4" name=""/>
                <p:cNvSpPr/>
                <p:nvPr/>
              </p:nvSpPr>
              <p:spPr>
                <a:xfrm>
                  <a:off x="29718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5" name=""/>
            <p:cNvSpPr/>
            <p:nvPr/>
          </p:nvSpPr>
          <p:spPr>
            <a:xfrm>
              <a:off x="34290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057400" y="3962520"/>
            <a:ext cx="1752480" cy="304920"/>
            <a:chOff x="2057400" y="3962520"/>
            <a:chExt cx="1752480" cy="304920"/>
          </a:xfrm>
        </p:grpSpPr>
        <p:grpSp>
          <p:nvGrpSpPr>
            <p:cNvPr id="837" name=""/>
            <p:cNvGrpSpPr/>
            <p:nvPr/>
          </p:nvGrpSpPr>
          <p:grpSpPr>
            <a:xfrm>
              <a:off x="2057400" y="3962520"/>
              <a:ext cx="1523880" cy="304920"/>
              <a:chOff x="2057400" y="3962520"/>
              <a:chExt cx="1523880" cy="304920"/>
            </a:xfrm>
          </p:grpSpPr>
          <p:sp>
            <p:nvSpPr>
              <p:cNvPr id="838" name=""/>
              <p:cNvSpPr/>
              <p:nvPr/>
            </p:nvSpPr>
            <p:spPr>
              <a:xfrm>
                <a:off x="34290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2057400" y="3962520"/>
                <a:ext cx="1295280" cy="304920"/>
                <a:chOff x="2057400" y="3962520"/>
                <a:chExt cx="1295280" cy="304920"/>
              </a:xfrm>
            </p:grpSpPr>
            <p:grpSp>
              <p:nvGrpSpPr>
                <p:cNvPr id="840" name=""/>
                <p:cNvGrpSpPr/>
                <p:nvPr/>
              </p:nvGrpSpPr>
              <p:grpSpPr>
                <a:xfrm>
                  <a:off x="2057400" y="3962520"/>
                  <a:ext cx="1066680" cy="304920"/>
                  <a:chOff x="2057400" y="3962520"/>
                  <a:chExt cx="1066680" cy="30492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>
                    <a:off x="2057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286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514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743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971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>
                  <a:off x="32004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7" name=""/>
            <p:cNvSpPr/>
            <p:nvPr/>
          </p:nvSpPr>
          <p:spPr>
            <a:xfrm>
              <a:off x="3657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86000" y="3962520"/>
            <a:ext cx="1752480" cy="304920"/>
            <a:chOff x="2286000" y="3962520"/>
            <a:chExt cx="1752480" cy="304920"/>
          </a:xfrm>
        </p:grpSpPr>
        <p:grpSp>
          <p:nvGrpSpPr>
            <p:cNvPr id="849" name=""/>
            <p:cNvGrpSpPr/>
            <p:nvPr/>
          </p:nvGrpSpPr>
          <p:grpSpPr>
            <a:xfrm>
              <a:off x="2286000" y="3962520"/>
              <a:ext cx="1523880" cy="304920"/>
              <a:chOff x="2286000" y="3962520"/>
              <a:chExt cx="1523880" cy="304920"/>
            </a:xfrm>
          </p:grpSpPr>
          <p:sp>
            <p:nvSpPr>
              <p:cNvPr id="850" name=""/>
              <p:cNvSpPr/>
              <p:nvPr/>
            </p:nvSpPr>
            <p:spPr>
              <a:xfrm>
                <a:off x="36576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2286000" y="3962520"/>
                <a:ext cx="1295280" cy="304920"/>
                <a:chOff x="2286000" y="3962520"/>
                <a:chExt cx="1295280" cy="304920"/>
              </a:xfrm>
            </p:grpSpPr>
            <p:grpSp>
              <p:nvGrpSpPr>
                <p:cNvPr id="852" name=""/>
                <p:cNvGrpSpPr/>
                <p:nvPr/>
              </p:nvGrpSpPr>
              <p:grpSpPr>
                <a:xfrm>
                  <a:off x="2286000" y="3962520"/>
                  <a:ext cx="1066680" cy="304920"/>
                  <a:chOff x="2286000" y="3962520"/>
                  <a:chExt cx="1066680" cy="30492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2286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514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743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971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3200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8" name=""/>
                <p:cNvSpPr/>
                <p:nvPr/>
              </p:nvSpPr>
              <p:spPr>
                <a:xfrm>
                  <a:off x="34290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9" name=""/>
            <p:cNvSpPr/>
            <p:nvPr/>
          </p:nvSpPr>
          <p:spPr>
            <a:xfrm>
              <a:off x="3886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2514600" y="3962520"/>
            <a:ext cx="1752480" cy="304920"/>
            <a:chOff x="2514600" y="3962520"/>
            <a:chExt cx="1752480" cy="304920"/>
          </a:xfrm>
        </p:grpSpPr>
        <p:grpSp>
          <p:nvGrpSpPr>
            <p:cNvPr id="861" name=""/>
            <p:cNvGrpSpPr/>
            <p:nvPr/>
          </p:nvGrpSpPr>
          <p:grpSpPr>
            <a:xfrm>
              <a:off x="2514600" y="3962520"/>
              <a:ext cx="1523880" cy="304920"/>
              <a:chOff x="2514600" y="3962520"/>
              <a:chExt cx="1523880" cy="304920"/>
            </a:xfrm>
          </p:grpSpPr>
          <p:sp>
            <p:nvSpPr>
              <p:cNvPr id="862" name=""/>
              <p:cNvSpPr/>
              <p:nvPr/>
            </p:nvSpPr>
            <p:spPr>
              <a:xfrm>
                <a:off x="38862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"/>
              <p:cNvGrpSpPr/>
              <p:nvPr/>
            </p:nvGrpSpPr>
            <p:grpSpPr>
              <a:xfrm>
                <a:off x="2514600" y="3962520"/>
                <a:ext cx="1295280" cy="304920"/>
                <a:chOff x="2514600" y="3962520"/>
                <a:chExt cx="1295280" cy="304920"/>
              </a:xfrm>
            </p:grpSpPr>
            <p:grpSp>
              <p:nvGrpSpPr>
                <p:cNvPr id="864" name=""/>
                <p:cNvGrpSpPr/>
                <p:nvPr/>
              </p:nvGrpSpPr>
              <p:grpSpPr>
                <a:xfrm>
                  <a:off x="2514600" y="3962520"/>
                  <a:ext cx="1066680" cy="304920"/>
                  <a:chOff x="2514600" y="3962520"/>
                  <a:chExt cx="1066680" cy="30492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2514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743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971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3200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3429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0" name=""/>
                <p:cNvSpPr/>
                <p:nvPr/>
              </p:nvSpPr>
              <p:spPr>
                <a:xfrm>
                  <a:off x="36576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1" name=""/>
            <p:cNvSpPr/>
            <p:nvPr/>
          </p:nvSpPr>
          <p:spPr>
            <a:xfrm>
              <a:off x="4114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2743200" y="3962520"/>
            <a:ext cx="1752480" cy="304920"/>
            <a:chOff x="2743200" y="3962520"/>
            <a:chExt cx="1752480" cy="304920"/>
          </a:xfrm>
        </p:grpSpPr>
        <p:grpSp>
          <p:nvGrpSpPr>
            <p:cNvPr id="873" name=""/>
            <p:cNvGrpSpPr/>
            <p:nvPr/>
          </p:nvGrpSpPr>
          <p:grpSpPr>
            <a:xfrm>
              <a:off x="2743200" y="3962520"/>
              <a:ext cx="1523880" cy="304920"/>
              <a:chOff x="2743200" y="3962520"/>
              <a:chExt cx="1523880" cy="304920"/>
            </a:xfrm>
          </p:grpSpPr>
          <p:sp>
            <p:nvSpPr>
              <p:cNvPr id="874" name=""/>
              <p:cNvSpPr/>
              <p:nvPr/>
            </p:nvSpPr>
            <p:spPr>
              <a:xfrm>
                <a:off x="4114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5" name=""/>
              <p:cNvGrpSpPr/>
              <p:nvPr/>
            </p:nvGrpSpPr>
            <p:grpSpPr>
              <a:xfrm>
                <a:off x="2743200" y="3962520"/>
                <a:ext cx="1295280" cy="304920"/>
                <a:chOff x="2743200" y="3962520"/>
                <a:chExt cx="1295280" cy="304920"/>
              </a:xfrm>
            </p:grpSpPr>
            <p:grpSp>
              <p:nvGrpSpPr>
                <p:cNvPr id="876" name=""/>
                <p:cNvGrpSpPr/>
                <p:nvPr/>
              </p:nvGrpSpPr>
              <p:grpSpPr>
                <a:xfrm>
                  <a:off x="2743200" y="3962520"/>
                  <a:ext cx="1066680" cy="304920"/>
                  <a:chOff x="2743200" y="3962520"/>
                  <a:chExt cx="1066680" cy="30492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>
                    <a:off x="2743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971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3200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429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657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2" name=""/>
                <p:cNvSpPr/>
                <p:nvPr/>
              </p:nvSpPr>
              <p:spPr>
                <a:xfrm>
                  <a:off x="38862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"/>
            <p:cNvSpPr/>
            <p:nvPr/>
          </p:nvSpPr>
          <p:spPr>
            <a:xfrm>
              <a:off x="4343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971800" y="3962520"/>
            <a:ext cx="1752480" cy="304920"/>
            <a:chOff x="2971800" y="3962520"/>
            <a:chExt cx="1752480" cy="304920"/>
          </a:xfrm>
        </p:grpSpPr>
        <p:grpSp>
          <p:nvGrpSpPr>
            <p:cNvPr id="885" name=""/>
            <p:cNvGrpSpPr/>
            <p:nvPr/>
          </p:nvGrpSpPr>
          <p:grpSpPr>
            <a:xfrm>
              <a:off x="2971800" y="3962520"/>
              <a:ext cx="1523880" cy="304920"/>
              <a:chOff x="2971800" y="3962520"/>
              <a:chExt cx="1523880" cy="304920"/>
            </a:xfrm>
          </p:grpSpPr>
          <p:sp>
            <p:nvSpPr>
              <p:cNvPr id="886" name=""/>
              <p:cNvSpPr/>
              <p:nvPr/>
            </p:nvSpPr>
            <p:spPr>
              <a:xfrm>
                <a:off x="43434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2971800" y="3962520"/>
                <a:ext cx="1295280" cy="304920"/>
                <a:chOff x="2971800" y="3962520"/>
                <a:chExt cx="1295280" cy="304920"/>
              </a:xfrm>
            </p:grpSpPr>
            <p:grpSp>
              <p:nvGrpSpPr>
                <p:cNvPr id="888" name=""/>
                <p:cNvGrpSpPr/>
                <p:nvPr/>
              </p:nvGrpSpPr>
              <p:grpSpPr>
                <a:xfrm>
                  <a:off x="2971800" y="3962520"/>
                  <a:ext cx="1066680" cy="304920"/>
                  <a:chOff x="2971800" y="3962520"/>
                  <a:chExt cx="1066680" cy="30492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2971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200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3429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3657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3886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4" name=""/>
                <p:cNvSpPr/>
                <p:nvPr/>
              </p:nvSpPr>
              <p:spPr>
                <a:xfrm>
                  <a:off x="41148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5" name=""/>
            <p:cNvSpPr/>
            <p:nvPr/>
          </p:nvSpPr>
          <p:spPr>
            <a:xfrm>
              <a:off x="45720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200400" y="3962520"/>
            <a:ext cx="1752480" cy="304920"/>
            <a:chOff x="3200400" y="3962520"/>
            <a:chExt cx="1752480" cy="304920"/>
          </a:xfrm>
        </p:grpSpPr>
        <p:grpSp>
          <p:nvGrpSpPr>
            <p:cNvPr id="897" name=""/>
            <p:cNvGrpSpPr/>
            <p:nvPr/>
          </p:nvGrpSpPr>
          <p:grpSpPr>
            <a:xfrm>
              <a:off x="3200400" y="3962520"/>
              <a:ext cx="1523880" cy="304920"/>
              <a:chOff x="3200400" y="3962520"/>
              <a:chExt cx="1523880" cy="304920"/>
            </a:xfrm>
          </p:grpSpPr>
          <p:sp>
            <p:nvSpPr>
              <p:cNvPr id="898" name=""/>
              <p:cNvSpPr/>
              <p:nvPr/>
            </p:nvSpPr>
            <p:spPr>
              <a:xfrm>
                <a:off x="45720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9" name=""/>
              <p:cNvGrpSpPr/>
              <p:nvPr/>
            </p:nvGrpSpPr>
            <p:grpSpPr>
              <a:xfrm>
                <a:off x="3200400" y="3962520"/>
                <a:ext cx="1295280" cy="304920"/>
                <a:chOff x="3200400" y="3962520"/>
                <a:chExt cx="1295280" cy="304920"/>
              </a:xfrm>
            </p:grpSpPr>
            <p:grpSp>
              <p:nvGrpSpPr>
                <p:cNvPr id="900" name=""/>
                <p:cNvGrpSpPr/>
                <p:nvPr/>
              </p:nvGrpSpPr>
              <p:grpSpPr>
                <a:xfrm>
                  <a:off x="3200400" y="3962520"/>
                  <a:ext cx="1066680" cy="304920"/>
                  <a:chOff x="3200400" y="3962520"/>
                  <a:chExt cx="1066680" cy="30492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3200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429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657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3886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114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6" name=""/>
                <p:cNvSpPr/>
                <p:nvPr/>
              </p:nvSpPr>
              <p:spPr>
                <a:xfrm>
                  <a:off x="43434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"/>
            <p:cNvSpPr/>
            <p:nvPr/>
          </p:nvSpPr>
          <p:spPr>
            <a:xfrm>
              <a:off x="4800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429000" y="3962520"/>
            <a:ext cx="1752480" cy="304920"/>
            <a:chOff x="3429000" y="3962520"/>
            <a:chExt cx="1752480" cy="304920"/>
          </a:xfrm>
        </p:grpSpPr>
        <p:grpSp>
          <p:nvGrpSpPr>
            <p:cNvPr id="909" name=""/>
            <p:cNvGrpSpPr/>
            <p:nvPr/>
          </p:nvGrpSpPr>
          <p:grpSpPr>
            <a:xfrm>
              <a:off x="3429000" y="3962520"/>
              <a:ext cx="1523880" cy="304920"/>
              <a:chOff x="3429000" y="3962520"/>
              <a:chExt cx="1523880" cy="304920"/>
            </a:xfrm>
          </p:grpSpPr>
          <p:sp>
            <p:nvSpPr>
              <p:cNvPr id="910" name=""/>
              <p:cNvSpPr/>
              <p:nvPr/>
            </p:nvSpPr>
            <p:spPr>
              <a:xfrm>
                <a:off x="48006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3429000" y="3962520"/>
                <a:ext cx="1295280" cy="304920"/>
                <a:chOff x="3429000" y="3962520"/>
                <a:chExt cx="1295280" cy="304920"/>
              </a:xfrm>
            </p:grpSpPr>
            <p:grpSp>
              <p:nvGrpSpPr>
                <p:cNvPr id="912" name=""/>
                <p:cNvGrpSpPr/>
                <p:nvPr/>
              </p:nvGrpSpPr>
              <p:grpSpPr>
                <a:xfrm>
                  <a:off x="3429000" y="3962520"/>
                  <a:ext cx="1066680" cy="304920"/>
                  <a:chOff x="3429000" y="3962520"/>
                  <a:chExt cx="1066680" cy="30492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>
                    <a:off x="3429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3657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886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114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343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8" name=""/>
                <p:cNvSpPr/>
                <p:nvPr/>
              </p:nvSpPr>
              <p:spPr>
                <a:xfrm>
                  <a:off x="45720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"/>
            <p:cNvSpPr/>
            <p:nvPr/>
          </p:nvSpPr>
          <p:spPr>
            <a:xfrm>
              <a:off x="5029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3657600" y="3962520"/>
            <a:ext cx="1752480" cy="304920"/>
            <a:chOff x="3657600" y="3962520"/>
            <a:chExt cx="1752480" cy="304920"/>
          </a:xfrm>
        </p:grpSpPr>
        <p:grpSp>
          <p:nvGrpSpPr>
            <p:cNvPr id="921" name=""/>
            <p:cNvGrpSpPr/>
            <p:nvPr/>
          </p:nvGrpSpPr>
          <p:grpSpPr>
            <a:xfrm>
              <a:off x="3657600" y="3962520"/>
              <a:ext cx="1523880" cy="304920"/>
              <a:chOff x="3657600" y="3962520"/>
              <a:chExt cx="1523880" cy="304920"/>
            </a:xfrm>
          </p:grpSpPr>
          <p:sp>
            <p:nvSpPr>
              <p:cNvPr id="922" name=""/>
              <p:cNvSpPr/>
              <p:nvPr/>
            </p:nvSpPr>
            <p:spPr>
              <a:xfrm>
                <a:off x="50292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3657600" y="3962520"/>
                <a:ext cx="1295280" cy="304920"/>
                <a:chOff x="3657600" y="3962520"/>
                <a:chExt cx="1295280" cy="304920"/>
              </a:xfrm>
            </p:grpSpPr>
            <p:grpSp>
              <p:nvGrpSpPr>
                <p:cNvPr id="924" name=""/>
                <p:cNvGrpSpPr/>
                <p:nvPr/>
              </p:nvGrpSpPr>
              <p:grpSpPr>
                <a:xfrm>
                  <a:off x="3657600" y="3962520"/>
                  <a:ext cx="1066680" cy="304920"/>
                  <a:chOff x="3657600" y="3962520"/>
                  <a:chExt cx="1066680" cy="30492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3657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3886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114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4343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4572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0" name=""/>
                <p:cNvSpPr/>
                <p:nvPr/>
              </p:nvSpPr>
              <p:spPr>
                <a:xfrm>
                  <a:off x="48006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"/>
            <p:cNvSpPr/>
            <p:nvPr/>
          </p:nvSpPr>
          <p:spPr>
            <a:xfrm>
              <a:off x="5257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3886200" y="3962520"/>
            <a:ext cx="1752480" cy="304920"/>
            <a:chOff x="3886200" y="3962520"/>
            <a:chExt cx="1752480" cy="304920"/>
          </a:xfrm>
        </p:grpSpPr>
        <p:grpSp>
          <p:nvGrpSpPr>
            <p:cNvPr id="933" name=""/>
            <p:cNvGrpSpPr/>
            <p:nvPr/>
          </p:nvGrpSpPr>
          <p:grpSpPr>
            <a:xfrm>
              <a:off x="3886200" y="3962520"/>
              <a:ext cx="1523880" cy="304920"/>
              <a:chOff x="3886200" y="3962520"/>
              <a:chExt cx="1523880" cy="304920"/>
            </a:xfrm>
          </p:grpSpPr>
          <p:sp>
            <p:nvSpPr>
              <p:cNvPr id="934" name=""/>
              <p:cNvSpPr/>
              <p:nvPr/>
            </p:nvSpPr>
            <p:spPr>
              <a:xfrm>
                <a:off x="5257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3886200" y="3962520"/>
                <a:ext cx="1295280" cy="304920"/>
                <a:chOff x="3886200" y="3962520"/>
                <a:chExt cx="1295280" cy="304920"/>
              </a:xfrm>
            </p:grpSpPr>
            <p:grpSp>
              <p:nvGrpSpPr>
                <p:cNvPr id="936" name=""/>
                <p:cNvGrpSpPr/>
                <p:nvPr/>
              </p:nvGrpSpPr>
              <p:grpSpPr>
                <a:xfrm>
                  <a:off x="3886200" y="3962520"/>
                  <a:ext cx="1066680" cy="304920"/>
                  <a:chOff x="3886200" y="3962520"/>
                  <a:chExt cx="1066680" cy="30492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886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4114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343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572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800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2" name=""/>
                <p:cNvSpPr/>
                <p:nvPr/>
              </p:nvSpPr>
              <p:spPr>
                <a:xfrm>
                  <a:off x="50292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3" name=""/>
            <p:cNvSpPr/>
            <p:nvPr/>
          </p:nvSpPr>
          <p:spPr>
            <a:xfrm>
              <a:off x="5486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4114800" y="3962520"/>
            <a:ext cx="1752480" cy="304920"/>
            <a:chOff x="4114800" y="3962520"/>
            <a:chExt cx="1752480" cy="304920"/>
          </a:xfrm>
        </p:grpSpPr>
        <p:grpSp>
          <p:nvGrpSpPr>
            <p:cNvPr id="945" name=""/>
            <p:cNvGrpSpPr/>
            <p:nvPr/>
          </p:nvGrpSpPr>
          <p:grpSpPr>
            <a:xfrm>
              <a:off x="4114800" y="3962520"/>
              <a:ext cx="1523880" cy="304920"/>
              <a:chOff x="4114800" y="3962520"/>
              <a:chExt cx="1523880" cy="304920"/>
            </a:xfrm>
          </p:grpSpPr>
          <p:sp>
            <p:nvSpPr>
              <p:cNvPr id="946" name=""/>
              <p:cNvSpPr/>
              <p:nvPr/>
            </p:nvSpPr>
            <p:spPr>
              <a:xfrm>
                <a:off x="54864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4114800" y="3962520"/>
                <a:ext cx="1295280" cy="304920"/>
                <a:chOff x="4114800" y="3962520"/>
                <a:chExt cx="1295280" cy="30492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4114800" y="3962520"/>
                  <a:ext cx="1066680" cy="304920"/>
                  <a:chOff x="4114800" y="3962520"/>
                  <a:chExt cx="1066680" cy="30492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4114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343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572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800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5029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4" name=""/>
                <p:cNvSpPr/>
                <p:nvPr/>
              </p:nvSpPr>
              <p:spPr>
                <a:xfrm>
                  <a:off x="52578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"/>
            <p:cNvSpPr/>
            <p:nvPr/>
          </p:nvSpPr>
          <p:spPr>
            <a:xfrm>
              <a:off x="57150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343400" y="3962520"/>
            <a:ext cx="1752480" cy="304920"/>
            <a:chOff x="4343400" y="3962520"/>
            <a:chExt cx="1752480" cy="304920"/>
          </a:xfrm>
        </p:grpSpPr>
        <p:grpSp>
          <p:nvGrpSpPr>
            <p:cNvPr id="957" name=""/>
            <p:cNvGrpSpPr/>
            <p:nvPr/>
          </p:nvGrpSpPr>
          <p:grpSpPr>
            <a:xfrm>
              <a:off x="4343400" y="3962520"/>
              <a:ext cx="1523880" cy="304920"/>
              <a:chOff x="4343400" y="3962520"/>
              <a:chExt cx="1523880" cy="304920"/>
            </a:xfrm>
          </p:grpSpPr>
          <p:sp>
            <p:nvSpPr>
              <p:cNvPr id="958" name=""/>
              <p:cNvSpPr/>
              <p:nvPr/>
            </p:nvSpPr>
            <p:spPr>
              <a:xfrm>
                <a:off x="57150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9" name=""/>
              <p:cNvGrpSpPr/>
              <p:nvPr/>
            </p:nvGrpSpPr>
            <p:grpSpPr>
              <a:xfrm>
                <a:off x="4343400" y="3962520"/>
                <a:ext cx="1295280" cy="304920"/>
                <a:chOff x="4343400" y="3962520"/>
                <a:chExt cx="1295280" cy="304920"/>
              </a:xfrm>
            </p:grpSpPr>
            <p:grpSp>
              <p:nvGrpSpPr>
                <p:cNvPr id="960" name=""/>
                <p:cNvGrpSpPr/>
                <p:nvPr/>
              </p:nvGrpSpPr>
              <p:grpSpPr>
                <a:xfrm>
                  <a:off x="4343400" y="3962520"/>
                  <a:ext cx="1066680" cy="304920"/>
                  <a:chOff x="4343400" y="3962520"/>
                  <a:chExt cx="1066680" cy="30492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>
                    <a:off x="4343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572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800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029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5257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"/>
                <p:cNvSpPr/>
                <p:nvPr/>
              </p:nvSpPr>
              <p:spPr>
                <a:xfrm>
                  <a:off x="54864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"/>
            <p:cNvSpPr/>
            <p:nvPr/>
          </p:nvSpPr>
          <p:spPr>
            <a:xfrm>
              <a:off x="5943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4572000" y="3962520"/>
            <a:ext cx="1752480" cy="304920"/>
            <a:chOff x="4572000" y="3962520"/>
            <a:chExt cx="1752480" cy="304920"/>
          </a:xfrm>
        </p:grpSpPr>
        <p:grpSp>
          <p:nvGrpSpPr>
            <p:cNvPr id="969" name=""/>
            <p:cNvGrpSpPr/>
            <p:nvPr/>
          </p:nvGrpSpPr>
          <p:grpSpPr>
            <a:xfrm>
              <a:off x="4572000" y="3962520"/>
              <a:ext cx="1523880" cy="304920"/>
              <a:chOff x="4572000" y="3962520"/>
              <a:chExt cx="1523880" cy="304920"/>
            </a:xfrm>
          </p:grpSpPr>
          <p:sp>
            <p:nvSpPr>
              <p:cNvPr id="970" name=""/>
              <p:cNvSpPr/>
              <p:nvPr/>
            </p:nvSpPr>
            <p:spPr>
              <a:xfrm>
                <a:off x="59436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1" name=""/>
              <p:cNvGrpSpPr/>
              <p:nvPr/>
            </p:nvGrpSpPr>
            <p:grpSpPr>
              <a:xfrm>
                <a:off x="4572000" y="3962520"/>
                <a:ext cx="1295280" cy="304920"/>
                <a:chOff x="4572000" y="3962520"/>
                <a:chExt cx="1295280" cy="304920"/>
              </a:xfrm>
            </p:grpSpPr>
            <p:grpSp>
              <p:nvGrpSpPr>
                <p:cNvPr id="972" name=""/>
                <p:cNvGrpSpPr/>
                <p:nvPr/>
              </p:nvGrpSpPr>
              <p:grpSpPr>
                <a:xfrm>
                  <a:off x="4572000" y="3962520"/>
                  <a:ext cx="1066680" cy="304920"/>
                  <a:chOff x="4572000" y="3962520"/>
                  <a:chExt cx="1066680" cy="30492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4572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4800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5029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5257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5486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8" name=""/>
                <p:cNvSpPr/>
                <p:nvPr/>
              </p:nvSpPr>
              <p:spPr>
                <a:xfrm>
                  <a:off x="57150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9" name=""/>
            <p:cNvSpPr/>
            <p:nvPr/>
          </p:nvSpPr>
          <p:spPr>
            <a:xfrm>
              <a:off x="6172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800600" y="3962520"/>
            <a:ext cx="1752480" cy="304920"/>
            <a:chOff x="4800600" y="3962520"/>
            <a:chExt cx="1752480" cy="304920"/>
          </a:xfrm>
        </p:grpSpPr>
        <p:grpSp>
          <p:nvGrpSpPr>
            <p:cNvPr id="981" name=""/>
            <p:cNvGrpSpPr/>
            <p:nvPr/>
          </p:nvGrpSpPr>
          <p:grpSpPr>
            <a:xfrm>
              <a:off x="4800600" y="3962520"/>
              <a:ext cx="1523880" cy="304920"/>
              <a:chOff x="4800600" y="3962520"/>
              <a:chExt cx="1523880" cy="304920"/>
            </a:xfrm>
          </p:grpSpPr>
          <p:sp>
            <p:nvSpPr>
              <p:cNvPr id="982" name=""/>
              <p:cNvSpPr/>
              <p:nvPr/>
            </p:nvSpPr>
            <p:spPr>
              <a:xfrm>
                <a:off x="61722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3" name=""/>
              <p:cNvGrpSpPr/>
              <p:nvPr/>
            </p:nvGrpSpPr>
            <p:grpSpPr>
              <a:xfrm>
                <a:off x="4800600" y="3962520"/>
                <a:ext cx="1295280" cy="304920"/>
                <a:chOff x="4800600" y="3962520"/>
                <a:chExt cx="1295280" cy="30492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4800600" y="3962520"/>
                  <a:ext cx="1066680" cy="304920"/>
                  <a:chOff x="4800600" y="3962520"/>
                  <a:chExt cx="1066680" cy="30492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4800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5029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5257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5486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5715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0" name=""/>
                <p:cNvSpPr/>
                <p:nvPr/>
              </p:nvSpPr>
              <p:spPr>
                <a:xfrm>
                  <a:off x="59436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1" name=""/>
            <p:cNvSpPr/>
            <p:nvPr/>
          </p:nvSpPr>
          <p:spPr>
            <a:xfrm>
              <a:off x="6400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5029200" y="3962520"/>
            <a:ext cx="1752480" cy="304920"/>
            <a:chOff x="5029200" y="3962520"/>
            <a:chExt cx="1752480" cy="304920"/>
          </a:xfrm>
        </p:grpSpPr>
        <p:grpSp>
          <p:nvGrpSpPr>
            <p:cNvPr id="993" name=""/>
            <p:cNvGrpSpPr/>
            <p:nvPr/>
          </p:nvGrpSpPr>
          <p:grpSpPr>
            <a:xfrm>
              <a:off x="5029200" y="3962520"/>
              <a:ext cx="1523880" cy="304920"/>
              <a:chOff x="5029200" y="3962520"/>
              <a:chExt cx="1523880" cy="304920"/>
            </a:xfrm>
          </p:grpSpPr>
          <p:sp>
            <p:nvSpPr>
              <p:cNvPr id="994" name=""/>
              <p:cNvSpPr/>
              <p:nvPr/>
            </p:nvSpPr>
            <p:spPr>
              <a:xfrm>
                <a:off x="6400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5" name=""/>
              <p:cNvGrpSpPr/>
              <p:nvPr/>
            </p:nvGrpSpPr>
            <p:grpSpPr>
              <a:xfrm>
                <a:off x="5029200" y="3962520"/>
                <a:ext cx="1295280" cy="304920"/>
                <a:chOff x="5029200" y="3962520"/>
                <a:chExt cx="1295280" cy="304920"/>
              </a:xfrm>
            </p:grpSpPr>
            <p:grpSp>
              <p:nvGrpSpPr>
                <p:cNvPr id="996" name=""/>
                <p:cNvGrpSpPr/>
                <p:nvPr/>
              </p:nvGrpSpPr>
              <p:grpSpPr>
                <a:xfrm>
                  <a:off x="5029200" y="3962520"/>
                  <a:ext cx="1066680" cy="304920"/>
                  <a:chOff x="5029200" y="3962520"/>
                  <a:chExt cx="1066680" cy="304920"/>
                </a:xfrm>
              </p:grpSpPr>
              <p:sp>
                <p:nvSpPr>
                  <p:cNvPr id="997" name=""/>
                  <p:cNvSpPr/>
                  <p:nvPr/>
                </p:nvSpPr>
                <p:spPr>
                  <a:xfrm>
                    <a:off x="5029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5257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5486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5715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5943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2" name=""/>
                <p:cNvSpPr/>
                <p:nvPr/>
              </p:nvSpPr>
              <p:spPr>
                <a:xfrm>
                  <a:off x="61722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>
              <a:off x="6629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257800" y="3962520"/>
            <a:ext cx="1752480" cy="304920"/>
            <a:chOff x="5257800" y="3962520"/>
            <a:chExt cx="1752480" cy="304920"/>
          </a:xfrm>
        </p:grpSpPr>
        <p:grpSp>
          <p:nvGrpSpPr>
            <p:cNvPr id="1005" name=""/>
            <p:cNvGrpSpPr/>
            <p:nvPr/>
          </p:nvGrpSpPr>
          <p:grpSpPr>
            <a:xfrm>
              <a:off x="5257800" y="3962520"/>
              <a:ext cx="1523880" cy="304920"/>
              <a:chOff x="5257800" y="3962520"/>
              <a:chExt cx="1523880" cy="304920"/>
            </a:xfrm>
          </p:grpSpPr>
          <p:sp>
            <p:nvSpPr>
              <p:cNvPr id="1006" name=""/>
              <p:cNvSpPr/>
              <p:nvPr/>
            </p:nvSpPr>
            <p:spPr>
              <a:xfrm>
                <a:off x="66294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5257800" y="3962520"/>
                <a:ext cx="1295280" cy="304920"/>
                <a:chOff x="5257800" y="3962520"/>
                <a:chExt cx="1295280" cy="304920"/>
              </a:xfrm>
            </p:grpSpPr>
            <p:grpSp>
              <p:nvGrpSpPr>
                <p:cNvPr id="1008" name=""/>
                <p:cNvGrpSpPr/>
                <p:nvPr/>
              </p:nvGrpSpPr>
              <p:grpSpPr>
                <a:xfrm>
                  <a:off x="5257800" y="3962520"/>
                  <a:ext cx="1066680" cy="304920"/>
                  <a:chOff x="5257800" y="3962520"/>
                  <a:chExt cx="1066680" cy="3049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5257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5486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5715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5943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6172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4" name=""/>
                <p:cNvSpPr/>
                <p:nvPr/>
              </p:nvSpPr>
              <p:spPr>
                <a:xfrm>
                  <a:off x="64008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5" name=""/>
            <p:cNvSpPr/>
            <p:nvPr/>
          </p:nvSpPr>
          <p:spPr>
            <a:xfrm>
              <a:off x="68580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5486400" y="3962520"/>
            <a:ext cx="1752480" cy="304920"/>
            <a:chOff x="5486400" y="3962520"/>
            <a:chExt cx="1752480" cy="304920"/>
          </a:xfrm>
        </p:grpSpPr>
        <p:grpSp>
          <p:nvGrpSpPr>
            <p:cNvPr id="1017" name=""/>
            <p:cNvGrpSpPr/>
            <p:nvPr/>
          </p:nvGrpSpPr>
          <p:grpSpPr>
            <a:xfrm>
              <a:off x="5486400" y="3962520"/>
              <a:ext cx="1523880" cy="304920"/>
              <a:chOff x="5486400" y="3962520"/>
              <a:chExt cx="1523880" cy="304920"/>
            </a:xfrm>
          </p:grpSpPr>
          <p:sp>
            <p:nvSpPr>
              <p:cNvPr id="1018" name=""/>
              <p:cNvSpPr/>
              <p:nvPr/>
            </p:nvSpPr>
            <p:spPr>
              <a:xfrm>
                <a:off x="68580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9" name=""/>
              <p:cNvGrpSpPr/>
              <p:nvPr/>
            </p:nvGrpSpPr>
            <p:grpSpPr>
              <a:xfrm>
                <a:off x="5486400" y="3962520"/>
                <a:ext cx="1295280" cy="304920"/>
                <a:chOff x="5486400" y="3962520"/>
                <a:chExt cx="1295280" cy="304920"/>
              </a:xfrm>
            </p:grpSpPr>
            <p:grpSp>
              <p:nvGrpSpPr>
                <p:cNvPr id="1020" name=""/>
                <p:cNvGrpSpPr/>
                <p:nvPr/>
              </p:nvGrpSpPr>
              <p:grpSpPr>
                <a:xfrm>
                  <a:off x="5486400" y="3962520"/>
                  <a:ext cx="1066680" cy="304920"/>
                  <a:chOff x="5486400" y="3962520"/>
                  <a:chExt cx="1066680" cy="30492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5486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5715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5943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6172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6400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6" name=""/>
                <p:cNvSpPr/>
                <p:nvPr/>
              </p:nvSpPr>
              <p:spPr>
                <a:xfrm>
                  <a:off x="66294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7" name=""/>
            <p:cNvSpPr/>
            <p:nvPr/>
          </p:nvSpPr>
          <p:spPr>
            <a:xfrm>
              <a:off x="7086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5715000" y="3962520"/>
            <a:ext cx="1752480" cy="304920"/>
            <a:chOff x="5715000" y="3962520"/>
            <a:chExt cx="1752480" cy="304920"/>
          </a:xfrm>
        </p:grpSpPr>
        <p:grpSp>
          <p:nvGrpSpPr>
            <p:cNvPr id="1029" name=""/>
            <p:cNvGrpSpPr/>
            <p:nvPr/>
          </p:nvGrpSpPr>
          <p:grpSpPr>
            <a:xfrm>
              <a:off x="5715000" y="3962520"/>
              <a:ext cx="1523880" cy="304920"/>
              <a:chOff x="5715000" y="3962520"/>
              <a:chExt cx="1523880" cy="304920"/>
            </a:xfrm>
          </p:grpSpPr>
          <p:sp>
            <p:nvSpPr>
              <p:cNvPr id="1030" name=""/>
              <p:cNvSpPr/>
              <p:nvPr/>
            </p:nvSpPr>
            <p:spPr>
              <a:xfrm>
                <a:off x="70866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5715000" y="3962520"/>
                <a:ext cx="1295280" cy="304920"/>
                <a:chOff x="5715000" y="3962520"/>
                <a:chExt cx="1295280" cy="30492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5715000" y="3962520"/>
                  <a:ext cx="1066680" cy="304920"/>
                  <a:chOff x="5715000" y="3962520"/>
                  <a:chExt cx="1066680" cy="30492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5715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5943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6172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6400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629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8" name=""/>
                <p:cNvSpPr/>
                <p:nvPr/>
              </p:nvSpPr>
              <p:spPr>
                <a:xfrm>
                  <a:off x="68580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9" name=""/>
            <p:cNvSpPr/>
            <p:nvPr/>
          </p:nvSpPr>
          <p:spPr>
            <a:xfrm>
              <a:off x="7315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5943600" y="3962520"/>
            <a:ext cx="1752480" cy="304920"/>
            <a:chOff x="5943600" y="3962520"/>
            <a:chExt cx="1752480" cy="304920"/>
          </a:xfrm>
        </p:grpSpPr>
        <p:grpSp>
          <p:nvGrpSpPr>
            <p:cNvPr id="1041" name=""/>
            <p:cNvGrpSpPr/>
            <p:nvPr/>
          </p:nvGrpSpPr>
          <p:grpSpPr>
            <a:xfrm>
              <a:off x="5943600" y="3962520"/>
              <a:ext cx="1523880" cy="304920"/>
              <a:chOff x="5943600" y="3962520"/>
              <a:chExt cx="1523880" cy="304920"/>
            </a:xfrm>
          </p:grpSpPr>
          <p:sp>
            <p:nvSpPr>
              <p:cNvPr id="1042" name=""/>
              <p:cNvSpPr/>
              <p:nvPr/>
            </p:nvSpPr>
            <p:spPr>
              <a:xfrm>
                <a:off x="73152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3" name=""/>
              <p:cNvGrpSpPr/>
              <p:nvPr/>
            </p:nvGrpSpPr>
            <p:grpSpPr>
              <a:xfrm>
                <a:off x="5943600" y="3962520"/>
                <a:ext cx="1295280" cy="304920"/>
                <a:chOff x="5943600" y="3962520"/>
                <a:chExt cx="1295280" cy="30492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5943600" y="3962520"/>
                  <a:ext cx="1066680" cy="304920"/>
                  <a:chOff x="5943600" y="3962520"/>
                  <a:chExt cx="1066680" cy="30492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5943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6172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400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629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6858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0" name=""/>
                <p:cNvSpPr/>
                <p:nvPr/>
              </p:nvSpPr>
              <p:spPr>
                <a:xfrm>
                  <a:off x="70866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1" name=""/>
            <p:cNvSpPr/>
            <p:nvPr/>
          </p:nvSpPr>
          <p:spPr>
            <a:xfrm>
              <a:off x="7543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6172200" y="3962520"/>
            <a:ext cx="1752480" cy="304920"/>
            <a:chOff x="6172200" y="3962520"/>
            <a:chExt cx="1752480" cy="304920"/>
          </a:xfrm>
        </p:grpSpPr>
        <p:grpSp>
          <p:nvGrpSpPr>
            <p:cNvPr id="1053" name=""/>
            <p:cNvGrpSpPr/>
            <p:nvPr/>
          </p:nvGrpSpPr>
          <p:grpSpPr>
            <a:xfrm>
              <a:off x="6172200" y="3962520"/>
              <a:ext cx="1523880" cy="304920"/>
              <a:chOff x="6172200" y="3962520"/>
              <a:chExt cx="1523880" cy="304920"/>
            </a:xfrm>
          </p:grpSpPr>
          <p:sp>
            <p:nvSpPr>
              <p:cNvPr id="1054" name=""/>
              <p:cNvSpPr/>
              <p:nvPr/>
            </p:nvSpPr>
            <p:spPr>
              <a:xfrm>
                <a:off x="7543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"/>
              <p:cNvGrpSpPr/>
              <p:nvPr/>
            </p:nvGrpSpPr>
            <p:grpSpPr>
              <a:xfrm>
                <a:off x="6172200" y="3962520"/>
                <a:ext cx="1295280" cy="304920"/>
                <a:chOff x="6172200" y="3962520"/>
                <a:chExt cx="1295280" cy="304920"/>
              </a:xfrm>
            </p:grpSpPr>
            <p:grpSp>
              <p:nvGrpSpPr>
                <p:cNvPr id="1056" name=""/>
                <p:cNvGrpSpPr/>
                <p:nvPr/>
              </p:nvGrpSpPr>
              <p:grpSpPr>
                <a:xfrm>
                  <a:off x="6172200" y="3962520"/>
                  <a:ext cx="1066680" cy="304920"/>
                  <a:chOff x="6172200" y="3962520"/>
                  <a:chExt cx="1066680" cy="30492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>
                    <a:off x="6172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6400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6629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858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7086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2" name=""/>
                <p:cNvSpPr/>
                <p:nvPr/>
              </p:nvSpPr>
              <p:spPr>
                <a:xfrm>
                  <a:off x="73152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3" name=""/>
            <p:cNvSpPr/>
            <p:nvPr/>
          </p:nvSpPr>
          <p:spPr>
            <a:xfrm>
              <a:off x="7772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6400800" y="3962520"/>
            <a:ext cx="1752480" cy="304920"/>
            <a:chOff x="6400800" y="3962520"/>
            <a:chExt cx="1752480" cy="304920"/>
          </a:xfrm>
        </p:grpSpPr>
        <p:grpSp>
          <p:nvGrpSpPr>
            <p:cNvPr id="1065" name=""/>
            <p:cNvGrpSpPr/>
            <p:nvPr/>
          </p:nvGrpSpPr>
          <p:grpSpPr>
            <a:xfrm>
              <a:off x="6400800" y="3962520"/>
              <a:ext cx="1523880" cy="304920"/>
              <a:chOff x="6400800" y="3962520"/>
              <a:chExt cx="1523880" cy="304920"/>
            </a:xfrm>
          </p:grpSpPr>
          <p:sp>
            <p:nvSpPr>
              <p:cNvPr id="1066" name=""/>
              <p:cNvSpPr/>
              <p:nvPr/>
            </p:nvSpPr>
            <p:spPr>
              <a:xfrm>
                <a:off x="77724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7" name=""/>
              <p:cNvGrpSpPr/>
              <p:nvPr/>
            </p:nvGrpSpPr>
            <p:grpSpPr>
              <a:xfrm>
                <a:off x="6400800" y="3962520"/>
                <a:ext cx="1295280" cy="304920"/>
                <a:chOff x="6400800" y="3962520"/>
                <a:chExt cx="1295280" cy="304920"/>
              </a:xfrm>
            </p:grpSpPr>
            <p:grpSp>
              <p:nvGrpSpPr>
                <p:cNvPr id="1068" name=""/>
                <p:cNvGrpSpPr/>
                <p:nvPr/>
              </p:nvGrpSpPr>
              <p:grpSpPr>
                <a:xfrm>
                  <a:off x="6400800" y="3962520"/>
                  <a:ext cx="1066680" cy="304920"/>
                  <a:chOff x="6400800" y="3962520"/>
                  <a:chExt cx="1066680" cy="30492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>
                    <a:off x="6400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6629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6858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7086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7315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4" name=""/>
                <p:cNvSpPr/>
                <p:nvPr/>
              </p:nvSpPr>
              <p:spPr>
                <a:xfrm>
                  <a:off x="75438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5" name=""/>
            <p:cNvSpPr/>
            <p:nvPr/>
          </p:nvSpPr>
          <p:spPr>
            <a:xfrm>
              <a:off x="80010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629400" y="3962520"/>
            <a:ext cx="1752480" cy="304920"/>
            <a:chOff x="6629400" y="3962520"/>
            <a:chExt cx="1752480" cy="304920"/>
          </a:xfrm>
        </p:grpSpPr>
        <p:grpSp>
          <p:nvGrpSpPr>
            <p:cNvPr id="1077" name=""/>
            <p:cNvGrpSpPr/>
            <p:nvPr/>
          </p:nvGrpSpPr>
          <p:grpSpPr>
            <a:xfrm>
              <a:off x="6629400" y="3962520"/>
              <a:ext cx="1523880" cy="304920"/>
              <a:chOff x="6629400" y="3962520"/>
              <a:chExt cx="1523880" cy="304920"/>
            </a:xfrm>
          </p:grpSpPr>
          <p:sp>
            <p:nvSpPr>
              <p:cNvPr id="1078" name=""/>
              <p:cNvSpPr/>
              <p:nvPr/>
            </p:nvSpPr>
            <p:spPr>
              <a:xfrm>
                <a:off x="80010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9" name=""/>
              <p:cNvGrpSpPr/>
              <p:nvPr/>
            </p:nvGrpSpPr>
            <p:grpSpPr>
              <a:xfrm>
                <a:off x="6629400" y="3962520"/>
                <a:ext cx="1295280" cy="304920"/>
                <a:chOff x="6629400" y="3962520"/>
                <a:chExt cx="1295280" cy="304920"/>
              </a:xfrm>
            </p:grpSpPr>
            <p:grpSp>
              <p:nvGrpSpPr>
                <p:cNvPr id="1080" name=""/>
                <p:cNvGrpSpPr/>
                <p:nvPr/>
              </p:nvGrpSpPr>
              <p:grpSpPr>
                <a:xfrm>
                  <a:off x="6629400" y="3962520"/>
                  <a:ext cx="1066680" cy="304920"/>
                  <a:chOff x="6629400" y="3962520"/>
                  <a:chExt cx="1066680" cy="30492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6629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858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7086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7315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543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"/>
                <p:cNvSpPr/>
                <p:nvPr/>
              </p:nvSpPr>
              <p:spPr>
                <a:xfrm>
                  <a:off x="77724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7" name=""/>
            <p:cNvSpPr/>
            <p:nvPr/>
          </p:nvSpPr>
          <p:spPr>
            <a:xfrm>
              <a:off x="8229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6858000" y="3962520"/>
            <a:ext cx="1752480" cy="304920"/>
            <a:chOff x="6858000" y="3962520"/>
            <a:chExt cx="1752480" cy="304920"/>
          </a:xfrm>
        </p:grpSpPr>
        <p:grpSp>
          <p:nvGrpSpPr>
            <p:cNvPr id="1089" name=""/>
            <p:cNvGrpSpPr/>
            <p:nvPr/>
          </p:nvGrpSpPr>
          <p:grpSpPr>
            <a:xfrm>
              <a:off x="6858000" y="3962520"/>
              <a:ext cx="1523880" cy="304920"/>
              <a:chOff x="6858000" y="3962520"/>
              <a:chExt cx="1523880" cy="304920"/>
            </a:xfrm>
          </p:grpSpPr>
          <p:sp>
            <p:nvSpPr>
              <p:cNvPr id="1090" name=""/>
              <p:cNvSpPr/>
              <p:nvPr/>
            </p:nvSpPr>
            <p:spPr>
              <a:xfrm>
                <a:off x="82296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6858000" y="3962520"/>
                <a:ext cx="1295280" cy="304920"/>
                <a:chOff x="6858000" y="3962520"/>
                <a:chExt cx="1295280" cy="304920"/>
              </a:xfrm>
            </p:grpSpPr>
            <p:grpSp>
              <p:nvGrpSpPr>
                <p:cNvPr id="1092" name=""/>
                <p:cNvGrpSpPr/>
                <p:nvPr/>
              </p:nvGrpSpPr>
              <p:grpSpPr>
                <a:xfrm>
                  <a:off x="6858000" y="3962520"/>
                  <a:ext cx="1066680" cy="304920"/>
                  <a:chOff x="6858000" y="3962520"/>
                  <a:chExt cx="1066680" cy="30492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>
                    <a:off x="6858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7086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7315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7543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7772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"/>
                <p:cNvSpPr/>
                <p:nvPr/>
              </p:nvSpPr>
              <p:spPr>
                <a:xfrm>
                  <a:off x="80010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9" name=""/>
            <p:cNvSpPr/>
            <p:nvPr/>
          </p:nvSpPr>
          <p:spPr>
            <a:xfrm>
              <a:off x="8458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7086600" y="3962520"/>
            <a:ext cx="1752480" cy="304920"/>
            <a:chOff x="7086600" y="3962520"/>
            <a:chExt cx="1752480" cy="304920"/>
          </a:xfrm>
        </p:grpSpPr>
        <p:grpSp>
          <p:nvGrpSpPr>
            <p:cNvPr id="1101" name=""/>
            <p:cNvGrpSpPr/>
            <p:nvPr/>
          </p:nvGrpSpPr>
          <p:grpSpPr>
            <a:xfrm>
              <a:off x="7086600" y="3962520"/>
              <a:ext cx="1523880" cy="304920"/>
              <a:chOff x="7086600" y="3962520"/>
              <a:chExt cx="1523880" cy="304920"/>
            </a:xfrm>
          </p:grpSpPr>
          <p:sp>
            <p:nvSpPr>
              <p:cNvPr id="1102" name=""/>
              <p:cNvSpPr/>
              <p:nvPr/>
            </p:nvSpPr>
            <p:spPr>
              <a:xfrm>
                <a:off x="84582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3" name=""/>
              <p:cNvGrpSpPr/>
              <p:nvPr/>
            </p:nvGrpSpPr>
            <p:grpSpPr>
              <a:xfrm>
                <a:off x="7086600" y="3962520"/>
                <a:ext cx="1295280" cy="304920"/>
                <a:chOff x="7086600" y="3962520"/>
                <a:chExt cx="1295280" cy="304920"/>
              </a:xfrm>
            </p:grpSpPr>
            <p:grpSp>
              <p:nvGrpSpPr>
                <p:cNvPr id="1104" name=""/>
                <p:cNvGrpSpPr/>
                <p:nvPr/>
              </p:nvGrpSpPr>
              <p:grpSpPr>
                <a:xfrm>
                  <a:off x="7086600" y="3962520"/>
                  <a:ext cx="1066680" cy="304920"/>
                  <a:chOff x="7086600" y="3962520"/>
                  <a:chExt cx="1066680" cy="30492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7086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7315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543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7772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8001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0" name=""/>
                <p:cNvSpPr/>
                <p:nvPr/>
              </p:nvSpPr>
              <p:spPr>
                <a:xfrm>
                  <a:off x="82296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1" name=""/>
            <p:cNvSpPr/>
            <p:nvPr/>
          </p:nvSpPr>
          <p:spPr>
            <a:xfrm>
              <a:off x="8686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315200" y="3962520"/>
            <a:ext cx="1752480" cy="304920"/>
            <a:chOff x="7315200" y="3962520"/>
            <a:chExt cx="1752480" cy="304920"/>
          </a:xfrm>
        </p:grpSpPr>
        <p:grpSp>
          <p:nvGrpSpPr>
            <p:cNvPr id="1113" name=""/>
            <p:cNvGrpSpPr/>
            <p:nvPr/>
          </p:nvGrpSpPr>
          <p:grpSpPr>
            <a:xfrm>
              <a:off x="7315200" y="3962520"/>
              <a:ext cx="1523880" cy="304920"/>
              <a:chOff x="7315200" y="3962520"/>
              <a:chExt cx="1523880" cy="304920"/>
            </a:xfrm>
          </p:grpSpPr>
          <p:sp>
            <p:nvSpPr>
              <p:cNvPr id="1114" name=""/>
              <p:cNvSpPr/>
              <p:nvPr/>
            </p:nvSpPr>
            <p:spPr>
              <a:xfrm>
                <a:off x="8686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7315200" y="3962520"/>
                <a:ext cx="1295280" cy="304920"/>
                <a:chOff x="7315200" y="3962520"/>
                <a:chExt cx="1295280" cy="304920"/>
              </a:xfrm>
            </p:grpSpPr>
            <p:grpSp>
              <p:nvGrpSpPr>
                <p:cNvPr id="1116" name=""/>
                <p:cNvGrpSpPr/>
                <p:nvPr/>
              </p:nvGrpSpPr>
              <p:grpSpPr>
                <a:xfrm>
                  <a:off x="7315200" y="3962520"/>
                  <a:ext cx="1066680" cy="304920"/>
                  <a:chOff x="7315200" y="3962520"/>
                  <a:chExt cx="1066680" cy="30492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3152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75438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77724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80010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8229600" y="3962520"/>
                    <a:ext cx="152280" cy="304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2" name=""/>
                <p:cNvSpPr/>
                <p:nvPr/>
              </p:nvSpPr>
              <p:spPr>
                <a:xfrm>
                  <a:off x="84582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3" name=""/>
            <p:cNvSpPr/>
            <p:nvPr/>
          </p:nvSpPr>
          <p:spPr>
            <a:xfrm>
              <a:off x="8915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7543800" y="3962520"/>
            <a:ext cx="1523880" cy="304920"/>
            <a:chOff x="7543800" y="3962520"/>
            <a:chExt cx="1523880" cy="304920"/>
          </a:xfrm>
        </p:grpSpPr>
        <p:sp>
          <p:nvSpPr>
            <p:cNvPr id="1125" name=""/>
            <p:cNvSpPr/>
            <p:nvPr/>
          </p:nvSpPr>
          <p:spPr>
            <a:xfrm>
              <a:off x="8915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7543800" y="3962520"/>
              <a:ext cx="1295280" cy="304920"/>
              <a:chOff x="7543800" y="3962520"/>
              <a:chExt cx="1295280" cy="30492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7543800" y="3962520"/>
                <a:ext cx="1066680" cy="304920"/>
                <a:chOff x="7543800" y="3962520"/>
                <a:chExt cx="1066680" cy="30492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75438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7724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0010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82296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458200" y="3962520"/>
                  <a:ext cx="152280" cy="304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8686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4" name=""/>
          <p:cNvGrpSpPr/>
          <p:nvPr/>
        </p:nvGrpSpPr>
        <p:grpSpPr>
          <a:xfrm>
            <a:off x="7772400" y="3962520"/>
            <a:ext cx="1295280" cy="304920"/>
            <a:chOff x="7772400" y="3962520"/>
            <a:chExt cx="1295280" cy="304920"/>
          </a:xfrm>
        </p:grpSpPr>
        <p:grpSp>
          <p:nvGrpSpPr>
            <p:cNvPr id="1135" name=""/>
            <p:cNvGrpSpPr/>
            <p:nvPr/>
          </p:nvGrpSpPr>
          <p:grpSpPr>
            <a:xfrm>
              <a:off x="7772400" y="3962520"/>
              <a:ext cx="1066680" cy="304920"/>
              <a:chOff x="7772400" y="3962520"/>
              <a:chExt cx="1066680" cy="304920"/>
            </a:xfrm>
          </p:grpSpPr>
          <p:sp>
            <p:nvSpPr>
              <p:cNvPr id="1136" name=""/>
              <p:cNvSpPr/>
              <p:nvPr/>
            </p:nvSpPr>
            <p:spPr>
              <a:xfrm>
                <a:off x="77724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010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2296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4582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686800" y="3962520"/>
                <a:ext cx="152280" cy="30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8915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8001000" y="3962520"/>
            <a:ext cx="1066680" cy="304920"/>
            <a:chOff x="8001000" y="3962520"/>
            <a:chExt cx="1066680" cy="304920"/>
          </a:xfrm>
        </p:grpSpPr>
        <p:sp>
          <p:nvSpPr>
            <p:cNvPr id="1143" name=""/>
            <p:cNvSpPr/>
            <p:nvPr/>
          </p:nvSpPr>
          <p:spPr>
            <a:xfrm>
              <a:off x="80010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229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458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686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915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8229600" y="3962520"/>
            <a:ext cx="838080" cy="304920"/>
            <a:chOff x="8229600" y="3962520"/>
            <a:chExt cx="838080" cy="304920"/>
          </a:xfrm>
        </p:grpSpPr>
        <p:sp>
          <p:nvSpPr>
            <p:cNvPr id="1149" name=""/>
            <p:cNvSpPr/>
            <p:nvPr/>
          </p:nvSpPr>
          <p:spPr>
            <a:xfrm>
              <a:off x="82296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458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686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915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8458200" y="3962520"/>
            <a:ext cx="609480" cy="304920"/>
            <a:chOff x="8458200" y="3962520"/>
            <a:chExt cx="609480" cy="304920"/>
          </a:xfrm>
        </p:grpSpPr>
        <p:sp>
          <p:nvSpPr>
            <p:cNvPr id="1154" name=""/>
            <p:cNvSpPr/>
            <p:nvPr/>
          </p:nvSpPr>
          <p:spPr>
            <a:xfrm>
              <a:off x="84582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686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915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8686800" y="3962520"/>
            <a:ext cx="380880" cy="304920"/>
            <a:chOff x="8686800" y="3962520"/>
            <a:chExt cx="380880" cy="304920"/>
          </a:xfrm>
        </p:grpSpPr>
        <p:sp>
          <p:nvSpPr>
            <p:cNvPr id="1158" name=""/>
            <p:cNvSpPr/>
            <p:nvPr/>
          </p:nvSpPr>
          <p:spPr>
            <a:xfrm>
              <a:off x="86868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915400" y="39625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"/>
          <p:cNvSpPr txBox="1"/>
          <p:nvPr/>
        </p:nvSpPr>
        <p:spPr>
          <a:xfrm>
            <a:off x="8915400" y="3962520"/>
            <a:ext cx="152280" cy="337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P Forwarding with 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441360" y="1203480"/>
            <a:ext cx="8396280" cy="4070520"/>
            <a:chOff x="441360" y="1203480"/>
            <a:chExt cx="8396280" cy="4070520"/>
          </a:xfrm>
        </p:grpSpPr>
        <p:sp>
          <p:nvSpPr>
            <p:cNvPr id="1163" name=""/>
            <p:cNvSpPr txBox="1"/>
            <p:nvPr/>
          </p:nvSpPr>
          <p:spPr>
            <a:xfrm>
              <a:off x="441360" y="469440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170760" y="441972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121200" y="1905120"/>
              <a:ext cx="3048120" cy="3048120"/>
            </a:xfrm>
            <a:prstGeom prst="rect">
              <a:avLst/>
            </a:prstGeom>
            <a:solidFill>
              <a:srgbClr val="83d8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274920" y="3581280"/>
              <a:ext cx="274320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274920" y="2057400"/>
              <a:ext cx="274320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3411360" y="1951200"/>
              <a:ext cx="238608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process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3259080" y="3475080"/>
              <a:ext cx="27687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TM switch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770960" y="3657600"/>
              <a:ext cx="1066680" cy="1066680"/>
            </a:xfrm>
            <a:prstGeom prst="rect">
              <a:avLst/>
            </a:prstGeom>
            <a:solidFill>
              <a:srgbClr val="83d8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7831080" y="469440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 txBox="1"/>
            <p:nvPr/>
          </p:nvSpPr>
          <p:spPr>
            <a:xfrm>
              <a:off x="3868560" y="1203480"/>
              <a:ext cx="13017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22440" y="434340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903320" y="3352680"/>
              <a:ext cx="762120" cy="167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55760" y="3657600"/>
              <a:ext cx="1066680" cy="1066680"/>
            </a:xfrm>
            <a:prstGeom prst="rect">
              <a:avLst/>
            </a:prstGeom>
            <a:solidFill>
              <a:srgbClr val="83d8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629400" y="3429000"/>
              <a:ext cx="762120" cy="167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"/>
          <p:cNvSpPr txBox="1"/>
          <p:nvPr/>
        </p:nvSpPr>
        <p:spPr>
          <a:xfrm>
            <a:off x="671400" y="5456160"/>
            <a:ext cx="72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&lt; Cut-thru mode =&gt; Hop-Hop mode 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824040" y="1752480"/>
            <a:ext cx="7842240" cy="1905120"/>
            <a:chOff x="824040" y="1752480"/>
            <a:chExt cx="7842240" cy="1905120"/>
          </a:xfrm>
        </p:grpSpPr>
        <p:sp>
          <p:nvSpPr>
            <p:cNvPr id="1179" name=""/>
            <p:cNvSpPr/>
            <p:nvPr/>
          </p:nvSpPr>
          <p:spPr>
            <a:xfrm flipV="1">
              <a:off x="1295280" y="1752480"/>
              <a:ext cx="1905120" cy="182880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flipV="1">
              <a:off x="6172200" y="1752480"/>
              <a:ext cx="2057400" cy="190512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 txBox="1"/>
            <p:nvPr/>
          </p:nvSpPr>
          <p:spPr>
            <a:xfrm>
              <a:off x="824040" y="227016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 txBox="1"/>
            <p:nvPr/>
          </p:nvSpPr>
          <p:spPr>
            <a:xfrm>
              <a:off x="6310440" y="234648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824040" y="1752480"/>
            <a:ext cx="7842240" cy="1905120"/>
            <a:chOff x="824040" y="1752480"/>
            <a:chExt cx="7842240" cy="1905120"/>
          </a:xfrm>
        </p:grpSpPr>
        <p:sp>
          <p:nvSpPr>
            <p:cNvPr id="1184" name=""/>
            <p:cNvSpPr/>
            <p:nvPr/>
          </p:nvSpPr>
          <p:spPr>
            <a:xfrm flipV="1">
              <a:off x="1295280" y="1752480"/>
              <a:ext cx="1905120" cy="182880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 flipV="1">
              <a:off x="6172200" y="1752480"/>
              <a:ext cx="2057400" cy="190512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 txBox="1"/>
            <p:nvPr/>
          </p:nvSpPr>
          <p:spPr>
            <a:xfrm>
              <a:off x="824040" y="227016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 txBox="1"/>
            <p:nvPr/>
          </p:nvSpPr>
          <p:spPr>
            <a:xfrm>
              <a:off x="6310440" y="234648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824040" y="1752480"/>
            <a:ext cx="7842240" cy="1905120"/>
            <a:chOff x="824040" y="1752480"/>
            <a:chExt cx="7842240" cy="1905120"/>
          </a:xfrm>
        </p:grpSpPr>
        <p:sp>
          <p:nvSpPr>
            <p:cNvPr id="1189" name=""/>
            <p:cNvSpPr/>
            <p:nvPr/>
          </p:nvSpPr>
          <p:spPr>
            <a:xfrm flipV="1">
              <a:off x="1295280" y="1752480"/>
              <a:ext cx="1905120" cy="182880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6172200" y="1752480"/>
              <a:ext cx="2057400" cy="1905120"/>
            </a:xfrm>
            <a:prstGeom prst="line">
              <a:avLst/>
            </a:prstGeom>
            <a:ln w="12708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 txBox="1"/>
            <p:nvPr/>
          </p:nvSpPr>
          <p:spPr>
            <a:xfrm>
              <a:off x="824040" y="227016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 txBox="1"/>
            <p:nvPr/>
          </p:nvSpPr>
          <p:spPr>
            <a:xfrm>
              <a:off x="6310440" y="2346480"/>
              <a:ext cx="235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‚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e‚`‚m‚o Me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380880" y="4572000"/>
            <a:ext cx="8610840" cy="0"/>
          </a:xfrm>
          <a:prstGeom prst="line">
            <a:avLst/>
          </a:prstGeom>
          <a:ln w="127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3360" rIns="153360" tIns="-108360" bIns="-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P Forwarding with 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441360" y="1203480"/>
            <a:ext cx="8396280" cy="4070520"/>
            <a:chOff x="441360" y="1203480"/>
            <a:chExt cx="8396280" cy="4070520"/>
          </a:xfrm>
        </p:grpSpPr>
        <p:sp>
          <p:nvSpPr>
            <p:cNvPr id="1196" name=""/>
            <p:cNvSpPr txBox="1"/>
            <p:nvPr/>
          </p:nvSpPr>
          <p:spPr>
            <a:xfrm>
              <a:off x="441360" y="469440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70760" y="441972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3121200" y="1905120"/>
              <a:ext cx="3048120" cy="3048120"/>
              <a:chOff x="3121200" y="1905120"/>
              <a:chExt cx="3048120" cy="3048120"/>
            </a:xfrm>
          </p:grpSpPr>
          <p:sp>
            <p:nvSpPr>
              <p:cNvPr id="1199" name=""/>
              <p:cNvSpPr/>
              <p:nvPr/>
            </p:nvSpPr>
            <p:spPr>
              <a:xfrm>
                <a:off x="3121200" y="1905120"/>
                <a:ext cx="3048120" cy="3048120"/>
              </a:xfrm>
              <a:prstGeom prst="rect">
                <a:avLst/>
              </a:prstGeom>
              <a:solidFill>
                <a:srgbClr val="83d8fe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3259080" y="1951200"/>
                <a:ext cx="2768760" cy="2849400"/>
                <a:chOff x="3259080" y="1951200"/>
                <a:chExt cx="2768760" cy="284940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3274920" y="3581280"/>
                  <a:ext cx="2743200" cy="1219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274920" y="2057400"/>
                  <a:ext cx="2743200" cy="1219320"/>
                </a:xfrm>
                <a:prstGeom prst="rect">
                  <a:avLst/>
                </a:prstGeom>
                <a:solidFill>
                  <a:srgbClr val="ff66ff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 txBox="1"/>
                <p:nvPr/>
              </p:nvSpPr>
              <p:spPr>
                <a:xfrm>
                  <a:off x="3411360" y="1951200"/>
                  <a:ext cx="23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P processing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 txBox="1"/>
                <p:nvPr/>
              </p:nvSpPr>
              <p:spPr>
                <a:xfrm>
                  <a:off x="3259080" y="3475080"/>
                  <a:ext cx="2768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TM switching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5" name=""/>
            <p:cNvSpPr/>
            <p:nvPr/>
          </p:nvSpPr>
          <p:spPr>
            <a:xfrm>
              <a:off x="7770960" y="3657600"/>
              <a:ext cx="1066680" cy="1066680"/>
            </a:xfrm>
            <a:prstGeom prst="rect">
              <a:avLst/>
            </a:prstGeom>
            <a:solidFill>
              <a:srgbClr val="83d8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 txBox="1"/>
            <p:nvPr/>
          </p:nvSpPr>
          <p:spPr>
            <a:xfrm>
              <a:off x="7831080" y="469440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 txBox="1"/>
            <p:nvPr/>
          </p:nvSpPr>
          <p:spPr>
            <a:xfrm>
              <a:off x="3868560" y="1203480"/>
              <a:ext cx="13017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22440" y="434340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903320" y="3352680"/>
              <a:ext cx="762120" cy="167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5760" y="3657600"/>
              <a:ext cx="1066680" cy="1066680"/>
            </a:xfrm>
            <a:prstGeom prst="rect">
              <a:avLst/>
            </a:prstGeom>
            <a:solidFill>
              <a:srgbClr val="83d8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629400" y="3429000"/>
              <a:ext cx="762120" cy="167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1127160" y="3124080"/>
            <a:ext cx="6823080" cy="2911680"/>
            <a:chOff x="1127160" y="3124080"/>
            <a:chExt cx="6823080" cy="2911680"/>
          </a:xfrm>
        </p:grpSpPr>
        <p:sp>
          <p:nvSpPr>
            <p:cNvPr id="1213" name=""/>
            <p:cNvSpPr/>
            <p:nvPr/>
          </p:nvSpPr>
          <p:spPr>
            <a:xfrm>
              <a:off x="1523880" y="3124080"/>
              <a:ext cx="6324840" cy="1143360"/>
            </a:xfrm>
            <a:custGeom>
              <a:avLst/>
              <a:gdLst/>
              <a:ahLst/>
              <a:rect l="0" t="0" r="r" b="b"/>
              <a:pathLst>
                <a:path fill="none" w="17569" h="3176">
                  <a:moveTo>
                    <a:pt x="0" y="2964"/>
                  </a:moveTo>
                  <a:lnTo>
                    <a:pt x="4656" y="2964"/>
                  </a:lnTo>
                  <a:lnTo>
                    <a:pt x="4656" y="0"/>
                  </a:lnTo>
                  <a:lnTo>
                    <a:pt x="12701" y="0"/>
                  </a:lnTo>
                  <a:lnTo>
                    <a:pt x="12701" y="3176"/>
                  </a:lnTo>
                  <a:lnTo>
                    <a:pt x="17569" y="3176"/>
                  </a:lnTo>
                </a:path>
              </a:pathLst>
            </a:custGeom>
            <a:ln w="127080">
              <a:solidFill>
                <a:srgbClr val="fc0128"/>
              </a:solidFill>
              <a:round/>
              <a:tailEnd len="med" type="triangle" w="med"/>
            </a:ln>
          </p:spPr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1127160" y="5456160"/>
              <a:ext cx="682308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&lt;&lt; Hop-by-Hop packet forwarding &gt;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228600" y="3200400"/>
            <a:ext cx="1371600" cy="304920"/>
            <a:chOff x="228600" y="3200400"/>
            <a:chExt cx="1371600" cy="304920"/>
          </a:xfrm>
        </p:grpSpPr>
        <p:sp>
          <p:nvSpPr>
            <p:cNvPr id="1216" name=""/>
            <p:cNvSpPr/>
            <p:nvPr/>
          </p:nvSpPr>
          <p:spPr>
            <a:xfrm>
              <a:off x="228600" y="3200400"/>
              <a:ext cx="1371600" cy="3049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208160" y="3259080"/>
              <a:ext cx="326880" cy="184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779040" y="2912400"/>
            <a:ext cx="1185840" cy="1185840"/>
            <a:chOff x="779040" y="2912400"/>
            <a:chExt cx="1185840" cy="1185840"/>
          </a:xfrm>
        </p:grpSpPr>
        <p:sp>
          <p:nvSpPr>
            <p:cNvPr id="1219" name=""/>
            <p:cNvSpPr/>
            <p:nvPr/>
          </p:nvSpPr>
          <p:spPr>
            <a:xfrm>
              <a:off x="779040" y="2912400"/>
              <a:ext cx="1185840" cy="1185840"/>
            </a:xfrm>
            <a:custGeom>
              <a:avLst/>
              <a:gdLst/>
              <a:ahLst/>
              <a:rect l="0" t="0" r="r" b="b"/>
              <a:pathLst>
                <a:path w="3294" h="3294">
                  <a:moveTo>
                    <a:pt x="0" y="598"/>
                  </a:moveTo>
                  <a:lnTo>
                    <a:pt x="2696" y="3294"/>
                  </a:lnTo>
                  <a:lnTo>
                    <a:pt x="3294" y="2696"/>
                  </a:lnTo>
                  <a:lnTo>
                    <a:pt x="598" y="0"/>
                  </a:lnTo>
                  <a:lnTo>
                    <a:pt x="0" y="598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513440" y="3645720"/>
              <a:ext cx="363960" cy="363960"/>
            </a:xfrm>
            <a:custGeom>
              <a:avLst/>
              <a:gdLst/>
              <a:ahLst/>
              <a:rect l="0" t="0" r="r" b="b"/>
              <a:pathLst>
                <a:path w="1011" h="1011">
                  <a:moveTo>
                    <a:pt x="0" y="361"/>
                  </a:moveTo>
                  <a:lnTo>
                    <a:pt x="649" y="1011"/>
                  </a:lnTo>
                  <a:lnTo>
                    <a:pt x="1011" y="649"/>
                  </a:lnTo>
                  <a:lnTo>
                    <a:pt x="361" y="0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1295280" y="2743200"/>
            <a:ext cx="304920" cy="1371600"/>
            <a:chOff x="1295280" y="2743200"/>
            <a:chExt cx="304920" cy="1371600"/>
          </a:xfrm>
        </p:grpSpPr>
        <p:sp>
          <p:nvSpPr>
            <p:cNvPr id="1222" name=""/>
            <p:cNvSpPr/>
            <p:nvPr/>
          </p:nvSpPr>
          <p:spPr>
            <a:xfrm>
              <a:off x="1295280" y="2743200"/>
              <a:ext cx="304920" cy="13716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57200" y="3722760"/>
              <a:ext cx="184320" cy="32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1600200" y="3733920"/>
            <a:ext cx="15228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600200" y="3733920"/>
            <a:ext cx="380880" cy="304920"/>
            <a:chOff x="1600200" y="3733920"/>
            <a:chExt cx="380880" cy="304920"/>
          </a:xfrm>
        </p:grpSpPr>
        <p:sp>
          <p:nvSpPr>
            <p:cNvPr id="1226" name=""/>
            <p:cNvSpPr/>
            <p:nvPr/>
          </p:nvSpPr>
          <p:spPr>
            <a:xfrm>
              <a:off x="1600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1600200" y="3733920"/>
            <a:ext cx="609480" cy="304920"/>
            <a:chOff x="1600200" y="3733920"/>
            <a:chExt cx="609480" cy="304920"/>
          </a:xfrm>
        </p:grpSpPr>
        <p:sp>
          <p:nvSpPr>
            <p:cNvPr id="1229" name=""/>
            <p:cNvSpPr/>
            <p:nvPr/>
          </p:nvSpPr>
          <p:spPr>
            <a:xfrm>
              <a:off x="1600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600200" y="3733920"/>
            <a:ext cx="838080" cy="304920"/>
            <a:chOff x="1600200" y="3733920"/>
            <a:chExt cx="838080" cy="304920"/>
          </a:xfrm>
        </p:grpSpPr>
        <p:sp>
          <p:nvSpPr>
            <p:cNvPr id="1233" name=""/>
            <p:cNvSpPr/>
            <p:nvPr/>
          </p:nvSpPr>
          <p:spPr>
            <a:xfrm>
              <a:off x="1600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600200" y="3733920"/>
            <a:ext cx="1066680" cy="304920"/>
            <a:chOff x="1600200" y="3733920"/>
            <a:chExt cx="1066680" cy="304920"/>
          </a:xfrm>
        </p:grpSpPr>
        <p:sp>
          <p:nvSpPr>
            <p:cNvPr id="1238" name=""/>
            <p:cNvSpPr/>
            <p:nvPr/>
          </p:nvSpPr>
          <p:spPr>
            <a:xfrm>
              <a:off x="1600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1828800" y="3733920"/>
            <a:ext cx="1066680" cy="304920"/>
            <a:chOff x="1828800" y="3733920"/>
            <a:chExt cx="1066680" cy="304920"/>
          </a:xfrm>
        </p:grpSpPr>
        <p:sp>
          <p:nvSpPr>
            <p:cNvPr id="1244" name=""/>
            <p:cNvSpPr/>
            <p:nvPr/>
          </p:nvSpPr>
          <p:spPr>
            <a:xfrm>
              <a:off x="1828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2057400" y="3733920"/>
            <a:ext cx="1066680" cy="304920"/>
            <a:chOff x="2057400" y="3733920"/>
            <a:chExt cx="1066680" cy="304920"/>
          </a:xfrm>
        </p:grpSpPr>
        <p:sp>
          <p:nvSpPr>
            <p:cNvPr id="1250" name=""/>
            <p:cNvSpPr/>
            <p:nvPr/>
          </p:nvSpPr>
          <p:spPr>
            <a:xfrm>
              <a:off x="20574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971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286000" y="3733920"/>
            <a:ext cx="838080" cy="304920"/>
            <a:chOff x="2286000" y="3733920"/>
            <a:chExt cx="838080" cy="304920"/>
          </a:xfrm>
        </p:grpSpPr>
        <p:sp>
          <p:nvSpPr>
            <p:cNvPr id="1256" name=""/>
            <p:cNvSpPr/>
            <p:nvPr/>
          </p:nvSpPr>
          <p:spPr>
            <a:xfrm>
              <a:off x="22860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71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2514600" y="3733920"/>
            <a:ext cx="609480" cy="304920"/>
            <a:chOff x="2514600" y="3733920"/>
            <a:chExt cx="609480" cy="304920"/>
          </a:xfrm>
        </p:grpSpPr>
        <p:sp>
          <p:nvSpPr>
            <p:cNvPr id="1261" name=""/>
            <p:cNvSpPr/>
            <p:nvPr/>
          </p:nvSpPr>
          <p:spPr>
            <a:xfrm>
              <a:off x="25146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71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2743200" y="3733920"/>
            <a:ext cx="380880" cy="304920"/>
            <a:chOff x="2743200" y="3733920"/>
            <a:chExt cx="380880" cy="304920"/>
          </a:xfrm>
        </p:grpSpPr>
        <p:sp>
          <p:nvSpPr>
            <p:cNvPr id="1265" name=""/>
            <p:cNvSpPr/>
            <p:nvPr/>
          </p:nvSpPr>
          <p:spPr>
            <a:xfrm>
              <a:off x="27432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971800" y="3733920"/>
              <a:ext cx="152280" cy="30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2971800" y="3733920"/>
            <a:ext cx="15228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352680" y="2209680"/>
            <a:ext cx="304920" cy="1371600"/>
            <a:chOff x="3352680" y="2209680"/>
            <a:chExt cx="304920" cy="1371600"/>
          </a:xfrm>
        </p:grpSpPr>
        <p:sp>
          <p:nvSpPr>
            <p:cNvPr id="1269" name=""/>
            <p:cNvSpPr/>
            <p:nvPr/>
          </p:nvSpPr>
          <p:spPr>
            <a:xfrm>
              <a:off x="3352680" y="2209680"/>
              <a:ext cx="304920" cy="13716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11360" y="2274840"/>
              <a:ext cx="184320" cy="32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3078360" y="1985400"/>
            <a:ext cx="1158840" cy="1211400"/>
            <a:chOff x="3078360" y="1985400"/>
            <a:chExt cx="1158840" cy="1211400"/>
          </a:xfrm>
        </p:grpSpPr>
        <p:sp>
          <p:nvSpPr>
            <p:cNvPr id="1272" name=""/>
            <p:cNvSpPr/>
            <p:nvPr/>
          </p:nvSpPr>
          <p:spPr>
            <a:xfrm>
              <a:off x="3078360" y="1985400"/>
              <a:ext cx="1158840" cy="1211400"/>
            </a:xfrm>
            <a:custGeom>
              <a:avLst/>
              <a:gdLst/>
              <a:ahLst/>
              <a:rect l="0" t="0" r="r" b="b"/>
              <a:pathLst>
                <a:path w="3219" h="3365">
                  <a:moveTo>
                    <a:pt x="2600" y="0"/>
                  </a:moveTo>
                  <a:lnTo>
                    <a:pt x="0" y="2788"/>
                  </a:lnTo>
                  <a:lnTo>
                    <a:pt x="619" y="3365"/>
                  </a:lnTo>
                  <a:lnTo>
                    <a:pt x="3219" y="577"/>
                  </a:lnTo>
                  <a:lnTo>
                    <a:pt x="2600" y="0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87920" y="2071440"/>
              <a:ext cx="360360" cy="367560"/>
            </a:xfrm>
            <a:custGeom>
              <a:avLst/>
              <a:gdLst/>
              <a:ahLst/>
              <a:rect l="0" t="0" r="r" b="b"/>
              <a:pathLst>
                <a:path w="1001" h="1021">
                  <a:moveTo>
                    <a:pt x="623" y="0"/>
                  </a:moveTo>
                  <a:lnTo>
                    <a:pt x="0" y="668"/>
                  </a:lnTo>
                  <a:lnTo>
                    <a:pt x="378" y="1021"/>
                  </a:lnTo>
                  <a:lnTo>
                    <a:pt x="1001" y="352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3886200" y="2666880"/>
            <a:ext cx="1371600" cy="304920"/>
            <a:chOff x="3886200" y="2666880"/>
            <a:chExt cx="1371600" cy="304920"/>
          </a:xfrm>
        </p:grpSpPr>
        <p:sp>
          <p:nvSpPr>
            <p:cNvPr id="1275" name=""/>
            <p:cNvSpPr/>
            <p:nvPr/>
          </p:nvSpPr>
          <p:spPr>
            <a:xfrm>
              <a:off x="3886200" y="2666880"/>
              <a:ext cx="1371600" cy="3049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65760" y="2725560"/>
              <a:ext cx="326880" cy="184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152280" y="76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unctions and VC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57200" y="11430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t-thru Path Establishment (with local dec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NI Functionalities (i.e.,client functio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ANP(Flow Attribute Notification 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low Driven and Topology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289080" y="3002040"/>
            <a:ext cx="8602560" cy="2987280"/>
            <a:chOff x="289080" y="3002040"/>
            <a:chExt cx="8602560" cy="2987280"/>
          </a:xfrm>
        </p:grpSpPr>
        <p:sp>
          <p:nvSpPr>
            <p:cNvPr id="1280" name=""/>
            <p:cNvSpPr/>
            <p:nvPr/>
          </p:nvSpPr>
          <p:spPr>
            <a:xfrm>
              <a:off x="2666880" y="3962520"/>
              <a:ext cx="1143000" cy="1676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257800" y="3962520"/>
              <a:ext cx="1143000" cy="1676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57200" y="3962520"/>
              <a:ext cx="838080" cy="1676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772400" y="3962520"/>
              <a:ext cx="838080" cy="1676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143000" y="4114800"/>
              <a:ext cx="1600200" cy="152280"/>
            </a:xfrm>
            <a:prstGeom prst="rect">
              <a:avLst/>
            </a:prstGeom>
            <a:solidFill>
              <a:srgbClr val="fd36c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33920" y="4114800"/>
              <a:ext cx="1600200" cy="152280"/>
            </a:xfrm>
            <a:prstGeom prst="rect">
              <a:avLst/>
            </a:prstGeom>
            <a:solidFill>
              <a:srgbClr val="fd36c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324480" y="4114800"/>
              <a:ext cx="1600200" cy="152280"/>
            </a:xfrm>
            <a:prstGeom prst="rect">
              <a:avLst/>
            </a:prstGeom>
            <a:solidFill>
              <a:srgbClr val="fd36c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743200" y="4038480"/>
              <a:ext cx="99072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 txBox="1"/>
            <p:nvPr/>
          </p:nvSpPr>
          <p:spPr>
            <a:xfrm>
              <a:off x="2651040" y="4014720"/>
              <a:ext cx="1193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34120" y="4038480"/>
              <a:ext cx="99072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 txBox="1"/>
            <p:nvPr/>
          </p:nvSpPr>
          <p:spPr>
            <a:xfrm>
              <a:off x="5241960" y="4014720"/>
              <a:ext cx="1193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 txBox="1"/>
            <p:nvPr/>
          </p:nvSpPr>
          <p:spPr>
            <a:xfrm>
              <a:off x="289080" y="5592600"/>
              <a:ext cx="1130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ost X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 txBox="1"/>
            <p:nvPr/>
          </p:nvSpPr>
          <p:spPr>
            <a:xfrm>
              <a:off x="2879640" y="5592600"/>
              <a:ext cx="882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 txBox="1"/>
            <p:nvPr/>
          </p:nvSpPr>
          <p:spPr>
            <a:xfrm>
              <a:off x="5394240" y="5592600"/>
              <a:ext cx="882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SR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 txBox="1"/>
            <p:nvPr/>
          </p:nvSpPr>
          <p:spPr>
            <a:xfrm>
              <a:off x="7680240" y="559260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ost Z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6680" y="3809880"/>
              <a:ext cx="175284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 txBox="1"/>
            <p:nvPr/>
          </p:nvSpPr>
          <p:spPr>
            <a:xfrm>
              <a:off x="1279440" y="3459240"/>
              <a:ext cx="1511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 Subnet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657600" y="3809880"/>
              <a:ext cx="17524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 txBox="1"/>
            <p:nvPr/>
          </p:nvSpPr>
          <p:spPr>
            <a:xfrm>
              <a:off x="3870360" y="3459240"/>
              <a:ext cx="1511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 Subnet 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095880" y="3809880"/>
              <a:ext cx="19051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 txBox="1"/>
            <p:nvPr/>
          </p:nvSpPr>
          <p:spPr>
            <a:xfrm>
              <a:off x="6308640" y="3459240"/>
              <a:ext cx="1496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 Subnet 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 txBox="1"/>
            <p:nvPr/>
          </p:nvSpPr>
          <p:spPr>
            <a:xfrm>
              <a:off x="7451640" y="3002040"/>
              <a:ext cx="1440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Default-V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7467480" y="3352680"/>
              <a:ext cx="533520" cy="7621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1143000" y="5410080"/>
            <a:ext cx="2468880" cy="960480"/>
            <a:chOff x="1143000" y="5410080"/>
            <a:chExt cx="2468880" cy="960480"/>
          </a:xfrm>
        </p:grpSpPr>
        <p:sp>
          <p:nvSpPr>
            <p:cNvPr id="1304" name=""/>
            <p:cNvSpPr/>
            <p:nvPr/>
          </p:nvSpPr>
          <p:spPr>
            <a:xfrm>
              <a:off x="1143000" y="5410080"/>
              <a:ext cx="1676520" cy="15228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 txBox="1"/>
            <p:nvPr/>
          </p:nvSpPr>
          <p:spPr>
            <a:xfrm>
              <a:off x="1889280" y="5973840"/>
              <a:ext cx="1722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Dedicated-V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2057400" y="5562720"/>
              <a:ext cx="304920" cy="4572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3657600" y="5410080"/>
            <a:ext cx="17524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248520" y="5410080"/>
            <a:ext cx="167652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2819520" y="5334120"/>
            <a:ext cx="4551120" cy="1112400"/>
            <a:chOff x="2819520" y="5334120"/>
            <a:chExt cx="4551120" cy="1112400"/>
          </a:xfrm>
        </p:grpSpPr>
        <p:sp>
          <p:nvSpPr>
            <p:cNvPr id="1310" name=""/>
            <p:cNvSpPr/>
            <p:nvPr/>
          </p:nvSpPr>
          <p:spPr>
            <a:xfrm>
              <a:off x="5410080" y="5334120"/>
              <a:ext cx="838080" cy="152280"/>
            </a:xfrm>
            <a:prstGeom prst="rect">
              <a:avLst/>
            </a:pr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819520" y="5334120"/>
              <a:ext cx="838080" cy="152280"/>
            </a:xfrm>
            <a:prstGeom prst="rect">
              <a:avLst/>
            </a:prstGeom>
            <a:blipFill rotWithShape="0">
              <a:blip r:embed="rId5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 txBox="1"/>
            <p:nvPr/>
          </p:nvSpPr>
          <p:spPr>
            <a:xfrm>
              <a:off x="4251240" y="6049800"/>
              <a:ext cx="3119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Coupling of dedicated-V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flipV="1">
              <a:off x="3429000" y="5486400"/>
              <a:ext cx="838080" cy="6094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1143000" y="4419720"/>
            <a:ext cx="6782040" cy="990360"/>
            <a:chOff x="1143000" y="4419720"/>
            <a:chExt cx="6782040" cy="990360"/>
          </a:xfrm>
        </p:grpSpPr>
        <p:sp>
          <p:nvSpPr>
            <p:cNvPr id="1315" name=""/>
            <p:cNvSpPr/>
            <p:nvPr/>
          </p:nvSpPr>
          <p:spPr>
            <a:xfrm>
              <a:off x="1143000" y="4495680"/>
              <a:ext cx="1676520" cy="152280"/>
            </a:xfrm>
            <a:prstGeom prst="rect">
              <a:avLst/>
            </a:prstGeom>
            <a:blipFill rotWithShape="0">
              <a:blip r:embed="rId6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657600" y="4495680"/>
              <a:ext cx="1752480" cy="152280"/>
            </a:xfrm>
            <a:prstGeom prst="rect">
              <a:avLst/>
            </a:prstGeom>
            <a:blipFill rotWithShape="0">
              <a:blip r:embed="rId7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48520" y="4495680"/>
              <a:ext cx="1676520" cy="152280"/>
            </a:xfrm>
            <a:prstGeom prst="rect">
              <a:avLst/>
            </a:prstGeom>
            <a:blipFill rotWithShape="0">
              <a:blip r:embed="rId8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819520" y="4419720"/>
              <a:ext cx="838080" cy="152280"/>
            </a:xfrm>
            <a:prstGeom prst="rect">
              <a:avLst/>
            </a:prstGeom>
            <a:blipFill rotWithShape="0">
              <a:blip r:embed="rId9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410080" y="4419720"/>
              <a:ext cx="838080" cy="152280"/>
            </a:xfrm>
            <a:prstGeom prst="rect">
              <a:avLst/>
            </a:prstGeom>
            <a:blipFill rotWithShape="0">
              <a:blip r:embed="rId10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143000" y="4800600"/>
              <a:ext cx="1676520" cy="152280"/>
            </a:xfrm>
            <a:prstGeom prst="rect">
              <a:avLst/>
            </a:prstGeom>
            <a:blipFill rotWithShape="0">
              <a:blip r:embed="rId1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657600" y="4800600"/>
              <a:ext cx="1752480" cy="152280"/>
            </a:xfrm>
            <a:prstGeom prst="rect">
              <a:avLst/>
            </a:prstGeom>
            <a:blipFill rotWithShape="0">
              <a:blip r:embed="rId1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248520" y="4800600"/>
              <a:ext cx="1676520" cy="152280"/>
            </a:xfrm>
            <a:prstGeom prst="rect">
              <a:avLst/>
            </a:prstGeom>
            <a:blipFill rotWithShape="0">
              <a:blip r:embed="rId1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819520" y="4724280"/>
              <a:ext cx="838080" cy="152280"/>
            </a:xfrm>
            <a:prstGeom prst="rect">
              <a:avLst/>
            </a:prstGeom>
            <a:blipFill rotWithShape="0">
              <a:blip r:embed="rId1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410080" y="4724280"/>
              <a:ext cx="838080" cy="152280"/>
            </a:xfrm>
            <a:prstGeom prst="rect">
              <a:avLst/>
            </a:prstGeom>
            <a:blipFill rotWithShape="0">
              <a:blip r:embed="rId15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905120" y="49528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200400" y="4876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72000" y="49528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91320" y="4876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86600" y="49528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 txBox="1"/>
          <p:nvPr/>
        </p:nvSpPr>
        <p:spPr>
          <a:xfrm>
            <a:off x="0" y="0"/>
            <a:ext cx="914256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nternetworking With Cell Switch Router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04920" y="1219320"/>
            <a:ext cx="8534160" cy="5181840"/>
            <a:chOff x="304920" y="1219320"/>
            <a:chExt cx="8534160" cy="5181840"/>
          </a:xfrm>
        </p:grpSpPr>
        <p:sp>
          <p:nvSpPr>
            <p:cNvPr id="1332" name=""/>
            <p:cNvSpPr/>
            <p:nvPr/>
          </p:nvSpPr>
          <p:spPr>
            <a:xfrm>
              <a:off x="1828800" y="4495680"/>
              <a:ext cx="2209680" cy="106668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b7a5"/>
                </a:gs>
              </a:gsLst>
              <a:path path="rect">
                <a:fillToRect l="0" t="0" r="100000" b="10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867280" y="2362320"/>
              <a:ext cx="2133720" cy="236232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b7a5"/>
                </a:gs>
              </a:gsLst>
              <a:path path="rect">
                <a:fillToRect l="0" t="0" r="100000" b="10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04920" y="1600200"/>
              <a:ext cx="1523880" cy="83808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b7a5"/>
                </a:gs>
              </a:gsLst>
              <a:path path="rect">
                <a:fillToRect l="0" t="0" r="100000" b="10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4343400" y="2590920"/>
              <a:ext cx="609480" cy="38088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2514600" y="2438280"/>
              <a:ext cx="0" cy="53352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 flipV="1">
              <a:off x="4495680" y="3276720"/>
              <a:ext cx="533520" cy="53316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2743200" y="3352680"/>
              <a:ext cx="76320" cy="53352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3581280" y="4038480"/>
              <a:ext cx="1219320" cy="99072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2362320" y="4267080"/>
              <a:ext cx="304560" cy="53352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5562720" y="3733920"/>
              <a:ext cx="609480" cy="15228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 flipV="1">
              <a:off x="2971800" y="4267080"/>
              <a:ext cx="457200" cy="76212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 flipV="1">
              <a:off x="5791320" y="2514600"/>
              <a:ext cx="1218960" cy="22860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 txBox="1"/>
            <p:nvPr/>
          </p:nvSpPr>
          <p:spPr>
            <a:xfrm>
              <a:off x="517680" y="1584360"/>
              <a:ext cx="12682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MP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 flipV="1">
              <a:off x="4724280" y="1981080"/>
              <a:ext cx="457200" cy="38124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1752480" y="2209680"/>
              <a:ext cx="381240" cy="15264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666880" y="1676520"/>
              <a:ext cx="304920" cy="53316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76520" y="2830680"/>
              <a:ext cx="3124080" cy="750960"/>
            </a:xfrm>
            <a:prstGeom prst="ellipse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618ff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 txBox="1"/>
            <p:nvPr/>
          </p:nvSpPr>
          <p:spPr>
            <a:xfrm>
              <a:off x="2346480" y="2971800"/>
              <a:ext cx="1768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"/>
            <p:cNvGrpSpPr/>
            <p:nvPr/>
          </p:nvGrpSpPr>
          <p:grpSpPr>
            <a:xfrm>
              <a:off x="6791400" y="1650960"/>
              <a:ext cx="666720" cy="495360"/>
              <a:chOff x="6791400" y="1650960"/>
              <a:chExt cx="666720" cy="495360"/>
            </a:xfrm>
          </p:grpSpPr>
          <p:sp>
            <p:nvSpPr>
              <p:cNvPr id="1351" name=""/>
              <p:cNvSpPr/>
              <p:nvPr/>
            </p:nvSpPr>
            <p:spPr>
              <a:xfrm>
                <a:off x="6791400" y="200340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791400" y="193356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791400" y="1863720"/>
                <a:ext cx="666720" cy="1396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91400" y="1792440"/>
                <a:ext cx="66672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791400" y="172080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791400" y="1650960"/>
                <a:ext cx="66672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1282680" y="5551560"/>
              <a:ext cx="735480" cy="849600"/>
              <a:chOff x="1282680" y="5551560"/>
              <a:chExt cx="735480" cy="849600"/>
            </a:xfrm>
          </p:grpSpPr>
          <p:sp>
            <p:nvSpPr>
              <p:cNvPr id="1358" name=""/>
              <p:cNvSpPr/>
              <p:nvPr/>
            </p:nvSpPr>
            <p:spPr>
              <a:xfrm>
                <a:off x="1282680" y="6288120"/>
                <a:ext cx="576360" cy="112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282680" y="6173640"/>
                <a:ext cx="735480" cy="114840"/>
              </a:xfrm>
              <a:custGeom>
                <a:avLst/>
                <a:gdLst/>
                <a:ahLst/>
                <a:rect l="0" t="0" r="r" b="b"/>
                <a:pathLst>
                  <a:path w="2043" h="319">
                    <a:moveTo>
                      <a:pt x="0" y="319"/>
                    </a:moveTo>
                    <a:lnTo>
                      <a:pt x="1021" y="0"/>
                    </a:lnTo>
                    <a:lnTo>
                      <a:pt x="2043" y="0"/>
                    </a:lnTo>
                    <a:lnTo>
                      <a:pt x="1606" y="319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0" name=""/>
              <p:cNvGrpSpPr/>
              <p:nvPr/>
            </p:nvGrpSpPr>
            <p:grpSpPr>
              <a:xfrm>
                <a:off x="1362240" y="5551560"/>
                <a:ext cx="628920" cy="706680"/>
                <a:chOff x="1362240" y="5551560"/>
                <a:chExt cx="628920" cy="70668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1362240" y="5634000"/>
                  <a:ext cx="496800" cy="6238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386000" y="5692680"/>
                  <a:ext cx="5400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467000" y="5692680"/>
                  <a:ext cx="5076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547640" y="5692680"/>
                  <a:ext cx="4752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623960" y="5692680"/>
                  <a:ext cx="5256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701720" y="5692680"/>
                  <a:ext cx="5076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779480" y="5692680"/>
                  <a:ext cx="5400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386000" y="5805360"/>
                  <a:ext cx="5400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467000" y="5805360"/>
                  <a:ext cx="5076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547640" y="5805360"/>
                  <a:ext cx="4752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623960" y="5805360"/>
                  <a:ext cx="5256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701720" y="5805360"/>
                  <a:ext cx="5076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779480" y="5805360"/>
                  <a:ext cx="5400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1386000" y="594684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1386000" y="6005520"/>
                  <a:ext cx="447840" cy="270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1386000" y="605952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1386000" y="611820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386000" y="617364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362240" y="5551560"/>
                  <a:ext cx="628920" cy="82800"/>
                </a:xfrm>
                <a:custGeom>
                  <a:avLst/>
                  <a:gdLst/>
                  <a:ahLst/>
                  <a:rect l="0" t="0" r="r" b="b"/>
                  <a:pathLst>
                    <a:path w="1747" h="230">
                      <a:moveTo>
                        <a:pt x="0" y="230"/>
                      </a:moveTo>
                      <a:lnTo>
                        <a:pt x="654" y="0"/>
                      </a:lnTo>
                      <a:lnTo>
                        <a:pt x="1747" y="0"/>
                      </a:lnTo>
                      <a:lnTo>
                        <a:pt x="1383" y="230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859040" y="5551560"/>
                  <a:ext cx="132120" cy="706680"/>
                </a:xfrm>
                <a:custGeom>
                  <a:avLst/>
                  <a:gdLst/>
                  <a:ahLst/>
                  <a:rect l="0" t="0" r="r" b="b"/>
                  <a:pathLst>
                    <a:path w="367" h="1963">
                      <a:moveTo>
                        <a:pt x="367" y="0"/>
                      </a:moveTo>
                      <a:lnTo>
                        <a:pt x="367" y="1727"/>
                      </a:lnTo>
                      <a:lnTo>
                        <a:pt x="0" y="1963"/>
                      </a:lnTo>
                      <a:lnTo>
                        <a:pt x="0" y="235"/>
                      </a:lnTo>
                      <a:lnTo>
                        <a:pt x="367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1" name=""/>
              <p:cNvSpPr/>
              <p:nvPr/>
            </p:nvSpPr>
            <p:spPr>
              <a:xfrm>
                <a:off x="1859040" y="6173640"/>
                <a:ext cx="159120" cy="227520"/>
              </a:xfrm>
              <a:custGeom>
                <a:avLst/>
                <a:gdLst/>
                <a:ahLst/>
                <a:rect l="0" t="0" r="r" b="b"/>
                <a:pathLst>
                  <a:path w="442" h="632">
                    <a:moveTo>
                      <a:pt x="442" y="0"/>
                    </a:moveTo>
                    <a:lnTo>
                      <a:pt x="442" y="237"/>
                    </a:lnTo>
                    <a:lnTo>
                      <a:pt x="0" y="632"/>
                    </a:lnTo>
                    <a:lnTo>
                      <a:pt x="0" y="316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3446640" y="5729400"/>
              <a:ext cx="668160" cy="565200"/>
              <a:chOff x="3446640" y="5729400"/>
              <a:chExt cx="668160" cy="565200"/>
            </a:xfrm>
          </p:grpSpPr>
          <p:sp>
            <p:nvSpPr>
              <p:cNvPr id="1383" name=""/>
              <p:cNvSpPr/>
              <p:nvPr/>
            </p:nvSpPr>
            <p:spPr>
              <a:xfrm>
                <a:off x="3446640" y="5729400"/>
                <a:ext cx="430200" cy="4111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492360" y="5778360"/>
                <a:ext cx="336600" cy="30960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543480" y="6140520"/>
                <a:ext cx="237960" cy="50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446640" y="6191280"/>
                <a:ext cx="430200" cy="1033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924360" y="5729400"/>
                <a:ext cx="190440" cy="5652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971880" y="5778360"/>
                <a:ext cx="96840" cy="5400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7988400" y="2351160"/>
              <a:ext cx="735480" cy="849600"/>
              <a:chOff x="7988400" y="2351160"/>
              <a:chExt cx="735480" cy="849600"/>
            </a:xfrm>
          </p:grpSpPr>
          <p:sp>
            <p:nvSpPr>
              <p:cNvPr id="1390" name=""/>
              <p:cNvSpPr/>
              <p:nvPr/>
            </p:nvSpPr>
            <p:spPr>
              <a:xfrm>
                <a:off x="7988400" y="3087720"/>
                <a:ext cx="576360" cy="112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988400" y="2973240"/>
                <a:ext cx="735480" cy="114840"/>
              </a:xfrm>
              <a:custGeom>
                <a:avLst/>
                <a:gdLst/>
                <a:ahLst/>
                <a:rect l="0" t="0" r="r" b="b"/>
                <a:pathLst>
                  <a:path w="2043" h="319">
                    <a:moveTo>
                      <a:pt x="0" y="319"/>
                    </a:moveTo>
                    <a:lnTo>
                      <a:pt x="1021" y="0"/>
                    </a:lnTo>
                    <a:lnTo>
                      <a:pt x="2043" y="0"/>
                    </a:lnTo>
                    <a:lnTo>
                      <a:pt x="1606" y="319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2" name=""/>
              <p:cNvGrpSpPr/>
              <p:nvPr/>
            </p:nvGrpSpPr>
            <p:grpSpPr>
              <a:xfrm>
                <a:off x="8067600" y="2351160"/>
                <a:ext cx="628920" cy="706680"/>
                <a:chOff x="8067600" y="2351160"/>
                <a:chExt cx="628920" cy="7066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8067600" y="2433600"/>
                  <a:ext cx="496800" cy="6238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091360" y="2492280"/>
                  <a:ext cx="5400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8172360" y="2492280"/>
                  <a:ext cx="5076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8253360" y="2492280"/>
                  <a:ext cx="4752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329680" y="2492280"/>
                  <a:ext cx="5256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407440" y="2492280"/>
                  <a:ext cx="5076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485200" y="2492280"/>
                  <a:ext cx="5400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8091360" y="2604960"/>
                  <a:ext cx="5400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172360" y="2604960"/>
                  <a:ext cx="5076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253360" y="2604960"/>
                  <a:ext cx="4752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329680" y="2604960"/>
                  <a:ext cx="5256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407440" y="2604960"/>
                  <a:ext cx="5076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485200" y="2604960"/>
                  <a:ext cx="5400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091360" y="274644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091360" y="2805120"/>
                  <a:ext cx="447840" cy="270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091360" y="285912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091360" y="291780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091360" y="297324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8067600" y="2351160"/>
                  <a:ext cx="628920" cy="82800"/>
                </a:xfrm>
                <a:custGeom>
                  <a:avLst/>
                  <a:gdLst/>
                  <a:ahLst/>
                  <a:rect l="0" t="0" r="r" b="b"/>
                  <a:pathLst>
                    <a:path w="1747" h="230">
                      <a:moveTo>
                        <a:pt x="0" y="230"/>
                      </a:moveTo>
                      <a:lnTo>
                        <a:pt x="654" y="0"/>
                      </a:lnTo>
                      <a:lnTo>
                        <a:pt x="1747" y="0"/>
                      </a:lnTo>
                      <a:lnTo>
                        <a:pt x="1383" y="230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8564400" y="2351160"/>
                  <a:ext cx="132120" cy="706680"/>
                </a:xfrm>
                <a:custGeom>
                  <a:avLst/>
                  <a:gdLst/>
                  <a:ahLst/>
                  <a:rect l="0" t="0" r="r" b="b"/>
                  <a:pathLst>
                    <a:path w="367" h="1963">
                      <a:moveTo>
                        <a:pt x="367" y="0"/>
                      </a:moveTo>
                      <a:lnTo>
                        <a:pt x="367" y="1727"/>
                      </a:lnTo>
                      <a:lnTo>
                        <a:pt x="0" y="1963"/>
                      </a:lnTo>
                      <a:lnTo>
                        <a:pt x="0" y="235"/>
                      </a:lnTo>
                      <a:lnTo>
                        <a:pt x="367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3" name=""/>
              <p:cNvSpPr/>
              <p:nvPr/>
            </p:nvSpPr>
            <p:spPr>
              <a:xfrm>
                <a:off x="8564400" y="2973240"/>
                <a:ext cx="159120" cy="227520"/>
              </a:xfrm>
              <a:custGeom>
                <a:avLst/>
                <a:gdLst/>
                <a:ahLst/>
                <a:rect l="0" t="0" r="r" b="b"/>
                <a:pathLst>
                  <a:path w="442" h="632">
                    <a:moveTo>
                      <a:pt x="442" y="0"/>
                    </a:moveTo>
                    <a:lnTo>
                      <a:pt x="442" y="237"/>
                    </a:lnTo>
                    <a:lnTo>
                      <a:pt x="0" y="632"/>
                    </a:lnTo>
                    <a:lnTo>
                      <a:pt x="0" y="316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7226280" y="4789440"/>
              <a:ext cx="735480" cy="849960"/>
              <a:chOff x="7226280" y="4789440"/>
              <a:chExt cx="735480" cy="849960"/>
            </a:xfrm>
          </p:grpSpPr>
          <p:sp>
            <p:nvSpPr>
              <p:cNvPr id="1415" name=""/>
              <p:cNvSpPr/>
              <p:nvPr/>
            </p:nvSpPr>
            <p:spPr>
              <a:xfrm>
                <a:off x="7226280" y="5526000"/>
                <a:ext cx="576360" cy="112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226280" y="5411880"/>
                <a:ext cx="735480" cy="114840"/>
              </a:xfrm>
              <a:custGeom>
                <a:avLst/>
                <a:gdLst/>
                <a:ahLst/>
                <a:rect l="0" t="0" r="r" b="b"/>
                <a:pathLst>
                  <a:path w="2043" h="319">
                    <a:moveTo>
                      <a:pt x="0" y="319"/>
                    </a:moveTo>
                    <a:lnTo>
                      <a:pt x="1021" y="0"/>
                    </a:lnTo>
                    <a:lnTo>
                      <a:pt x="2043" y="0"/>
                    </a:lnTo>
                    <a:lnTo>
                      <a:pt x="1606" y="319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7305840" y="4789440"/>
                <a:ext cx="628920" cy="706680"/>
                <a:chOff x="7305840" y="4789440"/>
                <a:chExt cx="628920" cy="70668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7305840" y="4871880"/>
                  <a:ext cx="496800" cy="6238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329600" y="4930920"/>
                  <a:ext cx="5400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7410600" y="4930920"/>
                  <a:ext cx="5076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491240" y="4930920"/>
                  <a:ext cx="4752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7567560" y="4930920"/>
                  <a:ext cx="5256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645320" y="4930920"/>
                  <a:ext cx="5076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723080" y="4930920"/>
                  <a:ext cx="54000" cy="82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7329600" y="5043600"/>
                  <a:ext cx="5400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410600" y="5043600"/>
                  <a:ext cx="5076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491240" y="5043600"/>
                  <a:ext cx="4752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567560" y="5043600"/>
                  <a:ext cx="5256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645320" y="5043600"/>
                  <a:ext cx="5076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7723080" y="5043600"/>
                  <a:ext cx="54000" cy="85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329600" y="518472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7329600" y="5243400"/>
                  <a:ext cx="447840" cy="270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329600" y="529740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329600" y="535608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329600" y="5411880"/>
                  <a:ext cx="447840" cy="284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305840" y="4789440"/>
                  <a:ext cx="628920" cy="82800"/>
                </a:xfrm>
                <a:custGeom>
                  <a:avLst/>
                  <a:gdLst/>
                  <a:ahLst/>
                  <a:rect l="0" t="0" r="r" b="b"/>
                  <a:pathLst>
                    <a:path w="1747" h="230">
                      <a:moveTo>
                        <a:pt x="0" y="230"/>
                      </a:moveTo>
                      <a:lnTo>
                        <a:pt x="654" y="0"/>
                      </a:lnTo>
                      <a:lnTo>
                        <a:pt x="1747" y="0"/>
                      </a:lnTo>
                      <a:lnTo>
                        <a:pt x="1383" y="230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802640" y="4789440"/>
                  <a:ext cx="132120" cy="706680"/>
                </a:xfrm>
                <a:custGeom>
                  <a:avLst/>
                  <a:gdLst/>
                  <a:ahLst/>
                  <a:rect l="0" t="0" r="r" b="b"/>
                  <a:pathLst>
                    <a:path w="367" h="1963">
                      <a:moveTo>
                        <a:pt x="367" y="0"/>
                      </a:moveTo>
                      <a:lnTo>
                        <a:pt x="367" y="1727"/>
                      </a:lnTo>
                      <a:lnTo>
                        <a:pt x="0" y="1963"/>
                      </a:lnTo>
                      <a:lnTo>
                        <a:pt x="0" y="235"/>
                      </a:lnTo>
                      <a:lnTo>
                        <a:pt x="367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8" name=""/>
              <p:cNvSpPr/>
              <p:nvPr/>
            </p:nvSpPr>
            <p:spPr>
              <a:xfrm>
                <a:off x="7802640" y="5411880"/>
                <a:ext cx="159120" cy="227520"/>
              </a:xfrm>
              <a:custGeom>
                <a:avLst/>
                <a:gdLst/>
                <a:ahLst/>
                <a:rect l="0" t="0" r="r" b="b"/>
                <a:pathLst>
                  <a:path w="442" h="632">
                    <a:moveTo>
                      <a:pt x="442" y="0"/>
                    </a:moveTo>
                    <a:lnTo>
                      <a:pt x="442" y="237"/>
                    </a:lnTo>
                    <a:lnTo>
                      <a:pt x="0" y="632"/>
                    </a:lnTo>
                    <a:lnTo>
                      <a:pt x="0" y="316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8170920" y="4890960"/>
              <a:ext cx="668160" cy="565560"/>
              <a:chOff x="8170920" y="4890960"/>
              <a:chExt cx="668160" cy="565560"/>
            </a:xfrm>
          </p:grpSpPr>
          <p:sp>
            <p:nvSpPr>
              <p:cNvPr id="1440" name=""/>
              <p:cNvSpPr/>
              <p:nvPr/>
            </p:nvSpPr>
            <p:spPr>
              <a:xfrm>
                <a:off x="8170920" y="4890960"/>
                <a:ext cx="430200" cy="4111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217000" y="4940280"/>
                <a:ext cx="336600" cy="30960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267760" y="5302080"/>
                <a:ext cx="237960" cy="50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170920" y="5353200"/>
                <a:ext cx="430200" cy="1033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648640" y="4890960"/>
                <a:ext cx="190440" cy="5652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696160" y="4940280"/>
                <a:ext cx="96840" cy="5400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6202440" y="4927680"/>
              <a:ext cx="668160" cy="495360"/>
              <a:chOff x="6202440" y="4927680"/>
              <a:chExt cx="668160" cy="495360"/>
            </a:xfrm>
          </p:grpSpPr>
          <p:sp>
            <p:nvSpPr>
              <p:cNvPr id="1447" name=""/>
              <p:cNvSpPr/>
              <p:nvPr/>
            </p:nvSpPr>
            <p:spPr>
              <a:xfrm>
                <a:off x="6202440" y="5280120"/>
                <a:ext cx="66816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202440" y="5210280"/>
                <a:ext cx="66816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02440" y="5140440"/>
                <a:ext cx="668160" cy="1396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02440" y="5068800"/>
                <a:ext cx="66816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202440" y="4997520"/>
                <a:ext cx="66816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202440" y="4927680"/>
                <a:ext cx="66816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6340320" y="4998960"/>
              <a:ext cx="666720" cy="495360"/>
              <a:chOff x="6340320" y="4998960"/>
              <a:chExt cx="666720" cy="495360"/>
            </a:xfrm>
          </p:grpSpPr>
          <p:sp>
            <p:nvSpPr>
              <p:cNvPr id="1454" name=""/>
              <p:cNvSpPr/>
              <p:nvPr/>
            </p:nvSpPr>
            <p:spPr>
              <a:xfrm>
                <a:off x="6340320" y="5353200"/>
                <a:ext cx="66672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340320" y="528156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340320" y="5211720"/>
                <a:ext cx="66672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40320" y="5141880"/>
                <a:ext cx="666720" cy="1396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340320" y="506880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40320" y="499896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0" name=""/>
            <p:cNvSpPr/>
            <p:nvPr/>
          </p:nvSpPr>
          <p:spPr>
            <a:xfrm>
              <a:off x="7162920" y="2133720"/>
              <a:ext cx="0" cy="45720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391520" y="1981080"/>
              <a:ext cx="685800" cy="68580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391520" y="2895480"/>
              <a:ext cx="685800" cy="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629400" y="4343400"/>
              <a:ext cx="457200" cy="60948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 flipV="1">
              <a:off x="7391520" y="4114800"/>
              <a:ext cx="1143000" cy="76212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7315200" y="4343400"/>
              <a:ext cx="304920" cy="45720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6362640" y="2781360"/>
              <a:ext cx="609840" cy="68580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flipV="1">
              <a:off x="6438960" y="3924360"/>
              <a:ext cx="533520" cy="22860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01080" y="3009960"/>
              <a:ext cx="0" cy="91440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7866000" y="1538280"/>
              <a:ext cx="668520" cy="565200"/>
              <a:chOff x="7866000" y="1538280"/>
              <a:chExt cx="668520" cy="565200"/>
            </a:xfrm>
          </p:grpSpPr>
          <p:sp>
            <p:nvSpPr>
              <p:cNvPr id="1470" name=""/>
              <p:cNvSpPr/>
              <p:nvPr/>
            </p:nvSpPr>
            <p:spPr>
              <a:xfrm>
                <a:off x="7866000" y="1538280"/>
                <a:ext cx="430200" cy="4111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12080" y="1587600"/>
                <a:ext cx="336600" cy="30960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62840" y="1949400"/>
                <a:ext cx="237960" cy="50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66000" y="2000160"/>
                <a:ext cx="430200" cy="1033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344080" y="1538280"/>
                <a:ext cx="190440" cy="5652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391600" y="1587600"/>
                <a:ext cx="96840" cy="5400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6134040" y="3463920"/>
              <a:ext cx="457200" cy="463680"/>
              <a:chOff x="6134040" y="3463920"/>
              <a:chExt cx="457200" cy="463680"/>
            </a:xfrm>
          </p:grpSpPr>
          <p:sp>
            <p:nvSpPr>
              <p:cNvPr id="1477" name=""/>
              <p:cNvSpPr/>
              <p:nvPr/>
            </p:nvSpPr>
            <p:spPr>
              <a:xfrm>
                <a:off x="6134040" y="3467160"/>
                <a:ext cx="457200" cy="457200"/>
              </a:xfrm>
              <a:prstGeom prst="rect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 flipV="1">
                <a:off x="6134040" y="346716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6138720" y="3463920"/>
                <a:ext cx="447840" cy="46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6972480" y="3921120"/>
              <a:ext cx="457200" cy="463680"/>
              <a:chOff x="6972480" y="3921120"/>
              <a:chExt cx="457200" cy="463680"/>
            </a:xfrm>
          </p:grpSpPr>
          <p:sp>
            <p:nvSpPr>
              <p:cNvPr id="1481" name=""/>
              <p:cNvSpPr/>
              <p:nvPr/>
            </p:nvSpPr>
            <p:spPr>
              <a:xfrm>
                <a:off x="6972480" y="3924360"/>
                <a:ext cx="457200" cy="457200"/>
              </a:xfrm>
              <a:prstGeom prst="rect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 flipV="1">
                <a:off x="6972480" y="392436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6977160" y="3921120"/>
                <a:ext cx="447480" cy="46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"/>
            <p:cNvSpPr/>
            <p:nvPr/>
          </p:nvSpPr>
          <p:spPr>
            <a:xfrm>
              <a:off x="2362320" y="1219320"/>
              <a:ext cx="3276720" cy="91440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b7a5"/>
                </a:gs>
              </a:gsLst>
              <a:path path="rect">
                <a:fillToRect l="0" t="0" r="100000" b="10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 txBox="1"/>
            <p:nvPr/>
          </p:nvSpPr>
          <p:spPr>
            <a:xfrm>
              <a:off x="2727360" y="1279440"/>
              <a:ext cx="25542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 switch 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n SDH 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 txBox="1"/>
            <p:nvPr/>
          </p:nvSpPr>
          <p:spPr>
            <a:xfrm>
              <a:off x="7451640" y="3413160"/>
              <a:ext cx="12682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MP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90920" y="4952880"/>
              <a:ext cx="609480" cy="15264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1981080" y="5105520"/>
              <a:ext cx="304920" cy="53316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flipV="1">
              <a:off x="2514600" y="5181480"/>
              <a:ext cx="150840" cy="68760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581280" y="5181480"/>
              <a:ext cx="685800" cy="22860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3429000" y="5257800"/>
              <a:ext cx="304920" cy="533520"/>
            </a:xfrm>
            <a:prstGeom prst="line">
              <a:avLst/>
            </a:prstGeom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2163600" y="5765760"/>
              <a:ext cx="668160" cy="495360"/>
              <a:chOff x="2163600" y="5765760"/>
              <a:chExt cx="668160" cy="495360"/>
            </a:xfrm>
          </p:grpSpPr>
          <p:sp>
            <p:nvSpPr>
              <p:cNvPr id="1493" name=""/>
              <p:cNvSpPr/>
              <p:nvPr/>
            </p:nvSpPr>
            <p:spPr>
              <a:xfrm>
                <a:off x="2163600" y="6118200"/>
                <a:ext cx="66816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163600" y="6048360"/>
                <a:ext cx="66816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163600" y="5978520"/>
                <a:ext cx="668160" cy="1396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163600" y="5907240"/>
                <a:ext cx="66816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163600" y="5835600"/>
                <a:ext cx="66816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163600" y="5765760"/>
                <a:ext cx="66816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454120" y="5837400"/>
              <a:ext cx="666720" cy="495000"/>
              <a:chOff x="2454120" y="5837400"/>
              <a:chExt cx="666720" cy="495000"/>
            </a:xfrm>
          </p:grpSpPr>
          <p:sp>
            <p:nvSpPr>
              <p:cNvPr id="1500" name=""/>
              <p:cNvSpPr/>
              <p:nvPr/>
            </p:nvSpPr>
            <p:spPr>
              <a:xfrm>
                <a:off x="2454120" y="6191280"/>
                <a:ext cx="66672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454120" y="611964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454120" y="6049800"/>
                <a:ext cx="66672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454120" y="5979960"/>
                <a:ext cx="666720" cy="1396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454120" y="590724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454120" y="583740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2171880" y="4759200"/>
              <a:ext cx="457200" cy="463680"/>
              <a:chOff x="2171880" y="4759200"/>
              <a:chExt cx="457200" cy="463680"/>
            </a:xfrm>
          </p:grpSpPr>
          <p:sp>
            <p:nvSpPr>
              <p:cNvPr id="1507" name=""/>
              <p:cNvSpPr/>
              <p:nvPr/>
            </p:nvSpPr>
            <p:spPr>
              <a:xfrm>
                <a:off x="2171880" y="4762440"/>
                <a:ext cx="457200" cy="457200"/>
              </a:xfrm>
              <a:prstGeom prst="rect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2171880" y="476244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2176560" y="4759200"/>
                <a:ext cx="447480" cy="46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3162240" y="4911840"/>
              <a:ext cx="457200" cy="463320"/>
              <a:chOff x="3162240" y="4911840"/>
              <a:chExt cx="457200" cy="463320"/>
            </a:xfrm>
          </p:grpSpPr>
          <p:sp>
            <p:nvSpPr>
              <p:cNvPr id="1511" name=""/>
              <p:cNvSpPr/>
              <p:nvPr/>
            </p:nvSpPr>
            <p:spPr>
              <a:xfrm>
                <a:off x="3162240" y="4915080"/>
                <a:ext cx="457200" cy="457200"/>
              </a:xfrm>
              <a:prstGeom prst="rect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flipV="1">
                <a:off x="3162240" y="491508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3166920" y="4911840"/>
                <a:ext cx="447840" cy="46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4221000" y="5079960"/>
              <a:ext cx="668160" cy="495360"/>
              <a:chOff x="4221000" y="5079960"/>
              <a:chExt cx="668160" cy="495360"/>
            </a:xfrm>
          </p:grpSpPr>
          <p:sp>
            <p:nvSpPr>
              <p:cNvPr id="1515" name=""/>
              <p:cNvSpPr/>
              <p:nvPr/>
            </p:nvSpPr>
            <p:spPr>
              <a:xfrm>
                <a:off x="4221000" y="5432400"/>
                <a:ext cx="66816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221000" y="5362560"/>
                <a:ext cx="66816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221000" y="5292720"/>
                <a:ext cx="668160" cy="1396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221000" y="5221440"/>
                <a:ext cx="66816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221000" y="5149800"/>
                <a:ext cx="66816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221000" y="5079960"/>
                <a:ext cx="66816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4511520" y="5151600"/>
              <a:ext cx="666720" cy="495000"/>
              <a:chOff x="4511520" y="5151600"/>
              <a:chExt cx="666720" cy="495000"/>
            </a:xfrm>
          </p:grpSpPr>
          <p:sp>
            <p:nvSpPr>
              <p:cNvPr id="1522" name=""/>
              <p:cNvSpPr/>
              <p:nvPr/>
            </p:nvSpPr>
            <p:spPr>
              <a:xfrm>
                <a:off x="4511520" y="5505480"/>
                <a:ext cx="66672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511520" y="543384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511520" y="5364000"/>
                <a:ext cx="666720" cy="1411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511520" y="5294160"/>
                <a:ext cx="666720" cy="1396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511520" y="522144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511520" y="5151600"/>
                <a:ext cx="666720" cy="142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8" name=""/>
            <p:cNvSpPr txBox="1"/>
            <p:nvPr/>
          </p:nvSpPr>
          <p:spPr>
            <a:xfrm>
              <a:off x="517680" y="4403880"/>
              <a:ext cx="14209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RFC15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6972480" y="2549520"/>
              <a:ext cx="457200" cy="463680"/>
              <a:chOff x="6972480" y="2549520"/>
              <a:chExt cx="457200" cy="463680"/>
            </a:xfrm>
          </p:grpSpPr>
          <p:sp>
            <p:nvSpPr>
              <p:cNvPr id="1530" name=""/>
              <p:cNvSpPr/>
              <p:nvPr/>
            </p:nvSpPr>
            <p:spPr>
              <a:xfrm>
                <a:off x="6972480" y="2552760"/>
                <a:ext cx="457200" cy="457200"/>
              </a:xfrm>
              <a:prstGeom prst="rect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 flipV="1">
                <a:off x="6972480" y="255276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977160" y="2549520"/>
                <a:ext cx="447480" cy="46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33" name="" descr=""/>
            <p:cNvPicPr/>
            <p:nvPr/>
          </p:nvPicPr>
          <p:blipFill>
            <a:blip r:embed="rId1"/>
            <a:stretch/>
          </p:blipFill>
          <p:spPr>
            <a:xfrm>
              <a:off x="1905120" y="2116080"/>
              <a:ext cx="1066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2"/>
            <a:stretch/>
          </p:blipFill>
          <p:spPr>
            <a:xfrm>
              <a:off x="4876920" y="2192400"/>
              <a:ext cx="1066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" descr=""/>
            <p:cNvPicPr/>
            <p:nvPr/>
          </p:nvPicPr>
          <p:blipFill>
            <a:blip r:embed="rId3"/>
            <a:stretch/>
          </p:blipFill>
          <p:spPr>
            <a:xfrm>
              <a:off x="2286000" y="3716280"/>
              <a:ext cx="1066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4"/>
            <a:stretch/>
          </p:blipFill>
          <p:spPr>
            <a:xfrm>
              <a:off x="4648320" y="3716280"/>
              <a:ext cx="10666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 txBox="1"/>
          <p:nvPr/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ANP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304920" y="990720"/>
            <a:ext cx="883764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tiprotoco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 layer, e.g., IP, IP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on Oriented Datalink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e.g., FR, ST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Flow Defi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datory: Destination addres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ldcard or specific: dst port-id, src address/port-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dress granularity: individual and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Cut-thru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for individual application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for (address) aggregated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-state Manage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 txBox="1"/>
          <p:nvPr/>
        </p:nvSpPr>
        <p:spPr>
          <a:xfrm>
            <a:off x="45720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opology Driven Cut-thr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609480" y="1295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Number of VCs (especially for ISP rout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Cut-thru Establishment Lat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ackets can be cut-thr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isadvan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communication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lusive QoS / resource-al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oS degradation due to mis-behaved nodes</a:t>
            </a:r>
            <a:r>
              <a:rPr b="0" lang="en-US" sz="2400" spc="-1" strike="noStrike">
                <a:solidFill>
                  <a:srgbClr val="ffffff"/>
                </a:solidFill>
                <a:latin typeface="XlXr XoXSXVXbXN"/>
                <a:ea typeface="XlXr XoXSXVXbX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packet processing at edge-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45720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opology Driven Cut-thru (c</a:t>
            </a:r>
            <a:r>
              <a:rPr b="1" lang="en-US" sz="4000" spc="-1" strike="noStrike">
                <a:solidFill>
                  <a:srgbClr val="fafd00"/>
                </a:solidFill>
                <a:latin typeface="XlXr XoXSXVXbXN"/>
                <a:ea typeface="XlXr XoXSXVXbXN"/>
              </a:rPr>
              <a:t>ont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’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609480" y="1295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isadvantage (cont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mesh VC configuration for the best through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square VC problem for large scale routing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taneous Cut-thru Path establishment according to node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n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ed node from failur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53352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Features of Cell Switch R</a:t>
            </a:r>
            <a:r>
              <a:rPr b="1" lang="en-US" sz="4000" spc="-1" strike="noStrike">
                <a:solidFill>
                  <a:srgbClr val="fafd00"/>
                </a:solidFill>
                <a:latin typeface="XlXr XoXSXVXbXN"/>
                <a:ea typeface="XlXr XoXSXVXbXN"/>
              </a:rPr>
              <a:t>ou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9480" y="137160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Standard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TM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M Switch as L2 switching h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M links for L2 WAN link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both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Flow Drive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Topology Dr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ing Prop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lusive resource allocation (i.e., fair-share, Q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of Required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457200" y="15228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Flow Driven Cut-thr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609480" y="76212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lusive communication resource al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lusive QoS / resource-al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oS provision even with mis-behaved nodes</a:t>
            </a:r>
            <a:r>
              <a:rPr b="0" lang="en-US" sz="2400" spc="-1" strike="noStrike">
                <a:solidFill>
                  <a:srgbClr val="ffffff"/>
                </a:solidFill>
                <a:latin typeface="XlXr XoXSXVXbXN"/>
                <a:ea typeface="XlXr XoXSXVXbX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-thru packet processing even at edge-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demand 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isadvan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Number of VCs (especially for IS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-thru Establishment Lat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XlXr XoXSXVXbXN"/>
                <a:ea typeface="XlXr XoXSXVXbXN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XlXr XoXSXVXbXN"/>
                <a:ea typeface="XlXr XoXSXVXbX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&gt; Stand-by Dedicated-V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XlXr XoXSXVXbXN"/>
                <a:ea typeface="XlXr XoXSXVXbX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ackets can not be cut-thr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049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Benefits of Dual Mode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304920" y="1219320"/>
            <a:ext cx="88376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ibution by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low Dr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of Required Total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andwid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On-demand bandwidth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QO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vision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ithou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ource Reservation Protocol (e.g., RSV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-thru Forwarding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ross Subne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Exclusi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ibution by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pology Dr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of Required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C Numbe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of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trol Overhea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 txBox="1"/>
          <p:nvPr/>
        </p:nvSpPr>
        <p:spPr>
          <a:xfrm>
            <a:off x="38088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Cut-thru Path Life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838080" y="1127160"/>
            <a:ext cx="7888320" cy="3368520"/>
            <a:chOff x="838080" y="1127160"/>
            <a:chExt cx="7888320" cy="3368520"/>
          </a:xfrm>
        </p:grpSpPr>
        <p:sp>
          <p:nvSpPr>
            <p:cNvPr id="1549" name=""/>
            <p:cNvSpPr txBox="1"/>
            <p:nvPr/>
          </p:nvSpPr>
          <p:spPr>
            <a:xfrm>
              <a:off x="1203480" y="1127160"/>
              <a:ext cx="6246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 Gateway Router; Digital Equipment Corp. 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 txBox="1"/>
            <p:nvPr/>
          </p:nvSpPr>
          <p:spPr>
            <a:xfrm>
              <a:off x="898560" y="2346480"/>
              <a:ext cx="98748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n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 txBox="1"/>
            <p:nvPr/>
          </p:nvSpPr>
          <p:spPr>
            <a:xfrm>
              <a:off x="2270160" y="1630440"/>
              <a:ext cx="1496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# of sess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 txBox="1"/>
            <p:nvPr/>
          </p:nvSpPr>
          <p:spPr>
            <a:xfrm>
              <a:off x="6080040" y="1736640"/>
              <a:ext cx="2646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verage Life-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 txBox="1"/>
            <p:nvPr/>
          </p:nvSpPr>
          <p:spPr>
            <a:xfrm>
              <a:off x="3794040" y="1736640"/>
              <a:ext cx="2190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ffic 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 txBox="1"/>
            <p:nvPr/>
          </p:nvSpPr>
          <p:spPr>
            <a:xfrm>
              <a:off x="974880" y="1736640"/>
              <a:ext cx="1133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38080" y="1600200"/>
              <a:ext cx="7848720" cy="2895480"/>
            </a:xfrm>
            <a:prstGeom prst="rect">
              <a:avLst/>
            </a:prstGeom>
            <a:noFill/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38080" y="2286000"/>
              <a:ext cx="78487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38080" y="2743200"/>
              <a:ext cx="78487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38080" y="3124080"/>
              <a:ext cx="78487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38080" y="3505320"/>
              <a:ext cx="78487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 txBox="1"/>
            <p:nvPr/>
          </p:nvSpPr>
          <p:spPr>
            <a:xfrm>
              <a:off x="2270160" y="2346480"/>
              <a:ext cx="64152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 txBox="1"/>
            <p:nvPr/>
          </p:nvSpPr>
          <p:spPr>
            <a:xfrm>
              <a:off x="3032280" y="2346480"/>
              <a:ext cx="64152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6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 txBox="1"/>
            <p:nvPr/>
          </p:nvSpPr>
          <p:spPr>
            <a:xfrm>
              <a:off x="6613560" y="2346480"/>
              <a:ext cx="171612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24.73 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31.90 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07.28 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58.33 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 txBox="1"/>
            <p:nvPr/>
          </p:nvSpPr>
          <p:spPr>
            <a:xfrm>
              <a:off x="4251240" y="2346480"/>
              <a:ext cx="125100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41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43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2.91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9.94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 txBox="1"/>
            <p:nvPr/>
          </p:nvSpPr>
          <p:spPr>
            <a:xfrm>
              <a:off x="974880" y="4022640"/>
              <a:ext cx="7362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tal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276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430        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 86.69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%                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   481.05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38080" y="3886200"/>
              <a:ext cx="78487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38080" y="3962520"/>
              <a:ext cx="78487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38080" y="2362320"/>
              <a:ext cx="78487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209680" y="1600200"/>
              <a:ext cx="0" cy="289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33720" y="1600200"/>
              <a:ext cx="0" cy="289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09880" y="1600200"/>
              <a:ext cx="0" cy="289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95880" y="1600200"/>
              <a:ext cx="0" cy="289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09680" y="1981080"/>
              <a:ext cx="16002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 txBox="1"/>
            <p:nvPr/>
          </p:nvSpPr>
          <p:spPr>
            <a:xfrm>
              <a:off x="2209680" y="1957320"/>
              <a:ext cx="1523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ve.      Max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71800" y="1981080"/>
              <a:ext cx="0" cy="25146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 txBox="1"/>
          <p:nvPr/>
        </p:nvSpPr>
        <p:spPr>
          <a:xfrm>
            <a:off x="685800" y="457200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ffic volume of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ftp,telnet,web and nntp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e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more than 85%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otal traffic.  Average life-time for these sessions is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more than 8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these sessions are appropriate to cut-thru forwar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088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Cut-thru Path Life-Tim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838080" y="1127160"/>
            <a:ext cx="7631280" cy="3368520"/>
            <a:chOff x="838080" y="1127160"/>
            <a:chExt cx="7631280" cy="3368520"/>
          </a:xfrm>
        </p:grpSpPr>
        <p:sp>
          <p:nvSpPr>
            <p:cNvPr id="1578" name=""/>
            <p:cNvSpPr txBox="1"/>
            <p:nvPr/>
          </p:nvSpPr>
          <p:spPr>
            <a:xfrm>
              <a:off x="1203480" y="1127160"/>
              <a:ext cx="7184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Back-bone router at R&amp;D Center of Toshiba Corp.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 txBox="1"/>
            <p:nvPr/>
          </p:nvSpPr>
          <p:spPr>
            <a:xfrm>
              <a:off x="898560" y="2346480"/>
              <a:ext cx="98748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n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 txBox="1"/>
            <p:nvPr/>
          </p:nvSpPr>
          <p:spPr>
            <a:xfrm>
              <a:off x="2270160" y="1630440"/>
              <a:ext cx="1496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# of sess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 txBox="1"/>
            <p:nvPr/>
          </p:nvSpPr>
          <p:spPr>
            <a:xfrm>
              <a:off x="6232680" y="1782720"/>
              <a:ext cx="22366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verage Life-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 txBox="1"/>
            <p:nvPr/>
          </p:nvSpPr>
          <p:spPr>
            <a:xfrm>
              <a:off x="4022640" y="1782720"/>
              <a:ext cx="1855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ffic Volu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 txBox="1"/>
            <p:nvPr/>
          </p:nvSpPr>
          <p:spPr>
            <a:xfrm>
              <a:off x="974880" y="1736640"/>
              <a:ext cx="1133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38080" y="1600200"/>
              <a:ext cx="7620120" cy="2895480"/>
            </a:xfrm>
            <a:prstGeom prst="rect">
              <a:avLst/>
            </a:prstGeom>
            <a:noFill/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38080" y="2286000"/>
              <a:ext cx="7620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38080" y="2743200"/>
              <a:ext cx="7620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38080" y="3124080"/>
              <a:ext cx="7620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38080" y="3505320"/>
              <a:ext cx="7620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 txBox="1"/>
            <p:nvPr/>
          </p:nvSpPr>
          <p:spPr>
            <a:xfrm>
              <a:off x="2270160" y="2346480"/>
              <a:ext cx="58428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 txBox="1"/>
            <p:nvPr/>
          </p:nvSpPr>
          <p:spPr>
            <a:xfrm>
              <a:off x="3032280" y="2346480"/>
              <a:ext cx="773280" cy="166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XlXr XoXSXVXbXN"/>
                  <a:ea typeface="XlXr XoXSXVXbX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XlXr XoXSXVXbXN"/>
                  <a:ea typeface="XlXr XoXSXVXbX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XlXr XoXSXVXbXN"/>
                  <a:ea typeface="XlXr XoXSXVXbX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XlXr XoXSXVXbXN"/>
                  <a:ea typeface="XlXr XoXSXVXbX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US" sz="2400" spc="-1" strike="noStrike">
                  <a:solidFill>
                    <a:srgbClr val="ffffff"/>
                  </a:solidFill>
                  <a:latin typeface="XlXr XoXSXVXbXN"/>
                  <a:ea typeface="XlXr XoXSXVXbX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 txBox="1"/>
            <p:nvPr/>
          </p:nvSpPr>
          <p:spPr>
            <a:xfrm>
              <a:off x="6613560" y="2346480"/>
              <a:ext cx="141120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04.2 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97.0 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38.5 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60.5 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 txBox="1"/>
            <p:nvPr/>
          </p:nvSpPr>
          <p:spPr>
            <a:xfrm>
              <a:off x="4251240" y="2346480"/>
              <a:ext cx="125100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.88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.50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.15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4.81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 txBox="1"/>
            <p:nvPr/>
          </p:nvSpPr>
          <p:spPr>
            <a:xfrm>
              <a:off x="974880" y="4022640"/>
              <a:ext cx="7095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tal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XlXr XoXSXVXbXN"/>
                  <a:ea typeface="XlXr XoXSXVXbX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6      115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XlXr XoXSXVXbXN"/>
                  <a:ea typeface="XlXr XoXSXVXbX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70.34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%                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515.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se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38080" y="3886200"/>
              <a:ext cx="7620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38080" y="3962520"/>
              <a:ext cx="7620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38080" y="2362320"/>
              <a:ext cx="7620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209680" y="1600200"/>
              <a:ext cx="0" cy="289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133720" y="1600200"/>
              <a:ext cx="0" cy="289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9880" y="1600200"/>
              <a:ext cx="0" cy="289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95880" y="1600200"/>
              <a:ext cx="0" cy="289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209680" y="1981080"/>
              <a:ext cx="16002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 txBox="1"/>
            <p:nvPr/>
          </p:nvSpPr>
          <p:spPr>
            <a:xfrm>
              <a:off x="2209680" y="1957320"/>
              <a:ext cx="1523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ve.      Max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971800" y="1981080"/>
              <a:ext cx="0" cy="25146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4" name=""/>
          <p:cNvSpPr txBox="1"/>
          <p:nvPr/>
        </p:nvSpPr>
        <p:spPr>
          <a:xfrm>
            <a:off x="762120" y="45720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ffic volume of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 ftp,telnet,web,nntp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e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 more than 70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otal traffic.  Average life-time for these sessions is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more than 8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these sessions are appropriate to cut-thru forw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 txBox="1"/>
          <p:nvPr/>
        </p:nvSpPr>
        <p:spPr>
          <a:xfrm>
            <a:off x="380880" y="30492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Label Switching Architect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212760" y="1371600"/>
            <a:ext cx="8872560" cy="4662720"/>
            <a:chOff x="212760" y="1371600"/>
            <a:chExt cx="8872560" cy="4662720"/>
          </a:xfrm>
        </p:grpSpPr>
        <p:sp>
          <p:nvSpPr>
            <p:cNvPr id="1607" name=""/>
            <p:cNvSpPr/>
            <p:nvPr/>
          </p:nvSpPr>
          <p:spPr>
            <a:xfrm>
              <a:off x="4570560" y="1433520"/>
              <a:ext cx="2666880" cy="3826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943600" y="1816200"/>
              <a:ext cx="1295280" cy="4586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95680" y="1816200"/>
              <a:ext cx="1447920" cy="4586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28600" y="4184640"/>
              <a:ext cx="1981080" cy="6127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28600" y="1433520"/>
              <a:ext cx="1981080" cy="841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86000" y="1433520"/>
              <a:ext cx="2286000" cy="841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 txBox="1"/>
            <p:nvPr/>
          </p:nvSpPr>
          <p:spPr>
            <a:xfrm>
              <a:off x="2270160" y="1371600"/>
              <a:ext cx="213048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Standa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ATM Swit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 txBox="1"/>
            <p:nvPr/>
          </p:nvSpPr>
          <p:spPr>
            <a:xfrm>
              <a:off x="4557600" y="1371600"/>
              <a:ext cx="24750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Multiprotoc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28600" y="2962440"/>
              <a:ext cx="19810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86000" y="2962440"/>
              <a:ext cx="228600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28600" y="3573360"/>
              <a:ext cx="19810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286000" y="3573360"/>
              <a:ext cx="228600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286000" y="4184640"/>
              <a:ext cx="2286000" cy="6127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28600" y="4797360"/>
              <a:ext cx="19810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286000" y="4797360"/>
              <a:ext cx="228600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 txBox="1"/>
            <p:nvPr/>
          </p:nvSpPr>
          <p:spPr>
            <a:xfrm>
              <a:off x="212760" y="3052800"/>
              <a:ext cx="19922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TAG Swit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28600" y="2351160"/>
              <a:ext cx="19810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86000" y="2351160"/>
              <a:ext cx="228600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 txBox="1"/>
            <p:nvPr/>
          </p:nvSpPr>
          <p:spPr>
            <a:xfrm>
              <a:off x="289080" y="2397240"/>
              <a:ext cx="177624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Swit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 txBox="1"/>
            <p:nvPr/>
          </p:nvSpPr>
          <p:spPr>
            <a:xfrm>
              <a:off x="517680" y="3619440"/>
              <a:ext cx="11095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AR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 txBox="1"/>
            <p:nvPr/>
          </p:nvSpPr>
          <p:spPr>
            <a:xfrm>
              <a:off x="593640" y="4232160"/>
              <a:ext cx="1087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SIT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 txBox="1"/>
            <p:nvPr/>
          </p:nvSpPr>
          <p:spPr>
            <a:xfrm>
              <a:off x="212760" y="4888080"/>
              <a:ext cx="20113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IP Navigat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28600" y="5408640"/>
              <a:ext cx="19810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 txBox="1"/>
            <p:nvPr/>
          </p:nvSpPr>
          <p:spPr>
            <a:xfrm>
              <a:off x="669960" y="545472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CS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 txBox="1"/>
            <p:nvPr/>
          </p:nvSpPr>
          <p:spPr>
            <a:xfrm>
              <a:off x="5014800" y="1830240"/>
              <a:ext cx="5983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 txBox="1"/>
            <p:nvPr/>
          </p:nvSpPr>
          <p:spPr>
            <a:xfrm>
              <a:off x="6234120" y="1830240"/>
              <a:ext cx="5983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L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433520"/>
              <a:ext cx="1751040" cy="841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 txBox="1"/>
            <p:nvPr/>
          </p:nvSpPr>
          <p:spPr>
            <a:xfrm>
              <a:off x="7377120" y="1371600"/>
              <a:ext cx="1708200" cy="88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CL lin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Avail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86000" y="5408640"/>
              <a:ext cx="228600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72000" y="2962440"/>
              <a:ext cx="26668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572000" y="3573360"/>
              <a:ext cx="26668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572000" y="4184640"/>
              <a:ext cx="2666880" cy="6127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572000" y="4797360"/>
              <a:ext cx="26668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72000" y="2351160"/>
              <a:ext cx="26668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572000" y="5408640"/>
              <a:ext cx="26668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238880" y="2962440"/>
              <a:ext cx="17524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38880" y="3573360"/>
              <a:ext cx="17524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38880" y="4184640"/>
              <a:ext cx="1752480" cy="6127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38880" y="4797360"/>
              <a:ext cx="17524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38880" y="2351160"/>
              <a:ext cx="17524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38880" y="5408640"/>
              <a:ext cx="1752480" cy="611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943600" y="2351160"/>
              <a:ext cx="0" cy="3668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2955960" y="2408400"/>
            <a:ext cx="5654880" cy="579600"/>
            <a:chOff x="2955960" y="2408400"/>
            <a:chExt cx="5654880" cy="579600"/>
          </a:xfrm>
        </p:grpSpPr>
        <p:sp>
          <p:nvSpPr>
            <p:cNvPr id="1650" name=""/>
            <p:cNvSpPr txBox="1"/>
            <p:nvPr/>
          </p:nvSpPr>
          <p:spPr>
            <a:xfrm>
              <a:off x="2955960" y="2408400"/>
              <a:ext cx="7938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 txBox="1"/>
            <p:nvPr/>
          </p:nvSpPr>
          <p:spPr>
            <a:xfrm>
              <a:off x="4861080" y="2408400"/>
              <a:ext cx="9000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 txBox="1"/>
            <p:nvPr/>
          </p:nvSpPr>
          <p:spPr>
            <a:xfrm>
              <a:off x="6232680" y="2408400"/>
              <a:ext cx="9000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 txBox="1"/>
            <p:nvPr/>
          </p:nvSpPr>
          <p:spPr>
            <a:xfrm>
              <a:off x="7631280" y="2408400"/>
              <a:ext cx="979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2955960" y="3017880"/>
            <a:ext cx="5654520" cy="579600"/>
            <a:chOff x="2955960" y="3017880"/>
            <a:chExt cx="5654520" cy="579600"/>
          </a:xfrm>
        </p:grpSpPr>
        <p:sp>
          <p:nvSpPr>
            <p:cNvPr id="1655" name=""/>
            <p:cNvSpPr txBox="1"/>
            <p:nvPr/>
          </p:nvSpPr>
          <p:spPr>
            <a:xfrm>
              <a:off x="4811760" y="3017880"/>
              <a:ext cx="10555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Y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 txBox="1"/>
            <p:nvPr/>
          </p:nvSpPr>
          <p:spPr>
            <a:xfrm>
              <a:off x="2955960" y="3017880"/>
              <a:ext cx="7938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 txBox="1"/>
            <p:nvPr/>
          </p:nvSpPr>
          <p:spPr>
            <a:xfrm>
              <a:off x="6107040" y="3017880"/>
              <a:ext cx="10555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Y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 txBox="1"/>
            <p:nvPr/>
          </p:nvSpPr>
          <p:spPr>
            <a:xfrm>
              <a:off x="7554960" y="3017880"/>
              <a:ext cx="10555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Y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2955960" y="3535200"/>
            <a:ext cx="5315040" cy="701640"/>
            <a:chOff x="2955960" y="3535200"/>
            <a:chExt cx="5315040" cy="701640"/>
          </a:xfrm>
        </p:grpSpPr>
        <p:sp>
          <p:nvSpPr>
            <p:cNvPr id="1660" name=""/>
            <p:cNvSpPr txBox="1"/>
            <p:nvPr/>
          </p:nvSpPr>
          <p:spPr>
            <a:xfrm>
              <a:off x="2955960" y="3627360"/>
              <a:ext cx="8953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 txBox="1"/>
            <p:nvPr/>
          </p:nvSpPr>
          <p:spPr>
            <a:xfrm>
              <a:off x="5089680" y="3535200"/>
              <a:ext cx="438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 txBox="1"/>
            <p:nvPr/>
          </p:nvSpPr>
          <p:spPr>
            <a:xfrm>
              <a:off x="6384960" y="3535200"/>
              <a:ext cx="438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 txBox="1"/>
            <p:nvPr/>
          </p:nvSpPr>
          <p:spPr>
            <a:xfrm>
              <a:off x="7832880" y="3535200"/>
              <a:ext cx="438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2955960" y="4145040"/>
            <a:ext cx="5624280" cy="701640"/>
            <a:chOff x="2955960" y="4145040"/>
            <a:chExt cx="5624280" cy="701640"/>
          </a:xfrm>
        </p:grpSpPr>
        <p:sp>
          <p:nvSpPr>
            <p:cNvPr id="1665" name=""/>
            <p:cNvSpPr txBox="1"/>
            <p:nvPr/>
          </p:nvSpPr>
          <p:spPr>
            <a:xfrm>
              <a:off x="2955960" y="4237200"/>
              <a:ext cx="7938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 txBox="1"/>
            <p:nvPr/>
          </p:nvSpPr>
          <p:spPr>
            <a:xfrm>
              <a:off x="6384960" y="4145040"/>
              <a:ext cx="438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 txBox="1"/>
            <p:nvPr/>
          </p:nvSpPr>
          <p:spPr>
            <a:xfrm>
              <a:off x="4861080" y="4237200"/>
              <a:ext cx="9000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 txBox="1"/>
            <p:nvPr/>
          </p:nvSpPr>
          <p:spPr>
            <a:xfrm>
              <a:off x="7680240" y="4237200"/>
              <a:ext cx="9000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2955960" y="4754520"/>
            <a:ext cx="5315040" cy="777960"/>
            <a:chOff x="2955960" y="4754520"/>
            <a:chExt cx="5315040" cy="777960"/>
          </a:xfrm>
        </p:grpSpPr>
        <p:sp>
          <p:nvSpPr>
            <p:cNvPr id="1670" name=""/>
            <p:cNvSpPr txBox="1"/>
            <p:nvPr/>
          </p:nvSpPr>
          <p:spPr>
            <a:xfrm>
              <a:off x="2955960" y="4846680"/>
              <a:ext cx="7938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 txBox="1"/>
            <p:nvPr/>
          </p:nvSpPr>
          <p:spPr>
            <a:xfrm>
              <a:off x="5089680" y="4754520"/>
              <a:ext cx="438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 txBox="1"/>
            <p:nvPr/>
          </p:nvSpPr>
          <p:spPr>
            <a:xfrm>
              <a:off x="7832880" y="4830840"/>
              <a:ext cx="438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 txBox="1"/>
            <p:nvPr/>
          </p:nvSpPr>
          <p:spPr>
            <a:xfrm>
              <a:off x="6107040" y="4846680"/>
              <a:ext cx="10555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9966"/>
                  </a:solidFill>
                  <a:latin typeface="Times New Roman"/>
                  <a:ea typeface="Times New Roman"/>
                </a:rPr>
                <a:t>Y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2422440" y="5456160"/>
            <a:ext cx="6340680" cy="1233720"/>
            <a:chOff x="2422440" y="5456160"/>
            <a:chExt cx="6340680" cy="1233720"/>
          </a:xfrm>
        </p:grpSpPr>
        <p:sp>
          <p:nvSpPr>
            <p:cNvPr id="1675" name=""/>
            <p:cNvSpPr txBox="1"/>
            <p:nvPr/>
          </p:nvSpPr>
          <p:spPr>
            <a:xfrm>
              <a:off x="2422440" y="6232680"/>
              <a:ext cx="6170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YES*:Not Supported, but will be supported s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 txBox="1"/>
            <p:nvPr/>
          </p:nvSpPr>
          <p:spPr>
            <a:xfrm>
              <a:off x="2879640" y="5456160"/>
              <a:ext cx="10764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Y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 txBox="1"/>
            <p:nvPr/>
          </p:nvSpPr>
          <p:spPr>
            <a:xfrm>
              <a:off x="4735440" y="5456160"/>
              <a:ext cx="136044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YES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 txBox="1"/>
            <p:nvPr/>
          </p:nvSpPr>
          <p:spPr>
            <a:xfrm>
              <a:off x="6031080" y="5456160"/>
              <a:ext cx="136044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YES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 txBox="1"/>
            <p:nvPr/>
          </p:nvSpPr>
          <p:spPr>
            <a:xfrm>
              <a:off x="7631280" y="5456160"/>
              <a:ext cx="113184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TB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0" name=""/>
          <p:cNvGrpSpPr/>
          <p:nvPr/>
        </p:nvGrpSpPr>
        <p:grpSpPr>
          <a:xfrm>
            <a:off x="200160" y="90360"/>
            <a:ext cx="8786880" cy="6713640"/>
            <a:chOff x="200160" y="90360"/>
            <a:chExt cx="8786880" cy="6713640"/>
          </a:xfrm>
        </p:grpSpPr>
        <p:sp>
          <p:nvSpPr>
            <p:cNvPr id="1681" name=""/>
            <p:cNvSpPr/>
            <p:nvPr/>
          </p:nvSpPr>
          <p:spPr>
            <a:xfrm>
              <a:off x="2438280" y="2133720"/>
              <a:ext cx="5029200" cy="27432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1"/>
            <a:stretch/>
          </p:blipFill>
          <p:spPr>
            <a:xfrm>
              <a:off x="7551720" y="2432160"/>
              <a:ext cx="1036800" cy="25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2"/>
            <a:stretch/>
          </p:blipFill>
          <p:spPr>
            <a:xfrm>
              <a:off x="436680" y="2508120"/>
              <a:ext cx="1773360" cy="234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4" name=""/>
            <p:cNvGrpSpPr/>
            <p:nvPr/>
          </p:nvGrpSpPr>
          <p:grpSpPr>
            <a:xfrm>
              <a:off x="3200400" y="2819520"/>
              <a:ext cx="1219320" cy="1066680"/>
              <a:chOff x="3200400" y="2819520"/>
              <a:chExt cx="1219320" cy="1066680"/>
            </a:xfrm>
          </p:grpSpPr>
          <p:sp>
            <p:nvSpPr>
              <p:cNvPr id="1685" name=""/>
              <p:cNvSpPr/>
              <p:nvPr/>
            </p:nvSpPr>
            <p:spPr>
              <a:xfrm>
                <a:off x="3203640" y="2843280"/>
                <a:ext cx="1197000" cy="10429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0400" y="2819520"/>
                <a:ext cx="1219320" cy="106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7" name=""/>
            <p:cNvGrpSpPr/>
            <p:nvPr/>
          </p:nvGrpSpPr>
          <p:grpSpPr>
            <a:xfrm>
              <a:off x="4565520" y="2347920"/>
              <a:ext cx="768240" cy="471600"/>
              <a:chOff x="4565520" y="2347920"/>
              <a:chExt cx="768240" cy="471600"/>
            </a:xfrm>
          </p:grpSpPr>
          <p:sp>
            <p:nvSpPr>
              <p:cNvPr id="1688" name=""/>
              <p:cNvSpPr/>
              <p:nvPr/>
            </p:nvSpPr>
            <p:spPr>
              <a:xfrm>
                <a:off x="4568760" y="2359080"/>
                <a:ext cx="754200" cy="460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65520" y="2347920"/>
                <a:ext cx="768240" cy="4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0" name=""/>
            <p:cNvGrpSpPr/>
            <p:nvPr/>
          </p:nvGrpSpPr>
          <p:grpSpPr>
            <a:xfrm>
              <a:off x="5638680" y="2819520"/>
              <a:ext cx="1066680" cy="990720"/>
              <a:chOff x="5638680" y="2819520"/>
              <a:chExt cx="1066680" cy="990720"/>
            </a:xfrm>
          </p:grpSpPr>
          <p:sp>
            <p:nvSpPr>
              <p:cNvPr id="1691" name=""/>
              <p:cNvSpPr/>
              <p:nvPr/>
            </p:nvSpPr>
            <p:spPr>
              <a:xfrm>
                <a:off x="5643720" y="2843280"/>
                <a:ext cx="1046160" cy="966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2819520"/>
                <a:ext cx="106668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3" name=""/>
            <p:cNvSpPr/>
            <p:nvPr/>
          </p:nvSpPr>
          <p:spPr>
            <a:xfrm>
              <a:off x="4114800" y="6172200"/>
              <a:ext cx="1295280" cy="0"/>
            </a:xfrm>
            <a:prstGeom prst="line">
              <a:avLst/>
            </a:prstGeom>
            <a:ln w="101520">
              <a:solidFill>
                <a:srgbClr val="99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-95760" bIns="-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14800" y="6553080"/>
              <a:ext cx="1295280" cy="0"/>
            </a:xfrm>
            <a:prstGeom prst="line">
              <a:avLst/>
            </a:prstGeom>
            <a:ln w="10152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-95760" bIns="-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 txBox="1"/>
            <p:nvPr/>
          </p:nvSpPr>
          <p:spPr>
            <a:xfrm>
              <a:off x="5394240" y="5973840"/>
              <a:ext cx="29084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Control channel (V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Cut-thru channel (V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 txBox="1"/>
            <p:nvPr/>
          </p:nvSpPr>
          <p:spPr>
            <a:xfrm>
              <a:off x="3718080" y="5889600"/>
              <a:ext cx="4129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4861080" y="4175280"/>
              <a:ext cx="16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 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 txBox="1"/>
            <p:nvPr/>
          </p:nvSpPr>
          <p:spPr>
            <a:xfrm>
              <a:off x="200160" y="4848120"/>
              <a:ext cx="1700280" cy="4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P Switch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 txBox="1"/>
            <p:nvPr/>
          </p:nvSpPr>
          <p:spPr>
            <a:xfrm>
              <a:off x="7289640" y="4937040"/>
              <a:ext cx="1682640" cy="4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P Switch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 txBox="1"/>
            <p:nvPr/>
          </p:nvSpPr>
          <p:spPr>
            <a:xfrm>
              <a:off x="3184560" y="2544840"/>
              <a:ext cx="1257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-S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 txBox="1"/>
            <p:nvPr/>
          </p:nvSpPr>
          <p:spPr>
            <a:xfrm>
              <a:off x="5546880" y="2544840"/>
              <a:ext cx="1320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-S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 txBox="1"/>
            <p:nvPr/>
          </p:nvSpPr>
          <p:spPr>
            <a:xfrm>
              <a:off x="212760" y="90360"/>
              <a:ext cx="87742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Why IP Switch does not work on standard ATM links ?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60480" y="1295280"/>
            <a:ext cx="7560000" cy="2134080"/>
            <a:chOff x="60480" y="1295280"/>
            <a:chExt cx="7560000" cy="2134080"/>
          </a:xfrm>
        </p:grpSpPr>
        <p:sp>
          <p:nvSpPr>
            <p:cNvPr id="1704" name=""/>
            <p:cNvSpPr/>
            <p:nvPr/>
          </p:nvSpPr>
          <p:spPr>
            <a:xfrm>
              <a:off x="1447920" y="2971800"/>
              <a:ext cx="6172560" cy="457560"/>
            </a:xfrm>
            <a:custGeom>
              <a:avLst/>
              <a:gdLst/>
              <a:ahLst/>
              <a:rect l="0" t="0" r="r" b="b"/>
              <a:pathLst>
                <a:path fill="none" w="17146" h="1271">
                  <a:moveTo>
                    <a:pt x="0" y="1271"/>
                  </a:moveTo>
                  <a:lnTo>
                    <a:pt x="5097" y="0"/>
                  </a:lnTo>
                  <a:lnTo>
                    <a:pt x="9268" y="0"/>
                  </a:lnTo>
                  <a:lnTo>
                    <a:pt x="12975" y="0"/>
                  </a:lnTo>
                  <a:lnTo>
                    <a:pt x="17146" y="0"/>
                  </a:lnTo>
                </a:path>
              </a:pathLst>
            </a:custGeom>
            <a:ln w="76320">
              <a:solidFill>
                <a:srgbClr val="99ff33"/>
              </a:solidFill>
              <a:round/>
              <a:tailEnd len="med" type="triangle" w="med"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60480" y="1295280"/>
              <a:ext cx="4614840" cy="1829160"/>
              <a:chOff x="60480" y="1295280"/>
              <a:chExt cx="4614840" cy="1829160"/>
            </a:xfrm>
          </p:grpSpPr>
          <p:sp>
            <p:nvSpPr>
              <p:cNvPr id="1706" name=""/>
              <p:cNvSpPr/>
              <p:nvPr/>
            </p:nvSpPr>
            <p:spPr>
              <a:xfrm>
                <a:off x="76320" y="1295280"/>
                <a:ext cx="4572360" cy="1829160"/>
              </a:xfrm>
              <a:custGeom>
                <a:avLst/>
                <a:gdLst/>
                <a:ahLst/>
                <a:rect l="0" t="0" r="r" b="b"/>
                <a:pathLst>
                  <a:path w="12701" h="5081">
                    <a:moveTo>
                      <a:pt x="0" y="0"/>
                    </a:moveTo>
                    <a:lnTo>
                      <a:pt x="0" y="3093"/>
                    </a:lnTo>
                    <a:lnTo>
                      <a:pt x="4233" y="3093"/>
                    </a:lnTo>
                    <a:lnTo>
                      <a:pt x="3810" y="5081"/>
                    </a:lnTo>
                    <a:lnTo>
                      <a:pt x="4868" y="3093"/>
                    </a:lnTo>
                    <a:lnTo>
                      <a:pt x="7409" y="3093"/>
                    </a:lnTo>
                    <a:lnTo>
                      <a:pt x="10160" y="1326"/>
                    </a:lnTo>
                    <a:lnTo>
                      <a:pt x="12701" y="1326"/>
                    </a:lnTo>
                    <a:lnTo>
                      <a:pt x="1270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66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 txBox="1"/>
              <p:nvPr/>
            </p:nvSpPr>
            <p:spPr>
              <a:xfrm>
                <a:off x="60480" y="1325520"/>
                <a:ext cx="4614840" cy="100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have a availavle channel VPI=2, VCI=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am gonna use VPI=2,VCI=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annel for hot-line  !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8" name=""/>
          <p:cNvGrpSpPr/>
          <p:nvPr/>
        </p:nvGrpSpPr>
        <p:grpSpPr>
          <a:xfrm>
            <a:off x="1905120" y="3505320"/>
            <a:ext cx="5791680" cy="2406600"/>
            <a:chOff x="1905120" y="3505320"/>
            <a:chExt cx="5791680" cy="2406600"/>
          </a:xfrm>
        </p:grpSpPr>
        <p:sp>
          <p:nvSpPr>
            <p:cNvPr id="1709" name=""/>
            <p:cNvSpPr/>
            <p:nvPr/>
          </p:nvSpPr>
          <p:spPr>
            <a:xfrm>
              <a:off x="1905120" y="3505320"/>
              <a:ext cx="5791680" cy="609840"/>
            </a:xfrm>
            <a:custGeom>
              <a:avLst/>
              <a:gdLst/>
              <a:ahLst/>
              <a:rect l="0" t="0" r="r" b="b"/>
              <a:pathLst>
                <a:path fill="none" w="16088" h="1694">
                  <a:moveTo>
                    <a:pt x="0" y="1694"/>
                  </a:moveTo>
                  <a:lnTo>
                    <a:pt x="4783" y="0"/>
                  </a:lnTo>
                  <a:lnTo>
                    <a:pt x="8696" y="0"/>
                  </a:lnTo>
                  <a:lnTo>
                    <a:pt x="12175" y="0"/>
                  </a:lnTo>
                  <a:lnTo>
                    <a:pt x="16088" y="0"/>
                  </a:lnTo>
                </a:path>
              </a:pathLst>
            </a:custGeom>
            <a:ln w="127080">
              <a:solidFill>
                <a:srgbClr val="ff3300"/>
              </a:solidFill>
              <a:round/>
              <a:tailEnd len="med" type="triangle" w="med"/>
            </a:ln>
          </p:spPr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 txBox="1"/>
            <p:nvPr/>
          </p:nvSpPr>
          <p:spPr>
            <a:xfrm>
              <a:off x="2117880" y="486108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 txBox="1"/>
            <p:nvPr/>
          </p:nvSpPr>
          <p:spPr>
            <a:xfrm>
              <a:off x="4175280" y="508968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 txBox="1"/>
            <p:nvPr/>
          </p:nvSpPr>
          <p:spPr>
            <a:xfrm>
              <a:off x="6080040" y="470844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6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2590920" y="3886200"/>
              <a:ext cx="152280" cy="99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4648320" y="3581280"/>
              <a:ext cx="75960" cy="1524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6705720" y="3581280"/>
              <a:ext cx="304560" cy="1219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5715000" y="716040"/>
            <a:ext cx="3353040" cy="2103840"/>
            <a:chOff x="5715000" y="716040"/>
            <a:chExt cx="3353040" cy="2103840"/>
          </a:xfrm>
        </p:grpSpPr>
        <p:sp>
          <p:nvSpPr>
            <p:cNvPr id="1717" name=""/>
            <p:cNvSpPr/>
            <p:nvPr/>
          </p:nvSpPr>
          <p:spPr>
            <a:xfrm>
              <a:off x="5715000" y="762120"/>
              <a:ext cx="3353040" cy="2057760"/>
            </a:xfrm>
            <a:custGeom>
              <a:avLst/>
              <a:gdLst/>
              <a:ahLst/>
              <a:rect l="0" t="0" r="r" b="b"/>
              <a:pathLst>
                <a:path w="9314" h="5716">
                  <a:moveTo>
                    <a:pt x="0" y="0"/>
                  </a:moveTo>
                  <a:lnTo>
                    <a:pt x="0" y="3334"/>
                  </a:lnTo>
                  <a:lnTo>
                    <a:pt x="5218" y="3334"/>
                  </a:lnTo>
                  <a:lnTo>
                    <a:pt x="5964" y="5716"/>
                  </a:lnTo>
                  <a:lnTo>
                    <a:pt x="5777" y="3334"/>
                  </a:lnTo>
                  <a:lnTo>
                    <a:pt x="9314" y="3334"/>
                  </a:lnTo>
                  <a:lnTo>
                    <a:pt x="93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66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 txBox="1"/>
            <p:nvPr/>
          </p:nvSpPr>
          <p:spPr>
            <a:xfrm>
              <a:off x="5788080" y="716040"/>
              <a:ext cx="2935440" cy="131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do not have any VPI=2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5 channel ???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ich is his/her offer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2,VCI=5 channel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 txBox="1"/>
          <p:nvPr/>
        </p:nvSpPr>
        <p:spPr>
          <a:xfrm>
            <a:off x="365040" y="1859040"/>
            <a:ext cx="84535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ID Negotiation Mechanism in CS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P ver.1.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terworking with Standard ATM Swit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ternetworking through Standard ATM Lin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2438280" y="1600200"/>
            <a:ext cx="5029200" cy="27432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1" name="" descr=""/>
          <p:cNvPicPr/>
          <p:nvPr/>
        </p:nvPicPr>
        <p:blipFill>
          <a:blip r:embed="rId1"/>
          <a:stretch/>
        </p:blipFill>
        <p:spPr>
          <a:xfrm>
            <a:off x="542880" y="1905120"/>
            <a:ext cx="1057320" cy="2281320"/>
          </a:xfrm>
          <a:prstGeom prst="rect">
            <a:avLst/>
          </a:prstGeom>
          <a:ln w="0">
            <a:noFill/>
          </a:ln>
        </p:spPr>
      </p:pic>
      <p:grpSp>
        <p:nvGrpSpPr>
          <p:cNvPr id="1722" name=""/>
          <p:cNvGrpSpPr/>
          <p:nvPr/>
        </p:nvGrpSpPr>
        <p:grpSpPr>
          <a:xfrm>
            <a:off x="3200400" y="2286000"/>
            <a:ext cx="1219320" cy="1066680"/>
            <a:chOff x="3200400" y="2286000"/>
            <a:chExt cx="1219320" cy="1066680"/>
          </a:xfrm>
        </p:grpSpPr>
        <p:sp>
          <p:nvSpPr>
            <p:cNvPr id="1723" name=""/>
            <p:cNvSpPr/>
            <p:nvPr/>
          </p:nvSpPr>
          <p:spPr>
            <a:xfrm>
              <a:off x="3203640" y="2309760"/>
              <a:ext cx="1197000" cy="1042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2"/>
            <a:stretch/>
          </p:blipFill>
          <p:spPr>
            <a:xfrm>
              <a:off x="3200400" y="2286000"/>
              <a:ext cx="121932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5" name=""/>
          <p:cNvGrpSpPr/>
          <p:nvPr/>
        </p:nvGrpSpPr>
        <p:grpSpPr>
          <a:xfrm>
            <a:off x="4565520" y="1814400"/>
            <a:ext cx="768240" cy="471600"/>
            <a:chOff x="4565520" y="1814400"/>
            <a:chExt cx="768240" cy="471600"/>
          </a:xfrm>
        </p:grpSpPr>
        <p:sp>
          <p:nvSpPr>
            <p:cNvPr id="1726" name=""/>
            <p:cNvSpPr/>
            <p:nvPr/>
          </p:nvSpPr>
          <p:spPr>
            <a:xfrm>
              <a:off x="4568760" y="1825560"/>
              <a:ext cx="754200" cy="46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3"/>
            <a:stretch/>
          </p:blipFill>
          <p:spPr>
            <a:xfrm>
              <a:off x="4565520" y="1814400"/>
              <a:ext cx="768240" cy="4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8" name=""/>
          <p:cNvGrpSpPr/>
          <p:nvPr/>
        </p:nvGrpSpPr>
        <p:grpSpPr>
          <a:xfrm>
            <a:off x="5638680" y="2286000"/>
            <a:ext cx="1066680" cy="990720"/>
            <a:chOff x="5638680" y="2286000"/>
            <a:chExt cx="1066680" cy="990720"/>
          </a:xfrm>
        </p:grpSpPr>
        <p:sp>
          <p:nvSpPr>
            <p:cNvPr id="1729" name=""/>
            <p:cNvSpPr/>
            <p:nvPr/>
          </p:nvSpPr>
          <p:spPr>
            <a:xfrm>
              <a:off x="5643720" y="2309760"/>
              <a:ext cx="1046160" cy="966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0" name="" descr=""/>
            <p:cNvPicPr/>
            <p:nvPr/>
          </p:nvPicPr>
          <p:blipFill>
            <a:blip r:embed="rId4"/>
            <a:stretch/>
          </p:blipFill>
          <p:spPr>
            <a:xfrm>
              <a:off x="5638680" y="2286000"/>
              <a:ext cx="106668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1" name=""/>
          <p:cNvSpPr/>
          <p:nvPr/>
        </p:nvSpPr>
        <p:spPr>
          <a:xfrm>
            <a:off x="1447920" y="2438280"/>
            <a:ext cx="6172560" cy="457560"/>
          </a:xfrm>
          <a:custGeom>
            <a:avLst/>
            <a:gdLst/>
            <a:ahLst/>
            <a:rect l="0" t="0" r="r" b="b"/>
            <a:pathLst>
              <a:path fill="none" w="17146" h="1271">
                <a:moveTo>
                  <a:pt x="0" y="1271"/>
                </a:moveTo>
                <a:lnTo>
                  <a:pt x="5097" y="0"/>
                </a:lnTo>
                <a:lnTo>
                  <a:pt x="9268" y="0"/>
                </a:lnTo>
                <a:lnTo>
                  <a:pt x="12975" y="0"/>
                </a:lnTo>
                <a:lnTo>
                  <a:pt x="17146" y="0"/>
                </a:lnTo>
              </a:path>
            </a:pathLst>
          </a:custGeom>
          <a:ln w="76320">
            <a:solidFill>
              <a:srgbClr val="99ff33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733920" y="5715000"/>
            <a:ext cx="1295280" cy="0"/>
          </a:xfrm>
          <a:prstGeom prst="line">
            <a:avLst/>
          </a:prstGeom>
          <a:ln w="101520">
            <a:solidFill>
              <a:srgbClr val="99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5013360" y="5470560"/>
            <a:ext cx="369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rol channel (Default</a:t>
            </a:r>
            <a:r>
              <a:rPr b="1" lang="en-US" sz="2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4861080" y="3641760"/>
            <a:ext cx="16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M 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504720" y="4314960"/>
            <a:ext cx="1158840" cy="482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R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7670880" y="4098960"/>
            <a:ext cx="1141560" cy="482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R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3184560" y="2011320"/>
            <a:ext cx="1257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M-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5546880" y="2011320"/>
            <a:ext cx="1320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M-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9" name=""/>
          <p:cNvGrpSpPr/>
          <p:nvPr/>
        </p:nvGrpSpPr>
        <p:grpSpPr>
          <a:xfrm>
            <a:off x="457200" y="533520"/>
            <a:ext cx="4267440" cy="3700440"/>
            <a:chOff x="457200" y="533520"/>
            <a:chExt cx="4267440" cy="3700440"/>
          </a:xfrm>
        </p:grpSpPr>
        <p:grpSp>
          <p:nvGrpSpPr>
            <p:cNvPr id="1740" name=""/>
            <p:cNvGrpSpPr/>
            <p:nvPr/>
          </p:nvGrpSpPr>
          <p:grpSpPr>
            <a:xfrm>
              <a:off x="457200" y="533520"/>
              <a:ext cx="4267440" cy="2210040"/>
              <a:chOff x="457200" y="533520"/>
              <a:chExt cx="4267440" cy="2210040"/>
            </a:xfrm>
          </p:grpSpPr>
          <p:sp>
            <p:nvSpPr>
              <p:cNvPr id="1741" name=""/>
              <p:cNvSpPr/>
              <p:nvPr/>
            </p:nvSpPr>
            <p:spPr>
              <a:xfrm>
                <a:off x="457200" y="533520"/>
                <a:ext cx="4267440" cy="2210040"/>
              </a:xfrm>
              <a:custGeom>
                <a:avLst/>
                <a:gdLst/>
                <a:ahLst/>
                <a:rect l="0" t="0" r="r" b="b"/>
                <a:pathLst>
                  <a:path w="11854" h="6139">
                    <a:moveTo>
                      <a:pt x="0" y="0"/>
                    </a:moveTo>
                    <a:lnTo>
                      <a:pt x="0" y="2500"/>
                    </a:lnTo>
                    <a:lnTo>
                      <a:pt x="4249" y="2500"/>
                    </a:lnTo>
                    <a:lnTo>
                      <a:pt x="3131" y="6139"/>
                    </a:lnTo>
                    <a:lnTo>
                      <a:pt x="5143" y="2500"/>
                    </a:lnTo>
                    <a:lnTo>
                      <a:pt x="11854" y="2500"/>
                    </a:lnTo>
                    <a:lnTo>
                      <a:pt x="118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 txBox="1"/>
              <p:nvPr/>
            </p:nvSpPr>
            <p:spPr>
              <a:xfrm>
                <a:off x="517680" y="639720"/>
                <a:ext cx="414972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have got a packet to be cut-thru !!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et me establish a VC for cut-thu.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43" name="" descr=""/>
            <p:cNvPicPr/>
            <p:nvPr/>
          </p:nvPicPr>
          <p:blipFill>
            <a:blip r:embed="rId5"/>
            <a:stretch/>
          </p:blipFill>
          <p:spPr>
            <a:xfrm>
              <a:off x="611280" y="1600200"/>
              <a:ext cx="988920" cy="26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4" name=""/>
          <p:cNvGrpSpPr/>
          <p:nvPr/>
        </p:nvGrpSpPr>
        <p:grpSpPr>
          <a:xfrm>
            <a:off x="1905120" y="2971800"/>
            <a:ext cx="7171920" cy="3375000"/>
            <a:chOff x="1905120" y="2971800"/>
            <a:chExt cx="7171920" cy="3375000"/>
          </a:xfrm>
        </p:grpSpPr>
        <p:sp>
          <p:nvSpPr>
            <p:cNvPr id="1745" name=""/>
            <p:cNvSpPr txBox="1"/>
            <p:nvPr/>
          </p:nvSpPr>
          <p:spPr>
            <a:xfrm>
              <a:off x="2117880" y="432756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 txBox="1"/>
            <p:nvPr/>
          </p:nvSpPr>
          <p:spPr>
            <a:xfrm>
              <a:off x="4175280" y="455616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 txBox="1"/>
            <p:nvPr/>
          </p:nvSpPr>
          <p:spPr>
            <a:xfrm>
              <a:off x="6080040" y="417528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6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733920" y="6019920"/>
              <a:ext cx="1295280" cy="0"/>
            </a:xfrm>
            <a:prstGeom prst="line">
              <a:avLst/>
            </a:prstGeom>
            <a:ln w="10152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-95760" bIns="-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 txBox="1"/>
            <p:nvPr/>
          </p:nvSpPr>
          <p:spPr>
            <a:xfrm>
              <a:off x="3260880" y="5432400"/>
              <a:ext cx="4129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 txBox="1"/>
            <p:nvPr/>
          </p:nvSpPr>
          <p:spPr>
            <a:xfrm>
              <a:off x="5014800" y="5775480"/>
              <a:ext cx="4062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Cut-thru channel (Dedicated-VC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905120" y="2971800"/>
              <a:ext cx="5791680" cy="609840"/>
            </a:xfrm>
            <a:custGeom>
              <a:avLst/>
              <a:gdLst/>
              <a:ahLst/>
              <a:rect l="0" t="0" r="r" b="b"/>
              <a:pathLst>
                <a:path fill="none" w="16088" h="1694">
                  <a:moveTo>
                    <a:pt x="0" y="1694"/>
                  </a:moveTo>
                  <a:lnTo>
                    <a:pt x="4783" y="0"/>
                  </a:lnTo>
                  <a:lnTo>
                    <a:pt x="8696" y="0"/>
                  </a:lnTo>
                  <a:lnTo>
                    <a:pt x="12175" y="0"/>
                  </a:lnTo>
                  <a:lnTo>
                    <a:pt x="16088" y="0"/>
                  </a:lnTo>
                </a:path>
              </a:pathLst>
            </a:custGeom>
            <a:ln w="127080">
              <a:solidFill>
                <a:srgbClr val="ff3300"/>
              </a:solidFill>
              <a:round/>
              <a:tailEnd len="med" type="triangle" w="med"/>
            </a:ln>
          </p:spPr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590920" y="3352680"/>
              <a:ext cx="152280" cy="99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4648320" y="3048120"/>
              <a:ext cx="75960" cy="152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6705720" y="3048120"/>
              <a:ext cx="304560" cy="1218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5" name="" descr=""/>
          <p:cNvPicPr/>
          <p:nvPr/>
        </p:nvPicPr>
        <p:blipFill>
          <a:blip r:embed="rId6"/>
          <a:stretch/>
        </p:blipFill>
        <p:spPr>
          <a:xfrm>
            <a:off x="7543800" y="1752480"/>
            <a:ext cx="14479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6" name=""/>
          <p:cNvGrpSpPr/>
          <p:nvPr/>
        </p:nvGrpSpPr>
        <p:grpSpPr>
          <a:xfrm>
            <a:off x="360360" y="304920"/>
            <a:ext cx="8716680" cy="6041880"/>
            <a:chOff x="360360" y="304920"/>
            <a:chExt cx="8716680" cy="6041880"/>
          </a:xfrm>
        </p:grpSpPr>
        <p:sp>
          <p:nvSpPr>
            <p:cNvPr id="1757" name=""/>
            <p:cNvSpPr/>
            <p:nvPr/>
          </p:nvSpPr>
          <p:spPr>
            <a:xfrm>
              <a:off x="2438280" y="1600200"/>
              <a:ext cx="5029200" cy="27432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3200400" y="2286000"/>
              <a:ext cx="1219320" cy="1066680"/>
              <a:chOff x="3200400" y="2286000"/>
              <a:chExt cx="1219320" cy="1066680"/>
            </a:xfrm>
          </p:grpSpPr>
          <p:sp>
            <p:nvSpPr>
              <p:cNvPr id="1759" name=""/>
              <p:cNvSpPr/>
              <p:nvPr/>
            </p:nvSpPr>
            <p:spPr>
              <a:xfrm>
                <a:off x="3203640" y="2309760"/>
                <a:ext cx="1197000" cy="10429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2286000"/>
                <a:ext cx="1219320" cy="106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61" name=""/>
            <p:cNvGrpSpPr/>
            <p:nvPr/>
          </p:nvGrpSpPr>
          <p:grpSpPr>
            <a:xfrm>
              <a:off x="4565520" y="1814400"/>
              <a:ext cx="768240" cy="471600"/>
              <a:chOff x="4565520" y="1814400"/>
              <a:chExt cx="768240" cy="471600"/>
            </a:xfrm>
          </p:grpSpPr>
          <p:sp>
            <p:nvSpPr>
              <p:cNvPr id="1762" name=""/>
              <p:cNvSpPr/>
              <p:nvPr/>
            </p:nvSpPr>
            <p:spPr>
              <a:xfrm>
                <a:off x="4568760" y="1825560"/>
                <a:ext cx="754200" cy="460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65520" y="1814400"/>
                <a:ext cx="768240" cy="4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64" name=""/>
            <p:cNvGrpSpPr/>
            <p:nvPr/>
          </p:nvGrpSpPr>
          <p:grpSpPr>
            <a:xfrm>
              <a:off x="5638680" y="2286000"/>
              <a:ext cx="1066680" cy="990720"/>
              <a:chOff x="5638680" y="2286000"/>
              <a:chExt cx="1066680" cy="990720"/>
            </a:xfrm>
          </p:grpSpPr>
          <p:sp>
            <p:nvSpPr>
              <p:cNvPr id="1765" name=""/>
              <p:cNvSpPr/>
              <p:nvPr/>
            </p:nvSpPr>
            <p:spPr>
              <a:xfrm>
                <a:off x="5643720" y="2309760"/>
                <a:ext cx="1046160" cy="966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38680" y="2286000"/>
                <a:ext cx="106668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67" name=""/>
            <p:cNvSpPr/>
            <p:nvPr/>
          </p:nvSpPr>
          <p:spPr>
            <a:xfrm>
              <a:off x="3733920" y="5715000"/>
              <a:ext cx="1295280" cy="0"/>
            </a:xfrm>
            <a:prstGeom prst="line">
              <a:avLst/>
            </a:prstGeom>
            <a:ln w="101520">
              <a:solidFill>
                <a:srgbClr val="99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-95760" bIns="-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 txBox="1"/>
            <p:nvPr/>
          </p:nvSpPr>
          <p:spPr>
            <a:xfrm>
              <a:off x="5013360" y="5470560"/>
              <a:ext cx="369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Control channel (Default</a:t>
              </a:r>
              <a:r>
                <a:rPr b="1" lang="en-US" sz="2000" spc="-1" strike="noStrike">
                  <a:solidFill>
                    <a:srgbClr val="000000"/>
                  </a:solidFill>
                  <a:latin typeface="XlXr XoXSXVXbXN"/>
                  <a:ea typeface="XlXr XoXSXVXbXN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 txBox="1"/>
            <p:nvPr/>
          </p:nvSpPr>
          <p:spPr>
            <a:xfrm>
              <a:off x="4861080" y="3641760"/>
              <a:ext cx="16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 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 txBox="1"/>
            <p:nvPr/>
          </p:nvSpPr>
          <p:spPr>
            <a:xfrm>
              <a:off x="504720" y="4314960"/>
              <a:ext cx="1158840" cy="4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SR_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 txBox="1"/>
            <p:nvPr/>
          </p:nvSpPr>
          <p:spPr>
            <a:xfrm>
              <a:off x="7670880" y="4098960"/>
              <a:ext cx="1141560" cy="4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SR_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 txBox="1"/>
            <p:nvPr/>
          </p:nvSpPr>
          <p:spPr>
            <a:xfrm>
              <a:off x="3184560" y="2011320"/>
              <a:ext cx="1257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-S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 txBox="1"/>
            <p:nvPr/>
          </p:nvSpPr>
          <p:spPr>
            <a:xfrm>
              <a:off x="5546880" y="2011320"/>
              <a:ext cx="1320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-S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1905120" y="2971800"/>
              <a:ext cx="7171920" cy="3375000"/>
              <a:chOff x="1905120" y="2971800"/>
              <a:chExt cx="7171920" cy="3375000"/>
            </a:xfrm>
          </p:grpSpPr>
          <p:sp>
            <p:nvSpPr>
              <p:cNvPr id="1775" name=""/>
              <p:cNvSpPr txBox="1"/>
              <p:nvPr/>
            </p:nvSpPr>
            <p:spPr>
              <a:xfrm>
                <a:off x="2117880" y="4327560"/>
                <a:ext cx="111132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PI=2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CI=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 txBox="1"/>
              <p:nvPr/>
            </p:nvSpPr>
            <p:spPr>
              <a:xfrm>
                <a:off x="4175280" y="4556160"/>
                <a:ext cx="111132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PI=9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CI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 txBox="1"/>
              <p:nvPr/>
            </p:nvSpPr>
            <p:spPr>
              <a:xfrm>
                <a:off x="6080040" y="4175280"/>
                <a:ext cx="111132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PI=6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CI=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733920" y="6019920"/>
                <a:ext cx="1295280" cy="0"/>
              </a:xfrm>
              <a:prstGeom prst="line">
                <a:avLst/>
              </a:prstGeom>
              <a:ln w="1015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760" rIns="140760" tIns="-95760" bIns="-9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 txBox="1"/>
              <p:nvPr/>
            </p:nvSpPr>
            <p:spPr>
              <a:xfrm>
                <a:off x="3260880" y="5432400"/>
                <a:ext cx="41292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 txBox="1"/>
              <p:nvPr/>
            </p:nvSpPr>
            <p:spPr>
              <a:xfrm>
                <a:off x="5014800" y="5775480"/>
                <a:ext cx="40622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 Cut-thru channel (Dedicated-VC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905120" y="2971800"/>
                <a:ext cx="5791680" cy="609840"/>
              </a:xfrm>
              <a:custGeom>
                <a:avLst/>
                <a:gdLst/>
                <a:ahLst/>
                <a:rect l="0" t="0" r="r" b="b"/>
                <a:pathLst>
                  <a:path fill="none" w="16088" h="1694">
                    <a:moveTo>
                      <a:pt x="0" y="1694"/>
                    </a:moveTo>
                    <a:lnTo>
                      <a:pt x="4783" y="0"/>
                    </a:lnTo>
                    <a:lnTo>
                      <a:pt x="8696" y="0"/>
                    </a:lnTo>
                    <a:lnTo>
                      <a:pt x="12175" y="0"/>
                    </a:lnTo>
                    <a:lnTo>
                      <a:pt x="16088" y="0"/>
                    </a:lnTo>
                  </a:path>
                </a:pathLst>
              </a:custGeom>
              <a:ln w="127080">
                <a:solidFill>
                  <a:srgbClr val="ff3300"/>
                </a:solidFill>
                <a:round/>
                <a:tailEnd len="med" type="triangle" w="med"/>
              </a:ln>
            </p:spPr>
            <p:txBody>
              <a:bodyPr lIns="153360" rIns="153360" tIns="108360" bIns="10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V="1">
                <a:off x="2590920" y="3352680"/>
                <a:ext cx="152280" cy="99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4648320" y="3048120"/>
                <a:ext cx="75960" cy="152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6705720" y="3048120"/>
                <a:ext cx="304560" cy="121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85" name="" descr=""/>
            <p:cNvPicPr/>
            <p:nvPr/>
          </p:nvPicPr>
          <p:blipFill>
            <a:blip r:embed="rId4"/>
            <a:stretch/>
          </p:blipFill>
          <p:spPr>
            <a:xfrm>
              <a:off x="7543800" y="1752480"/>
              <a:ext cx="144792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6" name=""/>
            <p:cNvGrpSpPr/>
            <p:nvPr/>
          </p:nvGrpSpPr>
          <p:grpSpPr>
            <a:xfrm>
              <a:off x="360360" y="304920"/>
              <a:ext cx="4440600" cy="4011480"/>
              <a:chOff x="360360" y="304920"/>
              <a:chExt cx="4440600" cy="4011480"/>
            </a:xfrm>
          </p:grpSpPr>
          <p:sp>
            <p:nvSpPr>
              <p:cNvPr id="1787" name=""/>
              <p:cNvSpPr/>
              <p:nvPr/>
            </p:nvSpPr>
            <p:spPr>
              <a:xfrm>
                <a:off x="380880" y="304920"/>
                <a:ext cx="4420080" cy="2286360"/>
              </a:xfrm>
              <a:custGeom>
                <a:avLst/>
                <a:gdLst/>
                <a:ahLst/>
                <a:rect l="0" t="0" r="r" b="b"/>
                <a:pathLst>
                  <a:path w="12278" h="6351">
                    <a:moveTo>
                      <a:pt x="0" y="0"/>
                    </a:moveTo>
                    <a:lnTo>
                      <a:pt x="0" y="3811"/>
                    </a:lnTo>
                    <a:lnTo>
                      <a:pt x="3387" y="3811"/>
                    </a:lnTo>
                    <a:lnTo>
                      <a:pt x="3176" y="6351"/>
                    </a:lnTo>
                    <a:lnTo>
                      <a:pt x="4022" y="3811"/>
                    </a:lnTo>
                    <a:lnTo>
                      <a:pt x="9102" y="3811"/>
                    </a:lnTo>
                    <a:lnTo>
                      <a:pt x="12278" y="2116"/>
                    </a:lnTo>
                    <a:lnTo>
                      <a:pt x="1227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 txBox="1"/>
              <p:nvPr/>
            </p:nvSpPr>
            <p:spPr>
              <a:xfrm>
                <a:off x="441360" y="334800"/>
                <a:ext cx="4334040" cy="131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have got a VC with VPI=2,VPI=5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am gonna indicate CSR_B following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essage through this VC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Node-ID of CSR_A, SN=7)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60360" y="1974960"/>
                <a:ext cx="1773360" cy="234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90" name=""/>
          <p:cNvSpPr/>
          <p:nvPr/>
        </p:nvSpPr>
        <p:spPr>
          <a:xfrm>
            <a:off x="1828800" y="2971800"/>
            <a:ext cx="5791680" cy="609840"/>
          </a:xfrm>
          <a:custGeom>
            <a:avLst/>
            <a:gdLst/>
            <a:ahLst/>
            <a:rect l="0" t="0" r="r" b="b"/>
            <a:pathLst>
              <a:path fill="none" w="16088" h="1694">
                <a:moveTo>
                  <a:pt x="0" y="1694"/>
                </a:moveTo>
                <a:lnTo>
                  <a:pt x="5081" y="0"/>
                </a:lnTo>
                <a:lnTo>
                  <a:pt x="16088" y="0"/>
                </a:lnTo>
              </a:path>
            </a:pathLst>
          </a:custGeom>
          <a:ln w="38160">
            <a:solidFill>
              <a:srgbClr val="3333cc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1" name=""/>
          <p:cNvGrpSpPr/>
          <p:nvPr/>
        </p:nvGrpSpPr>
        <p:grpSpPr>
          <a:xfrm>
            <a:off x="360360" y="304920"/>
            <a:ext cx="8716680" cy="6041880"/>
            <a:chOff x="360360" y="304920"/>
            <a:chExt cx="8716680" cy="6041880"/>
          </a:xfrm>
        </p:grpSpPr>
        <p:sp>
          <p:nvSpPr>
            <p:cNvPr id="1792" name=""/>
            <p:cNvSpPr/>
            <p:nvPr/>
          </p:nvSpPr>
          <p:spPr>
            <a:xfrm>
              <a:off x="2438280" y="1600200"/>
              <a:ext cx="5029200" cy="27432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203640" y="2309760"/>
              <a:ext cx="1197000" cy="1042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4" name="" descr=""/>
            <p:cNvPicPr/>
            <p:nvPr/>
          </p:nvPicPr>
          <p:blipFill>
            <a:blip r:embed="rId1"/>
            <a:stretch/>
          </p:blipFill>
          <p:spPr>
            <a:xfrm>
              <a:off x="3200400" y="2286000"/>
              <a:ext cx="1219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"/>
            <p:cNvSpPr/>
            <p:nvPr/>
          </p:nvSpPr>
          <p:spPr>
            <a:xfrm>
              <a:off x="4568760" y="1825560"/>
              <a:ext cx="754200" cy="46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6" name="" descr=""/>
            <p:cNvPicPr/>
            <p:nvPr/>
          </p:nvPicPr>
          <p:blipFill>
            <a:blip r:embed="rId2"/>
            <a:stretch/>
          </p:blipFill>
          <p:spPr>
            <a:xfrm>
              <a:off x="4565520" y="1814400"/>
              <a:ext cx="76824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7" name=""/>
            <p:cNvSpPr/>
            <p:nvPr/>
          </p:nvSpPr>
          <p:spPr>
            <a:xfrm>
              <a:off x="5643720" y="2309760"/>
              <a:ext cx="1046160" cy="966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8" name="" descr=""/>
            <p:cNvPicPr/>
            <p:nvPr/>
          </p:nvPicPr>
          <p:blipFill>
            <a:blip r:embed="rId3"/>
            <a:stretch/>
          </p:blipFill>
          <p:spPr>
            <a:xfrm>
              <a:off x="5638680" y="2286000"/>
              <a:ext cx="1066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3733920" y="5715000"/>
              <a:ext cx="1295280" cy="0"/>
            </a:xfrm>
            <a:prstGeom prst="line">
              <a:avLst/>
            </a:prstGeom>
            <a:ln w="101520">
              <a:solidFill>
                <a:srgbClr val="99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-95760" bIns="-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 txBox="1"/>
            <p:nvPr/>
          </p:nvSpPr>
          <p:spPr>
            <a:xfrm>
              <a:off x="5013360" y="5470560"/>
              <a:ext cx="369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Control channel (Default</a:t>
              </a:r>
              <a:r>
                <a:rPr b="1" lang="en-US" sz="2000" spc="-1" strike="noStrike">
                  <a:solidFill>
                    <a:srgbClr val="000000"/>
                  </a:solidFill>
                  <a:latin typeface="XlXr XoXSXVXbXN"/>
                  <a:ea typeface="XlXr XoXSXVXbXN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 txBox="1"/>
            <p:nvPr/>
          </p:nvSpPr>
          <p:spPr>
            <a:xfrm>
              <a:off x="4861080" y="3641760"/>
              <a:ext cx="16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 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 txBox="1"/>
            <p:nvPr/>
          </p:nvSpPr>
          <p:spPr>
            <a:xfrm>
              <a:off x="504720" y="4314960"/>
              <a:ext cx="1158840" cy="4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SR_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 txBox="1"/>
            <p:nvPr/>
          </p:nvSpPr>
          <p:spPr>
            <a:xfrm>
              <a:off x="7670880" y="4098960"/>
              <a:ext cx="1141560" cy="4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SR_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 txBox="1"/>
            <p:nvPr/>
          </p:nvSpPr>
          <p:spPr>
            <a:xfrm>
              <a:off x="3184560" y="2011320"/>
              <a:ext cx="1257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-S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 txBox="1"/>
            <p:nvPr/>
          </p:nvSpPr>
          <p:spPr>
            <a:xfrm>
              <a:off x="5546880" y="2011320"/>
              <a:ext cx="1320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-S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 txBox="1"/>
            <p:nvPr/>
          </p:nvSpPr>
          <p:spPr>
            <a:xfrm>
              <a:off x="2117880" y="432756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 txBox="1"/>
            <p:nvPr/>
          </p:nvSpPr>
          <p:spPr>
            <a:xfrm>
              <a:off x="4175280" y="455616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 txBox="1"/>
            <p:nvPr/>
          </p:nvSpPr>
          <p:spPr>
            <a:xfrm>
              <a:off x="6080040" y="417528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6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733920" y="6019920"/>
              <a:ext cx="1295280" cy="0"/>
            </a:xfrm>
            <a:prstGeom prst="line">
              <a:avLst/>
            </a:prstGeom>
            <a:ln w="10152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-95760" bIns="-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 txBox="1"/>
            <p:nvPr/>
          </p:nvSpPr>
          <p:spPr>
            <a:xfrm>
              <a:off x="3260880" y="5432400"/>
              <a:ext cx="4129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 txBox="1"/>
            <p:nvPr/>
          </p:nvSpPr>
          <p:spPr>
            <a:xfrm>
              <a:off x="5014800" y="5775480"/>
              <a:ext cx="4062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Cut-thru channel (Dedicated-VC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905120" y="2971800"/>
              <a:ext cx="5791680" cy="609840"/>
            </a:xfrm>
            <a:custGeom>
              <a:avLst/>
              <a:gdLst/>
              <a:ahLst/>
              <a:rect l="0" t="0" r="r" b="b"/>
              <a:pathLst>
                <a:path fill="none" w="16088" h="1694">
                  <a:moveTo>
                    <a:pt x="0" y="1694"/>
                  </a:moveTo>
                  <a:lnTo>
                    <a:pt x="4783" y="0"/>
                  </a:lnTo>
                  <a:lnTo>
                    <a:pt x="8696" y="0"/>
                  </a:lnTo>
                  <a:lnTo>
                    <a:pt x="12175" y="0"/>
                  </a:lnTo>
                  <a:lnTo>
                    <a:pt x="16088" y="0"/>
                  </a:lnTo>
                </a:path>
              </a:pathLst>
            </a:custGeom>
            <a:ln w="127080">
              <a:solidFill>
                <a:srgbClr val="ff3300"/>
              </a:solidFill>
              <a:round/>
              <a:tailEnd len="med" type="triangle" w="med"/>
            </a:ln>
          </p:spPr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2590920" y="3352680"/>
              <a:ext cx="152280" cy="99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4648320" y="3048120"/>
              <a:ext cx="75960" cy="152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6705720" y="3048120"/>
              <a:ext cx="304560" cy="1218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80880" y="304920"/>
              <a:ext cx="4420080" cy="2286360"/>
            </a:xfrm>
            <a:custGeom>
              <a:avLst/>
              <a:gdLst/>
              <a:ahLst/>
              <a:rect l="0" t="0" r="r" b="b"/>
              <a:pathLst>
                <a:path w="12278" h="6351">
                  <a:moveTo>
                    <a:pt x="0" y="0"/>
                  </a:moveTo>
                  <a:lnTo>
                    <a:pt x="0" y="3811"/>
                  </a:lnTo>
                  <a:lnTo>
                    <a:pt x="3387" y="3811"/>
                  </a:lnTo>
                  <a:lnTo>
                    <a:pt x="3176" y="6351"/>
                  </a:lnTo>
                  <a:lnTo>
                    <a:pt x="4022" y="3811"/>
                  </a:lnTo>
                  <a:lnTo>
                    <a:pt x="9102" y="3811"/>
                  </a:lnTo>
                  <a:lnTo>
                    <a:pt x="12278" y="2116"/>
                  </a:lnTo>
                  <a:lnTo>
                    <a:pt x="122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 txBox="1"/>
            <p:nvPr/>
          </p:nvSpPr>
          <p:spPr>
            <a:xfrm>
              <a:off x="441360" y="334800"/>
              <a:ext cx="4417920" cy="131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91a35b"/>
                  </a:solidFill>
                  <a:latin typeface="Times New Roman"/>
                  <a:ea typeface="Times New Roman"/>
                </a:rPr>
                <a:t>I have got a VC with VPI=2,VPI=5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91a35b"/>
                  </a:solidFill>
                  <a:latin typeface="Times New Roman"/>
                  <a:ea typeface="Times New Roman"/>
                </a:rPr>
                <a:t>I am gonna indicatet CSR_B follow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91a35b"/>
                  </a:solidFill>
                  <a:latin typeface="Times New Roman"/>
                  <a:ea typeface="Times New Roman"/>
                </a:rPr>
                <a:t>messge through this VC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91a35b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000" spc="-1" strike="noStrike">
                  <a:solidFill>
                    <a:srgbClr val="91a35b"/>
                  </a:solidFill>
                  <a:latin typeface="Times New Roman"/>
                  <a:ea typeface="Times New Roman"/>
                </a:rPr>
                <a:t>(Node-ID of CSR_A, SN=7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8" name="" descr=""/>
            <p:cNvPicPr/>
            <p:nvPr/>
          </p:nvPicPr>
          <p:blipFill>
            <a:blip r:embed="rId4"/>
            <a:stretch/>
          </p:blipFill>
          <p:spPr>
            <a:xfrm>
              <a:off x="360360" y="1974960"/>
              <a:ext cx="177336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257800" y="304920"/>
              <a:ext cx="3734280" cy="1752840"/>
            </a:xfrm>
            <a:custGeom>
              <a:avLst/>
              <a:gdLst/>
              <a:ahLst/>
              <a:rect l="0" t="0" r="r" b="b"/>
              <a:pathLst>
                <a:path w="10373" h="4869">
                  <a:moveTo>
                    <a:pt x="0" y="0"/>
                  </a:moveTo>
                  <a:lnTo>
                    <a:pt x="10373" y="0"/>
                  </a:lnTo>
                  <a:lnTo>
                    <a:pt x="10373" y="2752"/>
                  </a:lnTo>
                  <a:lnTo>
                    <a:pt x="5927" y="2752"/>
                  </a:lnTo>
                  <a:lnTo>
                    <a:pt x="6774" y="4869"/>
                  </a:lnTo>
                  <a:lnTo>
                    <a:pt x="5081" y="2752"/>
                  </a:lnTo>
                  <a:lnTo>
                    <a:pt x="0" y="27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0" name="" descr=""/>
            <p:cNvPicPr/>
            <p:nvPr/>
          </p:nvPicPr>
          <p:blipFill>
            <a:blip r:embed="rId5"/>
            <a:stretch/>
          </p:blipFill>
          <p:spPr>
            <a:xfrm>
              <a:off x="7238880" y="1600200"/>
              <a:ext cx="1751040" cy="21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1" name=""/>
            <p:cNvSpPr txBox="1"/>
            <p:nvPr/>
          </p:nvSpPr>
          <p:spPr>
            <a:xfrm>
              <a:off x="5241960" y="334800"/>
              <a:ext cx="376884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have got a cut-thu request fr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SR_A with SN=7 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me try to respond CSR_A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Issues of Intranet and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33520" y="1290600"/>
            <a:ext cx="8292960" cy="4271760"/>
            <a:chOff x="533520" y="1290600"/>
            <a:chExt cx="8292960" cy="427176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533520" y="1290600"/>
              <a:ext cx="63324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533520" y="2890800"/>
              <a:ext cx="63324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533520" y="4414680"/>
              <a:ext cx="63324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 txBox="1"/>
            <p:nvPr/>
          </p:nvSpPr>
          <p:spPr>
            <a:xfrm>
              <a:off x="1203480" y="1798560"/>
              <a:ext cx="762300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Insufficient Processing Power with Route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based on Software Processing</a:t>
              </a:r>
              <a:r>
                <a:rPr b="0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279440" y="3475080"/>
              <a:ext cx="49021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Beyond Best-Effort Serv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279440" y="4923000"/>
              <a:ext cx="718344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High Speed IP Service Over ATM Link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/>
          <p:nvPr/>
        </p:nvSpPr>
        <p:spPr>
          <a:xfrm>
            <a:off x="5943600" y="304920"/>
            <a:ext cx="3124440" cy="1829160"/>
          </a:xfrm>
          <a:custGeom>
            <a:avLst/>
            <a:gdLst/>
            <a:ahLst/>
            <a:rect l="0" t="0" r="r" b="b"/>
            <a:pathLst>
              <a:path w="8679" h="5081">
                <a:moveTo>
                  <a:pt x="0" y="0"/>
                </a:moveTo>
                <a:lnTo>
                  <a:pt x="0" y="2964"/>
                </a:lnTo>
                <a:lnTo>
                  <a:pt x="4446" y="2964"/>
                </a:lnTo>
                <a:lnTo>
                  <a:pt x="5716" y="5081"/>
                </a:lnTo>
                <a:lnTo>
                  <a:pt x="5292" y="2964"/>
                </a:lnTo>
                <a:lnTo>
                  <a:pt x="8679" y="2964"/>
                </a:lnTo>
                <a:lnTo>
                  <a:pt x="867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2438280" y="1600200"/>
            <a:ext cx="5029200" cy="27432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" descr=""/>
          <p:cNvPicPr/>
          <p:nvPr/>
        </p:nvPicPr>
        <p:blipFill>
          <a:blip r:embed="rId1"/>
          <a:stretch/>
        </p:blipFill>
        <p:spPr>
          <a:xfrm>
            <a:off x="436680" y="1974960"/>
            <a:ext cx="1773360" cy="2341440"/>
          </a:xfrm>
          <a:prstGeom prst="rect">
            <a:avLst/>
          </a:prstGeom>
          <a:ln w="0">
            <a:noFill/>
          </a:ln>
        </p:spPr>
      </p:pic>
      <p:grpSp>
        <p:nvGrpSpPr>
          <p:cNvPr id="1825" name=""/>
          <p:cNvGrpSpPr/>
          <p:nvPr/>
        </p:nvGrpSpPr>
        <p:grpSpPr>
          <a:xfrm>
            <a:off x="3200400" y="2286000"/>
            <a:ext cx="1219320" cy="1066680"/>
            <a:chOff x="3200400" y="2286000"/>
            <a:chExt cx="1219320" cy="1066680"/>
          </a:xfrm>
        </p:grpSpPr>
        <p:sp>
          <p:nvSpPr>
            <p:cNvPr id="1826" name=""/>
            <p:cNvSpPr/>
            <p:nvPr/>
          </p:nvSpPr>
          <p:spPr>
            <a:xfrm>
              <a:off x="3203640" y="2309760"/>
              <a:ext cx="1197000" cy="1042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7" name="" descr=""/>
            <p:cNvPicPr/>
            <p:nvPr/>
          </p:nvPicPr>
          <p:blipFill>
            <a:blip r:embed="rId2"/>
            <a:stretch/>
          </p:blipFill>
          <p:spPr>
            <a:xfrm>
              <a:off x="3200400" y="2286000"/>
              <a:ext cx="121932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8" name=""/>
          <p:cNvGrpSpPr/>
          <p:nvPr/>
        </p:nvGrpSpPr>
        <p:grpSpPr>
          <a:xfrm>
            <a:off x="4565520" y="1814400"/>
            <a:ext cx="768240" cy="471600"/>
            <a:chOff x="4565520" y="1814400"/>
            <a:chExt cx="768240" cy="471600"/>
          </a:xfrm>
        </p:grpSpPr>
        <p:sp>
          <p:nvSpPr>
            <p:cNvPr id="1829" name=""/>
            <p:cNvSpPr/>
            <p:nvPr/>
          </p:nvSpPr>
          <p:spPr>
            <a:xfrm>
              <a:off x="4568760" y="1825560"/>
              <a:ext cx="754200" cy="460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0" name="" descr=""/>
            <p:cNvPicPr/>
            <p:nvPr/>
          </p:nvPicPr>
          <p:blipFill>
            <a:blip r:embed="rId3"/>
            <a:stretch/>
          </p:blipFill>
          <p:spPr>
            <a:xfrm>
              <a:off x="4565520" y="1814400"/>
              <a:ext cx="768240" cy="4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1" name=""/>
          <p:cNvGrpSpPr/>
          <p:nvPr/>
        </p:nvGrpSpPr>
        <p:grpSpPr>
          <a:xfrm>
            <a:off x="5638680" y="2286000"/>
            <a:ext cx="1066680" cy="990720"/>
            <a:chOff x="5638680" y="2286000"/>
            <a:chExt cx="1066680" cy="990720"/>
          </a:xfrm>
        </p:grpSpPr>
        <p:sp>
          <p:nvSpPr>
            <p:cNvPr id="1832" name=""/>
            <p:cNvSpPr/>
            <p:nvPr/>
          </p:nvSpPr>
          <p:spPr>
            <a:xfrm>
              <a:off x="5643720" y="2309760"/>
              <a:ext cx="1046160" cy="966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3" name="" descr=""/>
            <p:cNvPicPr/>
            <p:nvPr/>
          </p:nvPicPr>
          <p:blipFill>
            <a:blip r:embed="rId4"/>
            <a:stretch/>
          </p:blipFill>
          <p:spPr>
            <a:xfrm>
              <a:off x="5638680" y="2286000"/>
              <a:ext cx="106668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4" name=""/>
          <p:cNvSpPr/>
          <p:nvPr/>
        </p:nvSpPr>
        <p:spPr>
          <a:xfrm>
            <a:off x="1447920" y="2438280"/>
            <a:ext cx="6172560" cy="457560"/>
          </a:xfrm>
          <a:custGeom>
            <a:avLst/>
            <a:gdLst/>
            <a:ahLst/>
            <a:rect l="0" t="0" r="r" b="b"/>
            <a:pathLst>
              <a:path fill="none" w="17146" h="1271">
                <a:moveTo>
                  <a:pt x="0" y="1271"/>
                </a:moveTo>
                <a:lnTo>
                  <a:pt x="5097" y="0"/>
                </a:lnTo>
                <a:lnTo>
                  <a:pt x="9268" y="0"/>
                </a:lnTo>
                <a:lnTo>
                  <a:pt x="12975" y="0"/>
                </a:lnTo>
                <a:lnTo>
                  <a:pt x="17146" y="0"/>
                </a:lnTo>
              </a:path>
            </a:pathLst>
          </a:custGeom>
          <a:ln w="76320">
            <a:solidFill>
              <a:srgbClr val="99ff33"/>
            </a:solidFill>
            <a:round/>
            <a:head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517680" y="533520"/>
            <a:ext cx="3463920" cy="2057760"/>
            <a:chOff x="517680" y="533520"/>
            <a:chExt cx="3463920" cy="2057760"/>
          </a:xfrm>
        </p:grpSpPr>
        <p:sp>
          <p:nvSpPr>
            <p:cNvPr id="1836" name=""/>
            <p:cNvSpPr/>
            <p:nvPr/>
          </p:nvSpPr>
          <p:spPr>
            <a:xfrm>
              <a:off x="609480" y="533520"/>
              <a:ext cx="3277080" cy="2057760"/>
            </a:xfrm>
            <a:custGeom>
              <a:avLst/>
              <a:gdLst/>
              <a:ahLst/>
              <a:rect l="0" t="0" r="r" b="b"/>
              <a:pathLst>
                <a:path w="9103" h="5716">
                  <a:moveTo>
                    <a:pt x="0" y="0"/>
                  </a:moveTo>
                  <a:lnTo>
                    <a:pt x="0" y="2328"/>
                  </a:lnTo>
                  <a:lnTo>
                    <a:pt x="3263" y="2328"/>
                  </a:lnTo>
                  <a:lnTo>
                    <a:pt x="2405" y="5716"/>
                  </a:lnTo>
                  <a:lnTo>
                    <a:pt x="3950" y="2328"/>
                  </a:lnTo>
                  <a:lnTo>
                    <a:pt x="9103" y="2328"/>
                  </a:lnTo>
                  <a:lnTo>
                    <a:pt x="91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 txBox="1"/>
            <p:nvPr/>
          </p:nvSpPr>
          <p:spPr>
            <a:xfrm>
              <a:off x="517680" y="639720"/>
              <a:ext cx="34639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K, he/she is ready to recei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ugh the cut-thru VC :-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"/>
          <p:cNvSpPr/>
          <p:nvPr/>
        </p:nvSpPr>
        <p:spPr>
          <a:xfrm>
            <a:off x="3733920" y="5715000"/>
            <a:ext cx="1295280" cy="0"/>
          </a:xfrm>
          <a:prstGeom prst="line">
            <a:avLst/>
          </a:prstGeom>
          <a:ln w="101520">
            <a:solidFill>
              <a:srgbClr val="99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5013360" y="5470560"/>
            <a:ext cx="369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rol channel (Default</a:t>
            </a:r>
            <a:r>
              <a:rPr b="1" lang="en-US" sz="2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4861080" y="3641760"/>
            <a:ext cx="16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M 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200160" y="4314960"/>
            <a:ext cx="1158840" cy="482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R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7289640" y="4403880"/>
            <a:ext cx="1141560" cy="482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R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184560" y="2011320"/>
            <a:ext cx="1257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M-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5546880" y="2011320"/>
            <a:ext cx="1320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M-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5" name="" descr=""/>
          <p:cNvPicPr/>
          <p:nvPr/>
        </p:nvPicPr>
        <p:blipFill>
          <a:blip r:embed="rId5"/>
          <a:stretch/>
        </p:blipFill>
        <p:spPr>
          <a:xfrm>
            <a:off x="7620120" y="1609560"/>
            <a:ext cx="1209600" cy="2416320"/>
          </a:xfrm>
          <a:prstGeom prst="rect">
            <a:avLst/>
          </a:prstGeom>
          <a:ln w="0">
            <a:noFill/>
          </a:ln>
        </p:spPr>
      </p:pic>
      <p:sp>
        <p:nvSpPr>
          <p:cNvPr id="1846" name=""/>
          <p:cNvSpPr txBox="1"/>
          <p:nvPr/>
        </p:nvSpPr>
        <p:spPr>
          <a:xfrm>
            <a:off x="5929200" y="334800"/>
            <a:ext cx="3048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y, I an ready to rece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through VC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R_A with SN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7" name=""/>
          <p:cNvGrpSpPr/>
          <p:nvPr/>
        </p:nvGrpSpPr>
        <p:grpSpPr>
          <a:xfrm>
            <a:off x="200160" y="533520"/>
            <a:ext cx="8876880" cy="5699160"/>
            <a:chOff x="200160" y="533520"/>
            <a:chExt cx="8876880" cy="5699160"/>
          </a:xfrm>
        </p:grpSpPr>
        <p:sp>
          <p:nvSpPr>
            <p:cNvPr id="1848" name=""/>
            <p:cNvSpPr/>
            <p:nvPr/>
          </p:nvSpPr>
          <p:spPr>
            <a:xfrm>
              <a:off x="2438280" y="1600200"/>
              <a:ext cx="5029200" cy="27432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80880" y="533520"/>
              <a:ext cx="4420080" cy="1905480"/>
            </a:xfrm>
            <a:custGeom>
              <a:avLst/>
              <a:gdLst/>
              <a:ahLst/>
              <a:rect l="0" t="0" r="r" b="b"/>
              <a:pathLst>
                <a:path w="12278" h="5293">
                  <a:moveTo>
                    <a:pt x="0" y="0"/>
                  </a:moveTo>
                  <a:lnTo>
                    <a:pt x="0" y="3176"/>
                  </a:lnTo>
                  <a:lnTo>
                    <a:pt x="3387" y="3176"/>
                  </a:lnTo>
                  <a:lnTo>
                    <a:pt x="3176" y="5293"/>
                  </a:lnTo>
                  <a:lnTo>
                    <a:pt x="4022" y="3176"/>
                  </a:lnTo>
                  <a:lnTo>
                    <a:pt x="9102" y="3176"/>
                  </a:lnTo>
                  <a:lnTo>
                    <a:pt x="12278" y="1764"/>
                  </a:lnTo>
                  <a:lnTo>
                    <a:pt x="122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 txBox="1"/>
            <p:nvPr/>
          </p:nvSpPr>
          <p:spPr>
            <a:xfrm>
              <a:off x="441360" y="563400"/>
              <a:ext cx="410688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K, let me send hot-line message 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SR_B through the cut-thru VC :-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love you :-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1" name="" descr=""/>
            <p:cNvPicPr/>
            <p:nvPr/>
          </p:nvPicPr>
          <p:blipFill>
            <a:blip r:embed="rId1"/>
            <a:stretch/>
          </p:blipFill>
          <p:spPr>
            <a:xfrm>
              <a:off x="360360" y="1974960"/>
              <a:ext cx="1773360" cy="234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2" name=""/>
            <p:cNvGrpSpPr/>
            <p:nvPr/>
          </p:nvGrpSpPr>
          <p:grpSpPr>
            <a:xfrm>
              <a:off x="3200400" y="2286000"/>
              <a:ext cx="1219320" cy="1066680"/>
              <a:chOff x="3200400" y="2286000"/>
              <a:chExt cx="1219320" cy="1066680"/>
            </a:xfrm>
          </p:grpSpPr>
          <p:sp>
            <p:nvSpPr>
              <p:cNvPr id="1853" name=""/>
              <p:cNvSpPr/>
              <p:nvPr/>
            </p:nvSpPr>
            <p:spPr>
              <a:xfrm>
                <a:off x="3203640" y="2309760"/>
                <a:ext cx="1197000" cy="10429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2286000"/>
                <a:ext cx="1219320" cy="106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55" name=""/>
            <p:cNvGrpSpPr/>
            <p:nvPr/>
          </p:nvGrpSpPr>
          <p:grpSpPr>
            <a:xfrm>
              <a:off x="4565520" y="1814400"/>
              <a:ext cx="768240" cy="471600"/>
              <a:chOff x="4565520" y="1814400"/>
              <a:chExt cx="768240" cy="471600"/>
            </a:xfrm>
          </p:grpSpPr>
          <p:sp>
            <p:nvSpPr>
              <p:cNvPr id="1856" name=""/>
              <p:cNvSpPr/>
              <p:nvPr/>
            </p:nvSpPr>
            <p:spPr>
              <a:xfrm>
                <a:off x="4568760" y="1825560"/>
                <a:ext cx="754200" cy="460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65520" y="1814400"/>
                <a:ext cx="768240" cy="4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58" name=""/>
            <p:cNvGrpSpPr/>
            <p:nvPr/>
          </p:nvGrpSpPr>
          <p:grpSpPr>
            <a:xfrm>
              <a:off x="5638680" y="2286000"/>
              <a:ext cx="1066680" cy="990720"/>
              <a:chOff x="5638680" y="2286000"/>
              <a:chExt cx="1066680" cy="990720"/>
            </a:xfrm>
          </p:grpSpPr>
          <p:sp>
            <p:nvSpPr>
              <p:cNvPr id="1859" name=""/>
              <p:cNvSpPr/>
              <p:nvPr/>
            </p:nvSpPr>
            <p:spPr>
              <a:xfrm>
                <a:off x="5643720" y="2309760"/>
                <a:ext cx="1046160" cy="966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38680" y="2286000"/>
                <a:ext cx="106668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61" name=""/>
            <p:cNvSpPr txBox="1"/>
            <p:nvPr/>
          </p:nvSpPr>
          <p:spPr>
            <a:xfrm>
              <a:off x="4861080" y="3641760"/>
              <a:ext cx="16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 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 txBox="1"/>
            <p:nvPr/>
          </p:nvSpPr>
          <p:spPr>
            <a:xfrm>
              <a:off x="200160" y="4314960"/>
              <a:ext cx="1158840" cy="4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SR_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 txBox="1"/>
            <p:nvPr/>
          </p:nvSpPr>
          <p:spPr>
            <a:xfrm>
              <a:off x="7289640" y="4403880"/>
              <a:ext cx="1141560" cy="4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SR_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 txBox="1"/>
            <p:nvPr/>
          </p:nvSpPr>
          <p:spPr>
            <a:xfrm>
              <a:off x="3184560" y="2011320"/>
              <a:ext cx="1257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-S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 txBox="1"/>
            <p:nvPr/>
          </p:nvSpPr>
          <p:spPr>
            <a:xfrm>
              <a:off x="5546880" y="2011320"/>
              <a:ext cx="1320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TM-S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 txBox="1"/>
            <p:nvPr/>
          </p:nvSpPr>
          <p:spPr>
            <a:xfrm>
              <a:off x="2117880" y="432756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 txBox="1"/>
            <p:nvPr/>
          </p:nvSpPr>
          <p:spPr>
            <a:xfrm>
              <a:off x="4175280" y="455616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 txBox="1"/>
            <p:nvPr/>
          </p:nvSpPr>
          <p:spPr>
            <a:xfrm>
              <a:off x="6080040" y="4175280"/>
              <a:ext cx="1111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PI=6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I=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733920" y="6019920"/>
              <a:ext cx="1295280" cy="0"/>
            </a:xfrm>
            <a:prstGeom prst="line">
              <a:avLst/>
            </a:prstGeom>
            <a:ln w="10152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-95760" bIns="-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 txBox="1"/>
            <p:nvPr/>
          </p:nvSpPr>
          <p:spPr>
            <a:xfrm>
              <a:off x="5014800" y="5775480"/>
              <a:ext cx="4062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Cut-thru channel (Dedicated-VC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05120" y="2971800"/>
              <a:ext cx="5791680" cy="609840"/>
            </a:xfrm>
            <a:custGeom>
              <a:avLst/>
              <a:gdLst/>
              <a:ahLst/>
              <a:rect l="0" t="0" r="r" b="b"/>
              <a:pathLst>
                <a:path fill="none" w="16088" h="1694">
                  <a:moveTo>
                    <a:pt x="0" y="1694"/>
                  </a:moveTo>
                  <a:lnTo>
                    <a:pt x="4783" y="0"/>
                  </a:lnTo>
                  <a:lnTo>
                    <a:pt x="8696" y="0"/>
                  </a:lnTo>
                  <a:lnTo>
                    <a:pt x="12175" y="0"/>
                  </a:lnTo>
                  <a:lnTo>
                    <a:pt x="16088" y="0"/>
                  </a:lnTo>
                </a:path>
              </a:pathLst>
            </a:custGeom>
            <a:ln w="127080">
              <a:solidFill>
                <a:srgbClr val="ff3300"/>
              </a:solidFill>
              <a:round/>
              <a:tailEnd len="med" type="triangle" w="med"/>
            </a:ln>
          </p:spPr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2590920" y="3352680"/>
              <a:ext cx="152280" cy="99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4648320" y="3048120"/>
              <a:ext cx="75960" cy="152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6705720" y="3048120"/>
              <a:ext cx="304560" cy="1218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" descr=""/>
            <p:cNvPicPr/>
            <p:nvPr/>
          </p:nvPicPr>
          <p:blipFill>
            <a:blip r:embed="rId5"/>
            <a:stretch/>
          </p:blipFill>
          <p:spPr>
            <a:xfrm>
              <a:off x="7315200" y="1600200"/>
              <a:ext cx="1598760" cy="24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6" name=""/>
          <p:cNvSpPr/>
          <p:nvPr/>
        </p:nvSpPr>
        <p:spPr>
          <a:xfrm>
            <a:off x="1905120" y="2895480"/>
            <a:ext cx="5791680" cy="686160"/>
          </a:xfrm>
          <a:custGeom>
            <a:avLst/>
            <a:gdLst/>
            <a:ahLst/>
            <a:rect l="0" t="0" r="r" b="b"/>
            <a:pathLst>
              <a:path fill="none" w="16088" h="1906">
                <a:moveTo>
                  <a:pt x="0" y="1906"/>
                </a:moveTo>
                <a:lnTo>
                  <a:pt x="5292" y="0"/>
                </a:lnTo>
                <a:lnTo>
                  <a:pt x="16088" y="0"/>
                </a:lnTo>
              </a:path>
            </a:pathLst>
          </a:custGeom>
          <a:ln w="76320">
            <a:solidFill>
              <a:srgbClr val="0066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7" name=""/>
          <p:cNvGrpSpPr/>
          <p:nvPr/>
        </p:nvGrpSpPr>
        <p:grpSpPr>
          <a:xfrm>
            <a:off x="0" y="152280"/>
            <a:ext cx="9067680" cy="6248520"/>
            <a:chOff x="0" y="152280"/>
            <a:chExt cx="9067680" cy="6248520"/>
          </a:xfrm>
        </p:grpSpPr>
        <p:sp>
          <p:nvSpPr>
            <p:cNvPr id="1878" name=""/>
            <p:cNvSpPr/>
            <p:nvPr/>
          </p:nvSpPr>
          <p:spPr>
            <a:xfrm>
              <a:off x="152280" y="304920"/>
              <a:ext cx="8915400" cy="236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80880" y="533520"/>
              <a:ext cx="4800600" cy="182880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80880" y="3733920"/>
              <a:ext cx="3200400" cy="152388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457200" y="5486400"/>
              <a:ext cx="762120" cy="761760"/>
              <a:chOff x="457200" y="5486400"/>
              <a:chExt cx="762120" cy="761760"/>
            </a:xfrm>
          </p:grpSpPr>
          <p:sp>
            <p:nvSpPr>
              <p:cNvPr id="1882" name=""/>
              <p:cNvSpPr/>
              <p:nvPr/>
            </p:nvSpPr>
            <p:spPr>
              <a:xfrm>
                <a:off x="457200" y="5486400"/>
                <a:ext cx="762120" cy="538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52600" y="5575320"/>
                <a:ext cx="571680" cy="360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00120" y="6024600"/>
                <a:ext cx="476280" cy="44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57200" y="6068880"/>
                <a:ext cx="762120" cy="179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593640" y="4038480"/>
              <a:ext cx="1235520" cy="457560"/>
              <a:chOff x="593640" y="4038480"/>
              <a:chExt cx="1235520" cy="457560"/>
            </a:xfrm>
          </p:grpSpPr>
          <p:sp>
            <p:nvSpPr>
              <p:cNvPr id="1887" name=""/>
              <p:cNvSpPr/>
              <p:nvPr/>
            </p:nvSpPr>
            <p:spPr>
              <a:xfrm>
                <a:off x="609480" y="4129200"/>
                <a:ext cx="974880" cy="366840"/>
              </a:xfrm>
              <a:prstGeom prst="rect">
                <a:avLst/>
              </a:prstGeom>
              <a:solidFill>
                <a:srgbClr val="556ea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44400" y="440532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47720" y="44053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853920" y="440532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958680" y="440532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166760" y="440532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71520" y="44053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74840" y="44053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79600" y="44053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44400" y="431172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47720" y="43117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53920" y="431172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958680" y="431172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166760" y="431172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271520" y="43117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374840" y="43117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479600" y="43117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09480" y="4038480"/>
                <a:ext cx="1219680" cy="90720"/>
              </a:xfrm>
              <a:custGeom>
                <a:avLst/>
                <a:gdLst/>
                <a:ahLst/>
                <a:rect l="0" t="0" r="r" b="b"/>
                <a:pathLst>
                  <a:path w="3388" h="252">
                    <a:moveTo>
                      <a:pt x="0" y="252"/>
                    </a:moveTo>
                    <a:lnTo>
                      <a:pt x="677" y="0"/>
                    </a:lnTo>
                    <a:lnTo>
                      <a:pt x="3388" y="0"/>
                    </a:lnTo>
                    <a:lnTo>
                      <a:pt x="2711" y="252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556ea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584360" y="4038480"/>
                <a:ext cx="244800" cy="457560"/>
              </a:xfrm>
              <a:custGeom>
                <a:avLst/>
                <a:gdLst/>
                <a:ahLst/>
                <a:rect l="0" t="0" r="r" b="b"/>
                <a:pathLst>
                  <a:path w="680" h="1271">
                    <a:moveTo>
                      <a:pt x="0" y="254"/>
                    </a:moveTo>
                    <a:lnTo>
                      <a:pt x="680" y="0"/>
                    </a:lnTo>
                    <a:lnTo>
                      <a:pt x="680" y="1016"/>
                    </a:lnTo>
                    <a:lnTo>
                      <a:pt x="0" y="1271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556ea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 txBox="1"/>
              <p:nvPr/>
            </p:nvSpPr>
            <p:spPr>
              <a:xfrm>
                <a:off x="593640" y="4084560"/>
                <a:ext cx="1017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‚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`TM Swit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 flipV="1">
              <a:off x="762120" y="5181480"/>
              <a:ext cx="60948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2133720" y="518148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5181480" y="5029200"/>
              <a:ext cx="1752840" cy="304920"/>
              <a:chOff x="5181480" y="5029200"/>
              <a:chExt cx="1752840" cy="304920"/>
            </a:xfrm>
          </p:grpSpPr>
          <p:sp>
            <p:nvSpPr>
              <p:cNvPr id="1910" name=""/>
              <p:cNvSpPr/>
              <p:nvPr/>
            </p:nvSpPr>
            <p:spPr>
              <a:xfrm>
                <a:off x="5181480" y="5181480"/>
                <a:ext cx="175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934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3" name=""/>
            <p:cNvSpPr/>
            <p:nvPr/>
          </p:nvSpPr>
          <p:spPr>
            <a:xfrm>
              <a:off x="5410080" y="5181480"/>
              <a:ext cx="228960" cy="457560"/>
            </a:xfrm>
            <a:custGeom>
              <a:avLst/>
              <a:gdLst/>
              <a:ahLst/>
              <a:rect l="0" t="0" r="r" b="b"/>
              <a:pathLst>
                <a:path fill="none" w="636" h="1271">
                  <a:moveTo>
                    <a:pt x="636" y="0"/>
                  </a:moveTo>
                  <a:lnTo>
                    <a:pt x="636" y="847"/>
                  </a:lnTo>
                  <a:lnTo>
                    <a:pt x="0" y="847"/>
                  </a:lnTo>
                  <a:lnTo>
                    <a:pt x="0" y="127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77120" y="5181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172200" y="4724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477120" y="4724280"/>
              <a:ext cx="9903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7" name=""/>
            <p:cNvGrpSpPr/>
            <p:nvPr/>
          </p:nvGrpSpPr>
          <p:grpSpPr>
            <a:xfrm>
              <a:off x="3962520" y="2895480"/>
              <a:ext cx="1524240" cy="762480"/>
              <a:chOff x="3962520" y="2895480"/>
              <a:chExt cx="1524240" cy="762480"/>
            </a:xfrm>
          </p:grpSpPr>
          <p:sp>
            <p:nvSpPr>
              <p:cNvPr id="1918" name=""/>
              <p:cNvSpPr/>
              <p:nvPr/>
            </p:nvSpPr>
            <p:spPr>
              <a:xfrm>
                <a:off x="3962520" y="3048120"/>
                <a:ext cx="1066680" cy="609480"/>
              </a:xfrm>
              <a:prstGeom prst="rect">
                <a:avLst/>
              </a:pr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34340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49568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64832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80060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34340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49568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64832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80060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 txBox="1"/>
              <p:nvPr/>
            </p:nvSpPr>
            <p:spPr>
              <a:xfrm>
                <a:off x="4098960" y="2955960"/>
                <a:ext cx="793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S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962520" y="2895480"/>
                <a:ext cx="1524240" cy="152640"/>
              </a:xfrm>
              <a:custGeom>
                <a:avLst/>
                <a:gdLst/>
                <a:ahLst/>
                <a:rect l="0" t="0" r="r" b="b"/>
                <a:pathLst>
                  <a:path w="4234" h="424">
                    <a:moveTo>
                      <a:pt x="0" y="424"/>
                    </a:moveTo>
                    <a:lnTo>
                      <a:pt x="1270" y="0"/>
                    </a:lnTo>
                    <a:lnTo>
                      <a:pt x="4234" y="0"/>
                    </a:lnTo>
                    <a:lnTo>
                      <a:pt x="2964" y="424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029200" y="2895480"/>
                <a:ext cx="457560" cy="762480"/>
              </a:xfrm>
              <a:custGeom>
                <a:avLst/>
                <a:gdLst/>
                <a:ahLst/>
                <a:rect l="0" t="0" r="r" b="b"/>
                <a:pathLst>
                  <a:path w="1271" h="2118">
                    <a:moveTo>
                      <a:pt x="1271" y="0"/>
                    </a:moveTo>
                    <a:lnTo>
                      <a:pt x="1271" y="1695"/>
                    </a:lnTo>
                    <a:lnTo>
                      <a:pt x="0" y="2118"/>
                    </a:lnTo>
                    <a:lnTo>
                      <a:pt x="0" y="423"/>
                    </a:lnTo>
                    <a:lnTo>
                      <a:pt x="1271" y="0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3848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9112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03848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19112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5257800" y="4191120"/>
              <a:ext cx="1293840" cy="533520"/>
            </a:xfrm>
            <a:prstGeom prst="rect">
              <a:avLst/>
            </a:prstGeom>
            <a:solidFill>
              <a:srgbClr val="fe8dd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313240" y="4602240"/>
              <a:ext cx="81000" cy="6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450040" y="4602240"/>
              <a:ext cx="82440" cy="6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87920" y="4602240"/>
              <a:ext cx="82440" cy="6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726160" y="4602240"/>
              <a:ext cx="81000" cy="6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862600" y="4602240"/>
              <a:ext cx="84240" cy="6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000840" y="4602240"/>
              <a:ext cx="84240" cy="6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138720" y="4602240"/>
              <a:ext cx="82440" cy="6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276960" y="4602240"/>
              <a:ext cx="82440" cy="6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15200" y="4602240"/>
              <a:ext cx="81000" cy="6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313240" y="4511520"/>
              <a:ext cx="81000" cy="60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50040" y="4511520"/>
              <a:ext cx="82440" cy="60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587920" y="4511520"/>
              <a:ext cx="82440" cy="60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726160" y="4511520"/>
              <a:ext cx="81000" cy="60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862600" y="4511520"/>
              <a:ext cx="84240" cy="60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000840" y="4511520"/>
              <a:ext cx="84240" cy="60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38720" y="4511520"/>
              <a:ext cx="82440" cy="60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276960" y="4511520"/>
              <a:ext cx="82440" cy="60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415200" y="4511520"/>
              <a:ext cx="81000" cy="60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257800" y="4038480"/>
              <a:ext cx="1676880" cy="152640"/>
            </a:xfrm>
            <a:custGeom>
              <a:avLst/>
              <a:gdLst/>
              <a:ahLst/>
              <a:rect l="0" t="0" r="r" b="b"/>
              <a:pathLst>
                <a:path w="4658" h="424">
                  <a:moveTo>
                    <a:pt x="0" y="424"/>
                  </a:moveTo>
                  <a:lnTo>
                    <a:pt x="1062" y="0"/>
                  </a:lnTo>
                  <a:lnTo>
                    <a:pt x="4658" y="0"/>
                  </a:lnTo>
                  <a:lnTo>
                    <a:pt x="3596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e8dd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551640" y="4038480"/>
              <a:ext cx="383040" cy="686160"/>
            </a:xfrm>
            <a:custGeom>
              <a:avLst/>
              <a:gdLst/>
              <a:ahLst/>
              <a:rect l="0" t="0" r="r" b="b"/>
              <a:pathLst>
                <a:path w="1064" h="1906">
                  <a:moveTo>
                    <a:pt x="0" y="476"/>
                  </a:moveTo>
                  <a:lnTo>
                    <a:pt x="1064" y="0"/>
                  </a:lnTo>
                  <a:lnTo>
                    <a:pt x="1064" y="1429"/>
                  </a:lnTo>
                  <a:lnTo>
                    <a:pt x="0" y="1906"/>
                  </a:lnTo>
                  <a:lnTo>
                    <a:pt x="0" y="476"/>
                  </a:lnTo>
                  <a:close/>
                </a:path>
              </a:pathLst>
            </a:custGeom>
            <a:solidFill>
              <a:srgbClr val="fe8dd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 txBox="1"/>
            <p:nvPr/>
          </p:nvSpPr>
          <p:spPr>
            <a:xfrm>
              <a:off x="5165640" y="4167360"/>
              <a:ext cx="10414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1371600" y="365760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62320" y="36576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43000" y="44956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2438280" y="4572000"/>
              <a:ext cx="30492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828800" y="4343400"/>
              <a:ext cx="3049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8769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971800" y="3200400"/>
              <a:ext cx="9907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895480" y="3505320"/>
              <a:ext cx="236232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86400" y="685800"/>
              <a:ext cx="3352680" cy="1523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5" name=""/>
            <p:cNvGrpSpPr/>
            <p:nvPr/>
          </p:nvGrpSpPr>
          <p:grpSpPr>
            <a:xfrm>
              <a:off x="4191120" y="1066680"/>
              <a:ext cx="533880" cy="838440"/>
              <a:chOff x="4191120" y="1066680"/>
              <a:chExt cx="533880" cy="838440"/>
            </a:xfrm>
          </p:grpSpPr>
          <p:sp>
            <p:nvSpPr>
              <p:cNvPr id="1966" name=""/>
              <p:cNvSpPr/>
              <p:nvPr/>
            </p:nvSpPr>
            <p:spPr>
              <a:xfrm>
                <a:off x="4191120" y="1146240"/>
                <a:ext cx="419040" cy="7588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229280" y="1185840"/>
                <a:ext cx="343080" cy="16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229280" y="13860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305240" y="13860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381560" y="13860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457880" y="13860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533840" y="13860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229280" y="1744560"/>
                <a:ext cx="343080" cy="12060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191120" y="1066680"/>
                <a:ext cx="533880" cy="79560"/>
              </a:xfrm>
              <a:custGeom>
                <a:avLst/>
                <a:gdLst/>
                <a:ahLst/>
                <a:rect l="0" t="0" r="r" b="b"/>
                <a:pathLst>
                  <a:path w="1483" h="221">
                    <a:moveTo>
                      <a:pt x="0" y="221"/>
                    </a:moveTo>
                    <a:lnTo>
                      <a:pt x="317" y="0"/>
                    </a:lnTo>
                    <a:lnTo>
                      <a:pt x="1483" y="0"/>
                    </a:lnTo>
                    <a:lnTo>
                      <a:pt x="1166" y="221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610160" y="1066680"/>
                <a:ext cx="114840" cy="838440"/>
              </a:xfrm>
              <a:custGeom>
                <a:avLst/>
                <a:gdLst/>
                <a:ahLst/>
                <a:rect l="0" t="0" r="r" b="b"/>
                <a:pathLst>
                  <a:path w="319" h="2329">
                    <a:moveTo>
                      <a:pt x="0" y="221"/>
                    </a:moveTo>
                    <a:lnTo>
                      <a:pt x="319" y="0"/>
                    </a:lnTo>
                    <a:lnTo>
                      <a:pt x="319" y="2107"/>
                    </a:lnTo>
                    <a:lnTo>
                      <a:pt x="0" y="2329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6" name=""/>
            <p:cNvGrpSpPr/>
            <p:nvPr/>
          </p:nvGrpSpPr>
          <p:grpSpPr>
            <a:xfrm>
              <a:off x="5791320" y="1066680"/>
              <a:ext cx="533880" cy="838440"/>
              <a:chOff x="5791320" y="1066680"/>
              <a:chExt cx="533880" cy="838440"/>
            </a:xfrm>
          </p:grpSpPr>
          <p:sp>
            <p:nvSpPr>
              <p:cNvPr id="1977" name=""/>
              <p:cNvSpPr/>
              <p:nvPr/>
            </p:nvSpPr>
            <p:spPr>
              <a:xfrm>
                <a:off x="5791320" y="1138320"/>
                <a:ext cx="407880" cy="7668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821200" y="1174680"/>
                <a:ext cx="334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884920" y="117468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948280" y="117468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010200" y="117468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073920" y="117468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137280" y="117468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821200" y="1539720"/>
                <a:ext cx="334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884920" y="153972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948280" y="153972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010200" y="153972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6073920" y="153972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137280" y="153972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791320" y="1066680"/>
                <a:ext cx="533880" cy="71640"/>
              </a:xfrm>
              <a:custGeom>
                <a:avLst/>
                <a:gdLst/>
                <a:ahLst/>
                <a:rect l="0" t="0" r="r" b="b"/>
                <a:pathLst>
                  <a:path w="1483" h="199">
                    <a:moveTo>
                      <a:pt x="0" y="199"/>
                    </a:moveTo>
                    <a:lnTo>
                      <a:pt x="348" y="0"/>
                    </a:lnTo>
                    <a:lnTo>
                      <a:pt x="1483" y="0"/>
                    </a:lnTo>
                    <a:lnTo>
                      <a:pt x="1135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6199200" y="1066680"/>
                <a:ext cx="125640" cy="838440"/>
              </a:xfrm>
              <a:custGeom>
                <a:avLst/>
                <a:gdLst/>
                <a:ahLst/>
                <a:rect l="0" t="0" r="r" b="b"/>
                <a:pathLst>
                  <a:path w="349" h="2329">
                    <a:moveTo>
                      <a:pt x="0" y="202"/>
                    </a:moveTo>
                    <a:lnTo>
                      <a:pt x="349" y="0"/>
                    </a:lnTo>
                    <a:lnTo>
                      <a:pt x="349" y="2126"/>
                    </a:lnTo>
                    <a:lnTo>
                      <a:pt x="0" y="2329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2" name=""/>
            <p:cNvSpPr/>
            <p:nvPr/>
          </p:nvSpPr>
          <p:spPr>
            <a:xfrm flipV="1">
              <a:off x="4724280" y="1066680"/>
              <a:ext cx="3812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410080" y="106668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1981080" y="2209680"/>
              <a:ext cx="76320" cy="68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219320" y="1447920"/>
              <a:ext cx="38088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133720" y="1828800"/>
              <a:ext cx="3808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3048120" y="1676520"/>
              <a:ext cx="38088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2819520" y="1219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657600" y="2057400"/>
              <a:ext cx="91440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3962520" y="1523880"/>
              <a:ext cx="22860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352680" y="990720"/>
              <a:ext cx="91440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324480" y="13716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6934320" y="121932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7696080" y="1600200"/>
              <a:ext cx="30492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7772400" y="12193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934320" y="1752480"/>
              <a:ext cx="22860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232000" y="6097680"/>
              <a:ext cx="739800" cy="135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143080" y="5423040"/>
              <a:ext cx="568440" cy="765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187720" y="5467320"/>
              <a:ext cx="8892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317680" y="5467320"/>
              <a:ext cx="8892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448000" y="5467320"/>
              <a:ext cx="8892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581200" y="5467320"/>
              <a:ext cx="8568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187720" y="5602320"/>
              <a:ext cx="8892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317680" y="5602320"/>
              <a:ext cx="8892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448000" y="5602320"/>
              <a:ext cx="8892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581200" y="5602320"/>
              <a:ext cx="8568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187720" y="5737320"/>
              <a:ext cx="8892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317680" y="5737320"/>
              <a:ext cx="8892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448000" y="5737320"/>
              <a:ext cx="8892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581200" y="5737320"/>
              <a:ext cx="85680" cy="9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187720" y="5872320"/>
              <a:ext cx="479520" cy="46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187720" y="5962680"/>
              <a:ext cx="479520" cy="4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187720" y="6053040"/>
              <a:ext cx="479520" cy="4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143080" y="5332320"/>
              <a:ext cx="784440" cy="90720"/>
            </a:xfrm>
            <a:custGeom>
              <a:avLst/>
              <a:gdLst/>
              <a:ahLst/>
              <a:rect l="0" t="0" r="r" b="b"/>
              <a:pathLst>
                <a:path w="2179" h="252">
                  <a:moveTo>
                    <a:pt x="0" y="252"/>
                  </a:moveTo>
                  <a:lnTo>
                    <a:pt x="605" y="0"/>
                  </a:lnTo>
                  <a:lnTo>
                    <a:pt x="2179" y="0"/>
                  </a:lnTo>
                  <a:lnTo>
                    <a:pt x="1574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711520" y="5332320"/>
              <a:ext cx="216360" cy="856080"/>
            </a:xfrm>
            <a:custGeom>
              <a:avLst/>
              <a:gdLst/>
              <a:ahLst/>
              <a:rect l="0" t="0" r="r" b="b"/>
              <a:pathLst>
                <a:path w="601" h="2378">
                  <a:moveTo>
                    <a:pt x="601" y="0"/>
                  </a:moveTo>
                  <a:lnTo>
                    <a:pt x="601" y="2128"/>
                  </a:lnTo>
                  <a:lnTo>
                    <a:pt x="0" y="2378"/>
                  </a:lnTo>
                  <a:lnTo>
                    <a:pt x="0" y="25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057400" y="6188040"/>
              <a:ext cx="739800" cy="135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797200" y="6097680"/>
              <a:ext cx="174960" cy="225720"/>
            </a:xfrm>
            <a:custGeom>
              <a:avLst/>
              <a:gdLst/>
              <a:ahLst/>
              <a:rect l="0" t="0" r="r" b="b"/>
              <a:pathLst>
                <a:path w="486" h="627">
                  <a:moveTo>
                    <a:pt x="0" y="627"/>
                  </a:moveTo>
                  <a:lnTo>
                    <a:pt x="486" y="376"/>
                  </a:lnTo>
                  <a:lnTo>
                    <a:pt x="486" y="0"/>
                  </a:lnTo>
                  <a:lnTo>
                    <a:pt x="0" y="250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8" name=""/>
            <p:cNvGrpSpPr/>
            <p:nvPr/>
          </p:nvGrpSpPr>
          <p:grpSpPr>
            <a:xfrm>
              <a:off x="6918480" y="685800"/>
              <a:ext cx="1159200" cy="533880"/>
              <a:chOff x="6918480" y="685800"/>
              <a:chExt cx="1159200" cy="533880"/>
            </a:xfrm>
          </p:grpSpPr>
          <p:sp>
            <p:nvSpPr>
              <p:cNvPr id="2029" name=""/>
              <p:cNvSpPr/>
              <p:nvPr/>
            </p:nvSpPr>
            <p:spPr>
              <a:xfrm>
                <a:off x="6934320" y="792000"/>
                <a:ext cx="800280" cy="426960"/>
              </a:xfrm>
              <a:prstGeom prst="rect">
                <a:avLst/>
              </a:pr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21980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33428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44840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56288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21980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33428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44840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56288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934320" y="685800"/>
                <a:ext cx="1143360" cy="106560"/>
              </a:xfrm>
              <a:custGeom>
                <a:avLst/>
                <a:gdLst/>
                <a:ahLst/>
                <a:rect l="0" t="0" r="r" b="b"/>
                <a:pathLst>
                  <a:path w="3176" h="296">
                    <a:moveTo>
                      <a:pt x="0" y="296"/>
                    </a:moveTo>
                    <a:lnTo>
                      <a:pt x="952" y="0"/>
                    </a:lnTo>
                    <a:lnTo>
                      <a:pt x="3176" y="0"/>
                    </a:lnTo>
                    <a:lnTo>
                      <a:pt x="2223" y="296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734240" y="685800"/>
                <a:ext cx="343440" cy="533880"/>
              </a:xfrm>
              <a:custGeom>
                <a:avLst/>
                <a:gdLst/>
                <a:ahLst/>
                <a:rect l="0" t="0" r="r" b="b"/>
                <a:pathLst>
                  <a:path w="954" h="1483">
                    <a:moveTo>
                      <a:pt x="954" y="0"/>
                    </a:moveTo>
                    <a:lnTo>
                      <a:pt x="954" y="1187"/>
                    </a:lnTo>
                    <a:lnTo>
                      <a:pt x="0" y="1483"/>
                    </a:lnTo>
                    <a:lnTo>
                      <a:pt x="0" y="296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699120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10568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699120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10568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 txBox="1"/>
              <p:nvPr/>
            </p:nvSpPr>
            <p:spPr>
              <a:xfrm>
                <a:off x="6918480" y="716040"/>
                <a:ext cx="6922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S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5" name=""/>
            <p:cNvSpPr txBox="1"/>
            <p:nvPr/>
          </p:nvSpPr>
          <p:spPr>
            <a:xfrm>
              <a:off x="3019320" y="152280"/>
              <a:ext cx="1843200" cy="482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ISP 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4784760" y="533520"/>
              <a:ext cx="1159200" cy="533880"/>
              <a:chOff x="4784760" y="533520"/>
              <a:chExt cx="1159200" cy="533880"/>
            </a:xfrm>
          </p:grpSpPr>
          <p:sp>
            <p:nvSpPr>
              <p:cNvPr id="2047" name=""/>
              <p:cNvSpPr/>
              <p:nvPr/>
            </p:nvSpPr>
            <p:spPr>
              <a:xfrm>
                <a:off x="4800600" y="639720"/>
                <a:ext cx="800280" cy="426960"/>
              </a:xfrm>
              <a:prstGeom prst="rect">
                <a:avLst/>
              </a:pr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086440" y="85392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200560" y="85392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315040" y="85392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429160" y="85392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086440" y="96048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200560" y="96048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315040" y="96048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429160" y="96048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800600" y="533520"/>
                <a:ext cx="1143360" cy="106560"/>
              </a:xfrm>
              <a:custGeom>
                <a:avLst/>
                <a:gdLst/>
                <a:ahLst/>
                <a:rect l="0" t="0" r="r" b="b"/>
                <a:pathLst>
                  <a:path w="3176" h="296">
                    <a:moveTo>
                      <a:pt x="0" y="296"/>
                    </a:moveTo>
                    <a:lnTo>
                      <a:pt x="952" y="0"/>
                    </a:lnTo>
                    <a:lnTo>
                      <a:pt x="3176" y="0"/>
                    </a:lnTo>
                    <a:lnTo>
                      <a:pt x="2223" y="296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600520" y="533520"/>
                <a:ext cx="343440" cy="533880"/>
              </a:xfrm>
              <a:custGeom>
                <a:avLst/>
                <a:gdLst/>
                <a:ahLst/>
                <a:rect l="0" t="0" r="r" b="b"/>
                <a:pathLst>
                  <a:path w="954" h="1483">
                    <a:moveTo>
                      <a:pt x="954" y="0"/>
                    </a:moveTo>
                    <a:lnTo>
                      <a:pt x="954" y="1187"/>
                    </a:lnTo>
                    <a:lnTo>
                      <a:pt x="0" y="1483"/>
                    </a:lnTo>
                    <a:lnTo>
                      <a:pt x="0" y="296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857840" y="85392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971960" y="85392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857840" y="96048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971960" y="96048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 txBox="1"/>
              <p:nvPr/>
            </p:nvSpPr>
            <p:spPr>
              <a:xfrm>
                <a:off x="4784760" y="563400"/>
                <a:ext cx="6922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S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2422440" y="685800"/>
              <a:ext cx="1159560" cy="533880"/>
              <a:chOff x="2422440" y="685800"/>
              <a:chExt cx="1159560" cy="533880"/>
            </a:xfrm>
          </p:grpSpPr>
          <p:sp>
            <p:nvSpPr>
              <p:cNvPr id="2064" name=""/>
              <p:cNvSpPr/>
              <p:nvPr/>
            </p:nvSpPr>
            <p:spPr>
              <a:xfrm>
                <a:off x="2438280" y="792000"/>
                <a:ext cx="800280" cy="426960"/>
              </a:xfrm>
              <a:prstGeom prst="rect">
                <a:avLst/>
              </a:pr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72412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3860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95272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06720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2412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83860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95272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06720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438280" y="685800"/>
                <a:ext cx="1143360" cy="106560"/>
              </a:xfrm>
              <a:custGeom>
                <a:avLst/>
                <a:gdLst/>
                <a:ahLst/>
                <a:rect l="0" t="0" r="r" b="b"/>
                <a:pathLst>
                  <a:path w="3176" h="296">
                    <a:moveTo>
                      <a:pt x="0" y="296"/>
                    </a:moveTo>
                    <a:lnTo>
                      <a:pt x="952" y="0"/>
                    </a:lnTo>
                    <a:lnTo>
                      <a:pt x="3176" y="0"/>
                    </a:lnTo>
                    <a:lnTo>
                      <a:pt x="2223" y="296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238560" y="685800"/>
                <a:ext cx="343440" cy="533880"/>
              </a:xfrm>
              <a:custGeom>
                <a:avLst/>
                <a:gdLst/>
                <a:ahLst/>
                <a:rect l="0" t="0" r="r" b="b"/>
                <a:pathLst>
                  <a:path w="954" h="1483">
                    <a:moveTo>
                      <a:pt x="954" y="0"/>
                    </a:moveTo>
                    <a:lnTo>
                      <a:pt x="954" y="1187"/>
                    </a:lnTo>
                    <a:lnTo>
                      <a:pt x="0" y="1483"/>
                    </a:lnTo>
                    <a:lnTo>
                      <a:pt x="0" y="296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49552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610000" y="10065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49552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610000" y="11127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 txBox="1"/>
              <p:nvPr/>
            </p:nvSpPr>
            <p:spPr>
              <a:xfrm>
                <a:off x="2422440" y="716040"/>
                <a:ext cx="6922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S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1523880" y="2895480"/>
              <a:ext cx="1524600" cy="762480"/>
              <a:chOff x="1523880" y="2895480"/>
              <a:chExt cx="1524600" cy="762480"/>
            </a:xfrm>
          </p:grpSpPr>
          <p:sp>
            <p:nvSpPr>
              <p:cNvPr id="2081" name=""/>
              <p:cNvSpPr/>
              <p:nvPr/>
            </p:nvSpPr>
            <p:spPr>
              <a:xfrm>
                <a:off x="1523880" y="3048120"/>
                <a:ext cx="1066680" cy="609480"/>
              </a:xfrm>
              <a:prstGeom prst="rect">
                <a:avLst/>
              </a:pr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90512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05740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20968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36232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0512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05740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20968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36232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 txBox="1"/>
              <p:nvPr/>
            </p:nvSpPr>
            <p:spPr>
              <a:xfrm>
                <a:off x="1660680" y="2955960"/>
                <a:ext cx="793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S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523880" y="2895480"/>
                <a:ext cx="1524240" cy="152640"/>
              </a:xfrm>
              <a:custGeom>
                <a:avLst/>
                <a:gdLst/>
                <a:ahLst/>
                <a:rect l="0" t="0" r="r" b="b"/>
                <a:pathLst>
                  <a:path w="4234" h="424">
                    <a:moveTo>
                      <a:pt x="0" y="424"/>
                    </a:moveTo>
                    <a:lnTo>
                      <a:pt x="1269" y="0"/>
                    </a:lnTo>
                    <a:lnTo>
                      <a:pt x="4234" y="0"/>
                    </a:lnTo>
                    <a:lnTo>
                      <a:pt x="2964" y="424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90920" y="2895480"/>
                <a:ext cx="457560" cy="762480"/>
              </a:xfrm>
              <a:custGeom>
                <a:avLst/>
                <a:gdLst/>
                <a:ahLst/>
                <a:rect l="0" t="0" r="r" b="b"/>
                <a:pathLst>
                  <a:path w="1271" h="2118">
                    <a:moveTo>
                      <a:pt x="1271" y="0"/>
                    </a:moveTo>
                    <a:lnTo>
                      <a:pt x="1271" y="1695"/>
                    </a:lnTo>
                    <a:lnTo>
                      <a:pt x="0" y="2118"/>
                    </a:lnTo>
                    <a:lnTo>
                      <a:pt x="0" y="423"/>
                    </a:lnTo>
                    <a:lnTo>
                      <a:pt x="1271" y="0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60020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752480" y="335268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60020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75248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7" name=""/>
            <p:cNvGrpSpPr/>
            <p:nvPr/>
          </p:nvGrpSpPr>
          <p:grpSpPr>
            <a:xfrm>
              <a:off x="669960" y="914400"/>
              <a:ext cx="1159560" cy="533880"/>
              <a:chOff x="669960" y="914400"/>
              <a:chExt cx="1159560" cy="533880"/>
            </a:xfrm>
          </p:grpSpPr>
          <p:sp>
            <p:nvSpPr>
              <p:cNvPr id="2098" name=""/>
              <p:cNvSpPr/>
              <p:nvPr/>
            </p:nvSpPr>
            <p:spPr>
              <a:xfrm>
                <a:off x="685800" y="1020600"/>
                <a:ext cx="800280" cy="426960"/>
              </a:xfrm>
              <a:prstGeom prst="rect">
                <a:avLst/>
              </a:pr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971640" y="12351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085760" y="12351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1200240" y="12351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1314360" y="12351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971640" y="13413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1085760" y="13413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1200240" y="13413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1314360" y="13413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85800" y="914400"/>
                <a:ext cx="1143360" cy="106560"/>
              </a:xfrm>
              <a:custGeom>
                <a:avLst/>
                <a:gdLst/>
                <a:ahLst/>
                <a:rect l="0" t="0" r="r" b="b"/>
                <a:pathLst>
                  <a:path w="3176" h="296">
                    <a:moveTo>
                      <a:pt x="0" y="296"/>
                    </a:moveTo>
                    <a:lnTo>
                      <a:pt x="952" y="0"/>
                    </a:lnTo>
                    <a:lnTo>
                      <a:pt x="3176" y="0"/>
                    </a:lnTo>
                    <a:lnTo>
                      <a:pt x="2223" y="296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1486080" y="914400"/>
                <a:ext cx="343440" cy="533880"/>
              </a:xfrm>
              <a:custGeom>
                <a:avLst/>
                <a:gdLst/>
                <a:ahLst/>
                <a:rect l="0" t="0" r="r" b="b"/>
                <a:pathLst>
                  <a:path w="954" h="1483">
                    <a:moveTo>
                      <a:pt x="954" y="0"/>
                    </a:moveTo>
                    <a:lnTo>
                      <a:pt x="954" y="1187"/>
                    </a:lnTo>
                    <a:lnTo>
                      <a:pt x="0" y="1483"/>
                    </a:lnTo>
                    <a:lnTo>
                      <a:pt x="0" y="296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fe8dd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43040" y="12351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857160" y="12351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43040" y="13413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857160" y="1341360"/>
                <a:ext cx="57240" cy="52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 txBox="1"/>
              <p:nvPr/>
            </p:nvSpPr>
            <p:spPr>
              <a:xfrm>
                <a:off x="669960" y="944640"/>
                <a:ext cx="6922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S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3429000" y="1295280"/>
              <a:ext cx="533880" cy="838440"/>
              <a:chOff x="3429000" y="1295280"/>
              <a:chExt cx="533880" cy="838440"/>
            </a:xfrm>
          </p:grpSpPr>
          <p:sp>
            <p:nvSpPr>
              <p:cNvPr id="2115" name=""/>
              <p:cNvSpPr/>
              <p:nvPr/>
            </p:nvSpPr>
            <p:spPr>
              <a:xfrm>
                <a:off x="3429000" y="1374840"/>
                <a:ext cx="419040" cy="7588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467160" y="1414440"/>
                <a:ext cx="343080" cy="16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467160" y="16146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543480" y="16146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619440" y="16146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695760" y="16146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772080" y="161460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467160" y="1973160"/>
                <a:ext cx="343080" cy="12060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429000" y="1295280"/>
                <a:ext cx="533880" cy="79560"/>
              </a:xfrm>
              <a:custGeom>
                <a:avLst/>
                <a:gdLst/>
                <a:ahLst/>
                <a:rect l="0" t="0" r="r" b="b"/>
                <a:pathLst>
                  <a:path w="1483" h="221">
                    <a:moveTo>
                      <a:pt x="0" y="221"/>
                    </a:moveTo>
                    <a:lnTo>
                      <a:pt x="317" y="0"/>
                    </a:lnTo>
                    <a:lnTo>
                      <a:pt x="1483" y="0"/>
                    </a:lnTo>
                    <a:lnTo>
                      <a:pt x="1166" y="221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848040" y="1295280"/>
                <a:ext cx="114840" cy="838440"/>
              </a:xfrm>
              <a:custGeom>
                <a:avLst/>
                <a:gdLst/>
                <a:ahLst/>
                <a:rect l="0" t="0" r="r" b="b"/>
                <a:pathLst>
                  <a:path w="319" h="2329">
                    <a:moveTo>
                      <a:pt x="0" y="221"/>
                    </a:moveTo>
                    <a:lnTo>
                      <a:pt x="319" y="0"/>
                    </a:lnTo>
                    <a:lnTo>
                      <a:pt x="319" y="2107"/>
                    </a:lnTo>
                    <a:lnTo>
                      <a:pt x="0" y="2329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2514600" y="1447920"/>
              <a:ext cx="533880" cy="838440"/>
              <a:chOff x="2514600" y="1447920"/>
              <a:chExt cx="533880" cy="838440"/>
            </a:xfrm>
          </p:grpSpPr>
          <p:sp>
            <p:nvSpPr>
              <p:cNvPr id="2126" name=""/>
              <p:cNvSpPr/>
              <p:nvPr/>
            </p:nvSpPr>
            <p:spPr>
              <a:xfrm>
                <a:off x="2514600" y="1527120"/>
                <a:ext cx="419040" cy="7588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52760" y="1566720"/>
                <a:ext cx="343080" cy="16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52760" y="176688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629080" y="176688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705040" y="176688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781360" y="176688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57680" y="176688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552760" y="2125800"/>
                <a:ext cx="343080" cy="120600"/>
              </a:xfrm>
              <a:prstGeom prst="rect">
                <a:avLst/>
              </a:pr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514600" y="1447920"/>
                <a:ext cx="533880" cy="79560"/>
              </a:xfrm>
              <a:custGeom>
                <a:avLst/>
                <a:gdLst/>
                <a:ahLst/>
                <a:rect l="0" t="0" r="r" b="b"/>
                <a:pathLst>
                  <a:path w="1483" h="221">
                    <a:moveTo>
                      <a:pt x="0" y="221"/>
                    </a:moveTo>
                    <a:lnTo>
                      <a:pt x="317" y="0"/>
                    </a:lnTo>
                    <a:lnTo>
                      <a:pt x="1483" y="0"/>
                    </a:lnTo>
                    <a:lnTo>
                      <a:pt x="1166" y="221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933640" y="1447920"/>
                <a:ext cx="114840" cy="838440"/>
              </a:xfrm>
              <a:custGeom>
                <a:avLst/>
                <a:gdLst/>
                <a:ahLst/>
                <a:rect l="0" t="0" r="r" b="b"/>
                <a:pathLst>
                  <a:path w="319" h="2329">
                    <a:moveTo>
                      <a:pt x="0" y="221"/>
                    </a:moveTo>
                    <a:lnTo>
                      <a:pt x="319" y="0"/>
                    </a:lnTo>
                    <a:lnTo>
                      <a:pt x="319" y="2107"/>
                    </a:lnTo>
                    <a:lnTo>
                      <a:pt x="0" y="2329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6" name=""/>
            <p:cNvGrpSpPr/>
            <p:nvPr/>
          </p:nvGrpSpPr>
          <p:grpSpPr>
            <a:xfrm>
              <a:off x="1600200" y="1371600"/>
              <a:ext cx="533880" cy="838440"/>
              <a:chOff x="1600200" y="1371600"/>
              <a:chExt cx="533880" cy="838440"/>
            </a:xfrm>
          </p:grpSpPr>
          <p:sp>
            <p:nvSpPr>
              <p:cNvPr id="2137" name=""/>
              <p:cNvSpPr/>
              <p:nvPr/>
            </p:nvSpPr>
            <p:spPr>
              <a:xfrm>
                <a:off x="1600200" y="1450800"/>
                <a:ext cx="419040" cy="7588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638360" y="1490760"/>
                <a:ext cx="343080" cy="16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638360" y="169056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714680" y="169056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790640" y="169056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866960" y="169056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943280" y="1690560"/>
                <a:ext cx="38160" cy="31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638360" y="2049480"/>
                <a:ext cx="343080" cy="120600"/>
              </a:xfrm>
              <a:prstGeom prst="rect">
                <a:avLst/>
              </a:prstGeom>
              <a:blipFill rotWithShape="0">
                <a:blip r:embed="rId4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600200" y="1371600"/>
                <a:ext cx="533880" cy="79560"/>
              </a:xfrm>
              <a:custGeom>
                <a:avLst/>
                <a:gdLst/>
                <a:ahLst/>
                <a:rect l="0" t="0" r="r" b="b"/>
                <a:pathLst>
                  <a:path w="1483" h="221">
                    <a:moveTo>
                      <a:pt x="0" y="221"/>
                    </a:moveTo>
                    <a:lnTo>
                      <a:pt x="317" y="0"/>
                    </a:lnTo>
                    <a:lnTo>
                      <a:pt x="1483" y="0"/>
                    </a:lnTo>
                    <a:lnTo>
                      <a:pt x="1166" y="221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019240" y="1371600"/>
                <a:ext cx="114840" cy="838440"/>
              </a:xfrm>
              <a:custGeom>
                <a:avLst/>
                <a:gdLst/>
                <a:ahLst/>
                <a:rect l="0" t="0" r="r" b="b"/>
                <a:pathLst>
                  <a:path w="319" h="2329">
                    <a:moveTo>
                      <a:pt x="0" y="221"/>
                    </a:moveTo>
                    <a:lnTo>
                      <a:pt x="319" y="0"/>
                    </a:lnTo>
                    <a:lnTo>
                      <a:pt x="319" y="2107"/>
                    </a:lnTo>
                    <a:lnTo>
                      <a:pt x="0" y="2329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6400800" y="1295280"/>
              <a:ext cx="533880" cy="838440"/>
              <a:chOff x="6400800" y="1295280"/>
              <a:chExt cx="533880" cy="838440"/>
            </a:xfrm>
          </p:grpSpPr>
          <p:sp>
            <p:nvSpPr>
              <p:cNvPr id="2148" name=""/>
              <p:cNvSpPr/>
              <p:nvPr/>
            </p:nvSpPr>
            <p:spPr>
              <a:xfrm>
                <a:off x="6400800" y="1366920"/>
                <a:ext cx="407880" cy="7668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6431040" y="1403280"/>
                <a:ext cx="334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494400" y="140328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558120" y="140328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620040" y="140328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683400" y="140328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746760" y="140328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431040" y="1768320"/>
                <a:ext cx="334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494400" y="176832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558120" y="176832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620040" y="176832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683400" y="176832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746760" y="176832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400800" y="1295280"/>
                <a:ext cx="533880" cy="71640"/>
              </a:xfrm>
              <a:custGeom>
                <a:avLst/>
                <a:gdLst/>
                <a:ahLst/>
                <a:rect l="0" t="0" r="r" b="b"/>
                <a:pathLst>
                  <a:path w="1483" h="199">
                    <a:moveTo>
                      <a:pt x="0" y="199"/>
                    </a:moveTo>
                    <a:lnTo>
                      <a:pt x="348" y="0"/>
                    </a:lnTo>
                    <a:lnTo>
                      <a:pt x="1483" y="0"/>
                    </a:lnTo>
                    <a:lnTo>
                      <a:pt x="1135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808680" y="1295280"/>
                <a:ext cx="125640" cy="838440"/>
              </a:xfrm>
              <a:custGeom>
                <a:avLst/>
                <a:gdLst/>
                <a:ahLst/>
                <a:rect l="0" t="0" r="r" b="b"/>
                <a:pathLst>
                  <a:path w="349" h="2329">
                    <a:moveTo>
                      <a:pt x="0" y="202"/>
                    </a:moveTo>
                    <a:lnTo>
                      <a:pt x="349" y="0"/>
                    </a:lnTo>
                    <a:lnTo>
                      <a:pt x="349" y="2126"/>
                    </a:lnTo>
                    <a:lnTo>
                      <a:pt x="0" y="2329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7162920" y="1371600"/>
              <a:ext cx="533880" cy="838440"/>
              <a:chOff x="7162920" y="1371600"/>
              <a:chExt cx="533880" cy="838440"/>
            </a:xfrm>
          </p:grpSpPr>
          <p:sp>
            <p:nvSpPr>
              <p:cNvPr id="2164" name=""/>
              <p:cNvSpPr/>
              <p:nvPr/>
            </p:nvSpPr>
            <p:spPr>
              <a:xfrm>
                <a:off x="7162920" y="1442880"/>
                <a:ext cx="407880" cy="7668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192800" y="1479600"/>
                <a:ext cx="334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256520" y="147960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319880" y="147960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381800" y="147960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445520" y="147960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508880" y="147960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192800" y="1844640"/>
                <a:ext cx="334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256520" y="184464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319880" y="184464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381800" y="184464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445520" y="184464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508880" y="184464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162920" y="1371600"/>
                <a:ext cx="533880" cy="71640"/>
              </a:xfrm>
              <a:custGeom>
                <a:avLst/>
                <a:gdLst/>
                <a:ahLst/>
                <a:rect l="0" t="0" r="r" b="b"/>
                <a:pathLst>
                  <a:path w="1483" h="199">
                    <a:moveTo>
                      <a:pt x="0" y="199"/>
                    </a:moveTo>
                    <a:lnTo>
                      <a:pt x="348" y="0"/>
                    </a:lnTo>
                    <a:lnTo>
                      <a:pt x="1483" y="0"/>
                    </a:lnTo>
                    <a:lnTo>
                      <a:pt x="1135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570800" y="1371600"/>
                <a:ext cx="125640" cy="838440"/>
              </a:xfrm>
              <a:custGeom>
                <a:avLst/>
                <a:gdLst/>
                <a:ahLst/>
                <a:rect l="0" t="0" r="r" b="b"/>
                <a:pathLst>
                  <a:path w="349" h="2329">
                    <a:moveTo>
                      <a:pt x="0" y="202"/>
                    </a:moveTo>
                    <a:lnTo>
                      <a:pt x="349" y="0"/>
                    </a:lnTo>
                    <a:lnTo>
                      <a:pt x="349" y="2126"/>
                    </a:lnTo>
                    <a:lnTo>
                      <a:pt x="0" y="2329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8001000" y="1143000"/>
              <a:ext cx="533880" cy="838440"/>
              <a:chOff x="8001000" y="1143000"/>
              <a:chExt cx="533880" cy="838440"/>
            </a:xfrm>
          </p:grpSpPr>
          <p:sp>
            <p:nvSpPr>
              <p:cNvPr id="2180" name=""/>
              <p:cNvSpPr/>
              <p:nvPr/>
            </p:nvSpPr>
            <p:spPr>
              <a:xfrm>
                <a:off x="8001000" y="1214280"/>
                <a:ext cx="407880" cy="7668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8031240" y="1251000"/>
                <a:ext cx="334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8094600" y="125100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8158320" y="125100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8220240" y="125100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8283600" y="125100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8346960" y="125100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8031240" y="1616040"/>
                <a:ext cx="334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8094600" y="161604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8158320" y="161604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8220240" y="161604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8283600" y="1616040"/>
                <a:ext cx="3168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8346960" y="1616040"/>
                <a:ext cx="30240" cy="291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8001000" y="1143000"/>
                <a:ext cx="533880" cy="71640"/>
              </a:xfrm>
              <a:custGeom>
                <a:avLst/>
                <a:gdLst/>
                <a:ahLst/>
                <a:rect l="0" t="0" r="r" b="b"/>
                <a:pathLst>
                  <a:path w="1483" h="199">
                    <a:moveTo>
                      <a:pt x="0" y="199"/>
                    </a:moveTo>
                    <a:lnTo>
                      <a:pt x="348" y="0"/>
                    </a:lnTo>
                    <a:lnTo>
                      <a:pt x="1483" y="0"/>
                    </a:lnTo>
                    <a:lnTo>
                      <a:pt x="1135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8408880" y="1143000"/>
                <a:ext cx="125640" cy="838440"/>
              </a:xfrm>
              <a:custGeom>
                <a:avLst/>
                <a:gdLst/>
                <a:ahLst/>
                <a:rect l="0" t="0" r="r" b="b"/>
                <a:pathLst>
                  <a:path w="349" h="2329">
                    <a:moveTo>
                      <a:pt x="0" y="202"/>
                    </a:moveTo>
                    <a:lnTo>
                      <a:pt x="349" y="0"/>
                    </a:lnTo>
                    <a:lnTo>
                      <a:pt x="349" y="2126"/>
                    </a:lnTo>
                    <a:lnTo>
                      <a:pt x="0" y="2329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5" name=""/>
            <p:cNvGrpSpPr/>
            <p:nvPr/>
          </p:nvGrpSpPr>
          <p:grpSpPr>
            <a:xfrm>
              <a:off x="2041560" y="4114800"/>
              <a:ext cx="1235520" cy="457560"/>
              <a:chOff x="2041560" y="4114800"/>
              <a:chExt cx="1235520" cy="457560"/>
            </a:xfrm>
          </p:grpSpPr>
          <p:sp>
            <p:nvSpPr>
              <p:cNvPr id="2196" name=""/>
              <p:cNvSpPr/>
              <p:nvPr/>
            </p:nvSpPr>
            <p:spPr>
              <a:xfrm>
                <a:off x="2057400" y="4205160"/>
                <a:ext cx="974880" cy="366840"/>
              </a:xfrm>
              <a:prstGeom prst="rect">
                <a:avLst/>
              </a:prstGeom>
              <a:solidFill>
                <a:srgbClr val="556ea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092320" y="448164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195640" y="448164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301840" y="448164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406600" y="448164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614680" y="448164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719440" y="448164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822400" y="448164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927520" y="448164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092320" y="438768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195640" y="438768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301840" y="438768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406600" y="438768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614680" y="438768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719440" y="438768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822400" y="438768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927520" y="438768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2057400" y="4114800"/>
                <a:ext cx="1219680" cy="90720"/>
              </a:xfrm>
              <a:custGeom>
                <a:avLst/>
                <a:gdLst/>
                <a:ahLst/>
                <a:rect l="0" t="0" r="r" b="b"/>
                <a:pathLst>
                  <a:path w="3388" h="252">
                    <a:moveTo>
                      <a:pt x="0" y="252"/>
                    </a:moveTo>
                    <a:lnTo>
                      <a:pt x="677" y="0"/>
                    </a:lnTo>
                    <a:lnTo>
                      <a:pt x="3388" y="0"/>
                    </a:lnTo>
                    <a:lnTo>
                      <a:pt x="2711" y="252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556ea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032280" y="4114800"/>
                <a:ext cx="244800" cy="457560"/>
              </a:xfrm>
              <a:custGeom>
                <a:avLst/>
                <a:gdLst/>
                <a:ahLst/>
                <a:rect l="0" t="0" r="r" b="b"/>
                <a:pathLst>
                  <a:path w="680" h="1271">
                    <a:moveTo>
                      <a:pt x="0" y="254"/>
                    </a:moveTo>
                    <a:lnTo>
                      <a:pt x="680" y="0"/>
                    </a:lnTo>
                    <a:lnTo>
                      <a:pt x="680" y="1016"/>
                    </a:lnTo>
                    <a:lnTo>
                      <a:pt x="0" y="1271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556ea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 txBox="1"/>
              <p:nvPr/>
            </p:nvSpPr>
            <p:spPr>
              <a:xfrm>
                <a:off x="2041560" y="4160880"/>
                <a:ext cx="1017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‚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`TM Swit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6" name=""/>
            <p:cNvGrpSpPr/>
            <p:nvPr/>
          </p:nvGrpSpPr>
          <p:grpSpPr>
            <a:xfrm>
              <a:off x="1203480" y="4724280"/>
              <a:ext cx="1235520" cy="457560"/>
              <a:chOff x="1203480" y="4724280"/>
              <a:chExt cx="1235520" cy="457560"/>
            </a:xfrm>
          </p:grpSpPr>
          <p:sp>
            <p:nvSpPr>
              <p:cNvPr id="2217" name=""/>
              <p:cNvSpPr/>
              <p:nvPr/>
            </p:nvSpPr>
            <p:spPr>
              <a:xfrm>
                <a:off x="1219320" y="4815000"/>
                <a:ext cx="974880" cy="366840"/>
              </a:xfrm>
              <a:prstGeom prst="rect">
                <a:avLst/>
              </a:prstGeom>
              <a:solidFill>
                <a:srgbClr val="556ea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254240" y="509112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357200" y="50911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463760" y="509112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568520" y="509112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776240" y="509112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881360" y="50911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984320" y="50911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089080" y="50911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254240" y="499752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57200" y="49975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463760" y="499752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568520" y="4997520"/>
                <a:ext cx="6840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776240" y="4997520"/>
                <a:ext cx="698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881360" y="49975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984320" y="49975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089080" y="4997520"/>
                <a:ext cx="7128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219320" y="4724280"/>
                <a:ext cx="1219680" cy="90720"/>
              </a:xfrm>
              <a:custGeom>
                <a:avLst/>
                <a:gdLst/>
                <a:ahLst/>
                <a:rect l="0" t="0" r="r" b="b"/>
                <a:pathLst>
                  <a:path w="3388" h="252">
                    <a:moveTo>
                      <a:pt x="0" y="252"/>
                    </a:moveTo>
                    <a:lnTo>
                      <a:pt x="677" y="0"/>
                    </a:lnTo>
                    <a:lnTo>
                      <a:pt x="3388" y="0"/>
                    </a:lnTo>
                    <a:lnTo>
                      <a:pt x="2711" y="252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556ea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193840" y="4724280"/>
                <a:ext cx="244800" cy="457560"/>
              </a:xfrm>
              <a:custGeom>
                <a:avLst/>
                <a:gdLst/>
                <a:ahLst/>
                <a:rect l="0" t="0" r="r" b="b"/>
                <a:pathLst>
                  <a:path w="680" h="1271">
                    <a:moveTo>
                      <a:pt x="0" y="254"/>
                    </a:moveTo>
                    <a:lnTo>
                      <a:pt x="680" y="0"/>
                    </a:lnTo>
                    <a:lnTo>
                      <a:pt x="680" y="1016"/>
                    </a:lnTo>
                    <a:lnTo>
                      <a:pt x="0" y="1271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556ea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 txBox="1"/>
              <p:nvPr/>
            </p:nvSpPr>
            <p:spPr>
              <a:xfrm>
                <a:off x="1203480" y="4770360"/>
                <a:ext cx="10555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TM Swit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4952880" y="5638680"/>
              <a:ext cx="762120" cy="762120"/>
              <a:chOff x="4952880" y="5638680"/>
              <a:chExt cx="762120" cy="762120"/>
            </a:xfrm>
          </p:grpSpPr>
          <p:sp>
            <p:nvSpPr>
              <p:cNvPr id="2238" name=""/>
              <p:cNvSpPr/>
              <p:nvPr/>
            </p:nvSpPr>
            <p:spPr>
              <a:xfrm>
                <a:off x="4952880" y="5638680"/>
                <a:ext cx="762120" cy="538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048280" y="5727600"/>
                <a:ext cx="571680" cy="360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095800" y="6176880"/>
                <a:ext cx="476280" cy="44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952880" y="6221520"/>
                <a:ext cx="762120" cy="179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6172200" y="5638680"/>
              <a:ext cx="762120" cy="762120"/>
              <a:chOff x="6172200" y="5638680"/>
              <a:chExt cx="762120" cy="762120"/>
            </a:xfrm>
          </p:grpSpPr>
          <p:sp>
            <p:nvSpPr>
              <p:cNvPr id="2243" name=""/>
              <p:cNvSpPr/>
              <p:nvPr/>
            </p:nvSpPr>
            <p:spPr>
              <a:xfrm>
                <a:off x="6172200" y="5638680"/>
                <a:ext cx="762120" cy="538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267600" y="5727600"/>
                <a:ext cx="571680" cy="360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315120" y="6176880"/>
                <a:ext cx="476280" cy="44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172200" y="6221520"/>
                <a:ext cx="762120" cy="179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7391520" y="4572000"/>
              <a:ext cx="762120" cy="761760"/>
              <a:chOff x="7391520" y="4572000"/>
              <a:chExt cx="762120" cy="761760"/>
            </a:xfrm>
          </p:grpSpPr>
          <p:sp>
            <p:nvSpPr>
              <p:cNvPr id="2248" name=""/>
              <p:cNvSpPr/>
              <p:nvPr/>
            </p:nvSpPr>
            <p:spPr>
              <a:xfrm>
                <a:off x="7391520" y="4572000"/>
                <a:ext cx="762120" cy="5382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486560" y="4660920"/>
                <a:ext cx="571680" cy="360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534440" y="5110200"/>
                <a:ext cx="476280" cy="44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391520" y="5154480"/>
                <a:ext cx="762120" cy="179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2" name=""/>
            <p:cNvSpPr txBox="1"/>
            <p:nvPr/>
          </p:nvSpPr>
          <p:spPr>
            <a:xfrm>
              <a:off x="5686560" y="2104920"/>
              <a:ext cx="1428840" cy="482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STM n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 txBox="1"/>
            <p:nvPr/>
          </p:nvSpPr>
          <p:spPr>
            <a:xfrm>
              <a:off x="0" y="1724040"/>
              <a:ext cx="1479600" cy="482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ATM n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1828800" y="990720"/>
              <a:ext cx="6094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 txBox="1"/>
            <p:nvPr/>
          </p:nvSpPr>
          <p:spPr>
            <a:xfrm>
              <a:off x="2895480" y="4695840"/>
              <a:ext cx="1479600" cy="482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ATM n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"/>
          <p:cNvSpPr txBox="1"/>
          <p:nvPr/>
        </p:nvSpPr>
        <p:spPr>
          <a:xfrm>
            <a:off x="0" y="0"/>
            <a:ext cx="914256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ntroduction of CSR to ISP Network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76320" y="1066680"/>
            <a:ext cx="4952880" cy="5634360"/>
            <a:chOff x="76320" y="1066680"/>
            <a:chExt cx="4952880" cy="5634360"/>
          </a:xfrm>
        </p:grpSpPr>
        <p:grpSp>
          <p:nvGrpSpPr>
            <p:cNvPr id="2258" name=""/>
            <p:cNvGrpSpPr/>
            <p:nvPr/>
          </p:nvGrpSpPr>
          <p:grpSpPr>
            <a:xfrm>
              <a:off x="169920" y="1066680"/>
              <a:ext cx="4859280" cy="3048120"/>
              <a:chOff x="169920" y="1066680"/>
              <a:chExt cx="4859280" cy="3048120"/>
            </a:xfrm>
          </p:grpSpPr>
          <p:sp>
            <p:nvSpPr>
              <p:cNvPr id="2259" name=""/>
              <p:cNvSpPr/>
              <p:nvPr/>
            </p:nvSpPr>
            <p:spPr>
              <a:xfrm>
                <a:off x="4572000" y="1600200"/>
                <a:ext cx="0" cy="609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3809880" y="1523880"/>
                <a:ext cx="457200" cy="7632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733920" y="2362320"/>
                <a:ext cx="457200" cy="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V="1">
                <a:off x="762120" y="2895480"/>
                <a:ext cx="60948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676520" y="1447920"/>
                <a:ext cx="6094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752480" y="2743200"/>
                <a:ext cx="609840" cy="76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971800" y="1447920"/>
                <a:ext cx="457200" cy="22860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2971800" y="2819520"/>
                <a:ext cx="304920" cy="7596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838080" y="1371600"/>
                <a:ext cx="457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838080" y="2133720"/>
                <a:ext cx="381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9" name=""/>
              <p:cNvGrpSpPr/>
              <p:nvPr/>
            </p:nvGrpSpPr>
            <p:grpSpPr>
              <a:xfrm>
                <a:off x="169920" y="1157400"/>
                <a:ext cx="668160" cy="565200"/>
                <a:chOff x="169920" y="1157400"/>
                <a:chExt cx="668160" cy="5652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169920" y="1157400"/>
                  <a:ext cx="430200" cy="4111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16000" y="1206360"/>
                  <a:ext cx="336600" cy="3096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266760" y="1568520"/>
                  <a:ext cx="237960" cy="507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169920" y="1619280"/>
                  <a:ext cx="430200" cy="103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647640" y="1157400"/>
                  <a:ext cx="190440" cy="5652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695160" y="1206360"/>
                  <a:ext cx="968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6" name=""/>
              <p:cNvGrpSpPr/>
              <p:nvPr/>
            </p:nvGrpSpPr>
            <p:grpSpPr>
              <a:xfrm>
                <a:off x="4114800" y="1219320"/>
                <a:ext cx="914400" cy="457200"/>
                <a:chOff x="4114800" y="1219320"/>
                <a:chExt cx="914400" cy="457200"/>
              </a:xfrm>
            </p:grpSpPr>
            <p:sp>
              <p:nvSpPr>
                <p:cNvPr id="2277" name=""/>
                <p:cNvSpPr/>
                <p:nvPr/>
              </p:nvSpPr>
              <p:spPr>
                <a:xfrm>
                  <a:off x="4114800" y="13860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4114800" y="13860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9" name=""/>
                <p:cNvGrpSpPr/>
                <p:nvPr/>
              </p:nvGrpSpPr>
              <p:grpSpPr>
                <a:xfrm>
                  <a:off x="4114800" y="1219320"/>
                  <a:ext cx="914400" cy="366840"/>
                  <a:chOff x="4114800" y="1219320"/>
                  <a:chExt cx="914400" cy="366840"/>
                </a:xfrm>
              </p:grpSpPr>
              <p:sp>
                <p:nvSpPr>
                  <p:cNvPr id="2280" name=""/>
                  <p:cNvSpPr/>
                  <p:nvPr/>
                </p:nvSpPr>
                <p:spPr>
                  <a:xfrm>
                    <a:off x="4114800" y="12193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4614840" y="13096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4137120" y="13096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4479840" y="14241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4479840" y="12272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5" name=""/>
                <p:cNvSpPr/>
                <p:nvPr/>
              </p:nvSpPr>
              <p:spPr>
                <a:xfrm>
                  <a:off x="4114800" y="1401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029200" y="1401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7" name=""/>
              <p:cNvGrpSpPr/>
              <p:nvPr/>
            </p:nvGrpSpPr>
            <p:grpSpPr>
              <a:xfrm>
                <a:off x="4114800" y="2133720"/>
                <a:ext cx="914400" cy="457200"/>
                <a:chOff x="4114800" y="2133720"/>
                <a:chExt cx="914400" cy="457200"/>
              </a:xfrm>
            </p:grpSpPr>
            <p:sp>
              <p:nvSpPr>
                <p:cNvPr id="2288" name=""/>
                <p:cNvSpPr/>
                <p:nvPr/>
              </p:nvSpPr>
              <p:spPr>
                <a:xfrm>
                  <a:off x="4114800" y="23004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4114800" y="23004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90" name=""/>
                <p:cNvGrpSpPr/>
                <p:nvPr/>
              </p:nvGrpSpPr>
              <p:grpSpPr>
                <a:xfrm>
                  <a:off x="4114800" y="2133720"/>
                  <a:ext cx="914400" cy="366840"/>
                  <a:chOff x="4114800" y="2133720"/>
                  <a:chExt cx="914400" cy="366840"/>
                </a:xfrm>
              </p:grpSpPr>
              <p:sp>
                <p:nvSpPr>
                  <p:cNvPr id="2291" name=""/>
                  <p:cNvSpPr/>
                  <p:nvPr/>
                </p:nvSpPr>
                <p:spPr>
                  <a:xfrm>
                    <a:off x="4114800" y="21337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4614840" y="22240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4137120" y="22240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4479840" y="23385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4479840" y="21416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96" name=""/>
                <p:cNvSpPr/>
                <p:nvPr/>
              </p:nvSpPr>
              <p:spPr>
                <a:xfrm>
                  <a:off x="4114800" y="23162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029200" y="23162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"/>
              <p:cNvSpPr/>
              <p:nvPr/>
            </p:nvSpPr>
            <p:spPr>
              <a:xfrm>
                <a:off x="3200400" y="1219320"/>
                <a:ext cx="762120" cy="2895480"/>
              </a:xfrm>
              <a:prstGeom prst="ellipse">
                <a:avLst/>
              </a:prstGeom>
              <a:gradFill rotWithShape="0">
                <a:gsLst>
                  <a:gs pos="0">
                    <a:srgbClr val="009966"/>
                  </a:gs>
                  <a:gs pos="100000">
                    <a:srgbClr val="00b7a5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9" name=""/>
              <p:cNvGrpSpPr/>
              <p:nvPr/>
            </p:nvGrpSpPr>
            <p:grpSpPr>
              <a:xfrm>
                <a:off x="2133720" y="1219320"/>
                <a:ext cx="914400" cy="457200"/>
                <a:chOff x="2133720" y="1219320"/>
                <a:chExt cx="914400" cy="457200"/>
              </a:xfrm>
            </p:grpSpPr>
            <p:sp>
              <p:nvSpPr>
                <p:cNvPr id="2300" name=""/>
                <p:cNvSpPr/>
                <p:nvPr/>
              </p:nvSpPr>
              <p:spPr>
                <a:xfrm>
                  <a:off x="2133720" y="13860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2133720" y="13860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2" name=""/>
                <p:cNvGrpSpPr/>
                <p:nvPr/>
              </p:nvGrpSpPr>
              <p:grpSpPr>
                <a:xfrm>
                  <a:off x="2133720" y="1219320"/>
                  <a:ext cx="914400" cy="366840"/>
                  <a:chOff x="2133720" y="1219320"/>
                  <a:chExt cx="914400" cy="366840"/>
                </a:xfrm>
              </p:grpSpPr>
              <p:sp>
                <p:nvSpPr>
                  <p:cNvPr id="2303" name=""/>
                  <p:cNvSpPr/>
                  <p:nvPr/>
                </p:nvSpPr>
                <p:spPr>
                  <a:xfrm>
                    <a:off x="2133720" y="12193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2633760" y="13096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2155680" y="13096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2498760" y="14241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2498760" y="12272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8" name=""/>
                <p:cNvSpPr/>
                <p:nvPr/>
              </p:nvSpPr>
              <p:spPr>
                <a:xfrm>
                  <a:off x="2133720" y="1401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3048120" y="1401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0" name=""/>
              <p:cNvGrpSpPr/>
              <p:nvPr/>
            </p:nvGrpSpPr>
            <p:grpSpPr>
              <a:xfrm>
                <a:off x="2133720" y="2590920"/>
                <a:ext cx="914400" cy="457200"/>
                <a:chOff x="2133720" y="2590920"/>
                <a:chExt cx="914400" cy="457200"/>
              </a:xfrm>
            </p:grpSpPr>
            <p:sp>
              <p:nvSpPr>
                <p:cNvPr id="2311" name=""/>
                <p:cNvSpPr/>
                <p:nvPr/>
              </p:nvSpPr>
              <p:spPr>
                <a:xfrm>
                  <a:off x="2133720" y="27576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2133720" y="27576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13" name=""/>
                <p:cNvGrpSpPr/>
                <p:nvPr/>
              </p:nvGrpSpPr>
              <p:grpSpPr>
                <a:xfrm>
                  <a:off x="2133720" y="2590920"/>
                  <a:ext cx="914400" cy="366840"/>
                  <a:chOff x="2133720" y="2590920"/>
                  <a:chExt cx="914400" cy="366840"/>
                </a:xfrm>
              </p:grpSpPr>
              <p:sp>
                <p:nvSpPr>
                  <p:cNvPr id="2314" name=""/>
                  <p:cNvSpPr/>
                  <p:nvPr/>
                </p:nvSpPr>
                <p:spPr>
                  <a:xfrm>
                    <a:off x="2133720" y="25909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2633760" y="26812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2155680" y="26812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2498760" y="27957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2498760" y="25988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9" name=""/>
                <p:cNvSpPr/>
                <p:nvPr/>
              </p:nvSpPr>
              <p:spPr>
                <a:xfrm>
                  <a:off x="2133720" y="27734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3048120" y="27734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"/>
              <p:cNvSpPr/>
              <p:nvPr/>
            </p:nvSpPr>
            <p:spPr>
              <a:xfrm>
                <a:off x="1143000" y="1066680"/>
                <a:ext cx="762120" cy="2209680"/>
              </a:xfrm>
              <a:prstGeom prst="ellipse">
                <a:avLst/>
              </a:prstGeom>
              <a:gradFill rotWithShape="0">
                <a:gsLst>
                  <a:gs pos="0">
                    <a:srgbClr val="f9a786"/>
                  </a:gs>
                  <a:gs pos="100000">
                    <a:srgbClr val="00b7a5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 txBox="1"/>
              <p:nvPr/>
            </p:nvSpPr>
            <p:spPr>
              <a:xfrm>
                <a:off x="517680" y="1919160"/>
                <a:ext cx="204156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Dial-up Net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"/>
              <p:cNvGrpSpPr/>
              <p:nvPr/>
            </p:nvGrpSpPr>
            <p:grpSpPr>
              <a:xfrm>
                <a:off x="169920" y="3062160"/>
                <a:ext cx="668160" cy="565560"/>
                <a:chOff x="169920" y="3062160"/>
                <a:chExt cx="668160" cy="565560"/>
              </a:xfrm>
            </p:grpSpPr>
            <p:sp>
              <p:nvSpPr>
                <p:cNvPr id="2324" name=""/>
                <p:cNvSpPr/>
                <p:nvPr/>
              </p:nvSpPr>
              <p:spPr>
                <a:xfrm>
                  <a:off x="169920" y="3062160"/>
                  <a:ext cx="430200" cy="4111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216000" y="3111480"/>
                  <a:ext cx="336600" cy="3096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266760" y="3473280"/>
                  <a:ext cx="237960" cy="507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169920" y="3524400"/>
                  <a:ext cx="430200" cy="103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647640" y="3062160"/>
                  <a:ext cx="190440" cy="5652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695160" y="3111480"/>
                  <a:ext cx="968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0" name=""/>
              <p:cNvGrpSpPr/>
              <p:nvPr/>
            </p:nvGrpSpPr>
            <p:grpSpPr>
              <a:xfrm>
                <a:off x="169920" y="1843200"/>
                <a:ext cx="668160" cy="565200"/>
                <a:chOff x="169920" y="1843200"/>
                <a:chExt cx="668160" cy="565200"/>
              </a:xfrm>
            </p:grpSpPr>
            <p:sp>
              <p:nvSpPr>
                <p:cNvPr id="2331" name=""/>
                <p:cNvSpPr/>
                <p:nvPr/>
              </p:nvSpPr>
              <p:spPr>
                <a:xfrm>
                  <a:off x="169920" y="1843200"/>
                  <a:ext cx="430200" cy="4111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216000" y="1892160"/>
                  <a:ext cx="336600" cy="3096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266760" y="2254320"/>
                  <a:ext cx="237960" cy="507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169920" y="2305080"/>
                  <a:ext cx="430200" cy="103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647640" y="1843200"/>
                  <a:ext cx="190440" cy="5652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695160" y="1892160"/>
                  <a:ext cx="968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"/>
              <p:cNvSpPr/>
              <p:nvPr/>
            </p:nvSpPr>
            <p:spPr>
              <a:xfrm>
                <a:off x="457200" y="2438280"/>
                <a:ext cx="0" cy="609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590920" y="1752480"/>
                <a:ext cx="0" cy="762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 txBox="1"/>
              <p:nvPr/>
            </p:nvSpPr>
            <p:spPr>
              <a:xfrm>
                <a:off x="2498760" y="2452680"/>
                <a:ext cx="214956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Frame Rela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0" name=""/>
            <p:cNvGrpSpPr/>
            <p:nvPr/>
          </p:nvGrpSpPr>
          <p:grpSpPr>
            <a:xfrm>
              <a:off x="76320" y="3276720"/>
              <a:ext cx="3965760" cy="3424320"/>
              <a:chOff x="76320" y="3276720"/>
              <a:chExt cx="3965760" cy="3424320"/>
            </a:xfrm>
          </p:grpSpPr>
          <p:sp>
            <p:nvSpPr>
              <p:cNvPr id="2341" name=""/>
              <p:cNvSpPr/>
              <p:nvPr/>
            </p:nvSpPr>
            <p:spPr>
              <a:xfrm flipV="1">
                <a:off x="2666880" y="3962520"/>
                <a:ext cx="762120" cy="76176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1523880" y="3276720"/>
                <a:ext cx="0" cy="1066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1508040" y="3535200"/>
                <a:ext cx="100332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ial-u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lin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 txBox="1"/>
              <p:nvPr/>
            </p:nvSpPr>
            <p:spPr>
              <a:xfrm>
                <a:off x="3032280" y="4297320"/>
                <a:ext cx="10098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e8ddc"/>
                    </a:solidFill>
                    <a:latin typeface="Times New Roman"/>
                    <a:ea typeface="Times New Roman"/>
                  </a:rPr>
                  <a:t>FR lin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6320" y="4343400"/>
                <a:ext cx="3352680" cy="2286000"/>
              </a:xfrm>
              <a:prstGeom prst="ellipse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00b7a5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6" name=""/>
              <p:cNvGrpSpPr/>
              <p:nvPr/>
            </p:nvGrpSpPr>
            <p:grpSpPr>
              <a:xfrm>
                <a:off x="990720" y="4560840"/>
                <a:ext cx="735480" cy="849960"/>
                <a:chOff x="990720" y="4560840"/>
                <a:chExt cx="735480" cy="849960"/>
              </a:xfrm>
            </p:grpSpPr>
            <p:sp>
              <p:nvSpPr>
                <p:cNvPr id="2347" name=""/>
                <p:cNvSpPr/>
                <p:nvPr/>
              </p:nvSpPr>
              <p:spPr>
                <a:xfrm>
                  <a:off x="990720" y="5297400"/>
                  <a:ext cx="576360" cy="112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990720" y="5183280"/>
                  <a:ext cx="735480" cy="114840"/>
                </a:xfrm>
                <a:custGeom>
                  <a:avLst/>
                  <a:gdLst/>
                  <a:ahLst/>
                  <a:rect l="0" t="0" r="r" b="b"/>
                  <a:pathLst>
                    <a:path w="2043" h="319">
                      <a:moveTo>
                        <a:pt x="0" y="319"/>
                      </a:moveTo>
                      <a:lnTo>
                        <a:pt x="1021" y="0"/>
                      </a:lnTo>
                      <a:lnTo>
                        <a:pt x="2043" y="0"/>
                      </a:lnTo>
                      <a:lnTo>
                        <a:pt x="1606" y="319"/>
                      </a:lnTo>
                      <a:lnTo>
                        <a:pt x="0" y="319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9" name=""/>
                <p:cNvGrpSpPr/>
                <p:nvPr/>
              </p:nvGrpSpPr>
              <p:grpSpPr>
                <a:xfrm>
                  <a:off x="1069920" y="4560840"/>
                  <a:ext cx="628920" cy="706680"/>
                  <a:chOff x="1069920" y="4560840"/>
                  <a:chExt cx="628920" cy="706680"/>
                </a:xfrm>
              </p:grpSpPr>
              <p:sp>
                <p:nvSpPr>
                  <p:cNvPr id="2350" name=""/>
                  <p:cNvSpPr/>
                  <p:nvPr/>
                </p:nvSpPr>
                <p:spPr>
                  <a:xfrm>
                    <a:off x="1069920" y="4643280"/>
                    <a:ext cx="496800" cy="6238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1093680" y="4702320"/>
                    <a:ext cx="5400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1174680" y="4702320"/>
                    <a:ext cx="5076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1255680" y="4702320"/>
                    <a:ext cx="4752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1332000" y="4702320"/>
                    <a:ext cx="5256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1409760" y="4702320"/>
                    <a:ext cx="5076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1487520" y="4702320"/>
                    <a:ext cx="5400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1093680" y="4815000"/>
                    <a:ext cx="5400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1174680" y="4815000"/>
                    <a:ext cx="5076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1255680" y="4815000"/>
                    <a:ext cx="4752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1332000" y="4815000"/>
                    <a:ext cx="5256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1409760" y="4815000"/>
                    <a:ext cx="5076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1487520" y="4815000"/>
                    <a:ext cx="5400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1093680" y="4956120"/>
                    <a:ext cx="447840" cy="28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1093680" y="5014800"/>
                    <a:ext cx="447840" cy="2700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1093680" y="5068800"/>
                    <a:ext cx="447840" cy="28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1093680" y="5127480"/>
                    <a:ext cx="447840" cy="28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1093680" y="5183280"/>
                    <a:ext cx="447840" cy="28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1069920" y="4560840"/>
                    <a:ext cx="628920" cy="82800"/>
                  </a:xfrm>
                  <a:custGeom>
                    <a:avLst/>
                    <a:gdLst/>
                    <a:ahLst/>
                    <a:rect l="0" t="0" r="r" b="b"/>
                    <a:pathLst>
                      <a:path w="1747" h="230">
                        <a:moveTo>
                          <a:pt x="0" y="230"/>
                        </a:moveTo>
                        <a:lnTo>
                          <a:pt x="654" y="0"/>
                        </a:lnTo>
                        <a:lnTo>
                          <a:pt x="1747" y="0"/>
                        </a:lnTo>
                        <a:lnTo>
                          <a:pt x="1383" y="230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1566720" y="4560840"/>
                    <a:ext cx="132120" cy="706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1963">
                        <a:moveTo>
                          <a:pt x="367" y="0"/>
                        </a:moveTo>
                        <a:lnTo>
                          <a:pt x="367" y="1727"/>
                        </a:lnTo>
                        <a:lnTo>
                          <a:pt x="0" y="1963"/>
                        </a:lnTo>
                        <a:lnTo>
                          <a:pt x="0" y="235"/>
                        </a:lnTo>
                        <a:lnTo>
                          <a:pt x="367" y="0"/>
                        </a:lnTo>
                        <a:close/>
                      </a:path>
                    </a:pathLst>
                  </a:cu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0" name=""/>
                <p:cNvSpPr/>
                <p:nvPr/>
              </p:nvSpPr>
              <p:spPr>
                <a:xfrm>
                  <a:off x="1566720" y="5183280"/>
                  <a:ext cx="159120" cy="227520"/>
                </a:xfrm>
                <a:custGeom>
                  <a:avLst/>
                  <a:gdLst/>
                  <a:ahLst/>
                  <a:rect l="0" t="0" r="r" b="b"/>
                  <a:pathLst>
                    <a:path w="442" h="632">
                      <a:moveTo>
                        <a:pt x="442" y="0"/>
                      </a:moveTo>
                      <a:lnTo>
                        <a:pt x="442" y="237"/>
                      </a:lnTo>
                      <a:lnTo>
                        <a:pt x="0" y="632"/>
                      </a:lnTo>
                      <a:lnTo>
                        <a:pt x="0" y="316"/>
                      </a:lnTo>
                      <a:lnTo>
                        <a:pt x="442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334800" y="5460840"/>
                <a:ext cx="957240" cy="566640"/>
                <a:chOff x="334800" y="5460840"/>
                <a:chExt cx="957240" cy="566640"/>
              </a:xfrm>
            </p:grpSpPr>
            <p:grpSp>
              <p:nvGrpSpPr>
                <p:cNvPr id="2372" name=""/>
                <p:cNvGrpSpPr/>
                <p:nvPr/>
              </p:nvGrpSpPr>
              <p:grpSpPr>
                <a:xfrm>
                  <a:off x="334800" y="5460840"/>
                  <a:ext cx="668160" cy="495360"/>
                  <a:chOff x="334800" y="5460840"/>
                  <a:chExt cx="668160" cy="495360"/>
                </a:xfrm>
              </p:grpSpPr>
              <p:sp>
                <p:nvSpPr>
                  <p:cNvPr id="2373" name=""/>
                  <p:cNvSpPr/>
                  <p:nvPr/>
                </p:nvSpPr>
                <p:spPr>
                  <a:xfrm>
                    <a:off x="334800" y="5813280"/>
                    <a:ext cx="66816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334800" y="5743440"/>
                    <a:ext cx="66816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334800" y="5673600"/>
                    <a:ext cx="668160" cy="13968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334800" y="5602320"/>
                    <a:ext cx="668160" cy="1411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334800" y="5530680"/>
                    <a:ext cx="66816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334800" y="5460840"/>
                    <a:ext cx="668160" cy="1411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9" name=""/>
                <p:cNvGrpSpPr/>
                <p:nvPr/>
              </p:nvGrpSpPr>
              <p:grpSpPr>
                <a:xfrm>
                  <a:off x="625320" y="5532480"/>
                  <a:ext cx="666720" cy="495000"/>
                  <a:chOff x="625320" y="5532480"/>
                  <a:chExt cx="666720" cy="495000"/>
                </a:xfrm>
              </p:grpSpPr>
              <p:sp>
                <p:nvSpPr>
                  <p:cNvPr id="2380" name=""/>
                  <p:cNvSpPr/>
                  <p:nvPr/>
                </p:nvSpPr>
                <p:spPr>
                  <a:xfrm>
                    <a:off x="625320" y="5886360"/>
                    <a:ext cx="666720" cy="1411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625320" y="5815080"/>
                    <a:ext cx="66672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625320" y="5745240"/>
                    <a:ext cx="666720" cy="1411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>
                    <a:off x="625320" y="5675400"/>
                    <a:ext cx="666720" cy="13968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625320" y="5602320"/>
                    <a:ext cx="66672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625320" y="5532480"/>
                    <a:ext cx="66672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6" name=""/>
              <p:cNvGrpSpPr/>
              <p:nvPr/>
            </p:nvGrpSpPr>
            <p:grpSpPr>
              <a:xfrm>
                <a:off x="1541520" y="5576760"/>
                <a:ext cx="668160" cy="565560"/>
                <a:chOff x="1541520" y="5576760"/>
                <a:chExt cx="668160" cy="56556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1541520" y="5576760"/>
                  <a:ext cx="430200" cy="4111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1587600" y="5626080"/>
                  <a:ext cx="336600" cy="3096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1638360" y="5987880"/>
                  <a:ext cx="237960" cy="507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1541520" y="6039000"/>
                  <a:ext cx="430200" cy="103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2019240" y="5576760"/>
                  <a:ext cx="190440" cy="5652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2066760" y="5626080"/>
                  <a:ext cx="968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3" name=""/>
              <p:cNvGrpSpPr/>
              <p:nvPr/>
            </p:nvGrpSpPr>
            <p:grpSpPr>
              <a:xfrm>
                <a:off x="1828800" y="4648320"/>
                <a:ext cx="914400" cy="457200"/>
                <a:chOff x="1828800" y="4648320"/>
                <a:chExt cx="914400" cy="457200"/>
              </a:xfrm>
            </p:grpSpPr>
            <p:sp>
              <p:nvSpPr>
                <p:cNvPr id="2394" name=""/>
                <p:cNvSpPr/>
                <p:nvPr/>
              </p:nvSpPr>
              <p:spPr>
                <a:xfrm>
                  <a:off x="1828800" y="48150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1828800" y="48150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6" name=""/>
                <p:cNvGrpSpPr/>
                <p:nvPr/>
              </p:nvGrpSpPr>
              <p:grpSpPr>
                <a:xfrm>
                  <a:off x="1828800" y="4648320"/>
                  <a:ext cx="914400" cy="366840"/>
                  <a:chOff x="1828800" y="4648320"/>
                  <a:chExt cx="914400" cy="366840"/>
                </a:xfrm>
              </p:grpSpPr>
              <p:sp>
                <p:nvSpPr>
                  <p:cNvPr id="2397" name=""/>
                  <p:cNvSpPr/>
                  <p:nvPr/>
                </p:nvSpPr>
                <p:spPr>
                  <a:xfrm>
                    <a:off x="1828800" y="46483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2328840" y="47386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>
                    <a:off x="1851120" y="47386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>
                    <a:off x="2193840" y="48531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2193840" y="46562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2" name=""/>
                <p:cNvSpPr/>
                <p:nvPr/>
              </p:nvSpPr>
              <p:spPr>
                <a:xfrm>
                  <a:off x="1828800" y="4830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2743200" y="4830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4" name=""/>
              <p:cNvSpPr txBox="1"/>
              <p:nvPr/>
            </p:nvSpPr>
            <p:spPr>
              <a:xfrm>
                <a:off x="352440" y="6218280"/>
                <a:ext cx="2503440" cy="48276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Campus Net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5" name=""/>
          <p:cNvGrpSpPr/>
          <p:nvPr/>
        </p:nvGrpSpPr>
        <p:grpSpPr>
          <a:xfrm>
            <a:off x="4821120" y="855720"/>
            <a:ext cx="2417760" cy="2170080"/>
            <a:chOff x="4821120" y="855720"/>
            <a:chExt cx="2417760" cy="2170080"/>
          </a:xfrm>
        </p:grpSpPr>
        <p:sp>
          <p:nvSpPr>
            <p:cNvPr id="2406" name=""/>
            <p:cNvSpPr/>
            <p:nvPr/>
          </p:nvSpPr>
          <p:spPr>
            <a:xfrm>
              <a:off x="5029200" y="1371600"/>
              <a:ext cx="380880" cy="763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5029200" y="2209680"/>
              <a:ext cx="380880" cy="1526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5943600" y="1371600"/>
              <a:ext cx="457200" cy="1522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019920" y="23623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0" name=""/>
            <p:cNvGrpSpPr/>
            <p:nvPr/>
          </p:nvGrpSpPr>
          <p:grpSpPr>
            <a:xfrm>
              <a:off x="6324480" y="1143000"/>
              <a:ext cx="914400" cy="457200"/>
              <a:chOff x="6324480" y="1143000"/>
              <a:chExt cx="914400" cy="457200"/>
            </a:xfrm>
          </p:grpSpPr>
          <p:sp>
            <p:nvSpPr>
              <p:cNvPr id="2411" name=""/>
              <p:cNvSpPr/>
              <p:nvPr/>
            </p:nvSpPr>
            <p:spPr>
              <a:xfrm>
                <a:off x="6324480" y="1309680"/>
                <a:ext cx="914400" cy="290520"/>
              </a:xfrm>
              <a:prstGeom prst="ellipse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324480" y="1309680"/>
                <a:ext cx="914400" cy="152280"/>
              </a:xfrm>
              <a:prstGeom prst="rect">
                <a:avLst/>
              </a:prstGeom>
              <a:solidFill>
                <a:srgbClr val="0066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3" name=""/>
              <p:cNvGrpSpPr/>
              <p:nvPr/>
            </p:nvGrpSpPr>
            <p:grpSpPr>
              <a:xfrm>
                <a:off x="6324480" y="1143000"/>
                <a:ext cx="914400" cy="366840"/>
                <a:chOff x="6324480" y="1143000"/>
                <a:chExt cx="914400" cy="36684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6324480" y="1143000"/>
                  <a:ext cx="914400" cy="36684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6824520" y="1233360"/>
                  <a:ext cx="371880" cy="124200"/>
                </a:xfrm>
                <a:custGeom>
                  <a:avLst/>
                  <a:gdLst/>
                  <a:ahLst/>
                  <a:rect l="0" t="0" r="r" b="b"/>
                  <a:pathLst>
                    <a:path w="1033" h="345">
                      <a:moveTo>
                        <a:pt x="0" y="115"/>
                      </a:moveTo>
                      <a:lnTo>
                        <a:pt x="0" y="230"/>
                      </a:lnTo>
                      <a:lnTo>
                        <a:pt x="723" y="230"/>
                      </a:lnTo>
                      <a:lnTo>
                        <a:pt x="723" y="345"/>
                      </a:lnTo>
                      <a:lnTo>
                        <a:pt x="1033" y="172"/>
                      </a:lnTo>
                      <a:lnTo>
                        <a:pt x="723" y="0"/>
                      </a:lnTo>
                      <a:lnTo>
                        <a:pt x="723" y="11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d36c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6346800" y="1233360"/>
                  <a:ext cx="373320" cy="124200"/>
                </a:xfrm>
                <a:custGeom>
                  <a:avLst/>
                  <a:gdLst/>
                  <a:ahLst/>
                  <a:rect l="0" t="0" r="r" b="b"/>
                  <a:pathLst>
                    <a:path w="1037" h="345">
                      <a:moveTo>
                        <a:pt x="1037" y="115"/>
                      </a:moveTo>
                      <a:lnTo>
                        <a:pt x="1037" y="230"/>
                      </a:lnTo>
                      <a:lnTo>
                        <a:pt x="310" y="230"/>
                      </a:lnTo>
                      <a:lnTo>
                        <a:pt x="310" y="345"/>
                      </a:lnTo>
                      <a:lnTo>
                        <a:pt x="0" y="172"/>
                      </a:lnTo>
                      <a:lnTo>
                        <a:pt x="310" y="0"/>
                      </a:lnTo>
                      <a:lnTo>
                        <a:pt x="310" y="115"/>
                      </a:lnTo>
                      <a:lnTo>
                        <a:pt x="1037" y="115"/>
                      </a:lnTo>
                      <a:close/>
                    </a:path>
                  </a:pathLst>
                </a:custGeom>
                <a:solidFill>
                  <a:srgbClr val="fd36c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6689880" y="1347840"/>
                  <a:ext cx="184680" cy="146520"/>
                </a:xfrm>
                <a:custGeom>
                  <a:avLst/>
                  <a:gdLst/>
                  <a:ahLst/>
                  <a:rect l="0" t="0" r="r" b="b"/>
                  <a:pathLst>
                    <a:path w="513" h="407">
                      <a:moveTo>
                        <a:pt x="513" y="136"/>
                      </a:moveTo>
                      <a:lnTo>
                        <a:pt x="513" y="271"/>
                      </a:lnTo>
                      <a:lnTo>
                        <a:pt x="154" y="271"/>
                      </a:lnTo>
                      <a:lnTo>
                        <a:pt x="154" y="407"/>
                      </a:lnTo>
                      <a:lnTo>
                        <a:pt x="0" y="203"/>
                      </a:lnTo>
                      <a:lnTo>
                        <a:pt x="154" y="0"/>
                      </a:lnTo>
                      <a:lnTo>
                        <a:pt x="154" y="136"/>
                      </a:lnTo>
                      <a:lnTo>
                        <a:pt x="513" y="136"/>
                      </a:lnTo>
                      <a:close/>
                    </a:path>
                  </a:pathLst>
                </a:custGeom>
                <a:solidFill>
                  <a:srgbClr val="fd36c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6689880" y="1150920"/>
                  <a:ext cx="184680" cy="98640"/>
                </a:xfrm>
                <a:custGeom>
                  <a:avLst/>
                  <a:gdLst/>
                  <a:ahLst/>
                  <a:rect l="0" t="0" r="r" b="b"/>
                  <a:pathLst>
                    <a:path w="513" h="274">
                      <a:moveTo>
                        <a:pt x="513" y="183"/>
                      </a:moveTo>
                      <a:lnTo>
                        <a:pt x="513" y="91"/>
                      </a:lnTo>
                      <a:lnTo>
                        <a:pt x="154" y="91"/>
                      </a:lnTo>
                      <a:lnTo>
                        <a:pt x="154" y="0"/>
                      </a:lnTo>
                      <a:lnTo>
                        <a:pt x="0" y="136"/>
                      </a:lnTo>
                      <a:lnTo>
                        <a:pt x="154" y="274"/>
                      </a:lnTo>
                      <a:lnTo>
                        <a:pt x="154" y="183"/>
                      </a:lnTo>
                      <a:lnTo>
                        <a:pt x="513" y="183"/>
                      </a:lnTo>
                      <a:close/>
                    </a:path>
                  </a:pathLst>
                </a:custGeom>
                <a:solidFill>
                  <a:srgbClr val="fd36c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47520" bIns="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9" name=""/>
              <p:cNvSpPr/>
              <p:nvPr/>
            </p:nvSpPr>
            <p:spPr>
              <a:xfrm>
                <a:off x="6324480" y="13255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238880" y="13255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1" name=""/>
            <p:cNvGrpSpPr/>
            <p:nvPr/>
          </p:nvGrpSpPr>
          <p:grpSpPr>
            <a:xfrm>
              <a:off x="4821120" y="855720"/>
              <a:ext cx="1866960" cy="2170080"/>
              <a:chOff x="4821120" y="855720"/>
              <a:chExt cx="1866960" cy="2170080"/>
            </a:xfrm>
          </p:grpSpPr>
          <p:sp>
            <p:nvSpPr>
              <p:cNvPr id="2422" name=""/>
              <p:cNvSpPr/>
              <p:nvPr/>
            </p:nvSpPr>
            <p:spPr>
              <a:xfrm>
                <a:off x="5332320" y="855720"/>
                <a:ext cx="763560" cy="2170080"/>
              </a:xfrm>
              <a:prstGeom prst="ellipse">
                <a:avLst/>
              </a:prstGeom>
              <a:gradFill rotWithShape="0">
                <a:gsLst>
                  <a:gs pos="0">
                    <a:srgbClr val="00cc00"/>
                  </a:gs>
                  <a:gs pos="100000">
                    <a:srgbClr val="00b7a5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 txBox="1"/>
              <p:nvPr/>
            </p:nvSpPr>
            <p:spPr>
              <a:xfrm>
                <a:off x="4821120" y="1789200"/>
                <a:ext cx="18669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SONET Net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4" name=""/>
            <p:cNvGrpSpPr/>
            <p:nvPr/>
          </p:nvGrpSpPr>
          <p:grpSpPr>
            <a:xfrm>
              <a:off x="6324480" y="2286000"/>
              <a:ext cx="914400" cy="457200"/>
              <a:chOff x="6324480" y="2286000"/>
              <a:chExt cx="914400" cy="457200"/>
            </a:xfrm>
          </p:grpSpPr>
          <p:sp>
            <p:nvSpPr>
              <p:cNvPr id="2425" name=""/>
              <p:cNvSpPr/>
              <p:nvPr/>
            </p:nvSpPr>
            <p:spPr>
              <a:xfrm>
                <a:off x="6324480" y="2452680"/>
                <a:ext cx="914400" cy="290520"/>
              </a:xfrm>
              <a:prstGeom prst="ellipse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324480" y="2452680"/>
                <a:ext cx="914400" cy="152280"/>
              </a:xfrm>
              <a:prstGeom prst="rect">
                <a:avLst/>
              </a:prstGeom>
              <a:solidFill>
                <a:srgbClr val="0066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7" name=""/>
              <p:cNvGrpSpPr/>
              <p:nvPr/>
            </p:nvGrpSpPr>
            <p:grpSpPr>
              <a:xfrm>
                <a:off x="6324480" y="2286000"/>
                <a:ext cx="914400" cy="366840"/>
                <a:chOff x="6324480" y="2286000"/>
                <a:chExt cx="914400" cy="36684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6324480" y="2286000"/>
                  <a:ext cx="914400" cy="36684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6824520" y="2376360"/>
                  <a:ext cx="371880" cy="124200"/>
                </a:xfrm>
                <a:custGeom>
                  <a:avLst/>
                  <a:gdLst/>
                  <a:ahLst/>
                  <a:rect l="0" t="0" r="r" b="b"/>
                  <a:pathLst>
                    <a:path w="1033" h="345">
                      <a:moveTo>
                        <a:pt x="0" y="115"/>
                      </a:moveTo>
                      <a:lnTo>
                        <a:pt x="0" y="230"/>
                      </a:lnTo>
                      <a:lnTo>
                        <a:pt x="723" y="230"/>
                      </a:lnTo>
                      <a:lnTo>
                        <a:pt x="723" y="345"/>
                      </a:lnTo>
                      <a:lnTo>
                        <a:pt x="1033" y="172"/>
                      </a:lnTo>
                      <a:lnTo>
                        <a:pt x="723" y="0"/>
                      </a:lnTo>
                      <a:lnTo>
                        <a:pt x="723" y="11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d36c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6346800" y="2376360"/>
                  <a:ext cx="373320" cy="124200"/>
                </a:xfrm>
                <a:custGeom>
                  <a:avLst/>
                  <a:gdLst/>
                  <a:ahLst/>
                  <a:rect l="0" t="0" r="r" b="b"/>
                  <a:pathLst>
                    <a:path w="1037" h="345">
                      <a:moveTo>
                        <a:pt x="1037" y="115"/>
                      </a:moveTo>
                      <a:lnTo>
                        <a:pt x="1037" y="230"/>
                      </a:lnTo>
                      <a:lnTo>
                        <a:pt x="310" y="230"/>
                      </a:lnTo>
                      <a:lnTo>
                        <a:pt x="310" y="345"/>
                      </a:lnTo>
                      <a:lnTo>
                        <a:pt x="0" y="172"/>
                      </a:lnTo>
                      <a:lnTo>
                        <a:pt x="310" y="0"/>
                      </a:lnTo>
                      <a:lnTo>
                        <a:pt x="310" y="115"/>
                      </a:lnTo>
                      <a:lnTo>
                        <a:pt x="1037" y="115"/>
                      </a:lnTo>
                      <a:close/>
                    </a:path>
                  </a:pathLst>
                </a:custGeom>
                <a:solidFill>
                  <a:srgbClr val="fd36c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6689880" y="2490840"/>
                  <a:ext cx="184680" cy="146520"/>
                </a:xfrm>
                <a:custGeom>
                  <a:avLst/>
                  <a:gdLst/>
                  <a:ahLst/>
                  <a:rect l="0" t="0" r="r" b="b"/>
                  <a:pathLst>
                    <a:path w="513" h="407">
                      <a:moveTo>
                        <a:pt x="513" y="136"/>
                      </a:moveTo>
                      <a:lnTo>
                        <a:pt x="513" y="271"/>
                      </a:lnTo>
                      <a:lnTo>
                        <a:pt x="154" y="271"/>
                      </a:lnTo>
                      <a:lnTo>
                        <a:pt x="154" y="407"/>
                      </a:lnTo>
                      <a:lnTo>
                        <a:pt x="0" y="203"/>
                      </a:lnTo>
                      <a:lnTo>
                        <a:pt x="154" y="0"/>
                      </a:lnTo>
                      <a:lnTo>
                        <a:pt x="154" y="136"/>
                      </a:lnTo>
                      <a:lnTo>
                        <a:pt x="513" y="136"/>
                      </a:lnTo>
                      <a:close/>
                    </a:path>
                  </a:pathLst>
                </a:custGeom>
                <a:solidFill>
                  <a:srgbClr val="fd36c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6689880" y="2293920"/>
                  <a:ext cx="184680" cy="98640"/>
                </a:xfrm>
                <a:custGeom>
                  <a:avLst/>
                  <a:gdLst/>
                  <a:ahLst/>
                  <a:rect l="0" t="0" r="r" b="b"/>
                  <a:pathLst>
                    <a:path w="513" h="274">
                      <a:moveTo>
                        <a:pt x="513" y="183"/>
                      </a:moveTo>
                      <a:lnTo>
                        <a:pt x="513" y="91"/>
                      </a:lnTo>
                      <a:lnTo>
                        <a:pt x="154" y="91"/>
                      </a:lnTo>
                      <a:lnTo>
                        <a:pt x="154" y="0"/>
                      </a:lnTo>
                      <a:lnTo>
                        <a:pt x="0" y="136"/>
                      </a:lnTo>
                      <a:lnTo>
                        <a:pt x="154" y="274"/>
                      </a:lnTo>
                      <a:lnTo>
                        <a:pt x="154" y="183"/>
                      </a:lnTo>
                      <a:lnTo>
                        <a:pt x="513" y="183"/>
                      </a:lnTo>
                      <a:close/>
                    </a:path>
                  </a:pathLst>
                </a:custGeom>
                <a:solidFill>
                  <a:srgbClr val="fd36c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47520" bIns="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3" name=""/>
              <p:cNvSpPr/>
              <p:nvPr/>
            </p:nvSpPr>
            <p:spPr>
              <a:xfrm>
                <a:off x="6324480" y="24685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238880" y="24685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0" y="0"/>
            <a:ext cx="914256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ntroduction of CSR to ISP Network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6" name=""/>
          <p:cNvGrpSpPr/>
          <p:nvPr/>
        </p:nvGrpSpPr>
        <p:grpSpPr>
          <a:xfrm>
            <a:off x="76320" y="1066680"/>
            <a:ext cx="4952880" cy="5634360"/>
            <a:chOff x="76320" y="1066680"/>
            <a:chExt cx="4952880" cy="5634360"/>
          </a:xfrm>
        </p:grpSpPr>
        <p:grpSp>
          <p:nvGrpSpPr>
            <p:cNvPr id="2437" name=""/>
            <p:cNvGrpSpPr/>
            <p:nvPr/>
          </p:nvGrpSpPr>
          <p:grpSpPr>
            <a:xfrm>
              <a:off x="169920" y="1066680"/>
              <a:ext cx="4859280" cy="3048120"/>
              <a:chOff x="169920" y="1066680"/>
              <a:chExt cx="4859280" cy="3048120"/>
            </a:xfrm>
          </p:grpSpPr>
          <p:sp>
            <p:nvSpPr>
              <p:cNvPr id="2438" name=""/>
              <p:cNvSpPr/>
              <p:nvPr/>
            </p:nvSpPr>
            <p:spPr>
              <a:xfrm>
                <a:off x="4572000" y="1600200"/>
                <a:ext cx="0" cy="609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3809880" y="1523880"/>
                <a:ext cx="457200" cy="7632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3733920" y="2362320"/>
                <a:ext cx="457200" cy="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762120" y="2895480"/>
                <a:ext cx="60948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676520" y="1447920"/>
                <a:ext cx="6094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752480" y="2743200"/>
                <a:ext cx="609840" cy="76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971800" y="1447920"/>
                <a:ext cx="457200" cy="22860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971800" y="2819520"/>
                <a:ext cx="304920" cy="7596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838080" y="1371600"/>
                <a:ext cx="457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838080" y="2133720"/>
                <a:ext cx="381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8" name=""/>
              <p:cNvGrpSpPr/>
              <p:nvPr/>
            </p:nvGrpSpPr>
            <p:grpSpPr>
              <a:xfrm>
                <a:off x="169920" y="1157400"/>
                <a:ext cx="668160" cy="565200"/>
                <a:chOff x="169920" y="1157400"/>
                <a:chExt cx="668160" cy="56520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169920" y="1157400"/>
                  <a:ext cx="430200" cy="4111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216000" y="1206360"/>
                  <a:ext cx="336600" cy="3096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266760" y="1568520"/>
                  <a:ext cx="237960" cy="507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169920" y="1619280"/>
                  <a:ext cx="430200" cy="103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47640" y="1157400"/>
                  <a:ext cx="190440" cy="5652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95160" y="1206360"/>
                  <a:ext cx="968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4114800" y="1219320"/>
                <a:ext cx="914400" cy="457200"/>
                <a:chOff x="4114800" y="1219320"/>
                <a:chExt cx="914400" cy="457200"/>
              </a:xfrm>
            </p:grpSpPr>
            <p:sp>
              <p:nvSpPr>
                <p:cNvPr id="2456" name=""/>
                <p:cNvSpPr/>
                <p:nvPr/>
              </p:nvSpPr>
              <p:spPr>
                <a:xfrm>
                  <a:off x="4114800" y="13860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4114800" y="13860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8" name=""/>
                <p:cNvGrpSpPr/>
                <p:nvPr/>
              </p:nvGrpSpPr>
              <p:grpSpPr>
                <a:xfrm>
                  <a:off x="4114800" y="1219320"/>
                  <a:ext cx="914400" cy="366840"/>
                  <a:chOff x="4114800" y="1219320"/>
                  <a:chExt cx="914400" cy="366840"/>
                </a:xfrm>
              </p:grpSpPr>
              <p:sp>
                <p:nvSpPr>
                  <p:cNvPr id="2459" name=""/>
                  <p:cNvSpPr/>
                  <p:nvPr/>
                </p:nvSpPr>
                <p:spPr>
                  <a:xfrm>
                    <a:off x="4114800" y="12193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4614840" y="13096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4137120" y="13096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4479840" y="14241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4479840" y="12272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64" name=""/>
                <p:cNvSpPr/>
                <p:nvPr/>
              </p:nvSpPr>
              <p:spPr>
                <a:xfrm>
                  <a:off x="4114800" y="1401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029200" y="1401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4114800" y="2133720"/>
                <a:ext cx="914400" cy="457200"/>
                <a:chOff x="4114800" y="2133720"/>
                <a:chExt cx="914400" cy="45720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4114800" y="23004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4114800" y="23004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9" name=""/>
                <p:cNvGrpSpPr/>
                <p:nvPr/>
              </p:nvGrpSpPr>
              <p:grpSpPr>
                <a:xfrm>
                  <a:off x="4114800" y="2133720"/>
                  <a:ext cx="914400" cy="366840"/>
                  <a:chOff x="4114800" y="2133720"/>
                  <a:chExt cx="914400" cy="366840"/>
                </a:xfrm>
              </p:grpSpPr>
              <p:sp>
                <p:nvSpPr>
                  <p:cNvPr id="2470" name=""/>
                  <p:cNvSpPr/>
                  <p:nvPr/>
                </p:nvSpPr>
                <p:spPr>
                  <a:xfrm>
                    <a:off x="4114800" y="21337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4614840" y="22240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4137120" y="22240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4479840" y="23385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4479840" y="21416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5" name=""/>
                <p:cNvSpPr/>
                <p:nvPr/>
              </p:nvSpPr>
              <p:spPr>
                <a:xfrm>
                  <a:off x="4114800" y="23162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5029200" y="23162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"/>
              <p:cNvSpPr/>
              <p:nvPr/>
            </p:nvSpPr>
            <p:spPr>
              <a:xfrm>
                <a:off x="3200400" y="1219320"/>
                <a:ext cx="762120" cy="2895480"/>
              </a:xfrm>
              <a:prstGeom prst="ellipse">
                <a:avLst/>
              </a:prstGeom>
              <a:gradFill rotWithShape="0">
                <a:gsLst>
                  <a:gs pos="0">
                    <a:srgbClr val="009966"/>
                  </a:gs>
                  <a:gs pos="100000">
                    <a:srgbClr val="00b7a5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"/>
              <p:cNvGrpSpPr/>
              <p:nvPr/>
            </p:nvGrpSpPr>
            <p:grpSpPr>
              <a:xfrm>
                <a:off x="2133720" y="1219320"/>
                <a:ext cx="914400" cy="457200"/>
                <a:chOff x="2133720" y="1219320"/>
                <a:chExt cx="914400" cy="45720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2133720" y="13860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2133720" y="13860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1" name=""/>
                <p:cNvGrpSpPr/>
                <p:nvPr/>
              </p:nvGrpSpPr>
              <p:grpSpPr>
                <a:xfrm>
                  <a:off x="2133720" y="1219320"/>
                  <a:ext cx="914400" cy="366840"/>
                  <a:chOff x="2133720" y="1219320"/>
                  <a:chExt cx="914400" cy="366840"/>
                </a:xfrm>
              </p:grpSpPr>
              <p:sp>
                <p:nvSpPr>
                  <p:cNvPr id="2482" name=""/>
                  <p:cNvSpPr/>
                  <p:nvPr/>
                </p:nvSpPr>
                <p:spPr>
                  <a:xfrm>
                    <a:off x="2133720" y="12193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2633760" y="13096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2155680" y="13096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2498760" y="14241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2498760" y="12272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7" name=""/>
                <p:cNvSpPr/>
                <p:nvPr/>
              </p:nvSpPr>
              <p:spPr>
                <a:xfrm>
                  <a:off x="2133720" y="1401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3048120" y="1401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9" name=""/>
              <p:cNvGrpSpPr/>
              <p:nvPr/>
            </p:nvGrpSpPr>
            <p:grpSpPr>
              <a:xfrm>
                <a:off x="2133720" y="2590920"/>
                <a:ext cx="914400" cy="457200"/>
                <a:chOff x="2133720" y="2590920"/>
                <a:chExt cx="914400" cy="457200"/>
              </a:xfrm>
            </p:grpSpPr>
            <p:sp>
              <p:nvSpPr>
                <p:cNvPr id="2490" name=""/>
                <p:cNvSpPr/>
                <p:nvPr/>
              </p:nvSpPr>
              <p:spPr>
                <a:xfrm>
                  <a:off x="2133720" y="27576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2133720" y="27576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2" name=""/>
                <p:cNvGrpSpPr/>
                <p:nvPr/>
              </p:nvGrpSpPr>
              <p:grpSpPr>
                <a:xfrm>
                  <a:off x="2133720" y="2590920"/>
                  <a:ext cx="914400" cy="366840"/>
                  <a:chOff x="2133720" y="2590920"/>
                  <a:chExt cx="914400" cy="366840"/>
                </a:xfrm>
              </p:grpSpPr>
              <p:sp>
                <p:nvSpPr>
                  <p:cNvPr id="2493" name=""/>
                  <p:cNvSpPr/>
                  <p:nvPr/>
                </p:nvSpPr>
                <p:spPr>
                  <a:xfrm>
                    <a:off x="2133720" y="25909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2633760" y="26812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2155680" y="26812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2498760" y="27957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2498760" y="25988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8" name=""/>
                <p:cNvSpPr/>
                <p:nvPr/>
              </p:nvSpPr>
              <p:spPr>
                <a:xfrm>
                  <a:off x="2133720" y="27734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3048120" y="27734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0" name=""/>
              <p:cNvSpPr/>
              <p:nvPr/>
            </p:nvSpPr>
            <p:spPr>
              <a:xfrm>
                <a:off x="1143000" y="1066680"/>
                <a:ext cx="762120" cy="2209680"/>
              </a:xfrm>
              <a:prstGeom prst="ellipse">
                <a:avLst/>
              </a:prstGeom>
              <a:gradFill rotWithShape="0">
                <a:gsLst>
                  <a:gs pos="0">
                    <a:srgbClr val="f9a786"/>
                  </a:gs>
                  <a:gs pos="100000">
                    <a:srgbClr val="00b7a5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 txBox="1"/>
              <p:nvPr/>
            </p:nvSpPr>
            <p:spPr>
              <a:xfrm>
                <a:off x="517680" y="1919160"/>
                <a:ext cx="204156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Dial-up Net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"/>
              <p:cNvGrpSpPr/>
              <p:nvPr/>
            </p:nvGrpSpPr>
            <p:grpSpPr>
              <a:xfrm>
                <a:off x="169920" y="3062160"/>
                <a:ext cx="668160" cy="565560"/>
                <a:chOff x="169920" y="3062160"/>
                <a:chExt cx="668160" cy="56556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169920" y="3062160"/>
                  <a:ext cx="430200" cy="4111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216000" y="3111480"/>
                  <a:ext cx="336600" cy="3096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266760" y="3473280"/>
                  <a:ext cx="237960" cy="507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169920" y="3524400"/>
                  <a:ext cx="430200" cy="103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647640" y="3062160"/>
                  <a:ext cx="190440" cy="5652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695160" y="3111480"/>
                  <a:ext cx="968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9" name=""/>
              <p:cNvGrpSpPr/>
              <p:nvPr/>
            </p:nvGrpSpPr>
            <p:grpSpPr>
              <a:xfrm>
                <a:off x="169920" y="1843200"/>
                <a:ext cx="668160" cy="565200"/>
                <a:chOff x="169920" y="1843200"/>
                <a:chExt cx="668160" cy="565200"/>
              </a:xfrm>
            </p:grpSpPr>
            <p:sp>
              <p:nvSpPr>
                <p:cNvPr id="2510" name=""/>
                <p:cNvSpPr/>
                <p:nvPr/>
              </p:nvSpPr>
              <p:spPr>
                <a:xfrm>
                  <a:off x="169920" y="1843200"/>
                  <a:ext cx="430200" cy="4111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216000" y="1892160"/>
                  <a:ext cx="336600" cy="3096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266760" y="2254320"/>
                  <a:ext cx="237960" cy="507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169920" y="2305080"/>
                  <a:ext cx="430200" cy="103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47640" y="1843200"/>
                  <a:ext cx="190440" cy="5652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95160" y="1892160"/>
                  <a:ext cx="968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6" name=""/>
              <p:cNvSpPr/>
              <p:nvPr/>
            </p:nvSpPr>
            <p:spPr>
              <a:xfrm>
                <a:off x="457200" y="2438280"/>
                <a:ext cx="0" cy="609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590920" y="1752480"/>
                <a:ext cx="0" cy="762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 txBox="1"/>
              <p:nvPr/>
            </p:nvSpPr>
            <p:spPr>
              <a:xfrm>
                <a:off x="2498760" y="2452680"/>
                <a:ext cx="214956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Frame Rela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9" name=""/>
            <p:cNvGrpSpPr/>
            <p:nvPr/>
          </p:nvGrpSpPr>
          <p:grpSpPr>
            <a:xfrm>
              <a:off x="76320" y="3276720"/>
              <a:ext cx="3965760" cy="3424320"/>
              <a:chOff x="76320" y="3276720"/>
              <a:chExt cx="3965760" cy="3424320"/>
            </a:xfrm>
          </p:grpSpPr>
          <p:sp>
            <p:nvSpPr>
              <p:cNvPr id="2520" name=""/>
              <p:cNvSpPr/>
              <p:nvPr/>
            </p:nvSpPr>
            <p:spPr>
              <a:xfrm flipV="1">
                <a:off x="2666880" y="3962520"/>
                <a:ext cx="762120" cy="761760"/>
              </a:xfrm>
              <a:prstGeom prst="line">
                <a:avLst/>
              </a:prstGeom>
              <a:ln w="25560">
                <a:solidFill>
                  <a:srgbClr val="fe8d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1523880" y="3276720"/>
                <a:ext cx="0" cy="1066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 txBox="1"/>
              <p:nvPr/>
            </p:nvSpPr>
            <p:spPr>
              <a:xfrm>
                <a:off x="1508040" y="3535200"/>
                <a:ext cx="100332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ial-u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lin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 txBox="1"/>
              <p:nvPr/>
            </p:nvSpPr>
            <p:spPr>
              <a:xfrm>
                <a:off x="3032280" y="4297320"/>
                <a:ext cx="10098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e8ddc"/>
                    </a:solidFill>
                    <a:latin typeface="Times New Roman"/>
                    <a:ea typeface="Times New Roman"/>
                  </a:rPr>
                  <a:t>FR lin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6320" y="4343400"/>
                <a:ext cx="3352680" cy="2286000"/>
              </a:xfrm>
              <a:prstGeom prst="ellipse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00b7a5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5" name=""/>
              <p:cNvGrpSpPr/>
              <p:nvPr/>
            </p:nvGrpSpPr>
            <p:grpSpPr>
              <a:xfrm>
                <a:off x="990720" y="4560840"/>
                <a:ext cx="735480" cy="849960"/>
                <a:chOff x="990720" y="4560840"/>
                <a:chExt cx="735480" cy="84996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990720" y="5297400"/>
                  <a:ext cx="576360" cy="1126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990720" y="5183280"/>
                  <a:ext cx="735480" cy="114840"/>
                </a:xfrm>
                <a:custGeom>
                  <a:avLst/>
                  <a:gdLst/>
                  <a:ahLst/>
                  <a:rect l="0" t="0" r="r" b="b"/>
                  <a:pathLst>
                    <a:path w="2043" h="319">
                      <a:moveTo>
                        <a:pt x="0" y="319"/>
                      </a:moveTo>
                      <a:lnTo>
                        <a:pt x="1021" y="0"/>
                      </a:lnTo>
                      <a:lnTo>
                        <a:pt x="2043" y="0"/>
                      </a:lnTo>
                      <a:lnTo>
                        <a:pt x="1606" y="319"/>
                      </a:lnTo>
                      <a:lnTo>
                        <a:pt x="0" y="319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8" name=""/>
                <p:cNvGrpSpPr/>
                <p:nvPr/>
              </p:nvGrpSpPr>
              <p:grpSpPr>
                <a:xfrm>
                  <a:off x="1069920" y="4560840"/>
                  <a:ext cx="628920" cy="706680"/>
                  <a:chOff x="1069920" y="4560840"/>
                  <a:chExt cx="628920" cy="706680"/>
                </a:xfrm>
              </p:grpSpPr>
              <p:sp>
                <p:nvSpPr>
                  <p:cNvPr id="2529" name=""/>
                  <p:cNvSpPr/>
                  <p:nvPr/>
                </p:nvSpPr>
                <p:spPr>
                  <a:xfrm>
                    <a:off x="1069920" y="4643280"/>
                    <a:ext cx="496800" cy="6238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1093680" y="4702320"/>
                    <a:ext cx="5400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1174680" y="4702320"/>
                    <a:ext cx="5076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1255680" y="4702320"/>
                    <a:ext cx="4752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1332000" y="4702320"/>
                    <a:ext cx="5256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1409760" y="4702320"/>
                    <a:ext cx="5076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1487520" y="4702320"/>
                    <a:ext cx="54000" cy="82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1093680" y="4815000"/>
                    <a:ext cx="5400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1174680" y="4815000"/>
                    <a:ext cx="5076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1255680" y="4815000"/>
                    <a:ext cx="4752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1332000" y="4815000"/>
                    <a:ext cx="5256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1409760" y="4815000"/>
                    <a:ext cx="5076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1487520" y="4815000"/>
                    <a:ext cx="54000" cy="8568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1093680" y="4956120"/>
                    <a:ext cx="447840" cy="28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1093680" y="5014800"/>
                    <a:ext cx="447840" cy="2700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1093680" y="5068800"/>
                    <a:ext cx="447840" cy="28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1093680" y="5127480"/>
                    <a:ext cx="447840" cy="28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1093680" y="5183280"/>
                    <a:ext cx="447840" cy="28440"/>
                  </a:xfrm>
                  <a:prstGeom prst="rect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1069920" y="4560840"/>
                    <a:ext cx="628920" cy="82800"/>
                  </a:xfrm>
                  <a:custGeom>
                    <a:avLst/>
                    <a:gdLst/>
                    <a:ahLst/>
                    <a:rect l="0" t="0" r="r" b="b"/>
                    <a:pathLst>
                      <a:path w="1747" h="230">
                        <a:moveTo>
                          <a:pt x="0" y="230"/>
                        </a:moveTo>
                        <a:lnTo>
                          <a:pt x="654" y="0"/>
                        </a:lnTo>
                        <a:lnTo>
                          <a:pt x="1747" y="0"/>
                        </a:lnTo>
                        <a:lnTo>
                          <a:pt x="1383" y="230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1566720" y="4560840"/>
                    <a:ext cx="132120" cy="706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1963">
                        <a:moveTo>
                          <a:pt x="367" y="0"/>
                        </a:moveTo>
                        <a:lnTo>
                          <a:pt x="367" y="1727"/>
                        </a:lnTo>
                        <a:lnTo>
                          <a:pt x="0" y="1963"/>
                        </a:lnTo>
                        <a:lnTo>
                          <a:pt x="0" y="235"/>
                        </a:lnTo>
                        <a:lnTo>
                          <a:pt x="367" y="0"/>
                        </a:lnTo>
                        <a:close/>
                      </a:path>
                    </a:pathLst>
                  </a:custGeom>
                  <a:solidFill>
                    <a:srgbClr val="618ffd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9" name=""/>
                <p:cNvSpPr/>
                <p:nvPr/>
              </p:nvSpPr>
              <p:spPr>
                <a:xfrm>
                  <a:off x="1566720" y="5183280"/>
                  <a:ext cx="159120" cy="227520"/>
                </a:xfrm>
                <a:custGeom>
                  <a:avLst/>
                  <a:gdLst/>
                  <a:ahLst/>
                  <a:rect l="0" t="0" r="r" b="b"/>
                  <a:pathLst>
                    <a:path w="442" h="632">
                      <a:moveTo>
                        <a:pt x="442" y="0"/>
                      </a:moveTo>
                      <a:lnTo>
                        <a:pt x="442" y="237"/>
                      </a:lnTo>
                      <a:lnTo>
                        <a:pt x="0" y="632"/>
                      </a:lnTo>
                      <a:lnTo>
                        <a:pt x="0" y="316"/>
                      </a:lnTo>
                      <a:lnTo>
                        <a:pt x="442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0" name=""/>
              <p:cNvGrpSpPr/>
              <p:nvPr/>
            </p:nvGrpSpPr>
            <p:grpSpPr>
              <a:xfrm>
                <a:off x="334800" y="5460840"/>
                <a:ext cx="957240" cy="566640"/>
                <a:chOff x="334800" y="5460840"/>
                <a:chExt cx="957240" cy="566640"/>
              </a:xfrm>
            </p:grpSpPr>
            <p:grpSp>
              <p:nvGrpSpPr>
                <p:cNvPr id="2551" name=""/>
                <p:cNvGrpSpPr/>
                <p:nvPr/>
              </p:nvGrpSpPr>
              <p:grpSpPr>
                <a:xfrm>
                  <a:off x="334800" y="5460840"/>
                  <a:ext cx="668160" cy="495360"/>
                  <a:chOff x="334800" y="5460840"/>
                  <a:chExt cx="668160" cy="495360"/>
                </a:xfrm>
              </p:grpSpPr>
              <p:sp>
                <p:nvSpPr>
                  <p:cNvPr id="2552" name=""/>
                  <p:cNvSpPr/>
                  <p:nvPr/>
                </p:nvSpPr>
                <p:spPr>
                  <a:xfrm>
                    <a:off x="334800" y="5813280"/>
                    <a:ext cx="66816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334800" y="5743440"/>
                    <a:ext cx="66816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334800" y="5673600"/>
                    <a:ext cx="668160" cy="13968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334800" y="5602320"/>
                    <a:ext cx="668160" cy="1411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334800" y="5530680"/>
                    <a:ext cx="66816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334800" y="5460840"/>
                    <a:ext cx="668160" cy="1411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8" name=""/>
                <p:cNvGrpSpPr/>
                <p:nvPr/>
              </p:nvGrpSpPr>
              <p:grpSpPr>
                <a:xfrm>
                  <a:off x="625320" y="5532480"/>
                  <a:ext cx="666720" cy="495000"/>
                  <a:chOff x="625320" y="5532480"/>
                  <a:chExt cx="666720" cy="495000"/>
                </a:xfrm>
              </p:grpSpPr>
              <p:sp>
                <p:nvSpPr>
                  <p:cNvPr id="2559" name=""/>
                  <p:cNvSpPr/>
                  <p:nvPr/>
                </p:nvSpPr>
                <p:spPr>
                  <a:xfrm>
                    <a:off x="625320" y="5886360"/>
                    <a:ext cx="666720" cy="1411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625320" y="5815080"/>
                    <a:ext cx="66672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625320" y="5745240"/>
                    <a:ext cx="666720" cy="1411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625320" y="5675400"/>
                    <a:ext cx="666720" cy="13968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625320" y="5602320"/>
                    <a:ext cx="66672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625320" y="5532480"/>
                    <a:ext cx="666720" cy="14292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afd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65" name=""/>
              <p:cNvGrpSpPr/>
              <p:nvPr/>
            </p:nvGrpSpPr>
            <p:grpSpPr>
              <a:xfrm>
                <a:off x="1541520" y="5576760"/>
                <a:ext cx="668160" cy="565560"/>
                <a:chOff x="1541520" y="5576760"/>
                <a:chExt cx="668160" cy="56556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1541520" y="5576760"/>
                  <a:ext cx="430200" cy="4111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1587600" y="5626080"/>
                  <a:ext cx="336600" cy="3096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1638360" y="5987880"/>
                  <a:ext cx="237960" cy="507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1541520" y="6039000"/>
                  <a:ext cx="430200" cy="1033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2019240" y="5576760"/>
                  <a:ext cx="190440" cy="5652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2066760" y="5626080"/>
                  <a:ext cx="968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2" name=""/>
              <p:cNvGrpSpPr/>
              <p:nvPr/>
            </p:nvGrpSpPr>
            <p:grpSpPr>
              <a:xfrm>
                <a:off x="1828800" y="4648320"/>
                <a:ext cx="914400" cy="457200"/>
                <a:chOff x="1828800" y="4648320"/>
                <a:chExt cx="914400" cy="457200"/>
              </a:xfrm>
            </p:grpSpPr>
            <p:sp>
              <p:nvSpPr>
                <p:cNvPr id="2573" name=""/>
                <p:cNvSpPr/>
                <p:nvPr/>
              </p:nvSpPr>
              <p:spPr>
                <a:xfrm>
                  <a:off x="1828800" y="4815000"/>
                  <a:ext cx="914400" cy="290520"/>
                </a:xfrm>
                <a:prstGeom prst="ellipse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1828800" y="4815000"/>
                  <a:ext cx="914400" cy="152280"/>
                </a:xfrm>
                <a:prstGeom prst="rect">
                  <a:avLst/>
                </a:prstGeom>
                <a:solidFill>
                  <a:srgbClr val="0066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5" name=""/>
                <p:cNvGrpSpPr/>
                <p:nvPr/>
              </p:nvGrpSpPr>
              <p:grpSpPr>
                <a:xfrm>
                  <a:off x="1828800" y="4648320"/>
                  <a:ext cx="914400" cy="366840"/>
                  <a:chOff x="1828800" y="4648320"/>
                  <a:chExt cx="914400" cy="366840"/>
                </a:xfrm>
              </p:grpSpPr>
              <p:sp>
                <p:nvSpPr>
                  <p:cNvPr id="2576" name=""/>
                  <p:cNvSpPr/>
                  <p:nvPr/>
                </p:nvSpPr>
                <p:spPr>
                  <a:xfrm>
                    <a:off x="1828800" y="4648320"/>
                    <a:ext cx="914400" cy="36684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2328840" y="4738680"/>
                    <a:ext cx="37188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345">
                        <a:moveTo>
                          <a:pt x="0" y="115"/>
                        </a:moveTo>
                        <a:lnTo>
                          <a:pt x="0" y="230"/>
                        </a:lnTo>
                        <a:lnTo>
                          <a:pt x="723" y="230"/>
                        </a:lnTo>
                        <a:lnTo>
                          <a:pt x="723" y="345"/>
                        </a:lnTo>
                        <a:lnTo>
                          <a:pt x="1033" y="172"/>
                        </a:lnTo>
                        <a:lnTo>
                          <a:pt x="723" y="0"/>
                        </a:lnTo>
                        <a:lnTo>
                          <a:pt x="723" y="11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1851120" y="4738680"/>
                    <a:ext cx="373320" cy="1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345">
                        <a:moveTo>
                          <a:pt x="1037" y="115"/>
                        </a:moveTo>
                        <a:lnTo>
                          <a:pt x="1037" y="230"/>
                        </a:lnTo>
                        <a:lnTo>
                          <a:pt x="310" y="230"/>
                        </a:lnTo>
                        <a:lnTo>
                          <a:pt x="310" y="345"/>
                        </a:lnTo>
                        <a:lnTo>
                          <a:pt x="0" y="172"/>
                        </a:lnTo>
                        <a:lnTo>
                          <a:pt x="310" y="0"/>
                        </a:lnTo>
                        <a:lnTo>
                          <a:pt x="310" y="115"/>
                        </a:lnTo>
                        <a:lnTo>
                          <a:pt x="1037" y="115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2193840" y="4853160"/>
                    <a:ext cx="1846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07">
                        <a:moveTo>
                          <a:pt x="513" y="136"/>
                        </a:moveTo>
                        <a:lnTo>
                          <a:pt x="513" y="271"/>
                        </a:lnTo>
                        <a:lnTo>
                          <a:pt x="154" y="271"/>
                        </a:lnTo>
                        <a:lnTo>
                          <a:pt x="154" y="407"/>
                        </a:lnTo>
                        <a:lnTo>
                          <a:pt x="0" y="203"/>
                        </a:lnTo>
                        <a:lnTo>
                          <a:pt x="154" y="0"/>
                        </a:lnTo>
                        <a:lnTo>
                          <a:pt x="154" y="136"/>
                        </a:lnTo>
                        <a:lnTo>
                          <a:pt x="513" y="136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2193840" y="4656240"/>
                    <a:ext cx="18468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274">
                        <a:moveTo>
                          <a:pt x="513" y="183"/>
                        </a:moveTo>
                        <a:lnTo>
                          <a:pt x="513" y="91"/>
                        </a:lnTo>
                        <a:lnTo>
                          <a:pt x="154" y="91"/>
                        </a:lnTo>
                        <a:lnTo>
                          <a:pt x="154" y="0"/>
                        </a:lnTo>
                        <a:lnTo>
                          <a:pt x="0" y="136"/>
                        </a:lnTo>
                        <a:lnTo>
                          <a:pt x="154" y="274"/>
                        </a:lnTo>
                        <a:lnTo>
                          <a:pt x="154" y="183"/>
                        </a:lnTo>
                        <a:lnTo>
                          <a:pt x="513" y="183"/>
                        </a:lnTo>
                        <a:close/>
                      </a:path>
                    </a:pathLst>
                  </a:custGeom>
                  <a:solidFill>
                    <a:srgbClr val="fd36c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1" name=""/>
                <p:cNvSpPr/>
                <p:nvPr/>
              </p:nvSpPr>
              <p:spPr>
                <a:xfrm>
                  <a:off x="1828800" y="4830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2743200" y="4830840"/>
                  <a:ext cx="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3" name=""/>
              <p:cNvSpPr txBox="1"/>
              <p:nvPr/>
            </p:nvSpPr>
            <p:spPr>
              <a:xfrm>
                <a:off x="352440" y="6218280"/>
                <a:ext cx="2503440" cy="48276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Campus Net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4" name=""/>
          <p:cNvGrpSpPr/>
          <p:nvPr/>
        </p:nvGrpSpPr>
        <p:grpSpPr>
          <a:xfrm>
            <a:off x="2349360" y="1068480"/>
            <a:ext cx="6578640" cy="4870440"/>
            <a:chOff x="2349360" y="1068480"/>
            <a:chExt cx="6578640" cy="4870440"/>
          </a:xfrm>
        </p:grpSpPr>
        <p:grpSp>
          <p:nvGrpSpPr>
            <p:cNvPr id="2585" name=""/>
            <p:cNvGrpSpPr/>
            <p:nvPr/>
          </p:nvGrpSpPr>
          <p:grpSpPr>
            <a:xfrm>
              <a:off x="3429000" y="1068480"/>
              <a:ext cx="5499000" cy="4570200"/>
              <a:chOff x="3429000" y="1068480"/>
              <a:chExt cx="5499000" cy="4570200"/>
            </a:xfrm>
          </p:grpSpPr>
          <p:sp>
            <p:nvSpPr>
              <p:cNvPr id="2586" name=""/>
              <p:cNvSpPr txBox="1"/>
              <p:nvPr/>
            </p:nvSpPr>
            <p:spPr>
              <a:xfrm>
                <a:off x="4327560" y="4068720"/>
                <a:ext cx="163044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Ethernet lin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029200" y="1447920"/>
                <a:ext cx="1828800" cy="533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029200" y="2286000"/>
                <a:ext cx="167652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9" name=""/>
              <p:cNvGrpSpPr/>
              <p:nvPr/>
            </p:nvGrpSpPr>
            <p:grpSpPr>
              <a:xfrm>
                <a:off x="3429000" y="1068480"/>
                <a:ext cx="5499000" cy="4570200"/>
                <a:chOff x="3429000" y="1068480"/>
                <a:chExt cx="5499000" cy="4570200"/>
              </a:xfrm>
            </p:grpSpPr>
            <p:sp>
              <p:nvSpPr>
                <p:cNvPr id="2590" name=""/>
                <p:cNvSpPr/>
                <p:nvPr/>
              </p:nvSpPr>
              <p:spPr>
                <a:xfrm>
                  <a:off x="4572000" y="2743200"/>
                  <a:ext cx="0" cy="1143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custDash>
                    <a:ds d="100000" sp="100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8229600" y="3733920"/>
                  <a:ext cx="0" cy="1143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custDash>
                    <a:ds d="100000" sp="100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6400800" y="3505320"/>
                  <a:ext cx="228600" cy="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64080" bIns="-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flipV="1">
                  <a:off x="3429000" y="4648320"/>
                  <a:ext cx="3352680" cy="99036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V="1">
                  <a:off x="7543800" y="2743200"/>
                  <a:ext cx="304920" cy="7632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7543800" y="3657600"/>
                  <a:ext cx="380880" cy="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64080" bIns="-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7391520" y="4724280"/>
                  <a:ext cx="304560" cy="22860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9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35760" y="2408400"/>
                  <a:ext cx="1092240" cy="63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549760" y="3170160"/>
                  <a:ext cx="863640" cy="63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07160" y="4694400"/>
                  <a:ext cx="1092240" cy="635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00" name=""/>
                <p:cNvGrpSpPr/>
                <p:nvPr/>
              </p:nvGrpSpPr>
              <p:grpSpPr>
                <a:xfrm>
                  <a:off x="4952880" y="2666880"/>
                  <a:ext cx="609840" cy="1447920"/>
                  <a:chOff x="4952880" y="2666880"/>
                  <a:chExt cx="609840" cy="1447920"/>
                </a:xfrm>
              </p:grpSpPr>
              <p:sp>
                <p:nvSpPr>
                  <p:cNvPr id="2601" name=""/>
                  <p:cNvSpPr/>
                  <p:nvPr/>
                </p:nvSpPr>
                <p:spPr>
                  <a:xfrm>
                    <a:off x="5257800" y="3486240"/>
                    <a:ext cx="304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 flipH="1">
                    <a:off x="4952880" y="3798720"/>
                    <a:ext cx="304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 flipH="1">
                    <a:off x="4952880" y="2982960"/>
                    <a:ext cx="304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5257800" y="2792520"/>
                    <a:ext cx="0" cy="1197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5181480" y="2666880"/>
                    <a:ext cx="152280" cy="125280"/>
                  </a:xfrm>
                  <a:prstGeom prst="rect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5181480" y="3989520"/>
                    <a:ext cx="152280" cy="125280"/>
                  </a:xfrm>
                  <a:prstGeom prst="rect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7" name=""/>
                <p:cNvGrpSpPr/>
                <p:nvPr/>
              </p:nvGrpSpPr>
              <p:grpSpPr>
                <a:xfrm>
                  <a:off x="5392800" y="1600200"/>
                  <a:ext cx="3376440" cy="3581280"/>
                  <a:chOff x="5392800" y="1600200"/>
                  <a:chExt cx="3376440" cy="3581280"/>
                </a:xfrm>
              </p:grpSpPr>
              <p:sp>
                <p:nvSpPr>
                  <p:cNvPr id="2608" name=""/>
                  <p:cNvSpPr/>
                  <p:nvPr/>
                </p:nvSpPr>
                <p:spPr>
                  <a:xfrm>
                    <a:off x="6629400" y="1600200"/>
                    <a:ext cx="914400" cy="358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b7a5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"/>
                  <p:cNvSpPr txBox="1"/>
                  <p:nvPr/>
                </p:nvSpPr>
                <p:spPr>
                  <a:xfrm>
                    <a:off x="5392800" y="3227400"/>
                    <a:ext cx="337644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2400" spc="-1" strike="noStrike">
                        <a:solidFill>
                          <a:srgbClr val="fafd00"/>
                        </a:solidFill>
                        <a:latin typeface="Times New Roman"/>
                        <a:ea typeface="Times New Roman"/>
                      </a:rPr>
                      <a:t>ATM / SONET Networ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1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759800" y="3322800"/>
                  <a:ext cx="1092240" cy="635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1" name=""/>
                <p:cNvSpPr txBox="1"/>
                <p:nvPr/>
              </p:nvSpPr>
              <p:spPr>
                <a:xfrm>
                  <a:off x="4098960" y="5135400"/>
                  <a:ext cx="23223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fafd00"/>
                      </a:solidFill>
                      <a:latin typeface="Times New Roman"/>
                      <a:ea typeface="Times New Roman"/>
                    </a:rPr>
                    <a:t>ATM / SONET lin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2" name=""/>
                <p:cNvGrpSpPr/>
                <p:nvPr/>
              </p:nvGrpSpPr>
              <p:grpSpPr>
                <a:xfrm>
                  <a:off x="4113360" y="2668680"/>
                  <a:ext cx="914400" cy="457200"/>
                  <a:chOff x="4113360" y="2668680"/>
                  <a:chExt cx="914400" cy="457200"/>
                </a:xfrm>
              </p:grpSpPr>
              <p:sp>
                <p:nvSpPr>
                  <p:cNvPr id="2613" name=""/>
                  <p:cNvSpPr/>
                  <p:nvPr/>
                </p:nvSpPr>
                <p:spPr>
                  <a:xfrm>
                    <a:off x="4113360" y="2835360"/>
                    <a:ext cx="914400" cy="29052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4113360" y="2835360"/>
                    <a:ext cx="914400" cy="152280"/>
                  </a:xfrm>
                  <a:prstGeom prst="rect">
                    <a:avLst/>
                  </a:prstGeom>
                  <a:solidFill>
                    <a:srgbClr val="0066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5" name=""/>
                  <p:cNvGrpSpPr/>
                  <p:nvPr/>
                </p:nvGrpSpPr>
                <p:grpSpPr>
                  <a:xfrm>
                    <a:off x="4113360" y="2668680"/>
                    <a:ext cx="914400" cy="366840"/>
                    <a:chOff x="4113360" y="2668680"/>
                    <a:chExt cx="914400" cy="366840"/>
                  </a:xfrm>
                </p:grpSpPr>
                <p:sp>
                  <p:nvSpPr>
                    <p:cNvPr id="2616" name=""/>
                    <p:cNvSpPr/>
                    <p:nvPr/>
                  </p:nvSpPr>
                  <p:spPr>
                    <a:xfrm>
                      <a:off x="4113360" y="2668680"/>
                      <a:ext cx="914400" cy="366840"/>
                    </a:xfrm>
                    <a:prstGeom prst="ellipse">
                      <a:avLst/>
                    </a:prstGeom>
                    <a:solidFill>
                      <a:srgbClr val="006633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>
                      <a:off x="4613400" y="2759040"/>
                      <a:ext cx="371880" cy="124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33" h="345">
                          <a:moveTo>
                            <a:pt x="0" y="115"/>
                          </a:moveTo>
                          <a:lnTo>
                            <a:pt x="0" y="230"/>
                          </a:lnTo>
                          <a:lnTo>
                            <a:pt x="723" y="230"/>
                          </a:lnTo>
                          <a:lnTo>
                            <a:pt x="723" y="345"/>
                          </a:lnTo>
                          <a:lnTo>
                            <a:pt x="1033" y="172"/>
                          </a:lnTo>
                          <a:lnTo>
                            <a:pt x="723" y="0"/>
                          </a:lnTo>
                          <a:lnTo>
                            <a:pt x="723" y="115"/>
                          </a:lnTo>
                          <a:lnTo>
                            <a:pt x="0" y="115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8" name=""/>
                    <p:cNvSpPr/>
                    <p:nvPr/>
                  </p:nvSpPr>
                  <p:spPr>
                    <a:xfrm>
                      <a:off x="4135320" y="2759040"/>
                      <a:ext cx="373320" cy="124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37" h="345">
                          <a:moveTo>
                            <a:pt x="1037" y="115"/>
                          </a:moveTo>
                          <a:lnTo>
                            <a:pt x="1037" y="230"/>
                          </a:lnTo>
                          <a:lnTo>
                            <a:pt x="310" y="230"/>
                          </a:lnTo>
                          <a:lnTo>
                            <a:pt x="310" y="345"/>
                          </a:lnTo>
                          <a:lnTo>
                            <a:pt x="0" y="172"/>
                          </a:lnTo>
                          <a:lnTo>
                            <a:pt x="310" y="0"/>
                          </a:lnTo>
                          <a:lnTo>
                            <a:pt x="310" y="115"/>
                          </a:lnTo>
                          <a:lnTo>
                            <a:pt x="1037" y="115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9" name=""/>
                    <p:cNvSpPr/>
                    <p:nvPr/>
                  </p:nvSpPr>
                  <p:spPr>
                    <a:xfrm>
                      <a:off x="4478400" y="2873520"/>
                      <a:ext cx="184680" cy="14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13" h="407">
                          <a:moveTo>
                            <a:pt x="513" y="136"/>
                          </a:moveTo>
                          <a:lnTo>
                            <a:pt x="513" y="271"/>
                          </a:lnTo>
                          <a:lnTo>
                            <a:pt x="154" y="271"/>
                          </a:lnTo>
                          <a:lnTo>
                            <a:pt x="154" y="407"/>
                          </a:lnTo>
                          <a:lnTo>
                            <a:pt x="0" y="203"/>
                          </a:lnTo>
                          <a:lnTo>
                            <a:pt x="154" y="0"/>
                          </a:lnTo>
                          <a:lnTo>
                            <a:pt x="154" y="136"/>
                          </a:lnTo>
                          <a:lnTo>
                            <a:pt x="513" y="136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>
                      <a:off x="4478400" y="2676600"/>
                      <a:ext cx="184680" cy="9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13" h="274">
                          <a:moveTo>
                            <a:pt x="513" y="183"/>
                          </a:moveTo>
                          <a:lnTo>
                            <a:pt x="513" y="91"/>
                          </a:lnTo>
                          <a:lnTo>
                            <a:pt x="154" y="91"/>
                          </a:lnTo>
                          <a:lnTo>
                            <a:pt x="154" y="0"/>
                          </a:lnTo>
                          <a:lnTo>
                            <a:pt x="0" y="136"/>
                          </a:lnTo>
                          <a:lnTo>
                            <a:pt x="154" y="274"/>
                          </a:lnTo>
                          <a:lnTo>
                            <a:pt x="154" y="183"/>
                          </a:lnTo>
                          <a:lnTo>
                            <a:pt x="513" y="183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47520" bIns="47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21" name=""/>
                  <p:cNvSpPr/>
                  <p:nvPr/>
                </p:nvSpPr>
                <p:spPr>
                  <a:xfrm>
                    <a:off x="4113360" y="285120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5027760" y="285120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3" name=""/>
                <p:cNvGrpSpPr/>
                <p:nvPr/>
              </p:nvGrpSpPr>
              <p:grpSpPr>
                <a:xfrm>
                  <a:off x="7846920" y="1677960"/>
                  <a:ext cx="914400" cy="457200"/>
                  <a:chOff x="7846920" y="1677960"/>
                  <a:chExt cx="914400" cy="457200"/>
                </a:xfrm>
              </p:grpSpPr>
              <p:sp>
                <p:nvSpPr>
                  <p:cNvPr id="2624" name=""/>
                  <p:cNvSpPr/>
                  <p:nvPr/>
                </p:nvSpPr>
                <p:spPr>
                  <a:xfrm>
                    <a:off x="7846920" y="1844640"/>
                    <a:ext cx="914400" cy="29052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7846920" y="1844640"/>
                    <a:ext cx="914400" cy="152280"/>
                  </a:xfrm>
                  <a:prstGeom prst="rect">
                    <a:avLst/>
                  </a:prstGeom>
                  <a:solidFill>
                    <a:srgbClr val="0066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26" name=""/>
                  <p:cNvGrpSpPr/>
                  <p:nvPr/>
                </p:nvGrpSpPr>
                <p:grpSpPr>
                  <a:xfrm>
                    <a:off x="7846920" y="1677960"/>
                    <a:ext cx="914400" cy="366840"/>
                    <a:chOff x="7846920" y="1677960"/>
                    <a:chExt cx="914400" cy="366840"/>
                  </a:xfrm>
                </p:grpSpPr>
                <p:sp>
                  <p:nvSpPr>
                    <p:cNvPr id="2627" name=""/>
                    <p:cNvSpPr/>
                    <p:nvPr/>
                  </p:nvSpPr>
                  <p:spPr>
                    <a:xfrm>
                      <a:off x="7846920" y="1677960"/>
                      <a:ext cx="914400" cy="366840"/>
                    </a:xfrm>
                    <a:prstGeom prst="ellipse">
                      <a:avLst/>
                    </a:prstGeom>
                    <a:solidFill>
                      <a:srgbClr val="006633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"/>
                    <p:cNvSpPr/>
                    <p:nvPr/>
                  </p:nvSpPr>
                  <p:spPr>
                    <a:xfrm>
                      <a:off x="8346960" y="1768320"/>
                      <a:ext cx="371880" cy="124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33" h="345">
                          <a:moveTo>
                            <a:pt x="0" y="115"/>
                          </a:moveTo>
                          <a:lnTo>
                            <a:pt x="0" y="230"/>
                          </a:lnTo>
                          <a:lnTo>
                            <a:pt x="723" y="230"/>
                          </a:lnTo>
                          <a:lnTo>
                            <a:pt x="723" y="345"/>
                          </a:lnTo>
                          <a:lnTo>
                            <a:pt x="1033" y="172"/>
                          </a:lnTo>
                          <a:lnTo>
                            <a:pt x="723" y="0"/>
                          </a:lnTo>
                          <a:lnTo>
                            <a:pt x="723" y="115"/>
                          </a:lnTo>
                          <a:lnTo>
                            <a:pt x="0" y="115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>
                      <a:off x="7869240" y="1768320"/>
                      <a:ext cx="373320" cy="124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37" h="345">
                          <a:moveTo>
                            <a:pt x="1037" y="115"/>
                          </a:moveTo>
                          <a:lnTo>
                            <a:pt x="1037" y="230"/>
                          </a:lnTo>
                          <a:lnTo>
                            <a:pt x="310" y="230"/>
                          </a:lnTo>
                          <a:lnTo>
                            <a:pt x="310" y="345"/>
                          </a:lnTo>
                          <a:lnTo>
                            <a:pt x="0" y="172"/>
                          </a:lnTo>
                          <a:lnTo>
                            <a:pt x="310" y="0"/>
                          </a:lnTo>
                          <a:lnTo>
                            <a:pt x="310" y="115"/>
                          </a:lnTo>
                          <a:lnTo>
                            <a:pt x="1037" y="115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0" name=""/>
                    <p:cNvSpPr/>
                    <p:nvPr/>
                  </p:nvSpPr>
                  <p:spPr>
                    <a:xfrm>
                      <a:off x="8211960" y="1882800"/>
                      <a:ext cx="184680" cy="14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13" h="407">
                          <a:moveTo>
                            <a:pt x="513" y="136"/>
                          </a:moveTo>
                          <a:lnTo>
                            <a:pt x="513" y="271"/>
                          </a:lnTo>
                          <a:lnTo>
                            <a:pt x="154" y="271"/>
                          </a:lnTo>
                          <a:lnTo>
                            <a:pt x="154" y="407"/>
                          </a:lnTo>
                          <a:lnTo>
                            <a:pt x="0" y="203"/>
                          </a:lnTo>
                          <a:lnTo>
                            <a:pt x="154" y="0"/>
                          </a:lnTo>
                          <a:lnTo>
                            <a:pt x="154" y="136"/>
                          </a:lnTo>
                          <a:lnTo>
                            <a:pt x="513" y="136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1" name=""/>
                    <p:cNvSpPr/>
                    <p:nvPr/>
                  </p:nvSpPr>
                  <p:spPr>
                    <a:xfrm>
                      <a:off x="8211960" y="1685880"/>
                      <a:ext cx="184680" cy="9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13" h="274">
                          <a:moveTo>
                            <a:pt x="513" y="183"/>
                          </a:moveTo>
                          <a:lnTo>
                            <a:pt x="513" y="91"/>
                          </a:lnTo>
                          <a:lnTo>
                            <a:pt x="154" y="91"/>
                          </a:lnTo>
                          <a:lnTo>
                            <a:pt x="154" y="0"/>
                          </a:lnTo>
                          <a:lnTo>
                            <a:pt x="0" y="136"/>
                          </a:lnTo>
                          <a:lnTo>
                            <a:pt x="154" y="274"/>
                          </a:lnTo>
                          <a:lnTo>
                            <a:pt x="154" y="183"/>
                          </a:lnTo>
                          <a:lnTo>
                            <a:pt x="513" y="183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47520" bIns="47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32" name=""/>
                  <p:cNvSpPr/>
                  <p:nvPr/>
                </p:nvSpPr>
                <p:spPr>
                  <a:xfrm>
                    <a:off x="7846920" y="1860480"/>
                    <a:ext cx="0" cy="152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8761320" y="1860480"/>
                    <a:ext cx="0" cy="152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4" name=""/>
                <p:cNvGrpSpPr/>
                <p:nvPr/>
              </p:nvGrpSpPr>
              <p:grpSpPr>
                <a:xfrm>
                  <a:off x="4113360" y="3506760"/>
                  <a:ext cx="914400" cy="457200"/>
                  <a:chOff x="4113360" y="3506760"/>
                  <a:chExt cx="914400" cy="457200"/>
                </a:xfrm>
              </p:grpSpPr>
              <p:sp>
                <p:nvSpPr>
                  <p:cNvPr id="2635" name=""/>
                  <p:cNvSpPr/>
                  <p:nvPr/>
                </p:nvSpPr>
                <p:spPr>
                  <a:xfrm>
                    <a:off x="4113360" y="3673440"/>
                    <a:ext cx="914400" cy="29052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4113360" y="3673440"/>
                    <a:ext cx="914400" cy="152280"/>
                  </a:xfrm>
                  <a:prstGeom prst="rect">
                    <a:avLst/>
                  </a:prstGeom>
                  <a:solidFill>
                    <a:srgbClr val="0066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37" name=""/>
                  <p:cNvGrpSpPr/>
                  <p:nvPr/>
                </p:nvGrpSpPr>
                <p:grpSpPr>
                  <a:xfrm>
                    <a:off x="4113360" y="3506760"/>
                    <a:ext cx="914400" cy="366840"/>
                    <a:chOff x="4113360" y="3506760"/>
                    <a:chExt cx="914400" cy="366840"/>
                  </a:xfrm>
                </p:grpSpPr>
                <p:sp>
                  <p:nvSpPr>
                    <p:cNvPr id="2638" name=""/>
                    <p:cNvSpPr/>
                    <p:nvPr/>
                  </p:nvSpPr>
                  <p:spPr>
                    <a:xfrm>
                      <a:off x="4113360" y="3506760"/>
                      <a:ext cx="914400" cy="366840"/>
                    </a:xfrm>
                    <a:prstGeom prst="ellipse">
                      <a:avLst/>
                    </a:prstGeom>
                    <a:solidFill>
                      <a:srgbClr val="006633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"/>
                    <p:cNvSpPr/>
                    <p:nvPr/>
                  </p:nvSpPr>
                  <p:spPr>
                    <a:xfrm>
                      <a:off x="4613400" y="3597120"/>
                      <a:ext cx="371880" cy="124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33" h="345">
                          <a:moveTo>
                            <a:pt x="0" y="115"/>
                          </a:moveTo>
                          <a:lnTo>
                            <a:pt x="0" y="230"/>
                          </a:lnTo>
                          <a:lnTo>
                            <a:pt x="723" y="230"/>
                          </a:lnTo>
                          <a:lnTo>
                            <a:pt x="723" y="345"/>
                          </a:lnTo>
                          <a:lnTo>
                            <a:pt x="1033" y="172"/>
                          </a:lnTo>
                          <a:lnTo>
                            <a:pt x="723" y="0"/>
                          </a:lnTo>
                          <a:lnTo>
                            <a:pt x="723" y="115"/>
                          </a:lnTo>
                          <a:lnTo>
                            <a:pt x="0" y="115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0" name=""/>
                    <p:cNvSpPr/>
                    <p:nvPr/>
                  </p:nvSpPr>
                  <p:spPr>
                    <a:xfrm>
                      <a:off x="4135320" y="3597120"/>
                      <a:ext cx="373320" cy="124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37" h="345">
                          <a:moveTo>
                            <a:pt x="1037" y="115"/>
                          </a:moveTo>
                          <a:lnTo>
                            <a:pt x="1037" y="230"/>
                          </a:lnTo>
                          <a:lnTo>
                            <a:pt x="310" y="230"/>
                          </a:lnTo>
                          <a:lnTo>
                            <a:pt x="310" y="345"/>
                          </a:lnTo>
                          <a:lnTo>
                            <a:pt x="0" y="172"/>
                          </a:lnTo>
                          <a:lnTo>
                            <a:pt x="310" y="0"/>
                          </a:lnTo>
                          <a:lnTo>
                            <a:pt x="310" y="115"/>
                          </a:lnTo>
                          <a:lnTo>
                            <a:pt x="1037" y="115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>
                      <a:off x="4478400" y="3711600"/>
                      <a:ext cx="184680" cy="14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13" h="407">
                          <a:moveTo>
                            <a:pt x="513" y="136"/>
                          </a:moveTo>
                          <a:lnTo>
                            <a:pt x="513" y="271"/>
                          </a:lnTo>
                          <a:lnTo>
                            <a:pt x="154" y="271"/>
                          </a:lnTo>
                          <a:lnTo>
                            <a:pt x="154" y="407"/>
                          </a:lnTo>
                          <a:lnTo>
                            <a:pt x="0" y="203"/>
                          </a:lnTo>
                          <a:lnTo>
                            <a:pt x="154" y="0"/>
                          </a:lnTo>
                          <a:lnTo>
                            <a:pt x="154" y="136"/>
                          </a:lnTo>
                          <a:lnTo>
                            <a:pt x="513" y="136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"/>
                    <p:cNvSpPr/>
                    <p:nvPr/>
                  </p:nvSpPr>
                  <p:spPr>
                    <a:xfrm>
                      <a:off x="4478400" y="3514680"/>
                      <a:ext cx="184680" cy="9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13" h="274">
                          <a:moveTo>
                            <a:pt x="513" y="183"/>
                          </a:moveTo>
                          <a:lnTo>
                            <a:pt x="513" y="91"/>
                          </a:lnTo>
                          <a:lnTo>
                            <a:pt x="154" y="91"/>
                          </a:lnTo>
                          <a:lnTo>
                            <a:pt x="154" y="0"/>
                          </a:lnTo>
                          <a:lnTo>
                            <a:pt x="0" y="136"/>
                          </a:lnTo>
                          <a:lnTo>
                            <a:pt x="154" y="274"/>
                          </a:lnTo>
                          <a:lnTo>
                            <a:pt x="154" y="183"/>
                          </a:lnTo>
                          <a:lnTo>
                            <a:pt x="513" y="183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47520" bIns="47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43" name=""/>
                  <p:cNvSpPr/>
                  <p:nvPr/>
                </p:nvSpPr>
                <p:spPr>
                  <a:xfrm>
                    <a:off x="4113360" y="3689280"/>
                    <a:ext cx="0" cy="152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5027760" y="3689280"/>
                    <a:ext cx="0" cy="152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5" name=""/>
                <p:cNvGrpSpPr/>
                <p:nvPr/>
              </p:nvGrpSpPr>
              <p:grpSpPr>
                <a:xfrm>
                  <a:off x="7237440" y="1068480"/>
                  <a:ext cx="914400" cy="457200"/>
                  <a:chOff x="7237440" y="1068480"/>
                  <a:chExt cx="914400" cy="457200"/>
                </a:xfrm>
              </p:grpSpPr>
              <p:sp>
                <p:nvSpPr>
                  <p:cNvPr id="2646" name=""/>
                  <p:cNvSpPr/>
                  <p:nvPr/>
                </p:nvSpPr>
                <p:spPr>
                  <a:xfrm>
                    <a:off x="7237440" y="1235160"/>
                    <a:ext cx="914400" cy="290520"/>
                  </a:xfrm>
                  <a:prstGeom prst="ellipse">
                    <a:avLst/>
                  </a:prstGeom>
                  <a:solidFill>
                    <a:srgbClr val="006633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7237440" y="1235160"/>
                    <a:ext cx="914400" cy="152280"/>
                  </a:xfrm>
                  <a:prstGeom prst="rect">
                    <a:avLst/>
                  </a:prstGeom>
                  <a:solidFill>
                    <a:srgbClr val="0066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7237440" y="1068480"/>
                    <a:ext cx="914400" cy="366840"/>
                    <a:chOff x="7237440" y="1068480"/>
                    <a:chExt cx="914400" cy="36684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>
                      <a:off x="7237440" y="1068480"/>
                      <a:ext cx="914400" cy="366840"/>
                    </a:xfrm>
                    <a:prstGeom prst="ellipse">
                      <a:avLst/>
                    </a:prstGeom>
                    <a:solidFill>
                      <a:srgbClr val="006633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>
                      <a:off x="7737480" y="1158840"/>
                      <a:ext cx="371880" cy="124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33" h="345">
                          <a:moveTo>
                            <a:pt x="0" y="115"/>
                          </a:moveTo>
                          <a:lnTo>
                            <a:pt x="0" y="230"/>
                          </a:lnTo>
                          <a:lnTo>
                            <a:pt x="723" y="230"/>
                          </a:lnTo>
                          <a:lnTo>
                            <a:pt x="723" y="345"/>
                          </a:lnTo>
                          <a:lnTo>
                            <a:pt x="1033" y="172"/>
                          </a:lnTo>
                          <a:lnTo>
                            <a:pt x="723" y="0"/>
                          </a:lnTo>
                          <a:lnTo>
                            <a:pt x="723" y="115"/>
                          </a:lnTo>
                          <a:lnTo>
                            <a:pt x="0" y="115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1" name=""/>
                    <p:cNvSpPr/>
                    <p:nvPr/>
                  </p:nvSpPr>
                  <p:spPr>
                    <a:xfrm>
                      <a:off x="7259760" y="1158840"/>
                      <a:ext cx="373320" cy="124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37" h="345">
                          <a:moveTo>
                            <a:pt x="1037" y="115"/>
                          </a:moveTo>
                          <a:lnTo>
                            <a:pt x="1037" y="230"/>
                          </a:lnTo>
                          <a:lnTo>
                            <a:pt x="310" y="230"/>
                          </a:lnTo>
                          <a:lnTo>
                            <a:pt x="310" y="345"/>
                          </a:lnTo>
                          <a:lnTo>
                            <a:pt x="0" y="172"/>
                          </a:lnTo>
                          <a:lnTo>
                            <a:pt x="310" y="0"/>
                          </a:lnTo>
                          <a:lnTo>
                            <a:pt x="310" y="115"/>
                          </a:lnTo>
                          <a:lnTo>
                            <a:pt x="1037" y="115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2" name=""/>
                    <p:cNvSpPr/>
                    <p:nvPr/>
                  </p:nvSpPr>
                  <p:spPr>
                    <a:xfrm>
                      <a:off x="7602480" y="1273320"/>
                      <a:ext cx="184680" cy="14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13" h="407">
                          <a:moveTo>
                            <a:pt x="513" y="136"/>
                          </a:moveTo>
                          <a:lnTo>
                            <a:pt x="513" y="271"/>
                          </a:lnTo>
                          <a:lnTo>
                            <a:pt x="154" y="271"/>
                          </a:lnTo>
                          <a:lnTo>
                            <a:pt x="154" y="407"/>
                          </a:lnTo>
                          <a:lnTo>
                            <a:pt x="0" y="203"/>
                          </a:lnTo>
                          <a:lnTo>
                            <a:pt x="154" y="0"/>
                          </a:lnTo>
                          <a:lnTo>
                            <a:pt x="154" y="136"/>
                          </a:lnTo>
                          <a:lnTo>
                            <a:pt x="513" y="136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>
                      <a:off x="7602480" y="1076400"/>
                      <a:ext cx="184680" cy="9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13" h="274">
                          <a:moveTo>
                            <a:pt x="513" y="183"/>
                          </a:moveTo>
                          <a:lnTo>
                            <a:pt x="513" y="91"/>
                          </a:lnTo>
                          <a:lnTo>
                            <a:pt x="154" y="91"/>
                          </a:lnTo>
                          <a:lnTo>
                            <a:pt x="154" y="0"/>
                          </a:lnTo>
                          <a:lnTo>
                            <a:pt x="0" y="136"/>
                          </a:lnTo>
                          <a:lnTo>
                            <a:pt x="154" y="274"/>
                          </a:lnTo>
                          <a:lnTo>
                            <a:pt x="154" y="183"/>
                          </a:lnTo>
                          <a:lnTo>
                            <a:pt x="513" y="183"/>
                          </a:lnTo>
                          <a:close/>
                        </a:path>
                      </a:pathLst>
                    </a:custGeom>
                    <a:solidFill>
                      <a:srgbClr val="fd36c0"/>
                    </a:solidFill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47520" bIns="47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4" name=""/>
                  <p:cNvSpPr/>
                  <p:nvPr/>
                </p:nvSpPr>
                <p:spPr>
                  <a:xfrm>
                    <a:off x="7237440" y="125100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8151840" y="125100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6" name=""/>
                <p:cNvSpPr/>
                <p:nvPr/>
              </p:nvSpPr>
              <p:spPr>
                <a:xfrm flipV="1">
                  <a:off x="7315200" y="1523880"/>
                  <a:ext cx="228600" cy="304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flipV="1">
                  <a:off x="7467480" y="1981080"/>
                  <a:ext cx="381240" cy="2286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3962520" y="2895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fe8dd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3886200" y="3657600"/>
                  <a:ext cx="228600" cy="76320"/>
                </a:xfrm>
                <a:prstGeom prst="line">
                  <a:avLst/>
                </a:prstGeom>
                <a:ln w="25560">
                  <a:solidFill>
                    <a:srgbClr val="fe8dd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60" name="" descr=""/>
            <p:cNvPicPr/>
            <p:nvPr/>
          </p:nvPicPr>
          <p:blipFill>
            <a:blip r:embed="rId5"/>
            <a:stretch/>
          </p:blipFill>
          <p:spPr>
            <a:xfrm>
              <a:off x="2349360" y="5303880"/>
              <a:ext cx="863640" cy="63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"/>
          <p:cNvSpPr txBox="1"/>
          <p:nvPr/>
        </p:nvSpPr>
        <p:spPr>
          <a:xfrm>
            <a:off x="76320" y="533520"/>
            <a:ext cx="89899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IDE Project Introduces 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Cell Switch Router Technology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 their Test B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 txBox="1"/>
          <p:nvPr/>
        </p:nvSpPr>
        <p:spPr>
          <a:xfrm>
            <a:off x="1203480" y="2484360"/>
            <a:ext cx="7499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perimental Operation at Test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=&gt; Nine Test Beds (WAN &amp; camp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3" name="" descr=""/>
          <p:cNvPicPr/>
          <p:nvPr/>
        </p:nvPicPr>
        <p:blipFill>
          <a:blip r:embed="rId1"/>
          <a:stretch/>
        </p:blipFill>
        <p:spPr>
          <a:xfrm>
            <a:off x="747720" y="3862440"/>
            <a:ext cx="3595680" cy="2290680"/>
          </a:xfrm>
          <a:prstGeom prst="rect">
            <a:avLst/>
          </a:prstGeom>
          <a:ln w="0">
            <a:noFill/>
          </a:ln>
        </p:spPr>
      </p:pic>
      <p:pic>
        <p:nvPicPr>
          <p:cNvPr id="2664" name="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3813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"/>
          <p:cNvSpPr txBox="1"/>
          <p:nvPr/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ll Switch Router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 txBox="1"/>
          <p:nvPr/>
        </p:nvSpPr>
        <p:spPr>
          <a:xfrm>
            <a:off x="685800" y="129528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avai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C, Internet-Dra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Available through the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ftp.wide.toshiba.co.jp/pub/c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oshib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oshiba.co.j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520"/>
            <a:ext cx="83059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Requirement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for Intranet and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High throughput and small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ealtim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Multimedia) packet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networking of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Heterogeneous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ocessing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arge amount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packets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Unreliable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ode (host/router)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ulticast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CSR Desig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6765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throughput small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time packe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reliable nod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ast packe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581800" y="1646280"/>
            <a:ext cx="3409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=&gt; ATM-SW g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67440" y="2255760"/>
            <a:ext cx="3789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=&gt; RSVP over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14800" y="2865600"/>
            <a:ext cx="4952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=&gt; L2&amp;L3 Multi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203800" y="3398760"/>
            <a:ext cx="3635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=&gt; Soft-stat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278320" y="4008600"/>
            <a:ext cx="3560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=&gt; M-Bone with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6200" y="4618080"/>
            <a:ext cx="495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=&gt; Address Prefix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00600" y="5227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=&gt; Standard Inte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TM, leg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0" y="0"/>
            <a:ext cx="8989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CSR Implementation Image</a:t>
            </a:r>
            <a:br>
              <a:rPr sz="44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° Label Switching Using VPI/VCI 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38080" y="1371600"/>
            <a:ext cx="7086600" cy="4876920"/>
            <a:chOff x="838080" y="1371600"/>
            <a:chExt cx="7086600" cy="4876920"/>
          </a:xfrm>
        </p:grpSpPr>
        <p:sp>
          <p:nvSpPr>
            <p:cNvPr id="180" name=""/>
            <p:cNvSpPr/>
            <p:nvPr/>
          </p:nvSpPr>
          <p:spPr>
            <a:xfrm>
              <a:off x="2514600" y="1371600"/>
              <a:ext cx="3657600" cy="4876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29000" y="1600200"/>
              <a:ext cx="1905120" cy="137160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3489480" y="1757520"/>
              <a:ext cx="179064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 Process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FANP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&amp; SW contro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76720" y="3200400"/>
              <a:ext cx="2209680" cy="2895480"/>
            </a:xfrm>
            <a:prstGeom prst="rect">
              <a:avLst/>
            </a:prstGeom>
            <a:solidFill>
              <a:srgbClr val="fd36c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413160" y="4183200"/>
              <a:ext cx="18493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swit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(i.e., hardwar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4120" y="2259000"/>
              <a:ext cx="609840" cy="1170360"/>
            </a:xfrm>
            <a:custGeom>
              <a:avLst/>
              <a:gdLst/>
              <a:ahLst/>
              <a:rect l="0" t="0" r="r" b="b"/>
              <a:pathLst>
                <a:path fill="none" w="1694" h="3251">
                  <a:moveTo>
                    <a:pt x="423" y="3251"/>
                  </a:moveTo>
                  <a:lnTo>
                    <a:pt x="1694" y="3251"/>
                  </a:lnTo>
                  <a:lnTo>
                    <a:pt x="1694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afd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19520" y="2259000"/>
              <a:ext cx="609840" cy="1170360"/>
            </a:xfrm>
            <a:custGeom>
              <a:avLst/>
              <a:gdLst/>
              <a:ahLst/>
              <a:rect l="0" t="0" r="r" b="b"/>
              <a:pathLst>
                <a:path fill="none" w="1694" h="3251">
                  <a:moveTo>
                    <a:pt x="1271" y="3251"/>
                  </a:moveTo>
                  <a:lnTo>
                    <a:pt x="0" y="3251"/>
                  </a:lnTo>
                  <a:lnTo>
                    <a:pt x="0" y="0"/>
                  </a:lnTo>
                  <a:lnTo>
                    <a:pt x="1694" y="0"/>
                  </a:lnTo>
                </a:path>
              </a:pathLst>
            </a:custGeom>
            <a:ln w="25560">
              <a:solidFill>
                <a:srgbClr val="fafd00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86400" y="3733920"/>
              <a:ext cx="24382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6400" y="4343400"/>
              <a:ext cx="24382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648320"/>
              <a:ext cx="24382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86400" y="5791320"/>
              <a:ext cx="24382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53080" y="4859280"/>
              <a:ext cx="0" cy="77940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8080" y="3733920"/>
              <a:ext cx="24386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038480"/>
              <a:ext cx="24386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4343400"/>
              <a:ext cx="24386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4648320"/>
              <a:ext cx="24386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5943600"/>
              <a:ext cx="24386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5120" y="4935600"/>
              <a:ext cx="0" cy="77940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19720" y="2971800"/>
              <a:ext cx="0" cy="2286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838080" y="2286000"/>
            <a:ext cx="5105880" cy="1752840"/>
          </a:xfrm>
          <a:custGeom>
            <a:avLst/>
            <a:gdLst/>
            <a:ahLst/>
            <a:rect l="0" t="0" r="r" b="b"/>
            <a:pathLst>
              <a:path fill="none" w="14183" h="4869">
                <a:moveTo>
                  <a:pt x="0" y="4869"/>
                </a:moveTo>
                <a:lnTo>
                  <a:pt x="6986" y="4869"/>
                </a:lnTo>
                <a:lnTo>
                  <a:pt x="12913" y="3176"/>
                </a:lnTo>
                <a:lnTo>
                  <a:pt x="14183" y="3176"/>
                </a:lnTo>
                <a:lnTo>
                  <a:pt x="14183" y="0"/>
                </a:lnTo>
                <a:lnTo>
                  <a:pt x="12490" y="0"/>
                </a:lnTo>
              </a:path>
            </a:pathLst>
          </a:custGeom>
          <a:ln w="76320">
            <a:solidFill>
              <a:srgbClr val="fc0128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2286000"/>
            <a:ext cx="5334480" cy="3505680"/>
          </a:xfrm>
          <a:custGeom>
            <a:avLst/>
            <a:gdLst/>
            <a:ahLst/>
            <a:rect l="0" t="0" r="r" b="b"/>
            <a:pathLst>
              <a:path fill="none" w="14818" h="9738">
                <a:moveTo>
                  <a:pt x="1693" y="0"/>
                </a:moveTo>
                <a:lnTo>
                  <a:pt x="0" y="0"/>
                </a:lnTo>
                <a:lnTo>
                  <a:pt x="0" y="3176"/>
                </a:lnTo>
                <a:lnTo>
                  <a:pt x="1481" y="3176"/>
                </a:lnTo>
                <a:lnTo>
                  <a:pt x="7197" y="9738"/>
                </a:lnTo>
                <a:lnTo>
                  <a:pt x="14818" y="9738"/>
                </a:lnTo>
              </a:path>
            </a:pathLst>
          </a:custGeom>
          <a:ln w="76320">
            <a:solidFill>
              <a:srgbClr val="fc0128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4038480"/>
            <a:ext cx="7315560" cy="1752840"/>
          </a:xfrm>
          <a:custGeom>
            <a:avLst/>
            <a:gdLst/>
            <a:ahLst/>
            <a:rect l="0" t="0" r="r" b="b"/>
            <a:pathLst>
              <a:path fill="none" w="20321" h="4869">
                <a:moveTo>
                  <a:pt x="0" y="0"/>
                </a:moveTo>
                <a:lnTo>
                  <a:pt x="7196" y="0"/>
                </a:lnTo>
                <a:lnTo>
                  <a:pt x="12912" y="4869"/>
                </a:lnTo>
                <a:lnTo>
                  <a:pt x="20321" y="4869"/>
                </a:lnTo>
              </a:path>
            </a:pathLst>
          </a:custGeom>
          <a:ln w="101520">
            <a:solidFill>
              <a:srgbClr val="fc0128"/>
            </a:solidFill>
            <a:round/>
            <a:tailEnd len="med" type="triangle" w="med"/>
          </a:ln>
        </p:spPr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2286000"/>
            <a:ext cx="7239240" cy="3657960"/>
            <a:chOff x="838080" y="2286000"/>
            <a:chExt cx="7239240" cy="3657960"/>
          </a:xfrm>
        </p:grpSpPr>
        <p:sp>
          <p:nvSpPr>
            <p:cNvPr id="204" name=""/>
            <p:cNvSpPr/>
            <p:nvPr/>
          </p:nvSpPr>
          <p:spPr>
            <a:xfrm>
              <a:off x="838080" y="2286000"/>
              <a:ext cx="5105880" cy="2057760"/>
            </a:xfrm>
            <a:custGeom>
              <a:avLst/>
              <a:gdLst/>
              <a:ahLst/>
              <a:rect l="0" t="0" r="r" b="b"/>
              <a:pathLst>
                <a:path fill="none" w="14183" h="5716">
                  <a:moveTo>
                    <a:pt x="0" y="5716"/>
                  </a:moveTo>
                  <a:lnTo>
                    <a:pt x="6986" y="5716"/>
                  </a:lnTo>
                  <a:lnTo>
                    <a:pt x="12913" y="3176"/>
                  </a:lnTo>
                  <a:lnTo>
                    <a:pt x="14183" y="3176"/>
                  </a:lnTo>
                  <a:lnTo>
                    <a:pt x="14183" y="0"/>
                  </a:lnTo>
                  <a:lnTo>
                    <a:pt x="12702" y="0"/>
                  </a:lnTo>
                </a:path>
              </a:pathLst>
            </a:custGeom>
            <a:ln w="101520">
              <a:solidFill>
                <a:srgbClr val="fc0128"/>
              </a:solidFill>
              <a:round/>
              <a:tailEnd len="med" type="triangle" w="med"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19520" y="2286000"/>
              <a:ext cx="5181840" cy="3581640"/>
            </a:xfrm>
            <a:custGeom>
              <a:avLst/>
              <a:gdLst/>
              <a:ahLst/>
              <a:rect l="0" t="0" r="r" b="b"/>
              <a:pathLst>
                <a:path fill="none" w="14394" h="9949">
                  <a:moveTo>
                    <a:pt x="1693" y="0"/>
                  </a:moveTo>
                  <a:lnTo>
                    <a:pt x="0" y="0"/>
                  </a:lnTo>
                  <a:lnTo>
                    <a:pt x="0" y="3175"/>
                  </a:lnTo>
                  <a:lnTo>
                    <a:pt x="1481" y="3175"/>
                  </a:lnTo>
                  <a:lnTo>
                    <a:pt x="7409" y="9949"/>
                  </a:lnTo>
                  <a:lnTo>
                    <a:pt x="14394" y="9949"/>
                  </a:lnTo>
                </a:path>
              </a:pathLst>
            </a:custGeom>
            <a:ln w="101520">
              <a:solidFill>
                <a:srgbClr val="fc0128"/>
              </a:solidFill>
              <a:round/>
              <a:tailEnd len="med" type="triangle" w="med"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4038480"/>
              <a:ext cx="7239240" cy="1905480"/>
            </a:xfrm>
            <a:custGeom>
              <a:avLst/>
              <a:gdLst/>
              <a:ahLst/>
              <a:rect l="0" t="0" r="r" b="b"/>
              <a:pathLst>
                <a:path fill="none" w="20109" h="5293">
                  <a:moveTo>
                    <a:pt x="0" y="5293"/>
                  </a:moveTo>
                  <a:lnTo>
                    <a:pt x="6985" y="5293"/>
                  </a:lnTo>
                  <a:lnTo>
                    <a:pt x="12912" y="0"/>
                  </a:lnTo>
                  <a:lnTo>
                    <a:pt x="20109" y="0"/>
                  </a:lnTo>
                </a:path>
              </a:pathLst>
            </a:custGeom>
            <a:ln w="101520">
              <a:solidFill>
                <a:srgbClr val="ffffff"/>
              </a:solidFill>
              <a:round/>
              <a:tailEnd len="med" type="triangle" w="med"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3733920"/>
              <a:ext cx="7239240" cy="914760"/>
            </a:xfrm>
            <a:custGeom>
              <a:avLst/>
              <a:gdLst/>
              <a:ahLst/>
              <a:rect l="0" t="0" r="r" b="b"/>
              <a:pathLst>
                <a:path fill="none" w="20109" h="2541">
                  <a:moveTo>
                    <a:pt x="0" y="0"/>
                  </a:moveTo>
                  <a:lnTo>
                    <a:pt x="6985" y="0"/>
                  </a:lnTo>
                  <a:lnTo>
                    <a:pt x="12912" y="2541"/>
                  </a:lnTo>
                  <a:lnTo>
                    <a:pt x="20109" y="2541"/>
                  </a:lnTo>
                </a:path>
              </a:pathLst>
            </a:custGeom>
            <a:ln w="101520">
              <a:solidFill>
                <a:srgbClr val="0000ff"/>
              </a:solidFill>
              <a:round/>
              <a:tailEnd len="med" type="triangle" w="med"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2280" y="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CP/IP with Cell Switch Ro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6440" y="974880"/>
            <a:ext cx="8871120" cy="5388120"/>
            <a:chOff x="136440" y="974880"/>
            <a:chExt cx="8871120" cy="5388120"/>
          </a:xfrm>
        </p:grpSpPr>
        <p:sp>
          <p:nvSpPr>
            <p:cNvPr id="210" name=""/>
            <p:cNvSpPr/>
            <p:nvPr/>
          </p:nvSpPr>
          <p:spPr>
            <a:xfrm>
              <a:off x="533520" y="487692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520" y="457200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136440" y="2651040"/>
              <a:ext cx="1022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ost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077320" y="2438280"/>
              <a:ext cx="685800" cy="533520"/>
              <a:chOff x="8077320" y="2438280"/>
              <a:chExt cx="685800" cy="533520"/>
            </a:xfrm>
          </p:grpSpPr>
          <p:sp>
            <p:nvSpPr>
              <p:cNvPr id="214" name=""/>
              <p:cNvSpPr/>
              <p:nvPr/>
            </p:nvSpPr>
            <p:spPr>
              <a:xfrm>
                <a:off x="8077320" y="2438280"/>
                <a:ext cx="457200" cy="3729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134200" y="2492280"/>
                <a:ext cx="343080" cy="26676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34200" y="2811600"/>
                <a:ext cx="343080" cy="5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77320" y="2865600"/>
                <a:ext cx="457200" cy="1062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591400" y="2438280"/>
                <a:ext cx="171360" cy="5335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648640" y="2492280"/>
                <a:ext cx="114480" cy="5256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 txBox="1"/>
            <p:nvPr/>
          </p:nvSpPr>
          <p:spPr>
            <a:xfrm>
              <a:off x="2727360" y="3459240"/>
              <a:ext cx="1419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ell Swit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7985160" y="2879640"/>
              <a:ext cx="1022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ost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04920" y="3048120"/>
              <a:ext cx="762120" cy="609480"/>
              <a:chOff x="304920" y="3048120"/>
              <a:chExt cx="762120" cy="609480"/>
            </a:xfrm>
          </p:grpSpPr>
          <p:sp>
            <p:nvSpPr>
              <p:cNvPr id="223" name=""/>
              <p:cNvSpPr/>
              <p:nvPr/>
            </p:nvSpPr>
            <p:spPr>
              <a:xfrm>
                <a:off x="304920" y="3048120"/>
                <a:ext cx="507960" cy="428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8280" y="3110040"/>
                <a:ext cx="380880" cy="30492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8280" y="3476520"/>
                <a:ext cx="380880" cy="572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4920" y="3533760"/>
                <a:ext cx="507960" cy="1238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240" y="3048120"/>
                <a:ext cx="190440" cy="6094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939960" y="3110040"/>
                <a:ext cx="127080" cy="6192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971800" y="2819520"/>
              <a:ext cx="914400" cy="609480"/>
              <a:chOff x="2971800" y="2819520"/>
              <a:chExt cx="914400" cy="609480"/>
            </a:xfrm>
          </p:grpSpPr>
          <p:sp>
            <p:nvSpPr>
              <p:cNvPr id="230" name=""/>
              <p:cNvSpPr/>
              <p:nvPr/>
            </p:nvSpPr>
            <p:spPr>
              <a:xfrm>
                <a:off x="2971800" y="2819520"/>
                <a:ext cx="914400" cy="609480"/>
              </a:xfrm>
              <a:prstGeom prst="rect">
                <a:avLst/>
              </a:prstGeom>
              <a:solidFill>
                <a:srgbClr val="fe8ddc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3019320" y="2860560"/>
                <a:ext cx="819000" cy="284040"/>
                <a:chOff x="3019320" y="2860560"/>
                <a:chExt cx="819000" cy="2840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019320" y="2860560"/>
                  <a:ext cx="819000" cy="2840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057480" y="3067200"/>
                  <a:ext cx="743040" cy="5256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057480" y="2987640"/>
                  <a:ext cx="7430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057480" y="288612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166920" y="2886120"/>
                  <a:ext cx="7632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281400" y="288612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392640" y="288612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503520" y="288612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614760" y="2886120"/>
                  <a:ext cx="7632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727440" y="288612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3019320" y="3184560"/>
                <a:ext cx="819000" cy="2030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019320" y="3184560"/>
                <a:ext cx="81936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19320" y="3184560"/>
                <a:ext cx="81936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62120" y="2133720"/>
              <a:ext cx="838080" cy="304920"/>
              <a:chOff x="762120" y="2133720"/>
              <a:chExt cx="838080" cy="304920"/>
            </a:xfrm>
          </p:grpSpPr>
          <p:sp>
            <p:nvSpPr>
              <p:cNvPr id="246" name=""/>
              <p:cNvSpPr/>
              <p:nvPr/>
            </p:nvSpPr>
            <p:spPr>
              <a:xfrm>
                <a:off x="762120" y="2133720"/>
                <a:ext cx="83808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0280" y="2354400"/>
                <a:ext cx="762120" cy="57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00280" y="2271600"/>
                <a:ext cx="762120" cy="554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00280" y="2160720"/>
                <a:ext cx="745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912960" y="2160720"/>
                <a:ext cx="7776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30320" y="2160720"/>
                <a:ext cx="745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143000" y="2160720"/>
                <a:ext cx="763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57480" y="2160720"/>
                <a:ext cx="745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71600" y="2160720"/>
                <a:ext cx="7776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486080" y="2160720"/>
                <a:ext cx="763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295280" y="2514600"/>
              <a:ext cx="1523880" cy="1219320"/>
              <a:chOff x="1295280" y="2514600"/>
              <a:chExt cx="1523880" cy="1219320"/>
            </a:xfrm>
          </p:grpSpPr>
          <p:sp>
            <p:nvSpPr>
              <p:cNvPr id="257" name=""/>
              <p:cNvSpPr/>
              <p:nvPr/>
            </p:nvSpPr>
            <p:spPr>
              <a:xfrm>
                <a:off x="1295280" y="2514600"/>
                <a:ext cx="1523880" cy="12193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447920" y="2895480"/>
                <a:ext cx="304920" cy="304920"/>
                <a:chOff x="1447920" y="2895480"/>
                <a:chExt cx="304920" cy="3049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447920" y="2895480"/>
                  <a:ext cx="304920" cy="3049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447920" y="2895480"/>
                  <a:ext cx="304560" cy="30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1447920" y="2895480"/>
                  <a:ext cx="304560" cy="30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2286000" y="2971800"/>
                <a:ext cx="304920" cy="304920"/>
                <a:chOff x="2286000" y="2971800"/>
                <a:chExt cx="304920" cy="304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286000" y="2971800"/>
                  <a:ext cx="304920" cy="3049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286000" y="2971800"/>
                  <a:ext cx="304920" cy="30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2286000" y="2971800"/>
                  <a:ext cx="304920" cy="30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905120" y="2590920"/>
                <a:ext cx="304920" cy="304920"/>
                <a:chOff x="1905120" y="2590920"/>
                <a:chExt cx="304920" cy="3049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905120" y="2590920"/>
                  <a:ext cx="304920" cy="3049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905120" y="2590920"/>
                  <a:ext cx="304560" cy="304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1905120" y="2590920"/>
                  <a:ext cx="304560" cy="304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828800" y="3352680"/>
                <a:ext cx="304920" cy="304920"/>
                <a:chOff x="1828800" y="3352680"/>
                <a:chExt cx="304920" cy="3049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828800" y="3352680"/>
                  <a:ext cx="304920" cy="3049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828800" y="3352680"/>
                  <a:ext cx="304920" cy="30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1828800" y="3352680"/>
                  <a:ext cx="304920" cy="30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V="1">
                <a:off x="1600200" y="2743200"/>
                <a:ext cx="304920" cy="1522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600200" y="3200400"/>
                <a:ext cx="228600" cy="3049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09680" y="2743200"/>
                <a:ext cx="228600" cy="22860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52480" y="3048120"/>
                <a:ext cx="533520" cy="7596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133720" y="3276720"/>
                <a:ext cx="304560" cy="22860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219320" y="1371600"/>
              <a:ext cx="1295280" cy="45720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432080" y="1355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FD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4920" y="1676520"/>
              <a:ext cx="761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160020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20" y="160020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2120" y="1676520"/>
              <a:ext cx="305280" cy="457560"/>
            </a:xfrm>
            <a:custGeom>
              <a:avLst/>
              <a:gdLst/>
              <a:ahLst/>
              <a:rect l="0" t="0" r="r" b="b"/>
              <a:pathLst>
                <a:path fill="none" w="848" h="1271">
                  <a:moveTo>
                    <a:pt x="0" y="0"/>
                  </a:moveTo>
                  <a:lnTo>
                    <a:pt x="0" y="635"/>
                  </a:lnTo>
                  <a:lnTo>
                    <a:pt x="635" y="635"/>
                  </a:lnTo>
                  <a:lnTo>
                    <a:pt x="635" y="1271"/>
                  </a:lnTo>
                  <a:lnTo>
                    <a:pt x="848" y="105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295280" y="1752480"/>
              <a:ext cx="152640" cy="381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19320" y="2438280"/>
              <a:ext cx="228600" cy="609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6680" y="106668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05120" y="99072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6680" y="99072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47920" y="106668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0920" y="3124080"/>
              <a:ext cx="380880" cy="1526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1120" y="3124080"/>
              <a:ext cx="144792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1981080"/>
              <a:ext cx="144792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486400" y="2209680"/>
              <a:ext cx="914400" cy="609480"/>
              <a:chOff x="5486400" y="2209680"/>
              <a:chExt cx="914400" cy="609480"/>
            </a:xfrm>
          </p:grpSpPr>
          <p:sp>
            <p:nvSpPr>
              <p:cNvPr id="295" name=""/>
              <p:cNvSpPr/>
              <p:nvPr/>
            </p:nvSpPr>
            <p:spPr>
              <a:xfrm>
                <a:off x="5486400" y="2209680"/>
                <a:ext cx="914400" cy="609480"/>
              </a:xfrm>
              <a:prstGeom prst="rect">
                <a:avLst/>
              </a:prstGeom>
              <a:solidFill>
                <a:srgbClr val="fe8ddc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533920" y="2251080"/>
                <a:ext cx="819000" cy="284040"/>
                <a:chOff x="5533920" y="2251080"/>
                <a:chExt cx="819000" cy="2840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533920" y="2251080"/>
                  <a:ext cx="819000" cy="2840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572080" y="2457360"/>
                  <a:ext cx="743040" cy="5256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572080" y="2378160"/>
                  <a:ext cx="743040" cy="540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572080" y="227664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681520" y="2276640"/>
                  <a:ext cx="7632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796000" y="227664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07240" y="227664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018120" y="227664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129360" y="2276640"/>
                  <a:ext cx="7632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242040" y="2276640"/>
                  <a:ext cx="73080" cy="7632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5533920" y="2575080"/>
                <a:ext cx="819000" cy="2030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5533920" y="2575080"/>
                <a:ext cx="81936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33920" y="2575080"/>
                <a:ext cx="81936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6553080" y="2971800"/>
              <a:ext cx="152388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53080" y="1676520"/>
              <a:ext cx="152388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010280" y="990720"/>
              <a:ext cx="762120" cy="457200"/>
              <a:chOff x="7010280" y="990720"/>
              <a:chExt cx="762120" cy="457200"/>
            </a:xfrm>
          </p:grpSpPr>
          <p:sp>
            <p:nvSpPr>
              <p:cNvPr id="313" name=""/>
              <p:cNvSpPr/>
              <p:nvPr/>
            </p:nvSpPr>
            <p:spPr>
              <a:xfrm>
                <a:off x="7010280" y="990720"/>
                <a:ext cx="762120" cy="457200"/>
              </a:xfrm>
              <a:prstGeom prst="rect">
                <a:avLst/>
              </a:prstGeom>
              <a:solidFill>
                <a:srgbClr val="fe8ddc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7050240" y="1020600"/>
                <a:ext cx="682560" cy="214200"/>
                <a:chOff x="7050240" y="1020600"/>
                <a:chExt cx="682560" cy="2142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050240" y="1020600"/>
                  <a:ext cx="682560" cy="2142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081920" y="1176480"/>
                  <a:ext cx="619200" cy="396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081920" y="1116000"/>
                  <a:ext cx="619200" cy="4140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081920" y="1039680"/>
                  <a:ext cx="60480" cy="5724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74080" y="1039680"/>
                  <a:ext cx="63360" cy="5724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269120" y="1039680"/>
                  <a:ext cx="60480" cy="5724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361280" y="1039680"/>
                  <a:ext cx="60480" cy="5724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453440" y="1039680"/>
                  <a:ext cx="61920" cy="5724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547040" y="1039680"/>
                  <a:ext cx="63360" cy="5724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640640" y="1039680"/>
                  <a:ext cx="60480" cy="57240"/>
                </a:xfrm>
                <a:prstGeom prst="rect">
                  <a:avLst/>
                </a:prstGeom>
                <a:solidFill>
                  <a:srgbClr val="006633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7050240" y="1263600"/>
                <a:ext cx="682560" cy="1522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050240" y="1263600"/>
                <a:ext cx="68256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050240" y="1263600"/>
                <a:ext cx="68256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4724280" y="1219320"/>
              <a:ext cx="144792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429000" y="1447920"/>
              <a:ext cx="838080" cy="304920"/>
              <a:chOff x="3429000" y="1447920"/>
              <a:chExt cx="838080" cy="304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429000" y="1447920"/>
                <a:ext cx="83808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467160" y="1668600"/>
                <a:ext cx="762120" cy="57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67160" y="1585800"/>
                <a:ext cx="762120" cy="554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467160" y="1474920"/>
                <a:ext cx="745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79840" y="1474920"/>
                <a:ext cx="7776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97200" y="1474920"/>
                <a:ext cx="745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09880" y="1474920"/>
                <a:ext cx="763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24360" y="1474920"/>
                <a:ext cx="745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38480" y="1474920"/>
                <a:ext cx="7776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2960" y="1474920"/>
                <a:ext cx="76320" cy="84240"/>
              </a:xfrm>
              <a:prstGeom prst="rect">
                <a:avLst/>
              </a:prstGeom>
              <a:solidFill>
                <a:srgbClr val="00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09680" y="990720"/>
              <a:ext cx="1295280" cy="45720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581280" y="2438280"/>
              <a:ext cx="304920" cy="3812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6200" y="3276720"/>
              <a:ext cx="304920" cy="759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2880" y="2286000"/>
              <a:ext cx="533520" cy="152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486400" y="2819520"/>
              <a:ext cx="22860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5562720" y="1676520"/>
              <a:ext cx="228600" cy="5331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00800" y="2209680"/>
              <a:ext cx="457200" cy="3812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819520"/>
              <a:ext cx="457200" cy="304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066680" y="3124080"/>
              <a:ext cx="381240" cy="1526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772400" y="2743200"/>
              <a:ext cx="304920" cy="3049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3920" y="1752480"/>
              <a:ext cx="75960" cy="304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2346480" y="97488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FD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33920" y="114300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2000" y="1066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3920" y="1066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962520" y="11430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24080" y="1447920"/>
              <a:ext cx="304920" cy="759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91520" y="1447920"/>
              <a:ext cx="75960" cy="228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019920" y="1143000"/>
              <a:ext cx="990360" cy="152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441360" y="4548240"/>
              <a:ext cx="78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P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517680" y="48531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920" y="4572000"/>
              <a:ext cx="228600" cy="60948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171360" y="4602240"/>
              <a:ext cx="45864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4920" y="4267080"/>
              <a:ext cx="8380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17680" y="424332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920" y="3962520"/>
              <a:ext cx="8380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441360" y="39387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4920" y="5181480"/>
              <a:ext cx="8380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365040" y="5157720"/>
              <a:ext cx="7174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4920" y="5486400"/>
              <a:ext cx="8380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36504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66880" y="487692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66880" y="457200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575080" y="4548240"/>
              <a:ext cx="78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P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2651040" y="48531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66880" y="426708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2651040" y="424332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518148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2575080" y="5157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66880" y="548640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265104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76720" y="487692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76720" y="457200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184560" y="4548240"/>
              <a:ext cx="78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P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3260880" y="48531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76720" y="426708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489480" y="424332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76720" y="518148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3184560" y="5157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548640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26088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34120" y="487692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4120" y="457200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5241960" y="4548240"/>
              <a:ext cx="78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P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5318280" y="48531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426708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5318280" y="424332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34120" y="518148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5241960" y="5157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4120" y="548640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531828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43600" y="487692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43600" y="457200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851440" y="4548240"/>
              <a:ext cx="78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P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5927760" y="48531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43600" y="4267080"/>
              <a:ext cx="609480" cy="30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6156360" y="424332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43600" y="518148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5851440" y="5157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3600" y="548640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592776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29600" y="487692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29600" y="4572000"/>
              <a:ext cx="6094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8137440" y="4548240"/>
              <a:ext cx="78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P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8213760" y="48531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01000" y="4572000"/>
              <a:ext cx="228600" cy="60948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01000" y="4267080"/>
              <a:ext cx="8380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8213760" y="424332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1000" y="3962520"/>
              <a:ext cx="8380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8137440" y="39387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01000" y="5181480"/>
              <a:ext cx="8380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8061480" y="5157720"/>
              <a:ext cx="7174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01000" y="5486400"/>
              <a:ext cx="838080" cy="3049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806148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867800" y="4602240"/>
              <a:ext cx="45864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71600" y="5638680"/>
              <a:ext cx="11430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38480" y="5638680"/>
              <a:ext cx="11430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03920" y="5638680"/>
              <a:ext cx="11430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1355760" y="531036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n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4022640" y="531036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n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765840" y="531036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n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3718080" y="203364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n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4784760" y="127152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n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6689880" y="180504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n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6765840" y="325296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n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4327560" y="332892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n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1812960" y="363384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TM n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289080" y="5996160"/>
              <a:ext cx="812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os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2422440" y="5996160"/>
              <a:ext cx="2038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ell Switch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5013360" y="5996160"/>
              <a:ext cx="2038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ell Switch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7908840" y="5996160"/>
              <a:ext cx="812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os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0" y="1371600"/>
            <a:ext cx="9142200" cy="2492280"/>
            <a:chOff x="0" y="1371600"/>
            <a:chExt cx="9142200" cy="249228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6878520" y="1371600"/>
              <a:ext cx="226368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0" y="2057400"/>
              <a:ext cx="2181240" cy="180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4" name=""/>
          <p:cNvGrpSpPr/>
          <p:nvPr/>
        </p:nvGrpSpPr>
        <p:grpSpPr>
          <a:xfrm>
            <a:off x="609480" y="2743200"/>
            <a:ext cx="7849080" cy="3276720"/>
            <a:chOff x="609480" y="2743200"/>
            <a:chExt cx="7849080" cy="3276720"/>
          </a:xfrm>
        </p:grpSpPr>
        <p:sp>
          <p:nvSpPr>
            <p:cNvPr id="445" name=""/>
            <p:cNvSpPr/>
            <p:nvPr/>
          </p:nvSpPr>
          <p:spPr>
            <a:xfrm>
              <a:off x="609480" y="3809880"/>
              <a:ext cx="7849080" cy="2210040"/>
            </a:xfrm>
            <a:custGeom>
              <a:avLst/>
              <a:gdLst/>
              <a:ahLst/>
              <a:rect l="0" t="0" r="r" b="b"/>
              <a:pathLst>
                <a:path fill="none" w="21803" h="6139">
                  <a:moveTo>
                    <a:pt x="21803" y="0"/>
                  </a:moveTo>
                  <a:lnTo>
                    <a:pt x="21803" y="6139"/>
                  </a:lnTo>
                  <a:lnTo>
                    <a:pt x="15664" y="6139"/>
                  </a:lnTo>
                  <a:lnTo>
                    <a:pt x="15664" y="4234"/>
                  </a:lnTo>
                  <a:lnTo>
                    <a:pt x="14182" y="4234"/>
                  </a:lnTo>
                  <a:lnTo>
                    <a:pt x="14182" y="6139"/>
                  </a:lnTo>
                  <a:lnTo>
                    <a:pt x="8256" y="6139"/>
                  </a:lnTo>
                  <a:lnTo>
                    <a:pt x="8256" y="4234"/>
                  </a:lnTo>
                  <a:lnTo>
                    <a:pt x="6562" y="4234"/>
                  </a:lnTo>
                  <a:lnTo>
                    <a:pt x="6562" y="6139"/>
                  </a:lnTo>
                  <a:lnTo>
                    <a:pt x="0" y="6139"/>
                  </a:lnTo>
                  <a:lnTo>
                    <a:pt x="0" y="0"/>
                  </a:lnTo>
                </a:path>
              </a:pathLst>
            </a:custGeom>
            <a:ln w="76320">
              <a:solidFill>
                <a:srgbClr val="fc0128"/>
              </a:solidFill>
              <a:round/>
              <a:headEnd len="med" type="triangle" w="med"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43000" y="2743200"/>
              <a:ext cx="7010640" cy="686160"/>
            </a:xfrm>
            <a:custGeom>
              <a:avLst/>
              <a:gdLst/>
              <a:ahLst/>
              <a:rect l="0" t="0" r="r" b="b"/>
              <a:pathLst>
                <a:path fill="none" w="19474" h="1906">
                  <a:moveTo>
                    <a:pt x="19474" y="423"/>
                  </a:moveTo>
                  <a:lnTo>
                    <a:pt x="18839" y="1271"/>
                  </a:lnTo>
                  <a:lnTo>
                    <a:pt x="16511" y="1271"/>
                  </a:lnTo>
                  <a:lnTo>
                    <a:pt x="14817" y="211"/>
                  </a:lnTo>
                  <a:lnTo>
                    <a:pt x="13547" y="0"/>
                  </a:lnTo>
                  <a:lnTo>
                    <a:pt x="12277" y="423"/>
                  </a:lnTo>
                  <a:lnTo>
                    <a:pt x="11642" y="1482"/>
                  </a:lnTo>
                  <a:lnTo>
                    <a:pt x="9313" y="1482"/>
                  </a:lnTo>
                  <a:lnTo>
                    <a:pt x="7408" y="1482"/>
                  </a:lnTo>
                  <a:lnTo>
                    <a:pt x="4868" y="1482"/>
                  </a:lnTo>
                  <a:lnTo>
                    <a:pt x="2328" y="1059"/>
                  </a:lnTo>
                  <a:lnTo>
                    <a:pt x="1481" y="1059"/>
                  </a:lnTo>
                  <a:lnTo>
                    <a:pt x="0" y="1906"/>
                  </a:lnTo>
                </a:path>
              </a:pathLst>
            </a:custGeom>
            <a:ln w="76320">
              <a:solidFill>
                <a:srgbClr val="fc0128"/>
              </a:solidFill>
              <a:round/>
              <a:headEnd len="med" type="triangle" w="med"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CSR Theoretical Through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57200" y="2057400"/>
            <a:ext cx="8112240" cy="3489480"/>
            <a:chOff x="457200" y="2057400"/>
            <a:chExt cx="8112240" cy="3489480"/>
          </a:xfrm>
        </p:grpSpPr>
        <p:sp>
          <p:nvSpPr>
            <p:cNvPr id="449" name=""/>
            <p:cNvSpPr/>
            <p:nvPr/>
          </p:nvSpPr>
          <p:spPr>
            <a:xfrm>
              <a:off x="457200" y="2057400"/>
              <a:ext cx="8077320" cy="3048120"/>
            </a:xfrm>
            <a:prstGeom prst="rect">
              <a:avLst/>
            </a:prstGeom>
            <a:noFill/>
            <a:ln w="38160">
              <a:solidFill>
                <a:srgbClr val="fafd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57200" y="2057400"/>
              <a:ext cx="8112240" cy="3489480"/>
              <a:chOff x="457200" y="2057400"/>
              <a:chExt cx="8112240" cy="3489480"/>
            </a:xfrm>
          </p:grpSpPr>
          <p:sp>
            <p:nvSpPr>
              <p:cNvPr id="451" name=""/>
              <p:cNvSpPr txBox="1"/>
              <p:nvPr/>
            </p:nvSpPr>
            <p:spPr>
              <a:xfrm>
                <a:off x="4175280" y="2117880"/>
                <a:ext cx="34704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SR System Throughpu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457200" y="3429000"/>
                <a:ext cx="80773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257800" y="2971800"/>
                <a:ext cx="32767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 txBox="1"/>
              <p:nvPr/>
            </p:nvSpPr>
            <p:spPr>
              <a:xfrm>
                <a:off x="669960" y="3565440"/>
                <a:ext cx="22669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C3-I/F 8 por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 txBox="1"/>
              <p:nvPr/>
            </p:nvSpPr>
            <p:spPr>
              <a:xfrm>
                <a:off x="593640" y="4022640"/>
                <a:ext cx="2495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C3-I/F 16 por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593640" y="4556160"/>
                <a:ext cx="2495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C12-I/F 8 por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3413160" y="2727360"/>
                <a:ext cx="14367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Bit 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>
                <a:off x="5775480" y="2575080"/>
                <a:ext cx="1851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acket 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 txBox="1"/>
              <p:nvPr/>
            </p:nvSpPr>
            <p:spPr>
              <a:xfrm>
                <a:off x="5318280" y="2955960"/>
                <a:ext cx="15746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64B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packe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6842160" y="2955960"/>
                <a:ext cx="17272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00B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packe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57200" y="3505320"/>
                <a:ext cx="80773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352680" y="2057400"/>
                <a:ext cx="0" cy="30481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76720" y="2057400"/>
                <a:ext cx="0" cy="30481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57200" y="4038480"/>
                <a:ext cx="80773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457200" y="4495680"/>
                <a:ext cx="80773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352680" y="2590920"/>
                <a:ext cx="51818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257800" y="2590920"/>
                <a:ext cx="0" cy="251460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858000" y="2971800"/>
                <a:ext cx="0" cy="2133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533520" y="2133720"/>
                <a:ext cx="2743200" cy="12952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>
                <a:off x="3490920" y="5089680"/>
                <a:ext cx="4933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*) MPPS; Million Packets Per Secon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3641760" y="3565440"/>
            <a:ext cx="4748400" cy="1447920"/>
            <a:chOff x="3641760" y="3565440"/>
            <a:chExt cx="4748400" cy="1447920"/>
          </a:xfrm>
        </p:grpSpPr>
        <p:sp>
          <p:nvSpPr>
            <p:cNvPr id="472" name=""/>
            <p:cNvSpPr txBox="1"/>
            <p:nvPr/>
          </p:nvSpPr>
          <p:spPr>
            <a:xfrm>
              <a:off x="3641760" y="3565440"/>
              <a:ext cx="1336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1.2 Gb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3641760" y="4022640"/>
              <a:ext cx="1336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2.4 Gb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3641760" y="4556160"/>
              <a:ext cx="1336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4.8 Gb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5318280" y="3565440"/>
              <a:ext cx="1471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2.4 M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5318280" y="4022640"/>
              <a:ext cx="1471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4.8 M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5318280" y="4556160"/>
              <a:ext cx="1471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9.6 M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6918480" y="3565440"/>
              <a:ext cx="1471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1.5 M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6918480" y="4022640"/>
              <a:ext cx="1471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3.1 M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6918480" y="4556160"/>
              <a:ext cx="1471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6.1 M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685800" y="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CSR Operation Principl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- Flow Driven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76120" y="1600200"/>
            <a:ext cx="8169480" cy="4448160"/>
            <a:chOff x="276120" y="1600200"/>
            <a:chExt cx="8169480" cy="4448160"/>
          </a:xfrm>
        </p:grpSpPr>
        <p:sp>
          <p:nvSpPr>
            <p:cNvPr id="483" name=""/>
            <p:cNvSpPr txBox="1"/>
            <p:nvPr/>
          </p:nvSpPr>
          <p:spPr>
            <a:xfrm>
              <a:off x="412920" y="1660680"/>
              <a:ext cx="1208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M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2013120" y="1660680"/>
              <a:ext cx="1649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W Eng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3689280" y="1660680"/>
              <a:ext cx="157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5289480" y="1660680"/>
              <a:ext cx="1487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Life-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6737400" y="1660680"/>
              <a:ext cx="1708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412920" y="2117880"/>
              <a:ext cx="135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ut-thr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412920" y="26510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op-H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2394000" y="21178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AT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2241720" y="2651040"/>
              <a:ext cx="1463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3689280" y="2117880"/>
              <a:ext cx="152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3765600" y="2651040"/>
              <a:ext cx="135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5442120" y="21178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Lo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5442120" y="2651040"/>
              <a:ext cx="912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Sh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6813720" y="2117880"/>
              <a:ext cx="1512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net,we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6737400" y="2651040"/>
              <a:ext cx="1631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DNS qu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120" y="2133720"/>
              <a:ext cx="8153640" cy="0"/>
            </a:xfrm>
            <a:prstGeom prst="line">
              <a:avLst/>
            </a:prstGeom>
            <a:ln w="38160">
              <a:solidFill>
                <a:srgbClr val="cc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120" y="2590920"/>
              <a:ext cx="8153640" cy="0"/>
            </a:xfrm>
            <a:prstGeom prst="line">
              <a:avLst/>
            </a:prstGeom>
            <a:ln w="38160">
              <a:solidFill>
                <a:srgbClr val="cc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28960" y="1600200"/>
              <a:ext cx="0" cy="1523880"/>
            </a:xfrm>
            <a:prstGeom prst="line">
              <a:avLst/>
            </a:prstGeom>
            <a:ln w="38160">
              <a:solidFill>
                <a:srgbClr val="cc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52640" y="1600200"/>
              <a:ext cx="0" cy="1523880"/>
            </a:xfrm>
            <a:prstGeom prst="line">
              <a:avLst/>
            </a:prstGeom>
            <a:ln w="38160">
              <a:solidFill>
                <a:srgbClr val="cc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05120" y="1600200"/>
              <a:ext cx="0" cy="1523880"/>
            </a:xfrm>
            <a:prstGeom prst="line">
              <a:avLst/>
            </a:prstGeom>
            <a:ln w="38160">
              <a:solidFill>
                <a:srgbClr val="cc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05320" y="1600200"/>
              <a:ext cx="0" cy="1523880"/>
            </a:xfrm>
            <a:prstGeom prst="line">
              <a:avLst/>
            </a:prstGeom>
            <a:ln w="38160">
              <a:solidFill>
                <a:srgbClr val="cc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53240" y="1600200"/>
              <a:ext cx="0" cy="1523880"/>
            </a:xfrm>
            <a:prstGeom prst="line">
              <a:avLst/>
            </a:prstGeom>
            <a:ln w="38160">
              <a:solidFill>
                <a:srgbClr val="cc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76120" y="1600200"/>
              <a:ext cx="8153280" cy="4448160"/>
              <a:chOff x="276120" y="1600200"/>
              <a:chExt cx="8153280" cy="4448160"/>
            </a:xfrm>
          </p:grpSpPr>
          <p:sp>
            <p:nvSpPr>
              <p:cNvPr id="506" name=""/>
              <p:cNvSpPr/>
              <p:nvPr/>
            </p:nvSpPr>
            <p:spPr>
              <a:xfrm>
                <a:off x="276120" y="1600200"/>
                <a:ext cx="8153280" cy="1523880"/>
              </a:xfrm>
              <a:prstGeom prst="rect">
                <a:avLst/>
              </a:prstGeom>
              <a:noFill/>
              <a:ln w="38160">
                <a:solidFill>
                  <a:srgbClr val="ccff99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415800" y="3367080"/>
                <a:ext cx="7399440" cy="137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 Cut-thru Path Establishment/Release Trigg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 Establishment ; TCP/UDP Port-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     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1" lang="en-US" sz="28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elease ;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ctivity of Packet Flo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336600" y="4861080"/>
                <a:ext cx="7870680" cy="11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*) Cut-thru path is managed by FANP(Flow Attribu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otification Protocol).   Management (establish/release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f cut-thru path is each CSR’s local decision.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ƒ}ƒCƒNƒƒ\ƒtƒgŠ”Ž®‰ïŽÐ</dc:creator>
  <dc:description/>
  <dc:language>en-US</dc:language>
  <cp:lastModifiedBy>ƒ}ƒCƒNƒƒ\ƒtƒgŠ”Ž®‰ïŽÐ</cp:lastModifiedBy>
  <cp:revision>0</cp:revision>
  <dc:subject/>
  <dc:title>½×²ÄÞ À²ÄÙ‚È‚µ</dc:title>
</cp:coreProperties>
</file>