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03B5150-7792-4457-AD47-7665ADA44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371600" y="768240"/>
            <a:ext cx="5029200" cy="3767400"/>
          </a:xfrm>
          <a:prstGeom prst="rect">
            <a:avLst/>
          </a:prstGeom>
          <a:ln w="0">
            <a:noFill/>
          </a:ln>
        </p:spPr>
      </p:sp>
      <p:sp>
        <p:nvSpPr>
          <p:cNvPr id="2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additional efficiencies can be gained by using a multi-point-to-point connection for all the traffic destined for a particular edge device/destin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with lots of random traffic patterns (a corporate intranet backbone, or the Internet backbone) every edge forwarder talks to every other.  This means that for a network of N edge devices, the VC requirement increases by N x N.  In large nets, this very quickly becomes a very large number of VCs.  Our LIJ-MPP solution solves this problem by reducing the VC count to 1 MPP VC per edge device.  For details, see below.</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PP connection is essentially a VC ‘funnel” in which all sources sending data to a given destination share a single VC i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ources autonomously join the funnel, or tree, via the standard “leaf initiated join” which was standardized for doing efficient multicasts.  In this case, the flow of information is reversed.  The leaves join the tree to send information to a common point, rather than to receive  from that poi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For this to work, cells from different VCs must not be intermixed at the merge points, or data corruption will resul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 </a:t>
            </a:r>
            <a:r>
              <a:rPr b="0" i="1" lang="en-US" sz="1200" spc="-1" strike="noStrike">
                <a:solidFill>
                  <a:srgbClr val="000000"/>
                </a:solidFill>
                <a:latin typeface="Times New Roman"/>
                <a:ea typeface="Times New Roman"/>
              </a:rPr>
              <a:t>ForeThought/ForeRunner</a:t>
            </a:r>
            <a:r>
              <a:rPr b="0" lang="en-US" sz="1200" spc="-1" strike="noStrike">
                <a:solidFill>
                  <a:srgbClr val="000000"/>
                </a:solidFill>
                <a:latin typeface="Times New Roman"/>
                <a:ea typeface="Times New Roman"/>
              </a:rPr>
              <a:t> network, this re-assembly will occur in hardware on the netmods.  It draws on our EPD/PPD technology which manages cell that are associated with a single AAL5 PDU (pac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69800" y="428760"/>
            <a:ext cx="987480" cy="768240"/>
          </a:xfrm>
          <a:prstGeom prst="rect">
            <a:avLst/>
          </a:prstGeom>
          <a:ln w="0">
            <a:noFill/>
          </a:ln>
        </p:spPr>
      </p:pic>
      <p:sp>
        <p:nvSpPr>
          <p:cNvPr id="2" name=""/>
          <p:cNvSpPr txBox="1"/>
          <p:nvPr/>
        </p:nvSpPr>
        <p:spPr>
          <a:xfrm>
            <a:off x="3790800" y="6627960"/>
            <a:ext cx="156204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Times New Roman"/>
                <a:ea typeface="Times New Roman"/>
              </a:rPr>
              <a:t>FORE Systems Confidential</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1992240" y="861840"/>
            <a:ext cx="2444760" cy="1905120"/>
          </a:xfrm>
          <a:prstGeom prst="rect">
            <a:avLst/>
          </a:prstGeom>
          <a:ln w="0">
            <a:noFill/>
          </a:ln>
        </p:spPr>
      </p:pic>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12.wmf"/><Relationship Id="rId13" Type="http://schemas.openxmlformats.org/officeDocument/2006/relationships/image" Target="../media/image8.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6.wmf"/><Relationship Id="rId17" Type="http://schemas.openxmlformats.org/officeDocument/2006/relationships/image" Target="../media/image12.wmf"/><Relationship Id="rId18" Type="http://schemas.openxmlformats.org/officeDocument/2006/relationships/image" Target="../media/image12.wmf"/><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8.wmf"/><Relationship Id="rId13" Type="http://schemas.openxmlformats.org/officeDocument/2006/relationships/image" Target="../media/image5.wmf"/><Relationship Id="rId14" Type="http://schemas.openxmlformats.org/officeDocument/2006/relationships/image" Target="../media/image8.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8.wmf"/><Relationship Id="rId14" Type="http://schemas.openxmlformats.org/officeDocument/2006/relationships/image" Target="../media/image5.wmf"/><Relationship Id="rId15" Type="http://schemas.openxmlformats.org/officeDocument/2006/relationships/image" Target="../media/image8.wmf"/><Relationship Id="rId16" Type="http://schemas.openxmlformats.org/officeDocument/2006/relationships/image" Target="../media/image9.wmf"/><Relationship Id="rId17" Type="http://schemas.openxmlformats.org/officeDocument/2006/relationships/image" Target="../media/image10.wmf"/><Relationship Id="rId18" Type="http://schemas.openxmlformats.org/officeDocument/2006/relationships/image" Target="../media/image11.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5.wmf"/><Relationship Id="rId23" Type="http://schemas.openxmlformats.org/officeDocument/2006/relationships/image" Target="../media/image6.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6.wmf"/><Relationship Id="rId2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295280" y="3678120"/>
            <a:ext cx="7467480" cy="3292920"/>
          </a:xfrm>
          <a:prstGeom prst="rect">
            <a:avLst/>
          </a:prstGeom>
          <a:noFill/>
          <a:ln w="0">
            <a:noFill/>
          </a:ln>
        </p:spPr>
        <p:txBody>
          <a:bodyPr lIns="0" rIns="0" tIns="0" bIns="0" anchor="t">
            <a:noAutofit/>
          </a:bodyPr>
          <a:p>
            <a:pPr algn="ctr">
              <a:lnSpc>
                <a:spcPct val="85000"/>
              </a:lnSpc>
            </a:pPr>
            <a:r>
              <a:rPr b="0" lang="en-US" sz="4800" spc="-1" strike="noStrike">
                <a:solidFill>
                  <a:srgbClr val="000000"/>
                </a:solidFill>
                <a:latin typeface="Impact"/>
                <a:ea typeface="Impact"/>
              </a:rPr>
              <a:t>POP to POP Zero Hop Routing</a:t>
            </a:r>
            <a:br>
              <a:rPr sz="4800"/>
            </a:br>
            <a:br>
              <a:rPr sz="4800"/>
            </a:br>
            <a:r>
              <a:rPr b="0" lang="en-US" sz="4000" spc="-1" strike="noStrike">
                <a:solidFill>
                  <a:srgbClr val="000000"/>
                </a:solidFill>
                <a:latin typeface="Impact"/>
                <a:ea typeface="Impact"/>
              </a:rPr>
              <a:t>Vinai Sirkay</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Lou Berger</a:t>
            </a:r>
            <a:br>
              <a:rPr sz="4000"/>
            </a:br>
            <a:r>
              <a:rPr b="0" lang="en-US" sz="4000" spc="-1" strike="noStrike">
                <a:solidFill>
                  <a:srgbClr val="000000"/>
                </a:solidFill>
                <a:latin typeface="Impact"/>
                <a:ea typeface="Impact"/>
              </a:rPr>
              <a:t>John Drake</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Rob Colt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6162840" y="2471760"/>
            <a:ext cx="2895840" cy="1795680"/>
          </a:xfrm>
          <a:custGeom>
            <a:avLst/>
            <a:gdLst/>
            <a:ahLst/>
            <a:rect l="0" t="0" r="r" b="b"/>
            <a:pathLst>
              <a:path w="8044" h="4988">
                <a:moveTo>
                  <a:pt x="1273" y="1181"/>
                </a:moveTo>
                <a:lnTo>
                  <a:pt x="1348" y="1044"/>
                </a:lnTo>
                <a:lnTo>
                  <a:pt x="1448" y="907"/>
                </a:lnTo>
                <a:lnTo>
                  <a:pt x="1598" y="795"/>
                </a:lnTo>
                <a:lnTo>
                  <a:pt x="1736" y="708"/>
                </a:lnTo>
                <a:lnTo>
                  <a:pt x="1910" y="646"/>
                </a:lnTo>
                <a:lnTo>
                  <a:pt x="2123" y="584"/>
                </a:lnTo>
                <a:lnTo>
                  <a:pt x="2360" y="547"/>
                </a:lnTo>
                <a:lnTo>
                  <a:pt x="2610" y="534"/>
                </a:lnTo>
                <a:lnTo>
                  <a:pt x="2922" y="547"/>
                </a:lnTo>
                <a:lnTo>
                  <a:pt x="3184" y="559"/>
                </a:lnTo>
                <a:lnTo>
                  <a:pt x="3372" y="435"/>
                </a:lnTo>
                <a:lnTo>
                  <a:pt x="3534" y="310"/>
                </a:lnTo>
                <a:lnTo>
                  <a:pt x="3771" y="186"/>
                </a:lnTo>
                <a:lnTo>
                  <a:pt x="4047" y="87"/>
                </a:lnTo>
                <a:lnTo>
                  <a:pt x="4384" y="12"/>
                </a:lnTo>
                <a:lnTo>
                  <a:pt x="4722" y="0"/>
                </a:lnTo>
                <a:lnTo>
                  <a:pt x="5021" y="37"/>
                </a:lnTo>
                <a:lnTo>
                  <a:pt x="5359" y="124"/>
                </a:lnTo>
                <a:lnTo>
                  <a:pt x="5558" y="236"/>
                </a:lnTo>
                <a:lnTo>
                  <a:pt x="5746" y="360"/>
                </a:lnTo>
                <a:lnTo>
                  <a:pt x="5921" y="522"/>
                </a:lnTo>
                <a:lnTo>
                  <a:pt x="5996" y="684"/>
                </a:lnTo>
                <a:lnTo>
                  <a:pt x="6258" y="684"/>
                </a:lnTo>
                <a:lnTo>
                  <a:pt x="6508" y="721"/>
                </a:lnTo>
                <a:lnTo>
                  <a:pt x="6732" y="808"/>
                </a:lnTo>
                <a:lnTo>
                  <a:pt x="6882" y="932"/>
                </a:lnTo>
                <a:lnTo>
                  <a:pt x="7032" y="1106"/>
                </a:lnTo>
                <a:lnTo>
                  <a:pt x="7107" y="1256"/>
                </a:lnTo>
                <a:lnTo>
                  <a:pt x="7132" y="1392"/>
                </a:lnTo>
                <a:lnTo>
                  <a:pt x="7282" y="1417"/>
                </a:lnTo>
                <a:lnTo>
                  <a:pt x="7432" y="1467"/>
                </a:lnTo>
                <a:lnTo>
                  <a:pt x="7557" y="1529"/>
                </a:lnTo>
                <a:lnTo>
                  <a:pt x="7682" y="1604"/>
                </a:lnTo>
                <a:lnTo>
                  <a:pt x="7769" y="1666"/>
                </a:lnTo>
                <a:lnTo>
                  <a:pt x="7856" y="1753"/>
                </a:lnTo>
                <a:lnTo>
                  <a:pt x="7944" y="1865"/>
                </a:lnTo>
                <a:lnTo>
                  <a:pt x="7981" y="2002"/>
                </a:lnTo>
                <a:lnTo>
                  <a:pt x="7994" y="2101"/>
                </a:lnTo>
                <a:lnTo>
                  <a:pt x="7969" y="2213"/>
                </a:lnTo>
                <a:lnTo>
                  <a:pt x="7906" y="2338"/>
                </a:lnTo>
                <a:lnTo>
                  <a:pt x="7981" y="2475"/>
                </a:lnTo>
                <a:lnTo>
                  <a:pt x="8019" y="2600"/>
                </a:lnTo>
                <a:lnTo>
                  <a:pt x="8031" y="2737"/>
                </a:lnTo>
                <a:lnTo>
                  <a:pt x="7994" y="2911"/>
                </a:lnTo>
                <a:lnTo>
                  <a:pt x="7969" y="3010"/>
                </a:lnTo>
                <a:lnTo>
                  <a:pt x="7869" y="3135"/>
                </a:lnTo>
                <a:lnTo>
                  <a:pt x="7994" y="3309"/>
                </a:lnTo>
                <a:lnTo>
                  <a:pt x="8031" y="3408"/>
                </a:lnTo>
                <a:lnTo>
                  <a:pt x="8044" y="3570"/>
                </a:lnTo>
                <a:lnTo>
                  <a:pt x="8019" y="3719"/>
                </a:lnTo>
                <a:lnTo>
                  <a:pt x="7944" y="3893"/>
                </a:lnTo>
                <a:lnTo>
                  <a:pt x="7856" y="4005"/>
                </a:lnTo>
                <a:lnTo>
                  <a:pt x="7719" y="4130"/>
                </a:lnTo>
                <a:lnTo>
                  <a:pt x="7469" y="4242"/>
                </a:lnTo>
                <a:lnTo>
                  <a:pt x="7220" y="4279"/>
                </a:lnTo>
                <a:lnTo>
                  <a:pt x="6995" y="4254"/>
                </a:lnTo>
                <a:lnTo>
                  <a:pt x="6845" y="4192"/>
                </a:lnTo>
                <a:lnTo>
                  <a:pt x="6732" y="4304"/>
                </a:lnTo>
                <a:lnTo>
                  <a:pt x="6620" y="4403"/>
                </a:lnTo>
                <a:lnTo>
                  <a:pt x="6533" y="4466"/>
                </a:lnTo>
                <a:lnTo>
                  <a:pt x="6345" y="4540"/>
                </a:lnTo>
                <a:lnTo>
                  <a:pt x="6183" y="4602"/>
                </a:lnTo>
                <a:lnTo>
                  <a:pt x="5946" y="4640"/>
                </a:lnTo>
                <a:lnTo>
                  <a:pt x="5708" y="4627"/>
                </a:lnTo>
                <a:lnTo>
                  <a:pt x="5483" y="4577"/>
                </a:lnTo>
                <a:lnTo>
                  <a:pt x="5284" y="4478"/>
                </a:lnTo>
                <a:lnTo>
                  <a:pt x="5159" y="4652"/>
                </a:lnTo>
                <a:lnTo>
                  <a:pt x="5046" y="4739"/>
                </a:lnTo>
                <a:lnTo>
                  <a:pt x="4896" y="4826"/>
                </a:lnTo>
                <a:lnTo>
                  <a:pt x="4734" y="4888"/>
                </a:lnTo>
                <a:lnTo>
                  <a:pt x="4547" y="4913"/>
                </a:lnTo>
                <a:lnTo>
                  <a:pt x="4372" y="4913"/>
                </a:lnTo>
                <a:lnTo>
                  <a:pt x="4210" y="4888"/>
                </a:lnTo>
                <a:lnTo>
                  <a:pt x="3996" y="4801"/>
                </a:lnTo>
                <a:lnTo>
                  <a:pt x="3871" y="4714"/>
                </a:lnTo>
                <a:lnTo>
                  <a:pt x="3759" y="4826"/>
                </a:lnTo>
                <a:lnTo>
                  <a:pt x="3646" y="4888"/>
                </a:lnTo>
                <a:lnTo>
                  <a:pt x="3497" y="4938"/>
                </a:lnTo>
                <a:lnTo>
                  <a:pt x="3297" y="4988"/>
                </a:lnTo>
                <a:lnTo>
                  <a:pt x="3084" y="4975"/>
                </a:lnTo>
                <a:lnTo>
                  <a:pt x="2860" y="4926"/>
                </a:lnTo>
                <a:lnTo>
                  <a:pt x="2685" y="4851"/>
                </a:lnTo>
                <a:lnTo>
                  <a:pt x="2535" y="4714"/>
                </a:lnTo>
                <a:lnTo>
                  <a:pt x="2435" y="4577"/>
                </a:lnTo>
                <a:lnTo>
                  <a:pt x="2273" y="4627"/>
                </a:lnTo>
                <a:lnTo>
                  <a:pt x="2073" y="4652"/>
                </a:lnTo>
                <a:lnTo>
                  <a:pt x="1848" y="4652"/>
                </a:lnTo>
                <a:lnTo>
                  <a:pt x="1661" y="4577"/>
                </a:lnTo>
                <a:lnTo>
                  <a:pt x="1498" y="4490"/>
                </a:lnTo>
                <a:lnTo>
                  <a:pt x="1373" y="4403"/>
                </a:lnTo>
                <a:lnTo>
                  <a:pt x="1273" y="4267"/>
                </a:lnTo>
                <a:lnTo>
                  <a:pt x="1236" y="4130"/>
                </a:lnTo>
                <a:lnTo>
                  <a:pt x="1136" y="4167"/>
                </a:lnTo>
                <a:lnTo>
                  <a:pt x="949" y="4167"/>
                </a:lnTo>
                <a:lnTo>
                  <a:pt x="749" y="4130"/>
                </a:lnTo>
                <a:lnTo>
                  <a:pt x="537" y="4030"/>
                </a:lnTo>
                <a:lnTo>
                  <a:pt x="399" y="3906"/>
                </a:lnTo>
                <a:lnTo>
                  <a:pt x="274" y="3744"/>
                </a:lnTo>
                <a:lnTo>
                  <a:pt x="212" y="3570"/>
                </a:lnTo>
                <a:lnTo>
                  <a:pt x="174" y="3334"/>
                </a:lnTo>
                <a:lnTo>
                  <a:pt x="187" y="3172"/>
                </a:lnTo>
                <a:lnTo>
                  <a:pt x="249" y="2936"/>
                </a:lnTo>
                <a:lnTo>
                  <a:pt x="112" y="2799"/>
                </a:lnTo>
                <a:lnTo>
                  <a:pt x="37" y="2625"/>
                </a:lnTo>
                <a:lnTo>
                  <a:pt x="0" y="2437"/>
                </a:lnTo>
                <a:lnTo>
                  <a:pt x="0" y="2238"/>
                </a:lnTo>
                <a:lnTo>
                  <a:pt x="49" y="2027"/>
                </a:lnTo>
                <a:lnTo>
                  <a:pt x="137" y="1878"/>
                </a:lnTo>
                <a:lnTo>
                  <a:pt x="299" y="1703"/>
                </a:lnTo>
                <a:lnTo>
                  <a:pt x="474" y="1579"/>
                </a:lnTo>
                <a:lnTo>
                  <a:pt x="661" y="1455"/>
                </a:lnTo>
                <a:lnTo>
                  <a:pt x="849" y="1380"/>
                </a:lnTo>
                <a:lnTo>
                  <a:pt x="1049" y="1330"/>
                </a:lnTo>
                <a:lnTo>
                  <a:pt x="1211" y="1293"/>
                </a:lnTo>
                <a:lnTo>
                  <a:pt x="1273"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7130880" y="3370320"/>
            <a:ext cx="139392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 name=""/>
          <p:cNvSpPr/>
          <p:nvPr/>
        </p:nvSpPr>
        <p:spPr>
          <a:xfrm>
            <a:off x="2374920" y="201456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220680" y="2548080"/>
            <a:ext cx="2056320" cy="1795680"/>
          </a:xfrm>
          <a:custGeom>
            <a:avLst/>
            <a:gdLst/>
            <a:ahLst/>
            <a:rect l="0" t="0" r="r" b="b"/>
            <a:pathLst>
              <a:path w="5712" h="4988">
                <a:moveTo>
                  <a:pt x="904" y="1181"/>
                </a:moveTo>
                <a:lnTo>
                  <a:pt x="957" y="1044"/>
                </a:lnTo>
                <a:lnTo>
                  <a:pt x="1028" y="907"/>
                </a:lnTo>
                <a:lnTo>
                  <a:pt x="1135" y="795"/>
                </a:lnTo>
                <a:lnTo>
                  <a:pt x="1232" y="708"/>
                </a:lnTo>
                <a:lnTo>
                  <a:pt x="1356" y="646"/>
                </a:lnTo>
                <a:lnTo>
                  <a:pt x="1508" y="584"/>
                </a:lnTo>
                <a:lnTo>
                  <a:pt x="1676" y="547"/>
                </a:lnTo>
                <a:lnTo>
                  <a:pt x="1854" y="534"/>
                </a:lnTo>
                <a:lnTo>
                  <a:pt x="2075" y="547"/>
                </a:lnTo>
                <a:lnTo>
                  <a:pt x="2262" y="559"/>
                </a:lnTo>
                <a:lnTo>
                  <a:pt x="2395" y="435"/>
                </a:lnTo>
                <a:lnTo>
                  <a:pt x="2510" y="310"/>
                </a:lnTo>
                <a:lnTo>
                  <a:pt x="2678" y="186"/>
                </a:lnTo>
                <a:lnTo>
                  <a:pt x="2874" y="87"/>
                </a:lnTo>
                <a:lnTo>
                  <a:pt x="3113" y="12"/>
                </a:lnTo>
                <a:lnTo>
                  <a:pt x="3352" y="0"/>
                </a:lnTo>
                <a:lnTo>
                  <a:pt x="3565" y="37"/>
                </a:lnTo>
                <a:lnTo>
                  <a:pt x="3805" y="124"/>
                </a:lnTo>
                <a:lnTo>
                  <a:pt x="3946" y="236"/>
                </a:lnTo>
                <a:lnTo>
                  <a:pt x="4079" y="360"/>
                </a:lnTo>
                <a:lnTo>
                  <a:pt x="4204" y="522"/>
                </a:lnTo>
                <a:lnTo>
                  <a:pt x="4257" y="684"/>
                </a:lnTo>
                <a:lnTo>
                  <a:pt x="4444" y="684"/>
                </a:lnTo>
                <a:lnTo>
                  <a:pt x="4621" y="721"/>
                </a:lnTo>
                <a:lnTo>
                  <a:pt x="4781" y="808"/>
                </a:lnTo>
                <a:lnTo>
                  <a:pt x="4887" y="932"/>
                </a:lnTo>
                <a:lnTo>
                  <a:pt x="4994" y="1106"/>
                </a:lnTo>
                <a:lnTo>
                  <a:pt x="5047" y="1256"/>
                </a:lnTo>
                <a:lnTo>
                  <a:pt x="5065" y="1392"/>
                </a:lnTo>
                <a:lnTo>
                  <a:pt x="5171" y="1417"/>
                </a:lnTo>
                <a:lnTo>
                  <a:pt x="5278" y="1467"/>
                </a:lnTo>
                <a:lnTo>
                  <a:pt x="5366" y="1529"/>
                </a:lnTo>
                <a:lnTo>
                  <a:pt x="5455" y="1604"/>
                </a:lnTo>
                <a:lnTo>
                  <a:pt x="5517" y="1666"/>
                </a:lnTo>
                <a:lnTo>
                  <a:pt x="5579" y="1753"/>
                </a:lnTo>
                <a:lnTo>
                  <a:pt x="5641" y="1865"/>
                </a:lnTo>
                <a:lnTo>
                  <a:pt x="5668" y="2002"/>
                </a:lnTo>
                <a:lnTo>
                  <a:pt x="5677" y="2101"/>
                </a:lnTo>
                <a:lnTo>
                  <a:pt x="5659" y="2213"/>
                </a:lnTo>
                <a:lnTo>
                  <a:pt x="5615" y="2338"/>
                </a:lnTo>
                <a:lnTo>
                  <a:pt x="5668" y="2475"/>
                </a:lnTo>
                <a:lnTo>
                  <a:pt x="5694" y="2600"/>
                </a:lnTo>
                <a:lnTo>
                  <a:pt x="5703" y="2737"/>
                </a:lnTo>
                <a:lnTo>
                  <a:pt x="5677" y="2911"/>
                </a:lnTo>
                <a:lnTo>
                  <a:pt x="5659" y="3010"/>
                </a:lnTo>
                <a:lnTo>
                  <a:pt x="5588" y="3135"/>
                </a:lnTo>
                <a:lnTo>
                  <a:pt x="5677" y="3309"/>
                </a:lnTo>
                <a:lnTo>
                  <a:pt x="5703" y="3408"/>
                </a:lnTo>
                <a:lnTo>
                  <a:pt x="5712" y="3570"/>
                </a:lnTo>
                <a:lnTo>
                  <a:pt x="5694" y="3719"/>
                </a:lnTo>
                <a:lnTo>
                  <a:pt x="5641" y="3893"/>
                </a:lnTo>
                <a:lnTo>
                  <a:pt x="5579" y="4005"/>
                </a:lnTo>
                <a:lnTo>
                  <a:pt x="5482" y="4130"/>
                </a:lnTo>
                <a:lnTo>
                  <a:pt x="5304" y="4242"/>
                </a:lnTo>
                <a:lnTo>
                  <a:pt x="5127" y="4279"/>
                </a:lnTo>
                <a:lnTo>
                  <a:pt x="4967" y="4254"/>
                </a:lnTo>
                <a:lnTo>
                  <a:pt x="4861" y="4192"/>
                </a:lnTo>
                <a:lnTo>
                  <a:pt x="4781" y="4304"/>
                </a:lnTo>
                <a:lnTo>
                  <a:pt x="4701" y="4403"/>
                </a:lnTo>
                <a:lnTo>
                  <a:pt x="4639" y="4466"/>
                </a:lnTo>
                <a:lnTo>
                  <a:pt x="4506" y="4540"/>
                </a:lnTo>
                <a:lnTo>
                  <a:pt x="4391" y="4602"/>
                </a:lnTo>
                <a:lnTo>
                  <a:pt x="4221" y="4640"/>
                </a:lnTo>
                <a:lnTo>
                  <a:pt x="4053" y="4627"/>
                </a:lnTo>
                <a:lnTo>
                  <a:pt x="3893" y="4577"/>
                </a:lnTo>
                <a:lnTo>
                  <a:pt x="3751" y="4478"/>
                </a:lnTo>
                <a:lnTo>
                  <a:pt x="3663" y="4652"/>
                </a:lnTo>
                <a:lnTo>
                  <a:pt x="3583" y="4739"/>
                </a:lnTo>
                <a:lnTo>
                  <a:pt x="3477" y="4826"/>
                </a:lnTo>
                <a:lnTo>
                  <a:pt x="3361" y="4888"/>
                </a:lnTo>
                <a:lnTo>
                  <a:pt x="3228" y="4913"/>
                </a:lnTo>
                <a:lnTo>
                  <a:pt x="3104" y="4913"/>
                </a:lnTo>
                <a:lnTo>
                  <a:pt x="2989" y="4888"/>
                </a:lnTo>
                <a:lnTo>
                  <a:pt x="2838" y="4801"/>
                </a:lnTo>
                <a:lnTo>
                  <a:pt x="2749" y="4714"/>
                </a:lnTo>
                <a:lnTo>
                  <a:pt x="2670" y="4826"/>
                </a:lnTo>
                <a:lnTo>
                  <a:pt x="2590" y="4888"/>
                </a:lnTo>
                <a:lnTo>
                  <a:pt x="2483" y="4938"/>
                </a:lnTo>
                <a:lnTo>
                  <a:pt x="2341" y="4988"/>
                </a:lnTo>
                <a:lnTo>
                  <a:pt x="2191" y="4975"/>
                </a:lnTo>
                <a:lnTo>
                  <a:pt x="2031" y="4926"/>
                </a:lnTo>
                <a:lnTo>
                  <a:pt x="1907" y="4851"/>
                </a:lnTo>
                <a:lnTo>
                  <a:pt x="1801" y="4714"/>
                </a:lnTo>
                <a:lnTo>
                  <a:pt x="1730" y="4577"/>
                </a:lnTo>
                <a:lnTo>
                  <a:pt x="1614" y="4627"/>
                </a:lnTo>
                <a:lnTo>
                  <a:pt x="1472" y="4652"/>
                </a:lnTo>
                <a:lnTo>
                  <a:pt x="1312" y="4652"/>
                </a:lnTo>
                <a:lnTo>
                  <a:pt x="1179" y="4577"/>
                </a:lnTo>
                <a:lnTo>
                  <a:pt x="1064" y="4490"/>
                </a:lnTo>
                <a:lnTo>
                  <a:pt x="975" y="4403"/>
                </a:lnTo>
                <a:lnTo>
                  <a:pt x="904" y="4267"/>
                </a:lnTo>
                <a:lnTo>
                  <a:pt x="877" y="4130"/>
                </a:lnTo>
                <a:lnTo>
                  <a:pt x="806" y="4167"/>
                </a:lnTo>
                <a:lnTo>
                  <a:pt x="673" y="4167"/>
                </a:lnTo>
                <a:lnTo>
                  <a:pt x="532" y="4130"/>
                </a:lnTo>
                <a:lnTo>
                  <a:pt x="381" y="4030"/>
                </a:lnTo>
                <a:lnTo>
                  <a:pt x="283" y="3906"/>
                </a:lnTo>
                <a:lnTo>
                  <a:pt x="195" y="3744"/>
                </a:lnTo>
                <a:lnTo>
                  <a:pt x="150" y="3570"/>
                </a:lnTo>
                <a:lnTo>
                  <a:pt x="124" y="3334"/>
                </a:lnTo>
                <a:lnTo>
                  <a:pt x="133" y="3172"/>
                </a:lnTo>
                <a:lnTo>
                  <a:pt x="177" y="2936"/>
                </a:lnTo>
                <a:lnTo>
                  <a:pt x="79" y="2799"/>
                </a:lnTo>
                <a:lnTo>
                  <a:pt x="26" y="2625"/>
                </a:lnTo>
                <a:lnTo>
                  <a:pt x="0" y="2437"/>
                </a:lnTo>
                <a:lnTo>
                  <a:pt x="0" y="2238"/>
                </a:lnTo>
                <a:lnTo>
                  <a:pt x="35" y="2027"/>
                </a:lnTo>
                <a:lnTo>
                  <a:pt x="97" y="1878"/>
                </a:lnTo>
                <a:lnTo>
                  <a:pt x="212" y="1703"/>
                </a:lnTo>
                <a:lnTo>
                  <a:pt x="336" y="1579"/>
                </a:lnTo>
                <a:lnTo>
                  <a:pt x="469" y="1455"/>
                </a:lnTo>
                <a:lnTo>
                  <a:pt x="602" y="1380"/>
                </a:lnTo>
                <a:lnTo>
                  <a:pt x="744" y="1330"/>
                </a:lnTo>
                <a:lnTo>
                  <a:pt x="860" y="1293"/>
                </a:lnTo>
                <a:lnTo>
                  <a:pt x="904"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8" name=""/>
          <p:cNvSpPr txBox="1"/>
          <p:nvPr/>
        </p:nvSpPr>
        <p:spPr>
          <a:xfrm>
            <a:off x="709560" y="3214800"/>
            <a:ext cx="706320" cy="371520"/>
          </a:xfrm>
          <a:prstGeom prst="rect">
            <a:avLst/>
          </a:prstGeom>
          <a:noFill/>
          <a:ln w="12600">
            <a:solidFill>
              <a:srgbClr val="66d8ff"/>
            </a:solidFill>
            <a:round/>
          </a:ln>
        </p:spPr>
        <p:txBody>
          <a:bodyPr lIns="0" rIns="0" tIns="0" bIns="0" anchor="t">
            <a:noAutofit/>
          </a:bodyPr>
          <a:p>
            <a:pPr>
              <a:lnSpc>
                <a:spcPct val="100000"/>
              </a:lnSpc>
            </a:pPr>
            <a:r>
              <a:rPr b="1" lang="en-US" sz="1000" spc="-1" strike="noStrike">
                <a:solidFill>
                  <a:srgbClr val="000000"/>
                </a:solidFill>
                <a:latin typeface="Arial"/>
                <a:ea typeface="Arial"/>
              </a:rPr>
              <a:t>FDDI</a:t>
            </a:r>
            <a:endParaRPr b="0" lang="en-US" sz="1000" spc="-1" strike="noStrike">
              <a:solidFill>
                <a:srgbClr val="000000"/>
              </a:solidFill>
              <a:latin typeface="Arial"/>
            </a:endParaRPr>
          </a:p>
        </p:txBody>
      </p:sp>
      <p:pic>
        <p:nvPicPr>
          <p:cNvPr id="539" name="" descr=""/>
          <p:cNvPicPr/>
          <p:nvPr/>
        </p:nvPicPr>
        <p:blipFill>
          <a:blip r:embed="rId1"/>
          <a:stretch/>
        </p:blipFill>
        <p:spPr>
          <a:xfrm>
            <a:off x="85680" y="3490920"/>
            <a:ext cx="690480" cy="380880"/>
          </a:xfrm>
          <a:prstGeom prst="rect">
            <a:avLst/>
          </a:prstGeom>
          <a:ln w="0">
            <a:noFill/>
          </a:ln>
        </p:spPr>
      </p:pic>
      <p:sp>
        <p:nvSpPr>
          <p:cNvPr id="540" name=""/>
          <p:cNvSpPr/>
          <p:nvPr/>
        </p:nvSpPr>
        <p:spPr>
          <a:xfrm>
            <a:off x="1971720" y="2743200"/>
            <a:ext cx="1297440" cy="1219680"/>
          </a:xfrm>
          <a:custGeom>
            <a:avLst/>
            <a:gdLst/>
            <a:ahLst/>
            <a:rect l="0" t="0" r="r" b="b"/>
            <a:pathLst>
              <a:path fill="none" w="3604" h="3388">
                <a:moveTo>
                  <a:pt x="3604" y="0"/>
                </a:moveTo>
                <a:lnTo>
                  <a:pt x="3604" y="3388"/>
                </a:lnTo>
                <a:lnTo>
                  <a:pt x="0"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1533600" y="3338640"/>
            <a:ext cx="690480" cy="380880"/>
          </a:xfrm>
          <a:prstGeom prst="rect">
            <a:avLst/>
          </a:prstGeom>
          <a:ln w="0">
            <a:noFill/>
          </a:ln>
        </p:spPr>
      </p:pic>
      <p:sp>
        <p:nvSpPr>
          <p:cNvPr id="542" name=""/>
          <p:cNvSpPr txBox="1"/>
          <p:nvPr/>
        </p:nvSpPr>
        <p:spPr>
          <a:xfrm>
            <a:off x="752400" y="2595600"/>
            <a:ext cx="9540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Router </a:t>
            </a:r>
            <a:br>
              <a:rPr sz="1600"/>
            </a:br>
            <a:r>
              <a:rPr b="1" lang="en-US" sz="1600" spc="-1" strike="noStrike">
                <a:solidFill>
                  <a:srgbClr val="ffffff"/>
                </a:solidFill>
                <a:latin typeface="Arial"/>
                <a:ea typeface="Arial"/>
              </a:rPr>
              <a:t>POP</a:t>
            </a:r>
            <a:endParaRPr b="0" lang="en-US" sz="1600" spc="-1" strike="noStrike">
              <a:solidFill>
                <a:srgbClr val="000000"/>
              </a:solidFill>
              <a:latin typeface="Arial"/>
            </a:endParaRPr>
          </a:p>
        </p:txBody>
      </p:sp>
      <p:sp>
        <p:nvSpPr>
          <p:cNvPr id="543" name=""/>
          <p:cNvSpPr txBox="1"/>
          <p:nvPr/>
        </p:nvSpPr>
        <p:spPr>
          <a:xfrm>
            <a:off x="7089840" y="2671920"/>
            <a:ext cx="110952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POP</a:t>
            </a:r>
            <a:endParaRPr b="0" lang="en-US" sz="1600" spc="-1" strike="noStrike">
              <a:solidFill>
                <a:srgbClr val="000000"/>
              </a:solidFill>
              <a:latin typeface="Arial"/>
            </a:endParaRPr>
          </a:p>
        </p:txBody>
      </p:sp>
      <p:sp>
        <p:nvSpPr>
          <p:cNvPr id="544" name=""/>
          <p:cNvSpPr txBox="1"/>
          <p:nvPr/>
        </p:nvSpPr>
        <p:spPr>
          <a:xfrm>
            <a:off x="62712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Accelerated default forwarding</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br>
              <a:rPr sz="2800"/>
            </a:br>
            <a:br>
              <a:rPr sz="2800"/>
            </a:br>
            <a:endParaRPr b="0" lang="en-US" sz="2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and distributed forwarding</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p-by-hop paths</a:t>
            </a:r>
            <a:endParaRPr b="0" lang="en-US" sz="2000" spc="-1" strike="noStrike">
              <a:solidFill>
                <a:srgbClr val="000000"/>
              </a:solidFill>
              <a:latin typeface="Arial"/>
            </a:endParaRPr>
          </a:p>
          <a:p>
            <a:pPr lvl="3" marL="1200240" indent="-171360">
              <a:lnSpc>
                <a:spcPct val="85000"/>
              </a:lnSpc>
              <a:spcBef>
                <a:spcPts val="1199"/>
              </a:spcBef>
              <a:buClr>
                <a:srgbClr val="006079"/>
              </a:buClr>
              <a:buSzPct val="45000"/>
              <a:buFont typeface="CP1252"/>
              <a:buChar char=""/>
            </a:pPr>
            <a:r>
              <a:rPr b="1" lang="en-US" sz="1800" spc="-1" strike="noStrike">
                <a:solidFill>
                  <a:srgbClr val="000000"/>
                </a:solidFill>
                <a:latin typeface="Arial"/>
                <a:ea typeface="Arial"/>
              </a:rPr>
              <a:t>For control and initial data forwarding</a:t>
            </a:r>
            <a:endParaRPr b="0" lang="en-US" sz="1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short-cuts</a:t>
            </a:r>
            <a:endParaRPr b="0" lang="en-US" sz="2000" spc="-1" strike="noStrike">
              <a:solidFill>
                <a:srgbClr val="000000"/>
              </a:solidFill>
              <a:latin typeface="Arial"/>
            </a:endParaRPr>
          </a:p>
        </p:txBody>
      </p:sp>
      <p:sp>
        <p:nvSpPr>
          <p:cNvPr id="545" name=""/>
          <p:cNvSpPr txBox="1"/>
          <p:nvPr/>
        </p:nvSpPr>
        <p:spPr>
          <a:xfrm>
            <a:off x="1522440" y="157320"/>
            <a:ext cx="762012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 Service Provider</a:t>
            </a:r>
            <a:endParaRPr b="0" lang="en-US" sz="4000" spc="-1" strike="noStrike">
              <a:solidFill>
                <a:srgbClr val="000000"/>
              </a:solidFill>
              <a:latin typeface="Arial"/>
            </a:endParaRPr>
          </a:p>
        </p:txBody>
      </p:sp>
      <p:sp>
        <p:nvSpPr>
          <p:cNvPr id="546" name=""/>
          <p:cNvSpPr/>
          <p:nvPr/>
        </p:nvSpPr>
        <p:spPr>
          <a:xfrm>
            <a:off x="5324400" y="2819520"/>
            <a:ext cx="1143360" cy="1219680"/>
          </a:xfrm>
          <a:custGeom>
            <a:avLst/>
            <a:gdLst/>
            <a:ahLst/>
            <a:rect l="0" t="0" r="r" b="b"/>
            <a:pathLst>
              <a:path fill="none" w="3176" h="3388">
                <a:moveTo>
                  <a:pt x="0" y="0"/>
                </a:moveTo>
                <a:lnTo>
                  <a:pt x="0" y="3388"/>
                </a:lnTo>
                <a:lnTo>
                  <a:pt x="3176"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7" name=""/>
          <p:cNvSpPr txBox="1"/>
          <p:nvPr/>
        </p:nvSpPr>
        <p:spPr>
          <a:xfrm>
            <a:off x="3865680" y="2138400"/>
            <a:ext cx="11556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br>
              <a:rPr sz="1600"/>
            </a:br>
            <a:r>
              <a:rPr b="1" lang="en-US" sz="1600" spc="-1" strike="noStrike">
                <a:solidFill>
                  <a:srgbClr val="ffffff"/>
                </a:solidFill>
                <a:latin typeface="Arial"/>
                <a:ea typeface="Arial"/>
              </a:rPr>
              <a:t>Backbone</a:t>
            </a:r>
            <a:endParaRPr b="0" lang="en-US" sz="1600" spc="-1" strike="noStrike">
              <a:solidFill>
                <a:srgbClr val="000000"/>
              </a:solidFill>
              <a:latin typeface="Arial"/>
            </a:endParaRPr>
          </a:p>
        </p:txBody>
      </p:sp>
      <p:sp>
        <p:nvSpPr>
          <p:cNvPr id="548" name=""/>
          <p:cNvSpPr/>
          <p:nvPr/>
        </p:nvSpPr>
        <p:spPr>
          <a:xfrm>
            <a:off x="4464000" y="38275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9" name=""/>
          <p:cNvSpPr/>
          <p:nvPr/>
        </p:nvSpPr>
        <p:spPr>
          <a:xfrm flipV="1">
            <a:off x="3549600" y="3809880"/>
            <a:ext cx="860400" cy="2462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0" name=""/>
          <p:cNvSpPr/>
          <p:nvPr/>
        </p:nvSpPr>
        <p:spPr>
          <a:xfrm flipV="1">
            <a:off x="4464000" y="281952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51" name=""/>
          <p:cNvSpPr/>
          <p:nvPr/>
        </p:nvSpPr>
        <p:spPr>
          <a:xfrm>
            <a:off x="3321000" y="276084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2" name=""/>
          <p:cNvSpPr/>
          <p:nvPr/>
        </p:nvSpPr>
        <p:spPr>
          <a:xfrm flipV="1">
            <a:off x="4387680" y="3048120"/>
            <a:ext cx="22320" cy="8557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53" name="" descr=""/>
          <p:cNvPicPr/>
          <p:nvPr/>
        </p:nvPicPr>
        <p:blipFill>
          <a:blip r:embed="rId3"/>
          <a:stretch/>
        </p:blipFill>
        <p:spPr>
          <a:xfrm>
            <a:off x="5062680" y="2413080"/>
            <a:ext cx="457200" cy="582480"/>
          </a:xfrm>
          <a:prstGeom prst="rect">
            <a:avLst/>
          </a:prstGeom>
          <a:ln w="0">
            <a:noFill/>
          </a:ln>
        </p:spPr>
      </p:pic>
      <p:pic>
        <p:nvPicPr>
          <p:cNvPr id="554" name="" descr=""/>
          <p:cNvPicPr/>
          <p:nvPr/>
        </p:nvPicPr>
        <p:blipFill>
          <a:blip r:embed="rId4"/>
          <a:stretch/>
        </p:blipFill>
        <p:spPr>
          <a:xfrm>
            <a:off x="4148280" y="2641680"/>
            <a:ext cx="457200" cy="582480"/>
          </a:xfrm>
          <a:prstGeom prst="rect">
            <a:avLst/>
          </a:prstGeom>
          <a:ln w="0">
            <a:noFill/>
          </a:ln>
        </p:spPr>
      </p:pic>
      <p:pic>
        <p:nvPicPr>
          <p:cNvPr id="555" name="" descr=""/>
          <p:cNvPicPr/>
          <p:nvPr/>
        </p:nvPicPr>
        <p:blipFill>
          <a:blip r:embed="rId5"/>
          <a:stretch/>
        </p:blipFill>
        <p:spPr>
          <a:xfrm>
            <a:off x="3005280" y="2413080"/>
            <a:ext cx="457200" cy="582480"/>
          </a:xfrm>
          <a:prstGeom prst="rect">
            <a:avLst/>
          </a:prstGeom>
          <a:ln w="0">
            <a:noFill/>
          </a:ln>
        </p:spPr>
      </p:pic>
      <p:pic>
        <p:nvPicPr>
          <p:cNvPr id="556" name="" descr=""/>
          <p:cNvPicPr/>
          <p:nvPr/>
        </p:nvPicPr>
        <p:blipFill>
          <a:blip r:embed="rId6"/>
          <a:stretch/>
        </p:blipFill>
        <p:spPr>
          <a:xfrm>
            <a:off x="1000080" y="3948120"/>
            <a:ext cx="690480" cy="380880"/>
          </a:xfrm>
          <a:prstGeom prst="rect">
            <a:avLst/>
          </a:prstGeom>
          <a:ln w="0">
            <a:noFill/>
          </a:ln>
        </p:spPr>
      </p:pic>
      <p:pic>
        <p:nvPicPr>
          <p:cNvPr id="557" name="" descr=""/>
          <p:cNvPicPr/>
          <p:nvPr/>
        </p:nvPicPr>
        <p:blipFill>
          <a:blip r:embed="rId7"/>
          <a:stretch/>
        </p:blipFill>
        <p:spPr>
          <a:xfrm>
            <a:off x="85680" y="2881440"/>
            <a:ext cx="690480" cy="380880"/>
          </a:xfrm>
          <a:prstGeom prst="rect">
            <a:avLst/>
          </a:prstGeom>
          <a:ln w="0">
            <a:noFill/>
          </a:ln>
        </p:spPr>
      </p:pic>
      <p:sp>
        <p:nvSpPr>
          <p:cNvPr id="558" name=""/>
          <p:cNvSpPr txBox="1"/>
          <p:nvPr/>
        </p:nvSpPr>
        <p:spPr>
          <a:xfrm>
            <a:off x="3822840" y="4659480"/>
            <a:ext cx="104472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Route Servers</a:t>
            </a:r>
            <a:endParaRPr b="0" lang="en-US" sz="1000" spc="-1" strike="noStrike">
              <a:solidFill>
                <a:srgbClr val="000000"/>
              </a:solidFill>
              <a:latin typeface="Arial"/>
            </a:endParaRPr>
          </a:p>
        </p:txBody>
      </p:sp>
      <p:sp>
        <p:nvSpPr>
          <p:cNvPr id="559" name=""/>
          <p:cNvSpPr/>
          <p:nvPr/>
        </p:nvSpPr>
        <p:spPr>
          <a:xfrm>
            <a:off x="5302080" y="4132440"/>
            <a:ext cx="22320" cy="4395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0" name=""/>
          <p:cNvSpPr/>
          <p:nvPr/>
        </p:nvSpPr>
        <p:spPr>
          <a:xfrm flipV="1">
            <a:off x="3343320" y="4038480"/>
            <a:ext cx="0" cy="5335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6750000" y="35989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2" name=""/>
          <p:cNvSpPr/>
          <p:nvPr/>
        </p:nvSpPr>
        <p:spPr>
          <a:xfrm>
            <a:off x="7054920" y="3446640"/>
            <a:ext cx="1241280" cy="51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3" name=""/>
          <p:cNvSpPr/>
          <p:nvPr/>
        </p:nvSpPr>
        <p:spPr>
          <a:xfrm flipV="1">
            <a:off x="6826320" y="3048120"/>
            <a:ext cx="15462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64" name="" descr=""/>
          <p:cNvPicPr/>
          <p:nvPr/>
        </p:nvPicPr>
        <p:blipFill>
          <a:blip r:embed="rId8"/>
          <a:stretch/>
        </p:blipFill>
        <p:spPr>
          <a:xfrm>
            <a:off x="7095960" y="3871800"/>
            <a:ext cx="690480" cy="380880"/>
          </a:xfrm>
          <a:prstGeom prst="rect">
            <a:avLst/>
          </a:prstGeom>
          <a:ln w="0">
            <a:noFill/>
          </a:ln>
        </p:spPr>
      </p:pic>
      <p:pic>
        <p:nvPicPr>
          <p:cNvPr id="565" name="" descr=""/>
          <p:cNvPicPr/>
          <p:nvPr/>
        </p:nvPicPr>
        <p:blipFill>
          <a:blip r:embed="rId9"/>
          <a:stretch/>
        </p:blipFill>
        <p:spPr>
          <a:xfrm>
            <a:off x="8271000" y="2798640"/>
            <a:ext cx="690480" cy="380880"/>
          </a:xfrm>
          <a:prstGeom prst="rect">
            <a:avLst/>
          </a:prstGeom>
          <a:ln w="0">
            <a:noFill/>
          </a:ln>
        </p:spPr>
      </p:pic>
      <p:pic>
        <p:nvPicPr>
          <p:cNvPr id="566" name="" descr=""/>
          <p:cNvPicPr/>
          <p:nvPr/>
        </p:nvPicPr>
        <p:blipFill>
          <a:blip r:embed="rId10"/>
          <a:stretch/>
        </p:blipFill>
        <p:spPr>
          <a:xfrm>
            <a:off x="5062680" y="3708360"/>
            <a:ext cx="457200" cy="582480"/>
          </a:xfrm>
          <a:prstGeom prst="rect">
            <a:avLst/>
          </a:prstGeom>
          <a:ln w="0">
            <a:noFill/>
          </a:ln>
        </p:spPr>
      </p:pic>
      <p:pic>
        <p:nvPicPr>
          <p:cNvPr id="567" name="" descr=""/>
          <p:cNvPicPr/>
          <p:nvPr/>
        </p:nvPicPr>
        <p:blipFill>
          <a:blip r:embed="rId11"/>
          <a:stretch/>
        </p:blipFill>
        <p:spPr>
          <a:xfrm>
            <a:off x="4148280" y="3556080"/>
            <a:ext cx="457200" cy="582480"/>
          </a:xfrm>
          <a:prstGeom prst="rect">
            <a:avLst/>
          </a:prstGeom>
          <a:ln w="0">
            <a:noFill/>
          </a:ln>
        </p:spPr>
      </p:pic>
      <p:pic>
        <p:nvPicPr>
          <p:cNvPr id="568" name="" descr=""/>
          <p:cNvPicPr/>
          <p:nvPr/>
        </p:nvPicPr>
        <p:blipFill>
          <a:blip r:embed="rId12"/>
          <a:stretch/>
        </p:blipFill>
        <p:spPr>
          <a:xfrm>
            <a:off x="8194680" y="3789360"/>
            <a:ext cx="690480" cy="380880"/>
          </a:xfrm>
          <a:prstGeom prst="rect">
            <a:avLst/>
          </a:prstGeom>
          <a:ln w="0">
            <a:noFill/>
          </a:ln>
        </p:spPr>
      </p:pic>
      <p:pic>
        <p:nvPicPr>
          <p:cNvPr id="569" name="" descr=""/>
          <p:cNvPicPr/>
          <p:nvPr/>
        </p:nvPicPr>
        <p:blipFill>
          <a:blip r:embed="rId13"/>
          <a:stretch/>
        </p:blipFill>
        <p:spPr>
          <a:xfrm>
            <a:off x="3157560" y="3708360"/>
            <a:ext cx="457200" cy="582480"/>
          </a:xfrm>
          <a:prstGeom prst="rect">
            <a:avLst/>
          </a:prstGeom>
          <a:ln w="0">
            <a:noFill/>
          </a:ln>
        </p:spPr>
      </p:pic>
      <p:pic>
        <p:nvPicPr>
          <p:cNvPr id="570" name="" descr=""/>
          <p:cNvPicPr/>
          <p:nvPr/>
        </p:nvPicPr>
        <p:blipFill>
          <a:blip r:embed="rId14"/>
          <a:stretch/>
        </p:blipFill>
        <p:spPr>
          <a:xfrm>
            <a:off x="2840040" y="4365720"/>
            <a:ext cx="690480" cy="380880"/>
          </a:xfrm>
          <a:prstGeom prst="rect">
            <a:avLst/>
          </a:prstGeom>
          <a:ln w="0">
            <a:noFill/>
          </a:ln>
        </p:spPr>
      </p:pic>
      <p:pic>
        <p:nvPicPr>
          <p:cNvPr id="571" name="" descr=""/>
          <p:cNvPicPr/>
          <p:nvPr/>
        </p:nvPicPr>
        <p:blipFill>
          <a:blip r:embed="rId15"/>
          <a:stretch/>
        </p:blipFill>
        <p:spPr>
          <a:xfrm>
            <a:off x="4973760" y="4365720"/>
            <a:ext cx="690480" cy="380880"/>
          </a:xfrm>
          <a:prstGeom prst="rect">
            <a:avLst/>
          </a:prstGeom>
          <a:ln w="0">
            <a:noFill/>
          </a:ln>
        </p:spPr>
      </p:pic>
      <p:sp>
        <p:nvSpPr>
          <p:cNvPr id="572" name=""/>
          <p:cNvSpPr/>
          <p:nvPr/>
        </p:nvSpPr>
        <p:spPr>
          <a:xfrm flipV="1">
            <a:off x="6620040" y="2971800"/>
            <a:ext cx="0" cy="3049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73" name="" descr=""/>
          <p:cNvPicPr/>
          <p:nvPr/>
        </p:nvPicPr>
        <p:blipFill>
          <a:blip r:embed="rId16"/>
          <a:stretch/>
        </p:blipFill>
        <p:spPr>
          <a:xfrm>
            <a:off x="6238800" y="3203640"/>
            <a:ext cx="927000" cy="480960"/>
          </a:xfrm>
          <a:prstGeom prst="rect">
            <a:avLst/>
          </a:prstGeom>
          <a:ln w="0">
            <a:noFill/>
          </a:ln>
        </p:spPr>
      </p:pic>
      <p:pic>
        <p:nvPicPr>
          <p:cNvPr id="574" name="" descr=""/>
          <p:cNvPicPr/>
          <p:nvPr/>
        </p:nvPicPr>
        <p:blipFill>
          <a:blip r:embed="rId17"/>
          <a:stretch/>
        </p:blipFill>
        <p:spPr>
          <a:xfrm>
            <a:off x="6181560" y="2728800"/>
            <a:ext cx="690480" cy="380880"/>
          </a:xfrm>
          <a:prstGeom prst="rect">
            <a:avLst/>
          </a:prstGeom>
          <a:ln w="0">
            <a:noFill/>
          </a:ln>
        </p:spPr>
      </p:pic>
      <p:sp>
        <p:nvSpPr>
          <p:cNvPr id="575" name=""/>
          <p:cNvSpPr/>
          <p:nvPr/>
        </p:nvSpPr>
        <p:spPr>
          <a:xfrm>
            <a:off x="6620040" y="3048120"/>
            <a:ext cx="1905480" cy="533880"/>
          </a:xfrm>
          <a:custGeom>
            <a:avLst/>
            <a:gdLst/>
            <a:ahLst/>
            <a:rect l="0" t="0" r="r" b="b"/>
            <a:pathLst>
              <a:path fill="none" w="5293" h="1483">
                <a:moveTo>
                  <a:pt x="5293" y="1483"/>
                </a:moveTo>
                <a:lnTo>
                  <a:pt x="0" y="636"/>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a:off x="5324400" y="3048120"/>
            <a:ext cx="1295640" cy="1524240"/>
          </a:xfrm>
          <a:custGeom>
            <a:avLst/>
            <a:gdLst/>
            <a:ahLst/>
            <a:rect l="0" t="0" r="r" b="b"/>
            <a:pathLst>
              <a:path fill="none" w="3599" h="4234">
                <a:moveTo>
                  <a:pt x="3599" y="0"/>
                </a:moveTo>
                <a:lnTo>
                  <a:pt x="3599" y="1270"/>
                </a:lnTo>
                <a:lnTo>
                  <a:pt x="0" y="2752"/>
                </a:lnTo>
                <a:lnTo>
                  <a:pt x="26" y="4234"/>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a:off x="3343320" y="3809880"/>
            <a:ext cx="1981440" cy="762480"/>
          </a:xfrm>
          <a:custGeom>
            <a:avLst/>
            <a:gdLst/>
            <a:ahLst/>
            <a:rect l="0" t="0" r="r" b="b"/>
            <a:pathLst>
              <a:path fill="none" w="5504" h="2118">
                <a:moveTo>
                  <a:pt x="5504" y="1907"/>
                </a:moveTo>
                <a:lnTo>
                  <a:pt x="5504" y="847"/>
                </a:lnTo>
                <a:lnTo>
                  <a:pt x="2751" y="0"/>
                </a:lnTo>
                <a:lnTo>
                  <a:pt x="0" y="847"/>
                </a:lnTo>
                <a:lnTo>
                  <a:pt x="0" y="2118"/>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2124000" y="3581280"/>
            <a:ext cx="1219680" cy="914760"/>
          </a:xfrm>
          <a:custGeom>
            <a:avLst/>
            <a:gdLst/>
            <a:ahLst/>
            <a:rect l="0" t="0" r="r" b="b"/>
            <a:pathLst>
              <a:path fill="none" w="3388" h="2541">
                <a:moveTo>
                  <a:pt x="3388" y="2541"/>
                </a:moveTo>
                <a:lnTo>
                  <a:pt x="3388" y="1271"/>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9" name=""/>
          <p:cNvSpPr/>
          <p:nvPr/>
        </p:nvSpPr>
        <p:spPr>
          <a:xfrm>
            <a:off x="676440" y="3505320"/>
            <a:ext cx="848160" cy="76680"/>
          </a:xfrm>
          <a:custGeom>
            <a:avLst/>
            <a:gdLst/>
            <a:ahLst/>
            <a:rect l="0" t="0" r="r" b="b"/>
            <a:pathLst>
              <a:path fill="none" w="2356" h="213">
                <a:moveTo>
                  <a:pt x="2356" y="0"/>
                </a:moveTo>
                <a:lnTo>
                  <a:pt x="996" y="0"/>
                </a:lnTo>
                <a:lnTo>
                  <a:pt x="0" y="213"/>
                </a:lnTo>
              </a:path>
            </a:pathLst>
          </a:custGeom>
          <a:ln w="38160">
            <a:solidFill>
              <a:srgbClr val="17af73"/>
            </a:solidFill>
            <a:round/>
            <a:tailEnd len="med" type="triangle" w="med"/>
          </a:ln>
        </p:spPr>
        <p:txBody>
          <a:bodyPr lIns="109080" rIns="109080" tIns="12600" bIns="12600" anchor="t">
            <a:noAutofit/>
          </a:bodyPr>
          <a:p>
            <a:endParaRPr b="0" lang="en-US" sz="1800" spc="-1" strike="noStrike">
              <a:solidFill>
                <a:srgbClr val="000000"/>
              </a:solidFill>
              <a:latin typeface="Arial"/>
            </a:endParaRPr>
          </a:p>
        </p:txBody>
      </p:sp>
      <p:sp>
        <p:nvSpPr>
          <p:cNvPr id="580" name=""/>
          <p:cNvSpPr/>
          <p:nvPr/>
        </p:nvSpPr>
        <p:spPr>
          <a:xfrm>
            <a:off x="2120760" y="3276720"/>
            <a:ext cx="6328080" cy="838440"/>
          </a:xfrm>
          <a:custGeom>
            <a:avLst/>
            <a:gdLst/>
            <a:ahLst/>
            <a:rect l="0" t="0" r="r" b="b"/>
            <a:pathLst>
              <a:path fill="none" w="17578" h="2329">
                <a:moveTo>
                  <a:pt x="17578" y="846"/>
                </a:moveTo>
                <a:lnTo>
                  <a:pt x="12921" y="0"/>
                </a:lnTo>
                <a:lnTo>
                  <a:pt x="8899" y="2329"/>
                </a:lnTo>
                <a:lnTo>
                  <a:pt x="6358" y="1482"/>
                </a:lnTo>
                <a:lnTo>
                  <a:pt x="3395" y="2117"/>
                </a:lnTo>
                <a:lnTo>
                  <a:pt x="0" y="771"/>
                </a:lnTo>
              </a:path>
            </a:pathLst>
          </a:custGeom>
          <a:ln w="76320">
            <a:solidFill>
              <a:srgbClr val="a8001c"/>
            </a:solidFill>
            <a:round/>
            <a:headEnd len="med" type="triangle" w="med"/>
            <a:tailEnd len="med" type="triangle" w="med"/>
          </a:ln>
        </p:spPr>
        <p:txBody>
          <a:bodyPr lIns="128160" rIns="128160" tIns="83160" bIns="83160" anchor="t">
            <a:noAutofit/>
          </a:bodyPr>
          <a:p>
            <a:endParaRPr b="0" lang="en-US" sz="1800" spc="-1" strike="noStrike">
              <a:solidFill>
                <a:srgbClr val="000000"/>
              </a:solidFill>
              <a:latin typeface="Arial"/>
            </a:endParaRPr>
          </a:p>
        </p:txBody>
      </p:sp>
      <p:pic>
        <p:nvPicPr>
          <p:cNvPr id="581" name="" descr=""/>
          <p:cNvPicPr/>
          <p:nvPr/>
        </p:nvPicPr>
        <p:blipFill>
          <a:blip r:embed="rId18"/>
          <a:stretch/>
        </p:blipFill>
        <p:spPr>
          <a:xfrm>
            <a:off x="8346960" y="3332160"/>
            <a:ext cx="69048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583" name=""/>
          <p:cNvSpPr txBox="1"/>
          <p:nvPr/>
        </p:nvSpPr>
        <p:spPr>
          <a:xfrm>
            <a:off x="457200" y="1395360"/>
            <a:ext cx="3352680" cy="485316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routing functions and pushes forwarding information to the ATM forwarder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Based of control flow, setup VC from ATM forwarder to ATM forwarder </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If ingress ATM forwarder has forwarding entry then send data on short -cut to egress ATM forwarder</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else sends data to default router </a:t>
            </a:r>
            <a:endParaRPr b="0" lang="en-US" sz="16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ATM port to ATM port QoS short-cuts</a:t>
            </a:r>
            <a:endParaRPr b="0" lang="en-US" sz="2000" spc="-1" strike="noStrike">
              <a:solidFill>
                <a:srgbClr val="000000"/>
              </a:solidFill>
              <a:latin typeface="Arial"/>
            </a:endParaRPr>
          </a:p>
        </p:txBody>
      </p:sp>
      <p:sp>
        <p:nvSpPr>
          <p:cNvPr id="584" name=""/>
          <p:cNvSpPr txBox="1"/>
          <p:nvPr/>
        </p:nvSpPr>
        <p:spPr>
          <a:xfrm>
            <a:off x="6137280" y="5313240"/>
            <a:ext cx="13701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efault Path</a:t>
            </a:r>
            <a:endParaRPr b="0" lang="en-US" sz="1600" spc="-1" strike="noStrike">
              <a:solidFill>
                <a:srgbClr val="000000"/>
              </a:solidFill>
              <a:latin typeface="Arial"/>
            </a:endParaRPr>
          </a:p>
        </p:txBody>
      </p:sp>
      <p:sp>
        <p:nvSpPr>
          <p:cNvPr id="585" name=""/>
          <p:cNvSpPr txBox="1"/>
          <p:nvPr/>
        </p:nvSpPr>
        <p:spPr>
          <a:xfrm>
            <a:off x="6137280" y="5618160"/>
            <a:ext cx="2509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driven short-cut</a:t>
            </a:r>
            <a:endParaRPr b="0" lang="en-US" sz="1600" spc="-1" strike="noStrike">
              <a:solidFill>
                <a:srgbClr val="000000"/>
              </a:solidFill>
              <a:latin typeface="Arial"/>
            </a:endParaRPr>
          </a:p>
        </p:txBody>
      </p:sp>
      <p:sp>
        <p:nvSpPr>
          <p:cNvPr id="586" name=""/>
          <p:cNvSpPr txBox="1"/>
          <p:nvPr/>
        </p:nvSpPr>
        <p:spPr>
          <a:xfrm>
            <a:off x="6137280" y="5942160"/>
            <a:ext cx="2871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raffic engineered short cut</a:t>
            </a:r>
            <a:endParaRPr b="0" lang="en-US" sz="1600" spc="-1" strike="noStrike">
              <a:solidFill>
                <a:srgbClr val="000000"/>
              </a:solidFill>
              <a:latin typeface="Arial"/>
            </a:endParaRPr>
          </a:p>
        </p:txBody>
      </p:sp>
      <p:sp>
        <p:nvSpPr>
          <p:cNvPr id="587" name=""/>
          <p:cNvSpPr/>
          <p:nvPr/>
        </p:nvSpPr>
        <p:spPr>
          <a:xfrm>
            <a:off x="4971960" y="5715000"/>
            <a:ext cx="952560" cy="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a:off x="4971960" y="5486400"/>
            <a:ext cx="986040" cy="0"/>
          </a:xfrm>
          <a:prstGeom prst="line">
            <a:avLst/>
          </a:prstGeom>
          <a:ln w="38160">
            <a:solidFill>
              <a:srgbClr val="ffff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a:off x="4971960" y="5962680"/>
            <a:ext cx="990720" cy="19080"/>
          </a:xfrm>
          <a:prstGeom prst="line">
            <a:avLst/>
          </a:prstGeom>
          <a:ln w="38160">
            <a:solidFill>
              <a:srgbClr val="663300"/>
            </a:solidFill>
            <a:round/>
          </a:ln>
        </p:spPr>
        <p:style>
          <a:lnRef idx="0"/>
          <a:fillRef idx="0"/>
          <a:effectRef idx="0"/>
          <a:fontRef idx="minor"/>
        </p:style>
        <p:txBody>
          <a:bodyPr lIns="109080" rIns="109080" tIns="-45000" bIns="-45000" anchor="t">
            <a:noAutofit/>
          </a:bodyPr>
          <a:p>
            <a:endParaRPr b="0" lang="en-US" sz="1800" spc="-1" strike="noStrike">
              <a:solidFill>
                <a:srgbClr val="000000"/>
              </a:solidFill>
              <a:latin typeface="Arial"/>
            </a:endParaRPr>
          </a:p>
        </p:txBody>
      </p:sp>
      <p:grpSp>
        <p:nvGrpSpPr>
          <p:cNvPr id="590" name=""/>
          <p:cNvGrpSpPr/>
          <p:nvPr/>
        </p:nvGrpSpPr>
        <p:grpSpPr>
          <a:xfrm>
            <a:off x="3790800" y="1203480"/>
            <a:ext cx="5266080" cy="3859200"/>
            <a:chOff x="3790800" y="1203480"/>
            <a:chExt cx="5266080" cy="3859200"/>
          </a:xfrm>
        </p:grpSpPr>
        <p:sp>
          <p:nvSpPr>
            <p:cNvPr id="591"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p:nvPr/>
          </p:nvSpPr>
          <p:spPr>
            <a:xfrm>
              <a:off x="4129200" y="2395440"/>
              <a:ext cx="1041840" cy="1219680"/>
            </a:xfrm>
            <a:custGeom>
              <a:avLst/>
              <a:gdLst/>
              <a:ahLst/>
              <a:rect l="0" t="0" r="r" b="b"/>
              <a:pathLst>
                <a:path fill="none" w="2894" h="3388">
                  <a:moveTo>
                    <a:pt x="2894" y="0"/>
                  </a:moveTo>
                  <a:lnTo>
                    <a:pt x="2894" y="3388"/>
                  </a:lnTo>
                  <a:lnTo>
                    <a:pt x="0" y="2019"/>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a:off x="7174080" y="2494080"/>
              <a:ext cx="1565640" cy="1230840"/>
            </a:xfrm>
            <a:custGeom>
              <a:avLst/>
              <a:gdLst/>
              <a:ahLst/>
              <a:rect l="0" t="0" r="r" b="b"/>
              <a:pathLst>
                <a:path fill="none" w="4349" h="3419">
                  <a:moveTo>
                    <a:pt x="0" y="0"/>
                  </a:moveTo>
                  <a:lnTo>
                    <a:pt x="0" y="3419"/>
                  </a:lnTo>
                  <a:lnTo>
                    <a:pt x="4349" y="213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5146560" y="286056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sp>
          <p:nvSpPr>
            <p:cNvPr id="595" name=""/>
            <p:cNvSpPr/>
            <p:nvPr/>
          </p:nvSpPr>
          <p:spPr>
            <a:xfrm>
              <a:off x="6365880" y="347976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6" name=""/>
            <p:cNvSpPr/>
            <p:nvPr/>
          </p:nvSpPr>
          <p:spPr>
            <a:xfrm flipV="1">
              <a:off x="5451480" y="3462480"/>
              <a:ext cx="8604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7" name=""/>
            <p:cNvSpPr/>
            <p:nvPr/>
          </p:nvSpPr>
          <p:spPr>
            <a:xfrm flipV="1">
              <a:off x="6365880" y="247176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98" name=""/>
            <p:cNvSpPr/>
            <p:nvPr/>
          </p:nvSpPr>
          <p:spPr>
            <a:xfrm>
              <a:off x="5222880" y="241308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9" name=""/>
            <p:cNvSpPr/>
            <p:nvPr/>
          </p:nvSpPr>
          <p:spPr>
            <a:xfrm flipH="1" flipV="1">
              <a:off x="6278400" y="3738600"/>
              <a:ext cx="163800" cy="949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0" name=""/>
            <p:cNvSpPr/>
            <p:nvPr/>
          </p:nvSpPr>
          <p:spPr>
            <a:xfrm flipV="1">
              <a:off x="6307200" y="2851200"/>
              <a:ext cx="0" cy="4921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1" name=""/>
            <p:cNvSpPr/>
            <p:nvPr/>
          </p:nvSpPr>
          <p:spPr>
            <a:xfrm flipV="1">
              <a:off x="6426360" y="3857760"/>
              <a:ext cx="736560" cy="8636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2" name=""/>
            <p:cNvSpPr/>
            <p:nvPr/>
          </p:nvSpPr>
          <p:spPr>
            <a:xfrm flipH="1" flipV="1">
              <a:off x="5240160" y="3805200"/>
              <a:ext cx="1202040" cy="8650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3" name=""/>
            <p:cNvSpPr/>
            <p:nvPr/>
          </p:nvSpPr>
          <p:spPr>
            <a:xfrm flipV="1">
              <a:off x="5130720" y="1609560"/>
              <a:ext cx="920880" cy="476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4" name=""/>
            <p:cNvSpPr/>
            <p:nvPr/>
          </p:nvSpPr>
          <p:spPr>
            <a:xfrm flipH="1" flipV="1">
              <a:off x="6051600" y="1576440"/>
              <a:ext cx="1238040" cy="5270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5" name=""/>
            <p:cNvSpPr/>
            <p:nvPr/>
          </p:nvSpPr>
          <p:spPr>
            <a:xfrm flipH="1" flipV="1">
              <a:off x="6051600" y="1523880"/>
              <a:ext cx="271440" cy="868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6" name=""/>
            <p:cNvSpPr/>
            <p:nvPr/>
          </p:nvSpPr>
          <p:spPr>
            <a:xfrm>
              <a:off x="4002120" y="3554280"/>
              <a:ext cx="1133280" cy="1825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7" name=""/>
            <p:cNvSpPr/>
            <p:nvPr/>
          </p:nvSpPr>
          <p:spPr>
            <a:xfrm flipV="1">
              <a:off x="6918480" y="3819600"/>
              <a:ext cx="306360" cy="96984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8" name=""/>
            <p:cNvSpPr/>
            <p:nvPr/>
          </p:nvSpPr>
          <p:spPr>
            <a:xfrm flipV="1">
              <a:off x="5489640" y="3633840"/>
              <a:ext cx="749160" cy="1699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9" name=""/>
            <p:cNvSpPr/>
            <p:nvPr/>
          </p:nvSpPr>
          <p:spPr>
            <a:xfrm flipV="1">
              <a:off x="6372360" y="2800440"/>
              <a:ext cx="0" cy="5428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0" name=""/>
            <p:cNvSpPr/>
            <p:nvPr/>
          </p:nvSpPr>
          <p:spPr>
            <a:xfrm flipV="1">
              <a:off x="6405480" y="1523880"/>
              <a:ext cx="139680" cy="8146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1" name=""/>
            <p:cNvSpPr/>
            <p:nvPr/>
          </p:nvSpPr>
          <p:spPr>
            <a:xfrm flipV="1">
              <a:off x="7191360" y="3665520"/>
              <a:ext cx="1596960" cy="17136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612" name=""/>
            <p:cNvGrpSpPr/>
            <p:nvPr/>
          </p:nvGrpSpPr>
          <p:grpSpPr>
            <a:xfrm>
              <a:off x="8713800" y="3090960"/>
              <a:ext cx="343080" cy="685800"/>
              <a:chOff x="8713800" y="3090960"/>
              <a:chExt cx="343080" cy="685800"/>
            </a:xfrm>
          </p:grpSpPr>
          <p:sp>
            <p:nvSpPr>
              <p:cNvPr id="613"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4" name=""/>
              <p:cNvGrpSpPr/>
              <p:nvPr/>
            </p:nvGrpSpPr>
            <p:grpSpPr>
              <a:xfrm>
                <a:off x="8751960" y="3137040"/>
                <a:ext cx="271440" cy="599760"/>
                <a:chOff x="8751960" y="3137040"/>
                <a:chExt cx="271440" cy="599760"/>
              </a:xfrm>
            </p:grpSpPr>
            <p:grpSp>
              <p:nvGrpSpPr>
                <p:cNvPr id="615" name=""/>
                <p:cNvGrpSpPr/>
                <p:nvPr/>
              </p:nvGrpSpPr>
              <p:grpSpPr>
                <a:xfrm>
                  <a:off x="8758080" y="3137040"/>
                  <a:ext cx="254160" cy="166680"/>
                  <a:chOff x="8758080" y="3137040"/>
                  <a:chExt cx="254160" cy="166680"/>
                </a:xfrm>
              </p:grpSpPr>
              <p:sp>
                <p:nvSpPr>
                  <p:cNvPr id="616"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0"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1"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2"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3"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4"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625" name=""/>
                <p:cNvGrpSpPr/>
                <p:nvPr/>
              </p:nvGrpSpPr>
              <p:grpSpPr>
                <a:xfrm>
                  <a:off x="8753400" y="3297240"/>
                  <a:ext cx="263520" cy="270000"/>
                  <a:chOff x="8753400" y="3297240"/>
                  <a:chExt cx="263520" cy="270000"/>
                </a:xfrm>
              </p:grpSpPr>
              <p:sp>
                <p:nvSpPr>
                  <p:cNvPr id="626"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0"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1"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2"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3"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4"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5"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6"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7"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8"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9"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640" name=""/>
                <p:cNvGrpSpPr/>
                <p:nvPr/>
              </p:nvGrpSpPr>
              <p:grpSpPr>
                <a:xfrm>
                  <a:off x="8751960" y="3565440"/>
                  <a:ext cx="271440" cy="171360"/>
                  <a:chOff x="8751960" y="3565440"/>
                  <a:chExt cx="271440" cy="171360"/>
                </a:xfrm>
              </p:grpSpPr>
              <p:sp>
                <p:nvSpPr>
                  <p:cNvPr id="641"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6"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7"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8"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9"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0"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1"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2"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3"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4"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5"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6"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7"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8"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9"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0"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2"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3"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4"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5"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6"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7"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8"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9"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0"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1"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2"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3"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4"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5"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6"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8"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9"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0"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1"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2"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3"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4"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5"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6"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7"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8"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9"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0"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1"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2"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4"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5"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6"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7"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8"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9"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0"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1"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2"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3"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4"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5"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6"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7"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8"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0"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1"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2"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3"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4"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5"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6"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7"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8"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9"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0"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1"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2"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3"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4"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6"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7"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8"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9"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0"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1"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2"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3"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4"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5"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6"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7"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8"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9"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0"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2"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3"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4"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5"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6"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7"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8"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9"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0"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1"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2"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3"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4"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5"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6"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8"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9"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0"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1"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2"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3"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4"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5"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6"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7"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8"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9"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0"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1"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2"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4"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5"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6"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7"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8"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9"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0"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1"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2"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3"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4"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5"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6"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7"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8"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0"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1"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2"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3"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4"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5"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6"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7"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8"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9"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0"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1"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2"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3"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4"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6"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7"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8"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9"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0"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1"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2"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3"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4"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5"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6"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7"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8"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20"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821" name="" descr=""/>
            <p:cNvPicPr/>
            <p:nvPr/>
          </p:nvPicPr>
          <p:blipFill>
            <a:blip r:embed="rId1"/>
            <a:stretch/>
          </p:blipFill>
          <p:spPr>
            <a:xfrm>
              <a:off x="6964200" y="2065320"/>
              <a:ext cx="457200" cy="582480"/>
            </a:xfrm>
            <a:prstGeom prst="rect">
              <a:avLst/>
            </a:prstGeom>
            <a:ln w="0">
              <a:noFill/>
            </a:ln>
          </p:spPr>
        </p:pic>
        <p:pic>
          <p:nvPicPr>
            <p:cNvPr id="822" name="" descr=""/>
            <p:cNvPicPr/>
            <p:nvPr/>
          </p:nvPicPr>
          <p:blipFill>
            <a:blip r:embed="rId2"/>
            <a:stretch/>
          </p:blipFill>
          <p:spPr>
            <a:xfrm>
              <a:off x="4906800" y="2065320"/>
              <a:ext cx="457200" cy="582480"/>
            </a:xfrm>
            <a:prstGeom prst="rect">
              <a:avLst/>
            </a:prstGeom>
            <a:ln w="0">
              <a:noFill/>
            </a:ln>
          </p:spPr>
        </p:pic>
        <p:pic>
          <p:nvPicPr>
            <p:cNvPr id="823" name="" descr=""/>
            <p:cNvPicPr/>
            <p:nvPr/>
          </p:nvPicPr>
          <p:blipFill>
            <a:blip r:embed="rId3"/>
            <a:stretch/>
          </p:blipFill>
          <p:spPr>
            <a:xfrm>
              <a:off x="6964200" y="3360600"/>
              <a:ext cx="457200" cy="582480"/>
            </a:xfrm>
            <a:prstGeom prst="rect">
              <a:avLst/>
            </a:prstGeom>
            <a:ln w="0">
              <a:noFill/>
            </a:ln>
          </p:spPr>
        </p:pic>
        <p:grpSp>
          <p:nvGrpSpPr>
            <p:cNvPr id="824" name=""/>
            <p:cNvGrpSpPr/>
            <p:nvPr/>
          </p:nvGrpSpPr>
          <p:grpSpPr>
            <a:xfrm>
              <a:off x="6318360" y="4719600"/>
              <a:ext cx="685800" cy="343080"/>
              <a:chOff x="6318360" y="4719600"/>
              <a:chExt cx="685800" cy="343080"/>
            </a:xfrm>
          </p:grpSpPr>
          <p:sp>
            <p:nvSpPr>
              <p:cNvPr id="825"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6" name=""/>
              <p:cNvGrpSpPr/>
              <p:nvPr/>
            </p:nvGrpSpPr>
            <p:grpSpPr>
              <a:xfrm>
                <a:off x="6364440" y="4753080"/>
                <a:ext cx="599760" cy="271080"/>
                <a:chOff x="6364440" y="4753080"/>
                <a:chExt cx="599760" cy="271080"/>
              </a:xfrm>
            </p:grpSpPr>
            <p:grpSp>
              <p:nvGrpSpPr>
                <p:cNvPr id="827" name=""/>
                <p:cNvGrpSpPr/>
                <p:nvPr/>
              </p:nvGrpSpPr>
              <p:grpSpPr>
                <a:xfrm>
                  <a:off x="6364440" y="4764240"/>
                  <a:ext cx="166680" cy="254160"/>
                  <a:chOff x="6364440" y="4764240"/>
                  <a:chExt cx="166680" cy="254160"/>
                </a:xfrm>
              </p:grpSpPr>
              <p:sp>
                <p:nvSpPr>
                  <p:cNvPr id="828"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33"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7" name=""/>
                <p:cNvGrpSpPr/>
                <p:nvPr/>
              </p:nvGrpSpPr>
              <p:grpSpPr>
                <a:xfrm>
                  <a:off x="6524640" y="4759200"/>
                  <a:ext cx="270000" cy="263520"/>
                  <a:chOff x="6524640" y="4759200"/>
                  <a:chExt cx="270000" cy="263520"/>
                </a:xfrm>
              </p:grpSpPr>
              <p:sp>
                <p:nvSpPr>
                  <p:cNvPr id="838"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2"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3"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4"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5"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6"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7"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8"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9"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0"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1"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852" name=""/>
                <p:cNvGrpSpPr/>
                <p:nvPr/>
              </p:nvGrpSpPr>
              <p:grpSpPr>
                <a:xfrm>
                  <a:off x="6792840" y="4753080"/>
                  <a:ext cx="171360" cy="271080"/>
                  <a:chOff x="6792840" y="4753080"/>
                  <a:chExt cx="171360" cy="271080"/>
                </a:xfrm>
              </p:grpSpPr>
              <p:sp>
                <p:nvSpPr>
                  <p:cNvPr id="853"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7"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8"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9"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0"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1"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2"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3"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4"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5"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6"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7"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8"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9"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0"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1"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2"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3"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4"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5"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6"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7"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8"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9"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0"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1"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2"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3"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4"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5"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6"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7"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8"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9"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0"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1"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2"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3"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4"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5"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6"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7"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8"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9"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0"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1"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2"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3"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4"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5"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6"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7"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8"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9"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0"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1"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2"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3"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4"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5"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6"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7"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8"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9"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0"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1"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2"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3"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4"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5"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6"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7"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8"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9"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0"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1"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2"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3"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4"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5"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6"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7"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8"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9"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0"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1"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2"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3"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4"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5"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6"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7"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8"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9"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0"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1"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2"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3"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4"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5"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6"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7"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8"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9"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0"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1"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2"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3"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4"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5"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6"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7"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8"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9"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0"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1"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2"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3"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4"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5"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6"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7"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8"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9"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0"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1"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2"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3"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4"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5"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6"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7"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8"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9"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0"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1"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2"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3"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4"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5"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6"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7"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8"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9"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0"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1"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2"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3"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4"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5"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6"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7"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8"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9"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0"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1"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2"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3"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4"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5"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6"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7"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8"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9"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0"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1"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2"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3"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4"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5"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6"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7"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8"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9"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0"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1"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2"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033" name=""/>
            <p:cNvGrpSpPr/>
            <p:nvPr/>
          </p:nvGrpSpPr>
          <p:grpSpPr>
            <a:xfrm>
              <a:off x="5894280" y="1203480"/>
              <a:ext cx="685800" cy="343080"/>
              <a:chOff x="5894280" y="1203480"/>
              <a:chExt cx="685800" cy="343080"/>
            </a:xfrm>
          </p:grpSpPr>
          <p:sp>
            <p:nvSpPr>
              <p:cNvPr id="1034"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5" name=""/>
              <p:cNvGrpSpPr/>
              <p:nvPr/>
            </p:nvGrpSpPr>
            <p:grpSpPr>
              <a:xfrm>
                <a:off x="5940360" y="1236600"/>
                <a:ext cx="600120" cy="271440"/>
                <a:chOff x="5940360" y="1236600"/>
                <a:chExt cx="600120" cy="271440"/>
              </a:xfrm>
            </p:grpSpPr>
            <p:grpSp>
              <p:nvGrpSpPr>
                <p:cNvPr id="1036" name=""/>
                <p:cNvGrpSpPr/>
                <p:nvPr/>
              </p:nvGrpSpPr>
              <p:grpSpPr>
                <a:xfrm>
                  <a:off x="5940360" y="1247760"/>
                  <a:ext cx="167040" cy="254160"/>
                  <a:chOff x="5940360" y="1247760"/>
                  <a:chExt cx="167040" cy="254160"/>
                </a:xfrm>
              </p:grpSpPr>
              <p:sp>
                <p:nvSpPr>
                  <p:cNvPr id="1037"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42"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6" name=""/>
                <p:cNvGrpSpPr/>
                <p:nvPr/>
              </p:nvGrpSpPr>
              <p:grpSpPr>
                <a:xfrm>
                  <a:off x="6100920" y="1243080"/>
                  <a:ext cx="270000" cy="263520"/>
                  <a:chOff x="6100920" y="1243080"/>
                  <a:chExt cx="270000" cy="263520"/>
                </a:xfrm>
              </p:grpSpPr>
              <p:sp>
                <p:nvSpPr>
                  <p:cNvPr id="1047"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1"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2"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3"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4"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5"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6"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7"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8"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9"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0"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61" name=""/>
                <p:cNvGrpSpPr/>
                <p:nvPr/>
              </p:nvGrpSpPr>
              <p:grpSpPr>
                <a:xfrm>
                  <a:off x="6369120" y="1236600"/>
                  <a:ext cx="171360" cy="271440"/>
                  <a:chOff x="6369120" y="1236600"/>
                  <a:chExt cx="171360" cy="271440"/>
                </a:xfrm>
              </p:grpSpPr>
              <p:sp>
                <p:nvSpPr>
                  <p:cNvPr id="1062"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6"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7"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8"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9"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0"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1"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2"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3"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4"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5"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6"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7"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8"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9"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0"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1"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2"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3"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4"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5"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6"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7"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8"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9"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0"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1"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2"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3"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4"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5"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6"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7"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8"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9"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0"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1"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2"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3"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4"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5"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6"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7"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8"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9"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0"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1"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2"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3"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4"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5"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6"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7"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8"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9"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0"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1"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3"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4"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5"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6"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7"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8"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9"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0"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1"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2"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3"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4"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5"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6"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7"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8"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9"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0"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1"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2"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3"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4"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5"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6"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7"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8"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9"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0"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1"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2"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3"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4"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5"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6"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7"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8"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9"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0"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1"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2"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3"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4"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5"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6"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7"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8"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9"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0"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1"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2"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3"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4"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5"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6"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7"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8"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9"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0"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1"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2"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3"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4"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5"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6"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7"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8"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9"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0"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1"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2"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3"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4"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5"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6"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7"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8"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9"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0"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1"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2"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3"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4"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5"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6"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7"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8"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9"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0"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1"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2"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3"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4"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5"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6"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7"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8"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9"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0"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1"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2"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3"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4"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5"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6"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7"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8"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9"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0"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1"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2"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3"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4"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5"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6"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7"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8"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9"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0"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1"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242" name=""/>
            <p:cNvGrpSpPr/>
            <p:nvPr/>
          </p:nvGrpSpPr>
          <p:grpSpPr>
            <a:xfrm>
              <a:off x="3790800" y="2968560"/>
              <a:ext cx="343080" cy="685800"/>
              <a:chOff x="3790800" y="2968560"/>
              <a:chExt cx="343080" cy="685800"/>
            </a:xfrm>
          </p:grpSpPr>
          <p:sp>
            <p:nvSpPr>
              <p:cNvPr id="124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44" name=""/>
              <p:cNvGrpSpPr/>
              <p:nvPr/>
            </p:nvGrpSpPr>
            <p:grpSpPr>
              <a:xfrm>
                <a:off x="3828960" y="3014640"/>
                <a:ext cx="271800" cy="600120"/>
                <a:chOff x="3828960" y="3014640"/>
                <a:chExt cx="271800" cy="600120"/>
              </a:xfrm>
            </p:grpSpPr>
            <p:grpSp>
              <p:nvGrpSpPr>
                <p:cNvPr id="1245" name=""/>
                <p:cNvGrpSpPr/>
                <p:nvPr/>
              </p:nvGrpSpPr>
              <p:grpSpPr>
                <a:xfrm>
                  <a:off x="3835440" y="3014640"/>
                  <a:ext cx="254160" cy="167040"/>
                  <a:chOff x="3835440" y="3014640"/>
                  <a:chExt cx="254160" cy="167040"/>
                </a:xfrm>
              </p:grpSpPr>
              <p:sp>
                <p:nvSpPr>
                  <p:cNvPr id="124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255" name=""/>
                <p:cNvGrpSpPr/>
                <p:nvPr/>
              </p:nvGrpSpPr>
              <p:grpSpPr>
                <a:xfrm>
                  <a:off x="3830760" y="3174840"/>
                  <a:ext cx="263520" cy="270000"/>
                  <a:chOff x="3830760" y="3174840"/>
                  <a:chExt cx="263520" cy="270000"/>
                </a:xfrm>
              </p:grpSpPr>
              <p:sp>
                <p:nvSpPr>
                  <p:cNvPr id="125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6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270" name=""/>
                <p:cNvGrpSpPr/>
                <p:nvPr/>
              </p:nvGrpSpPr>
              <p:grpSpPr>
                <a:xfrm>
                  <a:off x="3828960" y="3443400"/>
                  <a:ext cx="271800" cy="171360"/>
                  <a:chOff x="3828960" y="3443400"/>
                  <a:chExt cx="271800" cy="171360"/>
                </a:xfrm>
              </p:grpSpPr>
              <p:sp>
                <p:nvSpPr>
                  <p:cNvPr id="127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5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451" name="" descr=""/>
            <p:cNvPicPr/>
            <p:nvPr/>
          </p:nvPicPr>
          <p:blipFill>
            <a:blip r:embed="rId4"/>
            <a:stretch/>
          </p:blipFill>
          <p:spPr>
            <a:xfrm>
              <a:off x="5059440" y="3360600"/>
              <a:ext cx="457200" cy="582480"/>
            </a:xfrm>
            <a:prstGeom prst="rect">
              <a:avLst/>
            </a:prstGeom>
            <a:ln w="0">
              <a:noFill/>
            </a:ln>
          </p:spPr>
        </p:pic>
        <p:pic>
          <p:nvPicPr>
            <p:cNvPr id="1452" name="" descr=""/>
            <p:cNvPicPr/>
            <p:nvPr/>
          </p:nvPicPr>
          <p:blipFill>
            <a:blip r:embed="rId5"/>
            <a:stretch/>
          </p:blipFill>
          <p:spPr>
            <a:xfrm>
              <a:off x="6049800" y="2293920"/>
              <a:ext cx="457200" cy="582480"/>
            </a:xfrm>
            <a:prstGeom prst="rect">
              <a:avLst/>
            </a:prstGeom>
            <a:ln w="0">
              <a:noFill/>
            </a:ln>
          </p:spPr>
        </p:pic>
        <p:pic>
          <p:nvPicPr>
            <p:cNvPr id="1453" name="" descr=""/>
            <p:cNvPicPr/>
            <p:nvPr/>
          </p:nvPicPr>
          <p:blipFill>
            <a:blip r:embed="rId6"/>
            <a:stretch/>
          </p:blipFill>
          <p:spPr>
            <a:xfrm>
              <a:off x="6049800" y="3208320"/>
              <a:ext cx="457200" cy="5824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
          <p:cNvSpPr txBox="1"/>
          <p:nvPr/>
        </p:nvSpPr>
        <p:spPr>
          <a:xfrm>
            <a:off x="474840" y="130320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ing the backbone</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Reduced VC requirements</a:t>
            </a:r>
            <a:endParaRPr b="0" lang="en-US" sz="20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Improved scalability</a:t>
            </a:r>
            <a:endParaRPr b="0" lang="en-US" sz="2000" spc="-1" strike="noStrike">
              <a:solidFill>
                <a:srgbClr val="000000"/>
              </a:solidFill>
              <a:latin typeface="Arial"/>
            </a:endParaRPr>
          </a:p>
        </p:txBody>
      </p:sp>
      <p:sp>
        <p:nvSpPr>
          <p:cNvPr id="1455"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6" name=""/>
          <p:cNvSpPr/>
          <p:nvPr/>
        </p:nvSpPr>
        <p:spPr>
          <a:xfrm>
            <a:off x="1484280" y="4106880"/>
            <a:ext cx="2007000" cy="1616400"/>
          </a:xfrm>
          <a:custGeom>
            <a:avLst/>
            <a:gdLst/>
            <a:ahLst/>
            <a:rect l="0" t="0" r="r" b="b"/>
            <a:pathLst>
              <a:path w="5575" h="4490">
                <a:moveTo>
                  <a:pt x="882" y="1063"/>
                </a:moveTo>
                <a:lnTo>
                  <a:pt x="934" y="940"/>
                </a:lnTo>
                <a:lnTo>
                  <a:pt x="1003" y="817"/>
                </a:lnTo>
                <a:lnTo>
                  <a:pt x="1107" y="716"/>
                </a:lnTo>
                <a:lnTo>
                  <a:pt x="1203" y="638"/>
                </a:lnTo>
                <a:lnTo>
                  <a:pt x="1324" y="582"/>
                </a:lnTo>
                <a:lnTo>
                  <a:pt x="1472" y="526"/>
                </a:lnTo>
                <a:lnTo>
                  <a:pt x="1636" y="492"/>
                </a:lnTo>
                <a:lnTo>
                  <a:pt x="1809" y="481"/>
                </a:lnTo>
                <a:lnTo>
                  <a:pt x="2026" y="492"/>
                </a:lnTo>
                <a:lnTo>
                  <a:pt x="2208" y="503"/>
                </a:lnTo>
                <a:lnTo>
                  <a:pt x="2337" y="391"/>
                </a:lnTo>
                <a:lnTo>
                  <a:pt x="2450" y="279"/>
                </a:lnTo>
                <a:lnTo>
                  <a:pt x="2614" y="167"/>
                </a:lnTo>
                <a:lnTo>
                  <a:pt x="2805" y="78"/>
                </a:lnTo>
                <a:lnTo>
                  <a:pt x="3038" y="11"/>
                </a:lnTo>
                <a:lnTo>
                  <a:pt x="3272" y="0"/>
                </a:lnTo>
                <a:lnTo>
                  <a:pt x="3480" y="33"/>
                </a:lnTo>
                <a:lnTo>
                  <a:pt x="3714" y="111"/>
                </a:lnTo>
                <a:lnTo>
                  <a:pt x="3852" y="212"/>
                </a:lnTo>
                <a:lnTo>
                  <a:pt x="3982" y="324"/>
                </a:lnTo>
                <a:lnTo>
                  <a:pt x="4103" y="470"/>
                </a:lnTo>
                <a:lnTo>
                  <a:pt x="4155" y="615"/>
                </a:lnTo>
                <a:lnTo>
                  <a:pt x="4338" y="615"/>
                </a:lnTo>
                <a:lnTo>
                  <a:pt x="4511" y="649"/>
                </a:lnTo>
                <a:lnTo>
                  <a:pt x="4667" y="727"/>
                </a:lnTo>
                <a:lnTo>
                  <a:pt x="4770" y="839"/>
                </a:lnTo>
                <a:lnTo>
                  <a:pt x="4874" y="996"/>
                </a:lnTo>
                <a:lnTo>
                  <a:pt x="4926" y="1130"/>
                </a:lnTo>
                <a:lnTo>
                  <a:pt x="4944" y="1253"/>
                </a:lnTo>
                <a:lnTo>
                  <a:pt x="5047" y="1276"/>
                </a:lnTo>
                <a:lnTo>
                  <a:pt x="5151" y="1320"/>
                </a:lnTo>
                <a:lnTo>
                  <a:pt x="5238" y="1376"/>
                </a:lnTo>
                <a:lnTo>
                  <a:pt x="5324" y="1444"/>
                </a:lnTo>
                <a:lnTo>
                  <a:pt x="5385" y="1500"/>
                </a:lnTo>
                <a:lnTo>
                  <a:pt x="5446" y="1578"/>
                </a:lnTo>
                <a:lnTo>
                  <a:pt x="5506" y="1679"/>
                </a:lnTo>
                <a:lnTo>
                  <a:pt x="5532" y="1802"/>
                </a:lnTo>
                <a:lnTo>
                  <a:pt x="5541" y="1891"/>
                </a:lnTo>
                <a:lnTo>
                  <a:pt x="5523" y="1992"/>
                </a:lnTo>
                <a:lnTo>
                  <a:pt x="5480" y="2104"/>
                </a:lnTo>
                <a:lnTo>
                  <a:pt x="5532" y="2227"/>
                </a:lnTo>
                <a:lnTo>
                  <a:pt x="5558" y="2340"/>
                </a:lnTo>
                <a:lnTo>
                  <a:pt x="5567" y="2463"/>
                </a:lnTo>
                <a:lnTo>
                  <a:pt x="5541" y="2620"/>
                </a:lnTo>
                <a:lnTo>
                  <a:pt x="5523" y="2710"/>
                </a:lnTo>
                <a:lnTo>
                  <a:pt x="5454" y="2822"/>
                </a:lnTo>
                <a:lnTo>
                  <a:pt x="5541" y="2978"/>
                </a:lnTo>
                <a:lnTo>
                  <a:pt x="5567" y="3068"/>
                </a:lnTo>
                <a:lnTo>
                  <a:pt x="5575" y="3213"/>
                </a:lnTo>
                <a:lnTo>
                  <a:pt x="5558" y="3348"/>
                </a:lnTo>
                <a:lnTo>
                  <a:pt x="5506" y="3504"/>
                </a:lnTo>
                <a:lnTo>
                  <a:pt x="5446" y="3605"/>
                </a:lnTo>
                <a:lnTo>
                  <a:pt x="5350" y="3717"/>
                </a:lnTo>
                <a:lnTo>
                  <a:pt x="5177" y="3818"/>
                </a:lnTo>
                <a:lnTo>
                  <a:pt x="5004" y="3851"/>
                </a:lnTo>
                <a:lnTo>
                  <a:pt x="4848" y="3829"/>
                </a:lnTo>
                <a:lnTo>
                  <a:pt x="4744" y="3773"/>
                </a:lnTo>
                <a:lnTo>
                  <a:pt x="4667" y="3874"/>
                </a:lnTo>
                <a:lnTo>
                  <a:pt x="4589" y="3963"/>
                </a:lnTo>
                <a:lnTo>
                  <a:pt x="4528" y="4019"/>
                </a:lnTo>
                <a:lnTo>
                  <a:pt x="4398" y="4087"/>
                </a:lnTo>
                <a:lnTo>
                  <a:pt x="4286" y="4143"/>
                </a:lnTo>
                <a:lnTo>
                  <a:pt x="4120" y="4176"/>
                </a:lnTo>
                <a:lnTo>
                  <a:pt x="3956" y="4165"/>
                </a:lnTo>
                <a:lnTo>
                  <a:pt x="3800" y="4120"/>
                </a:lnTo>
                <a:lnTo>
                  <a:pt x="3662" y="4031"/>
                </a:lnTo>
                <a:lnTo>
                  <a:pt x="3575" y="4187"/>
                </a:lnTo>
                <a:lnTo>
                  <a:pt x="3497" y="4266"/>
                </a:lnTo>
                <a:lnTo>
                  <a:pt x="3393" y="4344"/>
                </a:lnTo>
                <a:lnTo>
                  <a:pt x="3281" y="4400"/>
                </a:lnTo>
                <a:lnTo>
                  <a:pt x="3151" y="4422"/>
                </a:lnTo>
                <a:lnTo>
                  <a:pt x="3030" y="4422"/>
                </a:lnTo>
                <a:lnTo>
                  <a:pt x="2917" y="4400"/>
                </a:lnTo>
                <a:lnTo>
                  <a:pt x="2770" y="4322"/>
                </a:lnTo>
                <a:lnTo>
                  <a:pt x="2684" y="4243"/>
                </a:lnTo>
                <a:lnTo>
                  <a:pt x="2606" y="4344"/>
                </a:lnTo>
                <a:lnTo>
                  <a:pt x="2528" y="4400"/>
                </a:lnTo>
                <a:lnTo>
                  <a:pt x="2424" y="4445"/>
                </a:lnTo>
                <a:lnTo>
                  <a:pt x="2285" y="4490"/>
                </a:lnTo>
                <a:lnTo>
                  <a:pt x="2138" y="4478"/>
                </a:lnTo>
                <a:lnTo>
                  <a:pt x="1983" y="4434"/>
                </a:lnTo>
                <a:lnTo>
                  <a:pt x="1861" y="4366"/>
                </a:lnTo>
                <a:lnTo>
                  <a:pt x="1757" y="4243"/>
                </a:lnTo>
                <a:lnTo>
                  <a:pt x="1688" y="4120"/>
                </a:lnTo>
                <a:lnTo>
                  <a:pt x="1576" y="4165"/>
                </a:lnTo>
                <a:lnTo>
                  <a:pt x="1437" y="4187"/>
                </a:lnTo>
                <a:lnTo>
                  <a:pt x="1280" y="4187"/>
                </a:lnTo>
                <a:lnTo>
                  <a:pt x="1151" y="4120"/>
                </a:lnTo>
                <a:lnTo>
                  <a:pt x="1038" y="4042"/>
                </a:lnTo>
                <a:lnTo>
                  <a:pt x="952" y="3963"/>
                </a:lnTo>
                <a:lnTo>
                  <a:pt x="882" y="3840"/>
                </a:lnTo>
                <a:lnTo>
                  <a:pt x="856" y="3717"/>
                </a:lnTo>
                <a:lnTo>
                  <a:pt x="787" y="3751"/>
                </a:lnTo>
                <a:lnTo>
                  <a:pt x="657" y="3751"/>
                </a:lnTo>
                <a:lnTo>
                  <a:pt x="519" y="3717"/>
                </a:lnTo>
                <a:lnTo>
                  <a:pt x="372" y="3628"/>
                </a:lnTo>
                <a:lnTo>
                  <a:pt x="276" y="3516"/>
                </a:lnTo>
                <a:lnTo>
                  <a:pt x="190" y="3370"/>
                </a:lnTo>
                <a:lnTo>
                  <a:pt x="147" y="3213"/>
                </a:lnTo>
                <a:lnTo>
                  <a:pt x="121" y="3001"/>
                </a:lnTo>
                <a:lnTo>
                  <a:pt x="129" y="2855"/>
                </a:lnTo>
                <a:lnTo>
                  <a:pt x="173" y="2642"/>
                </a:lnTo>
                <a:lnTo>
                  <a:pt x="77" y="2519"/>
                </a:lnTo>
                <a:lnTo>
                  <a:pt x="25" y="2363"/>
                </a:lnTo>
                <a:lnTo>
                  <a:pt x="0" y="2194"/>
                </a:lnTo>
                <a:lnTo>
                  <a:pt x="0" y="2015"/>
                </a:lnTo>
                <a:lnTo>
                  <a:pt x="34" y="1824"/>
                </a:lnTo>
                <a:lnTo>
                  <a:pt x="95" y="1690"/>
                </a:lnTo>
                <a:lnTo>
                  <a:pt x="207" y="1533"/>
                </a:lnTo>
                <a:lnTo>
                  <a:pt x="328" y="1421"/>
                </a:lnTo>
                <a:lnTo>
                  <a:pt x="458" y="1309"/>
                </a:lnTo>
                <a:lnTo>
                  <a:pt x="588" y="1242"/>
                </a:lnTo>
                <a:lnTo>
                  <a:pt x="727" y="1197"/>
                </a:lnTo>
                <a:lnTo>
                  <a:pt x="839" y="1164"/>
                </a:lnTo>
                <a:lnTo>
                  <a:pt x="882" y="1063"/>
                </a:lnTo>
                <a:close/>
              </a:path>
            </a:pathLst>
          </a:custGeom>
          <a:gradFill rotWithShape="0">
            <a:gsLst>
              <a:gs pos="0">
                <a:srgbClr val="ffcc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flipV="1">
            <a:off x="3173400" y="4049640"/>
            <a:ext cx="1440000" cy="48888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8" name=""/>
          <p:cNvSpPr/>
          <p:nvPr/>
        </p:nvSpPr>
        <p:spPr>
          <a:xfrm flipH="1" flipV="1">
            <a:off x="4638600" y="4152960"/>
            <a:ext cx="846360" cy="5634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9" name=""/>
          <p:cNvSpPr/>
          <p:nvPr/>
        </p:nvSpPr>
        <p:spPr>
          <a:xfrm>
            <a:off x="5386320" y="3225960"/>
            <a:ext cx="1260720" cy="15372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0" name=""/>
          <p:cNvSpPr/>
          <p:nvPr/>
        </p:nvSpPr>
        <p:spPr>
          <a:xfrm>
            <a:off x="3919680" y="3303720"/>
            <a:ext cx="1467360" cy="875160"/>
          </a:xfrm>
          <a:custGeom>
            <a:avLst/>
            <a:gdLst/>
            <a:ahLst/>
            <a:rect l="0" t="0" r="r" b="b"/>
            <a:pathLst>
              <a:path fill="none" w="4076" h="2431">
                <a:moveTo>
                  <a:pt x="0" y="0"/>
                </a:moveTo>
                <a:lnTo>
                  <a:pt x="4076" y="0"/>
                </a:lnTo>
                <a:lnTo>
                  <a:pt x="2069" y="2431"/>
                </a:lnTo>
              </a:path>
            </a:pathLst>
          </a:custGeom>
          <a:ln w="38160">
            <a:solidFill>
              <a:srgbClr val="ffcc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61"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2eaf"/>
                </a:solidFill>
                <a:latin typeface="Impact"/>
                <a:ea typeface="Impact"/>
              </a:rPr>
              <a:t>Multi-Point to Point VC Merging</a:t>
            </a:r>
            <a:endParaRPr b="0" lang="en-US" sz="4000" spc="-1" strike="noStrike">
              <a:solidFill>
                <a:srgbClr val="000000"/>
              </a:solidFill>
              <a:latin typeface="Arial"/>
            </a:endParaRPr>
          </a:p>
        </p:txBody>
      </p:sp>
      <p:sp>
        <p:nvSpPr>
          <p:cNvPr id="1462" name=""/>
          <p:cNvSpPr txBox="1"/>
          <p:nvPr/>
        </p:nvSpPr>
        <p:spPr>
          <a:xfrm>
            <a:off x="3908520" y="2373480"/>
            <a:ext cx="16970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Switch</a:t>
            </a:r>
            <a:br>
              <a:rPr sz="1600"/>
            </a:br>
            <a:r>
              <a:rPr b="1" lang="en-US" sz="1600" spc="-1" strike="noStrike">
                <a:solidFill>
                  <a:srgbClr val="ffffff"/>
                </a:solidFill>
                <a:latin typeface="Arial"/>
                <a:ea typeface="Arial"/>
              </a:rPr>
              <a:t>WAN Backbone</a:t>
            </a:r>
            <a:endParaRPr b="0" lang="en-US" sz="1600" spc="-1" strike="noStrike">
              <a:solidFill>
                <a:srgbClr val="000000"/>
              </a:solidFill>
              <a:latin typeface="Arial"/>
            </a:endParaRPr>
          </a:p>
        </p:txBody>
      </p:sp>
      <p:pic>
        <p:nvPicPr>
          <p:cNvPr id="1463" name="" descr=""/>
          <p:cNvPicPr/>
          <p:nvPr/>
        </p:nvPicPr>
        <p:blipFill>
          <a:blip r:embed="rId1"/>
          <a:stretch/>
        </p:blipFill>
        <p:spPr>
          <a:xfrm>
            <a:off x="5305320" y="4513320"/>
            <a:ext cx="690480" cy="380880"/>
          </a:xfrm>
          <a:prstGeom prst="rect">
            <a:avLst/>
          </a:prstGeom>
          <a:ln w="0">
            <a:noFill/>
          </a:ln>
        </p:spPr>
      </p:pic>
      <p:pic>
        <p:nvPicPr>
          <p:cNvPr id="1464" name="" descr=""/>
          <p:cNvPicPr/>
          <p:nvPr/>
        </p:nvPicPr>
        <p:blipFill>
          <a:blip r:embed="rId2"/>
          <a:stretch/>
        </p:blipFill>
        <p:spPr>
          <a:xfrm>
            <a:off x="6288120" y="3141720"/>
            <a:ext cx="690480" cy="380880"/>
          </a:xfrm>
          <a:prstGeom prst="rect">
            <a:avLst/>
          </a:prstGeom>
          <a:ln w="0">
            <a:noFill/>
          </a:ln>
        </p:spPr>
      </p:pic>
      <p:sp>
        <p:nvSpPr>
          <p:cNvPr id="1465" name=""/>
          <p:cNvSpPr txBox="1"/>
          <p:nvPr/>
        </p:nvSpPr>
        <p:spPr>
          <a:xfrm>
            <a:off x="5100480" y="3584520"/>
            <a:ext cx="993600" cy="30492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622 Mbps</a:t>
            </a:r>
            <a:endParaRPr b="0" lang="en-US" sz="1400" spc="-1" strike="noStrike">
              <a:solidFill>
                <a:srgbClr val="000000"/>
              </a:solidFill>
              <a:latin typeface="Arial"/>
            </a:endParaRPr>
          </a:p>
        </p:txBody>
      </p:sp>
      <p:sp>
        <p:nvSpPr>
          <p:cNvPr id="1466" name=""/>
          <p:cNvSpPr/>
          <p:nvPr/>
        </p:nvSpPr>
        <p:spPr>
          <a:xfrm flipV="1">
            <a:off x="5383080" y="2324160"/>
            <a:ext cx="492120" cy="9000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7" name=""/>
          <p:cNvSpPr/>
          <p:nvPr/>
        </p:nvSpPr>
        <p:spPr>
          <a:xfrm flipH="1" flipV="1">
            <a:off x="3424320" y="2455920"/>
            <a:ext cx="438120" cy="7668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468" name="" descr=""/>
          <p:cNvPicPr/>
          <p:nvPr/>
        </p:nvPicPr>
        <p:blipFill>
          <a:blip r:embed="rId3"/>
          <a:stretch/>
        </p:blipFill>
        <p:spPr>
          <a:xfrm>
            <a:off x="4948200" y="2981160"/>
            <a:ext cx="927000" cy="480960"/>
          </a:xfrm>
          <a:prstGeom prst="rect">
            <a:avLst/>
          </a:prstGeom>
          <a:ln w="0">
            <a:noFill/>
          </a:ln>
        </p:spPr>
      </p:pic>
      <p:pic>
        <p:nvPicPr>
          <p:cNvPr id="1469" name="" descr=""/>
          <p:cNvPicPr/>
          <p:nvPr/>
        </p:nvPicPr>
        <p:blipFill>
          <a:blip r:embed="rId4"/>
          <a:stretch/>
        </p:blipFill>
        <p:spPr>
          <a:xfrm>
            <a:off x="4175280" y="3755880"/>
            <a:ext cx="927000" cy="480960"/>
          </a:xfrm>
          <a:prstGeom prst="rect">
            <a:avLst/>
          </a:prstGeom>
          <a:ln w="0">
            <a:noFill/>
          </a:ln>
        </p:spPr>
      </p:pic>
      <p:pic>
        <p:nvPicPr>
          <p:cNvPr id="1470" name="" descr=""/>
          <p:cNvPicPr/>
          <p:nvPr/>
        </p:nvPicPr>
        <p:blipFill>
          <a:blip r:embed="rId5"/>
          <a:stretch/>
        </p:blipFill>
        <p:spPr>
          <a:xfrm>
            <a:off x="3506760" y="2981160"/>
            <a:ext cx="927000" cy="480960"/>
          </a:xfrm>
          <a:prstGeom prst="rect">
            <a:avLst/>
          </a:prstGeom>
          <a:ln w="0">
            <a:noFill/>
          </a:ln>
        </p:spPr>
      </p:pic>
      <p:sp>
        <p:nvSpPr>
          <p:cNvPr id="1471" name=""/>
          <p:cNvSpPr/>
          <p:nvPr/>
        </p:nvSpPr>
        <p:spPr>
          <a:xfrm flipV="1">
            <a:off x="2090880" y="4525920"/>
            <a:ext cx="909360" cy="114480"/>
          </a:xfrm>
          <a:prstGeom prst="line">
            <a:avLst/>
          </a:prstGeom>
          <a:ln w="25560">
            <a:solidFill>
              <a:srgbClr val="0000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1472" name=""/>
          <p:cNvSpPr/>
          <p:nvPr/>
        </p:nvSpPr>
        <p:spPr>
          <a:xfrm flipV="1">
            <a:off x="2149560" y="4554360"/>
            <a:ext cx="907920" cy="26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3" name=""/>
          <p:cNvSpPr/>
          <p:nvPr/>
        </p:nvSpPr>
        <p:spPr>
          <a:xfrm flipV="1">
            <a:off x="2336760" y="4583160"/>
            <a:ext cx="706320" cy="360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4" name=""/>
          <p:cNvSpPr/>
          <p:nvPr/>
        </p:nvSpPr>
        <p:spPr>
          <a:xfrm flipV="1">
            <a:off x="2509920" y="4583160"/>
            <a:ext cx="504720" cy="461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5" name=""/>
          <p:cNvSpPr/>
          <p:nvPr/>
        </p:nvSpPr>
        <p:spPr>
          <a:xfrm flipV="1">
            <a:off x="2725560" y="4554360"/>
            <a:ext cx="289080" cy="576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76" name="" descr=""/>
          <p:cNvPicPr/>
          <p:nvPr/>
        </p:nvPicPr>
        <p:blipFill>
          <a:blip r:embed="rId6"/>
          <a:stretch/>
        </p:blipFill>
        <p:spPr>
          <a:xfrm>
            <a:off x="2865600" y="4329000"/>
            <a:ext cx="690480" cy="380880"/>
          </a:xfrm>
          <a:prstGeom prst="rect">
            <a:avLst/>
          </a:prstGeom>
          <a:ln w="0">
            <a:noFill/>
          </a:ln>
        </p:spPr>
      </p:pic>
      <p:sp>
        <p:nvSpPr>
          <p:cNvPr id="1477" name=""/>
          <p:cNvSpPr txBox="1"/>
          <p:nvPr/>
        </p:nvSpPr>
        <p:spPr>
          <a:xfrm>
            <a:off x="911160" y="2124000"/>
            <a:ext cx="1082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hared VC</a:t>
            </a:r>
            <a:endParaRPr b="0" lang="en-US" sz="1400" spc="-1" strike="noStrike">
              <a:solidFill>
                <a:srgbClr val="000000"/>
              </a:solidFill>
              <a:latin typeface="Arial"/>
            </a:endParaRPr>
          </a:p>
        </p:txBody>
      </p:sp>
      <p:sp>
        <p:nvSpPr>
          <p:cNvPr id="1478" name=""/>
          <p:cNvSpPr/>
          <p:nvPr/>
        </p:nvSpPr>
        <p:spPr>
          <a:xfrm>
            <a:off x="1809720" y="2424240"/>
            <a:ext cx="1392840" cy="652680"/>
          </a:xfrm>
          <a:custGeom>
            <a:avLst/>
            <a:gdLst/>
            <a:ahLst/>
            <a:rect l="0" t="0" r="r" b="b"/>
            <a:pathLst>
              <a:path fill="none" w="3869" h="1813">
                <a:moveTo>
                  <a:pt x="3869" y="1813"/>
                </a:moveTo>
                <a:lnTo>
                  <a:pt x="3869" y="1813"/>
                </a:lnTo>
                <a:lnTo>
                  <a:pt x="3869" y="1813"/>
                </a:lnTo>
                <a:cubicBezTo>
                  <a:pt x="3869" y="1495"/>
                  <a:pt x="3730" y="1182"/>
                  <a:pt x="3466" y="906"/>
                </a:cubicBezTo>
                <a:cubicBezTo>
                  <a:pt x="3201" y="631"/>
                  <a:pt x="2821" y="402"/>
                  <a:pt x="2364" y="243"/>
                </a:cubicBezTo>
                <a:cubicBezTo>
                  <a:pt x="1906" y="84"/>
                  <a:pt x="1387" y="0"/>
                  <a:pt x="858" y="0"/>
                </a:cubicBezTo>
                <a:cubicBezTo>
                  <a:pt x="568" y="0"/>
                  <a:pt x="279" y="25"/>
                  <a:pt x="0" y="75"/>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1479" name="" descr=""/>
          <p:cNvPicPr/>
          <p:nvPr/>
        </p:nvPicPr>
        <p:blipFill>
          <a:blip r:embed="rId7"/>
          <a:stretch/>
        </p:blipFill>
        <p:spPr>
          <a:xfrm>
            <a:off x="3052800" y="2141640"/>
            <a:ext cx="690480" cy="380880"/>
          </a:xfrm>
          <a:prstGeom prst="rect">
            <a:avLst/>
          </a:prstGeom>
          <a:ln w="0">
            <a:noFill/>
          </a:ln>
        </p:spPr>
      </p:pic>
      <p:pic>
        <p:nvPicPr>
          <p:cNvPr id="1480" name="" descr=""/>
          <p:cNvPicPr/>
          <p:nvPr/>
        </p:nvPicPr>
        <p:blipFill>
          <a:blip r:embed="rId8"/>
          <a:stretch/>
        </p:blipFill>
        <p:spPr>
          <a:xfrm>
            <a:off x="5551560" y="2122560"/>
            <a:ext cx="690480" cy="380880"/>
          </a:xfrm>
          <a:prstGeom prst="rect">
            <a:avLst/>
          </a:prstGeom>
          <a:ln w="0">
            <a:noFill/>
          </a:ln>
        </p:spPr>
      </p:pic>
      <p:grpSp>
        <p:nvGrpSpPr>
          <p:cNvPr id="1481" name=""/>
          <p:cNvGrpSpPr/>
          <p:nvPr/>
        </p:nvGrpSpPr>
        <p:grpSpPr>
          <a:xfrm>
            <a:off x="5418000" y="2373480"/>
            <a:ext cx="1143000" cy="990360"/>
            <a:chOff x="5418000" y="2373480"/>
            <a:chExt cx="1143000" cy="990360"/>
          </a:xfrm>
        </p:grpSpPr>
        <p:sp>
          <p:nvSpPr>
            <p:cNvPr id="1482" name=""/>
            <p:cNvSpPr/>
            <p:nvPr/>
          </p:nvSpPr>
          <p:spPr>
            <a:xfrm flipH="1">
              <a:off x="5418000" y="2373480"/>
              <a:ext cx="419400" cy="78732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3" name=""/>
            <p:cNvSpPr/>
            <p:nvPr/>
          </p:nvSpPr>
          <p:spPr>
            <a:xfrm flipH="1" flipV="1">
              <a:off x="5430960" y="3224160"/>
              <a:ext cx="1130040" cy="13968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484" name=""/>
          <p:cNvGrpSpPr/>
          <p:nvPr/>
        </p:nvGrpSpPr>
        <p:grpSpPr>
          <a:xfrm>
            <a:off x="3424320" y="2449440"/>
            <a:ext cx="2057400" cy="2247840"/>
            <a:chOff x="3424320" y="2449440"/>
            <a:chExt cx="2057400" cy="2247840"/>
          </a:xfrm>
        </p:grpSpPr>
        <p:sp>
          <p:nvSpPr>
            <p:cNvPr id="1485" name=""/>
            <p:cNvSpPr/>
            <p:nvPr/>
          </p:nvSpPr>
          <p:spPr>
            <a:xfrm>
              <a:off x="3424320" y="2449440"/>
              <a:ext cx="1105200" cy="1524240"/>
            </a:xfrm>
            <a:custGeom>
              <a:avLst/>
              <a:gdLst/>
              <a:ahLst/>
              <a:rect l="0" t="0" r="r" b="b"/>
              <a:pathLst>
                <a:path fill="none" w="3070" h="4234">
                  <a:moveTo>
                    <a:pt x="0" y="0"/>
                  </a:moveTo>
                  <a:lnTo>
                    <a:pt x="1340" y="2329"/>
                  </a:lnTo>
                  <a:lnTo>
                    <a:pt x="3070" y="4234"/>
                  </a:ln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486" name=""/>
            <p:cNvSpPr/>
            <p:nvPr/>
          </p:nvSpPr>
          <p:spPr>
            <a:xfrm flipH="1">
              <a:off x="4859280" y="3249720"/>
              <a:ext cx="571680" cy="685800"/>
            </a:xfrm>
            <a:prstGeom prst="line">
              <a:avLst/>
            </a:prstGeom>
            <a:ln w="38160">
              <a:solidFill>
                <a:srgbClr val="4bc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7" name=""/>
            <p:cNvSpPr/>
            <p:nvPr/>
          </p:nvSpPr>
          <p:spPr>
            <a:xfrm flipH="1" flipV="1">
              <a:off x="4656240" y="4151160"/>
              <a:ext cx="825480" cy="546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88" name=""/>
          <p:cNvSpPr/>
          <p:nvPr/>
        </p:nvSpPr>
        <p:spPr>
          <a:xfrm flipH="1">
            <a:off x="3475080" y="4151160"/>
            <a:ext cx="825480" cy="29232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89" name=""/>
          <p:cNvGrpSpPr/>
          <p:nvPr/>
        </p:nvGrpSpPr>
        <p:grpSpPr>
          <a:xfrm>
            <a:off x="2684520" y="2021040"/>
            <a:ext cx="4294080" cy="3034440"/>
            <a:chOff x="2684520" y="2021040"/>
            <a:chExt cx="4294080" cy="3034440"/>
          </a:xfrm>
        </p:grpSpPr>
        <p:sp>
          <p:nvSpPr>
            <p:cNvPr id="1490"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91" name="" descr=""/>
            <p:cNvPicPr/>
            <p:nvPr/>
          </p:nvPicPr>
          <p:blipFill>
            <a:blip r:embed="rId9"/>
            <a:stretch/>
          </p:blipFill>
          <p:spPr>
            <a:xfrm>
              <a:off x="2865600" y="4329000"/>
              <a:ext cx="690480" cy="380880"/>
            </a:xfrm>
            <a:prstGeom prst="rect">
              <a:avLst/>
            </a:prstGeom>
            <a:ln w="0">
              <a:noFill/>
            </a:ln>
          </p:spPr>
        </p:pic>
        <p:sp>
          <p:nvSpPr>
            <p:cNvPr id="1492" name=""/>
            <p:cNvSpPr/>
            <p:nvPr/>
          </p:nvSpPr>
          <p:spPr>
            <a:xfrm>
              <a:off x="3559320" y="2430360"/>
              <a:ext cx="2076840" cy="1973520"/>
            </a:xfrm>
            <a:custGeom>
              <a:avLst/>
              <a:gdLst/>
              <a:ahLst/>
              <a:rect l="0" t="0" r="r" b="b"/>
              <a:pathLst>
                <a:path w="5769" h="5482">
                  <a:moveTo>
                    <a:pt x="2459" y="0"/>
                  </a:moveTo>
                  <a:lnTo>
                    <a:pt x="1773" y="3376"/>
                  </a:lnTo>
                  <a:lnTo>
                    <a:pt x="87" y="4908"/>
                  </a:lnTo>
                  <a:lnTo>
                    <a:pt x="46" y="4954"/>
                  </a:lnTo>
                  <a:lnTo>
                    <a:pt x="25" y="4995"/>
                  </a:lnTo>
                  <a:lnTo>
                    <a:pt x="10" y="5031"/>
                  </a:lnTo>
                  <a:lnTo>
                    <a:pt x="5" y="5067"/>
                  </a:lnTo>
                  <a:lnTo>
                    <a:pt x="0" y="5108"/>
                  </a:lnTo>
                  <a:lnTo>
                    <a:pt x="10" y="5149"/>
                  </a:lnTo>
                  <a:lnTo>
                    <a:pt x="15" y="5205"/>
                  </a:lnTo>
                  <a:lnTo>
                    <a:pt x="40" y="5256"/>
                  </a:lnTo>
                  <a:lnTo>
                    <a:pt x="71" y="5313"/>
                  </a:lnTo>
                  <a:lnTo>
                    <a:pt x="92" y="5343"/>
                  </a:lnTo>
                  <a:lnTo>
                    <a:pt x="117" y="5374"/>
                  </a:lnTo>
                  <a:lnTo>
                    <a:pt x="148" y="5400"/>
                  </a:lnTo>
                  <a:lnTo>
                    <a:pt x="189" y="5425"/>
                  </a:lnTo>
                  <a:lnTo>
                    <a:pt x="230" y="5451"/>
                  </a:lnTo>
                  <a:lnTo>
                    <a:pt x="276" y="5466"/>
                  </a:lnTo>
                  <a:lnTo>
                    <a:pt x="312" y="5477"/>
                  </a:lnTo>
                  <a:lnTo>
                    <a:pt x="368" y="5482"/>
                  </a:lnTo>
                  <a:lnTo>
                    <a:pt x="409" y="5477"/>
                  </a:lnTo>
                  <a:lnTo>
                    <a:pt x="466" y="5461"/>
                  </a:lnTo>
                  <a:lnTo>
                    <a:pt x="512" y="5436"/>
                  </a:lnTo>
                  <a:lnTo>
                    <a:pt x="2388" y="4042"/>
                  </a:lnTo>
                  <a:lnTo>
                    <a:pt x="5769" y="3945"/>
                  </a:lnTo>
                  <a:lnTo>
                    <a:pt x="2459"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4439880" y="2387520"/>
              <a:ext cx="1245600" cy="1465920"/>
            </a:xfrm>
            <a:custGeom>
              <a:avLst/>
              <a:gdLst/>
              <a:ahLst/>
              <a:rect l="0" t="0" r="r" b="b"/>
              <a:pathLst>
                <a:path w="3460" h="4072">
                  <a:moveTo>
                    <a:pt x="43" y="25"/>
                  </a:moveTo>
                  <a:lnTo>
                    <a:pt x="43" y="25"/>
                  </a:lnTo>
                  <a:lnTo>
                    <a:pt x="43" y="25"/>
                  </a:lnTo>
                  <a:cubicBezTo>
                    <a:pt x="-24" y="81"/>
                    <a:pt x="-12" y="230"/>
                    <a:pt x="77" y="455"/>
                  </a:cubicBezTo>
                  <a:cubicBezTo>
                    <a:pt x="167" y="681"/>
                    <a:pt x="332" y="975"/>
                    <a:pt x="555" y="1309"/>
                  </a:cubicBezTo>
                  <a:cubicBezTo>
                    <a:pt x="777" y="1643"/>
                    <a:pt x="1051" y="2004"/>
                    <a:pt x="1347" y="2357"/>
                  </a:cubicBezTo>
                  <a:cubicBezTo>
                    <a:pt x="1643" y="2710"/>
                    <a:pt x="1952" y="3042"/>
                    <a:pt x="2242" y="3319"/>
                  </a:cubicBezTo>
                  <a:cubicBezTo>
                    <a:pt x="2532" y="3597"/>
                    <a:pt x="2793" y="3810"/>
                    <a:pt x="2999" y="3937"/>
                  </a:cubicBezTo>
                  <a:cubicBezTo>
                    <a:pt x="3206" y="4065"/>
                    <a:pt x="3350" y="4102"/>
                    <a:pt x="3417" y="4046"/>
                  </a:cubicBezTo>
                  <a:lnTo>
                    <a:pt x="3417" y="4046"/>
                  </a:lnTo>
                  <a:lnTo>
                    <a:pt x="3417" y="4046"/>
                  </a:lnTo>
                  <a:cubicBezTo>
                    <a:pt x="3484" y="3990"/>
                    <a:pt x="3472" y="3841"/>
                    <a:pt x="3383" y="3616"/>
                  </a:cubicBezTo>
                  <a:cubicBezTo>
                    <a:pt x="3293" y="3390"/>
                    <a:pt x="3128" y="3096"/>
                    <a:pt x="2905" y="2762"/>
                  </a:cubicBezTo>
                  <a:cubicBezTo>
                    <a:pt x="2683" y="2428"/>
                    <a:pt x="2409" y="2067"/>
                    <a:pt x="2113" y="1714"/>
                  </a:cubicBezTo>
                  <a:cubicBezTo>
                    <a:pt x="1817" y="1361"/>
                    <a:pt x="1508" y="1029"/>
                    <a:pt x="1218" y="752"/>
                  </a:cubicBezTo>
                  <a:cubicBezTo>
                    <a:pt x="928" y="474"/>
                    <a:pt x="667" y="261"/>
                    <a:pt x="461" y="134"/>
                  </a:cubicBezTo>
                  <a:cubicBezTo>
                    <a:pt x="254" y="6"/>
                    <a:pt x="110" y="-31"/>
                    <a:pt x="43" y="25"/>
                  </a:cubicBez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618000" y="2576520"/>
              <a:ext cx="1899000" cy="1767240"/>
            </a:xfrm>
            <a:custGeom>
              <a:avLst/>
              <a:gdLst/>
              <a:ahLst/>
              <a:rect l="0" t="0" r="r" b="b"/>
              <a:pathLst>
                <a:path w="5275" h="4909">
                  <a:moveTo>
                    <a:pt x="2375" y="0"/>
                  </a:moveTo>
                  <a:lnTo>
                    <a:pt x="1802" y="3028"/>
                  </a:lnTo>
                  <a:lnTo>
                    <a:pt x="40" y="4581"/>
                  </a:lnTo>
                  <a:lnTo>
                    <a:pt x="20" y="4616"/>
                  </a:lnTo>
                  <a:lnTo>
                    <a:pt x="10" y="4657"/>
                  </a:lnTo>
                  <a:lnTo>
                    <a:pt x="0" y="4693"/>
                  </a:lnTo>
                  <a:lnTo>
                    <a:pt x="5" y="4739"/>
                  </a:lnTo>
                  <a:lnTo>
                    <a:pt x="15" y="4780"/>
                  </a:lnTo>
                  <a:lnTo>
                    <a:pt x="40" y="4821"/>
                  </a:lnTo>
                  <a:lnTo>
                    <a:pt x="76" y="4857"/>
                  </a:lnTo>
                  <a:lnTo>
                    <a:pt x="117" y="4893"/>
                  </a:lnTo>
                  <a:lnTo>
                    <a:pt x="168" y="4909"/>
                  </a:lnTo>
                  <a:lnTo>
                    <a:pt x="215" y="4909"/>
                  </a:lnTo>
                  <a:lnTo>
                    <a:pt x="256" y="4903"/>
                  </a:lnTo>
                  <a:lnTo>
                    <a:pt x="302" y="4888"/>
                  </a:lnTo>
                  <a:lnTo>
                    <a:pt x="2191" y="3428"/>
                  </a:lnTo>
                  <a:lnTo>
                    <a:pt x="5275" y="3392"/>
                  </a:lnTo>
                  <a:lnTo>
                    <a:pt x="4962" y="3162"/>
                  </a:lnTo>
                  <a:lnTo>
                    <a:pt x="4522" y="2762"/>
                  </a:lnTo>
                  <a:lnTo>
                    <a:pt x="4066" y="2295"/>
                  </a:lnTo>
                  <a:lnTo>
                    <a:pt x="3626" y="1813"/>
                  </a:lnTo>
                  <a:lnTo>
                    <a:pt x="3206" y="1275"/>
                  </a:lnTo>
                  <a:lnTo>
                    <a:pt x="2858" y="778"/>
                  </a:lnTo>
                  <a:lnTo>
                    <a:pt x="2580" y="358"/>
                  </a:lnTo>
                  <a:lnTo>
                    <a:pt x="2375"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3614760" y="3009960"/>
              <a:ext cx="1440360" cy="1341720"/>
            </a:xfrm>
            <a:custGeom>
              <a:avLst/>
              <a:gdLst/>
              <a:ahLst/>
              <a:rect l="0" t="0" r="r" b="b"/>
              <a:pathLst>
                <a:path w="4001" h="3727">
                  <a:moveTo>
                    <a:pt x="2151" y="0"/>
                  </a:moveTo>
                  <a:lnTo>
                    <a:pt x="1819" y="1822"/>
                  </a:lnTo>
                  <a:lnTo>
                    <a:pt x="25" y="3358"/>
                  </a:lnTo>
                  <a:lnTo>
                    <a:pt x="10" y="3399"/>
                  </a:lnTo>
                  <a:lnTo>
                    <a:pt x="5" y="3440"/>
                  </a:lnTo>
                  <a:lnTo>
                    <a:pt x="0" y="3481"/>
                  </a:lnTo>
                  <a:lnTo>
                    <a:pt x="0" y="3527"/>
                  </a:lnTo>
                  <a:lnTo>
                    <a:pt x="25" y="3589"/>
                  </a:lnTo>
                  <a:lnTo>
                    <a:pt x="51" y="3640"/>
                  </a:lnTo>
                  <a:lnTo>
                    <a:pt x="81" y="3665"/>
                  </a:lnTo>
                  <a:lnTo>
                    <a:pt x="128" y="3701"/>
                  </a:lnTo>
                  <a:lnTo>
                    <a:pt x="174" y="3722"/>
                  </a:lnTo>
                  <a:lnTo>
                    <a:pt x="230" y="3727"/>
                  </a:lnTo>
                  <a:lnTo>
                    <a:pt x="286" y="3711"/>
                  </a:lnTo>
                  <a:lnTo>
                    <a:pt x="317" y="3706"/>
                  </a:lnTo>
                  <a:lnTo>
                    <a:pt x="2203" y="2217"/>
                  </a:lnTo>
                  <a:lnTo>
                    <a:pt x="4001" y="2207"/>
                  </a:lnTo>
                  <a:lnTo>
                    <a:pt x="215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6" name=""/>
            <p:cNvSpPr/>
            <p:nvPr/>
          </p:nvSpPr>
          <p:spPr>
            <a:xfrm>
              <a:off x="4504680" y="2460960"/>
              <a:ext cx="1117800" cy="1318680"/>
            </a:xfrm>
            <a:custGeom>
              <a:avLst/>
              <a:gdLst/>
              <a:ahLst/>
              <a:rect l="0" t="0" r="r" b="b"/>
              <a:pathLst>
                <a:path w="3105" h="3663">
                  <a:moveTo>
                    <a:pt x="31" y="18"/>
                  </a:moveTo>
                  <a:lnTo>
                    <a:pt x="31" y="18"/>
                  </a:lnTo>
                  <a:lnTo>
                    <a:pt x="31" y="18"/>
                  </a:lnTo>
                  <a:cubicBezTo>
                    <a:pt x="-23" y="64"/>
                    <a:pt x="-6" y="192"/>
                    <a:pt x="80" y="391"/>
                  </a:cubicBezTo>
                  <a:cubicBezTo>
                    <a:pt x="167" y="589"/>
                    <a:pt x="320" y="851"/>
                    <a:pt x="524" y="1149"/>
                  </a:cubicBezTo>
                  <a:cubicBezTo>
                    <a:pt x="728" y="1448"/>
                    <a:pt x="976" y="1772"/>
                    <a:pt x="1243" y="2091"/>
                  </a:cubicBezTo>
                  <a:cubicBezTo>
                    <a:pt x="1511" y="2409"/>
                    <a:pt x="1787" y="2710"/>
                    <a:pt x="2046" y="2963"/>
                  </a:cubicBezTo>
                  <a:cubicBezTo>
                    <a:pt x="2304" y="3216"/>
                    <a:pt x="2535" y="3412"/>
                    <a:pt x="2716" y="3532"/>
                  </a:cubicBezTo>
                  <a:cubicBezTo>
                    <a:pt x="2896" y="3651"/>
                    <a:pt x="3020" y="3690"/>
                    <a:pt x="3074" y="3645"/>
                  </a:cubicBezTo>
                  <a:lnTo>
                    <a:pt x="3074" y="3645"/>
                  </a:lnTo>
                  <a:lnTo>
                    <a:pt x="3074" y="3645"/>
                  </a:lnTo>
                  <a:cubicBezTo>
                    <a:pt x="3128" y="3599"/>
                    <a:pt x="3111" y="3471"/>
                    <a:pt x="3025" y="3272"/>
                  </a:cubicBezTo>
                  <a:cubicBezTo>
                    <a:pt x="2938" y="3074"/>
                    <a:pt x="2785" y="2812"/>
                    <a:pt x="2581" y="2514"/>
                  </a:cubicBezTo>
                  <a:cubicBezTo>
                    <a:pt x="2377" y="2215"/>
                    <a:pt x="2129" y="1891"/>
                    <a:pt x="1862" y="1572"/>
                  </a:cubicBezTo>
                  <a:cubicBezTo>
                    <a:pt x="1594" y="1254"/>
                    <a:pt x="1318" y="953"/>
                    <a:pt x="1059" y="700"/>
                  </a:cubicBezTo>
                  <a:cubicBezTo>
                    <a:pt x="801" y="447"/>
                    <a:pt x="570" y="251"/>
                    <a:pt x="389" y="131"/>
                  </a:cubicBezTo>
                  <a:cubicBezTo>
                    <a:pt x="209" y="12"/>
                    <a:pt x="85" y="-27"/>
                    <a:pt x="31" y="18"/>
                  </a:cubicBez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7" name=""/>
            <p:cNvSpPr/>
            <p:nvPr/>
          </p:nvSpPr>
          <p:spPr>
            <a:xfrm>
              <a:off x="4389120" y="2982960"/>
              <a:ext cx="698400" cy="823320"/>
            </a:xfrm>
            <a:custGeom>
              <a:avLst/>
              <a:gdLst/>
              <a:ahLst/>
              <a:rect l="0" t="0" r="r" b="b"/>
              <a:pathLst>
                <a:path w="1940" h="2287">
                  <a:moveTo>
                    <a:pt x="21" y="13"/>
                  </a:moveTo>
                  <a:lnTo>
                    <a:pt x="21" y="13"/>
                  </a:lnTo>
                  <a:cubicBezTo>
                    <a:pt x="-14" y="43"/>
                    <a:pt x="-4" y="124"/>
                    <a:pt x="49" y="248"/>
                  </a:cubicBezTo>
                  <a:cubicBezTo>
                    <a:pt x="102" y="373"/>
                    <a:pt x="196" y="537"/>
                    <a:pt x="323" y="723"/>
                  </a:cubicBezTo>
                  <a:cubicBezTo>
                    <a:pt x="450" y="910"/>
                    <a:pt x="604" y="1113"/>
                    <a:pt x="771" y="1311"/>
                  </a:cubicBezTo>
                  <a:cubicBezTo>
                    <a:pt x="938" y="1510"/>
                    <a:pt x="1111" y="1697"/>
                    <a:pt x="1272" y="1854"/>
                  </a:cubicBezTo>
                  <a:cubicBezTo>
                    <a:pt x="1434" y="2012"/>
                    <a:pt x="1579" y="2133"/>
                    <a:pt x="1693" y="2207"/>
                  </a:cubicBezTo>
                  <a:cubicBezTo>
                    <a:pt x="1807" y="2281"/>
                    <a:pt x="1885" y="2305"/>
                    <a:pt x="1920" y="2275"/>
                  </a:cubicBezTo>
                  <a:lnTo>
                    <a:pt x="1920" y="2275"/>
                  </a:lnTo>
                  <a:lnTo>
                    <a:pt x="1920" y="2275"/>
                  </a:lnTo>
                  <a:cubicBezTo>
                    <a:pt x="1955" y="2245"/>
                    <a:pt x="1945" y="2164"/>
                    <a:pt x="1892" y="2040"/>
                  </a:cubicBezTo>
                  <a:cubicBezTo>
                    <a:pt x="1839" y="1915"/>
                    <a:pt x="1745" y="1751"/>
                    <a:pt x="1618" y="1565"/>
                  </a:cubicBezTo>
                  <a:cubicBezTo>
                    <a:pt x="1491" y="1378"/>
                    <a:pt x="1337" y="1175"/>
                    <a:pt x="1170" y="977"/>
                  </a:cubicBezTo>
                  <a:cubicBezTo>
                    <a:pt x="1003" y="778"/>
                    <a:pt x="830" y="591"/>
                    <a:pt x="669" y="434"/>
                  </a:cubicBezTo>
                  <a:cubicBezTo>
                    <a:pt x="507" y="276"/>
                    <a:pt x="362" y="155"/>
                    <a:pt x="248" y="81"/>
                  </a:cubicBezTo>
                  <a:cubicBezTo>
                    <a:pt x="134" y="7"/>
                    <a:pt x="56" y="-17"/>
                    <a:pt x="21" y="13"/>
                  </a:cubicBez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8" name=""/>
            <p:cNvSpPr/>
            <p:nvPr/>
          </p:nvSpPr>
          <p:spPr>
            <a:xfrm flipH="1">
              <a:off x="3409920" y="3938760"/>
              <a:ext cx="679320" cy="53316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9" name=""/>
            <p:cNvSpPr/>
            <p:nvPr/>
          </p:nvSpPr>
          <p:spPr>
            <a:xfrm>
              <a:off x="3463920" y="2176560"/>
              <a:ext cx="1435320" cy="875160"/>
            </a:xfrm>
            <a:custGeom>
              <a:avLst/>
              <a:gdLst/>
              <a:ahLst/>
              <a:rect l="0" t="0" r="r" b="b"/>
              <a:pathLst>
                <a:path fill="none" w="3987" h="2431">
                  <a:moveTo>
                    <a:pt x="3987" y="2431"/>
                  </a:moveTo>
                  <a:lnTo>
                    <a:pt x="3987" y="2431"/>
                  </a:lnTo>
                  <a:lnTo>
                    <a:pt x="3987" y="2431"/>
                  </a:lnTo>
                  <a:cubicBezTo>
                    <a:pt x="3987" y="2004"/>
                    <a:pt x="3803" y="1585"/>
                    <a:pt x="3453" y="1215"/>
                  </a:cubicBezTo>
                  <a:cubicBezTo>
                    <a:pt x="3103" y="846"/>
                    <a:pt x="2600" y="539"/>
                    <a:pt x="1993" y="326"/>
                  </a:cubicBezTo>
                  <a:cubicBezTo>
                    <a:pt x="1387" y="112"/>
                    <a:pt x="700" y="0"/>
                    <a:pt x="0" y="0"/>
                  </a:cubicBez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500" name=""/>
            <p:cNvSpPr/>
            <p:nvPr/>
          </p:nvSpPr>
          <p:spPr>
            <a:xfrm flipH="1">
              <a:off x="5029200" y="2373480"/>
              <a:ext cx="808200" cy="71568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1" name=""/>
            <p:cNvSpPr/>
            <p:nvPr/>
          </p:nvSpPr>
          <p:spPr>
            <a:xfrm flipH="1" flipV="1">
              <a:off x="5119560" y="3220920"/>
              <a:ext cx="1441440" cy="14292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2" name=""/>
            <p:cNvSpPr/>
            <p:nvPr/>
          </p:nvSpPr>
          <p:spPr>
            <a:xfrm>
              <a:off x="4984920" y="3721320"/>
              <a:ext cx="1112760" cy="1334160"/>
            </a:xfrm>
            <a:custGeom>
              <a:avLst/>
              <a:gdLst/>
              <a:ahLst/>
              <a:rect l="0" t="0" r="r" b="b"/>
              <a:pathLst>
                <a:path fill="none" w="3091" h="3706">
                  <a:moveTo>
                    <a:pt x="0" y="2059"/>
                  </a:moveTo>
                  <a:lnTo>
                    <a:pt x="2853" y="3706"/>
                  </a:lnTo>
                  <a:lnTo>
                    <a:pt x="2853" y="3706"/>
                  </a:lnTo>
                  <a:lnTo>
                    <a:pt x="2853" y="3705"/>
                  </a:lnTo>
                  <a:cubicBezTo>
                    <a:pt x="3062" y="3344"/>
                    <a:pt x="3135" y="2913"/>
                    <a:pt x="3065" y="2456"/>
                  </a:cubicBezTo>
                  <a:cubicBezTo>
                    <a:pt x="2995" y="1998"/>
                    <a:pt x="2785" y="1530"/>
                    <a:pt x="2456" y="1099"/>
                  </a:cubicBezTo>
                  <a:cubicBezTo>
                    <a:pt x="2126" y="668"/>
                    <a:pt x="1689" y="289"/>
                    <a:pt x="1188" y="0"/>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pic>
          <p:nvPicPr>
            <p:cNvPr id="1503" name="" descr=""/>
            <p:cNvPicPr/>
            <p:nvPr/>
          </p:nvPicPr>
          <p:blipFill>
            <a:blip r:embed="rId10"/>
            <a:stretch/>
          </p:blipFill>
          <p:spPr>
            <a:xfrm>
              <a:off x="5305320" y="4513320"/>
              <a:ext cx="690480" cy="380880"/>
            </a:xfrm>
            <a:prstGeom prst="rect">
              <a:avLst/>
            </a:prstGeom>
            <a:ln w="0">
              <a:noFill/>
            </a:ln>
          </p:spPr>
        </p:pic>
        <p:pic>
          <p:nvPicPr>
            <p:cNvPr id="1504" name="" descr=""/>
            <p:cNvPicPr/>
            <p:nvPr/>
          </p:nvPicPr>
          <p:blipFill>
            <a:blip r:embed="rId11"/>
            <a:stretch/>
          </p:blipFill>
          <p:spPr>
            <a:xfrm>
              <a:off x="6288120" y="3141720"/>
              <a:ext cx="690480" cy="380880"/>
            </a:xfrm>
            <a:prstGeom prst="rect">
              <a:avLst/>
            </a:prstGeom>
            <a:ln w="0">
              <a:noFill/>
            </a:ln>
          </p:spPr>
        </p:pic>
        <p:pic>
          <p:nvPicPr>
            <p:cNvPr id="1505" name="" descr=""/>
            <p:cNvPicPr/>
            <p:nvPr/>
          </p:nvPicPr>
          <p:blipFill>
            <a:blip r:embed="rId12"/>
            <a:stretch/>
          </p:blipFill>
          <p:spPr>
            <a:xfrm>
              <a:off x="5551560" y="2122560"/>
              <a:ext cx="690480" cy="380880"/>
            </a:xfrm>
            <a:prstGeom prst="rect">
              <a:avLst/>
            </a:prstGeom>
            <a:ln w="0">
              <a:noFill/>
            </a:ln>
          </p:spPr>
        </p:pic>
        <p:pic>
          <p:nvPicPr>
            <p:cNvPr id="1506" name="" descr=""/>
            <p:cNvPicPr/>
            <p:nvPr/>
          </p:nvPicPr>
          <p:blipFill>
            <a:blip r:embed="rId13"/>
            <a:stretch/>
          </p:blipFill>
          <p:spPr>
            <a:xfrm>
              <a:off x="3052800" y="2141640"/>
              <a:ext cx="690480" cy="3808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1508" name=""/>
          <p:cNvSpPr txBox="1"/>
          <p:nvPr/>
        </p:nvSpPr>
        <p:spPr>
          <a:xfrm>
            <a:off x="76320" y="1523880"/>
            <a:ext cx="3849840" cy="518652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functions and pushes forwarding information to the ATM forwarder</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Based on forwarding information ATM forwarder will join a multi-point-to-point ATM connection </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Switches in ATM core will have VC merging capabilitie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AAL 5 sequence integrity is maintained at these switches</a:t>
            </a:r>
            <a:endParaRPr b="0" lang="en-US" sz="1600" spc="-1" strike="noStrike">
              <a:solidFill>
                <a:srgbClr val="000000"/>
              </a:solidFill>
              <a:latin typeface="Arial"/>
            </a:endParaRPr>
          </a:p>
        </p:txBody>
      </p:sp>
      <p:sp>
        <p:nvSpPr>
          <p:cNvPr id="1509"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 name=""/>
          <p:cNvSpPr txBox="1"/>
          <p:nvPr/>
        </p:nvSpPr>
        <p:spPr>
          <a:xfrm>
            <a:off x="6370560" y="287820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pic>
        <p:nvPicPr>
          <p:cNvPr id="1511" name="" descr=""/>
          <p:cNvPicPr/>
          <p:nvPr/>
        </p:nvPicPr>
        <p:blipFill>
          <a:blip r:embed="rId1"/>
          <a:stretch/>
        </p:blipFill>
        <p:spPr>
          <a:xfrm>
            <a:off x="6827760" y="2217600"/>
            <a:ext cx="457200" cy="582480"/>
          </a:xfrm>
          <a:prstGeom prst="rect">
            <a:avLst/>
          </a:prstGeom>
          <a:ln w="0">
            <a:noFill/>
          </a:ln>
        </p:spPr>
      </p:pic>
      <p:grpSp>
        <p:nvGrpSpPr>
          <p:cNvPr id="1512" name=""/>
          <p:cNvGrpSpPr/>
          <p:nvPr/>
        </p:nvGrpSpPr>
        <p:grpSpPr>
          <a:xfrm>
            <a:off x="3790800" y="2968560"/>
            <a:ext cx="343080" cy="685800"/>
            <a:chOff x="3790800" y="2968560"/>
            <a:chExt cx="343080" cy="685800"/>
          </a:xfrm>
        </p:grpSpPr>
        <p:sp>
          <p:nvSpPr>
            <p:cNvPr id="151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4" name=""/>
            <p:cNvGrpSpPr/>
            <p:nvPr/>
          </p:nvGrpSpPr>
          <p:grpSpPr>
            <a:xfrm>
              <a:off x="3828960" y="3014640"/>
              <a:ext cx="271800" cy="600120"/>
              <a:chOff x="3828960" y="3014640"/>
              <a:chExt cx="271800" cy="600120"/>
            </a:xfrm>
          </p:grpSpPr>
          <p:grpSp>
            <p:nvGrpSpPr>
              <p:cNvPr id="1515" name=""/>
              <p:cNvGrpSpPr/>
              <p:nvPr/>
            </p:nvGrpSpPr>
            <p:grpSpPr>
              <a:xfrm>
                <a:off x="3835440" y="3014640"/>
                <a:ext cx="254160" cy="167040"/>
                <a:chOff x="3835440" y="3014640"/>
                <a:chExt cx="254160" cy="167040"/>
              </a:xfrm>
            </p:grpSpPr>
            <p:sp>
              <p:nvSpPr>
                <p:cNvPr id="151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25" name=""/>
              <p:cNvGrpSpPr/>
              <p:nvPr/>
            </p:nvGrpSpPr>
            <p:grpSpPr>
              <a:xfrm>
                <a:off x="3830760" y="3174840"/>
                <a:ext cx="263520" cy="270000"/>
                <a:chOff x="3830760" y="3174840"/>
                <a:chExt cx="263520" cy="270000"/>
              </a:xfrm>
            </p:grpSpPr>
            <p:sp>
              <p:nvSpPr>
                <p:cNvPr id="152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3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540" name=""/>
              <p:cNvGrpSpPr/>
              <p:nvPr/>
            </p:nvGrpSpPr>
            <p:grpSpPr>
              <a:xfrm>
                <a:off x="3828960" y="3443400"/>
                <a:ext cx="271800" cy="171360"/>
                <a:chOff x="3828960" y="3443400"/>
                <a:chExt cx="271800" cy="171360"/>
              </a:xfrm>
            </p:grpSpPr>
            <p:sp>
              <p:nvSpPr>
                <p:cNvPr id="154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2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721" name="" descr=""/>
          <p:cNvPicPr/>
          <p:nvPr/>
        </p:nvPicPr>
        <p:blipFill>
          <a:blip r:embed="rId2"/>
          <a:stretch/>
        </p:blipFill>
        <p:spPr>
          <a:xfrm>
            <a:off x="5059440" y="3360600"/>
            <a:ext cx="457200" cy="582480"/>
          </a:xfrm>
          <a:prstGeom prst="rect">
            <a:avLst/>
          </a:prstGeom>
          <a:ln w="0">
            <a:noFill/>
          </a:ln>
        </p:spPr>
      </p:pic>
      <p:pic>
        <p:nvPicPr>
          <p:cNvPr id="1722" name="" descr=""/>
          <p:cNvPicPr/>
          <p:nvPr/>
        </p:nvPicPr>
        <p:blipFill>
          <a:blip r:embed="rId3"/>
          <a:stretch/>
        </p:blipFill>
        <p:spPr>
          <a:xfrm>
            <a:off x="5846760" y="2311560"/>
            <a:ext cx="457200" cy="582480"/>
          </a:xfrm>
          <a:prstGeom prst="rect">
            <a:avLst/>
          </a:prstGeom>
          <a:ln w="0">
            <a:noFill/>
          </a:ln>
        </p:spPr>
      </p:pic>
      <p:sp>
        <p:nvSpPr>
          <p:cNvPr id="1723" name=""/>
          <p:cNvSpPr/>
          <p:nvPr/>
        </p:nvSpPr>
        <p:spPr>
          <a:xfrm flipV="1">
            <a:off x="4105440" y="2443320"/>
            <a:ext cx="1028520" cy="1163520"/>
          </a:xfrm>
          <a:prstGeom prst="line">
            <a:avLst/>
          </a:prstGeom>
          <a:ln w="38160">
            <a:solidFill>
              <a:srgbClr val="a8001c"/>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4" name=""/>
          <p:cNvSpPr/>
          <p:nvPr/>
        </p:nvSpPr>
        <p:spPr>
          <a:xfrm flipV="1">
            <a:off x="5243400" y="1440000"/>
            <a:ext cx="1284480" cy="9936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25" name=""/>
          <p:cNvGrpSpPr/>
          <p:nvPr/>
        </p:nvGrpSpPr>
        <p:grpSpPr>
          <a:xfrm>
            <a:off x="5894280" y="1203480"/>
            <a:ext cx="685800" cy="343080"/>
            <a:chOff x="5894280" y="1203480"/>
            <a:chExt cx="685800" cy="343080"/>
          </a:xfrm>
        </p:grpSpPr>
        <p:sp>
          <p:nvSpPr>
            <p:cNvPr id="1726"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27" name=""/>
            <p:cNvGrpSpPr/>
            <p:nvPr/>
          </p:nvGrpSpPr>
          <p:grpSpPr>
            <a:xfrm>
              <a:off x="5940360" y="1236600"/>
              <a:ext cx="600120" cy="271440"/>
              <a:chOff x="5940360" y="1236600"/>
              <a:chExt cx="600120" cy="271440"/>
            </a:xfrm>
          </p:grpSpPr>
          <p:grpSp>
            <p:nvGrpSpPr>
              <p:cNvPr id="1728" name=""/>
              <p:cNvGrpSpPr/>
              <p:nvPr/>
            </p:nvGrpSpPr>
            <p:grpSpPr>
              <a:xfrm>
                <a:off x="5940360" y="1247760"/>
                <a:ext cx="167040" cy="254160"/>
                <a:chOff x="5940360" y="1247760"/>
                <a:chExt cx="167040" cy="254160"/>
              </a:xfrm>
            </p:grpSpPr>
            <p:sp>
              <p:nvSpPr>
                <p:cNvPr id="1729"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34"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7"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38" name=""/>
              <p:cNvGrpSpPr/>
              <p:nvPr/>
            </p:nvGrpSpPr>
            <p:grpSpPr>
              <a:xfrm>
                <a:off x="6100920" y="1243080"/>
                <a:ext cx="270000" cy="263520"/>
                <a:chOff x="6100920" y="1243080"/>
                <a:chExt cx="270000" cy="263520"/>
              </a:xfrm>
            </p:grpSpPr>
            <p:sp>
              <p:nvSpPr>
                <p:cNvPr id="1739"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3"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4"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5"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6"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7"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8"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9"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0"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1"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2"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753" name=""/>
              <p:cNvGrpSpPr/>
              <p:nvPr/>
            </p:nvGrpSpPr>
            <p:grpSpPr>
              <a:xfrm>
                <a:off x="6369120" y="1236600"/>
                <a:ext cx="171360" cy="271440"/>
                <a:chOff x="6369120" y="1236600"/>
                <a:chExt cx="171360" cy="271440"/>
              </a:xfrm>
            </p:grpSpPr>
            <p:sp>
              <p:nvSpPr>
                <p:cNvPr id="1754"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8"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9"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0"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1"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2"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3"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4"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5"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6"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7"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8"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9"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0"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1"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2"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3"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4"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5"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6"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7"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8"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9"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0"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1"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2"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3"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4"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5"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6"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7"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8"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9"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0"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1"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2"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3"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4"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5"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6"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7"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8"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9"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0"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1"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2"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3"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4"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5"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6"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7"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8"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9"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0"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1"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2"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3"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4"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5"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6"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7"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8"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9"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0"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1"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2"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3"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4"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5"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6"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7"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8"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9"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0"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1"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2"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3"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4"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5"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6"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7"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8"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9"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0"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1"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2"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3"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4"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5"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6"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7"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8"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9"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0"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1"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2"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3"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4"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5"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6"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7"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8"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9"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0"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1"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2"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3"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4"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5"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6"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7"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8"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9"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0"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1"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2"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3"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4"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5"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6"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7"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8"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9"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0"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1"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2"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3"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4"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5"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6"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7"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8"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9"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0"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1"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2"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3"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4"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5"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6"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7"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8"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9"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0"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1"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2"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3"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4"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5"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6"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7"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8"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9"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0"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1"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2"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3"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4"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5"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6"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7"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8"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9"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0"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1"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2"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3"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4"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5"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6"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7"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8"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9"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0"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1"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2"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3"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
        <p:nvSpPr>
          <p:cNvPr id="1934" name=""/>
          <p:cNvSpPr/>
          <p:nvPr/>
        </p:nvSpPr>
        <p:spPr>
          <a:xfrm flipV="1">
            <a:off x="7275600" y="3598920"/>
            <a:ext cx="1496880" cy="101520"/>
          </a:xfrm>
          <a:prstGeom prst="line">
            <a:avLst/>
          </a:prstGeom>
          <a:ln w="38160">
            <a:solidFill>
              <a:srgbClr val="a8001c"/>
            </a:solidFill>
            <a:round/>
          </a:ln>
        </p:spPr>
        <p:style>
          <a:lnRef idx="0"/>
          <a:fillRef idx="0"/>
          <a:effectRef idx="0"/>
          <a:fontRef idx="minor"/>
        </p:style>
        <p:txBody>
          <a:bodyPr lIns="109080" rIns="109080" tIns="37440" bIns="37440" anchor="t">
            <a:noAutofit/>
          </a:bodyPr>
          <a:p>
            <a:endParaRPr b="0" lang="en-US" sz="1800" spc="-1" strike="noStrike">
              <a:solidFill>
                <a:srgbClr val="000000"/>
              </a:solidFill>
              <a:latin typeface="Arial"/>
            </a:endParaRPr>
          </a:p>
        </p:txBody>
      </p:sp>
      <p:sp>
        <p:nvSpPr>
          <p:cNvPr id="1935" name=""/>
          <p:cNvSpPr/>
          <p:nvPr/>
        </p:nvSpPr>
        <p:spPr>
          <a:xfrm>
            <a:off x="5165640" y="2543040"/>
            <a:ext cx="1141560" cy="10224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936" name="" descr=""/>
          <p:cNvPicPr/>
          <p:nvPr/>
        </p:nvPicPr>
        <p:blipFill>
          <a:blip r:embed="rId4"/>
          <a:stretch/>
        </p:blipFill>
        <p:spPr>
          <a:xfrm>
            <a:off x="4906800" y="2065320"/>
            <a:ext cx="457200" cy="582480"/>
          </a:xfrm>
          <a:prstGeom prst="rect">
            <a:avLst/>
          </a:prstGeom>
          <a:ln w="0">
            <a:noFill/>
          </a:ln>
        </p:spPr>
      </p:pic>
      <p:sp>
        <p:nvSpPr>
          <p:cNvPr id="1937" name=""/>
          <p:cNvSpPr/>
          <p:nvPr/>
        </p:nvSpPr>
        <p:spPr>
          <a:xfrm>
            <a:off x="6253200" y="3527280"/>
            <a:ext cx="955800" cy="17316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8" name=""/>
          <p:cNvSpPr/>
          <p:nvPr/>
        </p:nvSpPr>
        <p:spPr>
          <a:xfrm flipH="1">
            <a:off x="6918480" y="3718080"/>
            <a:ext cx="237960" cy="110484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939" name=""/>
          <p:cNvGrpSpPr/>
          <p:nvPr/>
        </p:nvGrpSpPr>
        <p:grpSpPr>
          <a:xfrm>
            <a:off x="6318360" y="4719600"/>
            <a:ext cx="685800" cy="343080"/>
            <a:chOff x="6318360" y="4719600"/>
            <a:chExt cx="685800" cy="343080"/>
          </a:xfrm>
        </p:grpSpPr>
        <p:sp>
          <p:nvSpPr>
            <p:cNvPr id="1940"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41" name=""/>
            <p:cNvGrpSpPr/>
            <p:nvPr/>
          </p:nvGrpSpPr>
          <p:grpSpPr>
            <a:xfrm>
              <a:off x="6364440" y="4753080"/>
              <a:ext cx="599760" cy="271080"/>
              <a:chOff x="6364440" y="4753080"/>
              <a:chExt cx="599760" cy="271080"/>
            </a:xfrm>
          </p:grpSpPr>
          <p:grpSp>
            <p:nvGrpSpPr>
              <p:cNvPr id="1942" name=""/>
              <p:cNvGrpSpPr/>
              <p:nvPr/>
            </p:nvGrpSpPr>
            <p:grpSpPr>
              <a:xfrm>
                <a:off x="6364440" y="4764240"/>
                <a:ext cx="166680" cy="254160"/>
                <a:chOff x="6364440" y="4764240"/>
                <a:chExt cx="166680" cy="254160"/>
              </a:xfrm>
            </p:grpSpPr>
            <p:sp>
              <p:nvSpPr>
                <p:cNvPr id="1943"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48"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52" name=""/>
              <p:cNvGrpSpPr/>
              <p:nvPr/>
            </p:nvGrpSpPr>
            <p:grpSpPr>
              <a:xfrm>
                <a:off x="6524640" y="4759200"/>
                <a:ext cx="270000" cy="263520"/>
                <a:chOff x="6524640" y="4759200"/>
                <a:chExt cx="270000" cy="263520"/>
              </a:xfrm>
            </p:grpSpPr>
            <p:sp>
              <p:nvSpPr>
                <p:cNvPr id="1953"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7"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8"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9"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0"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1"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2"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3"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4"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5"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6"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67" name=""/>
              <p:cNvGrpSpPr/>
              <p:nvPr/>
            </p:nvGrpSpPr>
            <p:grpSpPr>
              <a:xfrm>
                <a:off x="6792840" y="4753080"/>
                <a:ext cx="171360" cy="271080"/>
                <a:chOff x="6792840" y="4753080"/>
                <a:chExt cx="171360" cy="271080"/>
              </a:xfrm>
            </p:grpSpPr>
            <p:sp>
              <p:nvSpPr>
                <p:cNvPr id="1968"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2"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3"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4"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5"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6"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7"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8"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9"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0"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1"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2"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3"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4"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5"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6"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7"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8"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9"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0"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1"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2"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3"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4"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5"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6"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7"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8"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9"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0"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1"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2"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3"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4"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5"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6"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7"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8"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9"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0"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1"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2"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3"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4"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5"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6"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7"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8"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9"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0"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1"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2"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3"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4"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5"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6"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7"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8"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9"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0"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1"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2"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3"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4"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5"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6"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7"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8"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9"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0"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1"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2"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3"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4"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5"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6"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7"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8"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9"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0"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1"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2"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3"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4"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5"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6"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7"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8"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9"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0"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1"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2"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3"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4"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5"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6"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7"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8"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9"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0"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1"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2"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3"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4"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5"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6"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7"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8"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9"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0"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1"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2"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3"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4"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5"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6"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7"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8"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9"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0"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1"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2"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3"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4"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5"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6"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7"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8"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9"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0"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1"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2"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3"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4"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5"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6"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7"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8"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9"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0"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1"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2"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3"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4"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5"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6"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7"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8"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9"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0"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1"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2"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3"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4"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5"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6"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7"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8"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9"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0"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1"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2"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3"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4"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5"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6"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7"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8"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9"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0"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1"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2"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3"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4"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5"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6"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7"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2148" name="" descr=""/>
          <p:cNvPicPr/>
          <p:nvPr/>
        </p:nvPicPr>
        <p:blipFill>
          <a:blip r:embed="rId5"/>
          <a:stretch/>
        </p:blipFill>
        <p:spPr>
          <a:xfrm>
            <a:off x="6049800" y="3208320"/>
            <a:ext cx="457200" cy="582480"/>
          </a:xfrm>
          <a:prstGeom prst="rect">
            <a:avLst/>
          </a:prstGeom>
          <a:ln w="0">
            <a:noFill/>
          </a:ln>
        </p:spPr>
      </p:pic>
      <p:pic>
        <p:nvPicPr>
          <p:cNvPr id="2149" name="" descr=""/>
          <p:cNvPicPr/>
          <p:nvPr/>
        </p:nvPicPr>
        <p:blipFill>
          <a:blip r:embed="rId6"/>
          <a:stretch/>
        </p:blipFill>
        <p:spPr>
          <a:xfrm>
            <a:off x="6964200" y="3360600"/>
            <a:ext cx="457200" cy="582480"/>
          </a:xfrm>
          <a:prstGeom prst="rect">
            <a:avLst/>
          </a:prstGeom>
          <a:ln w="0">
            <a:noFill/>
          </a:ln>
        </p:spPr>
      </p:pic>
      <p:grpSp>
        <p:nvGrpSpPr>
          <p:cNvPr id="2150" name=""/>
          <p:cNvGrpSpPr/>
          <p:nvPr/>
        </p:nvGrpSpPr>
        <p:grpSpPr>
          <a:xfrm>
            <a:off x="8713800" y="3090960"/>
            <a:ext cx="343080" cy="685800"/>
            <a:chOff x="8713800" y="3090960"/>
            <a:chExt cx="343080" cy="685800"/>
          </a:xfrm>
        </p:grpSpPr>
        <p:sp>
          <p:nvSpPr>
            <p:cNvPr id="2151"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52" name=""/>
            <p:cNvGrpSpPr/>
            <p:nvPr/>
          </p:nvGrpSpPr>
          <p:grpSpPr>
            <a:xfrm>
              <a:off x="8751960" y="3137040"/>
              <a:ext cx="271440" cy="599760"/>
              <a:chOff x="8751960" y="3137040"/>
              <a:chExt cx="271440" cy="599760"/>
            </a:xfrm>
          </p:grpSpPr>
          <p:grpSp>
            <p:nvGrpSpPr>
              <p:cNvPr id="2153" name=""/>
              <p:cNvGrpSpPr/>
              <p:nvPr/>
            </p:nvGrpSpPr>
            <p:grpSpPr>
              <a:xfrm>
                <a:off x="8758080" y="3137040"/>
                <a:ext cx="254160" cy="166680"/>
                <a:chOff x="8758080" y="3137040"/>
                <a:chExt cx="254160" cy="166680"/>
              </a:xfrm>
            </p:grpSpPr>
            <p:sp>
              <p:nvSpPr>
                <p:cNvPr id="2154"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8"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9"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0"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1"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2"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163" name=""/>
              <p:cNvGrpSpPr/>
              <p:nvPr/>
            </p:nvGrpSpPr>
            <p:grpSpPr>
              <a:xfrm>
                <a:off x="8753400" y="3297240"/>
                <a:ext cx="263520" cy="270000"/>
                <a:chOff x="8753400" y="3297240"/>
                <a:chExt cx="263520" cy="270000"/>
              </a:xfrm>
            </p:grpSpPr>
            <p:sp>
              <p:nvSpPr>
                <p:cNvPr id="2164"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8"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9"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0"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1"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2"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3"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4"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5"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76"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7"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2178" name=""/>
              <p:cNvGrpSpPr/>
              <p:nvPr/>
            </p:nvGrpSpPr>
            <p:grpSpPr>
              <a:xfrm>
                <a:off x="8751960" y="3565440"/>
                <a:ext cx="271440" cy="171360"/>
                <a:chOff x="8751960" y="3565440"/>
                <a:chExt cx="271440" cy="171360"/>
              </a:xfrm>
            </p:grpSpPr>
            <p:sp>
              <p:nvSpPr>
                <p:cNvPr id="2179"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3"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4"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5"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6"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7"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8"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9"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0"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1"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2"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3"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4"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5"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6"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7"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8"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0"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1"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2"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3"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4"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5"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6"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7"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8"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9"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0"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1"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2"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3"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4"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6"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7"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8"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9"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0"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1"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2"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3"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4"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5"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6"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7"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8"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9"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0"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2"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3"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4"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5"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6"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7"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8"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9"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0"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1"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2"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3"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4"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5"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6"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8"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9"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0"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1"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2"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3"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4"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5"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6"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7"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8"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9"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0"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1"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2"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4"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5"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6"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7"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8"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9"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0"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1"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2"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3"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4"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5"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6"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7"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8"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0"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1"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2"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3"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4"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5"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6"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7"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8"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9"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0"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1"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2"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3"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4"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6"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7"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8"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9"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0"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1"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2"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3"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4"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5"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6"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7"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8"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9"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0"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2"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3"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4"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5"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6"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7"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8"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9"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0"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1"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2"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3"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4"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5"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6"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8"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9"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0"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1"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2"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3"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4"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5"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6"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7"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8"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9"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0"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1"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2"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4"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5"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6"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7"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8"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9"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0"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1"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2"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3"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4"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5"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6"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7"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8"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a:t>
            </a:r>
            <a:endParaRPr b="0" lang="en-US" sz="4000" spc="-1" strike="noStrike">
              <a:solidFill>
                <a:srgbClr val="000000"/>
              </a:solidFill>
              <a:latin typeface="Arial"/>
            </a:endParaRPr>
          </a:p>
        </p:txBody>
      </p:sp>
      <p:sp>
        <p:nvSpPr>
          <p:cNvPr id="2360" name=""/>
          <p:cNvSpPr txBox="1"/>
          <p:nvPr/>
        </p:nvSpPr>
        <p:spPr>
          <a:xfrm>
            <a:off x="474840" y="153180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Why traditional short-cuts don’t scal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quires per flow traffic analysis</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t feasible in network core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control driven shortcuts</a:t>
            </a:r>
            <a:endParaRPr b="0" lang="en-US" sz="2800" spc="-1" strike="noStrike">
              <a:solidFill>
                <a:srgbClr val="000000"/>
              </a:solidFill>
              <a:latin typeface="Arial"/>
            </a:endParaRPr>
          </a:p>
          <a:p>
            <a:pPr marL="571680" indent="-228600">
              <a:lnSpc>
                <a:spcPct val="85000"/>
              </a:lnSpc>
              <a:spcBef>
                <a:spcPts val="1199"/>
              </a:spcBef>
            </a:pPr>
            <a:endParaRPr b="0" lang="en-US" sz="9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edge device or host based</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ow aggregation of users/traffic flows per short-cut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eads to very large number of VCs in core of large network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different levels of aggregation and VC merging in the ATM 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txBox="1"/>
          <p:nvPr/>
        </p:nvSpPr>
        <p:spPr>
          <a:xfrm>
            <a:off x="1447920" y="233280"/>
            <a:ext cx="7694640" cy="136692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  FOREs Solution</a:t>
            </a:r>
            <a:endParaRPr b="0" lang="en-US" sz="4000" spc="-1" strike="noStrike">
              <a:solidFill>
                <a:srgbClr val="000000"/>
              </a:solidFill>
              <a:latin typeface="Arial"/>
            </a:endParaRPr>
          </a:p>
        </p:txBody>
      </p:sp>
      <p:sp>
        <p:nvSpPr>
          <p:cNvPr id="2362" name=""/>
          <p:cNvSpPr txBox="1"/>
          <p:nvPr/>
        </p:nvSpPr>
        <p:spPr>
          <a:xfrm>
            <a:off x="55080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400" spc="-1" strike="noStrike">
                <a:solidFill>
                  <a:srgbClr val="000000"/>
                </a:solidFill>
                <a:latin typeface="Arial"/>
                <a:ea typeface="Arial"/>
              </a:rPr>
              <a:t>Different types of short-cuts in </a:t>
            </a:r>
            <a:br>
              <a:rPr sz="2400"/>
            </a:br>
            <a:r>
              <a:rPr b="1" i="1" lang="en-US" sz="2400" spc="-1" strike="noStrike">
                <a:solidFill>
                  <a:srgbClr val="000000"/>
                </a:solidFill>
                <a:latin typeface="Arial"/>
                <a:ea typeface="Arial"/>
              </a:rPr>
              <a:t>different parts of network</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 regions</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imits any-to-any VCs to region, limits total VCs in core</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s in the core</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moves traffic analysis burden where there are many flow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improved, egress based aggregation</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ross region VC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best service for QoS and critical uses</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oint to point VC merging</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For VC conservation in the very largest netwo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Multi-Point to Point VC Merging</a:t>
            </a:r>
            <a:endParaRPr b="0" lang="en-US" sz="4000" spc="-1" strike="noStrike">
              <a:solidFill>
                <a:srgbClr val="000000"/>
              </a:solidFill>
              <a:latin typeface="Arial"/>
            </a:endParaRPr>
          </a:p>
        </p:txBody>
      </p:sp>
      <p:sp>
        <p:nvSpPr>
          <p:cNvPr id="2364" name=""/>
          <p:cNvSpPr txBox="1"/>
          <p:nvPr/>
        </p:nvSpPr>
        <p:spPr>
          <a:xfrm>
            <a:off x="380880" y="160812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Controlled via UNI and NHRP</a:t>
            </a:r>
            <a:endParaRPr b="0" lang="en-US" sz="28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Uses UNI4.x Point-to-Multi-Point procedur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Root controlled (ADDPARTY)</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nd Leaf initiated (LIJ)</a:t>
            </a:r>
            <a:endParaRPr b="0" lang="en-US" sz="24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Route servers exchange needed information via NHRP</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Ingress route server request to be added by egress route server or Get egress’ CID for use with LI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Conclusion</a:t>
            </a:r>
            <a:r>
              <a:rPr b="0" lang="en-US" sz="4000" spc="-1" strike="noStrike">
                <a:solidFill>
                  <a:srgbClr val="006079"/>
                </a:solidFill>
                <a:latin typeface="Impact"/>
                <a:ea typeface="Impact"/>
              </a:rPr>
              <a:t>	</a:t>
            </a:r>
            <a:endParaRPr b="0" lang="en-US" sz="4000" spc="-1" strike="noStrike">
              <a:solidFill>
                <a:srgbClr val="000000"/>
              </a:solidFill>
              <a:latin typeface="Arial"/>
            </a:endParaRPr>
          </a:p>
        </p:txBody>
      </p:sp>
      <p:sp>
        <p:nvSpPr>
          <p:cNvPr id="2366" name=""/>
          <p:cNvSpPr txBox="1"/>
          <p:nvPr/>
        </p:nvSpPr>
        <p:spPr>
          <a:xfrm>
            <a:off x="304920" y="176040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ATM at  the core of every ISP</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aggregatio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egress device</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figured QoS </a:t>
            </a:r>
            <a:br>
              <a:rPr sz="2000"/>
            </a:br>
            <a:r>
              <a:rPr b="1" lang="en-US" sz="2000" spc="-1" strike="noStrike">
                <a:solidFill>
                  <a:srgbClr val="000000"/>
                </a:solidFill>
                <a:latin typeface="Arial"/>
                <a:ea typeface="Arial"/>
              </a:rPr>
              <a:t>per ingress/egress pair</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multicast ingres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le types of short-cut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driven short-cut regions at the network edge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region providing accelerated default forwarding paths in the c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Approach</a:t>
            </a:r>
            <a:endParaRPr b="0" lang="en-US" sz="4000" spc="-1" strike="noStrike">
              <a:solidFill>
                <a:srgbClr val="000000"/>
              </a:solidFill>
              <a:latin typeface="Arial"/>
            </a:endParaRPr>
          </a:p>
        </p:txBody>
      </p:sp>
      <p:sp>
        <p:nvSpPr>
          <p:cNvPr id="89" name=""/>
          <p:cNvSpPr txBox="1"/>
          <p:nvPr/>
        </p:nvSpPr>
        <p:spPr>
          <a:xfrm>
            <a:off x="152280" y="1447920"/>
            <a:ext cx="8989920" cy="4876920"/>
          </a:xfrm>
          <a:prstGeom prst="rect">
            <a:avLst/>
          </a:prstGeom>
          <a:noFill/>
          <a:ln w="0">
            <a:noFill/>
          </a:ln>
        </p:spPr>
        <p:txBody>
          <a:bodyPr lIns="0" rIns="0" tIns="0" bIns="0" anchor="t">
            <a:noAutofit/>
          </a:bodyPr>
          <a:p>
            <a:pPr marL="228600" indent="-228600">
              <a:lnSpc>
                <a:spcPct val="85000"/>
              </a:lnSpc>
              <a:spcBef>
                <a:spcPts val="1199"/>
              </a:spcBef>
            </a:pPr>
            <a:r>
              <a:rPr b="1" lang="en-US" sz="2800" spc="-1" strike="noStrike">
                <a:solidFill>
                  <a:srgbClr val="000000"/>
                </a:solidFill>
                <a:latin typeface="Arial"/>
                <a:ea typeface="Arial"/>
              </a:rPr>
              <a:t>Four building blocks for scaleable networking:</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ATM overlay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Data and control driven short-cut regions</a:t>
            </a:r>
            <a:endParaRPr b="0" lang="en-US" sz="2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400" spc="-1" strike="noStrike">
                <a:solidFill>
                  <a:srgbClr val="000000"/>
                </a:solidFill>
                <a:latin typeface="Arial"/>
                <a:ea typeface="Arial"/>
              </a:rPr>
              <a:t>With different levels of traffic aggregation and multiple types of short-cut triggers</a:t>
            </a: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Multi-point to point VC merging for large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Improved network operations through ATM</a:t>
            </a:r>
            <a:endParaRPr b="0" lang="en-US" sz="2800" spc="-1" strike="noStrike">
              <a:solidFill>
                <a:srgbClr val="000000"/>
              </a:solidFill>
              <a:latin typeface="Arial"/>
            </a:endParaRPr>
          </a:p>
          <a:p>
            <a:pPr marL="914400" indent="-228600">
              <a:lnSpc>
                <a:spcPct val="85000"/>
              </a:lnSpc>
              <a:spcBef>
                <a:spcPts val="1199"/>
              </a:spcBef>
            </a:pPr>
            <a:endParaRPr b="0" lang="en-US" sz="2000" spc="-1" strike="noStrike">
              <a:solidFill>
                <a:srgbClr val="000000"/>
              </a:solidFill>
              <a:latin typeface="Arial"/>
            </a:endParaRPr>
          </a:p>
          <a:p>
            <a:pPr marL="228600" indent="-228600" algn="ctr">
              <a:lnSpc>
                <a:spcPct val="85000"/>
              </a:lnSpc>
              <a:spcBef>
                <a:spcPts val="1199"/>
              </a:spcBef>
            </a:pPr>
            <a:r>
              <a:rPr b="1" i="1" lang="en-US" sz="2800" spc="-1" strike="noStrike">
                <a:solidFill>
                  <a:srgbClr val="26f6ff"/>
                </a:solidFill>
                <a:latin typeface="Arial"/>
                <a:ea typeface="Arial"/>
              </a:rPr>
              <a:t>Building blocks combined as needed to meet the specific requirements of each network</a:t>
            </a:r>
            <a:r>
              <a:rPr b="1" lang="en-US" sz="2800" spc="-1" strike="noStrike">
                <a:solidFill>
                  <a:srgbClr val="26f6ff"/>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What Are Short-Cuts?</a:t>
            </a:r>
            <a:endParaRPr b="0" lang="en-US" sz="4000" spc="-1" strike="noStrike">
              <a:solidFill>
                <a:srgbClr val="000000"/>
              </a:solidFill>
              <a:latin typeface="Arial"/>
            </a:endParaRPr>
          </a:p>
        </p:txBody>
      </p:sp>
      <p:sp>
        <p:nvSpPr>
          <p:cNvPr id="91" name=""/>
          <p:cNvSpPr txBox="1"/>
          <p:nvPr/>
        </p:nvSpPr>
        <p:spPr>
          <a:xfrm>
            <a:off x="55080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liminate intermediate L3 devices from control and data path</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stablish pathways (VCs)  independent from L3 topology</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ay follow completely different switch paths</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traffic aggregation,</a:t>
            </a:r>
            <a:br>
              <a:rPr sz="2800"/>
            </a:br>
            <a:r>
              <a:rPr b="1" lang="en-US" sz="2800" spc="-1" strike="noStrike">
                <a:solidFill>
                  <a:srgbClr val="000000"/>
                </a:solidFill>
                <a:latin typeface="Arial"/>
                <a:ea typeface="Arial"/>
              </a:rPr>
              <a:t>multiple types of short-cut trigger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 short-cut at the network edge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 in the core providing accelerated default forwarding path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s for QoS and other critical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Aggregation</a:t>
            </a:r>
            <a:endParaRPr b="0" lang="en-US" sz="4000" spc="-1" strike="noStrike">
              <a:solidFill>
                <a:srgbClr val="000000"/>
              </a:solidFill>
              <a:latin typeface="Arial"/>
            </a:endParaRPr>
          </a:p>
        </p:txBody>
      </p:sp>
      <p:sp>
        <p:nvSpPr>
          <p:cNvPr id="93" name=""/>
          <p:cNvSpPr txBox="1"/>
          <p:nvPr/>
        </p:nvSpPr>
        <p:spPr>
          <a:xfrm>
            <a:off x="47484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hort-cuts may support different levels of traffic aggregation</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ome exampl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pplication specific flow</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addres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st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network</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etwork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edge device</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Egress aggre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Triggers</a:t>
            </a:r>
            <a:endParaRPr b="0" lang="en-US" sz="4000" spc="-1" strike="noStrike">
              <a:solidFill>
                <a:srgbClr val="000000"/>
              </a:solidFill>
              <a:latin typeface="Arial"/>
            </a:endParaRPr>
          </a:p>
        </p:txBody>
      </p:sp>
      <p:sp>
        <p:nvSpPr>
          <p:cNvPr id="95" name=""/>
          <p:cNvSpPr txBox="1"/>
          <p:nvPr/>
        </p:nvSpPr>
        <p:spPr>
          <a:xfrm>
            <a:off x="550800" y="1379520"/>
            <a:ext cx="8221680" cy="46497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result in creation of short-cut VCs</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 located in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network or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ATM edge device</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 packets to destination address/network</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packets matching a specific application flow</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Based on routing traffic</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May be network or egress/ingress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Data Driven Short-Cuts</a:t>
            </a:r>
            <a:endParaRPr b="0" lang="en-US" sz="4000" spc="-1" strike="noStrike">
              <a:solidFill>
                <a:srgbClr val="000000"/>
              </a:solidFill>
              <a:latin typeface="Arial"/>
            </a:endParaRPr>
          </a:p>
        </p:txBody>
      </p:sp>
      <p:sp>
        <p:nvSpPr>
          <p:cNvPr id="97" name=""/>
          <p:cNvSpPr txBox="1"/>
          <p:nvPr/>
        </p:nvSpPr>
        <p:spPr>
          <a:xfrm>
            <a:off x="5603760" y="1660680"/>
            <a:ext cx="19620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98" name=""/>
          <p:cNvSpPr txBox="1"/>
          <p:nvPr/>
        </p:nvSpPr>
        <p:spPr>
          <a:xfrm>
            <a:off x="76320" y="1608120"/>
            <a:ext cx="464832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Data driven short-cuts at the network edg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QoS application flow</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unicast destination</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destination network prefix</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destination</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data flow</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data</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N packets per second </a:t>
            </a:r>
            <a:endParaRPr b="0" lang="en-US" sz="1800" spc="-1" strike="noStrike">
              <a:solidFill>
                <a:srgbClr val="000000"/>
              </a:solidFill>
              <a:latin typeface="Arial"/>
            </a:endParaRPr>
          </a:p>
        </p:txBody>
      </p:sp>
      <p:sp>
        <p:nvSpPr>
          <p:cNvPr id="99" name=""/>
          <p:cNvSpPr/>
          <p:nvPr/>
        </p:nvSpPr>
        <p:spPr>
          <a:xfrm>
            <a:off x="5173560" y="3041640"/>
            <a:ext cx="2395800" cy="2134080"/>
          </a:xfrm>
          <a:custGeom>
            <a:avLst/>
            <a:gdLst/>
            <a:ahLst/>
            <a:rect l="0" t="0" r="r" b="b"/>
            <a:pathLst>
              <a:path w="6655" h="5928">
                <a:moveTo>
                  <a:pt x="1056" y="1403"/>
                </a:moveTo>
                <a:lnTo>
                  <a:pt x="1116" y="1241"/>
                </a:lnTo>
                <a:lnTo>
                  <a:pt x="1199" y="1079"/>
                </a:lnTo>
                <a:lnTo>
                  <a:pt x="1320" y="939"/>
                </a:lnTo>
                <a:lnTo>
                  <a:pt x="1493" y="831"/>
                </a:lnTo>
                <a:lnTo>
                  <a:pt x="1629" y="777"/>
                </a:lnTo>
                <a:lnTo>
                  <a:pt x="1795" y="712"/>
                </a:lnTo>
                <a:lnTo>
                  <a:pt x="2052" y="690"/>
                </a:lnTo>
                <a:lnTo>
                  <a:pt x="2301" y="712"/>
                </a:lnTo>
                <a:lnTo>
                  <a:pt x="2534" y="788"/>
                </a:lnTo>
                <a:lnTo>
                  <a:pt x="2708" y="863"/>
                </a:lnTo>
                <a:lnTo>
                  <a:pt x="2806" y="593"/>
                </a:lnTo>
                <a:lnTo>
                  <a:pt x="2942" y="388"/>
                </a:lnTo>
                <a:lnTo>
                  <a:pt x="3115" y="215"/>
                </a:lnTo>
                <a:lnTo>
                  <a:pt x="3350" y="107"/>
                </a:lnTo>
                <a:lnTo>
                  <a:pt x="3629" y="10"/>
                </a:lnTo>
                <a:lnTo>
                  <a:pt x="3909" y="0"/>
                </a:lnTo>
                <a:lnTo>
                  <a:pt x="4158" y="43"/>
                </a:lnTo>
                <a:lnTo>
                  <a:pt x="4437" y="151"/>
                </a:lnTo>
                <a:lnTo>
                  <a:pt x="4648" y="334"/>
                </a:lnTo>
                <a:lnTo>
                  <a:pt x="4799" y="518"/>
                </a:lnTo>
                <a:lnTo>
                  <a:pt x="4897" y="701"/>
                </a:lnTo>
                <a:lnTo>
                  <a:pt x="4920" y="928"/>
                </a:lnTo>
                <a:lnTo>
                  <a:pt x="5116" y="852"/>
                </a:lnTo>
                <a:lnTo>
                  <a:pt x="5350" y="874"/>
                </a:lnTo>
                <a:lnTo>
                  <a:pt x="5531" y="939"/>
                </a:lnTo>
                <a:lnTo>
                  <a:pt x="5697" y="1101"/>
                </a:lnTo>
                <a:lnTo>
                  <a:pt x="5825" y="1317"/>
                </a:lnTo>
                <a:lnTo>
                  <a:pt x="5870" y="1544"/>
                </a:lnTo>
                <a:lnTo>
                  <a:pt x="5863" y="1706"/>
                </a:lnTo>
                <a:lnTo>
                  <a:pt x="5968" y="1695"/>
                </a:lnTo>
                <a:lnTo>
                  <a:pt x="6112" y="1739"/>
                </a:lnTo>
                <a:lnTo>
                  <a:pt x="6247" y="1814"/>
                </a:lnTo>
                <a:lnTo>
                  <a:pt x="6361" y="1911"/>
                </a:lnTo>
                <a:lnTo>
                  <a:pt x="6428" y="1987"/>
                </a:lnTo>
                <a:lnTo>
                  <a:pt x="6496" y="2084"/>
                </a:lnTo>
                <a:lnTo>
                  <a:pt x="6572" y="2214"/>
                </a:lnTo>
                <a:lnTo>
                  <a:pt x="6610" y="2375"/>
                </a:lnTo>
                <a:lnTo>
                  <a:pt x="6617" y="2494"/>
                </a:lnTo>
                <a:lnTo>
                  <a:pt x="6594" y="2624"/>
                </a:lnTo>
                <a:lnTo>
                  <a:pt x="6549" y="2786"/>
                </a:lnTo>
                <a:lnTo>
                  <a:pt x="6610" y="2948"/>
                </a:lnTo>
                <a:lnTo>
                  <a:pt x="6632" y="3099"/>
                </a:lnTo>
                <a:lnTo>
                  <a:pt x="6647" y="3261"/>
                </a:lnTo>
                <a:lnTo>
                  <a:pt x="6617" y="3466"/>
                </a:lnTo>
                <a:lnTo>
                  <a:pt x="6594" y="3574"/>
                </a:lnTo>
                <a:lnTo>
                  <a:pt x="6511" y="3714"/>
                </a:lnTo>
                <a:lnTo>
                  <a:pt x="6617" y="3930"/>
                </a:lnTo>
                <a:lnTo>
                  <a:pt x="6647" y="4049"/>
                </a:lnTo>
                <a:lnTo>
                  <a:pt x="6655" y="4243"/>
                </a:lnTo>
                <a:lnTo>
                  <a:pt x="6632" y="4416"/>
                </a:lnTo>
                <a:lnTo>
                  <a:pt x="6579" y="4622"/>
                </a:lnTo>
                <a:lnTo>
                  <a:pt x="6496" y="4762"/>
                </a:lnTo>
                <a:lnTo>
                  <a:pt x="6383" y="4913"/>
                </a:lnTo>
                <a:lnTo>
                  <a:pt x="6179" y="5043"/>
                </a:lnTo>
                <a:lnTo>
                  <a:pt x="5968" y="5086"/>
                </a:lnTo>
                <a:lnTo>
                  <a:pt x="5780" y="5054"/>
                </a:lnTo>
                <a:lnTo>
                  <a:pt x="5659" y="4978"/>
                </a:lnTo>
                <a:lnTo>
                  <a:pt x="5576" y="5119"/>
                </a:lnTo>
                <a:lnTo>
                  <a:pt x="5478" y="5226"/>
                </a:lnTo>
                <a:lnTo>
                  <a:pt x="5402" y="5302"/>
                </a:lnTo>
                <a:lnTo>
                  <a:pt x="5244" y="5399"/>
                </a:lnTo>
                <a:lnTo>
                  <a:pt x="5116" y="5464"/>
                </a:lnTo>
                <a:lnTo>
                  <a:pt x="4920" y="5518"/>
                </a:lnTo>
                <a:lnTo>
                  <a:pt x="4723" y="5507"/>
                </a:lnTo>
                <a:lnTo>
                  <a:pt x="4535" y="5442"/>
                </a:lnTo>
                <a:lnTo>
                  <a:pt x="4369" y="5324"/>
                </a:lnTo>
                <a:lnTo>
                  <a:pt x="4263" y="5518"/>
                </a:lnTo>
                <a:lnTo>
                  <a:pt x="4173" y="5637"/>
                </a:lnTo>
                <a:lnTo>
                  <a:pt x="4052" y="5734"/>
                </a:lnTo>
                <a:lnTo>
                  <a:pt x="3916" y="5809"/>
                </a:lnTo>
                <a:lnTo>
                  <a:pt x="3758" y="5842"/>
                </a:lnTo>
                <a:lnTo>
                  <a:pt x="3622" y="5842"/>
                </a:lnTo>
                <a:lnTo>
                  <a:pt x="3479" y="5809"/>
                </a:lnTo>
                <a:lnTo>
                  <a:pt x="3304" y="5701"/>
                </a:lnTo>
                <a:lnTo>
                  <a:pt x="3206" y="5604"/>
                </a:lnTo>
                <a:lnTo>
                  <a:pt x="3115" y="5734"/>
                </a:lnTo>
                <a:lnTo>
                  <a:pt x="3017" y="5809"/>
                </a:lnTo>
                <a:lnTo>
                  <a:pt x="2897" y="5874"/>
                </a:lnTo>
                <a:lnTo>
                  <a:pt x="2723" y="5928"/>
                </a:lnTo>
                <a:lnTo>
                  <a:pt x="2550" y="5907"/>
                </a:lnTo>
                <a:lnTo>
                  <a:pt x="2368" y="5853"/>
                </a:lnTo>
                <a:lnTo>
                  <a:pt x="2225" y="5755"/>
                </a:lnTo>
                <a:lnTo>
                  <a:pt x="2089" y="5594"/>
                </a:lnTo>
                <a:lnTo>
                  <a:pt x="2014" y="5442"/>
                </a:lnTo>
                <a:lnTo>
                  <a:pt x="1878" y="5496"/>
                </a:lnTo>
                <a:lnTo>
                  <a:pt x="1720" y="5529"/>
                </a:lnTo>
                <a:lnTo>
                  <a:pt x="1531" y="5518"/>
                </a:lnTo>
                <a:lnTo>
                  <a:pt x="1373" y="5442"/>
                </a:lnTo>
                <a:lnTo>
                  <a:pt x="1237" y="5345"/>
                </a:lnTo>
                <a:lnTo>
                  <a:pt x="1139" y="5226"/>
                </a:lnTo>
                <a:lnTo>
                  <a:pt x="1048" y="5065"/>
                </a:lnTo>
                <a:lnTo>
                  <a:pt x="1026" y="4913"/>
                </a:lnTo>
                <a:lnTo>
                  <a:pt x="943" y="4946"/>
                </a:lnTo>
                <a:lnTo>
                  <a:pt x="784" y="4957"/>
                </a:lnTo>
                <a:lnTo>
                  <a:pt x="611" y="4913"/>
                </a:lnTo>
                <a:lnTo>
                  <a:pt x="445" y="4795"/>
                </a:lnTo>
                <a:lnTo>
                  <a:pt x="324" y="4644"/>
                </a:lnTo>
                <a:lnTo>
                  <a:pt x="226" y="4449"/>
                </a:lnTo>
                <a:lnTo>
                  <a:pt x="173" y="4243"/>
                </a:lnTo>
                <a:lnTo>
                  <a:pt x="150" y="3952"/>
                </a:lnTo>
                <a:lnTo>
                  <a:pt x="158" y="3768"/>
                </a:lnTo>
                <a:lnTo>
                  <a:pt x="211" y="3487"/>
                </a:lnTo>
                <a:lnTo>
                  <a:pt x="90" y="3325"/>
                </a:lnTo>
                <a:lnTo>
                  <a:pt x="30" y="3110"/>
                </a:lnTo>
                <a:lnTo>
                  <a:pt x="0" y="2894"/>
                </a:lnTo>
                <a:lnTo>
                  <a:pt x="0" y="2667"/>
                </a:lnTo>
                <a:lnTo>
                  <a:pt x="37" y="2419"/>
                </a:lnTo>
                <a:lnTo>
                  <a:pt x="113" y="2224"/>
                </a:lnTo>
                <a:lnTo>
                  <a:pt x="248" y="2030"/>
                </a:lnTo>
                <a:lnTo>
                  <a:pt x="392" y="1879"/>
                </a:lnTo>
                <a:lnTo>
                  <a:pt x="550" y="1739"/>
                </a:lnTo>
                <a:lnTo>
                  <a:pt x="761" y="1641"/>
                </a:lnTo>
                <a:lnTo>
                  <a:pt x="958" y="1587"/>
                </a:lnTo>
                <a:lnTo>
                  <a:pt x="1048" y="1555"/>
                </a:lnTo>
                <a:lnTo>
                  <a:pt x="1056"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a:off x="6553080" y="3581280"/>
            <a:ext cx="1067040" cy="686160"/>
          </a:xfrm>
          <a:custGeom>
            <a:avLst/>
            <a:gdLst/>
            <a:ahLst/>
            <a:rect l="0" t="0" r="r" b="b"/>
            <a:pathLst>
              <a:path w="2964" h="1906">
                <a:moveTo>
                  <a:pt x="470" y="451"/>
                </a:moveTo>
                <a:lnTo>
                  <a:pt x="497" y="399"/>
                </a:lnTo>
                <a:lnTo>
                  <a:pt x="534" y="346"/>
                </a:lnTo>
                <a:lnTo>
                  <a:pt x="587" y="301"/>
                </a:lnTo>
                <a:lnTo>
                  <a:pt x="665" y="267"/>
                </a:lnTo>
                <a:lnTo>
                  <a:pt x="725" y="249"/>
                </a:lnTo>
                <a:lnTo>
                  <a:pt x="799" y="229"/>
                </a:lnTo>
                <a:lnTo>
                  <a:pt x="913" y="222"/>
                </a:lnTo>
                <a:lnTo>
                  <a:pt x="1024" y="229"/>
                </a:lnTo>
                <a:lnTo>
                  <a:pt x="1128" y="253"/>
                </a:lnTo>
                <a:lnTo>
                  <a:pt x="1206" y="277"/>
                </a:lnTo>
                <a:lnTo>
                  <a:pt x="1249" y="190"/>
                </a:lnTo>
                <a:lnTo>
                  <a:pt x="1310" y="124"/>
                </a:lnTo>
                <a:lnTo>
                  <a:pt x="1387" y="69"/>
                </a:lnTo>
                <a:lnTo>
                  <a:pt x="1492" y="34"/>
                </a:lnTo>
                <a:lnTo>
                  <a:pt x="1617" y="3"/>
                </a:lnTo>
                <a:lnTo>
                  <a:pt x="1741" y="0"/>
                </a:lnTo>
                <a:lnTo>
                  <a:pt x="1852" y="13"/>
                </a:lnTo>
                <a:lnTo>
                  <a:pt x="1976" y="48"/>
                </a:lnTo>
                <a:lnTo>
                  <a:pt x="2070" y="107"/>
                </a:lnTo>
                <a:lnTo>
                  <a:pt x="2137" y="166"/>
                </a:lnTo>
                <a:lnTo>
                  <a:pt x="2181" y="225"/>
                </a:lnTo>
                <a:lnTo>
                  <a:pt x="2191" y="298"/>
                </a:lnTo>
                <a:lnTo>
                  <a:pt x="2278" y="274"/>
                </a:lnTo>
                <a:lnTo>
                  <a:pt x="2383" y="281"/>
                </a:lnTo>
                <a:lnTo>
                  <a:pt x="2463" y="301"/>
                </a:lnTo>
                <a:lnTo>
                  <a:pt x="2537" y="353"/>
                </a:lnTo>
                <a:lnTo>
                  <a:pt x="2594" y="423"/>
                </a:lnTo>
                <a:lnTo>
                  <a:pt x="2614" y="496"/>
                </a:lnTo>
                <a:lnTo>
                  <a:pt x="2611" y="548"/>
                </a:lnTo>
                <a:lnTo>
                  <a:pt x="2658" y="544"/>
                </a:lnTo>
                <a:lnTo>
                  <a:pt x="2722" y="558"/>
                </a:lnTo>
                <a:lnTo>
                  <a:pt x="2782" y="582"/>
                </a:lnTo>
                <a:lnTo>
                  <a:pt x="2833" y="614"/>
                </a:lnTo>
                <a:lnTo>
                  <a:pt x="2863" y="638"/>
                </a:lnTo>
                <a:lnTo>
                  <a:pt x="2893" y="669"/>
                </a:lnTo>
                <a:lnTo>
                  <a:pt x="2927" y="711"/>
                </a:lnTo>
                <a:lnTo>
                  <a:pt x="2944" y="763"/>
                </a:lnTo>
                <a:lnTo>
                  <a:pt x="2947" y="801"/>
                </a:lnTo>
                <a:lnTo>
                  <a:pt x="2937" y="843"/>
                </a:lnTo>
                <a:lnTo>
                  <a:pt x="2917" y="895"/>
                </a:lnTo>
                <a:lnTo>
                  <a:pt x="2944" y="947"/>
                </a:lnTo>
                <a:lnTo>
                  <a:pt x="2954" y="996"/>
                </a:lnTo>
                <a:lnTo>
                  <a:pt x="2960" y="1048"/>
                </a:lnTo>
                <a:lnTo>
                  <a:pt x="2947" y="1114"/>
                </a:lnTo>
                <a:lnTo>
                  <a:pt x="2937" y="1149"/>
                </a:lnTo>
                <a:lnTo>
                  <a:pt x="2900" y="1194"/>
                </a:lnTo>
                <a:lnTo>
                  <a:pt x="2947" y="1264"/>
                </a:lnTo>
                <a:lnTo>
                  <a:pt x="2960" y="1302"/>
                </a:lnTo>
                <a:lnTo>
                  <a:pt x="2964" y="1364"/>
                </a:lnTo>
                <a:lnTo>
                  <a:pt x="2954" y="1420"/>
                </a:lnTo>
                <a:lnTo>
                  <a:pt x="2930" y="1486"/>
                </a:lnTo>
                <a:lnTo>
                  <a:pt x="2893" y="1531"/>
                </a:lnTo>
                <a:lnTo>
                  <a:pt x="2843" y="1579"/>
                </a:lnTo>
                <a:lnTo>
                  <a:pt x="2752" y="1621"/>
                </a:lnTo>
                <a:lnTo>
                  <a:pt x="2658" y="1635"/>
                </a:lnTo>
                <a:lnTo>
                  <a:pt x="2574" y="1624"/>
                </a:lnTo>
                <a:lnTo>
                  <a:pt x="2520" y="1600"/>
                </a:lnTo>
                <a:lnTo>
                  <a:pt x="2483" y="1645"/>
                </a:lnTo>
                <a:lnTo>
                  <a:pt x="2440" y="1680"/>
                </a:lnTo>
                <a:lnTo>
                  <a:pt x="2406" y="1704"/>
                </a:lnTo>
                <a:lnTo>
                  <a:pt x="2336" y="1735"/>
                </a:lnTo>
                <a:lnTo>
                  <a:pt x="2278" y="1756"/>
                </a:lnTo>
                <a:lnTo>
                  <a:pt x="2191" y="1774"/>
                </a:lnTo>
                <a:lnTo>
                  <a:pt x="2104" y="1770"/>
                </a:lnTo>
                <a:lnTo>
                  <a:pt x="2020" y="1749"/>
                </a:lnTo>
                <a:lnTo>
                  <a:pt x="1946" y="1711"/>
                </a:lnTo>
                <a:lnTo>
                  <a:pt x="1899" y="1774"/>
                </a:lnTo>
                <a:lnTo>
                  <a:pt x="1858" y="1812"/>
                </a:lnTo>
                <a:lnTo>
                  <a:pt x="1805" y="1843"/>
                </a:lnTo>
                <a:lnTo>
                  <a:pt x="1744" y="1867"/>
                </a:lnTo>
                <a:lnTo>
                  <a:pt x="1674" y="1878"/>
                </a:lnTo>
                <a:lnTo>
                  <a:pt x="1613" y="1878"/>
                </a:lnTo>
                <a:lnTo>
                  <a:pt x="1549" y="1867"/>
                </a:lnTo>
                <a:lnTo>
                  <a:pt x="1471" y="1833"/>
                </a:lnTo>
                <a:lnTo>
                  <a:pt x="1427" y="1801"/>
                </a:lnTo>
                <a:lnTo>
                  <a:pt x="1387" y="1843"/>
                </a:lnTo>
                <a:lnTo>
                  <a:pt x="1343" y="1867"/>
                </a:lnTo>
                <a:lnTo>
                  <a:pt x="1290" y="1888"/>
                </a:lnTo>
                <a:lnTo>
                  <a:pt x="1212" y="1906"/>
                </a:lnTo>
                <a:lnTo>
                  <a:pt x="1135" y="1899"/>
                </a:lnTo>
                <a:lnTo>
                  <a:pt x="1054" y="1881"/>
                </a:lnTo>
                <a:lnTo>
                  <a:pt x="991" y="1850"/>
                </a:lnTo>
                <a:lnTo>
                  <a:pt x="930" y="1798"/>
                </a:lnTo>
                <a:lnTo>
                  <a:pt x="897" y="1749"/>
                </a:lnTo>
                <a:lnTo>
                  <a:pt x="836" y="1767"/>
                </a:lnTo>
                <a:lnTo>
                  <a:pt x="766" y="1777"/>
                </a:lnTo>
                <a:lnTo>
                  <a:pt x="682" y="1774"/>
                </a:lnTo>
                <a:lnTo>
                  <a:pt x="611" y="1749"/>
                </a:lnTo>
                <a:lnTo>
                  <a:pt x="551" y="1718"/>
                </a:lnTo>
                <a:lnTo>
                  <a:pt x="507" y="1680"/>
                </a:lnTo>
                <a:lnTo>
                  <a:pt x="467" y="1628"/>
                </a:lnTo>
                <a:lnTo>
                  <a:pt x="456" y="1579"/>
                </a:lnTo>
                <a:lnTo>
                  <a:pt x="419" y="1590"/>
                </a:lnTo>
                <a:lnTo>
                  <a:pt x="349" y="1593"/>
                </a:lnTo>
                <a:lnTo>
                  <a:pt x="272" y="1579"/>
                </a:lnTo>
                <a:lnTo>
                  <a:pt x="198" y="1541"/>
                </a:lnTo>
                <a:lnTo>
                  <a:pt x="144" y="1493"/>
                </a:lnTo>
                <a:lnTo>
                  <a:pt x="100" y="1430"/>
                </a:lnTo>
                <a:lnTo>
                  <a:pt x="77" y="1364"/>
                </a:lnTo>
                <a:lnTo>
                  <a:pt x="67" y="1271"/>
                </a:lnTo>
                <a:lnTo>
                  <a:pt x="70" y="1212"/>
                </a:lnTo>
                <a:lnTo>
                  <a:pt x="94" y="1121"/>
                </a:lnTo>
                <a:lnTo>
                  <a:pt x="40" y="1069"/>
                </a:lnTo>
                <a:lnTo>
                  <a:pt x="13" y="1000"/>
                </a:lnTo>
                <a:lnTo>
                  <a:pt x="0" y="929"/>
                </a:lnTo>
                <a:lnTo>
                  <a:pt x="0" y="857"/>
                </a:lnTo>
                <a:lnTo>
                  <a:pt x="16" y="777"/>
                </a:lnTo>
                <a:lnTo>
                  <a:pt x="50" y="714"/>
                </a:lnTo>
                <a:lnTo>
                  <a:pt x="110" y="652"/>
                </a:lnTo>
                <a:lnTo>
                  <a:pt x="174" y="603"/>
                </a:lnTo>
                <a:lnTo>
                  <a:pt x="245" y="558"/>
                </a:lnTo>
                <a:lnTo>
                  <a:pt x="339" y="527"/>
                </a:lnTo>
                <a:lnTo>
                  <a:pt x="426" y="510"/>
                </a:lnTo>
                <a:lnTo>
                  <a:pt x="467" y="499"/>
                </a:lnTo>
                <a:lnTo>
                  <a:pt x="470" y="4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49880" y="3657600"/>
            <a:ext cx="999000" cy="914760"/>
          </a:xfrm>
          <a:custGeom>
            <a:avLst/>
            <a:gdLst/>
            <a:ahLst/>
            <a:rect l="0" t="0" r="r" b="b"/>
            <a:pathLst>
              <a:path w="2775" h="2541">
                <a:moveTo>
                  <a:pt x="440" y="601"/>
                </a:moveTo>
                <a:lnTo>
                  <a:pt x="465" y="532"/>
                </a:lnTo>
                <a:lnTo>
                  <a:pt x="500" y="462"/>
                </a:lnTo>
                <a:lnTo>
                  <a:pt x="550" y="402"/>
                </a:lnTo>
                <a:lnTo>
                  <a:pt x="622" y="356"/>
                </a:lnTo>
                <a:lnTo>
                  <a:pt x="679" y="333"/>
                </a:lnTo>
                <a:lnTo>
                  <a:pt x="749" y="305"/>
                </a:lnTo>
                <a:lnTo>
                  <a:pt x="856" y="296"/>
                </a:lnTo>
                <a:lnTo>
                  <a:pt x="960" y="305"/>
                </a:lnTo>
                <a:lnTo>
                  <a:pt x="1057" y="337"/>
                </a:lnTo>
                <a:lnTo>
                  <a:pt x="1129" y="370"/>
                </a:lnTo>
                <a:lnTo>
                  <a:pt x="1170" y="254"/>
                </a:lnTo>
                <a:lnTo>
                  <a:pt x="1227" y="166"/>
                </a:lnTo>
                <a:lnTo>
                  <a:pt x="1299" y="92"/>
                </a:lnTo>
                <a:lnTo>
                  <a:pt x="1397" y="46"/>
                </a:lnTo>
                <a:lnTo>
                  <a:pt x="1513" y="4"/>
                </a:lnTo>
                <a:lnTo>
                  <a:pt x="1630" y="0"/>
                </a:lnTo>
                <a:lnTo>
                  <a:pt x="1733" y="18"/>
                </a:lnTo>
                <a:lnTo>
                  <a:pt x="1850" y="64"/>
                </a:lnTo>
                <a:lnTo>
                  <a:pt x="1938" y="143"/>
                </a:lnTo>
                <a:lnTo>
                  <a:pt x="2001" y="222"/>
                </a:lnTo>
                <a:lnTo>
                  <a:pt x="2041" y="300"/>
                </a:lnTo>
                <a:lnTo>
                  <a:pt x="2051" y="397"/>
                </a:lnTo>
                <a:lnTo>
                  <a:pt x="2134" y="365"/>
                </a:lnTo>
                <a:lnTo>
                  <a:pt x="2231" y="374"/>
                </a:lnTo>
                <a:lnTo>
                  <a:pt x="2307" y="402"/>
                </a:lnTo>
                <a:lnTo>
                  <a:pt x="2376" y="471"/>
                </a:lnTo>
                <a:lnTo>
                  <a:pt x="2429" y="564"/>
                </a:lnTo>
                <a:lnTo>
                  <a:pt x="2448" y="661"/>
                </a:lnTo>
                <a:lnTo>
                  <a:pt x="2445" y="731"/>
                </a:lnTo>
                <a:lnTo>
                  <a:pt x="2489" y="726"/>
                </a:lnTo>
                <a:lnTo>
                  <a:pt x="2549" y="744"/>
                </a:lnTo>
                <a:lnTo>
                  <a:pt x="2605" y="777"/>
                </a:lnTo>
                <a:lnTo>
                  <a:pt x="2653" y="818"/>
                </a:lnTo>
                <a:lnTo>
                  <a:pt x="2681" y="851"/>
                </a:lnTo>
                <a:lnTo>
                  <a:pt x="2709" y="892"/>
                </a:lnTo>
                <a:lnTo>
                  <a:pt x="2741" y="948"/>
                </a:lnTo>
                <a:lnTo>
                  <a:pt x="2756" y="1017"/>
                </a:lnTo>
                <a:lnTo>
                  <a:pt x="2759" y="1068"/>
                </a:lnTo>
                <a:lnTo>
                  <a:pt x="2750" y="1124"/>
                </a:lnTo>
                <a:lnTo>
                  <a:pt x="2731" y="1193"/>
                </a:lnTo>
                <a:lnTo>
                  <a:pt x="2756" y="1263"/>
                </a:lnTo>
                <a:lnTo>
                  <a:pt x="2766" y="1328"/>
                </a:lnTo>
                <a:lnTo>
                  <a:pt x="2772" y="1398"/>
                </a:lnTo>
                <a:lnTo>
                  <a:pt x="2759" y="1486"/>
                </a:lnTo>
                <a:lnTo>
                  <a:pt x="2750" y="1532"/>
                </a:lnTo>
                <a:lnTo>
                  <a:pt x="2715" y="1592"/>
                </a:lnTo>
                <a:lnTo>
                  <a:pt x="2759" y="1685"/>
                </a:lnTo>
                <a:lnTo>
                  <a:pt x="2772" y="1735"/>
                </a:lnTo>
                <a:lnTo>
                  <a:pt x="2775" y="1819"/>
                </a:lnTo>
                <a:lnTo>
                  <a:pt x="2766" y="1893"/>
                </a:lnTo>
                <a:lnTo>
                  <a:pt x="2744" y="1981"/>
                </a:lnTo>
                <a:lnTo>
                  <a:pt x="2709" y="2041"/>
                </a:lnTo>
                <a:lnTo>
                  <a:pt x="2662" y="2106"/>
                </a:lnTo>
                <a:lnTo>
                  <a:pt x="2577" y="2161"/>
                </a:lnTo>
                <a:lnTo>
                  <a:pt x="2489" y="2180"/>
                </a:lnTo>
                <a:lnTo>
                  <a:pt x="2410" y="2166"/>
                </a:lnTo>
                <a:lnTo>
                  <a:pt x="2360" y="2133"/>
                </a:lnTo>
                <a:lnTo>
                  <a:pt x="2326" y="2194"/>
                </a:lnTo>
                <a:lnTo>
                  <a:pt x="2285" y="2240"/>
                </a:lnTo>
                <a:lnTo>
                  <a:pt x="2253" y="2272"/>
                </a:lnTo>
                <a:lnTo>
                  <a:pt x="2187" y="2314"/>
                </a:lnTo>
                <a:lnTo>
                  <a:pt x="2134" y="2342"/>
                </a:lnTo>
                <a:lnTo>
                  <a:pt x="2051" y="2365"/>
                </a:lnTo>
                <a:lnTo>
                  <a:pt x="1969" y="2360"/>
                </a:lnTo>
                <a:lnTo>
                  <a:pt x="1891" y="2332"/>
                </a:lnTo>
                <a:lnTo>
                  <a:pt x="1821" y="2281"/>
                </a:lnTo>
                <a:lnTo>
                  <a:pt x="1777" y="2365"/>
                </a:lnTo>
                <a:lnTo>
                  <a:pt x="1740" y="2416"/>
                </a:lnTo>
                <a:lnTo>
                  <a:pt x="1689" y="2457"/>
                </a:lnTo>
                <a:lnTo>
                  <a:pt x="1633" y="2490"/>
                </a:lnTo>
                <a:lnTo>
                  <a:pt x="1567" y="2503"/>
                </a:lnTo>
                <a:lnTo>
                  <a:pt x="1510" y="2503"/>
                </a:lnTo>
                <a:lnTo>
                  <a:pt x="1450" y="2490"/>
                </a:lnTo>
                <a:lnTo>
                  <a:pt x="1378" y="2443"/>
                </a:lnTo>
                <a:lnTo>
                  <a:pt x="1337" y="2402"/>
                </a:lnTo>
                <a:lnTo>
                  <a:pt x="1299" y="2457"/>
                </a:lnTo>
                <a:lnTo>
                  <a:pt x="1258" y="2490"/>
                </a:lnTo>
                <a:lnTo>
                  <a:pt x="1208" y="2517"/>
                </a:lnTo>
                <a:lnTo>
                  <a:pt x="1136" y="2541"/>
                </a:lnTo>
                <a:lnTo>
                  <a:pt x="1063" y="2531"/>
                </a:lnTo>
                <a:lnTo>
                  <a:pt x="988" y="2508"/>
                </a:lnTo>
                <a:lnTo>
                  <a:pt x="928" y="2466"/>
                </a:lnTo>
                <a:lnTo>
                  <a:pt x="872" y="2397"/>
                </a:lnTo>
                <a:lnTo>
                  <a:pt x="840" y="2332"/>
                </a:lnTo>
                <a:lnTo>
                  <a:pt x="784" y="2355"/>
                </a:lnTo>
                <a:lnTo>
                  <a:pt x="718" y="2369"/>
                </a:lnTo>
                <a:lnTo>
                  <a:pt x="638" y="2365"/>
                </a:lnTo>
                <a:lnTo>
                  <a:pt x="572" y="2332"/>
                </a:lnTo>
                <a:lnTo>
                  <a:pt x="515" y="2291"/>
                </a:lnTo>
                <a:lnTo>
                  <a:pt x="474" y="2240"/>
                </a:lnTo>
                <a:lnTo>
                  <a:pt x="437" y="2170"/>
                </a:lnTo>
                <a:lnTo>
                  <a:pt x="427" y="2106"/>
                </a:lnTo>
                <a:lnTo>
                  <a:pt x="393" y="2119"/>
                </a:lnTo>
                <a:lnTo>
                  <a:pt x="327" y="2124"/>
                </a:lnTo>
                <a:lnTo>
                  <a:pt x="254" y="2106"/>
                </a:lnTo>
                <a:lnTo>
                  <a:pt x="185" y="2055"/>
                </a:lnTo>
                <a:lnTo>
                  <a:pt x="135" y="1990"/>
                </a:lnTo>
                <a:lnTo>
                  <a:pt x="94" y="1907"/>
                </a:lnTo>
                <a:lnTo>
                  <a:pt x="72" y="1819"/>
                </a:lnTo>
                <a:lnTo>
                  <a:pt x="62" y="1694"/>
                </a:lnTo>
                <a:lnTo>
                  <a:pt x="66" y="1615"/>
                </a:lnTo>
                <a:lnTo>
                  <a:pt x="88" y="1495"/>
                </a:lnTo>
                <a:lnTo>
                  <a:pt x="37" y="1425"/>
                </a:lnTo>
                <a:lnTo>
                  <a:pt x="12" y="1333"/>
                </a:lnTo>
                <a:lnTo>
                  <a:pt x="0" y="1239"/>
                </a:lnTo>
                <a:lnTo>
                  <a:pt x="0" y="1142"/>
                </a:lnTo>
                <a:lnTo>
                  <a:pt x="15" y="1036"/>
                </a:lnTo>
                <a:lnTo>
                  <a:pt x="47" y="953"/>
                </a:lnTo>
                <a:lnTo>
                  <a:pt x="103" y="869"/>
                </a:lnTo>
                <a:lnTo>
                  <a:pt x="163" y="805"/>
                </a:lnTo>
                <a:lnTo>
                  <a:pt x="229" y="744"/>
                </a:lnTo>
                <a:lnTo>
                  <a:pt x="317" y="703"/>
                </a:lnTo>
                <a:lnTo>
                  <a:pt x="399" y="680"/>
                </a:lnTo>
                <a:lnTo>
                  <a:pt x="437" y="666"/>
                </a:lnTo>
                <a:lnTo>
                  <a:pt x="440" y="6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7315200" y="4195800"/>
            <a:ext cx="457560" cy="681480"/>
          </a:xfrm>
          <a:custGeom>
            <a:avLst/>
            <a:gdLst/>
            <a:ahLst/>
            <a:rect l="0" t="0" r="r" b="b"/>
            <a:pathLst>
              <a:path w="1271" h="1893">
                <a:moveTo>
                  <a:pt x="201" y="447"/>
                </a:moveTo>
                <a:lnTo>
                  <a:pt x="213" y="396"/>
                </a:lnTo>
                <a:lnTo>
                  <a:pt x="228" y="344"/>
                </a:lnTo>
                <a:lnTo>
                  <a:pt x="251" y="299"/>
                </a:lnTo>
                <a:lnTo>
                  <a:pt x="285" y="265"/>
                </a:lnTo>
                <a:lnTo>
                  <a:pt x="311" y="248"/>
                </a:lnTo>
                <a:lnTo>
                  <a:pt x="342" y="227"/>
                </a:lnTo>
                <a:lnTo>
                  <a:pt x="391" y="220"/>
                </a:lnTo>
                <a:lnTo>
                  <a:pt x="439" y="227"/>
                </a:lnTo>
                <a:lnTo>
                  <a:pt x="483" y="251"/>
                </a:lnTo>
                <a:lnTo>
                  <a:pt x="516" y="275"/>
                </a:lnTo>
                <a:lnTo>
                  <a:pt x="535" y="189"/>
                </a:lnTo>
                <a:lnTo>
                  <a:pt x="561" y="124"/>
                </a:lnTo>
                <a:lnTo>
                  <a:pt x="594" y="68"/>
                </a:lnTo>
                <a:lnTo>
                  <a:pt x="640" y="34"/>
                </a:lnTo>
                <a:lnTo>
                  <a:pt x="693" y="3"/>
                </a:lnTo>
                <a:lnTo>
                  <a:pt x="746" y="0"/>
                </a:lnTo>
                <a:lnTo>
                  <a:pt x="794" y="13"/>
                </a:lnTo>
                <a:lnTo>
                  <a:pt x="847" y="48"/>
                </a:lnTo>
                <a:lnTo>
                  <a:pt x="887" y="106"/>
                </a:lnTo>
                <a:lnTo>
                  <a:pt x="916" y="165"/>
                </a:lnTo>
                <a:lnTo>
                  <a:pt x="935" y="223"/>
                </a:lnTo>
                <a:lnTo>
                  <a:pt x="939" y="296"/>
                </a:lnTo>
                <a:lnTo>
                  <a:pt x="977" y="272"/>
                </a:lnTo>
                <a:lnTo>
                  <a:pt x="1021" y="279"/>
                </a:lnTo>
                <a:lnTo>
                  <a:pt x="1056" y="299"/>
                </a:lnTo>
                <a:lnTo>
                  <a:pt x="1088" y="351"/>
                </a:lnTo>
                <a:lnTo>
                  <a:pt x="1112" y="420"/>
                </a:lnTo>
                <a:lnTo>
                  <a:pt x="1121" y="493"/>
                </a:lnTo>
                <a:lnTo>
                  <a:pt x="1119" y="545"/>
                </a:lnTo>
                <a:lnTo>
                  <a:pt x="1139" y="541"/>
                </a:lnTo>
                <a:lnTo>
                  <a:pt x="1167" y="555"/>
                </a:lnTo>
                <a:lnTo>
                  <a:pt x="1193" y="579"/>
                </a:lnTo>
                <a:lnTo>
                  <a:pt x="1214" y="610"/>
                </a:lnTo>
                <a:lnTo>
                  <a:pt x="1227" y="635"/>
                </a:lnTo>
                <a:lnTo>
                  <a:pt x="1240" y="666"/>
                </a:lnTo>
                <a:lnTo>
                  <a:pt x="1255" y="707"/>
                </a:lnTo>
                <a:lnTo>
                  <a:pt x="1262" y="759"/>
                </a:lnTo>
                <a:lnTo>
                  <a:pt x="1263" y="796"/>
                </a:lnTo>
                <a:lnTo>
                  <a:pt x="1259" y="838"/>
                </a:lnTo>
                <a:lnTo>
                  <a:pt x="1250" y="890"/>
                </a:lnTo>
                <a:lnTo>
                  <a:pt x="1262" y="941"/>
                </a:lnTo>
                <a:lnTo>
                  <a:pt x="1266" y="989"/>
                </a:lnTo>
                <a:lnTo>
                  <a:pt x="1269" y="1041"/>
                </a:lnTo>
                <a:lnTo>
                  <a:pt x="1263" y="1107"/>
                </a:lnTo>
                <a:lnTo>
                  <a:pt x="1259" y="1141"/>
                </a:lnTo>
                <a:lnTo>
                  <a:pt x="1243" y="1186"/>
                </a:lnTo>
                <a:lnTo>
                  <a:pt x="1263" y="1255"/>
                </a:lnTo>
                <a:lnTo>
                  <a:pt x="1269" y="1293"/>
                </a:lnTo>
                <a:lnTo>
                  <a:pt x="1271" y="1355"/>
                </a:lnTo>
                <a:lnTo>
                  <a:pt x="1266" y="1410"/>
                </a:lnTo>
                <a:lnTo>
                  <a:pt x="1256" y="1476"/>
                </a:lnTo>
                <a:lnTo>
                  <a:pt x="1240" y="1521"/>
                </a:lnTo>
                <a:lnTo>
                  <a:pt x="1219" y="1569"/>
                </a:lnTo>
                <a:lnTo>
                  <a:pt x="1180" y="1611"/>
                </a:lnTo>
                <a:lnTo>
                  <a:pt x="1139" y="1624"/>
                </a:lnTo>
                <a:lnTo>
                  <a:pt x="1103" y="1614"/>
                </a:lnTo>
                <a:lnTo>
                  <a:pt x="1080" y="1590"/>
                </a:lnTo>
                <a:lnTo>
                  <a:pt x="1065" y="1635"/>
                </a:lnTo>
                <a:lnTo>
                  <a:pt x="1046" y="1669"/>
                </a:lnTo>
                <a:lnTo>
                  <a:pt x="1031" y="1693"/>
                </a:lnTo>
                <a:lnTo>
                  <a:pt x="1001" y="1724"/>
                </a:lnTo>
                <a:lnTo>
                  <a:pt x="977" y="1745"/>
                </a:lnTo>
                <a:lnTo>
                  <a:pt x="939" y="1762"/>
                </a:lnTo>
                <a:lnTo>
                  <a:pt x="902" y="1759"/>
                </a:lnTo>
                <a:lnTo>
                  <a:pt x="866" y="1738"/>
                </a:lnTo>
                <a:lnTo>
                  <a:pt x="834" y="1700"/>
                </a:lnTo>
                <a:lnTo>
                  <a:pt x="814" y="1762"/>
                </a:lnTo>
                <a:lnTo>
                  <a:pt x="797" y="1800"/>
                </a:lnTo>
                <a:lnTo>
                  <a:pt x="774" y="1831"/>
                </a:lnTo>
                <a:lnTo>
                  <a:pt x="748" y="1855"/>
                </a:lnTo>
                <a:lnTo>
                  <a:pt x="718" y="1866"/>
                </a:lnTo>
                <a:lnTo>
                  <a:pt x="692" y="1866"/>
                </a:lnTo>
                <a:lnTo>
                  <a:pt x="664" y="1855"/>
                </a:lnTo>
                <a:lnTo>
                  <a:pt x="630" y="1821"/>
                </a:lnTo>
                <a:lnTo>
                  <a:pt x="611" y="1790"/>
                </a:lnTo>
                <a:lnTo>
                  <a:pt x="594" y="1831"/>
                </a:lnTo>
                <a:lnTo>
                  <a:pt x="575" y="1855"/>
                </a:lnTo>
                <a:lnTo>
                  <a:pt x="552" y="1876"/>
                </a:lnTo>
                <a:lnTo>
                  <a:pt x="519" y="1893"/>
                </a:lnTo>
                <a:lnTo>
                  <a:pt x="486" y="1886"/>
                </a:lnTo>
                <a:lnTo>
                  <a:pt x="452" y="1869"/>
                </a:lnTo>
                <a:lnTo>
                  <a:pt x="424" y="1838"/>
                </a:lnTo>
                <a:lnTo>
                  <a:pt x="398" y="1786"/>
                </a:lnTo>
                <a:lnTo>
                  <a:pt x="384" y="1738"/>
                </a:lnTo>
                <a:lnTo>
                  <a:pt x="358" y="1755"/>
                </a:lnTo>
                <a:lnTo>
                  <a:pt x="328" y="1766"/>
                </a:lnTo>
                <a:lnTo>
                  <a:pt x="292" y="1762"/>
                </a:lnTo>
                <a:lnTo>
                  <a:pt x="262" y="1738"/>
                </a:lnTo>
                <a:lnTo>
                  <a:pt x="236" y="1707"/>
                </a:lnTo>
                <a:lnTo>
                  <a:pt x="217" y="1669"/>
                </a:lnTo>
                <a:lnTo>
                  <a:pt x="200" y="1618"/>
                </a:lnTo>
                <a:lnTo>
                  <a:pt x="195" y="1569"/>
                </a:lnTo>
                <a:lnTo>
                  <a:pt x="179" y="1580"/>
                </a:lnTo>
                <a:lnTo>
                  <a:pt x="149" y="1583"/>
                </a:lnTo>
                <a:lnTo>
                  <a:pt x="116" y="1569"/>
                </a:lnTo>
                <a:lnTo>
                  <a:pt x="84" y="1531"/>
                </a:lnTo>
                <a:lnTo>
                  <a:pt x="61" y="1483"/>
                </a:lnTo>
                <a:lnTo>
                  <a:pt x="43" y="1421"/>
                </a:lnTo>
                <a:lnTo>
                  <a:pt x="33" y="1355"/>
                </a:lnTo>
                <a:lnTo>
                  <a:pt x="28" y="1262"/>
                </a:lnTo>
                <a:lnTo>
                  <a:pt x="30" y="1203"/>
                </a:lnTo>
                <a:lnTo>
                  <a:pt x="40" y="1114"/>
                </a:lnTo>
                <a:lnTo>
                  <a:pt x="17" y="1062"/>
                </a:lnTo>
                <a:lnTo>
                  <a:pt x="5" y="993"/>
                </a:lnTo>
                <a:lnTo>
                  <a:pt x="0" y="924"/>
                </a:lnTo>
                <a:lnTo>
                  <a:pt x="0" y="852"/>
                </a:lnTo>
                <a:lnTo>
                  <a:pt x="7" y="772"/>
                </a:lnTo>
                <a:lnTo>
                  <a:pt x="21" y="710"/>
                </a:lnTo>
                <a:lnTo>
                  <a:pt x="47" y="648"/>
                </a:lnTo>
                <a:lnTo>
                  <a:pt x="74" y="600"/>
                </a:lnTo>
                <a:lnTo>
                  <a:pt x="105" y="555"/>
                </a:lnTo>
                <a:lnTo>
                  <a:pt x="145" y="524"/>
                </a:lnTo>
                <a:lnTo>
                  <a:pt x="182" y="507"/>
                </a:lnTo>
                <a:lnTo>
                  <a:pt x="200" y="497"/>
                </a:lnTo>
                <a:lnTo>
                  <a:pt x="201" y="447"/>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5638680" y="4724280"/>
            <a:ext cx="533880" cy="457560"/>
          </a:xfrm>
          <a:custGeom>
            <a:avLst/>
            <a:gdLst/>
            <a:ahLst/>
            <a:rect l="0" t="0" r="r" b="b"/>
            <a:pathLst>
              <a:path w="1483" h="1271">
                <a:moveTo>
                  <a:pt x="739" y="172"/>
                </a:moveTo>
                <a:lnTo>
                  <a:pt x="699" y="138"/>
                </a:lnTo>
                <a:lnTo>
                  <a:pt x="654" y="108"/>
                </a:lnTo>
                <a:lnTo>
                  <a:pt x="608" y="86"/>
                </a:lnTo>
                <a:lnTo>
                  <a:pt x="563" y="69"/>
                </a:lnTo>
                <a:lnTo>
                  <a:pt x="532" y="63"/>
                </a:lnTo>
                <a:lnTo>
                  <a:pt x="496" y="58"/>
                </a:lnTo>
                <a:lnTo>
                  <a:pt x="455" y="66"/>
                </a:lnTo>
                <a:lnTo>
                  <a:pt x="424" y="86"/>
                </a:lnTo>
                <a:lnTo>
                  <a:pt x="406" y="113"/>
                </a:lnTo>
                <a:lnTo>
                  <a:pt x="392" y="136"/>
                </a:lnTo>
                <a:lnTo>
                  <a:pt x="328" y="83"/>
                </a:lnTo>
                <a:lnTo>
                  <a:pt x="265" y="47"/>
                </a:lnTo>
                <a:lnTo>
                  <a:pt x="207" y="19"/>
                </a:lnTo>
                <a:lnTo>
                  <a:pt x="153" y="5"/>
                </a:lnTo>
                <a:lnTo>
                  <a:pt x="94" y="0"/>
                </a:lnTo>
                <a:lnTo>
                  <a:pt x="49" y="11"/>
                </a:lnTo>
                <a:lnTo>
                  <a:pt x="22" y="30"/>
                </a:lnTo>
                <a:lnTo>
                  <a:pt x="4" y="69"/>
                </a:lnTo>
                <a:lnTo>
                  <a:pt x="9" y="119"/>
                </a:lnTo>
                <a:lnTo>
                  <a:pt x="22" y="163"/>
                </a:lnTo>
                <a:lnTo>
                  <a:pt x="40" y="211"/>
                </a:lnTo>
                <a:lnTo>
                  <a:pt x="85" y="261"/>
                </a:lnTo>
                <a:lnTo>
                  <a:pt x="45" y="252"/>
                </a:lnTo>
                <a:lnTo>
                  <a:pt x="13" y="272"/>
                </a:lnTo>
                <a:lnTo>
                  <a:pt x="0" y="294"/>
                </a:lnTo>
                <a:lnTo>
                  <a:pt x="4" y="336"/>
                </a:lnTo>
                <a:lnTo>
                  <a:pt x="31" y="391"/>
                </a:lnTo>
                <a:lnTo>
                  <a:pt x="67" y="441"/>
                </a:lnTo>
                <a:lnTo>
                  <a:pt x="99" y="475"/>
                </a:lnTo>
                <a:lnTo>
                  <a:pt x="81" y="480"/>
                </a:lnTo>
                <a:lnTo>
                  <a:pt x="67" y="494"/>
                </a:lnTo>
                <a:lnTo>
                  <a:pt x="63" y="519"/>
                </a:lnTo>
                <a:lnTo>
                  <a:pt x="67" y="544"/>
                </a:lnTo>
                <a:lnTo>
                  <a:pt x="72" y="564"/>
                </a:lnTo>
                <a:lnTo>
                  <a:pt x="81" y="589"/>
                </a:lnTo>
                <a:lnTo>
                  <a:pt x="94" y="622"/>
                </a:lnTo>
                <a:lnTo>
                  <a:pt x="117" y="659"/>
                </a:lnTo>
                <a:lnTo>
                  <a:pt x="144" y="684"/>
                </a:lnTo>
                <a:lnTo>
                  <a:pt x="171" y="712"/>
                </a:lnTo>
                <a:lnTo>
                  <a:pt x="207" y="745"/>
                </a:lnTo>
                <a:lnTo>
                  <a:pt x="229" y="781"/>
                </a:lnTo>
                <a:lnTo>
                  <a:pt x="256" y="818"/>
                </a:lnTo>
                <a:lnTo>
                  <a:pt x="288" y="851"/>
                </a:lnTo>
                <a:lnTo>
                  <a:pt x="333" y="895"/>
                </a:lnTo>
                <a:lnTo>
                  <a:pt x="355" y="918"/>
                </a:lnTo>
                <a:lnTo>
                  <a:pt x="397" y="943"/>
                </a:lnTo>
                <a:lnTo>
                  <a:pt x="424" y="995"/>
                </a:lnTo>
                <a:lnTo>
                  <a:pt x="442" y="1020"/>
                </a:lnTo>
                <a:lnTo>
                  <a:pt x="478" y="1065"/>
                </a:lnTo>
                <a:lnTo>
                  <a:pt x="518" y="1101"/>
                </a:lnTo>
                <a:lnTo>
                  <a:pt x="563" y="1143"/>
                </a:lnTo>
                <a:lnTo>
                  <a:pt x="604" y="1170"/>
                </a:lnTo>
                <a:lnTo>
                  <a:pt x="649" y="1198"/>
                </a:lnTo>
                <a:lnTo>
                  <a:pt x="703" y="1215"/>
                </a:lnTo>
                <a:lnTo>
                  <a:pt x="739" y="1215"/>
                </a:lnTo>
                <a:lnTo>
                  <a:pt x="762" y="1198"/>
                </a:lnTo>
                <a:lnTo>
                  <a:pt x="766" y="1173"/>
                </a:lnTo>
                <a:lnTo>
                  <a:pt x="807" y="1201"/>
                </a:lnTo>
                <a:lnTo>
                  <a:pt x="843" y="1220"/>
                </a:lnTo>
                <a:lnTo>
                  <a:pt x="865" y="1234"/>
                </a:lnTo>
                <a:lnTo>
                  <a:pt x="906" y="1245"/>
                </a:lnTo>
                <a:lnTo>
                  <a:pt x="942" y="1254"/>
                </a:lnTo>
                <a:lnTo>
                  <a:pt x="978" y="1254"/>
                </a:lnTo>
                <a:lnTo>
                  <a:pt x="1000" y="1243"/>
                </a:lnTo>
                <a:lnTo>
                  <a:pt x="1018" y="1220"/>
                </a:lnTo>
                <a:lnTo>
                  <a:pt x="1023" y="1184"/>
                </a:lnTo>
                <a:lnTo>
                  <a:pt x="1072" y="1223"/>
                </a:lnTo>
                <a:lnTo>
                  <a:pt x="1114" y="1245"/>
                </a:lnTo>
                <a:lnTo>
                  <a:pt x="1145" y="1259"/>
                </a:lnTo>
                <a:lnTo>
                  <a:pt x="1177" y="1271"/>
                </a:lnTo>
                <a:lnTo>
                  <a:pt x="1208" y="1268"/>
                </a:lnTo>
                <a:lnTo>
                  <a:pt x="1231" y="1262"/>
                </a:lnTo>
                <a:lnTo>
                  <a:pt x="1244" y="1245"/>
                </a:lnTo>
                <a:lnTo>
                  <a:pt x="1249" y="1215"/>
                </a:lnTo>
                <a:lnTo>
                  <a:pt x="1244" y="1187"/>
                </a:lnTo>
                <a:lnTo>
                  <a:pt x="1285" y="1212"/>
                </a:lnTo>
                <a:lnTo>
                  <a:pt x="1312" y="1223"/>
                </a:lnTo>
                <a:lnTo>
                  <a:pt x="1339" y="1232"/>
                </a:lnTo>
                <a:lnTo>
                  <a:pt x="1380" y="1237"/>
                </a:lnTo>
                <a:lnTo>
                  <a:pt x="1398" y="1220"/>
                </a:lnTo>
                <a:lnTo>
                  <a:pt x="1411" y="1201"/>
                </a:lnTo>
                <a:lnTo>
                  <a:pt x="1416" y="1173"/>
                </a:lnTo>
                <a:lnTo>
                  <a:pt x="1402" y="1132"/>
                </a:lnTo>
                <a:lnTo>
                  <a:pt x="1384" y="1093"/>
                </a:lnTo>
                <a:lnTo>
                  <a:pt x="1416" y="1101"/>
                </a:lnTo>
                <a:lnTo>
                  <a:pt x="1443" y="1098"/>
                </a:lnTo>
                <a:lnTo>
                  <a:pt x="1470" y="1087"/>
                </a:lnTo>
                <a:lnTo>
                  <a:pt x="1479" y="1062"/>
                </a:lnTo>
                <a:lnTo>
                  <a:pt x="1479" y="1034"/>
                </a:lnTo>
                <a:lnTo>
                  <a:pt x="1470" y="1006"/>
                </a:lnTo>
                <a:lnTo>
                  <a:pt x="1452" y="965"/>
                </a:lnTo>
                <a:lnTo>
                  <a:pt x="1425" y="931"/>
                </a:lnTo>
                <a:lnTo>
                  <a:pt x="1443" y="934"/>
                </a:lnTo>
                <a:lnTo>
                  <a:pt x="1470" y="926"/>
                </a:lnTo>
                <a:lnTo>
                  <a:pt x="1483" y="909"/>
                </a:lnTo>
                <a:lnTo>
                  <a:pt x="1483" y="876"/>
                </a:lnTo>
                <a:lnTo>
                  <a:pt x="1474" y="837"/>
                </a:lnTo>
                <a:lnTo>
                  <a:pt x="1452" y="793"/>
                </a:lnTo>
                <a:lnTo>
                  <a:pt x="1420" y="742"/>
                </a:lnTo>
                <a:lnTo>
                  <a:pt x="1366" y="679"/>
                </a:lnTo>
                <a:lnTo>
                  <a:pt x="1330" y="640"/>
                </a:lnTo>
                <a:lnTo>
                  <a:pt x="1267" y="580"/>
                </a:lnTo>
                <a:lnTo>
                  <a:pt x="1253" y="539"/>
                </a:lnTo>
                <a:lnTo>
                  <a:pt x="1217" y="491"/>
                </a:lnTo>
                <a:lnTo>
                  <a:pt x="1186" y="441"/>
                </a:lnTo>
                <a:lnTo>
                  <a:pt x="1136" y="391"/>
                </a:lnTo>
                <a:lnTo>
                  <a:pt x="1081" y="341"/>
                </a:lnTo>
                <a:lnTo>
                  <a:pt x="1036" y="302"/>
                </a:lnTo>
                <a:lnTo>
                  <a:pt x="978" y="266"/>
                </a:lnTo>
                <a:lnTo>
                  <a:pt x="928" y="241"/>
                </a:lnTo>
                <a:lnTo>
                  <a:pt x="874" y="219"/>
                </a:lnTo>
                <a:lnTo>
                  <a:pt x="829" y="208"/>
                </a:lnTo>
                <a:lnTo>
                  <a:pt x="789" y="208"/>
                </a:lnTo>
                <a:lnTo>
                  <a:pt x="771" y="205"/>
                </a:lnTo>
                <a:lnTo>
                  <a:pt x="739" y="172"/>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6162840" y="2743200"/>
            <a:ext cx="543240" cy="1295640"/>
          </a:xfrm>
          <a:custGeom>
            <a:avLst/>
            <a:gdLst/>
            <a:ahLst/>
            <a:rect l="0" t="0" r="r" b="b"/>
            <a:pathLst>
              <a:path w="1509" h="3599">
                <a:moveTo>
                  <a:pt x="757" y="488"/>
                </a:moveTo>
                <a:lnTo>
                  <a:pt x="798" y="393"/>
                </a:lnTo>
                <a:lnTo>
                  <a:pt x="844" y="307"/>
                </a:lnTo>
                <a:lnTo>
                  <a:pt x="890" y="244"/>
                </a:lnTo>
                <a:lnTo>
                  <a:pt x="936" y="196"/>
                </a:lnTo>
                <a:lnTo>
                  <a:pt x="968" y="181"/>
                </a:lnTo>
                <a:lnTo>
                  <a:pt x="1004" y="165"/>
                </a:lnTo>
                <a:lnTo>
                  <a:pt x="1046" y="188"/>
                </a:lnTo>
                <a:lnTo>
                  <a:pt x="1078" y="244"/>
                </a:lnTo>
                <a:lnTo>
                  <a:pt x="1096" y="322"/>
                </a:lnTo>
                <a:lnTo>
                  <a:pt x="1110" y="385"/>
                </a:lnTo>
                <a:lnTo>
                  <a:pt x="1174" y="236"/>
                </a:lnTo>
                <a:lnTo>
                  <a:pt x="1238" y="133"/>
                </a:lnTo>
                <a:lnTo>
                  <a:pt x="1298" y="55"/>
                </a:lnTo>
                <a:lnTo>
                  <a:pt x="1353" y="15"/>
                </a:lnTo>
                <a:lnTo>
                  <a:pt x="1412" y="0"/>
                </a:lnTo>
                <a:lnTo>
                  <a:pt x="1458" y="31"/>
                </a:lnTo>
                <a:lnTo>
                  <a:pt x="1486" y="86"/>
                </a:lnTo>
                <a:lnTo>
                  <a:pt x="1504" y="196"/>
                </a:lnTo>
                <a:lnTo>
                  <a:pt x="1499" y="338"/>
                </a:lnTo>
                <a:lnTo>
                  <a:pt x="1486" y="464"/>
                </a:lnTo>
                <a:lnTo>
                  <a:pt x="1467" y="598"/>
                </a:lnTo>
                <a:lnTo>
                  <a:pt x="1422" y="740"/>
                </a:lnTo>
                <a:lnTo>
                  <a:pt x="1463" y="716"/>
                </a:lnTo>
                <a:lnTo>
                  <a:pt x="1495" y="771"/>
                </a:lnTo>
                <a:lnTo>
                  <a:pt x="1509" y="834"/>
                </a:lnTo>
                <a:lnTo>
                  <a:pt x="1504" y="952"/>
                </a:lnTo>
                <a:lnTo>
                  <a:pt x="1477" y="1110"/>
                </a:lnTo>
                <a:lnTo>
                  <a:pt x="1440" y="1251"/>
                </a:lnTo>
                <a:lnTo>
                  <a:pt x="1408" y="1346"/>
                </a:lnTo>
                <a:lnTo>
                  <a:pt x="1426" y="1362"/>
                </a:lnTo>
                <a:lnTo>
                  <a:pt x="1440" y="1401"/>
                </a:lnTo>
                <a:lnTo>
                  <a:pt x="1444" y="1472"/>
                </a:lnTo>
                <a:lnTo>
                  <a:pt x="1440" y="1543"/>
                </a:lnTo>
                <a:lnTo>
                  <a:pt x="1435" y="1598"/>
                </a:lnTo>
                <a:lnTo>
                  <a:pt x="1426" y="1669"/>
                </a:lnTo>
                <a:lnTo>
                  <a:pt x="1412" y="1763"/>
                </a:lnTo>
                <a:lnTo>
                  <a:pt x="1389" y="1867"/>
                </a:lnTo>
                <a:lnTo>
                  <a:pt x="1362" y="1937"/>
                </a:lnTo>
                <a:lnTo>
                  <a:pt x="1334" y="2016"/>
                </a:lnTo>
                <a:lnTo>
                  <a:pt x="1298" y="2111"/>
                </a:lnTo>
                <a:lnTo>
                  <a:pt x="1275" y="2213"/>
                </a:lnTo>
                <a:lnTo>
                  <a:pt x="1247" y="2315"/>
                </a:lnTo>
                <a:lnTo>
                  <a:pt x="1215" y="2410"/>
                </a:lnTo>
                <a:lnTo>
                  <a:pt x="1169" y="2536"/>
                </a:lnTo>
                <a:lnTo>
                  <a:pt x="1146" y="2599"/>
                </a:lnTo>
                <a:lnTo>
                  <a:pt x="1105" y="2670"/>
                </a:lnTo>
                <a:lnTo>
                  <a:pt x="1078" y="2819"/>
                </a:lnTo>
                <a:lnTo>
                  <a:pt x="1059" y="2890"/>
                </a:lnTo>
                <a:lnTo>
                  <a:pt x="1023" y="3016"/>
                </a:lnTo>
                <a:lnTo>
                  <a:pt x="981" y="3119"/>
                </a:lnTo>
                <a:lnTo>
                  <a:pt x="936" y="3237"/>
                </a:lnTo>
                <a:lnTo>
                  <a:pt x="894" y="3315"/>
                </a:lnTo>
                <a:lnTo>
                  <a:pt x="849" y="3394"/>
                </a:lnTo>
                <a:lnTo>
                  <a:pt x="794" y="3441"/>
                </a:lnTo>
                <a:lnTo>
                  <a:pt x="757" y="3441"/>
                </a:lnTo>
                <a:lnTo>
                  <a:pt x="733" y="3394"/>
                </a:lnTo>
                <a:lnTo>
                  <a:pt x="728" y="3323"/>
                </a:lnTo>
                <a:lnTo>
                  <a:pt x="687" y="3402"/>
                </a:lnTo>
                <a:lnTo>
                  <a:pt x="650" y="3457"/>
                </a:lnTo>
                <a:lnTo>
                  <a:pt x="628" y="3496"/>
                </a:lnTo>
                <a:lnTo>
                  <a:pt x="586" y="3528"/>
                </a:lnTo>
                <a:lnTo>
                  <a:pt x="550" y="3552"/>
                </a:lnTo>
                <a:lnTo>
                  <a:pt x="513" y="3552"/>
                </a:lnTo>
                <a:lnTo>
                  <a:pt x="490" y="3520"/>
                </a:lnTo>
                <a:lnTo>
                  <a:pt x="472" y="3457"/>
                </a:lnTo>
                <a:lnTo>
                  <a:pt x="467" y="3355"/>
                </a:lnTo>
                <a:lnTo>
                  <a:pt x="417" y="3465"/>
                </a:lnTo>
                <a:lnTo>
                  <a:pt x="375" y="3528"/>
                </a:lnTo>
                <a:lnTo>
                  <a:pt x="343" y="3567"/>
                </a:lnTo>
                <a:lnTo>
                  <a:pt x="311" y="3599"/>
                </a:lnTo>
                <a:lnTo>
                  <a:pt x="279" y="3591"/>
                </a:lnTo>
                <a:lnTo>
                  <a:pt x="256" y="3575"/>
                </a:lnTo>
                <a:lnTo>
                  <a:pt x="242" y="3528"/>
                </a:lnTo>
                <a:lnTo>
                  <a:pt x="238" y="3441"/>
                </a:lnTo>
                <a:lnTo>
                  <a:pt x="242" y="3363"/>
                </a:lnTo>
                <a:lnTo>
                  <a:pt x="201" y="3433"/>
                </a:lnTo>
                <a:lnTo>
                  <a:pt x="174" y="3465"/>
                </a:lnTo>
                <a:lnTo>
                  <a:pt x="146" y="3489"/>
                </a:lnTo>
                <a:lnTo>
                  <a:pt x="105" y="3504"/>
                </a:lnTo>
                <a:lnTo>
                  <a:pt x="87" y="3457"/>
                </a:lnTo>
                <a:lnTo>
                  <a:pt x="73" y="3402"/>
                </a:lnTo>
                <a:lnTo>
                  <a:pt x="68" y="3323"/>
                </a:lnTo>
                <a:lnTo>
                  <a:pt x="82" y="3205"/>
                </a:lnTo>
                <a:lnTo>
                  <a:pt x="100" y="3095"/>
                </a:lnTo>
                <a:lnTo>
                  <a:pt x="68" y="3119"/>
                </a:lnTo>
                <a:lnTo>
                  <a:pt x="41" y="3111"/>
                </a:lnTo>
                <a:lnTo>
                  <a:pt x="13" y="3079"/>
                </a:lnTo>
                <a:lnTo>
                  <a:pt x="4" y="3008"/>
                </a:lnTo>
                <a:lnTo>
                  <a:pt x="4" y="2930"/>
                </a:lnTo>
                <a:lnTo>
                  <a:pt x="13" y="2851"/>
                </a:lnTo>
                <a:lnTo>
                  <a:pt x="32" y="2733"/>
                </a:lnTo>
                <a:lnTo>
                  <a:pt x="59" y="2638"/>
                </a:lnTo>
                <a:lnTo>
                  <a:pt x="41" y="2646"/>
                </a:lnTo>
                <a:lnTo>
                  <a:pt x="13" y="2622"/>
                </a:lnTo>
                <a:lnTo>
                  <a:pt x="0" y="2575"/>
                </a:lnTo>
                <a:lnTo>
                  <a:pt x="0" y="2481"/>
                </a:lnTo>
                <a:lnTo>
                  <a:pt x="9" y="2371"/>
                </a:lnTo>
                <a:lnTo>
                  <a:pt x="32" y="2245"/>
                </a:lnTo>
                <a:lnTo>
                  <a:pt x="64" y="2103"/>
                </a:lnTo>
                <a:lnTo>
                  <a:pt x="119" y="1922"/>
                </a:lnTo>
                <a:lnTo>
                  <a:pt x="155" y="1811"/>
                </a:lnTo>
                <a:lnTo>
                  <a:pt x="220" y="1645"/>
                </a:lnTo>
                <a:lnTo>
                  <a:pt x="233" y="1527"/>
                </a:lnTo>
                <a:lnTo>
                  <a:pt x="270" y="1393"/>
                </a:lnTo>
                <a:lnTo>
                  <a:pt x="302" y="1251"/>
                </a:lnTo>
                <a:lnTo>
                  <a:pt x="352" y="1110"/>
                </a:lnTo>
                <a:lnTo>
                  <a:pt x="407" y="968"/>
                </a:lnTo>
                <a:lnTo>
                  <a:pt x="453" y="858"/>
                </a:lnTo>
                <a:lnTo>
                  <a:pt x="513" y="755"/>
                </a:lnTo>
                <a:lnTo>
                  <a:pt x="563" y="685"/>
                </a:lnTo>
                <a:lnTo>
                  <a:pt x="618" y="622"/>
                </a:lnTo>
                <a:lnTo>
                  <a:pt x="664" y="590"/>
                </a:lnTo>
                <a:lnTo>
                  <a:pt x="705" y="590"/>
                </a:lnTo>
                <a:lnTo>
                  <a:pt x="724" y="582"/>
                </a:lnTo>
                <a:lnTo>
                  <a:pt x="757" y="488"/>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105" name=""/>
          <p:cNvGrpSpPr/>
          <p:nvPr/>
        </p:nvGrpSpPr>
        <p:grpSpPr>
          <a:xfrm>
            <a:off x="4854600" y="4809960"/>
            <a:ext cx="425520" cy="451440"/>
            <a:chOff x="4854600" y="4809960"/>
            <a:chExt cx="425520" cy="451440"/>
          </a:xfrm>
        </p:grpSpPr>
        <p:grpSp>
          <p:nvGrpSpPr>
            <p:cNvPr id="106" name=""/>
            <p:cNvGrpSpPr/>
            <p:nvPr/>
          </p:nvGrpSpPr>
          <p:grpSpPr>
            <a:xfrm>
              <a:off x="4854600" y="4809960"/>
              <a:ext cx="276480" cy="299160"/>
              <a:chOff x="4854600" y="4809960"/>
              <a:chExt cx="276480" cy="299160"/>
            </a:xfrm>
          </p:grpSpPr>
          <p:grpSp>
            <p:nvGrpSpPr>
              <p:cNvPr id="107" name=""/>
              <p:cNvGrpSpPr/>
              <p:nvPr/>
            </p:nvGrpSpPr>
            <p:grpSpPr>
              <a:xfrm>
                <a:off x="4854600" y="5003640"/>
                <a:ext cx="276480" cy="105480"/>
                <a:chOff x="4854600" y="5003640"/>
                <a:chExt cx="276480" cy="105480"/>
              </a:xfrm>
            </p:grpSpPr>
            <p:sp>
              <p:nvSpPr>
                <p:cNvPr id="108" name=""/>
                <p:cNvSpPr/>
                <p:nvPr/>
              </p:nvSpPr>
              <p:spPr>
                <a:xfrm>
                  <a:off x="48546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09" name=""/>
                <p:cNvSpPr/>
                <p:nvPr/>
              </p:nvSpPr>
              <p:spPr>
                <a:xfrm>
                  <a:off x="48546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0" name=""/>
                <p:cNvSpPr/>
                <p:nvPr/>
              </p:nvSpPr>
              <p:spPr>
                <a:xfrm>
                  <a:off x="50673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11" name=""/>
                <p:cNvSpPr/>
                <p:nvPr/>
              </p:nvSpPr>
              <p:spPr>
                <a:xfrm>
                  <a:off x="49021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2" name=""/>
                <p:cNvSpPr/>
                <p:nvPr/>
              </p:nvSpPr>
              <p:spPr>
                <a:xfrm>
                  <a:off x="50594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13" name=""/>
                <p:cNvSpPr/>
                <p:nvPr/>
              </p:nvSpPr>
              <p:spPr>
                <a:xfrm>
                  <a:off x="49021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14" name=""/>
              <p:cNvGrpSpPr/>
              <p:nvPr/>
            </p:nvGrpSpPr>
            <p:grpSpPr>
              <a:xfrm>
                <a:off x="4857840" y="4809960"/>
                <a:ext cx="257760" cy="209880"/>
                <a:chOff x="4857840" y="4809960"/>
                <a:chExt cx="257760" cy="209880"/>
              </a:xfrm>
            </p:grpSpPr>
            <p:sp>
              <p:nvSpPr>
                <p:cNvPr id="115" name=""/>
                <p:cNvSpPr/>
                <p:nvPr/>
              </p:nvSpPr>
              <p:spPr>
                <a:xfrm>
                  <a:off x="48578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578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7" name=""/>
                <p:cNvSpPr/>
                <p:nvPr/>
              </p:nvSpPr>
              <p:spPr>
                <a:xfrm>
                  <a:off x="50594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8830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50896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20" name=""/>
            <p:cNvGrpSpPr/>
            <p:nvPr/>
          </p:nvGrpSpPr>
          <p:grpSpPr>
            <a:xfrm>
              <a:off x="4930920" y="4886280"/>
              <a:ext cx="276120" cy="298800"/>
              <a:chOff x="4930920" y="4886280"/>
              <a:chExt cx="276120" cy="298800"/>
            </a:xfrm>
          </p:grpSpPr>
          <p:grpSp>
            <p:nvGrpSpPr>
              <p:cNvPr id="121" name=""/>
              <p:cNvGrpSpPr/>
              <p:nvPr/>
            </p:nvGrpSpPr>
            <p:grpSpPr>
              <a:xfrm>
                <a:off x="4930920" y="5079960"/>
                <a:ext cx="276120" cy="105120"/>
                <a:chOff x="4930920" y="5079960"/>
                <a:chExt cx="276120" cy="105120"/>
              </a:xfrm>
            </p:grpSpPr>
            <p:sp>
              <p:nvSpPr>
                <p:cNvPr id="122" name=""/>
                <p:cNvSpPr/>
                <p:nvPr/>
              </p:nvSpPr>
              <p:spPr>
                <a:xfrm>
                  <a:off x="49309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23" name=""/>
                <p:cNvSpPr/>
                <p:nvPr/>
              </p:nvSpPr>
              <p:spPr>
                <a:xfrm>
                  <a:off x="49309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24" name=""/>
                <p:cNvSpPr/>
                <p:nvPr/>
              </p:nvSpPr>
              <p:spPr>
                <a:xfrm>
                  <a:off x="514332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25" name=""/>
                <p:cNvSpPr/>
                <p:nvPr/>
              </p:nvSpPr>
              <p:spPr>
                <a:xfrm>
                  <a:off x="49784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26" name=""/>
                <p:cNvSpPr/>
                <p:nvPr/>
              </p:nvSpPr>
              <p:spPr>
                <a:xfrm>
                  <a:off x="51354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27" name=""/>
                <p:cNvSpPr/>
                <p:nvPr/>
              </p:nvSpPr>
              <p:spPr>
                <a:xfrm>
                  <a:off x="49784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28" name=""/>
              <p:cNvGrpSpPr/>
              <p:nvPr/>
            </p:nvGrpSpPr>
            <p:grpSpPr>
              <a:xfrm>
                <a:off x="4933800" y="4886280"/>
                <a:ext cx="257760" cy="209880"/>
                <a:chOff x="4933800" y="4886280"/>
                <a:chExt cx="257760" cy="209880"/>
              </a:xfrm>
            </p:grpSpPr>
            <p:sp>
              <p:nvSpPr>
                <p:cNvPr id="129" name=""/>
                <p:cNvSpPr/>
                <p:nvPr/>
              </p:nvSpPr>
              <p:spPr>
                <a:xfrm>
                  <a:off x="49338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338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31" name=""/>
                <p:cNvSpPr/>
                <p:nvPr/>
              </p:nvSpPr>
              <p:spPr>
                <a:xfrm>
                  <a:off x="51354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9593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1656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34" name=""/>
            <p:cNvGrpSpPr/>
            <p:nvPr/>
          </p:nvGrpSpPr>
          <p:grpSpPr>
            <a:xfrm>
              <a:off x="5003640" y="4962600"/>
              <a:ext cx="276480" cy="298800"/>
              <a:chOff x="5003640" y="4962600"/>
              <a:chExt cx="276480" cy="298800"/>
            </a:xfrm>
          </p:grpSpPr>
          <p:grpSp>
            <p:nvGrpSpPr>
              <p:cNvPr id="135" name=""/>
              <p:cNvGrpSpPr/>
              <p:nvPr/>
            </p:nvGrpSpPr>
            <p:grpSpPr>
              <a:xfrm>
                <a:off x="5003640" y="5156280"/>
                <a:ext cx="276480" cy="105120"/>
                <a:chOff x="5003640" y="5156280"/>
                <a:chExt cx="276480" cy="105120"/>
              </a:xfrm>
            </p:grpSpPr>
            <p:sp>
              <p:nvSpPr>
                <p:cNvPr id="136" name=""/>
                <p:cNvSpPr/>
                <p:nvPr/>
              </p:nvSpPr>
              <p:spPr>
                <a:xfrm>
                  <a:off x="50036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37" name=""/>
                <p:cNvSpPr/>
                <p:nvPr/>
              </p:nvSpPr>
              <p:spPr>
                <a:xfrm>
                  <a:off x="50036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38" name=""/>
                <p:cNvSpPr/>
                <p:nvPr/>
              </p:nvSpPr>
              <p:spPr>
                <a:xfrm>
                  <a:off x="52164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39" name=""/>
                <p:cNvSpPr/>
                <p:nvPr/>
              </p:nvSpPr>
              <p:spPr>
                <a:xfrm>
                  <a:off x="50515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0" name=""/>
                <p:cNvSpPr/>
                <p:nvPr/>
              </p:nvSpPr>
              <p:spPr>
                <a:xfrm>
                  <a:off x="52084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41" name=""/>
                <p:cNvSpPr/>
                <p:nvPr/>
              </p:nvSpPr>
              <p:spPr>
                <a:xfrm>
                  <a:off x="50515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42" name=""/>
              <p:cNvGrpSpPr/>
              <p:nvPr/>
            </p:nvGrpSpPr>
            <p:grpSpPr>
              <a:xfrm>
                <a:off x="5006880" y="4962600"/>
                <a:ext cx="257760" cy="209880"/>
                <a:chOff x="5006880" y="4962600"/>
                <a:chExt cx="257760" cy="209880"/>
              </a:xfrm>
            </p:grpSpPr>
            <p:sp>
              <p:nvSpPr>
                <p:cNvPr id="143" name=""/>
                <p:cNvSpPr/>
                <p:nvPr/>
              </p:nvSpPr>
              <p:spPr>
                <a:xfrm>
                  <a:off x="50068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0068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5" name=""/>
                <p:cNvSpPr/>
                <p:nvPr/>
              </p:nvSpPr>
              <p:spPr>
                <a:xfrm>
                  <a:off x="52084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0324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2387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48" name=""/>
          <p:cNvGrpSpPr/>
          <p:nvPr/>
        </p:nvGrpSpPr>
        <p:grpSpPr>
          <a:xfrm>
            <a:off x="4549680" y="3736800"/>
            <a:ext cx="425880" cy="451440"/>
            <a:chOff x="4549680" y="3736800"/>
            <a:chExt cx="425880" cy="451440"/>
          </a:xfrm>
        </p:grpSpPr>
        <p:grpSp>
          <p:nvGrpSpPr>
            <p:cNvPr id="149" name=""/>
            <p:cNvGrpSpPr/>
            <p:nvPr/>
          </p:nvGrpSpPr>
          <p:grpSpPr>
            <a:xfrm>
              <a:off x="4549680" y="3736800"/>
              <a:ext cx="276480" cy="299160"/>
              <a:chOff x="4549680" y="3736800"/>
              <a:chExt cx="276480" cy="299160"/>
            </a:xfrm>
          </p:grpSpPr>
          <p:grpSp>
            <p:nvGrpSpPr>
              <p:cNvPr id="150" name=""/>
              <p:cNvGrpSpPr/>
              <p:nvPr/>
            </p:nvGrpSpPr>
            <p:grpSpPr>
              <a:xfrm>
                <a:off x="4549680" y="3930480"/>
                <a:ext cx="276480" cy="105480"/>
                <a:chOff x="4549680" y="3930480"/>
                <a:chExt cx="276480" cy="105480"/>
              </a:xfrm>
            </p:grpSpPr>
            <p:sp>
              <p:nvSpPr>
                <p:cNvPr id="151" name=""/>
                <p:cNvSpPr/>
                <p:nvPr/>
              </p:nvSpPr>
              <p:spPr>
                <a:xfrm>
                  <a:off x="4549680" y="393228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52" name=""/>
                <p:cNvSpPr/>
                <p:nvPr/>
              </p:nvSpPr>
              <p:spPr>
                <a:xfrm>
                  <a:off x="4549680" y="39816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53" name=""/>
                <p:cNvSpPr/>
                <p:nvPr/>
              </p:nvSpPr>
              <p:spPr>
                <a:xfrm>
                  <a:off x="4762440" y="3936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54" name=""/>
                <p:cNvSpPr/>
                <p:nvPr/>
              </p:nvSpPr>
              <p:spPr>
                <a:xfrm>
                  <a:off x="4597560" y="3960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55" name=""/>
                <p:cNvSpPr/>
                <p:nvPr/>
              </p:nvSpPr>
              <p:spPr>
                <a:xfrm>
                  <a:off x="4754520" y="3936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56" name=""/>
                <p:cNvSpPr/>
                <p:nvPr/>
              </p:nvSpPr>
              <p:spPr>
                <a:xfrm>
                  <a:off x="4597560" y="3930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57" name=""/>
              <p:cNvGrpSpPr/>
              <p:nvPr/>
            </p:nvGrpSpPr>
            <p:grpSpPr>
              <a:xfrm>
                <a:off x="4552920" y="3736800"/>
                <a:ext cx="257760" cy="209880"/>
                <a:chOff x="4552920" y="3736800"/>
                <a:chExt cx="257760" cy="209880"/>
              </a:xfrm>
            </p:grpSpPr>
            <p:sp>
              <p:nvSpPr>
                <p:cNvPr id="158" name=""/>
                <p:cNvSpPr/>
                <p:nvPr/>
              </p:nvSpPr>
              <p:spPr>
                <a:xfrm>
                  <a:off x="4552920" y="3751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552920" y="3736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0" name=""/>
                <p:cNvSpPr/>
                <p:nvPr/>
              </p:nvSpPr>
              <p:spPr>
                <a:xfrm>
                  <a:off x="4754520" y="3740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8480" y="3778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84760" y="374976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63" name=""/>
            <p:cNvGrpSpPr/>
            <p:nvPr/>
          </p:nvGrpSpPr>
          <p:grpSpPr>
            <a:xfrm>
              <a:off x="4626000" y="3813120"/>
              <a:ext cx="276480" cy="298800"/>
              <a:chOff x="4626000" y="3813120"/>
              <a:chExt cx="276480" cy="298800"/>
            </a:xfrm>
          </p:grpSpPr>
          <p:grpSp>
            <p:nvGrpSpPr>
              <p:cNvPr id="164" name=""/>
              <p:cNvGrpSpPr/>
              <p:nvPr/>
            </p:nvGrpSpPr>
            <p:grpSpPr>
              <a:xfrm>
                <a:off x="4626000" y="4006800"/>
                <a:ext cx="276480" cy="105120"/>
                <a:chOff x="4626000" y="4006800"/>
                <a:chExt cx="276480" cy="105120"/>
              </a:xfrm>
            </p:grpSpPr>
            <p:sp>
              <p:nvSpPr>
                <p:cNvPr id="165" name=""/>
                <p:cNvSpPr/>
                <p:nvPr/>
              </p:nvSpPr>
              <p:spPr>
                <a:xfrm>
                  <a:off x="4626000" y="40086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66" name=""/>
                <p:cNvSpPr/>
                <p:nvPr/>
              </p:nvSpPr>
              <p:spPr>
                <a:xfrm>
                  <a:off x="4626000" y="4057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67" name=""/>
                <p:cNvSpPr/>
                <p:nvPr/>
              </p:nvSpPr>
              <p:spPr>
                <a:xfrm>
                  <a:off x="4838760" y="401328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68" name=""/>
                <p:cNvSpPr/>
                <p:nvPr/>
              </p:nvSpPr>
              <p:spPr>
                <a:xfrm>
                  <a:off x="4673520" y="403704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9" name=""/>
                <p:cNvSpPr/>
                <p:nvPr/>
              </p:nvSpPr>
              <p:spPr>
                <a:xfrm>
                  <a:off x="4830840" y="401328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70" name=""/>
                <p:cNvSpPr/>
                <p:nvPr/>
              </p:nvSpPr>
              <p:spPr>
                <a:xfrm>
                  <a:off x="4673520" y="40068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71" name=""/>
              <p:cNvGrpSpPr/>
              <p:nvPr/>
            </p:nvGrpSpPr>
            <p:grpSpPr>
              <a:xfrm>
                <a:off x="4629240" y="3813120"/>
                <a:ext cx="257760" cy="209880"/>
                <a:chOff x="4629240" y="3813120"/>
                <a:chExt cx="257760" cy="209880"/>
              </a:xfrm>
            </p:grpSpPr>
            <p:sp>
              <p:nvSpPr>
                <p:cNvPr id="172" name=""/>
                <p:cNvSpPr/>
                <p:nvPr/>
              </p:nvSpPr>
              <p:spPr>
                <a:xfrm>
                  <a:off x="4629240" y="382752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4629240" y="38131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74" name=""/>
                <p:cNvSpPr/>
                <p:nvPr/>
              </p:nvSpPr>
              <p:spPr>
                <a:xfrm>
                  <a:off x="4830840" y="381636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4654440" y="385452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4861080" y="3825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7" name=""/>
            <p:cNvGrpSpPr/>
            <p:nvPr/>
          </p:nvGrpSpPr>
          <p:grpSpPr>
            <a:xfrm>
              <a:off x="4699080" y="3889440"/>
              <a:ext cx="276480" cy="298800"/>
              <a:chOff x="4699080" y="3889440"/>
              <a:chExt cx="276480" cy="298800"/>
            </a:xfrm>
          </p:grpSpPr>
          <p:grpSp>
            <p:nvGrpSpPr>
              <p:cNvPr id="178" name=""/>
              <p:cNvGrpSpPr/>
              <p:nvPr/>
            </p:nvGrpSpPr>
            <p:grpSpPr>
              <a:xfrm>
                <a:off x="4699080" y="4083120"/>
                <a:ext cx="276480" cy="105120"/>
                <a:chOff x="4699080" y="4083120"/>
                <a:chExt cx="276480" cy="105120"/>
              </a:xfrm>
            </p:grpSpPr>
            <p:sp>
              <p:nvSpPr>
                <p:cNvPr id="179" name=""/>
                <p:cNvSpPr/>
                <p:nvPr/>
              </p:nvSpPr>
              <p:spPr>
                <a:xfrm>
                  <a:off x="4699080" y="4084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80" name=""/>
                <p:cNvSpPr/>
                <p:nvPr/>
              </p:nvSpPr>
              <p:spPr>
                <a:xfrm>
                  <a:off x="4699080" y="413388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81" name=""/>
                <p:cNvSpPr/>
                <p:nvPr/>
              </p:nvSpPr>
              <p:spPr>
                <a:xfrm>
                  <a:off x="4911840" y="4089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82" name=""/>
                <p:cNvSpPr/>
                <p:nvPr/>
              </p:nvSpPr>
              <p:spPr>
                <a:xfrm>
                  <a:off x="4746600" y="41133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3" name=""/>
                <p:cNvSpPr/>
                <p:nvPr/>
              </p:nvSpPr>
              <p:spPr>
                <a:xfrm>
                  <a:off x="4903920" y="4089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84" name=""/>
                <p:cNvSpPr/>
                <p:nvPr/>
              </p:nvSpPr>
              <p:spPr>
                <a:xfrm>
                  <a:off x="4746600" y="408312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85" name=""/>
              <p:cNvGrpSpPr/>
              <p:nvPr/>
            </p:nvGrpSpPr>
            <p:grpSpPr>
              <a:xfrm>
                <a:off x="4702320" y="3889440"/>
                <a:ext cx="257400" cy="209880"/>
                <a:chOff x="4702320" y="3889440"/>
                <a:chExt cx="257400" cy="209880"/>
              </a:xfrm>
            </p:grpSpPr>
            <p:sp>
              <p:nvSpPr>
                <p:cNvPr id="186" name=""/>
                <p:cNvSpPr/>
                <p:nvPr/>
              </p:nvSpPr>
              <p:spPr>
                <a:xfrm>
                  <a:off x="4702320" y="390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4702320" y="388944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8" name=""/>
                <p:cNvSpPr/>
                <p:nvPr/>
              </p:nvSpPr>
              <p:spPr>
                <a:xfrm>
                  <a:off x="4903920" y="389268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727520" y="3930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33800" y="39020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91" name=""/>
          <p:cNvGrpSpPr/>
          <p:nvPr/>
        </p:nvGrpSpPr>
        <p:grpSpPr>
          <a:xfrm>
            <a:off x="6302520" y="5343480"/>
            <a:ext cx="425520" cy="451440"/>
            <a:chOff x="6302520" y="5343480"/>
            <a:chExt cx="425520" cy="451440"/>
          </a:xfrm>
        </p:grpSpPr>
        <p:grpSp>
          <p:nvGrpSpPr>
            <p:cNvPr id="192" name=""/>
            <p:cNvGrpSpPr/>
            <p:nvPr/>
          </p:nvGrpSpPr>
          <p:grpSpPr>
            <a:xfrm>
              <a:off x="6302520" y="5343480"/>
              <a:ext cx="276120" cy="298800"/>
              <a:chOff x="6302520" y="5343480"/>
              <a:chExt cx="276120" cy="298800"/>
            </a:xfrm>
          </p:grpSpPr>
          <p:grpSp>
            <p:nvGrpSpPr>
              <p:cNvPr id="193" name=""/>
              <p:cNvGrpSpPr/>
              <p:nvPr/>
            </p:nvGrpSpPr>
            <p:grpSpPr>
              <a:xfrm>
                <a:off x="6302520" y="5537160"/>
                <a:ext cx="276120" cy="105120"/>
                <a:chOff x="6302520" y="5537160"/>
                <a:chExt cx="276120" cy="105120"/>
              </a:xfrm>
            </p:grpSpPr>
            <p:sp>
              <p:nvSpPr>
                <p:cNvPr id="194" name=""/>
                <p:cNvSpPr/>
                <p:nvPr/>
              </p:nvSpPr>
              <p:spPr>
                <a:xfrm>
                  <a:off x="6302520" y="5538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95" name=""/>
                <p:cNvSpPr/>
                <p:nvPr/>
              </p:nvSpPr>
              <p:spPr>
                <a:xfrm>
                  <a:off x="6302520" y="5587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96" name=""/>
                <p:cNvSpPr/>
                <p:nvPr/>
              </p:nvSpPr>
              <p:spPr>
                <a:xfrm>
                  <a:off x="6514920" y="5543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97" name=""/>
                <p:cNvSpPr/>
                <p:nvPr/>
              </p:nvSpPr>
              <p:spPr>
                <a:xfrm>
                  <a:off x="6350040" y="5567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98" name=""/>
                <p:cNvSpPr/>
                <p:nvPr/>
              </p:nvSpPr>
              <p:spPr>
                <a:xfrm>
                  <a:off x="6507000" y="5543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99" name=""/>
                <p:cNvSpPr/>
                <p:nvPr/>
              </p:nvSpPr>
              <p:spPr>
                <a:xfrm>
                  <a:off x="6350040" y="5537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00" name=""/>
              <p:cNvGrpSpPr/>
              <p:nvPr/>
            </p:nvGrpSpPr>
            <p:grpSpPr>
              <a:xfrm>
                <a:off x="6305400" y="5343480"/>
                <a:ext cx="257760" cy="209880"/>
                <a:chOff x="6305400" y="5343480"/>
                <a:chExt cx="257760" cy="209880"/>
              </a:xfrm>
            </p:grpSpPr>
            <p:sp>
              <p:nvSpPr>
                <p:cNvPr id="201" name=""/>
                <p:cNvSpPr/>
                <p:nvPr/>
              </p:nvSpPr>
              <p:spPr>
                <a:xfrm>
                  <a:off x="6305400" y="5357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6305400" y="5343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3" name=""/>
                <p:cNvSpPr/>
                <p:nvPr/>
              </p:nvSpPr>
              <p:spPr>
                <a:xfrm>
                  <a:off x="6507000" y="5346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330960" y="5384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537240" y="53560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06" name=""/>
            <p:cNvGrpSpPr/>
            <p:nvPr/>
          </p:nvGrpSpPr>
          <p:grpSpPr>
            <a:xfrm>
              <a:off x="6378480" y="5419800"/>
              <a:ext cx="276480" cy="298800"/>
              <a:chOff x="6378480" y="5419800"/>
              <a:chExt cx="276480" cy="298800"/>
            </a:xfrm>
          </p:grpSpPr>
          <p:grpSp>
            <p:nvGrpSpPr>
              <p:cNvPr id="207" name=""/>
              <p:cNvGrpSpPr/>
              <p:nvPr/>
            </p:nvGrpSpPr>
            <p:grpSpPr>
              <a:xfrm>
                <a:off x="6378480" y="5613480"/>
                <a:ext cx="276480" cy="105120"/>
                <a:chOff x="6378480" y="5613480"/>
                <a:chExt cx="276480" cy="105120"/>
              </a:xfrm>
            </p:grpSpPr>
            <p:sp>
              <p:nvSpPr>
                <p:cNvPr id="208" name=""/>
                <p:cNvSpPr/>
                <p:nvPr/>
              </p:nvSpPr>
              <p:spPr>
                <a:xfrm>
                  <a:off x="6378480" y="5614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09" name=""/>
                <p:cNvSpPr/>
                <p:nvPr/>
              </p:nvSpPr>
              <p:spPr>
                <a:xfrm>
                  <a:off x="6378480" y="5664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10" name=""/>
                <p:cNvSpPr/>
                <p:nvPr/>
              </p:nvSpPr>
              <p:spPr>
                <a:xfrm>
                  <a:off x="6591240" y="56196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11" name=""/>
                <p:cNvSpPr/>
                <p:nvPr/>
              </p:nvSpPr>
              <p:spPr>
                <a:xfrm>
                  <a:off x="6426360" y="5643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2" name=""/>
                <p:cNvSpPr/>
                <p:nvPr/>
              </p:nvSpPr>
              <p:spPr>
                <a:xfrm>
                  <a:off x="6583320" y="56196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13" name=""/>
                <p:cNvSpPr/>
                <p:nvPr/>
              </p:nvSpPr>
              <p:spPr>
                <a:xfrm>
                  <a:off x="6426360" y="5613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14" name=""/>
              <p:cNvGrpSpPr/>
              <p:nvPr/>
            </p:nvGrpSpPr>
            <p:grpSpPr>
              <a:xfrm>
                <a:off x="6381720" y="5419800"/>
                <a:ext cx="257760" cy="209880"/>
                <a:chOff x="6381720" y="5419800"/>
                <a:chExt cx="257760" cy="209880"/>
              </a:xfrm>
            </p:grpSpPr>
            <p:sp>
              <p:nvSpPr>
                <p:cNvPr id="215" name=""/>
                <p:cNvSpPr/>
                <p:nvPr/>
              </p:nvSpPr>
              <p:spPr>
                <a:xfrm>
                  <a:off x="6381720" y="543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6381720" y="5419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7" name=""/>
                <p:cNvSpPr/>
                <p:nvPr/>
              </p:nvSpPr>
              <p:spPr>
                <a:xfrm>
                  <a:off x="6583320" y="5423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6407280" y="54608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613560" y="5432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0" name=""/>
            <p:cNvGrpSpPr/>
            <p:nvPr/>
          </p:nvGrpSpPr>
          <p:grpSpPr>
            <a:xfrm>
              <a:off x="6451560" y="5495760"/>
              <a:ext cx="276480" cy="299160"/>
              <a:chOff x="6451560" y="5495760"/>
              <a:chExt cx="276480" cy="299160"/>
            </a:xfrm>
          </p:grpSpPr>
          <p:grpSp>
            <p:nvGrpSpPr>
              <p:cNvPr id="221" name=""/>
              <p:cNvGrpSpPr/>
              <p:nvPr/>
            </p:nvGrpSpPr>
            <p:grpSpPr>
              <a:xfrm>
                <a:off x="6451560" y="5689440"/>
                <a:ext cx="276480" cy="105480"/>
                <a:chOff x="6451560" y="5689440"/>
                <a:chExt cx="276480" cy="105480"/>
              </a:xfrm>
            </p:grpSpPr>
            <p:sp>
              <p:nvSpPr>
                <p:cNvPr id="222" name=""/>
                <p:cNvSpPr/>
                <p:nvPr/>
              </p:nvSpPr>
              <p:spPr>
                <a:xfrm>
                  <a:off x="6451560" y="5691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23" name=""/>
                <p:cNvSpPr/>
                <p:nvPr/>
              </p:nvSpPr>
              <p:spPr>
                <a:xfrm>
                  <a:off x="6451560" y="5740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24" name=""/>
                <p:cNvSpPr/>
                <p:nvPr/>
              </p:nvSpPr>
              <p:spPr>
                <a:xfrm>
                  <a:off x="6664320" y="5695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25" name=""/>
                <p:cNvSpPr/>
                <p:nvPr/>
              </p:nvSpPr>
              <p:spPr>
                <a:xfrm>
                  <a:off x="6499080" y="5719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6" name=""/>
                <p:cNvSpPr/>
                <p:nvPr/>
              </p:nvSpPr>
              <p:spPr>
                <a:xfrm>
                  <a:off x="6656400" y="5695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27" name=""/>
                <p:cNvSpPr/>
                <p:nvPr/>
              </p:nvSpPr>
              <p:spPr>
                <a:xfrm>
                  <a:off x="6499080" y="5689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28" name=""/>
              <p:cNvGrpSpPr/>
              <p:nvPr/>
            </p:nvGrpSpPr>
            <p:grpSpPr>
              <a:xfrm>
                <a:off x="6454800" y="5495760"/>
                <a:ext cx="257760" cy="209880"/>
                <a:chOff x="6454800" y="5495760"/>
                <a:chExt cx="257760" cy="209880"/>
              </a:xfrm>
            </p:grpSpPr>
            <p:sp>
              <p:nvSpPr>
                <p:cNvPr id="229" name=""/>
                <p:cNvSpPr/>
                <p:nvPr/>
              </p:nvSpPr>
              <p:spPr>
                <a:xfrm>
                  <a:off x="6454800" y="5510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454800" y="5495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31" name=""/>
                <p:cNvSpPr/>
                <p:nvPr/>
              </p:nvSpPr>
              <p:spPr>
                <a:xfrm>
                  <a:off x="6656400" y="5499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6480000" y="5537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686640" y="5508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34" name=""/>
          <p:cNvGrpSpPr/>
          <p:nvPr/>
        </p:nvGrpSpPr>
        <p:grpSpPr>
          <a:xfrm>
            <a:off x="7826400" y="4809960"/>
            <a:ext cx="425520" cy="451440"/>
            <a:chOff x="7826400" y="4809960"/>
            <a:chExt cx="425520" cy="451440"/>
          </a:xfrm>
        </p:grpSpPr>
        <p:grpSp>
          <p:nvGrpSpPr>
            <p:cNvPr id="235" name=""/>
            <p:cNvGrpSpPr/>
            <p:nvPr/>
          </p:nvGrpSpPr>
          <p:grpSpPr>
            <a:xfrm>
              <a:off x="7826400" y="4809960"/>
              <a:ext cx="276480" cy="299160"/>
              <a:chOff x="7826400" y="4809960"/>
              <a:chExt cx="276480" cy="299160"/>
            </a:xfrm>
          </p:grpSpPr>
          <p:grpSp>
            <p:nvGrpSpPr>
              <p:cNvPr id="236" name=""/>
              <p:cNvGrpSpPr/>
              <p:nvPr/>
            </p:nvGrpSpPr>
            <p:grpSpPr>
              <a:xfrm>
                <a:off x="7826400" y="5003640"/>
                <a:ext cx="276480" cy="105480"/>
                <a:chOff x="7826400" y="5003640"/>
                <a:chExt cx="276480" cy="105480"/>
              </a:xfrm>
            </p:grpSpPr>
            <p:sp>
              <p:nvSpPr>
                <p:cNvPr id="237" name=""/>
                <p:cNvSpPr/>
                <p:nvPr/>
              </p:nvSpPr>
              <p:spPr>
                <a:xfrm>
                  <a:off x="78264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38" name=""/>
                <p:cNvSpPr/>
                <p:nvPr/>
              </p:nvSpPr>
              <p:spPr>
                <a:xfrm>
                  <a:off x="78264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9" name=""/>
                <p:cNvSpPr/>
                <p:nvPr/>
              </p:nvSpPr>
              <p:spPr>
                <a:xfrm>
                  <a:off x="80391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40" name=""/>
                <p:cNvSpPr/>
                <p:nvPr/>
              </p:nvSpPr>
              <p:spPr>
                <a:xfrm>
                  <a:off x="78739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1" name=""/>
                <p:cNvSpPr/>
                <p:nvPr/>
              </p:nvSpPr>
              <p:spPr>
                <a:xfrm>
                  <a:off x="80312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42" name=""/>
                <p:cNvSpPr/>
                <p:nvPr/>
              </p:nvSpPr>
              <p:spPr>
                <a:xfrm>
                  <a:off x="78739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43" name=""/>
              <p:cNvGrpSpPr/>
              <p:nvPr/>
            </p:nvGrpSpPr>
            <p:grpSpPr>
              <a:xfrm>
                <a:off x="7829640" y="4809960"/>
                <a:ext cx="257760" cy="209880"/>
                <a:chOff x="7829640" y="4809960"/>
                <a:chExt cx="257760" cy="209880"/>
              </a:xfrm>
            </p:grpSpPr>
            <p:sp>
              <p:nvSpPr>
                <p:cNvPr id="244" name=""/>
                <p:cNvSpPr/>
                <p:nvPr/>
              </p:nvSpPr>
              <p:spPr>
                <a:xfrm>
                  <a:off x="78296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8296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p:nvPr/>
              </p:nvSpPr>
              <p:spPr>
                <a:xfrm>
                  <a:off x="80312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8548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80614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49" name=""/>
            <p:cNvGrpSpPr/>
            <p:nvPr/>
          </p:nvGrpSpPr>
          <p:grpSpPr>
            <a:xfrm>
              <a:off x="7902720" y="4886280"/>
              <a:ext cx="276480" cy="298800"/>
              <a:chOff x="7902720" y="4886280"/>
              <a:chExt cx="276480" cy="298800"/>
            </a:xfrm>
          </p:grpSpPr>
          <p:grpSp>
            <p:nvGrpSpPr>
              <p:cNvPr id="250" name=""/>
              <p:cNvGrpSpPr/>
              <p:nvPr/>
            </p:nvGrpSpPr>
            <p:grpSpPr>
              <a:xfrm>
                <a:off x="7902720" y="5079960"/>
                <a:ext cx="276480" cy="105120"/>
                <a:chOff x="7902720" y="5079960"/>
                <a:chExt cx="276480" cy="105120"/>
              </a:xfrm>
            </p:grpSpPr>
            <p:sp>
              <p:nvSpPr>
                <p:cNvPr id="251" name=""/>
                <p:cNvSpPr/>
                <p:nvPr/>
              </p:nvSpPr>
              <p:spPr>
                <a:xfrm>
                  <a:off x="79027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52" name=""/>
                <p:cNvSpPr/>
                <p:nvPr/>
              </p:nvSpPr>
              <p:spPr>
                <a:xfrm>
                  <a:off x="79027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53" name=""/>
                <p:cNvSpPr/>
                <p:nvPr/>
              </p:nvSpPr>
              <p:spPr>
                <a:xfrm>
                  <a:off x="811548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54" name=""/>
                <p:cNvSpPr/>
                <p:nvPr/>
              </p:nvSpPr>
              <p:spPr>
                <a:xfrm>
                  <a:off x="79502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55" name=""/>
                <p:cNvSpPr/>
                <p:nvPr/>
              </p:nvSpPr>
              <p:spPr>
                <a:xfrm>
                  <a:off x="81072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56" name=""/>
                <p:cNvSpPr/>
                <p:nvPr/>
              </p:nvSpPr>
              <p:spPr>
                <a:xfrm>
                  <a:off x="79502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57" name=""/>
              <p:cNvGrpSpPr/>
              <p:nvPr/>
            </p:nvGrpSpPr>
            <p:grpSpPr>
              <a:xfrm>
                <a:off x="7905600" y="4886280"/>
                <a:ext cx="257760" cy="209880"/>
                <a:chOff x="7905600" y="4886280"/>
                <a:chExt cx="257760" cy="209880"/>
              </a:xfrm>
            </p:grpSpPr>
            <p:sp>
              <p:nvSpPr>
                <p:cNvPr id="258" name=""/>
                <p:cNvSpPr/>
                <p:nvPr/>
              </p:nvSpPr>
              <p:spPr>
                <a:xfrm>
                  <a:off x="79056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79056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0" name=""/>
                <p:cNvSpPr/>
                <p:nvPr/>
              </p:nvSpPr>
              <p:spPr>
                <a:xfrm>
                  <a:off x="81072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79311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81374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63" name=""/>
            <p:cNvGrpSpPr/>
            <p:nvPr/>
          </p:nvGrpSpPr>
          <p:grpSpPr>
            <a:xfrm>
              <a:off x="7975440" y="4962600"/>
              <a:ext cx="276480" cy="298800"/>
              <a:chOff x="7975440" y="4962600"/>
              <a:chExt cx="276480" cy="298800"/>
            </a:xfrm>
          </p:grpSpPr>
          <p:grpSp>
            <p:nvGrpSpPr>
              <p:cNvPr id="264" name=""/>
              <p:cNvGrpSpPr/>
              <p:nvPr/>
            </p:nvGrpSpPr>
            <p:grpSpPr>
              <a:xfrm>
                <a:off x="7975440" y="5156280"/>
                <a:ext cx="276480" cy="105120"/>
                <a:chOff x="7975440" y="5156280"/>
                <a:chExt cx="276480" cy="105120"/>
              </a:xfrm>
            </p:grpSpPr>
            <p:sp>
              <p:nvSpPr>
                <p:cNvPr id="265" name=""/>
                <p:cNvSpPr/>
                <p:nvPr/>
              </p:nvSpPr>
              <p:spPr>
                <a:xfrm>
                  <a:off x="79754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66" name=""/>
                <p:cNvSpPr/>
                <p:nvPr/>
              </p:nvSpPr>
              <p:spPr>
                <a:xfrm>
                  <a:off x="79754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67" name=""/>
                <p:cNvSpPr/>
                <p:nvPr/>
              </p:nvSpPr>
              <p:spPr>
                <a:xfrm>
                  <a:off x="81882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68" name=""/>
                <p:cNvSpPr/>
                <p:nvPr/>
              </p:nvSpPr>
              <p:spPr>
                <a:xfrm>
                  <a:off x="80233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9" name=""/>
                <p:cNvSpPr/>
                <p:nvPr/>
              </p:nvSpPr>
              <p:spPr>
                <a:xfrm>
                  <a:off x="81802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70" name=""/>
                <p:cNvSpPr/>
                <p:nvPr/>
              </p:nvSpPr>
              <p:spPr>
                <a:xfrm>
                  <a:off x="80233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71" name=""/>
              <p:cNvGrpSpPr/>
              <p:nvPr/>
            </p:nvGrpSpPr>
            <p:grpSpPr>
              <a:xfrm>
                <a:off x="7978680" y="4962600"/>
                <a:ext cx="257760" cy="209880"/>
                <a:chOff x="7978680" y="4962600"/>
                <a:chExt cx="257760" cy="209880"/>
              </a:xfrm>
            </p:grpSpPr>
            <p:sp>
              <p:nvSpPr>
                <p:cNvPr id="272" name=""/>
                <p:cNvSpPr/>
                <p:nvPr/>
              </p:nvSpPr>
              <p:spPr>
                <a:xfrm>
                  <a:off x="79786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9786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74" name=""/>
                <p:cNvSpPr/>
                <p:nvPr/>
              </p:nvSpPr>
              <p:spPr>
                <a:xfrm>
                  <a:off x="81802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80042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82105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77" name=""/>
          <p:cNvGrpSpPr/>
          <p:nvPr/>
        </p:nvGrpSpPr>
        <p:grpSpPr>
          <a:xfrm>
            <a:off x="7978680" y="3962520"/>
            <a:ext cx="425880" cy="451080"/>
            <a:chOff x="7978680" y="3962520"/>
            <a:chExt cx="425880" cy="451080"/>
          </a:xfrm>
        </p:grpSpPr>
        <p:grpSp>
          <p:nvGrpSpPr>
            <p:cNvPr id="278" name=""/>
            <p:cNvGrpSpPr/>
            <p:nvPr/>
          </p:nvGrpSpPr>
          <p:grpSpPr>
            <a:xfrm>
              <a:off x="7978680" y="3962520"/>
              <a:ext cx="276480" cy="298800"/>
              <a:chOff x="7978680" y="3962520"/>
              <a:chExt cx="276480" cy="298800"/>
            </a:xfrm>
          </p:grpSpPr>
          <p:grpSp>
            <p:nvGrpSpPr>
              <p:cNvPr id="279" name=""/>
              <p:cNvGrpSpPr/>
              <p:nvPr/>
            </p:nvGrpSpPr>
            <p:grpSpPr>
              <a:xfrm>
                <a:off x="7978680" y="4156200"/>
                <a:ext cx="276480" cy="105120"/>
                <a:chOff x="7978680" y="4156200"/>
                <a:chExt cx="276480" cy="105120"/>
              </a:xfrm>
            </p:grpSpPr>
            <p:sp>
              <p:nvSpPr>
                <p:cNvPr id="280" name=""/>
                <p:cNvSpPr/>
                <p:nvPr/>
              </p:nvSpPr>
              <p:spPr>
                <a:xfrm>
                  <a:off x="7978680" y="41576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81" name=""/>
                <p:cNvSpPr/>
                <p:nvPr/>
              </p:nvSpPr>
              <p:spPr>
                <a:xfrm>
                  <a:off x="7978680" y="42069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82" name=""/>
                <p:cNvSpPr/>
                <p:nvPr/>
              </p:nvSpPr>
              <p:spPr>
                <a:xfrm>
                  <a:off x="8191440" y="41623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83" name=""/>
                <p:cNvSpPr/>
                <p:nvPr/>
              </p:nvSpPr>
              <p:spPr>
                <a:xfrm>
                  <a:off x="8026560" y="41860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4" name=""/>
                <p:cNvSpPr/>
                <p:nvPr/>
              </p:nvSpPr>
              <p:spPr>
                <a:xfrm>
                  <a:off x="8183520" y="41623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85" name=""/>
                <p:cNvSpPr/>
                <p:nvPr/>
              </p:nvSpPr>
              <p:spPr>
                <a:xfrm>
                  <a:off x="8026560" y="41562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86" name=""/>
              <p:cNvGrpSpPr/>
              <p:nvPr/>
            </p:nvGrpSpPr>
            <p:grpSpPr>
              <a:xfrm>
                <a:off x="7981920" y="3962520"/>
                <a:ext cx="257760" cy="209520"/>
                <a:chOff x="7981920" y="3962520"/>
                <a:chExt cx="257760" cy="209520"/>
              </a:xfrm>
            </p:grpSpPr>
            <p:sp>
              <p:nvSpPr>
                <p:cNvPr id="287" name=""/>
                <p:cNvSpPr/>
                <p:nvPr/>
              </p:nvSpPr>
              <p:spPr>
                <a:xfrm>
                  <a:off x="7981920" y="39765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981920" y="39625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9" name=""/>
                <p:cNvSpPr/>
                <p:nvPr/>
              </p:nvSpPr>
              <p:spPr>
                <a:xfrm>
                  <a:off x="8183520" y="39654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8007480" y="40035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8213760" y="39751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2" name=""/>
            <p:cNvGrpSpPr/>
            <p:nvPr/>
          </p:nvGrpSpPr>
          <p:grpSpPr>
            <a:xfrm>
              <a:off x="8055000" y="4038480"/>
              <a:ext cx="276480" cy="298800"/>
              <a:chOff x="8055000" y="4038480"/>
              <a:chExt cx="276480" cy="298800"/>
            </a:xfrm>
          </p:grpSpPr>
          <p:grpSp>
            <p:nvGrpSpPr>
              <p:cNvPr id="293" name=""/>
              <p:cNvGrpSpPr/>
              <p:nvPr/>
            </p:nvGrpSpPr>
            <p:grpSpPr>
              <a:xfrm>
                <a:off x="8055000" y="4232160"/>
                <a:ext cx="276480" cy="105120"/>
                <a:chOff x="8055000" y="4232160"/>
                <a:chExt cx="276480" cy="105120"/>
              </a:xfrm>
            </p:grpSpPr>
            <p:sp>
              <p:nvSpPr>
                <p:cNvPr id="294" name=""/>
                <p:cNvSpPr/>
                <p:nvPr/>
              </p:nvSpPr>
              <p:spPr>
                <a:xfrm>
                  <a:off x="8055000" y="4233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95" name=""/>
                <p:cNvSpPr/>
                <p:nvPr/>
              </p:nvSpPr>
              <p:spPr>
                <a:xfrm>
                  <a:off x="8055000" y="4282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96" name=""/>
                <p:cNvSpPr/>
                <p:nvPr/>
              </p:nvSpPr>
              <p:spPr>
                <a:xfrm>
                  <a:off x="8267760" y="4238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97" name=""/>
                <p:cNvSpPr/>
                <p:nvPr/>
              </p:nvSpPr>
              <p:spPr>
                <a:xfrm>
                  <a:off x="8102520" y="4262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8259840" y="4238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99" name=""/>
                <p:cNvSpPr/>
                <p:nvPr/>
              </p:nvSpPr>
              <p:spPr>
                <a:xfrm>
                  <a:off x="8102520" y="4232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00" name=""/>
              <p:cNvGrpSpPr/>
              <p:nvPr/>
            </p:nvGrpSpPr>
            <p:grpSpPr>
              <a:xfrm>
                <a:off x="8058240" y="4038480"/>
                <a:ext cx="257760" cy="209880"/>
                <a:chOff x="8058240" y="4038480"/>
                <a:chExt cx="257760" cy="209880"/>
              </a:xfrm>
            </p:grpSpPr>
            <p:sp>
              <p:nvSpPr>
                <p:cNvPr id="301" name=""/>
                <p:cNvSpPr/>
                <p:nvPr/>
              </p:nvSpPr>
              <p:spPr>
                <a:xfrm>
                  <a:off x="8058240" y="4052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8058240" y="4038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3" name=""/>
                <p:cNvSpPr/>
                <p:nvPr/>
              </p:nvSpPr>
              <p:spPr>
                <a:xfrm>
                  <a:off x="8259840" y="4041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8083440" y="4079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8290080" y="40514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6" name=""/>
            <p:cNvGrpSpPr/>
            <p:nvPr/>
          </p:nvGrpSpPr>
          <p:grpSpPr>
            <a:xfrm>
              <a:off x="8128080" y="4114800"/>
              <a:ext cx="276480" cy="298800"/>
              <a:chOff x="8128080" y="4114800"/>
              <a:chExt cx="276480" cy="298800"/>
            </a:xfrm>
          </p:grpSpPr>
          <p:grpSp>
            <p:nvGrpSpPr>
              <p:cNvPr id="307" name=""/>
              <p:cNvGrpSpPr/>
              <p:nvPr/>
            </p:nvGrpSpPr>
            <p:grpSpPr>
              <a:xfrm>
                <a:off x="8128080" y="4308480"/>
                <a:ext cx="276480" cy="105120"/>
                <a:chOff x="8128080" y="4308480"/>
                <a:chExt cx="276480" cy="105120"/>
              </a:xfrm>
            </p:grpSpPr>
            <p:sp>
              <p:nvSpPr>
                <p:cNvPr id="308" name=""/>
                <p:cNvSpPr/>
                <p:nvPr/>
              </p:nvSpPr>
              <p:spPr>
                <a:xfrm>
                  <a:off x="8128080" y="4309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09" name=""/>
                <p:cNvSpPr/>
                <p:nvPr/>
              </p:nvSpPr>
              <p:spPr>
                <a:xfrm>
                  <a:off x="8128080" y="4359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0" name=""/>
                <p:cNvSpPr/>
                <p:nvPr/>
              </p:nvSpPr>
              <p:spPr>
                <a:xfrm>
                  <a:off x="8340840" y="4314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311" name=""/>
                <p:cNvSpPr/>
                <p:nvPr/>
              </p:nvSpPr>
              <p:spPr>
                <a:xfrm>
                  <a:off x="8175600" y="4338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2" name=""/>
                <p:cNvSpPr/>
                <p:nvPr/>
              </p:nvSpPr>
              <p:spPr>
                <a:xfrm>
                  <a:off x="8332920" y="4314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13" name=""/>
                <p:cNvSpPr/>
                <p:nvPr/>
              </p:nvSpPr>
              <p:spPr>
                <a:xfrm>
                  <a:off x="8175600" y="4308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14" name=""/>
              <p:cNvGrpSpPr/>
              <p:nvPr/>
            </p:nvGrpSpPr>
            <p:grpSpPr>
              <a:xfrm>
                <a:off x="8131320" y="4114800"/>
                <a:ext cx="257400" cy="209880"/>
                <a:chOff x="8131320" y="4114800"/>
                <a:chExt cx="257400" cy="209880"/>
              </a:xfrm>
            </p:grpSpPr>
            <p:sp>
              <p:nvSpPr>
                <p:cNvPr id="315" name=""/>
                <p:cNvSpPr/>
                <p:nvPr/>
              </p:nvSpPr>
              <p:spPr>
                <a:xfrm>
                  <a:off x="8131320" y="4129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8131320" y="4114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7" name=""/>
                <p:cNvSpPr/>
                <p:nvPr/>
              </p:nvSpPr>
              <p:spPr>
                <a:xfrm>
                  <a:off x="8332920" y="4118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8156520" y="4156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8362800" y="4127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20" name=""/>
          <p:cNvSpPr/>
          <p:nvPr/>
        </p:nvSpPr>
        <p:spPr>
          <a:xfrm>
            <a:off x="5334120" y="38098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781680" y="3581280"/>
            <a:ext cx="3812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67280" y="4191120"/>
            <a:ext cx="381240" cy="30456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77120" y="449568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6553080" y="3809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6705720" y="2819520"/>
            <a:ext cx="0" cy="8380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5638680" y="4572000"/>
            <a:ext cx="6098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7" name=""/>
          <p:cNvSpPr/>
          <p:nvPr/>
        </p:nvSpPr>
        <p:spPr>
          <a:xfrm>
            <a:off x="6477120" y="4419720"/>
            <a:ext cx="53316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86600" y="4267080"/>
            <a:ext cx="457200" cy="1526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6934320" y="44956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5867280" y="3809880"/>
            <a:ext cx="53352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791320" y="4114800"/>
            <a:ext cx="4572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32" name="" descr=""/>
          <p:cNvPicPr/>
          <p:nvPr/>
        </p:nvPicPr>
        <p:blipFill>
          <a:blip r:embed="rId6"/>
          <a:stretch/>
        </p:blipFill>
        <p:spPr>
          <a:xfrm>
            <a:off x="7389720" y="4016520"/>
            <a:ext cx="476280" cy="274680"/>
          </a:xfrm>
          <a:prstGeom prst="rect">
            <a:avLst/>
          </a:prstGeom>
          <a:ln w="0">
            <a:noFill/>
          </a:ln>
        </p:spPr>
      </p:pic>
      <p:pic>
        <p:nvPicPr>
          <p:cNvPr id="333" name="" descr=""/>
          <p:cNvPicPr/>
          <p:nvPr/>
        </p:nvPicPr>
        <p:blipFill>
          <a:blip r:embed="rId7"/>
          <a:stretch/>
        </p:blipFill>
        <p:spPr>
          <a:xfrm>
            <a:off x="7161120" y="4702320"/>
            <a:ext cx="476280" cy="274680"/>
          </a:xfrm>
          <a:prstGeom prst="rect">
            <a:avLst/>
          </a:prstGeom>
          <a:ln w="0">
            <a:noFill/>
          </a:ln>
        </p:spPr>
      </p:pic>
      <p:pic>
        <p:nvPicPr>
          <p:cNvPr id="334" name="" descr=""/>
          <p:cNvPicPr/>
          <p:nvPr/>
        </p:nvPicPr>
        <p:blipFill>
          <a:blip r:embed="rId8"/>
          <a:stretch/>
        </p:blipFill>
        <p:spPr>
          <a:xfrm>
            <a:off x="6094440" y="4930920"/>
            <a:ext cx="476280" cy="274680"/>
          </a:xfrm>
          <a:prstGeom prst="rect">
            <a:avLst/>
          </a:prstGeom>
          <a:ln w="0">
            <a:noFill/>
          </a:ln>
        </p:spPr>
      </p:pic>
      <p:pic>
        <p:nvPicPr>
          <p:cNvPr id="335" name="" descr=""/>
          <p:cNvPicPr/>
          <p:nvPr/>
        </p:nvPicPr>
        <p:blipFill>
          <a:blip r:embed="rId9"/>
          <a:stretch/>
        </p:blipFill>
        <p:spPr>
          <a:xfrm>
            <a:off x="6475320" y="2575080"/>
            <a:ext cx="476280" cy="274680"/>
          </a:xfrm>
          <a:prstGeom prst="rect">
            <a:avLst/>
          </a:prstGeom>
          <a:ln w="0">
            <a:noFill/>
          </a:ln>
        </p:spPr>
      </p:pic>
      <p:pic>
        <p:nvPicPr>
          <p:cNvPr id="336" name="" descr=""/>
          <p:cNvPicPr/>
          <p:nvPr/>
        </p:nvPicPr>
        <p:blipFill>
          <a:blip r:embed="rId10"/>
          <a:stretch/>
        </p:blipFill>
        <p:spPr>
          <a:xfrm>
            <a:off x="5256360" y="4519440"/>
            <a:ext cx="476280" cy="274680"/>
          </a:xfrm>
          <a:prstGeom prst="rect">
            <a:avLst/>
          </a:prstGeom>
          <a:ln w="0">
            <a:noFill/>
          </a:ln>
        </p:spPr>
      </p:pic>
      <p:pic>
        <p:nvPicPr>
          <p:cNvPr id="337" name="" descr=""/>
          <p:cNvPicPr/>
          <p:nvPr/>
        </p:nvPicPr>
        <p:blipFill>
          <a:blip r:embed="rId11"/>
          <a:stretch/>
        </p:blipFill>
        <p:spPr>
          <a:xfrm>
            <a:off x="5027760" y="3635280"/>
            <a:ext cx="476280" cy="274680"/>
          </a:xfrm>
          <a:prstGeom prst="rect">
            <a:avLst/>
          </a:prstGeom>
          <a:ln w="0">
            <a:noFill/>
          </a:ln>
        </p:spPr>
      </p:pic>
      <p:pic>
        <p:nvPicPr>
          <p:cNvPr id="338" name="" descr=""/>
          <p:cNvPicPr/>
          <p:nvPr/>
        </p:nvPicPr>
        <p:blipFill>
          <a:blip r:embed="rId12"/>
          <a:stretch/>
        </p:blipFill>
        <p:spPr>
          <a:xfrm>
            <a:off x="5524560" y="4046400"/>
            <a:ext cx="461880" cy="239760"/>
          </a:xfrm>
          <a:prstGeom prst="rect">
            <a:avLst/>
          </a:prstGeom>
          <a:ln w="0">
            <a:noFill/>
          </a:ln>
        </p:spPr>
      </p:pic>
      <p:pic>
        <p:nvPicPr>
          <p:cNvPr id="339" name="" descr=""/>
          <p:cNvPicPr/>
          <p:nvPr/>
        </p:nvPicPr>
        <p:blipFill>
          <a:blip r:embed="rId13"/>
          <a:stretch/>
        </p:blipFill>
        <p:spPr>
          <a:xfrm>
            <a:off x="6094440" y="3946680"/>
            <a:ext cx="476280" cy="274680"/>
          </a:xfrm>
          <a:prstGeom prst="rect">
            <a:avLst/>
          </a:prstGeom>
          <a:ln w="0">
            <a:noFill/>
          </a:ln>
        </p:spPr>
      </p:pic>
      <p:pic>
        <p:nvPicPr>
          <p:cNvPr id="340" name="" descr=""/>
          <p:cNvPicPr/>
          <p:nvPr/>
        </p:nvPicPr>
        <p:blipFill>
          <a:blip r:embed="rId14"/>
          <a:stretch/>
        </p:blipFill>
        <p:spPr>
          <a:xfrm>
            <a:off x="6134040" y="4351320"/>
            <a:ext cx="461880" cy="239760"/>
          </a:xfrm>
          <a:prstGeom prst="rect">
            <a:avLst/>
          </a:prstGeom>
          <a:ln w="0">
            <a:noFill/>
          </a:ln>
        </p:spPr>
      </p:pic>
      <p:sp>
        <p:nvSpPr>
          <p:cNvPr id="341" name=""/>
          <p:cNvSpPr/>
          <p:nvPr/>
        </p:nvSpPr>
        <p:spPr>
          <a:xfrm>
            <a:off x="6781680" y="3733920"/>
            <a:ext cx="53352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7010280" y="3809880"/>
            <a:ext cx="53352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43" name="" descr=""/>
          <p:cNvPicPr/>
          <p:nvPr/>
        </p:nvPicPr>
        <p:blipFill>
          <a:blip r:embed="rId15"/>
          <a:stretch/>
        </p:blipFill>
        <p:spPr>
          <a:xfrm>
            <a:off x="7147080" y="3289320"/>
            <a:ext cx="209520" cy="368280"/>
          </a:xfrm>
          <a:prstGeom prst="rect">
            <a:avLst/>
          </a:prstGeom>
          <a:ln w="0">
            <a:noFill/>
          </a:ln>
        </p:spPr>
      </p:pic>
      <p:pic>
        <p:nvPicPr>
          <p:cNvPr id="344" name="" descr=""/>
          <p:cNvPicPr/>
          <p:nvPr/>
        </p:nvPicPr>
        <p:blipFill>
          <a:blip r:embed="rId16"/>
          <a:stretch/>
        </p:blipFill>
        <p:spPr>
          <a:xfrm>
            <a:off x="7299360" y="3441600"/>
            <a:ext cx="209520" cy="368280"/>
          </a:xfrm>
          <a:prstGeom prst="rect">
            <a:avLst/>
          </a:prstGeom>
          <a:ln w="0">
            <a:noFill/>
          </a:ln>
        </p:spPr>
      </p:pic>
      <p:pic>
        <p:nvPicPr>
          <p:cNvPr id="345" name="" descr=""/>
          <p:cNvPicPr/>
          <p:nvPr/>
        </p:nvPicPr>
        <p:blipFill>
          <a:blip r:embed="rId17"/>
          <a:stretch/>
        </p:blipFill>
        <p:spPr>
          <a:xfrm>
            <a:off x="7451640" y="3594240"/>
            <a:ext cx="209520" cy="368280"/>
          </a:xfrm>
          <a:prstGeom prst="rect">
            <a:avLst/>
          </a:prstGeom>
          <a:ln w="0">
            <a:noFill/>
          </a:ln>
        </p:spPr>
      </p:pic>
      <p:pic>
        <p:nvPicPr>
          <p:cNvPr id="346" name="" descr=""/>
          <p:cNvPicPr/>
          <p:nvPr/>
        </p:nvPicPr>
        <p:blipFill>
          <a:blip r:embed="rId18"/>
          <a:stretch/>
        </p:blipFill>
        <p:spPr>
          <a:xfrm>
            <a:off x="6743880" y="4351320"/>
            <a:ext cx="461880" cy="214200"/>
          </a:xfrm>
          <a:prstGeom prst="rect">
            <a:avLst/>
          </a:prstGeom>
          <a:ln w="0">
            <a:noFill/>
          </a:ln>
        </p:spPr>
      </p:pic>
      <p:pic>
        <p:nvPicPr>
          <p:cNvPr id="347" name="" descr=""/>
          <p:cNvPicPr/>
          <p:nvPr/>
        </p:nvPicPr>
        <p:blipFill>
          <a:blip r:embed="rId19"/>
          <a:stretch/>
        </p:blipFill>
        <p:spPr>
          <a:xfrm>
            <a:off x="6362640" y="3589200"/>
            <a:ext cx="461880" cy="239760"/>
          </a:xfrm>
          <a:prstGeom prst="rect">
            <a:avLst/>
          </a:prstGeom>
          <a:ln w="0">
            <a:noFill/>
          </a:ln>
        </p:spPr>
      </p:pic>
      <p:sp>
        <p:nvSpPr>
          <p:cNvPr id="348" name=""/>
          <p:cNvSpPr/>
          <p:nvPr/>
        </p:nvSpPr>
        <p:spPr>
          <a:xfrm flipH="1" flipV="1">
            <a:off x="5638680" y="4724280"/>
            <a:ext cx="682920" cy="30492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6451560" y="2819520"/>
            <a:ext cx="330480" cy="2210040"/>
          </a:xfrm>
          <a:custGeom>
            <a:avLst/>
            <a:gdLst/>
            <a:ahLst/>
            <a:rect l="0" t="0" r="r" b="b"/>
            <a:pathLst>
              <a:path fill="none" w="918" h="6139">
                <a:moveTo>
                  <a:pt x="0" y="6139"/>
                </a:moveTo>
                <a:lnTo>
                  <a:pt x="50" y="4659"/>
                </a:lnTo>
                <a:lnTo>
                  <a:pt x="918" y="2329"/>
                </a:lnTo>
                <a:lnTo>
                  <a:pt x="918"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0" name=""/>
          <p:cNvSpPr/>
          <p:nvPr/>
        </p:nvSpPr>
        <p:spPr>
          <a:xfrm flipV="1">
            <a:off x="6400800" y="2819520"/>
            <a:ext cx="152280" cy="11430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710320" y="4114800"/>
            <a:ext cx="624240" cy="457560"/>
          </a:xfrm>
          <a:custGeom>
            <a:avLst/>
            <a:gdLst/>
            <a:ahLst/>
            <a:rect l="0" t="0" r="r" b="b"/>
            <a:pathLst>
              <a:path fill="none" w="1734" h="1271">
                <a:moveTo>
                  <a:pt x="0" y="1271"/>
                </a:moveTo>
                <a:lnTo>
                  <a:pt x="1734" y="1271"/>
                </a:lnTo>
                <a:lnTo>
                  <a:pt x="412" y="0"/>
                </a:lnTo>
                <a:lnTo>
                  <a:pt x="1073" y="0"/>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2" name=""/>
          <p:cNvSpPr txBox="1"/>
          <p:nvPr/>
        </p:nvSpPr>
        <p:spPr>
          <a:xfrm>
            <a:off x="6040440" y="55641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ntrol Driven Short-Cuts</a:t>
            </a:r>
            <a:endParaRPr b="0" lang="en-US" sz="4000" spc="-1" strike="noStrike">
              <a:solidFill>
                <a:srgbClr val="000000"/>
              </a:solidFill>
              <a:latin typeface="Arial"/>
            </a:endParaRPr>
          </a:p>
        </p:txBody>
      </p:sp>
      <p:sp>
        <p:nvSpPr>
          <p:cNvPr id="354" name=""/>
          <p:cNvSpPr txBox="1"/>
          <p:nvPr/>
        </p:nvSpPr>
        <p:spPr>
          <a:xfrm>
            <a:off x="93600" y="1531800"/>
            <a:ext cx="403380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Provides accelerated default forwarding paths in the cor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egress device</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a:t>
            </a:r>
            <a:br>
              <a:rPr sz="1800"/>
            </a:br>
            <a:r>
              <a:rPr b="1" lang="en-US" sz="1800" spc="-1" strike="noStrike">
                <a:solidFill>
                  <a:srgbClr val="000000"/>
                </a:solidFill>
                <a:latin typeface="Arial"/>
                <a:ea typeface="Arial"/>
              </a:rPr>
              <a:t>per ingress/egress pair</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ingress</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routing traffic</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hen new egress/ingress advertised</a:t>
            </a:r>
            <a:endParaRPr b="0" lang="en-US" sz="1800" spc="-1" strike="noStrike">
              <a:solidFill>
                <a:srgbClr val="000000"/>
              </a:solidFill>
              <a:latin typeface="Arial"/>
            </a:endParaRPr>
          </a:p>
        </p:txBody>
      </p:sp>
      <p:sp>
        <p:nvSpPr>
          <p:cNvPr id="355" name=""/>
          <p:cNvSpPr/>
          <p:nvPr/>
        </p:nvSpPr>
        <p:spPr>
          <a:xfrm>
            <a:off x="4114800" y="304812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8"/>
                </a:lnTo>
                <a:lnTo>
                  <a:pt x="12055" y="1280"/>
                </a:lnTo>
                <a:lnTo>
                  <a:pt x="12272" y="1272"/>
                </a:lnTo>
                <a:lnTo>
                  <a:pt x="12567" y="1304"/>
                </a:lnTo>
                <a:lnTo>
                  <a:pt x="12846" y="1361"/>
                </a:lnTo>
                <a:lnTo>
                  <a:pt x="13079" y="1434"/>
                </a:lnTo>
                <a:lnTo>
                  <a:pt x="13218" y="1490"/>
                </a:lnTo>
                <a:lnTo>
                  <a:pt x="13358" y="1563"/>
                </a:lnTo>
                <a:lnTo>
                  <a:pt x="13513" y="1660"/>
                </a:lnTo>
                <a:lnTo>
                  <a:pt x="13591" y="1782"/>
                </a:lnTo>
                <a:lnTo>
                  <a:pt x="13606" y="1871"/>
                </a:lnTo>
                <a:lnTo>
                  <a:pt x="13560" y="1968"/>
                </a:lnTo>
                <a:lnTo>
                  <a:pt x="13467" y="2089"/>
                </a:lnTo>
                <a:lnTo>
                  <a:pt x="13591" y="2211"/>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7"/>
                </a:lnTo>
                <a:lnTo>
                  <a:pt x="13358" y="3572"/>
                </a:lnTo>
                <a:lnTo>
                  <a:pt x="13125" y="3685"/>
                </a:lnTo>
                <a:lnTo>
                  <a:pt x="12706" y="3783"/>
                </a:lnTo>
                <a:lnTo>
                  <a:pt x="12272" y="3815"/>
                </a:lnTo>
                <a:lnTo>
                  <a:pt x="11884" y="3791"/>
                </a:lnTo>
                <a:lnTo>
                  <a:pt x="11636" y="3734"/>
                </a:lnTo>
                <a:lnTo>
                  <a:pt x="11465" y="3839"/>
                </a:lnTo>
                <a:lnTo>
                  <a:pt x="11264" y="3920"/>
                </a:lnTo>
                <a:lnTo>
                  <a:pt x="11109" y="3977"/>
                </a:lnTo>
                <a:lnTo>
                  <a:pt x="10783" y="4050"/>
                </a:lnTo>
                <a:lnTo>
                  <a:pt x="10519" y="4098"/>
                </a:lnTo>
                <a:lnTo>
                  <a:pt x="10116" y="4139"/>
                </a:lnTo>
                <a:lnTo>
                  <a:pt x="9712" y="4131"/>
                </a:lnTo>
                <a:lnTo>
                  <a:pt x="9324" y="4082"/>
                </a:lnTo>
                <a:lnTo>
                  <a:pt x="8983" y="3993"/>
                </a:lnTo>
                <a:lnTo>
                  <a:pt x="8766" y="4139"/>
                </a:lnTo>
                <a:lnTo>
                  <a:pt x="8580" y="4228"/>
                </a:lnTo>
                <a:lnTo>
                  <a:pt x="8332" y="4301"/>
                </a:lnTo>
                <a:lnTo>
                  <a:pt x="8052" y="4357"/>
                </a:lnTo>
                <a:lnTo>
                  <a:pt x="7726" y="4382"/>
                </a:lnTo>
                <a:lnTo>
                  <a:pt x="7447" y="4382"/>
                </a:lnTo>
                <a:lnTo>
                  <a:pt x="7152" y="4357"/>
                </a:lnTo>
                <a:lnTo>
                  <a:pt x="6795" y="4276"/>
                </a:lnTo>
                <a:lnTo>
                  <a:pt x="6593" y="4204"/>
                </a:lnTo>
                <a:lnTo>
                  <a:pt x="6407" y="4301"/>
                </a:lnTo>
                <a:lnTo>
                  <a:pt x="6205" y="4357"/>
                </a:lnTo>
                <a:lnTo>
                  <a:pt x="5957" y="4406"/>
                </a:lnTo>
                <a:lnTo>
                  <a:pt x="5600" y="4446"/>
                </a:lnTo>
                <a:lnTo>
                  <a:pt x="5243" y="4430"/>
                </a:lnTo>
                <a:lnTo>
                  <a:pt x="4871" y="4390"/>
                </a:lnTo>
                <a:lnTo>
                  <a:pt x="4576" y="4317"/>
                </a:lnTo>
                <a:lnTo>
                  <a:pt x="4297" y="4196"/>
                </a:lnTo>
                <a:lnTo>
                  <a:pt x="4142" y="4082"/>
                </a:lnTo>
                <a:lnTo>
                  <a:pt x="3862" y="4123"/>
                </a:lnTo>
                <a:lnTo>
                  <a:pt x="3537" y="4147"/>
                </a:lnTo>
                <a:lnTo>
                  <a:pt x="3149" y="4139"/>
                </a:lnTo>
                <a:lnTo>
                  <a:pt x="2823" y="4082"/>
                </a:lnTo>
                <a:lnTo>
                  <a:pt x="2544" y="4009"/>
                </a:lnTo>
                <a:lnTo>
                  <a:pt x="2342" y="3920"/>
                </a:lnTo>
                <a:lnTo>
                  <a:pt x="2156" y="3799"/>
                </a:lnTo>
                <a:lnTo>
                  <a:pt x="2109" y="3685"/>
                </a:lnTo>
                <a:lnTo>
                  <a:pt x="1939" y="3710"/>
                </a:lnTo>
                <a:lnTo>
                  <a:pt x="1613" y="3718"/>
                </a:lnTo>
                <a:lnTo>
                  <a:pt x="1256" y="3685"/>
                </a:lnTo>
                <a:lnTo>
                  <a:pt x="915" y="3596"/>
                </a:lnTo>
                <a:lnTo>
                  <a:pt x="667" y="3483"/>
                </a:lnTo>
                <a:lnTo>
                  <a:pt x="465" y="3337"/>
                </a:lnTo>
                <a:lnTo>
                  <a:pt x="356" y="3182"/>
                </a:lnTo>
                <a:lnTo>
                  <a:pt x="310" y="2964"/>
                </a:lnTo>
                <a:lnTo>
                  <a:pt x="325" y="2826"/>
                </a:lnTo>
                <a:lnTo>
                  <a:pt x="434" y="2616"/>
                </a:lnTo>
                <a:lnTo>
                  <a:pt x="186" y="2494"/>
                </a:lnTo>
                <a:lnTo>
                  <a:pt x="62" y="2332"/>
                </a:lnTo>
                <a:lnTo>
                  <a:pt x="0" y="2170"/>
                </a:lnTo>
                <a:lnTo>
                  <a:pt x="0" y="2000"/>
                </a:lnTo>
                <a:lnTo>
                  <a:pt x="77" y="1814"/>
                </a:lnTo>
                <a:lnTo>
                  <a:pt x="232" y="1668"/>
                </a:lnTo>
                <a:lnTo>
                  <a:pt x="511" y="1523"/>
                </a:lnTo>
                <a:lnTo>
                  <a:pt x="806" y="1409"/>
                </a:lnTo>
                <a:lnTo>
                  <a:pt x="1132" y="1304"/>
                </a:lnTo>
                <a:lnTo>
                  <a:pt x="1566" y="1231"/>
                </a:lnTo>
                <a:lnTo>
                  <a:pt x="1970" y="1191"/>
                </a:lnTo>
                <a:lnTo>
                  <a:pt x="2156" y="1166"/>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7383600" y="327672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8"/>
                </a:lnTo>
                <a:lnTo>
                  <a:pt x="2445" y="914"/>
                </a:lnTo>
                <a:lnTo>
                  <a:pt x="2489" y="908"/>
                </a:lnTo>
                <a:lnTo>
                  <a:pt x="2549" y="932"/>
                </a:lnTo>
                <a:lnTo>
                  <a:pt x="2605" y="972"/>
                </a:lnTo>
                <a:lnTo>
                  <a:pt x="2653" y="1024"/>
                </a:lnTo>
                <a:lnTo>
                  <a:pt x="2681" y="1065"/>
                </a:lnTo>
                <a:lnTo>
                  <a:pt x="2709" y="1117"/>
                </a:lnTo>
                <a:lnTo>
                  <a:pt x="2741" y="1186"/>
                </a:lnTo>
                <a:lnTo>
                  <a:pt x="2756" y="1273"/>
                </a:lnTo>
                <a:lnTo>
                  <a:pt x="2759" y="1336"/>
                </a:lnTo>
                <a:lnTo>
                  <a:pt x="2750" y="1406"/>
                </a:lnTo>
                <a:lnTo>
                  <a:pt x="2731" y="1493"/>
                </a:lnTo>
                <a:lnTo>
                  <a:pt x="2756" y="1579"/>
                </a:lnTo>
                <a:lnTo>
                  <a:pt x="2766" y="1660"/>
                </a:lnTo>
                <a:lnTo>
                  <a:pt x="2772" y="1747"/>
                </a:lnTo>
                <a:lnTo>
                  <a:pt x="2759" y="1857"/>
                </a:lnTo>
                <a:lnTo>
                  <a:pt x="2750" y="1915"/>
                </a:lnTo>
                <a:lnTo>
                  <a:pt x="2715" y="1990"/>
                </a:lnTo>
                <a:lnTo>
                  <a:pt x="2759" y="2106"/>
                </a:lnTo>
                <a:lnTo>
                  <a:pt x="2772" y="2169"/>
                </a:lnTo>
                <a:lnTo>
                  <a:pt x="2775" y="2273"/>
                </a:lnTo>
                <a:lnTo>
                  <a:pt x="2766" y="2366"/>
                </a:lnTo>
                <a:lnTo>
                  <a:pt x="2744" y="2477"/>
                </a:lnTo>
                <a:lnTo>
                  <a:pt x="2709" y="2552"/>
                </a:lnTo>
                <a:lnTo>
                  <a:pt x="2662" y="2633"/>
                </a:lnTo>
                <a:lnTo>
                  <a:pt x="2577" y="2702"/>
                </a:lnTo>
                <a:lnTo>
                  <a:pt x="2489" y="2725"/>
                </a:lnTo>
                <a:lnTo>
                  <a:pt x="2410" y="2708"/>
                </a:lnTo>
                <a:lnTo>
                  <a:pt x="2360" y="2668"/>
                </a:lnTo>
                <a:lnTo>
                  <a:pt x="2326" y="2743"/>
                </a:lnTo>
                <a:lnTo>
                  <a:pt x="2285" y="2801"/>
                </a:lnTo>
                <a:lnTo>
                  <a:pt x="2253" y="2841"/>
                </a:lnTo>
                <a:lnTo>
                  <a:pt x="2187" y="2893"/>
                </a:lnTo>
                <a:lnTo>
                  <a:pt x="2134" y="2928"/>
                </a:lnTo>
                <a:lnTo>
                  <a:pt x="2051" y="2957"/>
                </a:lnTo>
                <a:lnTo>
                  <a:pt x="1969" y="2951"/>
                </a:lnTo>
                <a:lnTo>
                  <a:pt x="1891" y="2916"/>
                </a:lnTo>
                <a:lnTo>
                  <a:pt x="1821" y="2853"/>
                </a:lnTo>
                <a:lnTo>
                  <a:pt x="1777" y="2957"/>
                </a:lnTo>
                <a:lnTo>
                  <a:pt x="1740" y="3020"/>
                </a:lnTo>
                <a:lnTo>
                  <a:pt x="1689" y="3072"/>
                </a:lnTo>
                <a:lnTo>
                  <a:pt x="1633" y="3113"/>
                </a:lnTo>
                <a:lnTo>
                  <a:pt x="1567" y="3130"/>
                </a:lnTo>
                <a:lnTo>
                  <a:pt x="1510" y="3130"/>
                </a:lnTo>
                <a:lnTo>
                  <a:pt x="1450" y="3113"/>
                </a:lnTo>
                <a:lnTo>
                  <a:pt x="1378" y="3055"/>
                </a:lnTo>
                <a:lnTo>
                  <a:pt x="1337" y="3003"/>
                </a:lnTo>
                <a:lnTo>
                  <a:pt x="1299" y="3072"/>
                </a:lnTo>
                <a:lnTo>
                  <a:pt x="1258" y="3113"/>
                </a:lnTo>
                <a:lnTo>
                  <a:pt x="1208" y="3148"/>
                </a:lnTo>
                <a:lnTo>
                  <a:pt x="1136" y="3176"/>
                </a:lnTo>
                <a:lnTo>
                  <a:pt x="1063" y="3165"/>
                </a:lnTo>
                <a:lnTo>
                  <a:pt x="988" y="3136"/>
                </a:lnTo>
                <a:lnTo>
                  <a:pt x="928" y="3084"/>
                </a:lnTo>
                <a:lnTo>
                  <a:pt x="872" y="2997"/>
                </a:lnTo>
                <a:lnTo>
                  <a:pt x="840" y="2916"/>
                </a:lnTo>
                <a:lnTo>
                  <a:pt x="784" y="2945"/>
                </a:lnTo>
                <a:lnTo>
                  <a:pt x="718" y="2963"/>
                </a:lnTo>
                <a:lnTo>
                  <a:pt x="638" y="2957"/>
                </a:lnTo>
                <a:lnTo>
                  <a:pt x="572" y="2916"/>
                </a:lnTo>
                <a:lnTo>
                  <a:pt x="515" y="2864"/>
                </a:lnTo>
                <a:lnTo>
                  <a:pt x="474" y="2801"/>
                </a:lnTo>
                <a:lnTo>
                  <a:pt x="437" y="2714"/>
                </a:lnTo>
                <a:lnTo>
                  <a:pt x="427" y="2633"/>
                </a:lnTo>
                <a:lnTo>
                  <a:pt x="393" y="2650"/>
                </a:lnTo>
                <a:lnTo>
                  <a:pt x="327" y="2656"/>
                </a:lnTo>
                <a:lnTo>
                  <a:pt x="254" y="2633"/>
                </a:lnTo>
                <a:lnTo>
                  <a:pt x="185" y="2569"/>
                </a:lnTo>
                <a:lnTo>
                  <a:pt x="135" y="2488"/>
                </a:lnTo>
                <a:lnTo>
                  <a:pt x="94" y="2384"/>
                </a:lnTo>
                <a:lnTo>
                  <a:pt x="72" y="2273"/>
                </a:lnTo>
                <a:lnTo>
                  <a:pt x="62" y="2117"/>
                </a:lnTo>
                <a:lnTo>
                  <a:pt x="66" y="2019"/>
                </a:lnTo>
                <a:lnTo>
                  <a:pt x="88" y="1868"/>
                </a:lnTo>
                <a:lnTo>
                  <a:pt x="37" y="1782"/>
                </a:lnTo>
                <a:lnTo>
                  <a:pt x="12" y="1666"/>
                </a:lnTo>
                <a:lnTo>
                  <a:pt x="0" y="1550"/>
                </a:lnTo>
                <a:lnTo>
                  <a:pt x="0" y="1429"/>
                </a:lnTo>
                <a:lnTo>
                  <a:pt x="15" y="1296"/>
                </a:lnTo>
                <a:lnTo>
                  <a:pt x="47" y="1192"/>
                </a:lnTo>
                <a:lnTo>
                  <a:pt x="103" y="1088"/>
                </a:lnTo>
                <a:lnTo>
                  <a:pt x="163" y="1007"/>
                </a:lnTo>
                <a:lnTo>
                  <a:pt x="229" y="932"/>
                </a:lnTo>
                <a:lnTo>
                  <a:pt x="317" y="880"/>
                </a:lnTo>
                <a:lnTo>
                  <a:pt x="399" y="851"/>
                </a:lnTo>
                <a:lnTo>
                  <a:pt x="437" y="833"/>
                </a:lnTo>
                <a:lnTo>
                  <a:pt x="440" y="7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935680" y="34290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640400" y="327672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648320" y="342900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648320" y="3962520"/>
            <a:ext cx="36576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8381880" y="3352680"/>
            <a:ext cx="0" cy="114300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4648320" y="373392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7315200" y="3733920"/>
            <a:ext cx="3808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64" name="" descr=""/>
          <p:cNvPicPr/>
          <p:nvPr/>
        </p:nvPicPr>
        <p:blipFill>
          <a:blip r:embed="rId4"/>
          <a:stretch/>
        </p:blipFill>
        <p:spPr>
          <a:xfrm>
            <a:off x="7529400" y="3686040"/>
            <a:ext cx="463680" cy="590400"/>
          </a:xfrm>
          <a:prstGeom prst="rect">
            <a:avLst/>
          </a:prstGeom>
          <a:ln w="0">
            <a:noFill/>
          </a:ln>
        </p:spPr>
      </p:pic>
      <p:pic>
        <p:nvPicPr>
          <p:cNvPr id="365" name="" descr=""/>
          <p:cNvPicPr/>
          <p:nvPr/>
        </p:nvPicPr>
        <p:blipFill>
          <a:blip r:embed="rId5"/>
          <a:stretch/>
        </p:blipFill>
        <p:spPr>
          <a:xfrm>
            <a:off x="8104320" y="4267080"/>
            <a:ext cx="447840" cy="258840"/>
          </a:xfrm>
          <a:prstGeom prst="rect">
            <a:avLst/>
          </a:prstGeom>
          <a:ln w="0">
            <a:noFill/>
          </a:ln>
        </p:spPr>
      </p:pic>
      <p:pic>
        <p:nvPicPr>
          <p:cNvPr id="366" name="" descr=""/>
          <p:cNvPicPr/>
          <p:nvPr/>
        </p:nvPicPr>
        <p:blipFill>
          <a:blip r:embed="rId6"/>
          <a:stretch/>
        </p:blipFill>
        <p:spPr>
          <a:xfrm>
            <a:off x="5665680" y="3657600"/>
            <a:ext cx="447840" cy="258840"/>
          </a:xfrm>
          <a:prstGeom prst="rect">
            <a:avLst/>
          </a:prstGeom>
          <a:ln w="0">
            <a:noFill/>
          </a:ln>
        </p:spPr>
      </p:pic>
      <p:pic>
        <p:nvPicPr>
          <p:cNvPr id="367" name="" descr=""/>
          <p:cNvPicPr/>
          <p:nvPr/>
        </p:nvPicPr>
        <p:blipFill>
          <a:blip r:embed="rId7"/>
          <a:stretch/>
        </p:blipFill>
        <p:spPr>
          <a:xfrm>
            <a:off x="7999560" y="3184560"/>
            <a:ext cx="476280" cy="274680"/>
          </a:xfrm>
          <a:prstGeom prst="rect">
            <a:avLst/>
          </a:prstGeom>
          <a:ln w="0">
            <a:noFill/>
          </a:ln>
        </p:spPr>
      </p:pic>
      <p:pic>
        <p:nvPicPr>
          <p:cNvPr id="368" name="" descr=""/>
          <p:cNvPicPr/>
          <p:nvPr/>
        </p:nvPicPr>
        <p:blipFill>
          <a:blip r:embed="rId8"/>
          <a:stretch/>
        </p:blipFill>
        <p:spPr>
          <a:xfrm>
            <a:off x="4494240" y="3260880"/>
            <a:ext cx="476280" cy="274680"/>
          </a:xfrm>
          <a:prstGeom prst="rect">
            <a:avLst/>
          </a:prstGeom>
          <a:ln w="0">
            <a:noFill/>
          </a:ln>
        </p:spPr>
      </p:pic>
      <p:pic>
        <p:nvPicPr>
          <p:cNvPr id="369" name="" descr=""/>
          <p:cNvPicPr/>
          <p:nvPr/>
        </p:nvPicPr>
        <p:blipFill>
          <a:blip r:embed="rId9"/>
          <a:stretch/>
        </p:blipFill>
        <p:spPr>
          <a:xfrm>
            <a:off x="6932520" y="3641760"/>
            <a:ext cx="476280" cy="274680"/>
          </a:xfrm>
          <a:prstGeom prst="rect">
            <a:avLst/>
          </a:prstGeom>
          <a:ln w="0">
            <a:noFill/>
          </a:ln>
        </p:spPr>
      </p:pic>
      <p:pic>
        <p:nvPicPr>
          <p:cNvPr id="370" name="" descr=""/>
          <p:cNvPicPr/>
          <p:nvPr/>
        </p:nvPicPr>
        <p:blipFill>
          <a:blip r:embed="rId10"/>
          <a:stretch/>
        </p:blipFill>
        <p:spPr>
          <a:xfrm>
            <a:off x="8191440" y="3765600"/>
            <a:ext cx="461880" cy="239760"/>
          </a:xfrm>
          <a:prstGeom prst="rect">
            <a:avLst/>
          </a:prstGeom>
          <a:ln w="0">
            <a:noFill/>
          </a:ln>
        </p:spPr>
      </p:pic>
      <p:pic>
        <p:nvPicPr>
          <p:cNvPr id="371" name="" descr=""/>
          <p:cNvPicPr/>
          <p:nvPr/>
        </p:nvPicPr>
        <p:blipFill>
          <a:blip r:embed="rId11"/>
          <a:stretch/>
        </p:blipFill>
        <p:spPr>
          <a:xfrm>
            <a:off x="4381560" y="3765600"/>
            <a:ext cx="461880" cy="239760"/>
          </a:xfrm>
          <a:prstGeom prst="rect">
            <a:avLst/>
          </a:prstGeom>
          <a:ln w="0">
            <a:noFill/>
          </a:ln>
        </p:spPr>
      </p:pic>
      <p:pic>
        <p:nvPicPr>
          <p:cNvPr id="372" name="" descr=""/>
          <p:cNvPicPr/>
          <p:nvPr/>
        </p:nvPicPr>
        <p:blipFill>
          <a:blip r:embed="rId12"/>
          <a:stretch/>
        </p:blipFill>
        <p:spPr>
          <a:xfrm>
            <a:off x="5008680" y="3686040"/>
            <a:ext cx="463680" cy="590400"/>
          </a:xfrm>
          <a:prstGeom prst="rect">
            <a:avLst/>
          </a:prstGeom>
          <a:ln w="0">
            <a:noFill/>
          </a:ln>
        </p:spPr>
      </p:pic>
      <p:pic>
        <p:nvPicPr>
          <p:cNvPr id="373" name="" descr=""/>
          <p:cNvPicPr/>
          <p:nvPr/>
        </p:nvPicPr>
        <p:blipFill>
          <a:blip r:embed="rId13"/>
          <a:stretch/>
        </p:blipFill>
        <p:spPr>
          <a:xfrm>
            <a:off x="4370400" y="4267080"/>
            <a:ext cx="447840" cy="258840"/>
          </a:xfrm>
          <a:prstGeom prst="rect">
            <a:avLst/>
          </a:prstGeom>
          <a:ln w="0">
            <a:noFill/>
          </a:ln>
        </p:spPr>
      </p:pic>
      <p:pic>
        <p:nvPicPr>
          <p:cNvPr id="374" name="" descr=""/>
          <p:cNvPicPr/>
          <p:nvPr/>
        </p:nvPicPr>
        <p:blipFill>
          <a:blip r:embed="rId14"/>
          <a:stretch/>
        </p:blipFill>
        <p:spPr>
          <a:xfrm>
            <a:off x="6323040" y="3809880"/>
            <a:ext cx="463680" cy="590400"/>
          </a:xfrm>
          <a:prstGeom prst="rect">
            <a:avLst/>
          </a:prstGeom>
          <a:ln w="0">
            <a:noFill/>
          </a:ln>
        </p:spPr>
      </p:pic>
      <p:sp>
        <p:nvSpPr>
          <p:cNvPr id="375" name=""/>
          <p:cNvSpPr txBox="1"/>
          <p:nvPr/>
        </p:nvSpPr>
        <p:spPr>
          <a:xfrm>
            <a:off x="5468760" y="1889280"/>
            <a:ext cx="238608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376" name=""/>
          <p:cNvSpPr/>
          <p:nvPr/>
        </p:nvSpPr>
        <p:spPr>
          <a:xfrm flipV="1">
            <a:off x="4568760" y="3733920"/>
            <a:ext cx="122256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4797360" y="403848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a:off x="7315200" y="3733920"/>
            <a:ext cx="1143360" cy="533880"/>
          </a:xfrm>
          <a:custGeom>
            <a:avLst/>
            <a:gdLst/>
            <a:ahLst/>
            <a:rect l="0" t="0" r="r" b="b"/>
            <a:pathLst>
              <a:path fill="none" w="3176" h="1483">
                <a:moveTo>
                  <a:pt x="0" y="0"/>
                </a:moveTo>
                <a:lnTo>
                  <a:pt x="3176" y="0"/>
                </a:lnTo>
                <a:lnTo>
                  <a:pt x="3176" y="1483"/>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9" name=""/>
          <p:cNvSpPr/>
          <p:nvPr/>
        </p:nvSpPr>
        <p:spPr>
          <a:xfrm>
            <a:off x="5410080" y="388620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380" name=""/>
          <p:cNvSpPr txBox="1"/>
          <p:nvPr/>
        </p:nvSpPr>
        <p:spPr>
          <a:xfrm>
            <a:off x="5811840" y="51069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6858000" y="3276720"/>
            <a:ext cx="2207160" cy="2134080"/>
          </a:xfrm>
          <a:custGeom>
            <a:avLst/>
            <a:gdLst/>
            <a:ahLst/>
            <a:rect l="0" t="0" r="r" b="b"/>
            <a:pathLst>
              <a:path w="6131" h="5928">
                <a:moveTo>
                  <a:pt x="974" y="1402"/>
                </a:moveTo>
                <a:lnTo>
                  <a:pt x="1031" y="1243"/>
                </a:lnTo>
                <a:lnTo>
                  <a:pt x="1108" y="1080"/>
                </a:lnTo>
                <a:lnTo>
                  <a:pt x="1218" y="939"/>
                </a:lnTo>
                <a:lnTo>
                  <a:pt x="1377" y="833"/>
                </a:lnTo>
                <a:lnTo>
                  <a:pt x="1502" y="776"/>
                </a:lnTo>
                <a:lnTo>
                  <a:pt x="1658" y="714"/>
                </a:lnTo>
                <a:lnTo>
                  <a:pt x="1893" y="692"/>
                </a:lnTo>
                <a:lnTo>
                  <a:pt x="2121" y="714"/>
                </a:lnTo>
                <a:lnTo>
                  <a:pt x="2336" y="789"/>
                </a:lnTo>
                <a:lnTo>
                  <a:pt x="2499" y="864"/>
                </a:lnTo>
                <a:lnTo>
                  <a:pt x="2588" y="595"/>
                </a:lnTo>
                <a:lnTo>
                  <a:pt x="2714" y="388"/>
                </a:lnTo>
                <a:lnTo>
                  <a:pt x="2872" y="216"/>
                </a:lnTo>
                <a:lnTo>
                  <a:pt x="3088" y="110"/>
                </a:lnTo>
                <a:lnTo>
                  <a:pt x="3344" y="13"/>
                </a:lnTo>
                <a:lnTo>
                  <a:pt x="3603" y="0"/>
                </a:lnTo>
                <a:lnTo>
                  <a:pt x="3831" y="44"/>
                </a:lnTo>
                <a:lnTo>
                  <a:pt x="4087" y="149"/>
                </a:lnTo>
                <a:lnTo>
                  <a:pt x="4282" y="335"/>
                </a:lnTo>
                <a:lnTo>
                  <a:pt x="4424" y="520"/>
                </a:lnTo>
                <a:lnTo>
                  <a:pt x="4513" y="701"/>
                </a:lnTo>
                <a:lnTo>
                  <a:pt x="4534" y="930"/>
                </a:lnTo>
                <a:lnTo>
                  <a:pt x="4713" y="855"/>
                </a:lnTo>
                <a:lnTo>
                  <a:pt x="4933" y="877"/>
                </a:lnTo>
                <a:lnTo>
                  <a:pt x="5099" y="939"/>
                </a:lnTo>
                <a:lnTo>
                  <a:pt x="5250" y="1102"/>
                </a:lnTo>
                <a:lnTo>
                  <a:pt x="5367" y="1318"/>
                </a:lnTo>
                <a:lnTo>
                  <a:pt x="5412" y="1544"/>
                </a:lnTo>
                <a:lnTo>
                  <a:pt x="5404" y="1707"/>
                </a:lnTo>
                <a:lnTo>
                  <a:pt x="5501" y="1698"/>
                </a:lnTo>
                <a:lnTo>
                  <a:pt x="5631" y="1738"/>
                </a:lnTo>
                <a:lnTo>
                  <a:pt x="5757" y="1817"/>
                </a:lnTo>
                <a:lnTo>
                  <a:pt x="5863" y="1914"/>
                </a:lnTo>
                <a:lnTo>
                  <a:pt x="5924" y="1989"/>
                </a:lnTo>
                <a:lnTo>
                  <a:pt x="5989" y="2086"/>
                </a:lnTo>
                <a:lnTo>
                  <a:pt x="6058" y="2214"/>
                </a:lnTo>
                <a:lnTo>
                  <a:pt x="6090" y="2377"/>
                </a:lnTo>
                <a:lnTo>
                  <a:pt x="6099" y="2496"/>
                </a:lnTo>
                <a:lnTo>
                  <a:pt x="6078" y="2624"/>
                </a:lnTo>
                <a:lnTo>
                  <a:pt x="6038" y="2787"/>
                </a:lnTo>
                <a:lnTo>
                  <a:pt x="6090" y="2951"/>
                </a:lnTo>
                <a:lnTo>
                  <a:pt x="6111" y="3101"/>
                </a:lnTo>
                <a:lnTo>
                  <a:pt x="6127" y="3264"/>
                </a:lnTo>
                <a:lnTo>
                  <a:pt x="6099" y="3467"/>
                </a:lnTo>
                <a:lnTo>
                  <a:pt x="6078" y="3577"/>
                </a:lnTo>
                <a:lnTo>
                  <a:pt x="6001" y="3713"/>
                </a:lnTo>
                <a:lnTo>
                  <a:pt x="6099" y="3930"/>
                </a:lnTo>
                <a:lnTo>
                  <a:pt x="6127" y="4049"/>
                </a:lnTo>
                <a:lnTo>
                  <a:pt x="6131" y="4243"/>
                </a:lnTo>
                <a:lnTo>
                  <a:pt x="6111" y="4415"/>
                </a:lnTo>
                <a:lnTo>
                  <a:pt x="6062" y="4623"/>
                </a:lnTo>
                <a:lnTo>
                  <a:pt x="5989" y="4764"/>
                </a:lnTo>
                <a:lnTo>
                  <a:pt x="5883" y="4914"/>
                </a:lnTo>
                <a:lnTo>
                  <a:pt x="5696" y="5042"/>
                </a:lnTo>
                <a:lnTo>
                  <a:pt x="5501" y="5086"/>
                </a:lnTo>
                <a:lnTo>
                  <a:pt x="5327" y="5055"/>
                </a:lnTo>
                <a:lnTo>
                  <a:pt x="5217" y="4980"/>
                </a:lnTo>
                <a:lnTo>
                  <a:pt x="5140" y="5121"/>
                </a:lnTo>
                <a:lnTo>
                  <a:pt x="5051" y="5227"/>
                </a:lnTo>
                <a:lnTo>
                  <a:pt x="4977" y="5302"/>
                </a:lnTo>
                <a:lnTo>
                  <a:pt x="4835" y="5399"/>
                </a:lnTo>
                <a:lnTo>
                  <a:pt x="4713" y="5465"/>
                </a:lnTo>
                <a:lnTo>
                  <a:pt x="4534" y="5518"/>
                </a:lnTo>
                <a:lnTo>
                  <a:pt x="4355" y="5509"/>
                </a:lnTo>
                <a:lnTo>
                  <a:pt x="4180" y="5443"/>
                </a:lnTo>
                <a:lnTo>
                  <a:pt x="4026" y="5324"/>
                </a:lnTo>
                <a:lnTo>
                  <a:pt x="3928" y="5518"/>
                </a:lnTo>
                <a:lnTo>
                  <a:pt x="3847" y="5637"/>
                </a:lnTo>
                <a:lnTo>
                  <a:pt x="3733" y="5734"/>
                </a:lnTo>
                <a:lnTo>
                  <a:pt x="3608" y="5809"/>
                </a:lnTo>
                <a:lnTo>
                  <a:pt x="3465" y="5844"/>
                </a:lnTo>
                <a:lnTo>
                  <a:pt x="3339" y="5844"/>
                </a:lnTo>
                <a:lnTo>
                  <a:pt x="3205" y="5809"/>
                </a:lnTo>
                <a:lnTo>
                  <a:pt x="3047" y="5703"/>
                </a:lnTo>
                <a:lnTo>
                  <a:pt x="2958" y="5606"/>
                </a:lnTo>
                <a:lnTo>
                  <a:pt x="2872" y="5734"/>
                </a:lnTo>
                <a:lnTo>
                  <a:pt x="2783" y="5809"/>
                </a:lnTo>
                <a:lnTo>
                  <a:pt x="2669" y="5875"/>
                </a:lnTo>
                <a:lnTo>
                  <a:pt x="2511" y="5928"/>
                </a:lnTo>
                <a:lnTo>
                  <a:pt x="2352" y="5906"/>
                </a:lnTo>
                <a:lnTo>
                  <a:pt x="2186" y="5853"/>
                </a:lnTo>
                <a:lnTo>
                  <a:pt x="2052" y="5756"/>
                </a:lnTo>
                <a:lnTo>
                  <a:pt x="1926" y="5593"/>
                </a:lnTo>
                <a:lnTo>
                  <a:pt x="1857" y="5443"/>
                </a:lnTo>
                <a:lnTo>
                  <a:pt x="1735" y="5496"/>
                </a:lnTo>
                <a:lnTo>
                  <a:pt x="1589" y="5531"/>
                </a:lnTo>
                <a:lnTo>
                  <a:pt x="1413" y="5518"/>
                </a:lnTo>
                <a:lnTo>
                  <a:pt x="1267" y="5443"/>
                </a:lnTo>
                <a:lnTo>
                  <a:pt x="1141" y="5346"/>
                </a:lnTo>
                <a:lnTo>
                  <a:pt x="1052" y="5227"/>
                </a:lnTo>
                <a:lnTo>
                  <a:pt x="966" y="5064"/>
                </a:lnTo>
                <a:lnTo>
                  <a:pt x="946" y="4914"/>
                </a:lnTo>
                <a:lnTo>
                  <a:pt x="869" y="4945"/>
                </a:lnTo>
                <a:lnTo>
                  <a:pt x="723" y="4958"/>
                </a:lnTo>
                <a:lnTo>
                  <a:pt x="564" y="4914"/>
                </a:lnTo>
                <a:lnTo>
                  <a:pt x="410" y="4795"/>
                </a:lnTo>
                <a:lnTo>
                  <a:pt x="300" y="4645"/>
                </a:lnTo>
                <a:lnTo>
                  <a:pt x="211" y="4451"/>
                </a:lnTo>
                <a:lnTo>
                  <a:pt x="162" y="4243"/>
                </a:lnTo>
                <a:lnTo>
                  <a:pt x="142" y="3952"/>
                </a:lnTo>
                <a:lnTo>
                  <a:pt x="146" y="3771"/>
                </a:lnTo>
                <a:lnTo>
                  <a:pt x="194" y="3489"/>
                </a:lnTo>
                <a:lnTo>
                  <a:pt x="85" y="3325"/>
                </a:lnTo>
                <a:lnTo>
                  <a:pt x="28" y="3109"/>
                </a:lnTo>
                <a:lnTo>
                  <a:pt x="0" y="2893"/>
                </a:lnTo>
                <a:lnTo>
                  <a:pt x="0" y="2668"/>
                </a:lnTo>
                <a:lnTo>
                  <a:pt x="36" y="2421"/>
                </a:lnTo>
                <a:lnTo>
                  <a:pt x="105" y="2227"/>
                </a:lnTo>
                <a:lnTo>
                  <a:pt x="231" y="2029"/>
                </a:lnTo>
                <a:lnTo>
                  <a:pt x="361" y="1879"/>
                </a:lnTo>
                <a:lnTo>
                  <a:pt x="507" y="1738"/>
                </a:lnTo>
                <a:lnTo>
                  <a:pt x="702" y="1641"/>
                </a:lnTo>
                <a:lnTo>
                  <a:pt x="885" y="1588"/>
                </a:lnTo>
                <a:lnTo>
                  <a:pt x="966" y="1557"/>
                </a:lnTo>
                <a:lnTo>
                  <a:pt x="974" y="140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8039160" y="3278160"/>
            <a:ext cx="543240" cy="1067040"/>
          </a:xfrm>
          <a:custGeom>
            <a:avLst/>
            <a:gdLst/>
            <a:ahLst/>
            <a:rect l="0" t="0" r="r" b="b"/>
            <a:pathLst>
              <a:path w="1509" h="2964">
                <a:moveTo>
                  <a:pt x="755" y="401"/>
                </a:moveTo>
                <a:lnTo>
                  <a:pt x="714" y="321"/>
                </a:lnTo>
                <a:lnTo>
                  <a:pt x="665" y="251"/>
                </a:lnTo>
                <a:lnTo>
                  <a:pt x="621" y="198"/>
                </a:lnTo>
                <a:lnTo>
                  <a:pt x="573" y="158"/>
                </a:lnTo>
                <a:lnTo>
                  <a:pt x="542" y="149"/>
                </a:lnTo>
                <a:lnTo>
                  <a:pt x="507" y="136"/>
                </a:lnTo>
                <a:lnTo>
                  <a:pt x="463" y="154"/>
                </a:lnTo>
                <a:lnTo>
                  <a:pt x="432" y="198"/>
                </a:lnTo>
                <a:lnTo>
                  <a:pt x="414" y="264"/>
                </a:lnTo>
                <a:lnTo>
                  <a:pt x="401" y="317"/>
                </a:lnTo>
                <a:lnTo>
                  <a:pt x="335" y="194"/>
                </a:lnTo>
                <a:lnTo>
                  <a:pt x="273" y="110"/>
                </a:lnTo>
                <a:lnTo>
                  <a:pt x="211" y="44"/>
                </a:lnTo>
                <a:lnTo>
                  <a:pt x="158" y="13"/>
                </a:lnTo>
                <a:lnTo>
                  <a:pt x="97" y="0"/>
                </a:lnTo>
                <a:lnTo>
                  <a:pt x="52" y="26"/>
                </a:lnTo>
                <a:lnTo>
                  <a:pt x="26" y="70"/>
                </a:lnTo>
                <a:lnTo>
                  <a:pt x="8" y="158"/>
                </a:lnTo>
                <a:lnTo>
                  <a:pt x="13" y="277"/>
                </a:lnTo>
                <a:lnTo>
                  <a:pt x="26" y="379"/>
                </a:lnTo>
                <a:lnTo>
                  <a:pt x="44" y="489"/>
                </a:lnTo>
                <a:lnTo>
                  <a:pt x="88" y="608"/>
                </a:lnTo>
                <a:lnTo>
                  <a:pt x="48" y="590"/>
                </a:lnTo>
                <a:lnTo>
                  <a:pt x="17" y="635"/>
                </a:lnTo>
                <a:lnTo>
                  <a:pt x="0" y="687"/>
                </a:lnTo>
                <a:lnTo>
                  <a:pt x="8" y="784"/>
                </a:lnTo>
                <a:lnTo>
                  <a:pt x="35" y="912"/>
                </a:lnTo>
                <a:lnTo>
                  <a:pt x="70" y="1031"/>
                </a:lnTo>
                <a:lnTo>
                  <a:pt x="101" y="1106"/>
                </a:lnTo>
                <a:lnTo>
                  <a:pt x="83" y="1120"/>
                </a:lnTo>
                <a:lnTo>
                  <a:pt x="70" y="1150"/>
                </a:lnTo>
                <a:lnTo>
                  <a:pt x="66" y="1212"/>
                </a:lnTo>
                <a:lnTo>
                  <a:pt x="70" y="1270"/>
                </a:lnTo>
                <a:lnTo>
                  <a:pt x="74" y="1314"/>
                </a:lnTo>
                <a:lnTo>
                  <a:pt x="83" y="1371"/>
                </a:lnTo>
                <a:lnTo>
                  <a:pt x="97" y="1450"/>
                </a:lnTo>
                <a:lnTo>
                  <a:pt x="123" y="1535"/>
                </a:lnTo>
                <a:lnTo>
                  <a:pt x="149" y="1592"/>
                </a:lnTo>
                <a:lnTo>
                  <a:pt x="176" y="1659"/>
                </a:lnTo>
                <a:lnTo>
                  <a:pt x="211" y="1738"/>
                </a:lnTo>
                <a:lnTo>
                  <a:pt x="233" y="1822"/>
                </a:lnTo>
                <a:lnTo>
                  <a:pt x="264" y="1906"/>
                </a:lnTo>
                <a:lnTo>
                  <a:pt x="295" y="1985"/>
                </a:lnTo>
                <a:lnTo>
                  <a:pt x="339" y="2086"/>
                </a:lnTo>
                <a:lnTo>
                  <a:pt x="366" y="2139"/>
                </a:lnTo>
                <a:lnTo>
                  <a:pt x="405" y="2197"/>
                </a:lnTo>
                <a:lnTo>
                  <a:pt x="432" y="2320"/>
                </a:lnTo>
                <a:lnTo>
                  <a:pt x="449" y="2377"/>
                </a:lnTo>
                <a:lnTo>
                  <a:pt x="489" y="2483"/>
                </a:lnTo>
                <a:lnTo>
                  <a:pt x="529" y="2567"/>
                </a:lnTo>
                <a:lnTo>
                  <a:pt x="573" y="2664"/>
                </a:lnTo>
                <a:lnTo>
                  <a:pt x="617" y="2730"/>
                </a:lnTo>
                <a:lnTo>
                  <a:pt x="661" y="2796"/>
                </a:lnTo>
                <a:lnTo>
                  <a:pt x="718" y="2832"/>
                </a:lnTo>
                <a:lnTo>
                  <a:pt x="755" y="2832"/>
                </a:lnTo>
                <a:lnTo>
                  <a:pt x="777" y="2796"/>
                </a:lnTo>
                <a:lnTo>
                  <a:pt x="781" y="2735"/>
                </a:lnTo>
                <a:lnTo>
                  <a:pt x="825" y="2801"/>
                </a:lnTo>
                <a:lnTo>
                  <a:pt x="860" y="2845"/>
                </a:lnTo>
                <a:lnTo>
                  <a:pt x="882" y="2880"/>
                </a:lnTo>
                <a:lnTo>
                  <a:pt x="922" y="2907"/>
                </a:lnTo>
                <a:lnTo>
                  <a:pt x="962" y="2924"/>
                </a:lnTo>
                <a:lnTo>
                  <a:pt x="997" y="2924"/>
                </a:lnTo>
                <a:lnTo>
                  <a:pt x="1019" y="2898"/>
                </a:lnTo>
                <a:lnTo>
                  <a:pt x="1037" y="2845"/>
                </a:lnTo>
                <a:lnTo>
                  <a:pt x="1041" y="2761"/>
                </a:lnTo>
                <a:lnTo>
                  <a:pt x="1094" y="2854"/>
                </a:lnTo>
                <a:lnTo>
                  <a:pt x="1134" y="2907"/>
                </a:lnTo>
                <a:lnTo>
                  <a:pt x="1169" y="2937"/>
                </a:lnTo>
                <a:lnTo>
                  <a:pt x="1200" y="2964"/>
                </a:lnTo>
                <a:lnTo>
                  <a:pt x="1231" y="2955"/>
                </a:lnTo>
                <a:lnTo>
                  <a:pt x="1253" y="2942"/>
                </a:lnTo>
                <a:lnTo>
                  <a:pt x="1266" y="2907"/>
                </a:lnTo>
                <a:lnTo>
                  <a:pt x="1271" y="2832"/>
                </a:lnTo>
                <a:lnTo>
                  <a:pt x="1266" y="2770"/>
                </a:lnTo>
                <a:lnTo>
                  <a:pt x="1310" y="2827"/>
                </a:lnTo>
                <a:lnTo>
                  <a:pt x="1337" y="2854"/>
                </a:lnTo>
                <a:lnTo>
                  <a:pt x="1363" y="2871"/>
                </a:lnTo>
                <a:lnTo>
                  <a:pt x="1407" y="2884"/>
                </a:lnTo>
                <a:lnTo>
                  <a:pt x="1425" y="2845"/>
                </a:lnTo>
                <a:lnTo>
                  <a:pt x="1438" y="2801"/>
                </a:lnTo>
                <a:lnTo>
                  <a:pt x="1442" y="2735"/>
                </a:lnTo>
                <a:lnTo>
                  <a:pt x="1429" y="2638"/>
                </a:lnTo>
                <a:lnTo>
                  <a:pt x="1412" y="2549"/>
                </a:lnTo>
                <a:lnTo>
                  <a:pt x="1442" y="2567"/>
                </a:lnTo>
                <a:lnTo>
                  <a:pt x="1469" y="2563"/>
                </a:lnTo>
                <a:lnTo>
                  <a:pt x="1495" y="2536"/>
                </a:lnTo>
                <a:lnTo>
                  <a:pt x="1504" y="2474"/>
                </a:lnTo>
                <a:lnTo>
                  <a:pt x="1504" y="2413"/>
                </a:lnTo>
                <a:lnTo>
                  <a:pt x="1495" y="2346"/>
                </a:lnTo>
                <a:lnTo>
                  <a:pt x="1478" y="2249"/>
                </a:lnTo>
                <a:lnTo>
                  <a:pt x="1451" y="2170"/>
                </a:lnTo>
                <a:lnTo>
                  <a:pt x="1469" y="2179"/>
                </a:lnTo>
                <a:lnTo>
                  <a:pt x="1495" y="2157"/>
                </a:lnTo>
                <a:lnTo>
                  <a:pt x="1509" y="2122"/>
                </a:lnTo>
                <a:lnTo>
                  <a:pt x="1509" y="2042"/>
                </a:lnTo>
                <a:lnTo>
                  <a:pt x="1500" y="1950"/>
                </a:lnTo>
                <a:lnTo>
                  <a:pt x="1478" y="1848"/>
                </a:lnTo>
                <a:lnTo>
                  <a:pt x="1447" y="1729"/>
                </a:lnTo>
                <a:lnTo>
                  <a:pt x="1390" y="1584"/>
                </a:lnTo>
                <a:lnTo>
                  <a:pt x="1354" y="1491"/>
                </a:lnTo>
                <a:lnTo>
                  <a:pt x="1293" y="1353"/>
                </a:lnTo>
                <a:lnTo>
                  <a:pt x="1275" y="1256"/>
                </a:lnTo>
                <a:lnTo>
                  <a:pt x="1240" y="1146"/>
                </a:lnTo>
                <a:lnTo>
                  <a:pt x="1209" y="1031"/>
                </a:lnTo>
                <a:lnTo>
                  <a:pt x="1156" y="912"/>
                </a:lnTo>
                <a:lnTo>
                  <a:pt x="1103" y="798"/>
                </a:lnTo>
                <a:lnTo>
                  <a:pt x="1059" y="705"/>
                </a:lnTo>
                <a:lnTo>
                  <a:pt x="997" y="621"/>
                </a:lnTo>
                <a:lnTo>
                  <a:pt x="949" y="564"/>
                </a:lnTo>
                <a:lnTo>
                  <a:pt x="891" y="511"/>
                </a:lnTo>
                <a:lnTo>
                  <a:pt x="847" y="485"/>
                </a:lnTo>
                <a:lnTo>
                  <a:pt x="803" y="485"/>
                </a:lnTo>
                <a:lnTo>
                  <a:pt x="785" y="480"/>
                </a:lnTo>
                <a:lnTo>
                  <a:pt x="755" y="40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924680" y="434340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3429000" y="3270240"/>
            <a:ext cx="2057760" cy="2134080"/>
          </a:xfrm>
          <a:custGeom>
            <a:avLst/>
            <a:gdLst/>
            <a:ahLst/>
            <a:rect l="0" t="0" r="r" b="b"/>
            <a:pathLst>
              <a:path w="5716" h="5928">
                <a:moveTo>
                  <a:pt x="907" y="1403"/>
                </a:moveTo>
                <a:lnTo>
                  <a:pt x="958" y="1241"/>
                </a:lnTo>
                <a:lnTo>
                  <a:pt x="1030" y="1079"/>
                </a:lnTo>
                <a:lnTo>
                  <a:pt x="1133" y="939"/>
                </a:lnTo>
                <a:lnTo>
                  <a:pt x="1282" y="831"/>
                </a:lnTo>
                <a:lnTo>
                  <a:pt x="1399" y="777"/>
                </a:lnTo>
                <a:lnTo>
                  <a:pt x="1542" y="712"/>
                </a:lnTo>
                <a:lnTo>
                  <a:pt x="1762" y="690"/>
                </a:lnTo>
                <a:lnTo>
                  <a:pt x="1976" y="712"/>
                </a:lnTo>
                <a:lnTo>
                  <a:pt x="2177" y="788"/>
                </a:lnTo>
                <a:lnTo>
                  <a:pt x="2326" y="863"/>
                </a:lnTo>
                <a:lnTo>
                  <a:pt x="2410" y="593"/>
                </a:lnTo>
                <a:lnTo>
                  <a:pt x="2527" y="388"/>
                </a:lnTo>
                <a:lnTo>
                  <a:pt x="2676" y="215"/>
                </a:lnTo>
                <a:lnTo>
                  <a:pt x="2877" y="107"/>
                </a:lnTo>
                <a:lnTo>
                  <a:pt x="3117" y="10"/>
                </a:lnTo>
                <a:lnTo>
                  <a:pt x="3357" y="0"/>
                </a:lnTo>
                <a:lnTo>
                  <a:pt x="3571" y="43"/>
                </a:lnTo>
                <a:lnTo>
                  <a:pt x="3811" y="151"/>
                </a:lnTo>
                <a:lnTo>
                  <a:pt x="3992" y="334"/>
                </a:lnTo>
                <a:lnTo>
                  <a:pt x="4122" y="518"/>
                </a:lnTo>
                <a:lnTo>
                  <a:pt x="4206" y="701"/>
                </a:lnTo>
                <a:lnTo>
                  <a:pt x="4225" y="928"/>
                </a:lnTo>
                <a:lnTo>
                  <a:pt x="4394" y="852"/>
                </a:lnTo>
                <a:lnTo>
                  <a:pt x="4595" y="874"/>
                </a:lnTo>
                <a:lnTo>
                  <a:pt x="4750" y="939"/>
                </a:lnTo>
                <a:lnTo>
                  <a:pt x="4893" y="1101"/>
                </a:lnTo>
                <a:lnTo>
                  <a:pt x="5003" y="1317"/>
                </a:lnTo>
                <a:lnTo>
                  <a:pt x="5042" y="1544"/>
                </a:lnTo>
                <a:lnTo>
                  <a:pt x="5035" y="1706"/>
                </a:lnTo>
                <a:lnTo>
                  <a:pt x="5126" y="1695"/>
                </a:lnTo>
                <a:lnTo>
                  <a:pt x="5249" y="1739"/>
                </a:lnTo>
                <a:lnTo>
                  <a:pt x="5366" y="1814"/>
                </a:lnTo>
                <a:lnTo>
                  <a:pt x="5463" y="1911"/>
                </a:lnTo>
                <a:lnTo>
                  <a:pt x="5521" y="1987"/>
                </a:lnTo>
                <a:lnTo>
                  <a:pt x="5579" y="2084"/>
                </a:lnTo>
                <a:lnTo>
                  <a:pt x="5644" y="2214"/>
                </a:lnTo>
                <a:lnTo>
                  <a:pt x="5677" y="2375"/>
                </a:lnTo>
                <a:lnTo>
                  <a:pt x="5683" y="2494"/>
                </a:lnTo>
                <a:lnTo>
                  <a:pt x="5664" y="2624"/>
                </a:lnTo>
                <a:lnTo>
                  <a:pt x="5625" y="2786"/>
                </a:lnTo>
                <a:lnTo>
                  <a:pt x="5677" y="2948"/>
                </a:lnTo>
                <a:lnTo>
                  <a:pt x="5696" y="3099"/>
                </a:lnTo>
                <a:lnTo>
                  <a:pt x="5709" y="3261"/>
                </a:lnTo>
                <a:lnTo>
                  <a:pt x="5683" y="3466"/>
                </a:lnTo>
                <a:lnTo>
                  <a:pt x="5664" y="3574"/>
                </a:lnTo>
                <a:lnTo>
                  <a:pt x="5592" y="3714"/>
                </a:lnTo>
                <a:lnTo>
                  <a:pt x="5683" y="3930"/>
                </a:lnTo>
                <a:lnTo>
                  <a:pt x="5709" y="4049"/>
                </a:lnTo>
                <a:lnTo>
                  <a:pt x="5716" y="4243"/>
                </a:lnTo>
                <a:lnTo>
                  <a:pt x="5696" y="4416"/>
                </a:lnTo>
                <a:lnTo>
                  <a:pt x="5651" y="4622"/>
                </a:lnTo>
                <a:lnTo>
                  <a:pt x="5579" y="4762"/>
                </a:lnTo>
                <a:lnTo>
                  <a:pt x="5482" y="4913"/>
                </a:lnTo>
                <a:lnTo>
                  <a:pt x="5307" y="5043"/>
                </a:lnTo>
                <a:lnTo>
                  <a:pt x="5126" y="5086"/>
                </a:lnTo>
                <a:lnTo>
                  <a:pt x="4964" y="5054"/>
                </a:lnTo>
                <a:lnTo>
                  <a:pt x="4860" y="4978"/>
                </a:lnTo>
                <a:lnTo>
                  <a:pt x="4789" y="5119"/>
                </a:lnTo>
                <a:lnTo>
                  <a:pt x="4705" y="5226"/>
                </a:lnTo>
                <a:lnTo>
                  <a:pt x="4640" y="5302"/>
                </a:lnTo>
                <a:lnTo>
                  <a:pt x="4504" y="5399"/>
                </a:lnTo>
                <a:lnTo>
                  <a:pt x="4394" y="5464"/>
                </a:lnTo>
                <a:lnTo>
                  <a:pt x="4225" y="5518"/>
                </a:lnTo>
                <a:lnTo>
                  <a:pt x="4057" y="5507"/>
                </a:lnTo>
                <a:lnTo>
                  <a:pt x="3895" y="5442"/>
                </a:lnTo>
                <a:lnTo>
                  <a:pt x="3752" y="5324"/>
                </a:lnTo>
                <a:lnTo>
                  <a:pt x="3661" y="5518"/>
                </a:lnTo>
                <a:lnTo>
                  <a:pt x="3584" y="5637"/>
                </a:lnTo>
                <a:lnTo>
                  <a:pt x="3480" y="5734"/>
                </a:lnTo>
                <a:lnTo>
                  <a:pt x="3363" y="5809"/>
                </a:lnTo>
                <a:lnTo>
                  <a:pt x="3227" y="5842"/>
                </a:lnTo>
                <a:lnTo>
                  <a:pt x="3111" y="5842"/>
                </a:lnTo>
                <a:lnTo>
                  <a:pt x="2988" y="5809"/>
                </a:lnTo>
                <a:lnTo>
                  <a:pt x="2838" y="5701"/>
                </a:lnTo>
                <a:lnTo>
                  <a:pt x="2753" y="5604"/>
                </a:lnTo>
                <a:lnTo>
                  <a:pt x="2676" y="5734"/>
                </a:lnTo>
                <a:lnTo>
                  <a:pt x="2591" y="5809"/>
                </a:lnTo>
                <a:lnTo>
                  <a:pt x="2488" y="5874"/>
                </a:lnTo>
                <a:lnTo>
                  <a:pt x="2339" y="5928"/>
                </a:lnTo>
                <a:lnTo>
                  <a:pt x="2190" y="5907"/>
                </a:lnTo>
                <a:lnTo>
                  <a:pt x="2034" y="5853"/>
                </a:lnTo>
                <a:lnTo>
                  <a:pt x="1911" y="5755"/>
                </a:lnTo>
                <a:lnTo>
                  <a:pt x="1794" y="5594"/>
                </a:lnTo>
                <a:lnTo>
                  <a:pt x="1730" y="5442"/>
                </a:lnTo>
                <a:lnTo>
                  <a:pt x="1613" y="5496"/>
                </a:lnTo>
                <a:lnTo>
                  <a:pt x="1477" y="5529"/>
                </a:lnTo>
                <a:lnTo>
                  <a:pt x="1315" y="5518"/>
                </a:lnTo>
                <a:lnTo>
                  <a:pt x="1179" y="5442"/>
                </a:lnTo>
                <a:lnTo>
                  <a:pt x="1062" y="5345"/>
                </a:lnTo>
                <a:lnTo>
                  <a:pt x="978" y="5226"/>
                </a:lnTo>
                <a:lnTo>
                  <a:pt x="900" y="5065"/>
                </a:lnTo>
                <a:lnTo>
                  <a:pt x="881" y="4913"/>
                </a:lnTo>
                <a:lnTo>
                  <a:pt x="809" y="4946"/>
                </a:lnTo>
                <a:lnTo>
                  <a:pt x="673" y="4957"/>
                </a:lnTo>
                <a:lnTo>
                  <a:pt x="524" y="4913"/>
                </a:lnTo>
                <a:lnTo>
                  <a:pt x="382" y="4795"/>
                </a:lnTo>
                <a:lnTo>
                  <a:pt x="278" y="4644"/>
                </a:lnTo>
                <a:lnTo>
                  <a:pt x="194" y="4449"/>
                </a:lnTo>
                <a:lnTo>
                  <a:pt x="149" y="4243"/>
                </a:lnTo>
                <a:lnTo>
                  <a:pt x="129" y="3952"/>
                </a:lnTo>
                <a:lnTo>
                  <a:pt x="136" y="3768"/>
                </a:lnTo>
                <a:lnTo>
                  <a:pt x="181" y="3487"/>
                </a:lnTo>
                <a:lnTo>
                  <a:pt x="77" y="3325"/>
                </a:lnTo>
                <a:lnTo>
                  <a:pt x="25" y="3110"/>
                </a:lnTo>
                <a:lnTo>
                  <a:pt x="0" y="2894"/>
                </a:lnTo>
                <a:lnTo>
                  <a:pt x="0" y="2667"/>
                </a:lnTo>
                <a:lnTo>
                  <a:pt x="32" y="2419"/>
                </a:lnTo>
                <a:lnTo>
                  <a:pt x="97" y="2224"/>
                </a:lnTo>
                <a:lnTo>
                  <a:pt x="213" y="2030"/>
                </a:lnTo>
                <a:lnTo>
                  <a:pt x="336" y="1879"/>
                </a:lnTo>
                <a:lnTo>
                  <a:pt x="473" y="1739"/>
                </a:lnTo>
                <a:lnTo>
                  <a:pt x="654" y="1641"/>
                </a:lnTo>
                <a:lnTo>
                  <a:pt x="822" y="1587"/>
                </a:lnTo>
                <a:lnTo>
                  <a:pt x="900" y="1555"/>
                </a:lnTo>
                <a:lnTo>
                  <a:pt x="907"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3849840" y="3200400"/>
            <a:ext cx="543240" cy="1067040"/>
          </a:xfrm>
          <a:custGeom>
            <a:avLst/>
            <a:gdLst/>
            <a:ahLst/>
            <a:rect l="0" t="0" r="r" b="b"/>
            <a:pathLst>
              <a:path w="1509" h="2964">
                <a:moveTo>
                  <a:pt x="757" y="402"/>
                </a:moveTo>
                <a:lnTo>
                  <a:pt x="798" y="324"/>
                </a:lnTo>
                <a:lnTo>
                  <a:pt x="844" y="252"/>
                </a:lnTo>
                <a:lnTo>
                  <a:pt x="890" y="201"/>
                </a:lnTo>
                <a:lnTo>
                  <a:pt x="936" y="162"/>
                </a:lnTo>
                <a:lnTo>
                  <a:pt x="968" y="149"/>
                </a:lnTo>
                <a:lnTo>
                  <a:pt x="1004" y="136"/>
                </a:lnTo>
                <a:lnTo>
                  <a:pt x="1046" y="155"/>
                </a:lnTo>
                <a:lnTo>
                  <a:pt x="1078" y="201"/>
                </a:lnTo>
                <a:lnTo>
                  <a:pt x="1096" y="265"/>
                </a:lnTo>
                <a:lnTo>
                  <a:pt x="1110" y="317"/>
                </a:lnTo>
                <a:lnTo>
                  <a:pt x="1174" y="194"/>
                </a:lnTo>
                <a:lnTo>
                  <a:pt x="1238" y="110"/>
                </a:lnTo>
                <a:lnTo>
                  <a:pt x="1298" y="45"/>
                </a:lnTo>
                <a:lnTo>
                  <a:pt x="1353" y="12"/>
                </a:lnTo>
                <a:lnTo>
                  <a:pt x="1412" y="0"/>
                </a:lnTo>
                <a:lnTo>
                  <a:pt x="1458" y="25"/>
                </a:lnTo>
                <a:lnTo>
                  <a:pt x="1486" y="71"/>
                </a:lnTo>
                <a:lnTo>
                  <a:pt x="1504" y="162"/>
                </a:lnTo>
                <a:lnTo>
                  <a:pt x="1499" y="278"/>
                </a:lnTo>
                <a:lnTo>
                  <a:pt x="1486" y="382"/>
                </a:lnTo>
                <a:lnTo>
                  <a:pt x="1467" y="492"/>
                </a:lnTo>
                <a:lnTo>
                  <a:pt x="1422" y="609"/>
                </a:lnTo>
                <a:lnTo>
                  <a:pt x="1463" y="590"/>
                </a:lnTo>
                <a:lnTo>
                  <a:pt x="1495" y="635"/>
                </a:lnTo>
                <a:lnTo>
                  <a:pt x="1509" y="687"/>
                </a:lnTo>
                <a:lnTo>
                  <a:pt x="1504" y="784"/>
                </a:lnTo>
                <a:lnTo>
                  <a:pt x="1477" y="914"/>
                </a:lnTo>
                <a:lnTo>
                  <a:pt x="1440" y="1031"/>
                </a:lnTo>
                <a:lnTo>
                  <a:pt x="1408" y="1108"/>
                </a:lnTo>
                <a:lnTo>
                  <a:pt x="1426" y="1121"/>
                </a:lnTo>
                <a:lnTo>
                  <a:pt x="1440" y="1154"/>
                </a:lnTo>
                <a:lnTo>
                  <a:pt x="1444" y="1212"/>
                </a:lnTo>
                <a:lnTo>
                  <a:pt x="1440" y="1270"/>
                </a:lnTo>
                <a:lnTo>
                  <a:pt x="1435" y="1316"/>
                </a:lnTo>
                <a:lnTo>
                  <a:pt x="1426" y="1374"/>
                </a:lnTo>
                <a:lnTo>
                  <a:pt x="1412" y="1452"/>
                </a:lnTo>
                <a:lnTo>
                  <a:pt x="1389" y="1537"/>
                </a:lnTo>
                <a:lnTo>
                  <a:pt x="1362" y="1596"/>
                </a:lnTo>
                <a:lnTo>
                  <a:pt x="1334" y="1660"/>
                </a:lnTo>
                <a:lnTo>
                  <a:pt x="1298" y="1738"/>
                </a:lnTo>
                <a:lnTo>
                  <a:pt x="1275" y="1823"/>
                </a:lnTo>
                <a:lnTo>
                  <a:pt x="1247" y="1907"/>
                </a:lnTo>
                <a:lnTo>
                  <a:pt x="1215" y="1985"/>
                </a:lnTo>
                <a:lnTo>
                  <a:pt x="1169" y="2088"/>
                </a:lnTo>
                <a:lnTo>
                  <a:pt x="1146" y="2140"/>
                </a:lnTo>
                <a:lnTo>
                  <a:pt x="1105" y="2199"/>
                </a:lnTo>
                <a:lnTo>
                  <a:pt x="1078" y="2322"/>
                </a:lnTo>
                <a:lnTo>
                  <a:pt x="1059" y="2380"/>
                </a:lnTo>
                <a:lnTo>
                  <a:pt x="1023" y="2484"/>
                </a:lnTo>
                <a:lnTo>
                  <a:pt x="981" y="2568"/>
                </a:lnTo>
                <a:lnTo>
                  <a:pt x="936" y="2666"/>
                </a:lnTo>
                <a:lnTo>
                  <a:pt x="894" y="2730"/>
                </a:lnTo>
                <a:lnTo>
                  <a:pt x="849" y="2795"/>
                </a:lnTo>
                <a:lnTo>
                  <a:pt x="794" y="2834"/>
                </a:lnTo>
                <a:lnTo>
                  <a:pt x="757" y="2834"/>
                </a:lnTo>
                <a:lnTo>
                  <a:pt x="733" y="2795"/>
                </a:lnTo>
                <a:lnTo>
                  <a:pt x="728" y="2737"/>
                </a:lnTo>
                <a:lnTo>
                  <a:pt x="687" y="2802"/>
                </a:lnTo>
                <a:lnTo>
                  <a:pt x="650" y="2847"/>
                </a:lnTo>
                <a:lnTo>
                  <a:pt x="628" y="2880"/>
                </a:lnTo>
                <a:lnTo>
                  <a:pt x="586" y="2905"/>
                </a:lnTo>
                <a:lnTo>
                  <a:pt x="550" y="2925"/>
                </a:lnTo>
                <a:lnTo>
                  <a:pt x="513" y="2925"/>
                </a:lnTo>
                <a:lnTo>
                  <a:pt x="490" y="2899"/>
                </a:lnTo>
                <a:lnTo>
                  <a:pt x="472" y="2847"/>
                </a:lnTo>
                <a:lnTo>
                  <a:pt x="467" y="2763"/>
                </a:lnTo>
                <a:lnTo>
                  <a:pt x="417" y="2854"/>
                </a:lnTo>
                <a:lnTo>
                  <a:pt x="375" y="2905"/>
                </a:lnTo>
                <a:lnTo>
                  <a:pt x="343" y="2938"/>
                </a:lnTo>
                <a:lnTo>
                  <a:pt x="311" y="2964"/>
                </a:lnTo>
                <a:lnTo>
                  <a:pt x="279" y="2957"/>
                </a:lnTo>
                <a:lnTo>
                  <a:pt x="256" y="2944"/>
                </a:lnTo>
                <a:lnTo>
                  <a:pt x="242" y="2905"/>
                </a:lnTo>
                <a:lnTo>
                  <a:pt x="238" y="2834"/>
                </a:lnTo>
                <a:lnTo>
                  <a:pt x="242" y="2769"/>
                </a:lnTo>
                <a:lnTo>
                  <a:pt x="201" y="2828"/>
                </a:lnTo>
                <a:lnTo>
                  <a:pt x="174" y="2854"/>
                </a:lnTo>
                <a:lnTo>
                  <a:pt x="146" y="2873"/>
                </a:lnTo>
                <a:lnTo>
                  <a:pt x="105" y="2886"/>
                </a:lnTo>
                <a:lnTo>
                  <a:pt x="87" y="2847"/>
                </a:lnTo>
                <a:lnTo>
                  <a:pt x="73" y="2802"/>
                </a:lnTo>
                <a:lnTo>
                  <a:pt x="68" y="2737"/>
                </a:lnTo>
                <a:lnTo>
                  <a:pt x="82" y="2640"/>
                </a:lnTo>
                <a:lnTo>
                  <a:pt x="100" y="2549"/>
                </a:lnTo>
                <a:lnTo>
                  <a:pt x="68" y="2568"/>
                </a:lnTo>
                <a:lnTo>
                  <a:pt x="41" y="2562"/>
                </a:lnTo>
                <a:lnTo>
                  <a:pt x="13" y="2536"/>
                </a:lnTo>
                <a:lnTo>
                  <a:pt x="4" y="2478"/>
                </a:lnTo>
                <a:lnTo>
                  <a:pt x="4" y="2413"/>
                </a:lnTo>
                <a:lnTo>
                  <a:pt x="13" y="2348"/>
                </a:lnTo>
                <a:lnTo>
                  <a:pt x="32" y="2251"/>
                </a:lnTo>
                <a:lnTo>
                  <a:pt x="59" y="2173"/>
                </a:lnTo>
                <a:lnTo>
                  <a:pt x="41" y="2179"/>
                </a:lnTo>
                <a:lnTo>
                  <a:pt x="13" y="2160"/>
                </a:lnTo>
                <a:lnTo>
                  <a:pt x="0" y="2121"/>
                </a:lnTo>
                <a:lnTo>
                  <a:pt x="0" y="2043"/>
                </a:lnTo>
                <a:lnTo>
                  <a:pt x="9" y="1952"/>
                </a:lnTo>
                <a:lnTo>
                  <a:pt x="32" y="1849"/>
                </a:lnTo>
                <a:lnTo>
                  <a:pt x="64" y="1732"/>
                </a:lnTo>
                <a:lnTo>
                  <a:pt x="119" y="1583"/>
                </a:lnTo>
                <a:lnTo>
                  <a:pt x="155" y="1492"/>
                </a:lnTo>
                <a:lnTo>
                  <a:pt x="220" y="1355"/>
                </a:lnTo>
                <a:lnTo>
                  <a:pt x="233" y="1257"/>
                </a:lnTo>
                <a:lnTo>
                  <a:pt x="270" y="1147"/>
                </a:lnTo>
                <a:lnTo>
                  <a:pt x="302" y="1031"/>
                </a:lnTo>
                <a:lnTo>
                  <a:pt x="352" y="914"/>
                </a:lnTo>
                <a:lnTo>
                  <a:pt x="407" y="797"/>
                </a:lnTo>
                <a:lnTo>
                  <a:pt x="453" y="706"/>
                </a:lnTo>
                <a:lnTo>
                  <a:pt x="513" y="622"/>
                </a:lnTo>
                <a:lnTo>
                  <a:pt x="563" y="564"/>
                </a:lnTo>
                <a:lnTo>
                  <a:pt x="618" y="512"/>
                </a:lnTo>
                <a:lnTo>
                  <a:pt x="664" y="486"/>
                </a:lnTo>
                <a:lnTo>
                  <a:pt x="705" y="486"/>
                </a:lnTo>
                <a:lnTo>
                  <a:pt x="724" y="479"/>
                </a:lnTo>
                <a:lnTo>
                  <a:pt x="757" y="402"/>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3962520" y="426708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809880" y="182880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7"/>
                </a:lnTo>
                <a:lnTo>
                  <a:pt x="12055" y="1279"/>
                </a:lnTo>
                <a:lnTo>
                  <a:pt x="12272" y="1271"/>
                </a:lnTo>
                <a:lnTo>
                  <a:pt x="12567" y="1303"/>
                </a:lnTo>
                <a:lnTo>
                  <a:pt x="12846" y="1360"/>
                </a:lnTo>
                <a:lnTo>
                  <a:pt x="13079" y="1433"/>
                </a:lnTo>
                <a:lnTo>
                  <a:pt x="13218" y="1489"/>
                </a:lnTo>
                <a:lnTo>
                  <a:pt x="13358" y="1562"/>
                </a:lnTo>
                <a:lnTo>
                  <a:pt x="13513" y="1659"/>
                </a:lnTo>
                <a:lnTo>
                  <a:pt x="13591" y="1781"/>
                </a:lnTo>
                <a:lnTo>
                  <a:pt x="13606" y="1870"/>
                </a:lnTo>
                <a:lnTo>
                  <a:pt x="13560" y="1967"/>
                </a:lnTo>
                <a:lnTo>
                  <a:pt x="13467" y="2088"/>
                </a:lnTo>
                <a:lnTo>
                  <a:pt x="13591" y="2210"/>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6"/>
                </a:lnTo>
                <a:lnTo>
                  <a:pt x="13358" y="3571"/>
                </a:lnTo>
                <a:lnTo>
                  <a:pt x="13125" y="3684"/>
                </a:lnTo>
                <a:lnTo>
                  <a:pt x="12706" y="3782"/>
                </a:lnTo>
                <a:lnTo>
                  <a:pt x="12272" y="3814"/>
                </a:lnTo>
                <a:lnTo>
                  <a:pt x="11884" y="3790"/>
                </a:lnTo>
                <a:lnTo>
                  <a:pt x="11636" y="3733"/>
                </a:lnTo>
                <a:lnTo>
                  <a:pt x="11465" y="3838"/>
                </a:lnTo>
                <a:lnTo>
                  <a:pt x="11264" y="3919"/>
                </a:lnTo>
                <a:lnTo>
                  <a:pt x="11109" y="3976"/>
                </a:lnTo>
                <a:lnTo>
                  <a:pt x="10783" y="4049"/>
                </a:lnTo>
                <a:lnTo>
                  <a:pt x="10519" y="4097"/>
                </a:lnTo>
                <a:lnTo>
                  <a:pt x="10116" y="4138"/>
                </a:lnTo>
                <a:lnTo>
                  <a:pt x="9712" y="4130"/>
                </a:lnTo>
                <a:lnTo>
                  <a:pt x="9324" y="4081"/>
                </a:lnTo>
                <a:lnTo>
                  <a:pt x="8983" y="3992"/>
                </a:lnTo>
                <a:lnTo>
                  <a:pt x="8766" y="4138"/>
                </a:lnTo>
                <a:lnTo>
                  <a:pt x="8580" y="4227"/>
                </a:lnTo>
                <a:lnTo>
                  <a:pt x="8332" y="4300"/>
                </a:lnTo>
                <a:lnTo>
                  <a:pt x="8052" y="4356"/>
                </a:lnTo>
                <a:lnTo>
                  <a:pt x="7726" y="4381"/>
                </a:lnTo>
                <a:lnTo>
                  <a:pt x="7447" y="4381"/>
                </a:lnTo>
                <a:lnTo>
                  <a:pt x="7152" y="4356"/>
                </a:lnTo>
                <a:lnTo>
                  <a:pt x="6795" y="4275"/>
                </a:lnTo>
                <a:lnTo>
                  <a:pt x="6593" y="4203"/>
                </a:lnTo>
                <a:lnTo>
                  <a:pt x="6407" y="4300"/>
                </a:lnTo>
                <a:lnTo>
                  <a:pt x="6205" y="4356"/>
                </a:lnTo>
                <a:lnTo>
                  <a:pt x="5957" y="4405"/>
                </a:lnTo>
                <a:lnTo>
                  <a:pt x="5600" y="4446"/>
                </a:lnTo>
                <a:lnTo>
                  <a:pt x="5243" y="4429"/>
                </a:lnTo>
                <a:lnTo>
                  <a:pt x="4871" y="4389"/>
                </a:lnTo>
                <a:lnTo>
                  <a:pt x="4576" y="4316"/>
                </a:lnTo>
                <a:lnTo>
                  <a:pt x="4297" y="4195"/>
                </a:lnTo>
                <a:lnTo>
                  <a:pt x="4142" y="4081"/>
                </a:lnTo>
                <a:lnTo>
                  <a:pt x="3862" y="4122"/>
                </a:lnTo>
                <a:lnTo>
                  <a:pt x="3537" y="4146"/>
                </a:lnTo>
                <a:lnTo>
                  <a:pt x="3149" y="4138"/>
                </a:lnTo>
                <a:lnTo>
                  <a:pt x="2823" y="4081"/>
                </a:lnTo>
                <a:lnTo>
                  <a:pt x="2544" y="4008"/>
                </a:lnTo>
                <a:lnTo>
                  <a:pt x="2342" y="3919"/>
                </a:lnTo>
                <a:lnTo>
                  <a:pt x="2156" y="3798"/>
                </a:lnTo>
                <a:lnTo>
                  <a:pt x="2109" y="3684"/>
                </a:lnTo>
                <a:lnTo>
                  <a:pt x="1939" y="3709"/>
                </a:lnTo>
                <a:lnTo>
                  <a:pt x="1613" y="3717"/>
                </a:lnTo>
                <a:lnTo>
                  <a:pt x="1256" y="3684"/>
                </a:lnTo>
                <a:lnTo>
                  <a:pt x="915" y="3595"/>
                </a:lnTo>
                <a:lnTo>
                  <a:pt x="667" y="3482"/>
                </a:lnTo>
                <a:lnTo>
                  <a:pt x="465" y="3336"/>
                </a:lnTo>
                <a:lnTo>
                  <a:pt x="356" y="3182"/>
                </a:lnTo>
                <a:lnTo>
                  <a:pt x="310" y="2964"/>
                </a:lnTo>
                <a:lnTo>
                  <a:pt x="325" y="2826"/>
                </a:lnTo>
                <a:lnTo>
                  <a:pt x="434" y="2616"/>
                </a:lnTo>
                <a:lnTo>
                  <a:pt x="186" y="2494"/>
                </a:lnTo>
                <a:lnTo>
                  <a:pt x="62" y="2332"/>
                </a:lnTo>
                <a:lnTo>
                  <a:pt x="0" y="2169"/>
                </a:lnTo>
                <a:lnTo>
                  <a:pt x="0" y="1999"/>
                </a:lnTo>
                <a:lnTo>
                  <a:pt x="77" y="1813"/>
                </a:lnTo>
                <a:lnTo>
                  <a:pt x="232" y="1667"/>
                </a:lnTo>
                <a:lnTo>
                  <a:pt x="511" y="1522"/>
                </a:lnTo>
                <a:lnTo>
                  <a:pt x="806" y="1408"/>
                </a:lnTo>
                <a:lnTo>
                  <a:pt x="1132" y="1303"/>
                </a:lnTo>
                <a:lnTo>
                  <a:pt x="1566" y="1230"/>
                </a:lnTo>
                <a:lnTo>
                  <a:pt x="1970" y="1190"/>
                </a:lnTo>
                <a:lnTo>
                  <a:pt x="2156" y="1165"/>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078680" y="205740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7"/>
                </a:lnTo>
                <a:lnTo>
                  <a:pt x="2445" y="913"/>
                </a:lnTo>
                <a:lnTo>
                  <a:pt x="2489" y="907"/>
                </a:lnTo>
                <a:lnTo>
                  <a:pt x="2549" y="931"/>
                </a:lnTo>
                <a:lnTo>
                  <a:pt x="2605" y="971"/>
                </a:lnTo>
                <a:lnTo>
                  <a:pt x="2653" y="1023"/>
                </a:lnTo>
                <a:lnTo>
                  <a:pt x="2681" y="1064"/>
                </a:lnTo>
                <a:lnTo>
                  <a:pt x="2709" y="1116"/>
                </a:lnTo>
                <a:lnTo>
                  <a:pt x="2741" y="1185"/>
                </a:lnTo>
                <a:lnTo>
                  <a:pt x="2756" y="1272"/>
                </a:lnTo>
                <a:lnTo>
                  <a:pt x="2759" y="1335"/>
                </a:lnTo>
                <a:lnTo>
                  <a:pt x="2750" y="1405"/>
                </a:lnTo>
                <a:lnTo>
                  <a:pt x="2731" y="1492"/>
                </a:lnTo>
                <a:lnTo>
                  <a:pt x="2756" y="1578"/>
                </a:lnTo>
                <a:lnTo>
                  <a:pt x="2766" y="1660"/>
                </a:lnTo>
                <a:lnTo>
                  <a:pt x="2772" y="1747"/>
                </a:lnTo>
                <a:lnTo>
                  <a:pt x="2759" y="1857"/>
                </a:lnTo>
                <a:lnTo>
                  <a:pt x="2750" y="1915"/>
                </a:lnTo>
                <a:lnTo>
                  <a:pt x="2715" y="1990"/>
                </a:lnTo>
                <a:lnTo>
                  <a:pt x="2759" y="2106"/>
                </a:lnTo>
                <a:lnTo>
                  <a:pt x="2772" y="2169"/>
                </a:lnTo>
                <a:lnTo>
                  <a:pt x="2775" y="2273"/>
                </a:lnTo>
                <a:lnTo>
                  <a:pt x="2766" y="2366"/>
                </a:lnTo>
                <a:lnTo>
                  <a:pt x="2744" y="2476"/>
                </a:lnTo>
                <a:lnTo>
                  <a:pt x="2709" y="2551"/>
                </a:lnTo>
                <a:lnTo>
                  <a:pt x="2662" y="2632"/>
                </a:lnTo>
                <a:lnTo>
                  <a:pt x="2577" y="2701"/>
                </a:lnTo>
                <a:lnTo>
                  <a:pt x="2489" y="2724"/>
                </a:lnTo>
                <a:lnTo>
                  <a:pt x="2410" y="2707"/>
                </a:lnTo>
                <a:lnTo>
                  <a:pt x="2360" y="2667"/>
                </a:lnTo>
                <a:lnTo>
                  <a:pt x="2326" y="2742"/>
                </a:lnTo>
                <a:lnTo>
                  <a:pt x="2285" y="2800"/>
                </a:lnTo>
                <a:lnTo>
                  <a:pt x="2253" y="2840"/>
                </a:lnTo>
                <a:lnTo>
                  <a:pt x="2187" y="2892"/>
                </a:lnTo>
                <a:lnTo>
                  <a:pt x="2134" y="2927"/>
                </a:lnTo>
                <a:lnTo>
                  <a:pt x="2051" y="2956"/>
                </a:lnTo>
                <a:lnTo>
                  <a:pt x="1969" y="2950"/>
                </a:lnTo>
                <a:lnTo>
                  <a:pt x="1891" y="2915"/>
                </a:lnTo>
                <a:lnTo>
                  <a:pt x="1821" y="2852"/>
                </a:lnTo>
                <a:lnTo>
                  <a:pt x="1777" y="2956"/>
                </a:lnTo>
                <a:lnTo>
                  <a:pt x="1740" y="3019"/>
                </a:lnTo>
                <a:lnTo>
                  <a:pt x="1689" y="3071"/>
                </a:lnTo>
                <a:lnTo>
                  <a:pt x="1633" y="3112"/>
                </a:lnTo>
                <a:lnTo>
                  <a:pt x="1567" y="3129"/>
                </a:lnTo>
                <a:lnTo>
                  <a:pt x="1510" y="3129"/>
                </a:lnTo>
                <a:lnTo>
                  <a:pt x="1450" y="3112"/>
                </a:lnTo>
                <a:lnTo>
                  <a:pt x="1378" y="3054"/>
                </a:lnTo>
                <a:lnTo>
                  <a:pt x="1337" y="3002"/>
                </a:lnTo>
                <a:lnTo>
                  <a:pt x="1299" y="3071"/>
                </a:lnTo>
                <a:lnTo>
                  <a:pt x="1258" y="3112"/>
                </a:lnTo>
                <a:lnTo>
                  <a:pt x="1208" y="3147"/>
                </a:lnTo>
                <a:lnTo>
                  <a:pt x="1136" y="3176"/>
                </a:lnTo>
                <a:lnTo>
                  <a:pt x="1063" y="3164"/>
                </a:lnTo>
                <a:lnTo>
                  <a:pt x="988" y="3135"/>
                </a:lnTo>
                <a:lnTo>
                  <a:pt x="928" y="3083"/>
                </a:lnTo>
                <a:lnTo>
                  <a:pt x="872" y="2996"/>
                </a:lnTo>
                <a:lnTo>
                  <a:pt x="840" y="2915"/>
                </a:lnTo>
                <a:lnTo>
                  <a:pt x="784" y="2944"/>
                </a:lnTo>
                <a:lnTo>
                  <a:pt x="718" y="2962"/>
                </a:lnTo>
                <a:lnTo>
                  <a:pt x="638" y="2956"/>
                </a:lnTo>
                <a:lnTo>
                  <a:pt x="572" y="2915"/>
                </a:lnTo>
                <a:lnTo>
                  <a:pt x="515" y="2863"/>
                </a:lnTo>
                <a:lnTo>
                  <a:pt x="474" y="2800"/>
                </a:lnTo>
                <a:lnTo>
                  <a:pt x="437" y="2713"/>
                </a:lnTo>
                <a:lnTo>
                  <a:pt x="427" y="2632"/>
                </a:lnTo>
                <a:lnTo>
                  <a:pt x="393" y="2649"/>
                </a:lnTo>
                <a:lnTo>
                  <a:pt x="327" y="2655"/>
                </a:lnTo>
                <a:lnTo>
                  <a:pt x="254" y="2632"/>
                </a:lnTo>
                <a:lnTo>
                  <a:pt x="185" y="2568"/>
                </a:lnTo>
                <a:lnTo>
                  <a:pt x="135" y="2487"/>
                </a:lnTo>
                <a:lnTo>
                  <a:pt x="94" y="2383"/>
                </a:lnTo>
                <a:lnTo>
                  <a:pt x="72" y="2273"/>
                </a:lnTo>
                <a:lnTo>
                  <a:pt x="62" y="2117"/>
                </a:lnTo>
                <a:lnTo>
                  <a:pt x="66" y="2019"/>
                </a:lnTo>
                <a:lnTo>
                  <a:pt x="88" y="1868"/>
                </a:lnTo>
                <a:lnTo>
                  <a:pt x="37" y="1782"/>
                </a:lnTo>
                <a:lnTo>
                  <a:pt x="12" y="1666"/>
                </a:lnTo>
                <a:lnTo>
                  <a:pt x="0" y="1549"/>
                </a:lnTo>
                <a:lnTo>
                  <a:pt x="0" y="1428"/>
                </a:lnTo>
                <a:lnTo>
                  <a:pt x="15" y="1295"/>
                </a:lnTo>
                <a:lnTo>
                  <a:pt x="47" y="1191"/>
                </a:lnTo>
                <a:lnTo>
                  <a:pt x="103" y="1087"/>
                </a:lnTo>
                <a:lnTo>
                  <a:pt x="163" y="1006"/>
                </a:lnTo>
                <a:lnTo>
                  <a:pt x="229" y="931"/>
                </a:lnTo>
                <a:lnTo>
                  <a:pt x="317" y="879"/>
                </a:lnTo>
                <a:lnTo>
                  <a:pt x="399" y="850"/>
                </a:lnTo>
                <a:lnTo>
                  <a:pt x="437" y="832"/>
                </a:lnTo>
                <a:lnTo>
                  <a:pt x="440" y="751"/>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630760" y="220968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6"/>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4335480" y="20574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7"/>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876920" y="2743200"/>
            <a:ext cx="31240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8077320" y="2666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V="1">
            <a:off x="4343400" y="251460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010280" y="2514600"/>
            <a:ext cx="38124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95" name="" descr=""/>
          <p:cNvPicPr/>
          <p:nvPr/>
        </p:nvPicPr>
        <p:blipFill>
          <a:blip r:embed="rId8"/>
          <a:stretch/>
        </p:blipFill>
        <p:spPr>
          <a:xfrm>
            <a:off x="7224840" y="2467080"/>
            <a:ext cx="463680" cy="590400"/>
          </a:xfrm>
          <a:prstGeom prst="rect">
            <a:avLst/>
          </a:prstGeom>
          <a:ln w="0">
            <a:noFill/>
          </a:ln>
        </p:spPr>
      </p:pic>
      <p:pic>
        <p:nvPicPr>
          <p:cNvPr id="396" name="" descr=""/>
          <p:cNvPicPr/>
          <p:nvPr/>
        </p:nvPicPr>
        <p:blipFill>
          <a:blip r:embed="rId9"/>
          <a:stretch/>
        </p:blipFill>
        <p:spPr>
          <a:xfrm>
            <a:off x="7799400" y="3048120"/>
            <a:ext cx="447840" cy="258840"/>
          </a:xfrm>
          <a:prstGeom prst="rect">
            <a:avLst/>
          </a:prstGeom>
          <a:ln w="0">
            <a:noFill/>
          </a:ln>
        </p:spPr>
      </p:pic>
      <p:pic>
        <p:nvPicPr>
          <p:cNvPr id="397" name="" descr=""/>
          <p:cNvPicPr/>
          <p:nvPr/>
        </p:nvPicPr>
        <p:blipFill>
          <a:blip r:embed="rId10"/>
          <a:stretch/>
        </p:blipFill>
        <p:spPr>
          <a:xfrm>
            <a:off x="5361120" y="2438280"/>
            <a:ext cx="447840" cy="258840"/>
          </a:xfrm>
          <a:prstGeom prst="rect">
            <a:avLst/>
          </a:prstGeom>
          <a:ln w="0">
            <a:noFill/>
          </a:ln>
        </p:spPr>
      </p:pic>
      <p:pic>
        <p:nvPicPr>
          <p:cNvPr id="398" name="" descr=""/>
          <p:cNvPicPr/>
          <p:nvPr/>
        </p:nvPicPr>
        <p:blipFill>
          <a:blip r:embed="rId11"/>
          <a:stretch/>
        </p:blipFill>
        <p:spPr>
          <a:xfrm>
            <a:off x="6627960" y="2422440"/>
            <a:ext cx="476280" cy="274680"/>
          </a:xfrm>
          <a:prstGeom prst="rect">
            <a:avLst/>
          </a:prstGeom>
          <a:ln w="0">
            <a:noFill/>
          </a:ln>
        </p:spPr>
      </p:pic>
      <p:pic>
        <p:nvPicPr>
          <p:cNvPr id="399" name="" descr=""/>
          <p:cNvPicPr/>
          <p:nvPr/>
        </p:nvPicPr>
        <p:blipFill>
          <a:blip r:embed="rId12"/>
          <a:stretch/>
        </p:blipFill>
        <p:spPr>
          <a:xfrm>
            <a:off x="7886880" y="2546280"/>
            <a:ext cx="461880" cy="239760"/>
          </a:xfrm>
          <a:prstGeom prst="rect">
            <a:avLst/>
          </a:prstGeom>
          <a:ln w="0">
            <a:noFill/>
          </a:ln>
        </p:spPr>
      </p:pic>
      <p:pic>
        <p:nvPicPr>
          <p:cNvPr id="400" name="" descr=""/>
          <p:cNvPicPr/>
          <p:nvPr/>
        </p:nvPicPr>
        <p:blipFill>
          <a:blip r:embed="rId13"/>
          <a:stretch/>
        </p:blipFill>
        <p:spPr>
          <a:xfrm>
            <a:off x="4703760" y="2467080"/>
            <a:ext cx="463680" cy="590400"/>
          </a:xfrm>
          <a:prstGeom prst="rect">
            <a:avLst/>
          </a:prstGeom>
          <a:ln w="0">
            <a:noFill/>
          </a:ln>
        </p:spPr>
      </p:pic>
      <p:pic>
        <p:nvPicPr>
          <p:cNvPr id="401" name="" descr=""/>
          <p:cNvPicPr/>
          <p:nvPr/>
        </p:nvPicPr>
        <p:blipFill>
          <a:blip r:embed="rId14"/>
          <a:stretch/>
        </p:blipFill>
        <p:spPr>
          <a:xfrm>
            <a:off x="4065480" y="3048120"/>
            <a:ext cx="447840" cy="258840"/>
          </a:xfrm>
          <a:prstGeom prst="rect">
            <a:avLst/>
          </a:prstGeom>
          <a:ln w="0">
            <a:noFill/>
          </a:ln>
        </p:spPr>
      </p:pic>
      <p:pic>
        <p:nvPicPr>
          <p:cNvPr id="402" name="" descr=""/>
          <p:cNvPicPr/>
          <p:nvPr/>
        </p:nvPicPr>
        <p:blipFill>
          <a:blip r:embed="rId15"/>
          <a:stretch/>
        </p:blipFill>
        <p:spPr>
          <a:xfrm>
            <a:off x="6018120" y="2590920"/>
            <a:ext cx="463680" cy="590400"/>
          </a:xfrm>
          <a:prstGeom prst="rect">
            <a:avLst/>
          </a:prstGeom>
          <a:ln w="0">
            <a:noFill/>
          </a:ln>
        </p:spPr>
      </p:pic>
      <p:sp>
        <p:nvSpPr>
          <p:cNvPr id="403" name=""/>
          <p:cNvSpPr/>
          <p:nvPr/>
        </p:nvSpPr>
        <p:spPr>
          <a:xfrm flipV="1">
            <a:off x="4264200" y="2514600"/>
            <a:ext cx="122220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4" name=""/>
          <p:cNvSpPr/>
          <p:nvPr/>
        </p:nvSpPr>
        <p:spPr>
          <a:xfrm>
            <a:off x="4492800" y="281952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5" name=""/>
          <p:cNvSpPr/>
          <p:nvPr/>
        </p:nvSpPr>
        <p:spPr>
          <a:xfrm>
            <a:off x="7010280" y="2514600"/>
            <a:ext cx="1143360" cy="609840"/>
          </a:xfrm>
          <a:custGeom>
            <a:avLst/>
            <a:gdLst/>
            <a:ahLst/>
            <a:rect l="0" t="0" r="r" b="b"/>
            <a:pathLst>
              <a:path fill="none" w="3176" h="1694">
                <a:moveTo>
                  <a:pt x="0" y="0"/>
                </a:moveTo>
                <a:lnTo>
                  <a:pt x="3176" y="0"/>
                </a:lnTo>
                <a:lnTo>
                  <a:pt x="3176" y="1694"/>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mbined Short-Cut Picture </a:t>
            </a:r>
            <a:endParaRPr b="0" lang="en-US" sz="4000" spc="-1" strike="noStrike">
              <a:solidFill>
                <a:srgbClr val="000000"/>
              </a:solidFill>
              <a:latin typeface="Arial"/>
            </a:endParaRPr>
          </a:p>
        </p:txBody>
      </p:sp>
      <p:pic>
        <p:nvPicPr>
          <p:cNvPr id="407" name="" descr=""/>
          <p:cNvPicPr/>
          <p:nvPr/>
        </p:nvPicPr>
        <p:blipFill>
          <a:blip r:embed="rId16"/>
          <a:stretch/>
        </p:blipFill>
        <p:spPr>
          <a:xfrm>
            <a:off x="214200" y="1311120"/>
            <a:ext cx="746280" cy="1111320"/>
          </a:xfrm>
          <a:prstGeom prst="rect">
            <a:avLst/>
          </a:prstGeom>
          <a:ln w="0">
            <a:noFill/>
          </a:ln>
        </p:spPr>
      </p:pic>
      <p:pic>
        <p:nvPicPr>
          <p:cNvPr id="408" name="" descr=""/>
          <p:cNvPicPr/>
          <p:nvPr/>
        </p:nvPicPr>
        <p:blipFill>
          <a:blip r:embed="rId17"/>
          <a:stretch/>
        </p:blipFill>
        <p:spPr>
          <a:xfrm>
            <a:off x="214200" y="4975200"/>
            <a:ext cx="614520" cy="1251000"/>
          </a:xfrm>
          <a:prstGeom prst="rect">
            <a:avLst/>
          </a:prstGeom>
          <a:ln w="0">
            <a:noFill/>
          </a:ln>
        </p:spPr>
      </p:pic>
      <p:grpSp>
        <p:nvGrpSpPr>
          <p:cNvPr id="409" name=""/>
          <p:cNvGrpSpPr/>
          <p:nvPr/>
        </p:nvGrpSpPr>
        <p:grpSpPr>
          <a:xfrm>
            <a:off x="61920" y="3009960"/>
            <a:ext cx="1387440" cy="838080"/>
            <a:chOff x="61920" y="3009960"/>
            <a:chExt cx="1387440" cy="838080"/>
          </a:xfrm>
        </p:grpSpPr>
        <p:pic>
          <p:nvPicPr>
            <p:cNvPr id="410" name="" descr=""/>
            <p:cNvPicPr/>
            <p:nvPr/>
          </p:nvPicPr>
          <p:blipFill>
            <a:blip r:embed="rId18"/>
            <a:stretch/>
          </p:blipFill>
          <p:spPr>
            <a:xfrm>
              <a:off x="61920" y="3097080"/>
              <a:ext cx="1349280" cy="695160"/>
            </a:xfrm>
            <a:prstGeom prst="rect">
              <a:avLst/>
            </a:prstGeom>
            <a:ln w="0">
              <a:noFill/>
            </a:ln>
          </p:spPr>
        </p:pic>
        <p:sp>
          <p:nvSpPr>
            <p:cNvPr id="411" name=""/>
            <p:cNvSpPr/>
            <p:nvPr/>
          </p:nvSpPr>
          <p:spPr>
            <a:xfrm>
              <a:off x="915840" y="3009960"/>
              <a:ext cx="533520" cy="838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12" name="" descr=""/>
          <p:cNvPicPr/>
          <p:nvPr/>
        </p:nvPicPr>
        <p:blipFill>
          <a:blip r:embed="rId19"/>
          <a:stretch/>
        </p:blipFill>
        <p:spPr>
          <a:xfrm>
            <a:off x="4086360" y="5159520"/>
            <a:ext cx="476280" cy="274680"/>
          </a:xfrm>
          <a:prstGeom prst="rect">
            <a:avLst/>
          </a:prstGeom>
          <a:ln w="0">
            <a:noFill/>
          </a:ln>
        </p:spPr>
      </p:pic>
      <p:pic>
        <p:nvPicPr>
          <p:cNvPr id="413" name="" descr=""/>
          <p:cNvPicPr/>
          <p:nvPr/>
        </p:nvPicPr>
        <p:blipFill>
          <a:blip r:embed="rId20"/>
          <a:stretch/>
        </p:blipFill>
        <p:spPr>
          <a:xfrm>
            <a:off x="4125960" y="3741840"/>
            <a:ext cx="461880" cy="239760"/>
          </a:xfrm>
          <a:prstGeom prst="rect">
            <a:avLst/>
          </a:prstGeom>
          <a:ln w="0">
            <a:noFill/>
          </a:ln>
        </p:spPr>
      </p:pic>
      <p:pic>
        <p:nvPicPr>
          <p:cNvPr id="414" name="" descr=""/>
          <p:cNvPicPr/>
          <p:nvPr/>
        </p:nvPicPr>
        <p:blipFill>
          <a:blip r:embed="rId21"/>
          <a:stretch/>
        </p:blipFill>
        <p:spPr>
          <a:xfrm>
            <a:off x="4125960" y="4579920"/>
            <a:ext cx="461880" cy="239760"/>
          </a:xfrm>
          <a:prstGeom prst="rect">
            <a:avLst/>
          </a:prstGeom>
          <a:ln w="0">
            <a:noFill/>
          </a:ln>
        </p:spPr>
      </p:pic>
      <p:grpSp>
        <p:nvGrpSpPr>
          <p:cNvPr id="415" name=""/>
          <p:cNvGrpSpPr/>
          <p:nvPr/>
        </p:nvGrpSpPr>
        <p:grpSpPr>
          <a:xfrm>
            <a:off x="4294080" y="5572080"/>
            <a:ext cx="425880" cy="451440"/>
            <a:chOff x="4294080" y="5572080"/>
            <a:chExt cx="425880" cy="451440"/>
          </a:xfrm>
        </p:grpSpPr>
        <p:grpSp>
          <p:nvGrpSpPr>
            <p:cNvPr id="416" name=""/>
            <p:cNvGrpSpPr/>
            <p:nvPr/>
          </p:nvGrpSpPr>
          <p:grpSpPr>
            <a:xfrm>
              <a:off x="4294080" y="5572080"/>
              <a:ext cx="276480" cy="298800"/>
              <a:chOff x="4294080" y="5572080"/>
              <a:chExt cx="276480" cy="298800"/>
            </a:xfrm>
          </p:grpSpPr>
          <p:grpSp>
            <p:nvGrpSpPr>
              <p:cNvPr id="417" name=""/>
              <p:cNvGrpSpPr/>
              <p:nvPr/>
            </p:nvGrpSpPr>
            <p:grpSpPr>
              <a:xfrm>
                <a:off x="4294080" y="5765760"/>
                <a:ext cx="276480" cy="105120"/>
                <a:chOff x="4294080" y="5765760"/>
                <a:chExt cx="276480" cy="105120"/>
              </a:xfrm>
            </p:grpSpPr>
            <p:sp>
              <p:nvSpPr>
                <p:cNvPr id="418" name=""/>
                <p:cNvSpPr/>
                <p:nvPr/>
              </p:nvSpPr>
              <p:spPr>
                <a:xfrm>
                  <a:off x="4294080" y="5767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19" name=""/>
                <p:cNvSpPr/>
                <p:nvPr/>
              </p:nvSpPr>
              <p:spPr>
                <a:xfrm>
                  <a:off x="4294080" y="5816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20" name=""/>
                <p:cNvSpPr/>
                <p:nvPr/>
              </p:nvSpPr>
              <p:spPr>
                <a:xfrm>
                  <a:off x="4506840" y="5772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21" name=""/>
                <p:cNvSpPr/>
                <p:nvPr/>
              </p:nvSpPr>
              <p:spPr>
                <a:xfrm>
                  <a:off x="4341960" y="5796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2" name=""/>
                <p:cNvSpPr/>
                <p:nvPr/>
              </p:nvSpPr>
              <p:spPr>
                <a:xfrm>
                  <a:off x="4498920" y="5772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23" name=""/>
                <p:cNvSpPr/>
                <p:nvPr/>
              </p:nvSpPr>
              <p:spPr>
                <a:xfrm>
                  <a:off x="4341960" y="5765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24" name=""/>
              <p:cNvGrpSpPr/>
              <p:nvPr/>
            </p:nvGrpSpPr>
            <p:grpSpPr>
              <a:xfrm>
                <a:off x="4297320" y="5572080"/>
                <a:ext cx="257760" cy="209880"/>
                <a:chOff x="4297320" y="5572080"/>
                <a:chExt cx="257760" cy="209880"/>
              </a:xfrm>
            </p:grpSpPr>
            <p:sp>
              <p:nvSpPr>
                <p:cNvPr id="425" name=""/>
                <p:cNvSpPr/>
                <p:nvPr/>
              </p:nvSpPr>
              <p:spPr>
                <a:xfrm>
                  <a:off x="4297320" y="5586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4297320" y="5572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7" name=""/>
                <p:cNvSpPr/>
                <p:nvPr/>
              </p:nvSpPr>
              <p:spPr>
                <a:xfrm>
                  <a:off x="4498920" y="5575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4322880" y="5613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4529160" y="5584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30" name=""/>
            <p:cNvGrpSpPr/>
            <p:nvPr/>
          </p:nvGrpSpPr>
          <p:grpSpPr>
            <a:xfrm>
              <a:off x="4370400" y="5648400"/>
              <a:ext cx="276480" cy="298800"/>
              <a:chOff x="4370400" y="5648400"/>
              <a:chExt cx="276480" cy="298800"/>
            </a:xfrm>
          </p:grpSpPr>
          <p:grpSp>
            <p:nvGrpSpPr>
              <p:cNvPr id="431" name=""/>
              <p:cNvGrpSpPr/>
              <p:nvPr/>
            </p:nvGrpSpPr>
            <p:grpSpPr>
              <a:xfrm>
                <a:off x="4370400" y="5842080"/>
                <a:ext cx="276480" cy="105120"/>
                <a:chOff x="4370400" y="5842080"/>
                <a:chExt cx="276480" cy="105120"/>
              </a:xfrm>
            </p:grpSpPr>
            <p:sp>
              <p:nvSpPr>
                <p:cNvPr id="432" name=""/>
                <p:cNvSpPr/>
                <p:nvPr/>
              </p:nvSpPr>
              <p:spPr>
                <a:xfrm>
                  <a:off x="4370400" y="5843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33" name=""/>
                <p:cNvSpPr/>
                <p:nvPr/>
              </p:nvSpPr>
              <p:spPr>
                <a:xfrm>
                  <a:off x="4370400" y="5892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34" name=""/>
                <p:cNvSpPr/>
                <p:nvPr/>
              </p:nvSpPr>
              <p:spPr>
                <a:xfrm>
                  <a:off x="4583160" y="5848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35" name=""/>
                <p:cNvSpPr/>
                <p:nvPr/>
              </p:nvSpPr>
              <p:spPr>
                <a:xfrm>
                  <a:off x="4417920" y="58723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6" name=""/>
                <p:cNvSpPr/>
                <p:nvPr/>
              </p:nvSpPr>
              <p:spPr>
                <a:xfrm>
                  <a:off x="4575240" y="5848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37" name=""/>
                <p:cNvSpPr/>
                <p:nvPr/>
              </p:nvSpPr>
              <p:spPr>
                <a:xfrm>
                  <a:off x="4417920" y="5842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38" name=""/>
              <p:cNvGrpSpPr/>
              <p:nvPr/>
            </p:nvGrpSpPr>
            <p:grpSpPr>
              <a:xfrm>
                <a:off x="4373640" y="5648400"/>
                <a:ext cx="257760" cy="209880"/>
                <a:chOff x="4373640" y="5648400"/>
                <a:chExt cx="257760" cy="209880"/>
              </a:xfrm>
            </p:grpSpPr>
            <p:sp>
              <p:nvSpPr>
                <p:cNvPr id="439" name=""/>
                <p:cNvSpPr/>
                <p:nvPr/>
              </p:nvSpPr>
              <p:spPr>
                <a:xfrm>
                  <a:off x="4373640" y="5662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373640" y="5648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1" name=""/>
                <p:cNvSpPr/>
                <p:nvPr/>
              </p:nvSpPr>
              <p:spPr>
                <a:xfrm>
                  <a:off x="4575240" y="5651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4398840" y="5689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605480" y="5661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44" name=""/>
            <p:cNvGrpSpPr/>
            <p:nvPr/>
          </p:nvGrpSpPr>
          <p:grpSpPr>
            <a:xfrm>
              <a:off x="4443480" y="5724360"/>
              <a:ext cx="276480" cy="299160"/>
              <a:chOff x="4443480" y="5724360"/>
              <a:chExt cx="276480" cy="299160"/>
            </a:xfrm>
          </p:grpSpPr>
          <p:grpSp>
            <p:nvGrpSpPr>
              <p:cNvPr id="445" name=""/>
              <p:cNvGrpSpPr/>
              <p:nvPr/>
            </p:nvGrpSpPr>
            <p:grpSpPr>
              <a:xfrm>
                <a:off x="4443480" y="5918040"/>
                <a:ext cx="276480" cy="105480"/>
                <a:chOff x="4443480" y="5918040"/>
                <a:chExt cx="276480" cy="105480"/>
              </a:xfrm>
            </p:grpSpPr>
            <p:sp>
              <p:nvSpPr>
                <p:cNvPr id="446" name=""/>
                <p:cNvSpPr/>
                <p:nvPr/>
              </p:nvSpPr>
              <p:spPr>
                <a:xfrm>
                  <a:off x="4443480" y="59198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47" name=""/>
                <p:cNvSpPr/>
                <p:nvPr/>
              </p:nvSpPr>
              <p:spPr>
                <a:xfrm>
                  <a:off x="4443480" y="59691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48" name=""/>
                <p:cNvSpPr/>
                <p:nvPr/>
              </p:nvSpPr>
              <p:spPr>
                <a:xfrm>
                  <a:off x="4656240" y="59245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49" name=""/>
                <p:cNvSpPr/>
                <p:nvPr/>
              </p:nvSpPr>
              <p:spPr>
                <a:xfrm>
                  <a:off x="4491000" y="59482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0" name=""/>
                <p:cNvSpPr/>
                <p:nvPr/>
              </p:nvSpPr>
              <p:spPr>
                <a:xfrm>
                  <a:off x="4648320" y="59245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51" name=""/>
                <p:cNvSpPr/>
                <p:nvPr/>
              </p:nvSpPr>
              <p:spPr>
                <a:xfrm>
                  <a:off x="4491000" y="59180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52" name=""/>
              <p:cNvGrpSpPr/>
              <p:nvPr/>
            </p:nvGrpSpPr>
            <p:grpSpPr>
              <a:xfrm>
                <a:off x="4446720" y="5724360"/>
                <a:ext cx="257400" cy="209880"/>
                <a:chOff x="4446720" y="5724360"/>
                <a:chExt cx="257400" cy="209880"/>
              </a:xfrm>
            </p:grpSpPr>
            <p:sp>
              <p:nvSpPr>
                <p:cNvPr id="453" name=""/>
                <p:cNvSpPr/>
                <p:nvPr/>
              </p:nvSpPr>
              <p:spPr>
                <a:xfrm>
                  <a:off x="4446720" y="57387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446720" y="57243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5" name=""/>
                <p:cNvSpPr/>
                <p:nvPr/>
              </p:nvSpPr>
              <p:spPr>
                <a:xfrm>
                  <a:off x="4648320" y="57276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71920" y="57657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678200" y="57373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458" name=""/>
          <p:cNvSpPr txBox="1"/>
          <p:nvPr/>
        </p:nvSpPr>
        <p:spPr>
          <a:xfrm>
            <a:off x="5454720" y="3641760"/>
            <a:ext cx="1386000" cy="11872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rive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Regions</a:t>
            </a:r>
            <a:endParaRPr b="0" lang="en-US" sz="2400" spc="-1" strike="noStrike">
              <a:solidFill>
                <a:srgbClr val="000000"/>
              </a:solidFill>
              <a:latin typeface="Arial"/>
            </a:endParaRPr>
          </a:p>
        </p:txBody>
      </p:sp>
      <p:sp>
        <p:nvSpPr>
          <p:cNvPr id="459" name=""/>
          <p:cNvSpPr/>
          <p:nvPr/>
        </p:nvSpPr>
        <p:spPr>
          <a:xfrm>
            <a:off x="3413160" y="303228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60" name="" descr=""/>
          <p:cNvPicPr/>
          <p:nvPr/>
        </p:nvPicPr>
        <p:blipFill>
          <a:blip r:embed="rId22"/>
          <a:stretch/>
        </p:blipFill>
        <p:spPr>
          <a:xfrm>
            <a:off x="3781440" y="4098960"/>
            <a:ext cx="476280" cy="274680"/>
          </a:xfrm>
          <a:prstGeom prst="rect">
            <a:avLst/>
          </a:prstGeom>
          <a:ln w="0">
            <a:noFill/>
          </a:ln>
        </p:spPr>
      </p:pic>
      <p:sp>
        <p:nvSpPr>
          <p:cNvPr id="461" name=""/>
          <p:cNvSpPr/>
          <p:nvPr/>
        </p:nvSpPr>
        <p:spPr>
          <a:xfrm flipV="1">
            <a:off x="4187880" y="4343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2" name=""/>
          <p:cNvSpPr/>
          <p:nvPr/>
        </p:nvSpPr>
        <p:spPr>
          <a:xfrm flipV="1">
            <a:off x="4191120" y="327672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 name=""/>
          <p:cNvSpPr/>
          <p:nvPr/>
        </p:nvSpPr>
        <p:spPr>
          <a:xfrm>
            <a:off x="4317840" y="3276720"/>
            <a:ext cx="25920" cy="1981440"/>
          </a:xfrm>
          <a:custGeom>
            <a:avLst/>
            <a:gdLst/>
            <a:ahLst/>
            <a:rect l="0" t="0" r="r" b="b"/>
            <a:pathLst>
              <a:path fill="none" w="72" h="5504">
                <a:moveTo>
                  <a:pt x="0" y="5504"/>
                </a:moveTo>
                <a:lnTo>
                  <a:pt x="72" y="3809"/>
                </a:lnTo>
                <a:lnTo>
                  <a:pt x="72" y="1691"/>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464" name="" descr=""/>
          <p:cNvPicPr/>
          <p:nvPr/>
        </p:nvPicPr>
        <p:blipFill>
          <a:blip r:embed="rId23"/>
          <a:stretch/>
        </p:blipFill>
        <p:spPr>
          <a:xfrm>
            <a:off x="7707240" y="3822840"/>
            <a:ext cx="461880" cy="239760"/>
          </a:xfrm>
          <a:prstGeom prst="rect">
            <a:avLst/>
          </a:prstGeom>
          <a:ln w="0">
            <a:noFill/>
          </a:ln>
        </p:spPr>
      </p:pic>
      <p:pic>
        <p:nvPicPr>
          <p:cNvPr id="465" name="" descr=""/>
          <p:cNvPicPr/>
          <p:nvPr/>
        </p:nvPicPr>
        <p:blipFill>
          <a:blip r:embed="rId24"/>
          <a:stretch/>
        </p:blipFill>
        <p:spPr>
          <a:xfrm>
            <a:off x="8048520" y="4179960"/>
            <a:ext cx="476280" cy="274680"/>
          </a:xfrm>
          <a:prstGeom prst="rect">
            <a:avLst/>
          </a:prstGeom>
          <a:ln w="0">
            <a:noFill/>
          </a:ln>
        </p:spPr>
      </p:pic>
      <p:sp>
        <p:nvSpPr>
          <p:cNvPr id="466" name=""/>
          <p:cNvSpPr/>
          <p:nvPr/>
        </p:nvSpPr>
        <p:spPr>
          <a:xfrm flipV="1">
            <a:off x="8153280" y="3281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67" name="" descr=""/>
          <p:cNvPicPr/>
          <p:nvPr/>
        </p:nvPicPr>
        <p:blipFill>
          <a:blip r:embed="rId25"/>
          <a:stretch/>
        </p:blipFill>
        <p:spPr>
          <a:xfrm>
            <a:off x="7745400" y="5164200"/>
            <a:ext cx="476280" cy="274680"/>
          </a:xfrm>
          <a:prstGeom prst="rect">
            <a:avLst/>
          </a:prstGeom>
          <a:ln w="0">
            <a:noFill/>
          </a:ln>
        </p:spPr>
      </p:pic>
      <p:pic>
        <p:nvPicPr>
          <p:cNvPr id="468" name="" descr=""/>
          <p:cNvPicPr/>
          <p:nvPr/>
        </p:nvPicPr>
        <p:blipFill>
          <a:blip r:embed="rId26"/>
          <a:stretch/>
        </p:blipFill>
        <p:spPr>
          <a:xfrm>
            <a:off x="7709040" y="4584600"/>
            <a:ext cx="461880" cy="239760"/>
          </a:xfrm>
          <a:prstGeom prst="rect">
            <a:avLst/>
          </a:prstGeom>
          <a:ln w="0">
            <a:noFill/>
          </a:ln>
        </p:spPr>
      </p:pic>
      <p:grpSp>
        <p:nvGrpSpPr>
          <p:cNvPr id="469" name=""/>
          <p:cNvGrpSpPr/>
          <p:nvPr/>
        </p:nvGrpSpPr>
        <p:grpSpPr>
          <a:xfrm>
            <a:off x="7877160" y="5576760"/>
            <a:ext cx="425520" cy="451440"/>
            <a:chOff x="7877160" y="5576760"/>
            <a:chExt cx="425520" cy="451440"/>
          </a:xfrm>
        </p:grpSpPr>
        <p:grpSp>
          <p:nvGrpSpPr>
            <p:cNvPr id="470" name=""/>
            <p:cNvGrpSpPr/>
            <p:nvPr/>
          </p:nvGrpSpPr>
          <p:grpSpPr>
            <a:xfrm>
              <a:off x="7877160" y="5576760"/>
              <a:ext cx="276480" cy="298800"/>
              <a:chOff x="7877160" y="5576760"/>
              <a:chExt cx="276480" cy="298800"/>
            </a:xfrm>
          </p:grpSpPr>
          <p:grpSp>
            <p:nvGrpSpPr>
              <p:cNvPr id="471" name=""/>
              <p:cNvGrpSpPr/>
              <p:nvPr/>
            </p:nvGrpSpPr>
            <p:grpSpPr>
              <a:xfrm>
                <a:off x="7877160" y="5770440"/>
                <a:ext cx="276480" cy="105120"/>
                <a:chOff x="7877160" y="5770440"/>
                <a:chExt cx="276480" cy="105120"/>
              </a:xfrm>
            </p:grpSpPr>
            <p:sp>
              <p:nvSpPr>
                <p:cNvPr id="472" name=""/>
                <p:cNvSpPr/>
                <p:nvPr/>
              </p:nvSpPr>
              <p:spPr>
                <a:xfrm>
                  <a:off x="7877160" y="5772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73" name=""/>
                <p:cNvSpPr/>
                <p:nvPr/>
              </p:nvSpPr>
              <p:spPr>
                <a:xfrm>
                  <a:off x="7877160" y="58212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74" name=""/>
                <p:cNvSpPr/>
                <p:nvPr/>
              </p:nvSpPr>
              <p:spPr>
                <a:xfrm>
                  <a:off x="8089920" y="5776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75" name=""/>
                <p:cNvSpPr/>
                <p:nvPr/>
              </p:nvSpPr>
              <p:spPr>
                <a:xfrm>
                  <a:off x="7924680" y="5800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6" name=""/>
                <p:cNvSpPr/>
                <p:nvPr/>
              </p:nvSpPr>
              <p:spPr>
                <a:xfrm>
                  <a:off x="8082000" y="5776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77" name=""/>
                <p:cNvSpPr/>
                <p:nvPr/>
              </p:nvSpPr>
              <p:spPr>
                <a:xfrm>
                  <a:off x="7924680" y="5770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78" name=""/>
              <p:cNvGrpSpPr/>
              <p:nvPr/>
            </p:nvGrpSpPr>
            <p:grpSpPr>
              <a:xfrm>
                <a:off x="7880400" y="5576760"/>
                <a:ext cx="257760" cy="209880"/>
                <a:chOff x="7880400" y="5576760"/>
                <a:chExt cx="257760" cy="209880"/>
              </a:xfrm>
            </p:grpSpPr>
            <p:sp>
              <p:nvSpPr>
                <p:cNvPr id="479" name=""/>
                <p:cNvSpPr/>
                <p:nvPr/>
              </p:nvSpPr>
              <p:spPr>
                <a:xfrm>
                  <a:off x="7880400" y="5591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880400" y="5576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1" name=""/>
                <p:cNvSpPr/>
                <p:nvPr/>
              </p:nvSpPr>
              <p:spPr>
                <a:xfrm>
                  <a:off x="8082000" y="5580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7905600" y="5618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8112240" y="5589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84" name=""/>
            <p:cNvGrpSpPr/>
            <p:nvPr/>
          </p:nvGrpSpPr>
          <p:grpSpPr>
            <a:xfrm>
              <a:off x="7953480" y="5653080"/>
              <a:ext cx="276480" cy="298800"/>
              <a:chOff x="7953480" y="5653080"/>
              <a:chExt cx="276480" cy="298800"/>
            </a:xfrm>
          </p:grpSpPr>
          <p:grpSp>
            <p:nvGrpSpPr>
              <p:cNvPr id="485" name=""/>
              <p:cNvGrpSpPr/>
              <p:nvPr/>
            </p:nvGrpSpPr>
            <p:grpSpPr>
              <a:xfrm>
                <a:off x="7953480" y="5846760"/>
                <a:ext cx="276480" cy="105120"/>
                <a:chOff x="7953480" y="5846760"/>
                <a:chExt cx="276480" cy="105120"/>
              </a:xfrm>
            </p:grpSpPr>
            <p:sp>
              <p:nvSpPr>
                <p:cNvPr id="486" name=""/>
                <p:cNvSpPr/>
                <p:nvPr/>
              </p:nvSpPr>
              <p:spPr>
                <a:xfrm>
                  <a:off x="7953480" y="58482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87" name=""/>
                <p:cNvSpPr/>
                <p:nvPr/>
              </p:nvSpPr>
              <p:spPr>
                <a:xfrm>
                  <a:off x="7953480" y="5897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88" name=""/>
                <p:cNvSpPr/>
                <p:nvPr/>
              </p:nvSpPr>
              <p:spPr>
                <a:xfrm>
                  <a:off x="8166240" y="5853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89" name=""/>
                <p:cNvSpPr/>
                <p:nvPr/>
              </p:nvSpPr>
              <p:spPr>
                <a:xfrm>
                  <a:off x="8001000" y="5877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0" name=""/>
                <p:cNvSpPr/>
                <p:nvPr/>
              </p:nvSpPr>
              <p:spPr>
                <a:xfrm>
                  <a:off x="8158320" y="5853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91" name=""/>
                <p:cNvSpPr/>
                <p:nvPr/>
              </p:nvSpPr>
              <p:spPr>
                <a:xfrm>
                  <a:off x="8001000" y="5846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92" name=""/>
              <p:cNvGrpSpPr/>
              <p:nvPr/>
            </p:nvGrpSpPr>
            <p:grpSpPr>
              <a:xfrm>
                <a:off x="7956720" y="5653080"/>
                <a:ext cx="257400" cy="209880"/>
                <a:chOff x="7956720" y="5653080"/>
                <a:chExt cx="257400" cy="209880"/>
              </a:xfrm>
            </p:grpSpPr>
            <p:sp>
              <p:nvSpPr>
                <p:cNvPr id="493" name=""/>
                <p:cNvSpPr/>
                <p:nvPr/>
              </p:nvSpPr>
              <p:spPr>
                <a:xfrm>
                  <a:off x="7956720" y="5667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7956720" y="5653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5" name=""/>
                <p:cNvSpPr/>
                <p:nvPr/>
              </p:nvSpPr>
              <p:spPr>
                <a:xfrm>
                  <a:off x="8158320" y="5656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7981920" y="5694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8188200" y="5665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98" name=""/>
            <p:cNvGrpSpPr/>
            <p:nvPr/>
          </p:nvGrpSpPr>
          <p:grpSpPr>
            <a:xfrm>
              <a:off x="8026560" y="5729400"/>
              <a:ext cx="276120" cy="298800"/>
              <a:chOff x="8026560" y="5729400"/>
              <a:chExt cx="276120" cy="298800"/>
            </a:xfrm>
          </p:grpSpPr>
          <p:grpSp>
            <p:nvGrpSpPr>
              <p:cNvPr id="499" name=""/>
              <p:cNvGrpSpPr/>
              <p:nvPr/>
            </p:nvGrpSpPr>
            <p:grpSpPr>
              <a:xfrm>
                <a:off x="8026560" y="5923080"/>
                <a:ext cx="276120" cy="105120"/>
                <a:chOff x="8026560" y="5923080"/>
                <a:chExt cx="276120" cy="105120"/>
              </a:xfrm>
            </p:grpSpPr>
            <p:sp>
              <p:nvSpPr>
                <p:cNvPr id="500" name=""/>
                <p:cNvSpPr/>
                <p:nvPr/>
              </p:nvSpPr>
              <p:spPr>
                <a:xfrm>
                  <a:off x="8026560" y="5924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01" name=""/>
                <p:cNvSpPr/>
                <p:nvPr/>
              </p:nvSpPr>
              <p:spPr>
                <a:xfrm>
                  <a:off x="8026560" y="5973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02" name=""/>
                <p:cNvSpPr/>
                <p:nvPr/>
              </p:nvSpPr>
              <p:spPr>
                <a:xfrm>
                  <a:off x="8238960" y="5929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503" name=""/>
                <p:cNvSpPr/>
                <p:nvPr/>
              </p:nvSpPr>
              <p:spPr>
                <a:xfrm>
                  <a:off x="8074080" y="59529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4" name=""/>
                <p:cNvSpPr/>
                <p:nvPr/>
              </p:nvSpPr>
              <p:spPr>
                <a:xfrm>
                  <a:off x="8231040" y="5929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505" name=""/>
                <p:cNvSpPr/>
                <p:nvPr/>
              </p:nvSpPr>
              <p:spPr>
                <a:xfrm>
                  <a:off x="8074080" y="5923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506" name=""/>
              <p:cNvGrpSpPr/>
              <p:nvPr/>
            </p:nvGrpSpPr>
            <p:grpSpPr>
              <a:xfrm>
                <a:off x="8029440" y="5729400"/>
                <a:ext cx="257760" cy="209880"/>
                <a:chOff x="8029440" y="5729400"/>
                <a:chExt cx="257760" cy="209880"/>
              </a:xfrm>
            </p:grpSpPr>
            <p:sp>
              <p:nvSpPr>
                <p:cNvPr id="507" name=""/>
                <p:cNvSpPr/>
                <p:nvPr/>
              </p:nvSpPr>
              <p:spPr>
                <a:xfrm>
                  <a:off x="8029440" y="5743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29440" y="5729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9" name=""/>
                <p:cNvSpPr/>
                <p:nvPr/>
              </p:nvSpPr>
              <p:spPr>
                <a:xfrm>
                  <a:off x="8231040" y="5732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8055000" y="5770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8261280" y="5742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512" name=""/>
          <p:cNvSpPr/>
          <p:nvPr/>
        </p:nvSpPr>
        <p:spPr>
          <a:xfrm flipV="1">
            <a:off x="8153280" y="442440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7975440" y="3281400"/>
            <a:ext cx="25920" cy="1981440"/>
          </a:xfrm>
          <a:custGeom>
            <a:avLst/>
            <a:gdLst/>
            <a:ahLst/>
            <a:rect l="0" t="0" r="r" b="b"/>
            <a:pathLst>
              <a:path fill="none" w="72" h="5504">
                <a:moveTo>
                  <a:pt x="72" y="5504"/>
                </a:moveTo>
                <a:lnTo>
                  <a:pt x="0" y="3811"/>
                </a:lnTo>
                <a:lnTo>
                  <a:pt x="0" y="1905"/>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932040" y="1455840"/>
            <a:ext cx="2954160" cy="4554360"/>
          </a:xfrm>
          <a:prstGeom prst="rect">
            <a:avLst/>
          </a:prstGeom>
          <a:noFill/>
          <a:ln w="0">
            <a:noFill/>
          </a:ln>
        </p:spPr>
        <p:txBody>
          <a:bodyPr lIns="0" rIns="0" tIns="0" bIns="0" anchor="t">
            <a:noAutofit/>
          </a:bodyPr>
          <a:p>
            <a:pPr marL="228600" indent="-228600">
              <a:lnSpc>
                <a:spcPct val="85000"/>
              </a:lnSpc>
              <a:spcBef>
                <a:spcPts val="1199"/>
              </a:spcBef>
              <a:buClr>
                <a:srgbClr val="000000"/>
              </a:buClr>
              <a:buSzPct val="45000"/>
              <a:buFont typeface="CP1252"/>
              <a:buChar char=""/>
            </a:pPr>
            <a:r>
              <a:rPr b="1" lang="en-US" sz="2400" spc="-1" strike="noStrike">
                <a:solidFill>
                  <a:srgbClr val="0000ff"/>
                </a:solidFill>
                <a:latin typeface="Arial"/>
                <a:ea typeface="Arial"/>
              </a:rPr>
              <a:t>Hop-by-hop</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control data</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Some L3 forwarding</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66ff33"/>
                </a:solidFill>
                <a:latin typeface="Arial"/>
                <a:ea typeface="Arial"/>
              </a:rPr>
              <a:t>Intra-region</a:t>
            </a:r>
            <a:br>
              <a:rPr sz="2400"/>
            </a:br>
            <a:r>
              <a:rPr b="1" lang="en-US" sz="2400" spc="-1" strike="noStrike">
                <a:solidFill>
                  <a:srgbClr val="66ff33"/>
                </a:solidFill>
                <a:latin typeface="Arial"/>
                <a:ea typeface="Arial"/>
              </a:rPr>
              <a:t>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ithin data and control driven regions</a:t>
            </a:r>
            <a:endParaRPr b="0" lang="en-US" sz="1800" spc="-1" strike="noStrike">
              <a:solidFill>
                <a:srgbClr val="000000"/>
              </a:solidFill>
              <a:latin typeface="Arial"/>
            </a:endParaRPr>
          </a:p>
          <a:p>
            <a:pPr marL="228600" indent="-228600">
              <a:lnSpc>
                <a:spcPct val="85000"/>
              </a:lnSpc>
              <a:spcBef>
                <a:spcPts val="1199"/>
              </a:spcBef>
            </a:pP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ff0000"/>
                </a:solidFill>
                <a:latin typeface="Arial"/>
                <a:ea typeface="Arial"/>
              </a:rPr>
              <a:t>Cross region 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QoS and </a:t>
            </a:r>
            <a:br>
              <a:rPr sz="1800"/>
            </a:br>
            <a:r>
              <a:rPr b="1" lang="en-US" sz="1800" spc="-1" strike="noStrike">
                <a:solidFill>
                  <a:srgbClr val="000000"/>
                </a:solidFill>
                <a:latin typeface="Arial"/>
                <a:ea typeface="Arial"/>
              </a:rPr>
              <a:t>critical traffic</a:t>
            </a:r>
            <a:endParaRPr b="0" lang="en-US" sz="1800" spc="-1" strike="noStrike">
              <a:solidFill>
                <a:srgbClr val="000000"/>
              </a:solidFill>
              <a:latin typeface="Arial"/>
            </a:endParaRPr>
          </a:p>
        </p:txBody>
      </p:sp>
      <p:sp>
        <p:nvSpPr>
          <p:cNvPr id="515" name=""/>
          <p:cNvSpPr txBox="1"/>
          <p:nvPr/>
        </p:nvSpPr>
        <p:spPr>
          <a:xfrm>
            <a:off x="4572000" y="1965240"/>
            <a:ext cx="34178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Region</a:t>
            </a:r>
            <a:endParaRPr b="0" lang="en-US" sz="2400" spc="-1" strike="noStrike">
              <a:solidFill>
                <a:srgbClr val="000000"/>
              </a:solidFill>
              <a:latin typeface="Arial"/>
            </a:endParaRPr>
          </a:p>
        </p:txBody>
      </p:sp>
      <p:sp>
        <p:nvSpPr>
          <p:cNvPr id="516" name=""/>
          <p:cNvSpPr/>
          <p:nvPr/>
        </p:nvSpPr>
        <p:spPr>
          <a:xfrm>
            <a:off x="5105520" y="266688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517" name=""/>
          <p:cNvSpPr/>
          <p:nvPr/>
        </p:nvSpPr>
        <p:spPr>
          <a:xfrm>
            <a:off x="4495680" y="2895480"/>
            <a:ext cx="3277080" cy="2362680"/>
          </a:xfrm>
          <a:custGeom>
            <a:avLst/>
            <a:gdLst/>
            <a:ahLst/>
            <a:rect l="0" t="0" r="r" b="b"/>
            <a:pathLst>
              <a:path fill="none" w="9103" h="6563">
                <a:moveTo>
                  <a:pt x="0" y="6563"/>
                </a:moveTo>
                <a:lnTo>
                  <a:pt x="0" y="5294"/>
                </a:lnTo>
                <a:lnTo>
                  <a:pt x="0" y="2752"/>
                </a:lnTo>
                <a:lnTo>
                  <a:pt x="1472" y="0"/>
                </a:lnTo>
                <a:lnTo>
                  <a:pt x="8186" y="0"/>
                </a:lnTo>
                <a:lnTo>
                  <a:pt x="9103" y="2965"/>
                </a:lnTo>
                <a:lnTo>
                  <a:pt x="9103" y="5081"/>
                </a:lnTo>
                <a:lnTo>
                  <a:pt x="9103" y="6563"/>
                </a:lnTo>
              </a:path>
            </a:pathLst>
          </a:custGeom>
          <a:ln w="25560">
            <a:solidFill>
              <a:srgbClr val="ff00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438280" y="2209680"/>
            <a:ext cx="4115160" cy="3810240"/>
          </a:xfrm>
          <a:custGeom>
            <a:avLst/>
            <a:gdLst/>
            <a:ahLst/>
            <a:rect l="0" t="0" r="r" b="b"/>
            <a:pathLst>
              <a:path w="11431" h="10584">
                <a:moveTo>
                  <a:pt x="0" y="10584"/>
                </a:moveTo>
                <a:lnTo>
                  <a:pt x="11431" y="10584"/>
                </a:lnTo>
                <a:lnTo>
                  <a:pt x="11431" y="10584"/>
                </a:lnTo>
                <a:lnTo>
                  <a:pt x="11431" y="10584"/>
                </a:lnTo>
                <a:cubicBezTo>
                  <a:pt x="11431" y="8726"/>
                  <a:pt x="10903" y="6901"/>
                  <a:pt x="9900" y="5292"/>
                </a:cubicBezTo>
                <a:cubicBezTo>
                  <a:pt x="8896" y="3683"/>
                  <a:pt x="7453" y="2347"/>
                  <a:pt x="5715" y="1418"/>
                </a:cubicBezTo>
                <a:cubicBezTo>
                  <a:pt x="3978" y="489"/>
                  <a:pt x="2007" y="0"/>
                  <a:pt x="0" y="0"/>
                </a:cubicBezTo>
                <a:lnTo>
                  <a:pt x="0" y="10584"/>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9" name=""/>
          <p:cNvSpPr/>
          <p:nvPr/>
        </p:nvSpPr>
        <p:spPr>
          <a:xfrm>
            <a:off x="2438280" y="2895480"/>
            <a:ext cx="3353040" cy="3124440"/>
          </a:xfrm>
          <a:custGeom>
            <a:avLst/>
            <a:gdLst/>
            <a:ahLst/>
            <a:rect l="0" t="0" r="r" b="b"/>
            <a:pathLst>
              <a:path w="9314" h="8679">
                <a:moveTo>
                  <a:pt x="0" y="8679"/>
                </a:moveTo>
                <a:lnTo>
                  <a:pt x="9314" y="8679"/>
                </a:lnTo>
                <a:lnTo>
                  <a:pt x="9314" y="8679"/>
                </a:lnTo>
                <a:lnTo>
                  <a:pt x="9314" y="8679"/>
                </a:lnTo>
                <a:cubicBezTo>
                  <a:pt x="9314" y="7156"/>
                  <a:pt x="8884" y="5659"/>
                  <a:pt x="8066" y="4339"/>
                </a:cubicBezTo>
                <a:cubicBezTo>
                  <a:pt x="7249" y="3020"/>
                  <a:pt x="6073" y="1925"/>
                  <a:pt x="4657" y="1163"/>
                </a:cubicBezTo>
                <a:cubicBezTo>
                  <a:pt x="3241" y="401"/>
                  <a:pt x="1635" y="0"/>
                  <a:pt x="0" y="0"/>
                </a:cubicBezTo>
                <a:lnTo>
                  <a:pt x="0" y="8679"/>
                </a:lnTo>
                <a:close/>
              </a:path>
            </a:pathLst>
          </a:custGeom>
          <a:solidFill>
            <a:srgbClr val="66d8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38280" y="3809880"/>
            <a:ext cx="2286360" cy="2210040"/>
          </a:xfrm>
          <a:custGeom>
            <a:avLst/>
            <a:gdLst/>
            <a:ahLst/>
            <a:rect l="0" t="0" r="r" b="b"/>
            <a:pathLst>
              <a:path w="6351" h="6139">
                <a:moveTo>
                  <a:pt x="0" y="6139"/>
                </a:moveTo>
                <a:lnTo>
                  <a:pt x="6351" y="6139"/>
                </a:lnTo>
                <a:lnTo>
                  <a:pt x="6351" y="6139"/>
                </a:lnTo>
                <a:lnTo>
                  <a:pt x="6351" y="6139"/>
                </a:lnTo>
                <a:cubicBezTo>
                  <a:pt x="6351" y="5061"/>
                  <a:pt x="6058" y="4003"/>
                  <a:pt x="5500" y="3069"/>
                </a:cubicBezTo>
                <a:cubicBezTo>
                  <a:pt x="4943" y="2136"/>
                  <a:pt x="4141" y="1361"/>
                  <a:pt x="3175" y="822"/>
                </a:cubicBezTo>
                <a:cubicBezTo>
                  <a:pt x="2210" y="284"/>
                  <a:pt x="1115" y="0"/>
                  <a:pt x="0" y="0"/>
                </a:cubicBezTo>
                <a:lnTo>
                  <a:pt x="0" y="6139"/>
                </a:lnTo>
                <a:close/>
              </a:path>
            </a:pathLst>
          </a:custGeom>
          <a:solidFill>
            <a:srgbClr val="66ffb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8280" y="4724280"/>
            <a:ext cx="1295640" cy="1295640"/>
          </a:xfrm>
          <a:custGeom>
            <a:avLst/>
            <a:gdLst/>
            <a:ahLst/>
            <a:rect l="0" t="0" r="r" b="b"/>
            <a:pathLst>
              <a:path w="3599" h="3599">
                <a:moveTo>
                  <a:pt x="0" y="3599"/>
                </a:moveTo>
                <a:lnTo>
                  <a:pt x="3599" y="3599"/>
                </a:lnTo>
                <a:lnTo>
                  <a:pt x="3599" y="3599"/>
                </a:lnTo>
                <a:lnTo>
                  <a:pt x="3599" y="3599"/>
                </a:lnTo>
                <a:cubicBezTo>
                  <a:pt x="3599" y="2967"/>
                  <a:pt x="3433" y="2347"/>
                  <a:pt x="3117" y="1799"/>
                </a:cubicBezTo>
                <a:cubicBezTo>
                  <a:pt x="2801" y="1252"/>
                  <a:pt x="2347" y="798"/>
                  <a:pt x="1799" y="482"/>
                </a:cubicBezTo>
                <a:cubicBezTo>
                  <a:pt x="1252" y="166"/>
                  <a:pt x="632" y="0"/>
                  <a:pt x="0" y="0"/>
                </a:cubicBezTo>
                <a:lnTo>
                  <a:pt x="0" y="3599"/>
                </a:lnTo>
                <a:close/>
              </a:path>
            </a:pathLst>
          </a:custGeom>
          <a:solidFill>
            <a:srgbClr val="e1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FOREs Solution</a:t>
            </a:r>
            <a:endParaRPr b="0" lang="en-US" sz="4000" spc="-1" strike="noStrike">
              <a:solidFill>
                <a:srgbClr val="000000"/>
              </a:solidFill>
              <a:latin typeface="Arial"/>
            </a:endParaRPr>
          </a:p>
        </p:txBody>
      </p:sp>
      <p:sp>
        <p:nvSpPr>
          <p:cNvPr id="523" name=""/>
          <p:cNvSpPr txBox="1"/>
          <p:nvPr/>
        </p:nvSpPr>
        <p:spPr>
          <a:xfrm>
            <a:off x="460440" y="1150920"/>
            <a:ext cx="8221680" cy="98280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eable building blocks: </a:t>
            </a:r>
            <a:br>
              <a:rPr sz="2800"/>
            </a:br>
            <a:r>
              <a:rPr b="1" i="1" lang="en-US" sz="2800" spc="-1" strike="noStrike">
                <a:solidFill>
                  <a:srgbClr val="000000"/>
                </a:solidFill>
                <a:latin typeface="Arial"/>
                <a:ea typeface="Arial"/>
              </a:rPr>
              <a:t>Appropriate technology for each network</a:t>
            </a:r>
            <a:endParaRPr b="0" lang="en-US" sz="2800" spc="-1" strike="noStrike">
              <a:solidFill>
                <a:srgbClr val="000000"/>
              </a:solidFill>
              <a:latin typeface="Arial"/>
            </a:endParaRPr>
          </a:p>
        </p:txBody>
      </p:sp>
      <p:sp>
        <p:nvSpPr>
          <p:cNvPr id="524" name=""/>
          <p:cNvSpPr/>
          <p:nvPr/>
        </p:nvSpPr>
        <p:spPr>
          <a:xfrm>
            <a:off x="2438280" y="1981080"/>
            <a:ext cx="4343760" cy="4038840"/>
          </a:xfrm>
          <a:custGeom>
            <a:avLst/>
            <a:gdLst/>
            <a:ahLst/>
            <a:rect l="0" t="0" r="r" b="b"/>
            <a:pathLst>
              <a:path fill="none" w="12066" h="11219">
                <a:moveTo>
                  <a:pt x="0" y="0"/>
                </a:moveTo>
                <a:lnTo>
                  <a:pt x="0" y="11219"/>
                </a:lnTo>
                <a:lnTo>
                  <a:pt x="12066" y="11219"/>
                </a:lnTo>
              </a:path>
            </a:pathLst>
          </a:custGeom>
          <a:ln w="38160">
            <a:solidFill>
              <a:srgbClr val="000000"/>
            </a:solidFill>
            <a:round/>
            <a:headEnd len="med" type="triangle" w="me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25" name=""/>
          <p:cNvSpPr txBox="1"/>
          <p:nvPr/>
        </p:nvSpPr>
        <p:spPr>
          <a:xfrm>
            <a:off x="2631960" y="6039000"/>
            <a:ext cx="3881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000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supported hosts</a:t>
            </a:r>
            <a:endParaRPr b="0" lang="en-US" sz="1800" spc="-1" strike="noStrike">
              <a:solidFill>
                <a:srgbClr val="000000"/>
              </a:solidFill>
              <a:latin typeface="Arial"/>
            </a:endParaRPr>
          </a:p>
        </p:txBody>
      </p:sp>
      <p:sp>
        <p:nvSpPr>
          <p:cNvPr id="526" name=""/>
          <p:cNvSpPr txBox="1"/>
          <p:nvPr/>
        </p:nvSpPr>
        <p:spPr>
          <a:xfrm>
            <a:off x="2406600" y="5440320"/>
            <a:ext cx="13557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Full Mesh</a:t>
            </a:r>
            <a:endParaRPr b="0" lang="en-US" sz="2000" spc="-1" strike="noStrike">
              <a:solidFill>
                <a:srgbClr val="000000"/>
              </a:solidFill>
              <a:latin typeface="Arial"/>
            </a:endParaRPr>
          </a:p>
        </p:txBody>
      </p:sp>
      <p:sp>
        <p:nvSpPr>
          <p:cNvPr id="527" name=""/>
          <p:cNvSpPr txBox="1"/>
          <p:nvPr/>
        </p:nvSpPr>
        <p:spPr>
          <a:xfrm>
            <a:off x="2975040" y="4449600"/>
            <a:ext cx="159552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Data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8" name=""/>
          <p:cNvSpPr txBox="1"/>
          <p:nvPr/>
        </p:nvSpPr>
        <p:spPr>
          <a:xfrm>
            <a:off x="3608280" y="3687840"/>
            <a:ext cx="194796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ontrol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9" name=""/>
          <p:cNvSpPr/>
          <p:nvPr/>
        </p:nvSpPr>
        <p:spPr>
          <a:xfrm>
            <a:off x="3149640" y="6172200"/>
            <a:ext cx="2209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0" name=""/>
          <p:cNvSpPr txBox="1"/>
          <p:nvPr/>
        </p:nvSpPr>
        <p:spPr>
          <a:xfrm>
            <a:off x="-228600" y="3860640"/>
            <a:ext cx="34290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umber of sites (WAN Links)</a:t>
            </a:r>
            <a:endParaRPr b="0" lang="en-US" sz="1800" spc="-1" strike="noStrike">
              <a:solidFill>
                <a:srgbClr val="000000"/>
              </a:solidFill>
              <a:latin typeface="Arial"/>
            </a:endParaRPr>
          </a:p>
        </p:txBody>
      </p:sp>
      <p:sp>
        <p:nvSpPr>
          <p:cNvPr id="531" name=""/>
          <p:cNvSpPr txBox="1"/>
          <p:nvPr/>
        </p:nvSpPr>
        <p:spPr>
          <a:xfrm>
            <a:off x="1673280" y="2349360"/>
            <a:ext cx="692280" cy="3387600"/>
          </a:xfrm>
          <a:prstGeom prst="rect">
            <a:avLst/>
          </a:prstGeom>
          <a:noFill/>
          <a:ln w="0">
            <a:noFill/>
          </a:ln>
        </p:spPr>
        <p:txBody>
          <a:bodyPr lIns="0" rIns="0" tIns="0" bIns="0" anchor="t">
            <a:noAutofit/>
          </a:bodyPr>
          <a:p>
            <a:pPr algn="r">
              <a:lnSpc>
                <a:spcPct val="100000"/>
              </a:lnSpc>
            </a:pPr>
            <a:r>
              <a:rPr b="1" lang="en-US" sz="1800" spc="-1" strike="noStrike">
                <a:solidFill>
                  <a:srgbClr val="000000"/>
                </a:solidFill>
                <a:latin typeface="Arial"/>
                <a:ea typeface="Arial"/>
              </a:rPr>
              <a:t>100s</a:t>
            </a: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r>
              <a:rPr b="1" lang="en-US" sz="1800" spc="-1" strike="noStrike">
                <a:solidFill>
                  <a:srgbClr val="000000"/>
                </a:solidFill>
                <a:latin typeface="Arial"/>
                <a:ea typeface="Arial"/>
              </a:rPr>
              <a:t>1s</a:t>
            </a:r>
            <a:endParaRPr b="0" lang="en-US" sz="1800" spc="-1" strike="noStrike">
              <a:solidFill>
                <a:srgbClr val="000000"/>
              </a:solidFill>
              <a:latin typeface="Arial"/>
            </a:endParaRPr>
          </a:p>
        </p:txBody>
      </p:sp>
      <p:sp>
        <p:nvSpPr>
          <p:cNvPr id="532" name=""/>
          <p:cNvSpPr/>
          <p:nvPr/>
        </p:nvSpPr>
        <p:spPr>
          <a:xfrm flipV="1">
            <a:off x="2133720" y="2666880"/>
            <a:ext cx="0" cy="2743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3" name=""/>
          <p:cNvSpPr txBox="1"/>
          <p:nvPr/>
        </p:nvSpPr>
        <p:spPr>
          <a:xfrm>
            <a:off x="4599000" y="3002040"/>
            <a:ext cx="159552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VC Mer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u Berger</dc:creator>
  <dc:description/>
  <dc:language>en-US</dc:language>
  <cp:lastModifiedBy>Lou Berger</cp:lastModifiedBy>
  <cp:revision>0</cp:revision>
  <dc:subject/>
  <dc:title>Fore Switching - Version 1</dc:title>
</cp:coreProperties>
</file>