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DF46-3FAA-4316-A177-6023814B6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E9AD-DF37-4337-8D35-5697E057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B7AF-8A44-4749-9CF2-1CB022AEE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1693-7622-449D-B2FC-479FCD635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1BD2-ED58-4655-AB36-6F785B400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105F-8C15-489C-A103-61898EEB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8F86-7014-42EC-BE4B-4E369A87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E16D-4802-4838-94C8-D25AE519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D4C1-6873-4E98-B181-E79BB9E2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95000"/>
            <a:ext cx="77724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2084-48EA-4DAD-9F47-87D4B290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E07F-BCB6-42A0-AAFC-8D8D8451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4DB0-A1AD-440B-838C-79AB5F70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DC25-68A0-4050-8C0E-B3734E1C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C053-6939-4AC2-8432-8CDFEEF5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E39D-667C-4FE2-9D39-80C770BE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6654-0435-41F0-B066-1F435813B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7C10-BC79-4FA7-9951-387CCAE4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76195-AC49-4E13-B22D-BAE6F6AC3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75F66-9EFB-4A3B-8E48-362E0B50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941CF-6294-4EC1-A65A-9A8ABBB1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54AD4-4F0A-432F-9B71-586A80D0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D595D-8D5E-44E9-A088-C307C342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4316-C54C-438A-8CC7-4CFD460B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495000"/>
            <a:ext cx="77724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B7F26-7EB9-4669-9D88-7367FC51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83EE6-A60D-4DA8-B85A-3301D004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B43A2-5504-4064-9A68-8C750C42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8D5F9-85AC-4CBC-AA6C-2C4382EC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6D6A3-0A47-48C5-8549-9116A0E0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CD525-CEC3-48C1-AAC5-9C9D24AE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3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144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3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144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E4F78-7828-406B-8940-F40822DD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EEC17-0F4E-4F8D-9397-3AE524B4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60D03-AED1-4C37-A854-9F3D2E9A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21A46-B367-484C-8ECC-D810ADB3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ECF0-CE5D-4A65-A1A6-85559C10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BCDE5-9394-43BE-A05F-530E774E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3F6D8-7379-4206-AC1C-33D5F9D2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495000"/>
            <a:ext cx="77724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540C3-EF68-4134-8557-5389FF6D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30DC3-32D9-4C73-AD24-89D111E0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161C3-86B6-479A-A840-512BB951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85A9E-3931-4B2E-9C53-96284370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DC99E-2953-4EAE-AD0A-F24FDBF2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B9EAB-B4F0-4AB7-9DD9-FA33841E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13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4144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13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4144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BA5E8-0A5B-44FE-871C-945D3D556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2A730-FB1F-4842-A158-8A3FBAECA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78D8-29B6-42BF-B066-F7647ABE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6C8A2-5F8D-43B1-BD55-0438658A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4DA0E-5C7B-4376-AC8C-375D81F3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F1B82-B613-430B-A4E5-17542772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F91F8-9073-4582-9EBF-22633EBE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495000"/>
            <a:ext cx="77724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2D558-3019-46CE-A8FD-38180959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9886C-EA9D-41A3-942F-ABA410F0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1589B-B100-4177-B498-0F4E1B0F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67F34-5898-450A-A20E-510260BF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7488D-0B32-466D-B5E8-A7D151DA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A3DDB-88AD-4C24-9D52-665271E13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95000"/>
            <a:ext cx="77724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C475-8EB8-4571-8D67-BD59B80E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B7A73-F11C-4891-9383-26209CD50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A2C15-7703-4709-9A8E-5680C2B0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BDF01-C23F-4CE5-A646-C6A7804D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554F5-D64F-4629-9E2A-70E43442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72E47-ABF0-43CD-8546-A63CC05D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33099-7F35-408F-8C64-9ED76655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495000"/>
            <a:ext cx="77724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BFCAE-4A77-41CB-BC0C-3B862304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E9325-3EDA-4E68-A9ED-CAAF9B27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32674-4890-4D34-9C10-C126268A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4B71A-6E48-437A-B2D0-2A26B760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D74D-E691-492C-896F-876B4F59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F247C-5D1E-4B4A-912F-E849E090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73032-9CA4-4A85-B1A3-6ED177262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7B9CA-F3AE-4EB4-90C7-EA9F32E8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80CFA-DE61-41C0-B9BA-FC98E62A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21769-D23A-419C-B1C9-3D871D16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43AF8-0254-4811-874B-4866D567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74BAB-BF6F-4833-A516-F3D4C4A9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4034A-58EE-4CC6-9418-0BC4813D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85800" y="495000"/>
            <a:ext cx="77724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45CFB-6D12-4EBE-8B24-6B4A8400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B62EE-6984-465A-92DB-50F5D19F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C95A-5163-415A-9EA3-2CD36521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BBC3D-4A19-4991-A1B9-FF59AE66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85EDC-A464-4996-8D3A-3B4AB683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15CD7-DB22-495F-A669-86448F93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68480" y="40489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BDA4B-CCEA-40DA-84DE-D77913D1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31380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941440" y="18097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85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31380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941440" y="4048920"/>
            <a:ext cx="250236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AA96F-2428-4EA9-AC8B-9F8D5517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09720"/>
            <a:ext cx="37926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48920"/>
            <a:ext cx="777240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20A5-1528-4C52-A1F9-4C01BA80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n Intern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 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F3E0-C0B6-46CA-B05F-395ADF03B42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324080" y="1314360"/>
            <a:ext cx="73706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2880" y="94284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an Inter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3DC9-5E43-4937-9F85-7EF958AF4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33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an Inter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n 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E11D-2F9F-4956-934F-F6524D0CA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324080" y="1314360"/>
            <a:ext cx="737064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C6AA-6447-4E92-91DB-8377CF0A3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DBBE-A0B7-4461-B32B-E7EC394DC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66720" y="46620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n Intern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 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2571-3323-4543-8F88-3D5A883EF74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42880" y="94284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A2DD-06E7-4AE8-9167-32A26948F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l.cam.ac.uk/TechReports/UCAM-CL-TR-571.pdf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42880" y="94284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 Black"/>
              </a:rPr>
              <a:t>An Introduction to Wan (Nprobe) Internals</a:t>
            </a:r>
            <a:br>
              <a:rPr sz="3600"/>
            </a:b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3733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Black"/>
              </a:rPr>
              <a:t>James Hall</a:t>
            </a:r>
            <a:endParaRPr b="0" lang="en-US" sz="2800" spc="-1" strike="noStrike">
              <a:solidFill>
                <a:srgbClr val="000066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66"/>
                </a:solidFill>
                <a:latin typeface="Arial Black"/>
              </a:rPr>
              <a:t>University of Cambridge </a:t>
            </a:r>
            <a:endParaRPr b="0" lang="en-US" sz="2000" spc="-1" strike="noStrike">
              <a:solidFill>
                <a:srgbClr val="000066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66"/>
                </a:solidFill>
                <a:latin typeface="Arial Black"/>
              </a:rPr>
              <a:t>Computer Laboratory</a:t>
            </a:r>
            <a:endParaRPr b="0" lang="en-US" sz="2000" spc="-1" strike="noStrike">
              <a:solidFill>
                <a:srgbClr val="000066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66"/>
                </a:solidFill>
                <a:latin typeface="Arial Black"/>
              </a:rPr>
              <a:t>James.Hall@cl.cam.ac.uk</a:t>
            </a:r>
            <a:endParaRPr b="0" lang="en-US" sz="20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Flows and Data Structures 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low = UDP/TCP connection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2-Stage identification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ost/host – hashed by addresses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flows.h: struct       host_flow)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ort/port – hashed by ports, identified by ports and service type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flows.h: struct flow_common)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ort hash lists hang from host hash list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ost/host list entries keep reference count of port entries – blown away on zero-count decrement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522B-FC37-42D7-AD30-379526801A0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Flows and Data Structures 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low = UDP/TCP connection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Host/host hash table entry</a:t>
            </a:r>
            <a:r>
              <a:rPr b="0" lang="en-US" sz="3200" spc="-1" strike="noStrike">
                <a:solidFill>
                  <a:srgbClr val="000099"/>
                </a:solidFill>
                <a:latin typeface="Lucida Console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(flows.h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struct host_flow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{ 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list_t hlist;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/* hash list links */ 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listhdr_t *hflow_list;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/* head of hash list it's on */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unsigned int srcaddr, dstaddr;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/* NBO */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listhdr_t flow_conns[N_CONN_BUCKETS];/* hash based on  ports */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int n_conns;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/* no. of tcp conns for these hosts */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236A-3010-48D3-8916-31EFC0866B4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Flows and Data Structures I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ort hash list entry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struct flow_common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{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list_t hlist;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/* hash list links */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list_t conn_timeo_q;   /* connection time out queue */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struct host_flow *hconnp;/* ptr to the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                                  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host_flow_t it hangs off */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Lucida Console"/>
              </a:rPr>
              <a:t>struct flow_inner inner;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int port_indx;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       /* indx into host_flow tcp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                                          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conns hash table */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unsigned char type;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/* eg. TCP, UDP */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96F1-A4F4-4505-AC17-E7199B971AD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Flows and Data Structures IV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rt hash list entry – portion dumped to log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struct flow_inner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{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nsigned int state;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nsigned int src_atmdata, dst_atmdata;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nsigned short srcport, dstport;      /* NBO */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nsigned int srcaddr, dstaddr;        /* NBO - shadows vals in host_flow struct */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s_clock_t last_arr_tm;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   /* last packet arrival in absolute us */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s_clock_t first_arr_tm;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   /* first do - most other times are relative to this */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nsigned char serv_type;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8414-0665-4490-8CFA-A2DC50E7884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A digression – </a:t>
            </a:r>
            <a:r>
              <a:rPr b="0" i="1" lang="en-US" sz="3200" spc="-1" strike="noStrike">
                <a:solidFill>
                  <a:srgbClr val="000066"/>
                </a:solidFill>
                <a:latin typeface="Arial Black"/>
              </a:rPr>
              <a:t>Inner </a:t>
            </a: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Structure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Wan processes packet on receipt and returns buffer to kernel pool immediately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ence statefu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AU (Data Association Unit) – set of packets comprising a syntactic or semantic unit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TR 3.2.2.1)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SU (State Storage Unit) – state associated with DAU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TR 3.3.3.2)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Management of DAU during it’s lifetime and packet association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Dumped/extracted data – held in</a:t>
            </a:r>
            <a:r>
              <a:rPr b="0" i="1" lang="en-US" sz="2000" spc="-1" strike="noStrike">
                <a:solidFill>
                  <a:srgbClr val="0033cc"/>
                </a:solidFill>
                <a:latin typeface="Tahoma"/>
              </a:rPr>
              <a:t> inner 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for block dump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B14C-2EA8-41C4-84DA-BE716205CF8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TCP processing and Data Structures </a:t>
            </a: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TR 3.3.3.4)</a:t>
            </a:r>
            <a:endParaRPr b="0" lang="en-US" sz="2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ntry do_tcp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(prec_t *pp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, struct ip *ipp, us_clock_t us_time)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(tcp.c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New connection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ssign flow and tcp data structures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dentify service type and assign tcp_service_data (handling methods)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tcp.c: get_tcpserv_type()) 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nd extracted data structures 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Existing connection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dentify flow and attach data structures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equencing/reassembly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Process if in sequence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tcp.c: tcp_packet())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Else hold – exception to immediate packet processing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Process any held packets now in sequence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2BE4-F5B7-4650-883D-62A4A5A14E0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Processing 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Associated connection and service state held in: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struct tcp_conn </a:t>
            </a:r>
            <a:r>
              <a:rPr b="0" lang="en-US" sz="1600" spc="-1" strike="noStrike">
                <a:solidFill>
                  <a:srgbClr val="ff3300"/>
                </a:solidFill>
                <a:latin typeface="Lucida Console"/>
              </a:rPr>
              <a:t>(tcp.h)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{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struct flow_common flow_common; </a:t>
            </a:r>
            <a:r>
              <a:rPr b="0" lang="en-US" sz="1600" spc="-1" strike="noStrike">
                <a:solidFill>
                  <a:srgbClr val="ff3300"/>
                </a:solidFill>
                <a:latin typeface="Lucida Console"/>
              </a:rPr>
              <a:t>(attachment to # list)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/* other alternate connections may hang off this */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struct tcp_conn *alt_prev, *alt_next;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struct tcp_service_data serv_data; </a:t>
            </a:r>
            <a:r>
              <a:rPr b="0" lang="en-US" sz="1600" spc="-1" strike="noStrike">
                <a:solidFill>
                  <a:srgbClr val="ff3300"/>
                </a:solidFill>
                <a:latin typeface="Lucida Console"/>
              </a:rPr>
              <a:t>(methods and flags)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unsigned int service_tm; /* effective time current packet seen */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struct tcp tcp;  </a:t>
            </a:r>
            <a:r>
              <a:rPr b="0" lang="en-US" sz="1600" spc="-1" strike="noStrike">
                <a:solidFill>
                  <a:srgbClr val="ff3300"/>
                </a:solidFill>
                <a:latin typeface="Lucida Console"/>
              </a:rPr>
              <a:t>(tcp state)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tcp_hdrs_t hdrs;  </a:t>
            </a:r>
            <a:r>
              <a:rPr b="0" lang="en-US" sz="1600" spc="-1" strike="noStrike">
                <a:solidFill>
                  <a:srgbClr val="ff3300"/>
                </a:solidFill>
                <a:latin typeface="Lucida Console"/>
              </a:rPr>
              <a:t>(collected header data)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union service_data su;  </a:t>
            </a:r>
            <a:r>
              <a:rPr b="0" lang="en-US" sz="1600" spc="-1" strike="noStrike">
                <a:solidFill>
                  <a:srgbClr val="ff3300"/>
                </a:solidFill>
                <a:latin typeface="Lucida Console"/>
              </a:rPr>
              <a:t>(service state)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Lucida Console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6B00-6359-4DEE-BA99-7B84BB5E875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Processing I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onnection state held in: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(tcp.h)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Lucida Console"/>
              </a:rPr>
              <a:t>struct tcp 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Lucida Console"/>
              </a:rPr>
              <a:t>{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Lucida Console"/>
              </a:rPr>
              <a:t>tcp_simplex_flow_t client, server;</a:t>
            </a:r>
            <a:endParaRPr b="0" lang="en-US" sz="1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Lucida Console"/>
              </a:rPr>
              <a:t>};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struct tcp_simplex_flow 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{  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unsigned int state;   /* Flags */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unsigned int firstack;  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unsigned int lastack; /* last ack sent in THIS direction */  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.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.  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ff3300"/>
                </a:solidFill>
                <a:latin typeface="Lucida Console"/>
              </a:rPr>
              <a:t>listhdr_t held_list;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struct tcp_simplex_flow *reverse;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unsigned char nheld;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unsigned short mss;  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unsigned char wshift;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0099"/>
                </a:solidFill>
                <a:latin typeface="Lucida Console"/>
              </a:rPr>
              <a:t>};</a:t>
            </a: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EF86-E142-49BF-8E65-008953F66D4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Processing IV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eld packet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inked list hanging from tcp_simplex_flow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typedef struct tcp_heldpkt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{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listhdr_t links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listhdr_t seq_timeo_q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    /* sequence gap timeout */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unsigned int seq, ack, len;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unsigned char tcp_flags, status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prec_t *pp;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struct tcp_simplex_flow *tsp; /* back ptr. to simplex flow */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struct tcp_conn *tconnp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    /* ditto tcp connection */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us_clock_t arr_tm;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} tcp_heldpkt_t;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aintained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s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iority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queu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D5C0-7AE2-4EE3-B180-F6F4C8D76E3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Processing V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anagement of held packets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(tcp_seq.c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Held by call to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tcp_hold()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After sequence gap filled by arrival outstanding in-sequence segments processed by call to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tcp_catchup()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Segment at head of queue timed out: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(tcp_seq_timeout())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TR 3.3.3.4)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After timeout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Set proportion of recv buffer pool consumed by held packets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ACK passed missing segment seen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No. of segments held for this connection exceeds threshold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Connection times out</a:t>
            </a:r>
            <a:endParaRPr b="0" lang="en-US" sz="1800" spc="-1" strike="noStrike">
              <a:solidFill>
                <a:srgbClr val="0033cc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0A57-46BF-4B09-88BC-57CB78361EB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Outline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Wan = c. 36,000 lines of code – only outline of major functionality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Protocol module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Packet passing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Packet and data-extraction flow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Flows/connection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TCP processing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TCP service handling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Data dumping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Structure pools, counters, error handling, data retrieval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Writing new protocol modules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B992-2337-4522-883B-4B4BF4B0185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Processing V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imeouts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(timeouts.c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imeout mechanism – linked list: head oldes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lobal tcp_conn_timeo_q, udp_conn_timeo_q, tcp_seq_timeo_q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nnections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Packet arrivals move record to end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Held packet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Static by arrival time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heck_timeouts() called at packet arrivals from do_ip(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E03F-62C4-4424-8847-3295705DFDA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Processing V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aving header dat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ntrolled by dump_hdrs flag of connection’s tcp_service_data structure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struct tcp_hdrs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{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us_clock_t atm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/* all hdr times are relative to this */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int nheld;  unsigned int conn_id;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struct tcp_dumphdr hdrs[MAX_TCP_DUMPHDRS_HELD];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struct tcp_dumphdr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(NB needs modification to record SACKs)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{ 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int rtm;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unsigned int seq, ack;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unsigned short window, len;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char flags, way;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830E-CE45-47EC-A008-0B623D5C846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State Storage Units – Generalised Arrangement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1017720" y="1809720"/>
            <a:ext cx="3163680" cy="428616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47960" y="1809720"/>
            <a:ext cx="380988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For example: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low/connection management – struct flow_common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aved connection data struct flow_inner.tcp_conn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Directional connection management and saved data – struct tcp_simplex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>
            <a:off x="3933720" y="2048040"/>
            <a:ext cx="752760" cy="6188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3714480" y="2695680"/>
            <a:ext cx="971640" cy="666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 flipV="1">
            <a:off x="3733920" y="3600000"/>
            <a:ext cx="923760" cy="514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74E8-7048-4BD2-B995-950D9C0F5A8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Service Handling 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rvice above transport level recognized by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ort No.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ynamically by construction of flow structures and insertion into hash list (e.g. ICMP defined)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(TR 3.3.3.8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F2CF-F982-4B00-8052-9A2F7A599C7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Service Handling 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Extraction of data controlled by struct tcp_service_data 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struct tcp_service_data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(tcp.h)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{ 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struct tcp_serv_methods *meth;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ctr_t *serv_ctr; 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struct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{       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unsigned int open : 8, hdrs : 8, close : 8, serv_type : 8; 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} rectypes; /* record types for dump */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unsigned char dmp_hdrs;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/* set if tcp hdrs to be dumped */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Lucida Console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C999-56EA-48E1-AC0F-BE6437FFCC5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Service Handling I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xcerpt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from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get_tcpserv_type – sp is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tcp_service_data*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for (i = 1, port = sport; i &lt; 3; i++, port = dport)  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{    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switch (port)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{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case 20: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sp-&gt;meth = &amp;tcp_ftp_data_serv_methods;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sp-&gt;rectypes.serv_type = TCP_SERV_FTP_DATA;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sp-&gt;rectypes.open = REC_TCP_FTP_DATA_OPEN;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sp-&gt;rectypes.hdrs = REC_TCP_FTP_DATA_HDRS;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sp-&gt;rectypes.close = REC_TCP_FTP;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sp-&gt;serv_ctr = &amp;counters.TRAFF_TCP_FTP_DATA;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sp-&gt;dmp_hdrs |= DUMP_HDRS;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return i;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break;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.. . Etc.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200" spc="-1" strike="noStrike">
                <a:solidFill>
                  <a:srgbClr val="003399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0033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30AE-49B7-46C2-BB4F-C6BBAF4E7D4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CP Service Handling IV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ta extraction determined by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struct tcp_serv_methods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(tcp.h)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{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void (*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serv_open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)(prec_t *pp, struct tcp_conn *tconnp,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                               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int way, unsigned char flags);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int (*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serv_pkt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)(prec_t *pp, struct tcp_conn *tconnp, int way);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int (*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serv_sync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)(tcp_heldpkt_t *hpp, struct tcp_conn *tconnp,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tcp_simplex_flow_t *tsp, unsigned int gap,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int way, unsigned int tm);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void (*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serv_close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)(prec_t *pp, struct tcp_conn *tconnp, int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way, unsigned char flags);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void (*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serv_dump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)(struct tcp_conn *tconnp);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alled from tcp_pkt() as ordered segment is processed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D4AE-68E0-40D5-B708-C0D3475D57E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UDP Service Handling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DP handling much as TCP but less complicated as no reassebly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Otherwise much as TCP – similar or shared methods and structure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DP connection closing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Often implied by protocol semantics (e.g. DNS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Otherwise rely on timeout mechanism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DEA5-709C-4E32-937E-D981A0C779F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Interrelationship of Principal Data Structures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968400" y="1984320"/>
            <a:ext cx="7380360" cy="379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73DE-464B-48C2-98D6-682A8AA79D0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Data Extraction Error Handling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ta extraction functions called as serv_pkt() return 0 on success, error code &lt;0 on failur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On failure return call error routine to free buffer and dump entire packe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Only fully implemented for HTTP data extraction –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error.c: http_error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rror code definitions: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common/hdr/http_errdefs.h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common/src/errstring.c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ump by calling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if_nprobe.c: dump_pkt(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EAF3-AE80-4C32-BCAA-15BC0326096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ources of Informatio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ource cod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Nprobe repository 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$ROOT/runtime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$ROOT/shared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ulti-Layer Network and Analysis” 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mputer Lab Technical Report Number 571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http://www.cl.cam.ac.uk/TechReports/UCAM-CL-TR-571.pdf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hapter 3 Describes Nprobe implementation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e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– James.Hall@cl.cam.ac.uk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303F-266A-4A90-9D31-BF97924333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104840" y="1866960"/>
            <a:ext cx="5727600" cy="429588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Dumping Data to Logs I </a:t>
            </a:r>
            <a:r>
              <a:rPr b="0" lang="en-US" sz="2000" spc="-1" strike="noStrike">
                <a:solidFill>
                  <a:srgbClr val="ff3300"/>
                </a:solidFill>
                <a:latin typeface="Arial Black"/>
              </a:rPr>
              <a:t>(TR 3.3.4)</a:t>
            </a:r>
            <a:endParaRPr b="0" lang="en-US" sz="2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647960" y="1809720"/>
            <a:ext cx="380988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Defined by serv_dump() function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Mostly copying blocks of (typed) data to output buffer as byte sequences 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see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DUMP_*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 macros in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output.h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8BE3-ED64-4E17-865E-3B5ABBE4CB3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umping Data to Logs 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ta dumps occur at three points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t connection open (triggered by call to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tcp_*_open()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Dumps address/port details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(flow_inner)</a:t>
            </a: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 and assigns </a:t>
            </a:r>
            <a:r>
              <a:rPr b="0" i="1" lang="en-US" sz="2000" spc="-1" strike="noStrike">
                <a:solidFill>
                  <a:srgbClr val="0033cc"/>
                </a:solidFill>
                <a:latin typeface="Tahoma"/>
              </a:rPr>
              <a:t>connection id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locks of TCP header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t connection close (triggered by call to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tcp_*_close()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B – all dumps preceded by 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record type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(np_file.h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FEDC-CF95-4B41-938D-149568C00AF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umping Data to Logs III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ome wrinkles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ust check room in buffer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Responsible for dumping all higher-level protocol data in chained/subsidiary SSU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ust dump transport-level data (e.g. call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tcp.c: tcp_dump()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Must initialise dump with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rec_dump_start() and rec_dump_end()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(output.c) to prepend record type and initiate buffer management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See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http.c: tcp_http_dump()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for example.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1CAB-941A-41C0-8CDD-4BB260F4127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ata Structure Pool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igh turnover of data structure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arly profiling showed up to %0% of cycles spent in malloc(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ence pre-allocated structures held in pool (LIFO) – drawn, initialised and returned as required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(pool.c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ach type requires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ool initialisation method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tructure (per use) initialisaton, get and recycle method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9101-1F87-41C4-A5B0-EC69FAEE9AB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Counters and Traffic Accounting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Counters.h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efines a counter block which keeps counts of protocol-specific packets/bytes and similar useful dat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Counters.c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vides counter handling method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3B2F-A964-4FAC-A203-C8469CC0B54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Log File Presentation 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Will inevitably wish to examine extracted data by eye during development and to check feasibility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Require routines to print out representation of logged dat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urrent ‘printers’ in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/common/src/report.c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, supported by utility routines in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print_util.c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Should perhaps be provided at module level rather than global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8B96-3968-4411-BBDB-E791E0F22AF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Data-Retrieval from Log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ta-retrieval requires log file reading routines which understand layout of individual (possibly variable) serialised protocol SSUs and subsidiaries/chains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urrently provided in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common/src/wread_util.c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Should perhaps be provided on a per-module basis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If to be understood by wread (log file reader) appropriate top-level reading routine should be added as case statement to record-type switch in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wread_util.c: _printfile(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7329-8B4D-4F0E-926D-B2F0762487B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How to Write New Protocol Modules I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vide method suite to populate protocol-specific tcp_serv_methods structur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vide SSU definition for protocol management and extracted state storag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vide error codes and handling routin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vide pool routines for commonly-used data structure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vide SSUs, data extraction, data dumping, and error handling for any higher_level protocol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1245-3332-4C84-B331-162CF8E60AA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How to write new protocol modules II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tate attachmen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dd top-level SSU to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service_data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union of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tcp_conn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type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acket handling attachmen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ervice identified by port: add case statement to get_tcp_serv_type(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ynamically added service: build appropriate SSU and insert into host/host-port/port hash list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efine constants – record types, service types, etc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E6E0-8BF3-4282-BDBB-096D349A908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How to Write New Protocol Modules III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or post-runtime reading/analysis provide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‘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inters’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Log file reading routine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Analysis data retrieval interface based upon these and SSU definitions 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70D2-208C-4D6B-A291-0250887A3D1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Reminders I – Nprobe / Wan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ernel Modules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(TR 3.3.1)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prob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ser-level data Extraction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(Wan)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(TR 3.3.3-6)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076480" y="3143160"/>
            <a:ext cx="1314360" cy="49536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76480" y="3638520"/>
            <a:ext cx="1352520" cy="49536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3EC5-B04B-4AEE-8370-1429323487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Some Thought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Wan packet entry point –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do_ip(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Step into packet at IP header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Requires configuration to locate – distributed amongst nprobe_modules/config.h and Makefiles – messy, needs unification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Part of LLC/MAC etc. headers overwritten by arrival time stamp</a:t>
            </a:r>
            <a:endParaRPr b="0" lang="en-US" sz="2000" spc="-1" strike="noStrike">
              <a:solidFill>
                <a:srgbClr val="00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ossibly pass packet buffer with entire packet contents intact, entry point at packet head, and LL/MAC – based processing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6E1A-70E1-4A2C-B7B8-3B436760164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Coding Hints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List_hdr_t (list.h):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eneric d.l. list handling type and macros (courtesy of OSF1 kernel code – modified)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any macros provided to directly access fields of embedded structure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.g. 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#define TCP_FIRST_ARR_TM tconnp-&gt;flow_inner.first_arr_tm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                                                        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tcp.h)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Watch out for defined constants which are 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bit-patterns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— e.g. dump record types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(np_file.h),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rror codes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(error.h)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38AA-CD84-48F3-A653-99FD42DE4B5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Reminders II - Architecture</a:t>
            </a:r>
            <a:endParaRPr b="0" lang="en-US" sz="3600" spc="-1" strike="noStrike">
              <a:solidFill>
                <a:srgbClr val="000066"/>
              </a:solidFill>
              <a:latin typeface="Arial Black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2584440" y="1809720"/>
            <a:ext cx="397512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794E-904D-41C9-BBD7-FC9283B3B41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Protocol Modules </a:t>
            </a: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TR 3.3.3.1)</a:t>
            </a:r>
            <a:endParaRPr b="0" lang="en-US" sz="24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ultiple, configurable, additive levels of data extraction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Count packets/bytes passed in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emux according to content – perhaps pass to higher-level module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Process for presentation to higher-level (e.g. TCP reassembly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Extract protocol-specific data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Ref 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tcpdump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inters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Good place to start when writing new modules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8199-FCAF-4AC8-AC2C-BB22A586CC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Packet Passing – Principal Data Types I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ufrec – buffer record (webtraffic.h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One per packet</a:t>
            </a:r>
            <a:endParaRPr b="0" lang="en-US" sz="2800" spc="-1" strike="noStrike">
              <a:solidFill>
                <a:srgbClr val="003399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typedef struct bufrec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{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struct timeval ts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/* when arrived */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int plength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/* length off wire */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int linkt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/* interface type collected from */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unsigned char *base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/* start of packet buffer */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#ifdef TCPDUMP_FED  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int snaplen;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/* max length pf tcpdump capture */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#endif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3399"/>
                </a:solidFill>
                <a:latin typeface="Lucida Console"/>
              </a:rPr>
              <a:t>} bufrec_t;</a:t>
            </a: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9E6A-191B-4609-9CAB-8B93F80489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Packet Passing – data Types II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rec – packet record (webtraffic.h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One per packet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– Primary packet-passing mechanism</a:t>
            </a:r>
            <a:endParaRPr b="0" lang="en-US" sz="2400" spc="-1" strike="noStrike">
              <a:solidFill>
                <a:srgbClr val="003399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typedef struct prec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{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struct prec *next;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/* used only for pool list */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bufrec_t *brecp;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s_clock_t arr_tm;  /* arrival time in ms - used for timeouts */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unsigned char *buf; /* where in buffer we are now */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int len;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/* and how much remaining */  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int trunc;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/* truncation from claimed IP length */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listhdr_t *flowlist;/* ptr. to host/host hash table slot*/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0099"/>
                </a:solidFill>
                <a:latin typeface="Lucida Console"/>
              </a:rPr>
              <a:t>} prec_t;</a:t>
            </a:r>
            <a:endParaRPr b="0" lang="en-US" sz="1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B05B-A506-46E8-84EE-938645A514E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Black"/>
              </a:rPr>
              <a:t>Packet and Data Extraction Flow</a:t>
            </a:r>
            <a:endParaRPr b="0" lang="en-US" sz="32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ernel packet capture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(src $ROOT/nprobe_modules)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000066"/>
              </a:buClr>
              <a:buFont typeface="Wing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Wan packet acquisition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probe_main.c: worker_thread())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000066"/>
              </a:buClr>
              <a:buFont typeface="Wing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P processing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webtraffic.c: do_ip, TR 3.3.3.3)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Why entry point at IP header level? – see on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000066"/>
              </a:buClr>
              <a:buFont typeface="Wing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CP/UDP/IGMP processing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(webtraffic.c: do_igmp(), tcp.c:do_tcp()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udp.c:do_udp(), TR3.3.3.4/5)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000066"/>
              </a:buClr>
              <a:buFont typeface="Wing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CP/UDP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ervice processing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(e.g. http, dns –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TR 3.3.3.6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) 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lvl="1" marL="698400" indent="-26856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Service identified by port (new connections) </a:t>
            </a: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(e.g. tcp.c:get_tcpserv_type())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lvl="1" marL="698400" indent="-26856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Or packet’s connection  (</a:t>
            </a: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flows.c:get_host_flow())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lvl="1" marL="698400" indent="-268560">
              <a:spcBef>
                <a:spcPts val="4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Methods and processing determined by services’ </a:t>
            </a:r>
            <a:r>
              <a:rPr b="0" i="1" lang="en-US" sz="1600" spc="-1" strike="noStrike">
                <a:solidFill>
                  <a:srgbClr val="000066"/>
                </a:solidFill>
                <a:latin typeface="Tahoma"/>
              </a:rPr>
              <a:t>service_data_type 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record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000066"/>
              </a:buClr>
              <a:buFont typeface="Wing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igher-level processing (e.g. html, 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TR 3.3.3.7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1" marL="698400" indent="-268560"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Called from services tcp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_service_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pkt() method </a:t>
            </a:r>
            <a:endParaRPr b="0" lang="en-US" sz="1800" spc="-1" strike="noStrike">
              <a:solidFill>
                <a:srgbClr val="003399"/>
              </a:solidFill>
              <a:latin typeface="Tahoma"/>
            </a:endParaRPr>
          </a:p>
          <a:p>
            <a:pPr lvl="1" marL="698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                                                                      </a:t>
            </a:r>
            <a:r>
              <a:rPr b="0" lang="en-US" sz="1600" spc="-1" strike="noStrike">
                <a:solidFill>
                  <a:srgbClr val="ff3300"/>
                </a:solidFill>
                <a:latin typeface="Tahoma"/>
              </a:rPr>
              <a:t>(e.g. http.c:tcp_http_pkt))</a:t>
            </a: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lvl="1" marL="6984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ahoma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Hall / PAM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9BFD-2BBA-456E-8F1D-FF1637D9473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/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1T14:58:41Z</dcterms:created>
  <dc:creator>Computer Laboratory</dc:creator>
  <dc:description/>
  <dc:language>en-US</dc:language>
  <cp:lastModifiedBy>gtadmin</cp:lastModifiedBy>
  <cp:lastPrinted>2001-11-13T14:22:11Z</cp:lastPrinted>
  <dcterms:modified xsi:type="dcterms:W3CDTF">2004-01-27T14:30:39Z</dcterms:modified>
  <cp:revision>177</cp:revision>
  <dc:subject/>
  <dc:title>PowerPoint Presentation</dc:title>
</cp:coreProperties>
</file>