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30B-0FDE-4555-8C6B-449E8829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10C-5C0A-4631-A39A-41F3E217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C9A-F584-490A-BE03-936A58DC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442-EEA0-4CF2-881A-722FBB36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8128-3BDD-4FE3-9CBE-0043D487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93DD-E22B-4C7F-8E13-1F5BC767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E29F-77F4-4017-9CAF-D9EB0E55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14B4-31E3-450C-8627-77865878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5223-1F2E-4B5D-8709-7EDDFD58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7121-2436-4654-8360-08BD77E6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99B9-63D4-40D8-AF7C-BBD846B1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79A-39B8-4492-B481-CC70DB4D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D934-F86B-46E5-A6CE-69671ACF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F7DB-4B8F-4D90-9802-ED44A3D6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0ED2-ED49-4C83-AC7B-BCCAC77F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5D44-01F2-4AD0-B8C0-B7F1B4B1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C8F0-447B-47F9-A9CB-0D53785D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9151-0337-4255-A932-2ADA6DE8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E7076-BB9E-40AF-8596-10C75266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F8253-97B4-4FB0-888D-73F3591B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4D7D-209D-4919-A6E4-C12002FC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8037A-D832-4F34-A8ED-9EEC44D2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3BC-28AF-4AE2-A9F3-4129A83F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77565-C8C9-4BEF-8976-314BF05E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0D99-9215-494F-A4F5-3BC01E31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1C19-6A60-4356-BB4E-77CCE7A0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AEDF-3143-4547-B63F-97F97286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75847-7514-4BF1-8216-ACF937E4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2F5C-A3A6-478C-A397-8E994A0A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3CE28-AD4D-4725-8A33-75D9457C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FFF5E-8831-413B-BED9-35F7896F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AA625-4A96-4B2C-8937-04997CC3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935D1-7742-4782-8D08-5103222E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44A-9F63-455F-9BF7-072E67F9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F17B9-28B3-42B9-B574-BF73C109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1A30A-9778-40EB-A770-2DBCCD60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85134-EA15-489E-934C-2A7F2F9A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6AF52-71E1-4865-AFBF-59B409C9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7B8FD-9B10-4509-80EF-01173696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CE8E5-95BD-40B1-A34C-7BD5BB37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3396A-7C67-49A5-B434-FF0722AE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64863-F490-48EE-BD6B-D4C51749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AF495-F95E-4B19-B978-849E2D71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42A2E-9C86-4966-B632-38DA99B9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18E-1B44-49EB-83ED-199C6509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AB4B3-5E7F-4FFC-880E-B3ADE548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9BF58-F5F1-4704-8C51-13668362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7E0C3-2F7C-41B6-B0A4-A908E5CF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E4C2B-FB12-4422-A13B-5C6FA604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61FCA-00EE-4251-AA26-53B77BCE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A694D-1FB2-40B2-8CBF-FF3F2F9F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93F47-0519-43A8-A7A6-2B8F7308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E99DE-E4EF-460D-B1F9-7CCFC736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0ED5A-D580-456C-BD13-D0DF94B0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0C07E-E04A-4889-886B-8766A609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8A5-FEB4-473B-BFCE-C6A8CECC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A15BB-C6B5-472D-AF9D-E532A9C3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26BA8-630C-4AE6-86FF-740A37A5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62F39-9BA2-4FC0-8046-77CA3B7C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A3190-230F-4D46-9C04-55A7E967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B5EDA-A594-4B48-8F26-D024260F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53D39-53A5-49D4-A2AC-6D253BE6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9DB4A-7B81-4493-8129-B574B15A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34165-F553-410E-B9A8-C092BA29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73762-808A-4EF8-A195-5BE9235C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D113A-DF89-45AC-B328-3B950FA5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B9A-3D0E-436D-BC85-44B147AD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462FB-DA25-4396-B43D-0995E83F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9374A-6B0F-4B0B-B405-A825D61C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28EF9-50E2-4122-B70E-714B6021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B71FB-5C02-45ED-8E7A-C2B8805D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A10F8-AA03-402C-B257-48A00ED0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DB58A-D7B9-4DD2-83F6-B709B800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4CF48-3456-44DA-AA96-F011578E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38ABE-651C-48A3-8640-75E8D1FF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2152D-3031-4B1D-A6F6-A7F4735B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B85A3-AF6A-4954-802B-1E8AC214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7DB-38D2-418B-8FEC-3777867A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8D9A1-811D-4973-BE1C-80E7EA24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2B91A-15F1-463C-BA2C-7BF9C624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32BDC-0802-4F2B-A226-FB5DE326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0EE78-D258-4941-BE8A-284E9452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13CE1-B813-4162-9EFC-FB1A6104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F3C-BA4B-405B-AE77-0AC945BE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n Intern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 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179D-8D69-4B90-8820-B8CFB814258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324080" y="1314360"/>
            <a:ext cx="73706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2880" y="94284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n In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DA65-5AD1-4CA8-A2F1-258FBA800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33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n In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96AF-8FDF-4BAF-992C-FBCD5C31F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24080" y="1314360"/>
            <a:ext cx="73706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F2B9-E862-4040-8466-7ED4D2F34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FB30-B3E5-49C4-B076-7925A2D9B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66720" y="4662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n Intern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 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36D4-9877-4606-8C12-3406DCD531F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2880" y="94284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6A06-54AB-4FFC-9BD0-9655E1307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l.cam.ac.uk/TechReports/UCAM-CL-TR-571.pdf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42880" y="94284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Black"/>
              </a:rPr>
              <a:t>An Introduction to Wan (Nprobe) Internals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3733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James Hall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Arial Black"/>
              </a:rPr>
              <a:t>University of Cambridge 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Arial Black"/>
              </a:rPr>
              <a:t>Computer Laboratory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Arial Black"/>
              </a:rPr>
              <a:t>James.Hall@cl.cam.ac.uk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low = UDP/TCP conne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-Stage identifica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st/host – hashed by addresses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flows.h: struct       host_flow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rt/port – hashed by ports, identified by ports and service typ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flows.h: struct flow_common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rt hash lists hang from host hash list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ost/host list entries keep reference count of port entries – blown away on zero-count decrement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546-4C57-4B75-BFD8-CA56C30772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low = UDP/TCP connection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Host/host hash table entry</a:t>
            </a:r>
            <a:r>
              <a:rPr b="0" lang="en-US" sz="32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flows.h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struct host_flow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list_t hlist;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/* hash list links */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hdr_t *hflow_list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head of hash list it's on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signed int srcaddr, dstaddr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NBO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hdr_t flow_conns[N_CONN_BUCKETS];/* hash based on  ports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int n_conns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no. of tcp conns for these hosts */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8EA-DF2D-40CD-A7E5-62DB30620D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ort hash list entry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flow_common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_t hlist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/* hash list links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_t conn_timeo_q;   /* connection time out queue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host_flow *hconnp;/* ptr to the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host_flow_t it hangs off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struct flow_inner inner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int port_indx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      /* indx into host_flow tcp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      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conns hash table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signed char type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eg. TCP, UDP */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844-7ECA-42CE-B121-B8A876B5C8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rt hash list entry – portion dumped to lo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struct flow_inner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int state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int src_atmdata, dst_atmdata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short srcport, dstport;      /* NBO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int srcaddr, dstaddr;        /* NBO - shadows vals in host_flow struct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s_clock_t last_arr_tm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   /* last packet arrival in absolute us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s_clock_t first_arr_tm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   /* first do - most other times are relative to this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char serv_type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247-A717-4C93-AA49-A8165E01FD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A digression – </a:t>
            </a:r>
            <a:r>
              <a:rPr b="0" i="1" lang="en-US" sz="3200" spc="-1" strike="noStrike">
                <a:solidFill>
                  <a:srgbClr val="000066"/>
                </a:solidFill>
                <a:latin typeface="Arial Black"/>
              </a:rPr>
              <a:t>Inner </a:t>
            </a: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tructur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n processes packet on receipt and returns buffer to kernel pool immediatel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nce statefu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AU (Data Association Unit) – set of packets comprising a syntactic or semantic unit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R 3.2.2.1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SU (State Storage Unit) – state associated with DAU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R 3.3.3.2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Management of DAU during it’s lifetime and packet association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Dumped/extracted data – held in</a:t>
            </a:r>
            <a:r>
              <a:rPr b="0" i="1" lang="en-US" sz="2000" spc="-1" strike="noStrike">
                <a:solidFill>
                  <a:srgbClr val="0033cc"/>
                </a:solidFill>
                <a:latin typeface="Tahoma"/>
              </a:rPr>
              <a:t> inner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for block dump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30E-42A9-4957-A64C-B1E610ECEA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TCP processing and Data Structures </a:t>
            </a: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TR 3.3.3.4)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ntry do_tcp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prec_t *pp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 struct ip *ipp, us_clock_t us_time)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cp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ew connectio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ssign flow and tcp data structures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dentify service type and assign tcp_service_data (handling methods)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cp.c: get_tcpserv_type())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nd extracted data structures 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xisting connectio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dentify flow and attach data structures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quencing/reassembly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Process if in sequenc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cp.c: tcp_packet())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Else hold – exception to immediate packet processing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Process any held packets now in sequence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D1F-EAA2-4E68-ADD8-2319F6E1E9B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ociated connection and service state held in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_conn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tcp.h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{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flow_common flow_common;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attachment to # list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other alternate connections may hang off this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_conn *alt_prev, *alt_next;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_service_data serv_data;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methods and flags)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signed int service_tm; /* effective time current packet seen */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 tcp; 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tcp state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tcp_hdrs_t hdrs; 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collected header data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ion service_data su; 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service state)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DD0-3CAB-4343-8BA4-5C1D7E29F8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onnection state held in: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cp.h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struct tcp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{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tcp_simplex_flow_t client, server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};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struct tcp_simplex_flow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int state;   /* Flags */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int firstack;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int lastack; /* last ack sent in THIS direction */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.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Lucida Console"/>
              </a:rPr>
              <a:t>listhdr_t held_list;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struct tcp_simplex_flow *reverse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char nheld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short mss;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char wshift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6DF-DB6A-495A-8FE5-432BE4E637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I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ld packet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nked list hanging from tcp_simplex_flow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typedef struct tcp_heldpkt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listhdr_t links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listhdr_t seq_timeo_q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  /* sequence gap timeout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int seq, ack, len;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char tcp_flags, status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prec_t *pp;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simplex_flow *tsp; /* back ptr. to simplex flow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conn *tconnp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  /* ditto tcp connection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s_clock_t arr_tm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 tcp_heldpkt_t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aintained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s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ority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eu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7FF-ED0C-42AE-AF83-DAB948D121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anagement of held packets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cp_seq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Held by call t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cp_hold(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fter sequence gap filled by arrival outstanding in-sequence segments processed by call t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cp_catchup(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gment at head of queue timed out: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cp_seq_timeout())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R 3.3.3.4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fter timeout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t proportion of recv buffer pool consumed by held packets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CK passed missing segment seen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No. of segments held for this connection exceeds threshold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nnection times out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55D-4DF1-4E72-9466-1861283B648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Outlin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Wan = c. 36,000 lines of code – only outline of major functionality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rotocol module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acket pass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acket and data-extraction flow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Flows/connectio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CP process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CP service handl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Data dump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tructure pools, counters, error handling, data retrieval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Writing new protocol module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28D-3419-4166-8709-B1F4AE72EF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V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meouts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imeouts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meout mechanism – linked list: head oldes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lobal tcp_conn_timeo_q, udp_conn_timeo_q, tcp_seq_timeo_q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nnections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Packet arrivals move record to end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eld packet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Static by arrival time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heck_timeouts() called at packet arrivals from do_ip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B2B-1B29-4899-98C0-5630BB2DE8B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V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aving header da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ntrolled by dump_hdrs flag of connection’s tcp_service_data structur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hdrs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s_clock_t atm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all hdr times are relative to this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nheld;  unsigned int conn_id;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dumphdr hdrs[MAX_TCP_DUMPHDRS_HELD]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dumphdr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(NB needs modification to record SACKs)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rtm;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int seq, ack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short window, len;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char flags, way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1A7-9DD2-44F6-8346-63C609A824E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tate Storage Units – Generalised Arrangement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017720" y="1809720"/>
            <a:ext cx="3163680" cy="42861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47960" y="1809720"/>
            <a:ext cx="3809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low/connection management – struct flow_common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aved connection data struct flow_inner.tcp_conn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Directional connection management and saved data – struct tcp_simplex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3933720" y="2048040"/>
            <a:ext cx="752760" cy="618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3714480" y="2695680"/>
            <a:ext cx="971640" cy="66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3733920" y="3600000"/>
            <a:ext cx="923760" cy="514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084-5710-4E4E-B11E-5D2AD4CC353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rvice above transport level recognized by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rt No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ynamically by construction of flow structures and insertion into hash list (e.g. ICMP defined)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R 3.3.3.8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F45-1BC1-431C-A14F-E617187BAC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xtraction of data controlled by struct tcp_service_data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struct tcp_service_data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(tcp.h)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struct tcp_serv_methods *meth;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ctr_t *serv_ctr;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struct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{      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unsigned int open : 8, hdrs : 8, close : 8, serv_type : 8;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} rectypes; /* record types for dump */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unsigned char dmp_hdrs;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/* set if tcp hdrs to be dumped */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55E-4AAB-4561-8718-F203C480DC7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cerpt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from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get_tcpserv_type – sp i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cp_service_data*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for (i = 1, port = sport; i &lt; 3; i++, port = dport)  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{    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witch (port)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case 20: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meth = &amp;tcp_ftp_data_serv_methods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serv_type = TCP_SERV_FTP_DATA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open = REC_TCP_FTP_DATA_OPEN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hdrs = REC_TCP_FTP_DATA_HDRS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close = REC_TCP_FTP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serv_ctr = &amp;counters.TRAFF_TCP_FTP_DATA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dmp_hdrs |= DUMP_HDRS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return i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break;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.. . Etc.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896-BA79-4631-B42C-1732EE51BC8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extraction determined by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struct tcp_serv_methods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(tcp.h)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void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open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prec_t *pp, struct tcp_conn *tconnp,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                             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way, unsigned char flags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pkt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prec_t *pp, struct tcp_conn *tconnp, int way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sync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tcp_heldpkt_t *hpp, struct tcp_conn *tconnp,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tcp_simplex_flow_t *tsp, unsigned int gap,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way, unsigned int tm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void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close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prec_t *pp, struct tcp_conn *tconnp, int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way, unsigned char flags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void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dump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struct tcp_conn *tconnp)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alled from tcp_pkt() as ordered segment is processed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1D9-247F-4641-A574-6A3FE30C14F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UDP Service Handling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DP handling much as TCP but less complicated as no reassebl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wise much as TCP – similar or shared methods and structur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DP connection closing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ften implied by protocol semantics (e.g. DNS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wise rely on timeout mechanism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BE3-55E8-4A36-84FD-B3C195832F2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nterrelationship of Principal Data Structur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68400" y="1984320"/>
            <a:ext cx="7380360" cy="37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8D6-6DC0-4FBA-BA24-B8811B4AD81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Data Extraction Error Handling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extraction functions called as serv_pkt() return 0 on success, error code &lt;0 on failur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 failure return call error routine to free buffer and dump entire packe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ly fully implemented for HTTP data extraction –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error.c: http_erro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rror code definitions: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mon/hdr/http_errdefs.h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mon/src/errstring.c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ump by calling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if_nprobe.c: dump_pkt(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D43-877A-4694-8682-A552ABE0023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ources of Inform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ource cod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probe repository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$ROOT/runtime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$ROOT/shared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ulti-Layer Network and Analysis”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puter Lab Technical Report Number 571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www.cl.cam.ac.uk/TechReports/UCAM-CL-TR-571.pdf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hapter 3 Describes Nprobe implementat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e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– James.Hall@cl.cam.ac.uk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72F-858F-4F54-8827-B2EBAA0167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104840" y="1866960"/>
            <a:ext cx="5727600" cy="42958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Dumping Data to Logs I </a:t>
            </a: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(TR 3.3.4)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47960" y="1809720"/>
            <a:ext cx="3809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efined by serv_dump() functio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ostly copying blocks of (typed) data to output buffer as byte sequences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DUMP_*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macros in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output.h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10B-F4E3-48BD-A99A-05AAC3B0B7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umping Data to Logs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dumps occur at three point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 connection open (triggered by call t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_*_open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Dumps address/port detail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flow_inner)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and assigns </a:t>
            </a:r>
            <a:r>
              <a:rPr b="0" i="1" lang="en-US" sz="2000" spc="-1" strike="noStrike">
                <a:solidFill>
                  <a:srgbClr val="0033cc"/>
                </a:solidFill>
                <a:latin typeface="Tahoma"/>
              </a:rPr>
              <a:t>connection id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locks of TCP header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 connection close (triggered by call t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_*_close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B – all dumps preceded by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record type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np_file.h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54D-22DA-4230-9795-CBF750BB7A2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umping Data to Logs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ome wrinkle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ust check room in buffe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sponsible for dumping all higher-level protocol data in chained/subsidiary SSU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ust dump transport-level data (e.g. call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.c: tcp_dump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ust initialise dump with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rec_dump_start() and rec_dump_end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(output.c) to prepend record type and initiate buffer management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http.c: tcp_http_dump()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r example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1BD-E634-47DB-8D73-D21CF688C34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ata Structure Pool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igh turnover of data structu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arly profiling showed up to %0% of cycles spent in malloc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nce pre-allocated structures held in pool (LIFO) – drawn, initialised and returned as required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pool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ach type require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ol initialisation method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ructure (per use) initialisaton, get and recycle method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561-66ED-4A34-9DC1-425DDBC50A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ounters and Traffic Accounting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unters.h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fines a counter block which keeps counts of protocol-specific packets/bytes and similar useful da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unters.c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s counter handling method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6A45-2D33-48E1-A112-6A8FA6AAB9C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Log File Presentation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ill inevitably wish to examine extracted data by eye during development and to check feasibilit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quire routines to print out representation of logged da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urrent ‘printers’ in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/common/src/report.c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 supported by utility routines in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print_util.c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hould perhaps be provided at module level rather than globa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B6F7-EB10-45C0-8CB9-ADF41E0C5C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ata-Retrieval from Log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-retrieval requires log file reading routines which understand layout of individual (possibly variable) serialised protocol SSUs and subsidiaries/chains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urrently provided in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mon/src/wread_util.c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Should perhaps be provided on a per-module basis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to be understood by wread (log file reader) appropriate top-level reading routine should be added as case statement to record-type switch in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read_util.c: _printfile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5A8-C652-4707-A89C-F2D0B26C2D7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to Write New Protocol Modules 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method suite to populate protocol-specific tcp_serv_methods structur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SSU definition for protocol management and extracted state storag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error codes and handling routin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pool routines for commonly-used data structu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SSUs, data extraction, data dumping, and error handling for any higher_level protocol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329-0241-42D9-A494-BE13DE4004A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to write new protocol modules I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ate attachmen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dd top-level SSU t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ervice_data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union of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_con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typ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cket handling attachmen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rvice identified by port: add case statement to get_tcp_serv_type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ynamically added service: build appropriate SSU and insert into host/host-port/port hash list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fine constants – record types, service types, etc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432-FEBF-40E6-B5C6-53EC06B3C7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to Write New Protocol Modules II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 post-runtime reading/analysis provid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nters’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og file reading routin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Analysis data retrieval interface based upon these and SSU definitions 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C23-5A67-42FD-A892-7DC161BB83C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minders I – Nprobe / Wa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ernel Module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R 3.3.1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prob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ser-level data Extra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Wan)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R 3.3.3-6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076480" y="3143160"/>
            <a:ext cx="1314360" cy="4953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76480" y="3638520"/>
            <a:ext cx="1352520" cy="4953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F73-2B64-402C-AC56-4FD9C52ADA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ome Though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n packet entry point –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o_ip(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ep into packet at IP heade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Requires configuration to locate – distributed amongst nprobe_modules/config.h and Makefiles – messy, needs unification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Part of LLC/MAC etc. headers overwritten by arrival time stamp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ssibly pass packet buffer with entire packet contents intact, entry point at packet head, and LL/MAC – based processing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A39-AA0C-4798-B0CA-44072AC3A89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ding Hi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List_hdr_t (list.h)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neric d.l. list handling type and macros (courtesy of OSF1 kernel code – modified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any macros provided to directly access fields of embedded structu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.g. 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#define TCP_FIRST_ARR_TM tconnp-&gt;flow_inner.first_arr_tm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                                 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cp.h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tch out for defined constants which are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bit-patterns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— e.g. dump record type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np_file.h),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rror code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error.h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1F6-818D-40FC-AAD5-D257E8E73D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minders II - Architectur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584440" y="1809720"/>
            <a:ext cx="397512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86E-4DE8-4994-A91C-D2AC38E784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rotocol Modules </a:t>
            </a: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TR 3.3.3.1)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ultiple, configurable, additive levels of data extra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unt packets/bytes passed i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mux according to content – perhaps pass to higher-level modul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cess for presentation to higher-level (e.g. TCP reassembl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tract protocol-specific data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f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tcpdump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nter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ood place to start when writing new modul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458-5FD8-4BCC-A53D-A03CD067D0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Packet Passing – Principal Data Types 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ufrec – buffer record (webtraffic.h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e per packe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typedef struct bufrec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imeval ts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when arrived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plength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length off wire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linkt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interface type collected from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char *base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start of packet buffer */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#ifdef TCPDUMP_FED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snaplen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max length pf tcpdump capture */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#endif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 bufrec_t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626-8D64-4685-8BA7-CC1C5B7A93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Packet Passing – data Types I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rec – packet record (webtraffic.h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One per packet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– Primary packet-passing mechanism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typedef struct prec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struct prec *next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/* used only for pool list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bufrec_t *brecp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s_clock_t arr_tm;  /* arrival time in ms - used for timeouts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char *buf; /* where in buffer we are now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len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/* and how much remaining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trunc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/* truncation from claimed IP length */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listhdr_t *flowlist;/* ptr. to host/host hash table slot*/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} prec_t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14A-A395-4994-8F9E-62D4E170C3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Packet and Data Extraction Flow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ernel packet captur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src $ROOT/nprobe_modules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Wan packet acquisition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probe_main.c: worker_thread()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P processing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webtraffic.c: do_ip, TR 3.3.3.3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Why entry point at IP header level? – see on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CP/UDP/IGMP processing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webtraffic.c: do_igmp(), tcp.c:do_tcp(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udp.c:do_udp(), TR3.3.3.4/5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CP/UDP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rvice processing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(e.g. http, dns –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TR 3.3.3.6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ervice identified by port (new connections)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(e.g. tcp.c:get_tcpserv_type())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Or packet’s connection  (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flows.c:get_host_flow())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ethods and processing determined by services’ 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service_data_type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ecord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igher-level processing (e.g. html,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TR 3.3.3.7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alled from services tcp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_service_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kt() method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                                            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(e.g. http.c:tcp_http_pkt))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D48E-3A67-4ADE-B869-2834A9612F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14:58:41Z</dcterms:created>
  <dc:creator>Computer Laboratory</dc:creator>
  <dc:description/>
  <dc:language>en-US</dc:language>
  <cp:lastModifiedBy>gtadmin</cp:lastModifiedBy>
  <cp:lastPrinted>2001-11-13T14:22:11Z</cp:lastPrinted>
  <dcterms:modified xsi:type="dcterms:W3CDTF">2004-01-27T14:30:39Z</dcterms:modified>
  <cp:revision>177</cp:revision>
  <dc:subject/>
  <dc:title>PowerPoint Presentation</dc:title>
</cp:coreProperties>
</file>