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469800" y="428760"/>
            <a:ext cx="987480" cy="7682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790800" y="6627960"/>
            <a:ext cx="15620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1992240" y="861840"/>
            <a:ext cx="2444760" cy="1905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80880" y="3352680"/>
            <a:ext cx="8456760" cy="37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  <a:ea typeface="Impact"/>
              </a:rPr>
              <a:t>ATM Inter Network Interface </a:t>
            </a:r>
            <a:br>
              <a:rPr sz="5400"/>
            </a:b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Impact"/>
                <a:ea typeface="Impact"/>
              </a:rPr>
              <a:t>Vinai Sirk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Impact"/>
                <a:ea typeface="Impact"/>
              </a:rPr>
              <a:t>John Drak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Impact"/>
                <a:ea typeface="Impact"/>
              </a:rPr>
              <a:t>Ted Tedija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727280" y="233280"/>
            <a:ext cx="734076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000" spc="-1" strike="noStrike">
                <a:solidFill>
                  <a:srgbClr val="006079"/>
                </a:solidFill>
                <a:latin typeface="Impact"/>
                <a:ea typeface="Impact"/>
              </a:rPr>
              <a:t>Information Model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8520" y="1531800"/>
            <a:ext cx="82216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ch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et of ATM network address or prefixes that may be reached via the advertising networ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228600">
              <a:lnSpc>
                <a:spcPct val="85000"/>
              </a:lnSpc>
              <a:spcBef>
                <a:spcPts val="119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imate of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dvertising network needs to specify the upperbound on available bandwidth through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228600">
              <a:lnSpc>
                <a:spcPct val="85000"/>
              </a:lnSpc>
              <a:spcBef>
                <a:spcPts val="119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imate of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ailable bandwidth through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727280" y="233280"/>
            <a:ext cx="734076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000" spc="-1" strike="noStrike">
                <a:solidFill>
                  <a:srgbClr val="006079"/>
                </a:solidFill>
                <a:latin typeface="Impact"/>
                <a:ea typeface="Impact"/>
              </a:rPr>
              <a:t>Information Model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50800" y="1531800"/>
            <a:ext cx="82216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85000"/>
              </a:lnSpc>
              <a:spcBef>
                <a:spcPts val="1199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gr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et of component prefixes which must be present in order to create and advertise the aggre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228600">
              <a:lnSpc>
                <a:spcPct val="85000"/>
              </a:lnSpc>
              <a:spcBef>
                <a:spcPts val="119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utes that a network can learn from a 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228600">
              <a:lnSpc>
                <a:spcPct val="85000"/>
              </a:lnSpc>
              <a:spcBef>
                <a:spcPts val="119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or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utes that a network can learn from a 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 flipV="1">
            <a:off x="2362320" y="2438280"/>
            <a:ext cx="1904760" cy="1371600"/>
          </a:xfrm>
          <a:prstGeom prst="line">
            <a:avLst/>
          </a:prstGeom>
          <a:ln w="38160">
            <a:solidFill>
              <a:srgbClr val="a800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4648320"/>
            <a:ext cx="1295640" cy="1066680"/>
          </a:xfrm>
          <a:prstGeom prst="line">
            <a:avLst/>
          </a:prstGeom>
          <a:ln w="38160">
            <a:solidFill>
              <a:srgbClr val="a800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727280" y="233280"/>
            <a:ext cx="734076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000" spc="-1" strike="noStrike">
                <a:solidFill>
                  <a:srgbClr val="006079"/>
                </a:solidFill>
                <a:latin typeface="Impact"/>
                <a:ea typeface="Impact"/>
              </a:rPr>
              <a:t>AINI as a Service Provider N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486400" y="2666880"/>
            <a:ext cx="1219320" cy="1067040"/>
          </a:xfrm>
          <a:prstGeom prst="line">
            <a:avLst/>
          </a:prstGeom>
          <a:ln w="38160">
            <a:solidFill>
              <a:srgbClr val="a800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54280" y="1584360"/>
            <a:ext cx="2318040" cy="1437120"/>
          </a:xfrm>
          <a:custGeom>
            <a:avLst/>
            <a:gdLst/>
            <a:ahLst/>
            <a:rect l="0" t="0" r="r" b="b"/>
            <a:pathLst>
              <a:path w="6439" h="3992">
                <a:moveTo>
                  <a:pt x="1019" y="945"/>
                </a:moveTo>
                <a:lnTo>
                  <a:pt x="1079" y="835"/>
                </a:lnTo>
                <a:lnTo>
                  <a:pt x="1159" y="726"/>
                </a:lnTo>
                <a:lnTo>
                  <a:pt x="1279" y="636"/>
                </a:lnTo>
                <a:lnTo>
                  <a:pt x="1389" y="567"/>
                </a:lnTo>
                <a:lnTo>
                  <a:pt x="1529" y="517"/>
                </a:lnTo>
                <a:lnTo>
                  <a:pt x="1699" y="467"/>
                </a:lnTo>
                <a:lnTo>
                  <a:pt x="1889" y="437"/>
                </a:lnTo>
                <a:lnTo>
                  <a:pt x="2089" y="427"/>
                </a:lnTo>
                <a:lnTo>
                  <a:pt x="2339" y="437"/>
                </a:lnTo>
                <a:lnTo>
                  <a:pt x="2549" y="447"/>
                </a:lnTo>
                <a:lnTo>
                  <a:pt x="2699" y="348"/>
                </a:lnTo>
                <a:lnTo>
                  <a:pt x="2829" y="248"/>
                </a:lnTo>
                <a:lnTo>
                  <a:pt x="3019" y="149"/>
                </a:lnTo>
                <a:lnTo>
                  <a:pt x="3240" y="69"/>
                </a:lnTo>
                <a:lnTo>
                  <a:pt x="3510" y="9"/>
                </a:lnTo>
                <a:lnTo>
                  <a:pt x="3779" y="0"/>
                </a:lnTo>
                <a:lnTo>
                  <a:pt x="4019" y="29"/>
                </a:lnTo>
                <a:lnTo>
                  <a:pt x="4289" y="99"/>
                </a:lnTo>
                <a:lnTo>
                  <a:pt x="4449" y="189"/>
                </a:lnTo>
                <a:lnTo>
                  <a:pt x="4599" y="288"/>
                </a:lnTo>
                <a:lnTo>
                  <a:pt x="4739" y="417"/>
                </a:lnTo>
                <a:lnTo>
                  <a:pt x="4799" y="547"/>
                </a:lnTo>
                <a:lnTo>
                  <a:pt x="5009" y="547"/>
                </a:lnTo>
                <a:lnTo>
                  <a:pt x="5209" y="577"/>
                </a:lnTo>
                <a:lnTo>
                  <a:pt x="5389" y="646"/>
                </a:lnTo>
                <a:lnTo>
                  <a:pt x="5509" y="746"/>
                </a:lnTo>
                <a:lnTo>
                  <a:pt x="5629" y="885"/>
                </a:lnTo>
                <a:lnTo>
                  <a:pt x="5689" y="1006"/>
                </a:lnTo>
                <a:lnTo>
                  <a:pt x="5709" y="1115"/>
                </a:lnTo>
                <a:lnTo>
                  <a:pt x="5829" y="1135"/>
                </a:lnTo>
                <a:lnTo>
                  <a:pt x="5949" y="1175"/>
                </a:lnTo>
                <a:lnTo>
                  <a:pt x="6049" y="1225"/>
                </a:lnTo>
                <a:lnTo>
                  <a:pt x="6149" y="1284"/>
                </a:lnTo>
                <a:lnTo>
                  <a:pt x="6219" y="1334"/>
                </a:lnTo>
                <a:lnTo>
                  <a:pt x="6289" y="1404"/>
                </a:lnTo>
                <a:lnTo>
                  <a:pt x="6359" y="1493"/>
                </a:lnTo>
                <a:lnTo>
                  <a:pt x="6389" y="1603"/>
                </a:lnTo>
                <a:lnTo>
                  <a:pt x="6399" y="1682"/>
                </a:lnTo>
                <a:lnTo>
                  <a:pt x="6379" y="1772"/>
                </a:lnTo>
                <a:lnTo>
                  <a:pt x="6329" y="1871"/>
                </a:lnTo>
                <a:lnTo>
                  <a:pt x="6389" y="1981"/>
                </a:lnTo>
                <a:lnTo>
                  <a:pt x="6419" y="2080"/>
                </a:lnTo>
                <a:lnTo>
                  <a:pt x="6429" y="2190"/>
                </a:lnTo>
                <a:lnTo>
                  <a:pt x="6399" y="2329"/>
                </a:lnTo>
                <a:lnTo>
                  <a:pt x="6379" y="2409"/>
                </a:lnTo>
                <a:lnTo>
                  <a:pt x="6299" y="2508"/>
                </a:lnTo>
                <a:lnTo>
                  <a:pt x="6399" y="2648"/>
                </a:lnTo>
                <a:lnTo>
                  <a:pt x="6429" y="2727"/>
                </a:lnTo>
                <a:lnTo>
                  <a:pt x="6439" y="2857"/>
                </a:lnTo>
                <a:lnTo>
                  <a:pt x="6419" y="2976"/>
                </a:lnTo>
                <a:lnTo>
                  <a:pt x="6359" y="3117"/>
                </a:lnTo>
                <a:lnTo>
                  <a:pt x="6289" y="3206"/>
                </a:lnTo>
                <a:lnTo>
                  <a:pt x="6179" y="3306"/>
                </a:lnTo>
                <a:lnTo>
                  <a:pt x="5979" y="3395"/>
                </a:lnTo>
                <a:lnTo>
                  <a:pt x="5779" y="3425"/>
                </a:lnTo>
                <a:lnTo>
                  <a:pt x="5599" y="3405"/>
                </a:lnTo>
                <a:lnTo>
                  <a:pt x="5479" y="3355"/>
                </a:lnTo>
                <a:lnTo>
                  <a:pt x="5389" y="3445"/>
                </a:lnTo>
                <a:lnTo>
                  <a:pt x="5299" y="3525"/>
                </a:lnTo>
                <a:lnTo>
                  <a:pt x="5229" y="3574"/>
                </a:lnTo>
                <a:lnTo>
                  <a:pt x="5079" y="3634"/>
                </a:lnTo>
                <a:lnTo>
                  <a:pt x="4949" y="3684"/>
                </a:lnTo>
                <a:lnTo>
                  <a:pt x="4759" y="3714"/>
                </a:lnTo>
                <a:lnTo>
                  <a:pt x="4569" y="3704"/>
                </a:lnTo>
                <a:lnTo>
                  <a:pt x="4389" y="3664"/>
                </a:lnTo>
                <a:lnTo>
                  <a:pt x="4229" y="3584"/>
                </a:lnTo>
                <a:lnTo>
                  <a:pt x="4129" y="3724"/>
                </a:lnTo>
                <a:lnTo>
                  <a:pt x="4039" y="3793"/>
                </a:lnTo>
                <a:lnTo>
                  <a:pt x="3919" y="3863"/>
                </a:lnTo>
                <a:lnTo>
                  <a:pt x="3789" y="3913"/>
                </a:lnTo>
                <a:lnTo>
                  <a:pt x="3639" y="3933"/>
                </a:lnTo>
                <a:lnTo>
                  <a:pt x="3500" y="3933"/>
                </a:lnTo>
                <a:lnTo>
                  <a:pt x="3370" y="3913"/>
                </a:lnTo>
                <a:lnTo>
                  <a:pt x="3199" y="3843"/>
                </a:lnTo>
                <a:lnTo>
                  <a:pt x="3099" y="3773"/>
                </a:lnTo>
                <a:lnTo>
                  <a:pt x="3009" y="3863"/>
                </a:lnTo>
                <a:lnTo>
                  <a:pt x="2919" y="3913"/>
                </a:lnTo>
                <a:lnTo>
                  <a:pt x="2799" y="3952"/>
                </a:lnTo>
                <a:lnTo>
                  <a:pt x="2639" y="3992"/>
                </a:lnTo>
                <a:lnTo>
                  <a:pt x="2469" y="3982"/>
                </a:lnTo>
                <a:lnTo>
                  <a:pt x="2289" y="3943"/>
                </a:lnTo>
                <a:lnTo>
                  <a:pt x="2149" y="3883"/>
                </a:lnTo>
                <a:lnTo>
                  <a:pt x="2029" y="3773"/>
                </a:lnTo>
                <a:lnTo>
                  <a:pt x="1949" y="3664"/>
                </a:lnTo>
                <a:lnTo>
                  <a:pt x="1819" y="3704"/>
                </a:lnTo>
                <a:lnTo>
                  <a:pt x="1659" y="3724"/>
                </a:lnTo>
                <a:lnTo>
                  <a:pt x="1479" y="3724"/>
                </a:lnTo>
                <a:lnTo>
                  <a:pt x="1329" y="3664"/>
                </a:lnTo>
                <a:lnTo>
                  <a:pt x="1199" y="3594"/>
                </a:lnTo>
                <a:lnTo>
                  <a:pt x="1099" y="3525"/>
                </a:lnTo>
                <a:lnTo>
                  <a:pt x="1019" y="3415"/>
                </a:lnTo>
                <a:lnTo>
                  <a:pt x="989" y="3306"/>
                </a:lnTo>
                <a:lnTo>
                  <a:pt x="909" y="3335"/>
                </a:lnTo>
                <a:lnTo>
                  <a:pt x="759" y="3335"/>
                </a:lnTo>
                <a:lnTo>
                  <a:pt x="599" y="3306"/>
                </a:lnTo>
                <a:lnTo>
                  <a:pt x="429" y="3226"/>
                </a:lnTo>
                <a:lnTo>
                  <a:pt x="319" y="3126"/>
                </a:lnTo>
                <a:lnTo>
                  <a:pt x="219" y="2997"/>
                </a:lnTo>
                <a:lnTo>
                  <a:pt x="169" y="2857"/>
                </a:lnTo>
                <a:lnTo>
                  <a:pt x="139" y="2668"/>
                </a:lnTo>
                <a:lnTo>
                  <a:pt x="149" y="2538"/>
                </a:lnTo>
                <a:lnTo>
                  <a:pt x="199" y="2349"/>
                </a:lnTo>
                <a:lnTo>
                  <a:pt x="89" y="2240"/>
                </a:lnTo>
                <a:lnTo>
                  <a:pt x="29" y="2100"/>
                </a:lnTo>
                <a:lnTo>
                  <a:pt x="0" y="1951"/>
                </a:lnTo>
                <a:lnTo>
                  <a:pt x="0" y="1792"/>
                </a:lnTo>
                <a:lnTo>
                  <a:pt x="39" y="1623"/>
                </a:lnTo>
                <a:lnTo>
                  <a:pt x="109" y="1503"/>
                </a:lnTo>
                <a:lnTo>
                  <a:pt x="239" y="1364"/>
                </a:lnTo>
                <a:lnTo>
                  <a:pt x="379" y="1264"/>
                </a:lnTo>
                <a:lnTo>
                  <a:pt x="529" y="1165"/>
                </a:lnTo>
                <a:lnTo>
                  <a:pt x="679" y="1105"/>
                </a:lnTo>
                <a:lnTo>
                  <a:pt x="839" y="1065"/>
                </a:lnTo>
                <a:lnTo>
                  <a:pt x="969" y="1036"/>
                </a:lnTo>
                <a:lnTo>
                  <a:pt x="1019" y="94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07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181480" y="4495680"/>
            <a:ext cx="1295640" cy="990720"/>
          </a:xfrm>
          <a:prstGeom prst="line">
            <a:avLst/>
          </a:prstGeom>
          <a:ln w="38160">
            <a:solidFill>
              <a:srgbClr val="a800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92920" y="3336840"/>
            <a:ext cx="2318040" cy="1437120"/>
          </a:xfrm>
          <a:custGeom>
            <a:avLst/>
            <a:gdLst/>
            <a:ahLst/>
            <a:rect l="0" t="0" r="r" b="b"/>
            <a:pathLst>
              <a:path w="6439" h="3992">
                <a:moveTo>
                  <a:pt x="1019" y="945"/>
                </a:moveTo>
                <a:lnTo>
                  <a:pt x="1079" y="835"/>
                </a:lnTo>
                <a:lnTo>
                  <a:pt x="1159" y="726"/>
                </a:lnTo>
                <a:lnTo>
                  <a:pt x="1279" y="636"/>
                </a:lnTo>
                <a:lnTo>
                  <a:pt x="1389" y="567"/>
                </a:lnTo>
                <a:lnTo>
                  <a:pt x="1529" y="517"/>
                </a:lnTo>
                <a:lnTo>
                  <a:pt x="1699" y="467"/>
                </a:lnTo>
                <a:lnTo>
                  <a:pt x="1889" y="437"/>
                </a:lnTo>
                <a:lnTo>
                  <a:pt x="2089" y="427"/>
                </a:lnTo>
                <a:lnTo>
                  <a:pt x="2339" y="437"/>
                </a:lnTo>
                <a:lnTo>
                  <a:pt x="2549" y="447"/>
                </a:lnTo>
                <a:lnTo>
                  <a:pt x="2699" y="348"/>
                </a:lnTo>
                <a:lnTo>
                  <a:pt x="2829" y="248"/>
                </a:lnTo>
                <a:lnTo>
                  <a:pt x="3019" y="149"/>
                </a:lnTo>
                <a:lnTo>
                  <a:pt x="3240" y="69"/>
                </a:lnTo>
                <a:lnTo>
                  <a:pt x="3510" y="9"/>
                </a:lnTo>
                <a:lnTo>
                  <a:pt x="3779" y="0"/>
                </a:lnTo>
                <a:lnTo>
                  <a:pt x="4019" y="29"/>
                </a:lnTo>
                <a:lnTo>
                  <a:pt x="4289" y="99"/>
                </a:lnTo>
                <a:lnTo>
                  <a:pt x="4449" y="189"/>
                </a:lnTo>
                <a:lnTo>
                  <a:pt x="4599" y="288"/>
                </a:lnTo>
                <a:lnTo>
                  <a:pt x="4739" y="417"/>
                </a:lnTo>
                <a:lnTo>
                  <a:pt x="4799" y="547"/>
                </a:lnTo>
                <a:lnTo>
                  <a:pt x="5009" y="547"/>
                </a:lnTo>
                <a:lnTo>
                  <a:pt x="5209" y="577"/>
                </a:lnTo>
                <a:lnTo>
                  <a:pt x="5389" y="646"/>
                </a:lnTo>
                <a:lnTo>
                  <a:pt x="5509" y="746"/>
                </a:lnTo>
                <a:lnTo>
                  <a:pt x="5629" y="885"/>
                </a:lnTo>
                <a:lnTo>
                  <a:pt x="5689" y="1006"/>
                </a:lnTo>
                <a:lnTo>
                  <a:pt x="5709" y="1115"/>
                </a:lnTo>
                <a:lnTo>
                  <a:pt x="5829" y="1135"/>
                </a:lnTo>
                <a:lnTo>
                  <a:pt x="5949" y="1175"/>
                </a:lnTo>
                <a:lnTo>
                  <a:pt x="6049" y="1225"/>
                </a:lnTo>
                <a:lnTo>
                  <a:pt x="6149" y="1284"/>
                </a:lnTo>
                <a:lnTo>
                  <a:pt x="6219" y="1334"/>
                </a:lnTo>
                <a:lnTo>
                  <a:pt x="6289" y="1404"/>
                </a:lnTo>
                <a:lnTo>
                  <a:pt x="6359" y="1493"/>
                </a:lnTo>
                <a:lnTo>
                  <a:pt x="6389" y="1603"/>
                </a:lnTo>
                <a:lnTo>
                  <a:pt x="6399" y="1682"/>
                </a:lnTo>
                <a:lnTo>
                  <a:pt x="6379" y="1772"/>
                </a:lnTo>
                <a:lnTo>
                  <a:pt x="6329" y="1871"/>
                </a:lnTo>
                <a:lnTo>
                  <a:pt x="6389" y="1981"/>
                </a:lnTo>
                <a:lnTo>
                  <a:pt x="6419" y="2080"/>
                </a:lnTo>
                <a:lnTo>
                  <a:pt x="6429" y="2190"/>
                </a:lnTo>
                <a:lnTo>
                  <a:pt x="6399" y="2329"/>
                </a:lnTo>
                <a:lnTo>
                  <a:pt x="6379" y="2409"/>
                </a:lnTo>
                <a:lnTo>
                  <a:pt x="6299" y="2508"/>
                </a:lnTo>
                <a:lnTo>
                  <a:pt x="6399" y="2648"/>
                </a:lnTo>
                <a:lnTo>
                  <a:pt x="6429" y="2727"/>
                </a:lnTo>
                <a:lnTo>
                  <a:pt x="6439" y="2857"/>
                </a:lnTo>
                <a:lnTo>
                  <a:pt x="6419" y="2976"/>
                </a:lnTo>
                <a:lnTo>
                  <a:pt x="6359" y="3117"/>
                </a:lnTo>
                <a:lnTo>
                  <a:pt x="6289" y="3206"/>
                </a:lnTo>
                <a:lnTo>
                  <a:pt x="6179" y="3306"/>
                </a:lnTo>
                <a:lnTo>
                  <a:pt x="5979" y="3395"/>
                </a:lnTo>
                <a:lnTo>
                  <a:pt x="5779" y="3425"/>
                </a:lnTo>
                <a:lnTo>
                  <a:pt x="5599" y="3405"/>
                </a:lnTo>
                <a:lnTo>
                  <a:pt x="5479" y="3355"/>
                </a:lnTo>
                <a:lnTo>
                  <a:pt x="5389" y="3445"/>
                </a:lnTo>
                <a:lnTo>
                  <a:pt x="5299" y="3525"/>
                </a:lnTo>
                <a:lnTo>
                  <a:pt x="5229" y="3574"/>
                </a:lnTo>
                <a:lnTo>
                  <a:pt x="5079" y="3634"/>
                </a:lnTo>
                <a:lnTo>
                  <a:pt x="4949" y="3684"/>
                </a:lnTo>
                <a:lnTo>
                  <a:pt x="4759" y="3714"/>
                </a:lnTo>
                <a:lnTo>
                  <a:pt x="4569" y="3704"/>
                </a:lnTo>
                <a:lnTo>
                  <a:pt x="4389" y="3664"/>
                </a:lnTo>
                <a:lnTo>
                  <a:pt x="4229" y="3584"/>
                </a:lnTo>
                <a:lnTo>
                  <a:pt x="4129" y="3724"/>
                </a:lnTo>
                <a:lnTo>
                  <a:pt x="4039" y="3793"/>
                </a:lnTo>
                <a:lnTo>
                  <a:pt x="3919" y="3863"/>
                </a:lnTo>
                <a:lnTo>
                  <a:pt x="3789" y="3913"/>
                </a:lnTo>
                <a:lnTo>
                  <a:pt x="3639" y="3933"/>
                </a:lnTo>
                <a:lnTo>
                  <a:pt x="3500" y="3933"/>
                </a:lnTo>
                <a:lnTo>
                  <a:pt x="3370" y="3913"/>
                </a:lnTo>
                <a:lnTo>
                  <a:pt x="3199" y="3843"/>
                </a:lnTo>
                <a:lnTo>
                  <a:pt x="3099" y="3773"/>
                </a:lnTo>
                <a:lnTo>
                  <a:pt x="3009" y="3863"/>
                </a:lnTo>
                <a:lnTo>
                  <a:pt x="2919" y="3913"/>
                </a:lnTo>
                <a:lnTo>
                  <a:pt x="2799" y="3952"/>
                </a:lnTo>
                <a:lnTo>
                  <a:pt x="2639" y="3992"/>
                </a:lnTo>
                <a:lnTo>
                  <a:pt x="2469" y="3982"/>
                </a:lnTo>
                <a:lnTo>
                  <a:pt x="2289" y="3943"/>
                </a:lnTo>
                <a:lnTo>
                  <a:pt x="2149" y="3883"/>
                </a:lnTo>
                <a:lnTo>
                  <a:pt x="2029" y="3773"/>
                </a:lnTo>
                <a:lnTo>
                  <a:pt x="1949" y="3664"/>
                </a:lnTo>
                <a:lnTo>
                  <a:pt x="1819" y="3704"/>
                </a:lnTo>
                <a:lnTo>
                  <a:pt x="1659" y="3724"/>
                </a:lnTo>
                <a:lnTo>
                  <a:pt x="1479" y="3724"/>
                </a:lnTo>
                <a:lnTo>
                  <a:pt x="1329" y="3664"/>
                </a:lnTo>
                <a:lnTo>
                  <a:pt x="1199" y="3594"/>
                </a:lnTo>
                <a:lnTo>
                  <a:pt x="1099" y="3525"/>
                </a:lnTo>
                <a:lnTo>
                  <a:pt x="1019" y="3415"/>
                </a:lnTo>
                <a:lnTo>
                  <a:pt x="989" y="3306"/>
                </a:lnTo>
                <a:lnTo>
                  <a:pt x="909" y="3335"/>
                </a:lnTo>
                <a:lnTo>
                  <a:pt x="759" y="3335"/>
                </a:lnTo>
                <a:lnTo>
                  <a:pt x="599" y="3306"/>
                </a:lnTo>
                <a:lnTo>
                  <a:pt x="429" y="3226"/>
                </a:lnTo>
                <a:lnTo>
                  <a:pt x="319" y="3126"/>
                </a:lnTo>
                <a:lnTo>
                  <a:pt x="219" y="2997"/>
                </a:lnTo>
                <a:lnTo>
                  <a:pt x="169" y="2857"/>
                </a:lnTo>
                <a:lnTo>
                  <a:pt x="139" y="2668"/>
                </a:lnTo>
                <a:lnTo>
                  <a:pt x="149" y="2538"/>
                </a:lnTo>
                <a:lnTo>
                  <a:pt x="199" y="2349"/>
                </a:lnTo>
                <a:lnTo>
                  <a:pt x="89" y="2240"/>
                </a:lnTo>
                <a:lnTo>
                  <a:pt x="29" y="2100"/>
                </a:lnTo>
                <a:lnTo>
                  <a:pt x="0" y="1951"/>
                </a:lnTo>
                <a:lnTo>
                  <a:pt x="0" y="1792"/>
                </a:lnTo>
                <a:lnTo>
                  <a:pt x="39" y="1623"/>
                </a:lnTo>
                <a:lnTo>
                  <a:pt x="109" y="1503"/>
                </a:lnTo>
                <a:lnTo>
                  <a:pt x="239" y="1364"/>
                </a:lnTo>
                <a:lnTo>
                  <a:pt x="379" y="1264"/>
                </a:lnTo>
                <a:lnTo>
                  <a:pt x="529" y="1165"/>
                </a:lnTo>
                <a:lnTo>
                  <a:pt x="679" y="1105"/>
                </a:lnTo>
                <a:lnTo>
                  <a:pt x="839" y="1065"/>
                </a:lnTo>
                <a:lnTo>
                  <a:pt x="969" y="1036"/>
                </a:lnTo>
                <a:lnTo>
                  <a:pt x="1019" y="94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07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25680" y="5013360"/>
            <a:ext cx="2318040" cy="1437120"/>
          </a:xfrm>
          <a:custGeom>
            <a:avLst/>
            <a:gdLst/>
            <a:ahLst/>
            <a:rect l="0" t="0" r="r" b="b"/>
            <a:pathLst>
              <a:path w="6439" h="3992">
                <a:moveTo>
                  <a:pt x="1019" y="945"/>
                </a:moveTo>
                <a:lnTo>
                  <a:pt x="1079" y="835"/>
                </a:lnTo>
                <a:lnTo>
                  <a:pt x="1159" y="726"/>
                </a:lnTo>
                <a:lnTo>
                  <a:pt x="1279" y="636"/>
                </a:lnTo>
                <a:lnTo>
                  <a:pt x="1389" y="567"/>
                </a:lnTo>
                <a:lnTo>
                  <a:pt x="1529" y="517"/>
                </a:lnTo>
                <a:lnTo>
                  <a:pt x="1699" y="467"/>
                </a:lnTo>
                <a:lnTo>
                  <a:pt x="1889" y="437"/>
                </a:lnTo>
                <a:lnTo>
                  <a:pt x="2089" y="427"/>
                </a:lnTo>
                <a:lnTo>
                  <a:pt x="2339" y="437"/>
                </a:lnTo>
                <a:lnTo>
                  <a:pt x="2549" y="447"/>
                </a:lnTo>
                <a:lnTo>
                  <a:pt x="2699" y="348"/>
                </a:lnTo>
                <a:lnTo>
                  <a:pt x="2829" y="248"/>
                </a:lnTo>
                <a:lnTo>
                  <a:pt x="3019" y="149"/>
                </a:lnTo>
                <a:lnTo>
                  <a:pt x="3240" y="69"/>
                </a:lnTo>
                <a:lnTo>
                  <a:pt x="3510" y="9"/>
                </a:lnTo>
                <a:lnTo>
                  <a:pt x="3779" y="0"/>
                </a:lnTo>
                <a:lnTo>
                  <a:pt x="4019" y="29"/>
                </a:lnTo>
                <a:lnTo>
                  <a:pt x="4289" y="99"/>
                </a:lnTo>
                <a:lnTo>
                  <a:pt x="4449" y="189"/>
                </a:lnTo>
                <a:lnTo>
                  <a:pt x="4599" y="288"/>
                </a:lnTo>
                <a:lnTo>
                  <a:pt x="4739" y="417"/>
                </a:lnTo>
                <a:lnTo>
                  <a:pt x="4799" y="547"/>
                </a:lnTo>
                <a:lnTo>
                  <a:pt x="5009" y="547"/>
                </a:lnTo>
                <a:lnTo>
                  <a:pt x="5209" y="577"/>
                </a:lnTo>
                <a:lnTo>
                  <a:pt x="5389" y="646"/>
                </a:lnTo>
                <a:lnTo>
                  <a:pt x="5509" y="746"/>
                </a:lnTo>
                <a:lnTo>
                  <a:pt x="5629" y="885"/>
                </a:lnTo>
                <a:lnTo>
                  <a:pt x="5689" y="1006"/>
                </a:lnTo>
                <a:lnTo>
                  <a:pt x="5709" y="1115"/>
                </a:lnTo>
                <a:lnTo>
                  <a:pt x="5829" y="1135"/>
                </a:lnTo>
                <a:lnTo>
                  <a:pt x="5949" y="1175"/>
                </a:lnTo>
                <a:lnTo>
                  <a:pt x="6049" y="1225"/>
                </a:lnTo>
                <a:lnTo>
                  <a:pt x="6149" y="1284"/>
                </a:lnTo>
                <a:lnTo>
                  <a:pt x="6219" y="1334"/>
                </a:lnTo>
                <a:lnTo>
                  <a:pt x="6289" y="1404"/>
                </a:lnTo>
                <a:lnTo>
                  <a:pt x="6359" y="1493"/>
                </a:lnTo>
                <a:lnTo>
                  <a:pt x="6389" y="1603"/>
                </a:lnTo>
                <a:lnTo>
                  <a:pt x="6399" y="1682"/>
                </a:lnTo>
                <a:lnTo>
                  <a:pt x="6379" y="1772"/>
                </a:lnTo>
                <a:lnTo>
                  <a:pt x="6329" y="1871"/>
                </a:lnTo>
                <a:lnTo>
                  <a:pt x="6389" y="1981"/>
                </a:lnTo>
                <a:lnTo>
                  <a:pt x="6419" y="2080"/>
                </a:lnTo>
                <a:lnTo>
                  <a:pt x="6429" y="2190"/>
                </a:lnTo>
                <a:lnTo>
                  <a:pt x="6399" y="2329"/>
                </a:lnTo>
                <a:lnTo>
                  <a:pt x="6379" y="2409"/>
                </a:lnTo>
                <a:lnTo>
                  <a:pt x="6299" y="2508"/>
                </a:lnTo>
                <a:lnTo>
                  <a:pt x="6399" y="2648"/>
                </a:lnTo>
                <a:lnTo>
                  <a:pt x="6429" y="2727"/>
                </a:lnTo>
                <a:lnTo>
                  <a:pt x="6439" y="2857"/>
                </a:lnTo>
                <a:lnTo>
                  <a:pt x="6419" y="2976"/>
                </a:lnTo>
                <a:lnTo>
                  <a:pt x="6359" y="3117"/>
                </a:lnTo>
                <a:lnTo>
                  <a:pt x="6289" y="3206"/>
                </a:lnTo>
                <a:lnTo>
                  <a:pt x="6179" y="3306"/>
                </a:lnTo>
                <a:lnTo>
                  <a:pt x="5979" y="3395"/>
                </a:lnTo>
                <a:lnTo>
                  <a:pt x="5779" y="3425"/>
                </a:lnTo>
                <a:lnTo>
                  <a:pt x="5599" y="3405"/>
                </a:lnTo>
                <a:lnTo>
                  <a:pt x="5479" y="3355"/>
                </a:lnTo>
                <a:lnTo>
                  <a:pt x="5389" y="3445"/>
                </a:lnTo>
                <a:lnTo>
                  <a:pt x="5299" y="3525"/>
                </a:lnTo>
                <a:lnTo>
                  <a:pt x="5229" y="3574"/>
                </a:lnTo>
                <a:lnTo>
                  <a:pt x="5079" y="3634"/>
                </a:lnTo>
                <a:lnTo>
                  <a:pt x="4949" y="3684"/>
                </a:lnTo>
                <a:lnTo>
                  <a:pt x="4759" y="3714"/>
                </a:lnTo>
                <a:lnTo>
                  <a:pt x="4569" y="3704"/>
                </a:lnTo>
                <a:lnTo>
                  <a:pt x="4389" y="3664"/>
                </a:lnTo>
                <a:lnTo>
                  <a:pt x="4229" y="3584"/>
                </a:lnTo>
                <a:lnTo>
                  <a:pt x="4129" y="3724"/>
                </a:lnTo>
                <a:lnTo>
                  <a:pt x="4039" y="3793"/>
                </a:lnTo>
                <a:lnTo>
                  <a:pt x="3919" y="3863"/>
                </a:lnTo>
                <a:lnTo>
                  <a:pt x="3789" y="3913"/>
                </a:lnTo>
                <a:lnTo>
                  <a:pt x="3639" y="3933"/>
                </a:lnTo>
                <a:lnTo>
                  <a:pt x="3500" y="3933"/>
                </a:lnTo>
                <a:lnTo>
                  <a:pt x="3370" y="3913"/>
                </a:lnTo>
                <a:lnTo>
                  <a:pt x="3199" y="3843"/>
                </a:lnTo>
                <a:lnTo>
                  <a:pt x="3099" y="3773"/>
                </a:lnTo>
                <a:lnTo>
                  <a:pt x="3009" y="3863"/>
                </a:lnTo>
                <a:lnTo>
                  <a:pt x="2919" y="3913"/>
                </a:lnTo>
                <a:lnTo>
                  <a:pt x="2799" y="3952"/>
                </a:lnTo>
                <a:lnTo>
                  <a:pt x="2639" y="3992"/>
                </a:lnTo>
                <a:lnTo>
                  <a:pt x="2469" y="3982"/>
                </a:lnTo>
                <a:lnTo>
                  <a:pt x="2289" y="3943"/>
                </a:lnTo>
                <a:lnTo>
                  <a:pt x="2149" y="3883"/>
                </a:lnTo>
                <a:lnTo>
                  <a:pt x="2029" y="3773"/>
                </a:lnTo>
                <a:lnTo>
                  <a:pt x="1949" y="3664"/>
                </a:lnTo>
                <a:lnTo>
                  <a:pt x="1819" y="3704"/>
                </a:lnTo>
                <a:lnTo>
                  <a:pt x="1659" y="3724"/>
                </a:lnTo>
                <a:lnTo>
                  <a:pt x="1479" y="3724"/>
                </a:lnTo>
                <a:lnTo>
                  <a:pt x="1329" y="3664"/>
                </a:lnTo>
                <a:lnTo>
                  <a:pt x="1199" y="3594"/>
                </a:lnTo>
                <a:lnTo>
                  <a:pt x="1099" y="3525"/>
                </a:lnTo>
                <a:lnTo>
                  <a:pt x="1019" y="3415"/>
                </a:lnTo>
                <a:lnTo>
                  <a:pt x="989" y="3306"/>
                </a:lnTo>
                <a:lnTo>
                  <a:pt x="909" y="3335"/>
                </a:lnTo>
                <a:lnTo>
                  <a:pt x="759" y="3335"/>
                </a:lnTo>
                <a:lnTo>
                  <a:pt x="599" y="3306"/>
                </a:lnTo>
                <a:lnTo>
                  <a:pt x="429" y="3226"/>
                </a:lnTo>
                <a:lnTo>
                  <a:pt x="319" y="3126"/>
                </a:lnTo>
                <a:lnTo>
                  <a:pt x="219" y="2997"/>
                </a:lnTo>
                <a:lnTo>
                  <a:pt x="169" y="2857"/>
                </a:lnTo>
                <a:lnTo>
                  <a:pt x="139" y="2668"/>
                </a:lnTo>
                <a:lnTo>
                  <a:pt x="149" y="2538"/>
                </a:lnTo>
                <a:lnTo>
                  <a:pt x="199" y="2349"/>
                </a:lnTo>
                <a:lnTo>
                  <a:pt x="89" y="2240"/>
                </a:lnTo>
                <a:lnTo>
                  <a:pt x="29" y="2100"/>
                </a:lnTo>
                <a:lnTo>
                  <a:pt x="0" y="1951"/>
                </a:lnTo>
                <a:lnTo>
                  <a:pt x="0" y="1792"/>
                </a:lnTo>
                <a:lnTo>
                  <a:pt x="39" y="1623"/>
                </a:lnTo>
                <a:lnTo>
                  <a:pt x="109" y="1503"/>
                </a:lnTo>
                <a:lnTo>
                  <a:pt x="239" y="1364"/>
                </a:lnTo>
                <a:lnTo>
                  <a:pt x="379" y="1264"/>
                </a:lnTo>
                <a:lnTo>
                  <a:pt x="529" y="1165"/>
                </a:lnTo>
                <a:lnTo>
                  <a:pt x="679" y="1105"/>
                </a:lnTo>
                <a:lnTo>
                  <a:pt x="839" y="1065"/>
                </a:lnTo>
                <a:lnTo>
                  <a:pt x="969" y="1036"/>
                </a:lnTo>
                <a:lnTo>
                  <a:pt x="1019" y="94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07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3124080"/>
            <a:ext cx="609480" cy="0"/>
          </a:xfrm>
          <a:prstGeom prst="line">
            <a:avLst/>
          </a:prstGeom>
          <a:ln w="38160">
            <a:solidFill>
              <a:srgbClr val="6a00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36760" y="3198960"/>
            <a:ext cx="590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765840" y="364176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-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251240" y="181296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-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63720" y="3489480"/>
            <a:ext cx="2318040" cy="1437120"/>
          </a:xfrm>
          <a:custGeom>
            <a:avLst/>
            <a:gdLst/>
            <a:ahLst/>
            <a:rect l="0" t="0" r="r" b="b"/>
            <a:pathLst>
              <a:path w="6439" h="3992">
                <a:moveTo>
                  <a:pt x="1019" y="945"/>
                </a:moveTo>
                <a:lnTo>
                  <a:pt x="1079" y="835"/>
                </a:lnTo>
                <a:lnTo>
                  <a:pt x="1159" y="726"/>
                </a:lnTo>
                <a:lnTo>
                  <a:pt x="1279" y="636"/>
                </a:lnTo>
                <a:lnTo>
                  <a:pt x="1389" y="567"/>
                </a:lnTo>
                <a:lnTo>
                  <a:pt x="1529" y="517"/>
                </a:lnTo>
                <a:lnTo>
                  <a:pt x="1699" y="467"/>
                </a:lnTo>
                <a:lnTo>
                  <a:pt x="1889" y="437"/>
                </a:lnTo>
                <a:lnTo>
                  <a:pt x="2089" y="427"/>
                </a:lnTo>
                <a:lnTo>
                  <a:pt x="2339" y="437"/>
                </a:lnTo>
                <a:lnTo>
                  <a:pt x="2549" y="447"/>
                </a:lnTo>
                <a:lnTo>
                  <a:pt x="2699" y="348"/>
                </a:lnTo>
                <a:lnTo>
                  <a:pt x="2829" y="248"/>
                </a:lnTo>
                <a:lnTo>
                  <a:pt x="3019" y="149"/>
                </a:lnTo>
                <a:lnTo>
                  <a:pt x="3240" y="69"/>
                </a:lnTo>
                <a:lnTo>
                  <a:pt x="3510" y="9"/>
                </a:lnTo>
                <a:lnTo>
                  <a:pt x="3779" y="0"/>
                </a:lnTo>
                <a:lnTo>
                  <a:pt x="4019" y="29"/>
                </a:lnTo>
                <a:lnTo>
                  <a:pt x="4289" y="99"/>
                </a:lnTo>
                <a:lnTo>
                  <a:pt x="4449" y="189"/>
                </a:lnTo>
                <a:lnTo>
                  <a:pt x="4599" y="288"/>
                </a:lnTo>
                <a:lnTo>
                  <a:pt x="4739" y="417"/>
                </a:lnTo>
                <a:lnTo>
                  <a:pt x="4799" y="547"/>
                </a:lnTo>
                <a:lnTo>
                  <a:pt x="5009" y="547"/>
                </a:lnTo>
                <a:lnTo>
                  <a:pt x="5209" y="577"/>
                </a:lnTo>
                <a:lnTo>
                  <a:pt x="5389" y="646"/>
                </a:lnTo>
                <a:lnTo>
                  <a:pt x="5509" y="746"/>
                </a:lnTo>
                <a:lnTo>
                  <a:pt x="5629" y="885"/>
                </a:lnTo>
                <a:lnTo>
                  <a:pt x="5689" y="1006"/>
                </a:lnTo>
                <a:lnTo>
                  <a:pt x="5709" y="1115"/>
                </a:lnTo>
                <a:lnTo>
                  <a:pt x="5829" y="1135"/>
                </a:lnTo>
                <a:lnTo>
                  <a:pt x="5949" y="1175"/>
                </a:lnTo>
                <a:lnTo>
                  <a:pt x="6049" y="1225"/>
                </a:lnTo>
                <a:lnTo>
                  <a:pt x="6149" y="1284"/>
                </a:lnTo>
                <a:lnTo>
                  <a:pt x="6219" y="1334"/>
                </a:lnTo>
                <a:lnTo>
                  <a:pt x="6289" y="1404"/>
                </a:lnTo>
                <a:lnTo>
                  <a:pt x="6359" y="1493"/>
                </a:lnTo>
                <a:lnTo>
                  <a:pt x="6389" y="1603"/>
                </a:lnTo>
                <a:lnTo>
                  <a:pt x="6399" y="1682"/>
                </a:lnTo>
                <a:lnTo>
                  <a:pt x="6379" y="1772"/>
                </a:lnTo>
                <a:lnTo>
                  <a:pt x="6329" y="1871"/>
                </a:lnTo>
                <a:lnTo>
                  <a:pt x="6389" y="1981"/>
                </a:lnTo>
                <a:lnTo>
                  <a:pt x="6419" y="2080"/>
                </a:lnTo>
                <a:lnTo>
                  <a:pt x="6429" y="2190"/>
                </a:lnTo>
                <a:lnTo>
                  <a:pt x="6399" y="2329"/>
                </a:lnTo>
                <a:lnTo>
                  <a:pt x="6379" y="2409"/>
                </a:lnTo>
                <a:lnTo>
                  <a:pt x="6299" y="2508"/>
                </a:lnTo>
                <a:lnTo>
                  <a:pt x="6399" y="2648"/>
                </a:lnTo>
                <a:lnTo>
                  <a:pt x="6429" y="2727"/>
                </a:lnTo>
                <a:lnTo>
                  <a:pt x="6439" y="2857"/>
                </a:lnTo>
                <a:lnTo>
                  <a:pt x="6419" y="2976"/>
                </a:lnTo>
                <a:lnTo>
                  <a:pt x="6359" y="3117"/>
                </a:lnTo>
                <a:lnTo>
                  <a:pt x="6289" y="3206"/>
                </a:lnTo>
                <a:lnTo>
                  <a:pt x="6179" y="3306"/>
                </a:lnTo>
                <a:lnTo>
                  <a:pt x="5979" y="3395"/>
                </a:lnTo>
                <a:lnTo>
                  <a:pt x="5779" y="3425"/>
                </a:lnTo>
                <a:lnTo>
                  <a:pt x="5599" y="3405"/>
                </a:lnTo>
                <a:lnTo>
                  <a:pt x="5479" y="3355"/>
                </a:lnTo>
                <a:lnTo>
                  <a:pt x="5389" y="3445"/>
                </a:lnTo>
                <a:lnTo>
                  <a:pt x="5299" y="3525"/>
                </a:lnTo>
                <a:lnTo>
                  <a:pt x="5229" y="3574"/>
                </a:lnTo>
                <a:lnTo>
                  <a:pt x="5079" y="3634"/>
                </a:lnTo>
                <a:lnTo>
                  <a:pt x="4949" y="3684"/>
                </a:lnTo>
                <a:lnTo>
                  <a:pt x="4759" y="3714"/>
                </a:lnTo>
                <a:lnTo>
                  <a:pt x="4569" y="3704"/>
                </a:lnTo>
                <a:lnTo>
                  <a:pt x="4389" y="3664"/>
                </a:lnTo>
                <a:lnTo>
                  <a:pt x="4229" y="3584"/>
                </a:lnTo>
                <a:lnTo>
                  <a:pt x="4129" y="3724"/>
                </a:lnTo>
                <a:lnTo>
                  <a:pt x="4039" y="3793"/>
                </a:lnTo>
                <a:lnTo>
                  <a:pt x="3919" y="3863"/>
                </a:lnTo>
                <a:lnTo>
                  <a:pt x="3789" y="3913"/>
                </a:lnTo>
                <a:lnTo>
                  <a:pt x="3639" y="3933"/>
                </a:lnTo>
                <a:lnTo>
                  <a:pt x="3500" y="3933"/>
                </a:lnTo>
                <a:lnTo>
                  <a:pt x="3370" y="3913"/>
                </a:lnTo>
                <a:lnTo>
                  <a:pt x="3199" y="3843"/>
                </a:lnTo>
                <a:lnTo>
                  <a:pt x="3099" y="3773"/>
                </a:lnTo>
                <a:lnTo>
                  <a:pt x="3009" y="3863"/>
                </a:lnTo>
                <a:lnTo>
                  <a:pt x="2919" y="3913"/>
                </a:lnTo>
                <a:lnTo>
                  <a:pt x="2799" y="3952"/>
                </a:lnTo>
                <a:lnTo>
                  <a:pt x="2639" y="3992"/>
                </a:lnTo>
                <a:lnTo>
                  <a:pt x="2469" y="3982"/>
                </a:lnTo>
                <a:lnTo>
                  <a:pt x="2289" y="3943"/>
                </a:lnTo>
                <a:lnTo>
                  <a:pt x="2149" y="3883"/>
                </a:lnTo>
                <a:lnTo>
                  <a:pt x="2029" y="3773"/>
                </a:lnTo>
                <a:lnTo>
                  <a:pt x="1949" y="3664"/>
                </a:lnTo>
                <a:lnTo>
                  <a:pt x="1819" y="3704"/>
                </a:lnTo>
                <a:lnTo>
                  <a:pt x="1659" y="3724"/>
                </a:lnTo>
                <a:lnTo>
                  <a:pt x="1479" y="3724"/>
                </a:lnTo>
                <a:lnTo>
                  <a:pt x="1329" y="3664"/>
                </a:lnTo>
                <a:lnTo>
                  <a:pt x="1199" y="3594"/>
                </a:lnTo>
                <a:lnTo>
                  <a:pt x="1099" y="3525"/>
                </a:lnTo>
                <a:lnTo>
                  <a:pt x="1019" y="3415"/>
                </a:lnTo>
                <a:lnTo>
                  <a:pt x="989" y="3306"/>
                </a:lnTo>
                <a:lnTo>
                  <a:pt x="909" y="3335"/>
                </a:lnTo>
                <a:lnTo>
                  <a:pt x="759" y="3335"/>
                </a:lnTo>
                <a:lnTo>
                  <a:pt x="599" y="3306"/>
                </a:lnTo>
                <a:lnTo>
                  <a:pt x="429" y="3226"/>
                </a:lnTo>
                <a:lnTo>
                  <a:pt x="319" y="3126"/>
                </a:lnTo>
                <a:lnTo>
                  <a:pt x="219" y="2997"/>
                </a:lnTo>
                <a:lnTo>
                  <a:pt x="169" y="2857"/>
                </a:lnTo>
                <a:lnTo>
                  <a:pt x="139" y="2668"/>
                </a:lnTo>
                <a:lnTo>
                  <a:pt x="149" y="2538"/>
                </a:lnTo>
                <a:lnTo>
                  <a:pt x="199" y="2349"/>
                </a:lnTo>
                <a:lnTo>
                  <a:pt x="89" y="2240"/>
                </a:lnTo>
                <a:lnTo>
                  <a:pt x="29" y="2100"/>
                </a:lnTo>
                <a:lnTo>
                  <a:pt x="0" y="1951"/>
                </a:lnTo>
                <a:lnTo>
                  <a:pt x="0" y="1792"/>
                </a:lnTo>
                <a:lnTo>
                  <a:pt x="39" y="1623"/>
                </a:lnTo>
                <a:lnTo>
                  <a:pt x="109" y="1503"/>
                </a:lnTo>
                <a:lnTo>
                  <a:pt x="239" y="1364"/>
                </a:lnTo>
                <a:lnTo>
                  <a:pt x="379" y="1264"/>
                </a:lnTo>
                <a:lnTo>
                  <a:pt x="529" y="1165"/>
                </a:lnTo>
                <a:lnTo>
                  <a:pt x="679" y="1105"/>
                </a:lnTo>
                <a:lnTo>
                  <a:pt x="839" y="1065"/>
                </a:lnTo>
                <a:lnTo>
                  <a:pt x="969" y="1036"/>
                </a:lnTo>
                <a:lnTo>
                  <a:pt x="1019" y="94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07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736640" y="37180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-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684440" y="4265640"/>
            <a:ext cx="804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S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351320" y="2360520"/>
            <a:ext cx="804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S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022640" y="524196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-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34320" y="4189320"/>
            <a:ext cx="669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N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267080" y="5789520"/>
            <a:ext cx="669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N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362320" y="3276720"/>
            <a:ext cx="457200" cy="380880"/>
          </a:xfrm>
          <a:prstGeom prst="line">
            <a:avLst/>
          </a:prstGeom>
          <a:ln w="38160">
            <a:solidFill>
              <a:srgbClr val="17af7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62720" y="5181480"/>
            <a:ext cx="457200" cy="381240"/>
          </a:xfrm>
          <a:prstGeom prst="line">
            <a:avLst/>
          </a:prstGeom>
          <a:ln w="38160">
            <a:solidFill>
              <a:srgbClr val="17af7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248520" y="4572000"/>
            <a:ext cx="457200" cy="380880"/>
          </a:xfrm>
          <a:prstGeom prst="line">
            <a:avLst/>
          </a:prstGeom>
          <a:ln w="38160">
            <a:solidFill>
              <a:srgbClr val="17af73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352680" y="2514600"/>
            <a:ext cx="457200" cy="380880"/>
          </a:xfrm>
          <a:prstGeom prst="line">
            <a:avLst/>
          </a:prstGeom>
          <a:ln w="38160">
            <a:solidFill>
              <a:srgbClr val="17af73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2324160" y="4838760"/>
            <a:ext cx="380880" cy="457200"/>
          </a:xfrm>
          <a:prstGeom prst="line">
            <a:avLst/>
          </a:prstGeom>
          <a:ln w="38160">
            <a:solidFill>
              <a:srgbClr val="17af73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829480" y="2629080"/>
            <a:ext cx="380880" cy="457200"/>
          </a:xfrm>
          <a:prstGeom prst="line">
            <a:avLst/>
          </a:prstGeom>
          <a:ln w="38160">
            <a:solidFill>
              <a:srgbClr val="17af73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2895480" y="5410080"/>
            <a:ext cx="495360" cy="343080"/>
          </a:xfrm>
          <a:prstGeom prst="line">
            <a:avLst/>
          </a:prstGeom>
          <a:ln w="38160">
            <a:solidFill>
              <a:srgbClr val="17af7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6286680" y="3086280"/>
            <a:ext cx="380880" cy="457200"/>
          </a:xfrm>
          <a:prstGeom prst="line">
            <a:avLst/>
          </a:prstGeom>
          <a:ln w="38160">
            <a:solidFill>
              <a:srgbClr val="17af7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65400" y="1751040"/>
            <a:ext cx="15159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SUP to A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gnal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74680" y="2665440"/>
            <a:ext cx="15159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SUP to A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gnal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899320" y="1598760"/>
            <a:ext cx="15159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SUP to A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gnal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46080" y="4875120"/>
            <a:ext cx="15159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SUP to A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gnal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916280" y="5789520"/>
            <a:ext cx="14032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NNI to A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gnal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573880" y="5637240"/>
            <a:ext cx="14032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NNI to A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gnal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564240" y="4722840"/>
            <a:ext cx="14032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NNI to A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gnal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716880" y="2513160"/>
            <a:ext cx="14032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NNI to A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gnal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715000" y="3124080"/>
            <a:ext cx="457200" cy="0"/>
          </a:xfrm>
          <a:prstGeom prst="line">
            <a:avLst/>
          </a:prstGeom>
          <a:ln w="38160">
            <a:solidFill>
              <a:srgbClr val="6a00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70480" y="3198960"/>
            <a:ext cx="590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4952880"/>
            <a:ext cx="457200" cy="0"/>
          </a:xfrm>
          <a:prstGeom prst="line">
            <a:avLst/>
          </a:prstGeom>
          <a:ln w="38160">
            <a:solidFill>
              <a:srgbClr val="6a00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218200" y="4570560"/>
            <a:ext cx="590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5105520"/>
            <a:ext cx="457200" cy="0"/>
          </a:xfrm>
          <a:prstGeom prst="line">
            <a:avLst/>
          </a:prstGeom>
          <a:ln w="38160">
            <a:solidFill>
              <a:srgbClr val="6a00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236760" y="4875120"/>
            <a:ext cx="590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446120" y="157320"/>
            <a:ext cx="762012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000" spc="-1" strike="noStrike">
                <a:solidFill>
                  <a:srgbClr val="006079"/>
                </a:solidFill>
                <a:latin typeface="Impact"/>
                <a:ea typeface="Impact"/>
              </a:rPr>
              <a:t>Future Service Provider Net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95280" y="2438280"/>
            <a:ext cx="1371600" cy="1524240"/>
          </a:xfrm>
          <a:prstGeom prst="line">
            <a:avLst/>
          </a:prstGeom>
          <a:ln w="38160">
            <a:solidFill>
              <a:srgbClr val="a800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219320" y="4800600"/>
            <a:ext cx="1523880" cy="684360"/>
          </a:xfrm>
          <a:prstGeom prst="line">
            <a:avLst/>
          </a:prstGeom>
          <a:ln w="38160">
            <a:solidFill>
              <a:srgbClr val="a800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10080" y="1828800"/>
            <a:ext cx="2133720" cy="990720"/>
          </a:xfrm>
          <a:prstGeom prst="line">
            <a:avLst/>
          </a:prstGeom>
          <a:ln w="38160">
            <a:solidFill>
              <a:srgbClr val="a800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429000" y="3124080"/>
            <a:ext cx="914400" cy="838440"/>
          </a:xfrm>
          <a:prstGeom prst="line">
            <a:avLst/>
          </a:prstGeom>
          <a:ln w="38160">
            <a:solidFill>
              <a:srgbClr val="a800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114800" y="4191120"/>
            <a:ext cx="1447920" cy="304560"/>
          </a:xfrm>
          <a:prstGeom prst="line">
            <a:avLst/>
          </a:prstGeom>
          <a:ln w="38160">
            <a:solidFill>
              <a:srgbClr val="a800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781680" y="3505320"/>
            <a:ext cx="1295640" cy="380880"/>
          </a:xfrm>
          <a:prstGeom prst="line">
            <a:avLst/>
          </a:prstGeom>
          <a:ln w="38160">
            <a:solidFill>
              <a:srgbClr val="a800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934320" y="4419720"/>
            <a:ext cx="1371600" cy="1066680"/>
          </a:xfrm>
          <a:prstGeom prst="line">
            <a:avLst/>
          </a:prstGeom>
          <a:ln w="38160">
            <a:solidFill>
              <a:srgbClr val="a800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800600" y="1447920"/>
            <a:ext cx="1066680" cy="990360"/>
          </a:xfrm>
          <a:prstGeom prst="line">
            <a:avLst/>
          </a:prstGeom>
          <a:ln w="38160">
            <a:solidFill>
              <a:srgbClr val="a800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1040" y="2004840"/>
            <a:ext cx="1029240" cy="898920"/>
          </a:xfrm>
          <a:custGeom>
            <a:avLst/>
            <a:gdLst/>
            <a:ahLst/>
            <a:rect l="0" t="0" r="r" b="b"/>
            <a:pathLst>
              <a:path w="2859" h="2497">
                <a:moveTo>
                  <a:pt x="452" y="591"/>
                </a:moveTo>
                <a:lnTo>
                  <a:pt x="479" y="522"/>
                </a:lnTo>
                <a:lnTo>
                  <a:pt x="514" y="454"/>
                </a:lnTo>
                <a:lnTo>
                  <a:pt x="567" y="398"/>
                </a:lnTo>
                <a:lnTo>
                  <a:pt x="616" y="354"/>
                </a:lnTo>
                <a:lnTo>
                  <a:pt x="678" y="323"/>
                </a:lnTo>
                <a:lnTo>
                  <a:pt x="755" y="292"/>
                </a:lnTo>
                <a:lnTo>
                  <a:pt x="839" y="273"/>
                </a:lnTo>
                <a:lnTo>
                  <a:pt x="928" y="267"/>
                </a:lnTo>
                <a:lnTo>
                  <a:pt x="1039" y="273"/>
                </a:lnTo>
                <a:lnTo>
                  <a:pt x="1132" y="280"/>
                </a:lnTo>
                <a:lnTo>
                  <a:pt x="1199" y="217"/>
                </a:lnTo>
                <a:lnTo>
                  <a:pt x="1256" y="155"/>
                </a:lnTo>
                <a:lnTo>
                  <a:pt x="1341" y="93"/>
                </a:lnTo>
                <a:lnTo>
                  <a:pt x="1438" y="43"/>
                </a:lnTo>
                <a:lnTo>
                  <a:pt x="1558" y="6"/>
                </a:lnTo>
                <a:lnTo>
                  <a:pt x="1678" y="0"/>
                </a:lnTo>
                <a:lnTo>
                  <a:pt x="1784" y="18"/>
                </a:lnTo>
                <a:lnTo>
                  <a:pt x="1904" y="62"/>
                </a:lnTo>
                <a:lnTo>
                  <a:pt x="1975" y="118"/>
                </a:lnTo>
                <a:lnTo>
                  <a:pt x="2042" y="180"/>
                </a:lnTo>
                <a:lnTo>
                  <a:pt x="2104" y="261"/>
                </a:lnTo>
                <a:lnTo>
                  <a:pt x="2130" y="342"/>
                </a:lnTo>
                <a:lnTo>
                  <a:pt x="2224" y="342"/>
                </a:lnTo>
                <a:lnTo>
                  <a:pt x="2313" y="361"/>
                </a:lnTo>
                <a:lnTo>
                  <a:pt x="2393" y="404"/>
                </a:lnTo>
                <a:lnTo>
                  <a:pt x="2446" y="466"/>
                </a:lnTo>
                <a:lnTo>
                  <a:pt x="2500" y="553"/>
                </a:lnTo>
                <a:lnTo>
                  <a:pt x="2526" y="629"/>
                </a:lnTo>
                <a:lnTo>
                  <a:pt x="2535" y="698"/>
                </a:lnTo>
                <a:lnTo>
                  <a:pt x="2588" y="710"/>
                </a:lnTo>
                <a:lnTo>
                  <a:pt x="2642" y="735"/>
                </a:lnTo>
                <a:lnTo>
                  <a:pt x="2686" y="766"/>
                </a:lnTo>
                <a:lnTo>
                  <a:pt x="2730" y="803"/>
                </a:lnTo>
                <a:lnTo>
                  <a:pt x="2761" y="835"/>
                </a:lnTo>
                <a:lnTo>
                  <a:pt x="2792" y="878"/>
                </a:lnTo>
                <a:lnTo>
                  <a:pt x="2824" y="934"/>
                </a:lnTo>
                <a:lnTo>
                  <a:pt x="2837" y="1003"/>
                </a:lnTo>
                <a:lnTo>
                  <a:pt x="2841" y="1052"/>
                </a:lnTo>
                <a:lnTo>
                  <a:pt x="2832" y="1108"/>
                </a:lnTo>
                <a:lnTo>
                  <a:pt x="2810" y="1171"/>
                </a:lnTo>
                <a:lnTo>
                  <a:pt x="2837" y="1239"/>
                </a:lnTo>
                <a:lnTo>
                  <a:pt x="2850" y="1301"/>
                </a:lnTo>
                <a:lnTo>
                  <a:pt x="2855" y="1370"/>
                </a:lnTo>
                <a:lnTo>
                  <a:pt x="2841" y="1457"/>
                </a:lnTo>
                <a:lnTo>
                  <a:pt x="2832" y="1507"/>
                </a:lnTo>
                <a:lnTo>
                  <a:pt x="2797" y="1569"/>
                </a:lnTo>
                <a:lnTo>
                  <a:pt x="2841" y="1656"/>
                </a:lnTo>
                <a:lnTo>
                  <a:pt x="2855" y="1706"/>
                </a:lnTo>
                <a:lnTo>
                  <a:pt x="2859" y="1787"/>
                </a:lnTo>
                <a:lnTo>
                  <a:pt x="2850" y="1862"/>
                </a:lnTo>
                <a:lnTo>
                  <a:pt x="2824" y="1950"/>
                </a:lnTo>
                <a:lnTo>
                  <a:pt x="2792" y="2006"/>
                </a:lnTo>
                <a:lnTo>
                  <a:pt x="2744" y="2068"/>
                </a:lnTo>
                <a:lnTo>
                  <a:pt x="2655" y="2124"/>
                </a:lnTo>
                <a:lnTo>
                  <a:pt x="2566" y="2143"/>
                </a:lnTo>
                <a:lnTo>
                  <a:pt x="2486" y="2130"/>
                </a:lnTo>
                <a:lnTo>
                  <a:pt x="2433" y="2099"/>
                </a:lnTo>
                <a:lnTo>
                  <a:pt x="2393" y="2155"/>
                </a:lnTo>
                <a:lnTo>
                  <a:pt x="2353" y="2205"/>
                </a:lnTo>
                <a:lnTo>
                  <a:pt x="2322" y="2236"/>
                </a:lnTo>
                <a:lnTo>
                  <a:pt x="2256" y="2273"/>
                </a:lnTo>
                <a:lnTo>
                  <a:pt x="2198" y="2304"/>
                </a:lnTo>
                <a:lnTo>
                  <a:pt x="2113" y="2323"/>
                </a:lnTo>
                <a:lnTo>
                  <a:pt x="2028" y="2317"/>
                </a:lnTo>
                <a:lnTo>
                  <a:pt x="1948" y="2292"/>
                </a:lnTo>
                <a:lnTo>
                  <a:pt x="1877" y="2242"/>
                </a:lnTo>
                <a:lnTo>
                  <a:pt x="1833" y="2329"/>
                </a:lnTo>
                <a:lnTo>
                  <a:pt x="1793" y="2373"/>
                </a:lnTo>
                <a:lnTo>
                  <a:pt x="1740" y="2416"/>
                </a:lnTo>
                <a:lnTo>
                  <a:pt x="1682" y="2448"/>
                </a:lnTo>
                <a:lnTo>
                  <a:pt x="1616" y="2460"/>
                </a:lnTo>
                <a:lnTo>
                  <a:pt x="1553" y="2460"/>
                </a:lnTo>
                <a:lnTo>
                  <a:pt x="1496" y="2448"/>
                </a:lnTo>
                <a:lnTo>
                  <a:pt x="1420" y="2404"/>
                </a:lnTo>
                <a:lnTo>
                  <a:pt x="1376" y="2360"/>
                </a:lnTo>
                <a:lnTo>
                  <a:pt x="1336" y="2416"/>
                </a:lnTo>
                <a:lnTo>
                  <a:pt x="1296" y="2448"/>
                </a:lnTo>
                <a:lnTo>
                  <a:pt x="1243" y="2473"/>
                </a:lnTo>
                <a:lnTo>
                  <a:pt x="1172" y="2497"/>
                </a:lnTo>
                <a:lnTo>
                  <a:pt x="1096" y="2491"/>
                </a:lnTo>
                <a:lnTo>
                  <a:pt x="1017" y="2466"/>
                </a:lnTo>
                <a:lnTo>
                  <a:pt x="954" y="2429"/>
                </a:lnTo>
                <a:lnTo>
                  <a:pt x="901" y="2360"/>
                </a:lnTo>
                <a:lnTo>
                  <a:pt x="866" y="2292"/>
                </a:lnTo>
                <a:lnTo>
                  <a:pt x="808" y="2317"/>
                </a:lnTo>
                <a:lnTo>
                  <a:pt x="737" y="2329"/>
                </a:lnTo>
                <a:lnTo>
                  <a:pt x="656" y="2329"/>
                </a:lnTo>
                <a:lnTo>
                  <a:pt x="590" y="2292"/>
                </a:lnTo>
                <a:lnTo>
                  <a:pt x="532" y="2248"/>
                </a:lnTo>
                <a:lnTo>
                  <a:pt x="488" y="2205"/>
                </a:lnTo>
                <a:lnTo>
                  <a:pt x="452" y="2136"/>
                </a:lnTo>
                <a:lnTo>
                  <a:pt x="439" y="2068"/>
                </a:lnTo>
                <a:lnTo>
                  <a:pt x="403" y="2087"/>
                </a:lnTo>
                <a:lnTo>
                  <a:pt x="337" y="2087"/>
                </a:lnTo>
                <a:lnTo>
                  <a:pt x="266" y="2068"/>
                </a:lnTo>
                <a:lnTo>
                  <a:pt x="190" y="2018"/>
                </a:lnTo>
                <a:lnTo>
                  <a:pt x="141" y="1956"/>
                </a:lnTo>
                <a:lnTo>
                  <a:pt x="97" y="1875"/>
                </a:lnTo>
                <a:lnTo>
                  <a:pt x="75" y="1787"/>
                </a:lnTo>
                <a:lnTo>
                  <a:pt x="62" y="1669"/>
                </a:lnTo>
                <a:lnTo>
                  <a:pt x="66" y="1588"/>
                </a:lnTo>
                <a:lnTo>
                  <a:pt x="88" y="1469"/>
                </a:lnTo>
                <a:lnTo>
                  <a:pt x="39" y="1401"/>
                </a:lnTo>
                <a:lnTo>
                  <a:pt x="13" y="1314"/>
                </a:lnTo>
                <a:lnTo>
                  <a:pt x="0" y="1220"/>
                </a:lnTo>
                <a:lnTo>
                  <a:pt x="0" y="1121"/>
                </a:lnTo>
                <a:lnTo>
                  <a:pt x="17" y="1015"/>
                </a:lnTo>
                <a:lnTo>
                  <a:pt x="48" y="940"/>
                </a:lnTo>
                <a:lnTo>
                  <a:pt x="106" y="853"/>
                </a:lnTo>
                <a:lnTo>
                  <a:pt x="168" y="791"/>
                </a:lnTo>
                <a:lnTo>
                  <a:pt x="235" y="729"/>
                </a:lnTo>
                <a:lnTo>
                  <a:pt x="301" y="691"/>
                </a:lnTo>
                <a:lnTo>
                  <a:pt x="372" y="666"/>
                </a:lnTo>
                <a:lnTo>
                  <a:pt x="430" y="648"/>
                </a:lnTo>
                <a:lnTo>
                  <a:pt x="452" y="5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07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81040" y="5281560"/>
            <a:ext cx="1029240" cy="898920"/>
          </a:xfrm>
          <a:custGeom>
            <a:avLst/>
            <a:gdLst/>
            <a:ahLst/>
            <a:rect l="0" t="0" r="r" b="b"/>
            <a:pathLst>
              <a:path w="2859" h="2497">
                <a:moveTo>
                  <a:pt x="452" y="591"/>
                </a:moveTo>
                <a:lnTo>
                  <a:pt x="479" y="522"/>
                </a:lnTo>
                <a:lnTo>
                  <a:pt x="514" y="454"/>
                </a:lnTo>
                <a:lnTo>
                  <a:pt x="567" y="398"/>
                </a:lnTo>
                <a:lnTo>
                  <a:pt x="616" y="354"/>
                </a:lnTo>
                <a:lnTo>
                  <a:pt x="678" y="323"/>
                </a:lnTo>
                <a:lnTo>
                  <a:pt x="755" y="292"/>
                </a:lnTo>
                <a:lnTo>
                  <a:pt x="839" y="273"/>
                </a:lnTo>
                <a:lnTo>
                  <a:pt x="928" y="267"/>
                </a:lnTo>
                <a:lnTo>
                  <a:pt x="1039" y="273"/>
                </a:lnTo>
                <a:lnTo>
                  <a:pt x="1132" y="280"/>
                </a:lnTo>
                <a:lnTo>
                  <a:pt x="1199" y="217"/>
                </a:lnTo>
                <a:lnTo>
                  <a:pt x="1256" y="155"/>
                </a:lnTo>
                <a:lnTo>
                  <a:pt x="1341" y="93"/>
                </a:lnTo>
                <a:lnTo>
                  <a:pt x="1438" y="43"/>
                </a:lnTo>
                <a:lnTo>
                  <a:pt x="1558" y="6"/>
                </a:lnTo>
                <a:lnTo>
                  <a:pt x="1678" y="0"/>
                </a:lnTo>
                <a:lnTo>
                  <a:pt x="1784" y="18"/>
                </a:lnTo>
                <a:lnTo>
                  <a:pt x="1904" y="62"/>
                </a:lnTo>
                <a:lnTo>
                  <a:pt x="1975" y="118"/>
                </a:lnTo>
                <a:lnTo>
                  <a:pt x="2042" y="180"/>
                </a:lnTo>
                <a:lnTo>
                  <a:pt x="2104" y="261"/>
                </a:lnTo>
                <a:lnTo>
                  <a:pt x="2130" y="342"/>
                </a:lnTo>
                <a:lnTo>
                  <a:pt x="2224" y="342"/>
                </a:lnTo>
                <a:lnTo>
                  <a:pt x="2313" y="361"/>
                </a:lnTo>
                <a:lnTo>
                  <a:pt x="2393" y="404"/>
                </a:lnTo>
                <a:lnTo>
                  <a:pt x="2446" y="466"/>
                </a:lnTo>
                <a:lnTo>
                  <a:pt x="2500" y="553"/>
                </a:lnTo>
                <a:lnTo>
                  <a:pt x="2526" y="629"/>
                </a:lnTo>
                <a:lnTo>
                  <a:pt x="2535" y="698"/>
                </a:lnTo>
                <a:lnTo>
                  <a:pt x="2588" y="710"/>
                </a:lnTo>
                <a:lnTo>
                  <a:pt x="2642" y="735"/>
                </a:lnTo>
                <a:lnTo>
                  <a:pt x="2686" y="766"/>
                </a:lnTo>
                <a:lnTo>
                  <a:pt x="2730" y="803"/>
                </a:lnTo>
                <a:lnTo>
                  <a:pt x="2761" y="835"/>
                </a:lnTo>
                <a:lnTo>
                  <a:pt x="2792" y="878"/>
                </a:lnTo>
                <a:lnTo>
                  <a:pt x="2824" y="934"/>
                </a:lnTo>
                <a:lnTo>
                  <a:pt x="2837" y="1003"/>
                </a:lnTo>
                <a:lnTo>
                  <a:pt x="2841" y="1052"/>
                </a:lnTo>
                <a:lnTo>
                  <a:pt x="2832" y="1108"/>
                </a:lnTo>
                <a:lnTo>
                  <a:pt x="2810" y="1171"/>
                </a:lnTo>
                <a:lnTo>
                  <a:pt x="2837" y="1239"/>
                </a:lnTo>
                <a:lnTo>
                  <a:pt x="2850" y="1301"/>
                </a:lnTo>
                <a:lnTo>
                  <a:pt x="2855" y="1370"/>
                </a:lnTo>
                <a:lnTo>
                  <a:pt x="2841" y="1457"/>
                </a:lnTo>
                <a:lnTo>
                  <a:pt x="2832" y="1507"/>
                </a:lnTo>
                <a:lnTo>
                  <a:pt x="2797" y="1569"/>
                </a:lnTo>
                <a:lnTo>
                  <a:pt x="2841" y="1656"/>
                </a:lnTo>
                <a:lnTo>
                  <a:pt x="2855" y="1706"/>
                </a:lnTo>
                <a:lnTo>
                  <a:pt x="2859" y="1787"/>
                </a:lnTo>
                <a:lnTo>
                  <a:pt x="2850" y="1862"/>
                </a:lnTo>
                <a:lnTo>
                  <a:pt x="2824" y="1950"/>
                </a:lnTo>
                <a:lnTo>
                  <a:pt x="2792" y="2006"/>
                </a:lnTo>
                <a:lnTo>
                  <a:pt x="2744" y="2068"/>
                </a:lnTo>
                <a:lnTo>
                  <a:pt x="2655" y="2124"/>
                </a:lnTo>
                <a:lnTo>
                  <a:pt x="2566" y="2143"/>
                </a:lnTo>
                <a:lnTo>
                  <a:pt x="2486" y="2130"/>
                </a:lnTo>
                <a:lnTo>
                  <a:pt x="2433" y="2099"/>
                </a:lnTo>
                <a:lnTo>
                  <a:pt x="2393" y="2155"/>
                </a:lnTo>
                <a:lnTo>
                  <a:pt x="2353" y="2205"/>
                </a:lnTo>
                <a:lnTo>
                  <a:pt x="2322" y="2236"/>
                </a:lnTo>
                <a:lnTo>
                  <a:pt x="2256" y="2273"/>
                </a:lnTo>
                <a:lnTo>
                  <a:pt x="2198" y="2304"/>
                </a:lnTo>
                <a:lnTo>
                  <a:pt x="2113" y="2323"/>
                </a:lnTo>
                <a:lnTo>
                  <a:pt x="2028" y="2317"/>
                </a:lnTo>
                <a:lnTo>
                  <a:pt x="1948" y="2292"/>
                </a:lnTo>
                <a:lnTo>
                  <a:pt x="1877" y="2242"/>
                </a:lnTo>
                <a:lnTo>
                  <a:pt x="1833" y="2329"/>
                </a:lnTo>
                <a:lnTo>
                  <a:pt x="1793" y="2373"/>
                </a:lnTo>
                <a:lnTo>
                  <a:pt x="1740" y="2416"/>
                </a:lnTo>
                <a:lnTo>
                  <a:pt x="1682" y="2448"/>
                </a:lnTo>
                <a:lnTo>
                  <a:pt x="1616" y="2460"/>
                </a:lnTo>
                <a:lnTo>
                  <a:pt x="1553" y="2460"/>
                </a:lnTo>
                <a:lnTo>
                  <a:pt x="1496" y="2448"/>
                </a:lnTo>
                <a:lnTo>
                  <a:pt x="1420" y="2404"/>
                </a:lnTo>
                <a:lnTo>
                  <a:pt x="1376" y="2360"/>
                </a:lnTo>
                <a:lnTo>
                  <a:pt x="1336" y="2416"/>
                </a:lnTo>
                <a:lnTo>
                  <a:pt x="1296" y="2448"/>
                </a:lnTo>
                <a:lnTo>
                  <a:pt x="1243" y="2473"/>
                </a:lnTo>
                <a:lnTo>
                  <a:pt x="1172" y="2497"/>
                </a:lnTo>
                <a:lnTo>
                  <a:pt x="1096" y="2491"/>
                </a:lnTo>
                <a:lnTo>
                  <a:pt x="1017" y="2466"/>
                </a:lnTo>
                <a:lnTo>
                  <a:pt x="954" y="2429"/>
                </a:lnTo>
                <a:lnTo>
                  <a:pt x="901" y="2360"/>
                </a:lnTo>
                <a:lnTo>
                  <a:pt x="866" y="2292"/>
                </a:lnTo>
                <a:lnTo>
                  <a:pt x="808" y="2317"/>
                </a:lnTo>
                <a:lnTo>
                  <a:pt x="737" y="2329"/>
                </a:lnTo>
                <a:lnTo>
                  <a:pt x="656" y="2329"/>
                </a:lnTo>
                <a:lnTo>
                  <a:pt x="590" y="2292"/>
                </a:lnTo>
                <a:lnTo>
                  <a:pt x="532" y="2248"/>
                </a:lnTo>
                <a:lnTo>
                  <a:pt x="488" y="2205"/>
                </a:lnTo>
                <a:lnTo>
                  <a:pt x="452" y="2136"/>
                </a:lnTo>
                <a:lnTo>
                  <a:pt x="439" y="2068"/>
                </a:lnTo>
                <a:lnTo>
                  <a:pt x="403" y="2087"/>
                </a:lnTo>
                <a:lnTo>
                  <a:pt x="337" y="2087"/>
                </a:lnTo>
                <a:lnTo>
                  <a:pt x="266" y="2068"/>
                </a:lnTo>
                <a:lnTo>
                  <a:pt x="190" y="2018"/>
                </a:lnTo>
                <a:lnTo>
                  <a:pt x="141" y="1956"/>
                </a:lnTo>
                <a:lnTo>
                  <a:pt x="97" y="1875"/>
                </a:lnTo>
                <a:lnTo>
                  <a:pt x="75" y="1787"/>
                </a:lnTo>
                <a:lnTo>
                  <a:pt x="62" y="1669"/>
                </a:lnTo>
                <a:lnTo>
                  <a:pt x="66" y="1588"/>
                </a:lnTo>
                <a:lnTo>
                  <a:pt x="88" y="1469"/>
                </a:lnTo>
                <a:lnTo>
                  <a:pt x="39" y="1401"/>
                </a:lnTo>
                <a:lnTo>
                  <a:pt x="13" y="1314"/>
                </a:lnTo>
                <a:lnTo>
                  <a:pt x="0" y="1220"/>
                </a:lnTo>
                <a:lnTo>
                  <a:pt x="0" y="1121"/>
                </a:lnTo>
                <a:lnTo>
                  <a:pt x="17" y="1015"/>
                </a:lnTo>
                <a:lnTo>
                  <a:pt x="48" y="940"/>
                </a:lnTo>
                <a:lnTo>
                  <a:pt x="106" y="853"/>
                </a:lnTo>
                <a:lnTo>
                  <a:pt x="168" y="791"/>
                </a:lnTo>
                <a:lnTo>
                  <a:pt x="235" y="729"/>
                </a:lnTo>
                <a:lnTo>
                  <a:pt x="301" y="691"/>
                </a:lnTo>
                <a:lnTo>
                  <a:pt x="372" y="666"/>
                </a:lnTo>
                <a:lnTo>
                  <a:pt x="430" y="648"/>
                </a:lnTo>
                <a:lnTo>
                  <a:pt x="452" y="5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07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8760" y="3681360"/>
            <a:ext cx="1029240" cy="898920"/>
          </a:xfrm>
          <a:custGeom>
            <a:avLst/>
            <a:gdLst/>
            <a:ahLst/>
            <a:rect l="0" t="0" r="r" b="b"/>
            <a:pathLst>
              <a:path w="2859" h="2497">
                <a:moveTo>
                  <a:pt x="452" y="591"/>
                </a:moveTo>
                <a:lnTo>
                  <a:pt x="479" y="522"/>
                </a:lnTo>
                <a:lnTo>
                  <a:pt x="514" y="454"/>
                </a:lnTo>
                <a:lnTo>
                  <a:pt x="567" y="398"/>
                </a:lnTo>
                <a:lnTo>
                  <a:pt x="616" y="354"/>
                </a:lnTo>
                <a:lnTo>
                  <a:pt x="678" y="323"/>
                </a:lnTo>
                <a:lnTo>
                  <a:pt x="755" y="292"/>
                </a:lnTo>
                <a:lnTo>
                  <a:pt x="839" y="273"/>
                </a:lnTo>
                <a:lnTo>
                  <a:pt x="928" y="267"/>
                </a:lnTo>
                <a:lnTo>
                  <a:pt x="1039" y="273"/>
                </a:lnTo>
                <a:lnTo>
                  <a:pt x="1132" y="280"/>
                </a:lnTo>
                <a:lnTo>
                  <a:pt x="1199" y="217"/>
                </a:lnTo>
                <a:lnTo>
                  <a:pt x="1256" y="155"/>
                </a:lnTo>
                <a:lnTo>
                  <a:pt x="1341" y="93"/>
                </a:lnTo>
                <a:lnTo>
                  <a:pt x="1438" y="43"/>
                </a:lnTo>
                <a:lnTo>
                  <a:pt x="1558" y="6"/>
                </a:lnTo>
                <a:lnTo>
                  <a:pt x="1678" y="0"/>
                </a:lnTo>
                <a:lnTo>
                  <a:pt x="1784" y="18"/>
                </a:lnTo>
                <a:lnTo>
                  <a:pt x="1904" y="62"/>
                </a:lnTo>
                <a:lnTo>
                  <a:pt x="1975" y="118"/>
                </a:lnTo>
                <a:lnTo>
                  <a:pt x="2042" y="180"/>
                </a:lnTo>
                <a:lnTo>
                  <a:pt x="2104" y="261"/>
                </a:lnTo>
                <a:lnTo>
                  <a:pt x="2130" y="342"/>
                </a:lnTo>
                <a:lnTo>
                  <a:pt x="2224" y="342"/>
                </a:lnTo>
                <a:lnTo>
                  <a:pt x="2313" y="361"/>
                </a:lnTo>
                <a:lnTo>
                  <a:pt x="2393" y="404"/>
                </a:lnTo>
                <a:lnTo>
                  <a:pt x="2446" y="466"/>
                </a:lnTo>
                <a:lnTo>
                  <a:pt x="2500" y="553"/>
                </a:lnTo>
                <a:lnTo>
                  <a:pt x="2526" y="629"/>
                </a:lnTo>
                <a:lnTo>
                  <a:pt x="2535" y="698"/>
                </a:lnTo>
                <a:lnTo>
                  <a:pt x="2588" y="710"/>
                </a:lnTo>
                <a:lnTo>
                  <a:pt x="2642" y="735"/>
                </a:lnTo>
                <a:lnTo>
                  <a:pt x="2686" y="766"/>
                </a:lnTo>
                <a:lnTo>
                  <a:pt x="2730" y="803"/>
                </a:lnTo>
                <a:lnTo>
                  <a:pt x="2761" y="835"/>
                </a:lnTo>
                <a:lnTo>
                  <a:pt x="2792" y="878"/>
                </a:lnTo>
                <a:lnTo>
                  <a:pt x="2824" y="934"/>
                </a:lnTo>
                <a:lnTo>
                  <a:pt x="2837" y="1003"/>
                </a:lnTo>
                <a:lnTo>
                  <a:pt x="2841" y="1052"/>
                </a:lnTo>
                <a:lnTo>
                  <a:pt x="2832" y="1108"/>
                </a:lnTo>
                <a:lnTo>
                  <a:pt x="2810" y="1171"/>
                </a:lnTo>
                <a:lnTo>
                  <a:pt x="2837" y="1239"/>
                </a:lnTo>
                <a:lnTo>
                  <a:pt x="2850" y="1301"/>
                </a:lnTo>
                <a:lnTo>
                  <a:pt x="2855" y="1370"/>
                </a:lnTo>
                <a:lnTo>
                  <a:pt x="2841" y="1457"/>
                </a:lnTo>
                <a:lnTo>
                  <a:pt x="2832" y="1507"/>
                </a:lnTo>
                <a:lnTo>
                  <a:pt x="2797" y="1569"/>
                </a:lnTo>
                <a:lnTo>
                  <a:pt x="2841" y="1656"/>
                </a:lnTo>
                <a:lnTo>
                  <a:pt x="2855" y="1706"/>
                </a:lnTo>
                <a:lnTo>
                  <a:pt x="2859" y="1787"/>
                </a:lnTo>
                <a:lnTo>
                  <a:pt x="2850" y="1862"/>
                </a:lnTo>
                <a:lnTo>
                  <a:pt x="2824" y="1950"/>
                </a:lnTo>
                <a:lnTo>
                  <a:pt x="2792" y="2006"/>
                </a:lnTo>
                <a:lnTo>
                  <a:pt x="2744" y="2068"/>
                </a:lnTo>
                <a:lnTo>
                  <a:pt x="2655" y="2124"/>
                </a:lnTo>
                <a:lnTo>
                  <a:pt x="2566" y="2143"/>
                </a:lnTo>
                <a:lnTo>
                  <a:pt x="2486" y="2130"/>
                </a:lnTo>
                <a:lnTo>
                  <a:pt x="2433" y="2099"/>
                </a:lnTo>
                <a:lnTo>
                  <a:pt x="2393" y="2155"/>
                </a:lnTo>
                <a:lnTo>
                  <a:pt x="2353" y="2205"/>
                </a:lnTo>
                <a:lnTo>
                  <a:pt x="2322" y="2236"/>
                </a:lnTo>
                <a:lnTo>
                  <a:pt x="2256" y="2273"/>
                </a:lnTo>
                <a:lnTo>
                  <a:pt x="2198" y="2304"/>
                </a:lnTo>
                <a:lnTo>
                  <a:pt x="2113" y="2323"/>
                </a:lnTo>
                <a:lnTo>
                  <a:pt x="2028" y="2317"/>
                </a:lnTo>
                <a:lnTo>
                  <a:pt x="1948" y="2292"/>
                </a:lnTo>
                <a:lnTo>
                  <a:pt x="1877" y="2242"/>
                </a:lnTo>
                <a:lnTo>
                  <a:pt x="1833" y="2329"/>
                </a:lnTo>
                <a:lnTo>
                  <a:pt x="1793" y="2373"/>
                </a:lnTo>
                <a:lnTo>
                  <a:pt x="1740" y="2416"/>
                </a:lnTo>
                <a:lnTo>
                  <a:pt x="1682" y="2448"/>
                </a:lnTo>
                <a:lnTo>
                  <a:pt x="1616" y="2460"/>
                </a:lnTo>
                <a:lnTo>
                  <a:pt x="1553" y="2460"/>
                </a:lnTo>
                <a:lnTo>
                  <a:pt x="1496" y="2448"/>
                </a:lnTo>
                <a:lnTo>
                  <a:pt x="1420" y="2404"/>
                </a:lnTo>
                <a:lnTo>
                  <a:pt x="1376" y="2360"/>
                </a:lnTo>
                <a:lnTo>
                  <a:pt x="1336" y="2416"/>
                </a:lnTo>
                <a:lnTo>
                  <a:pt x="1296" y="2448"/>
                </a:lnTo>
                <a:lnTo>
                  <a:pt x="1243" y="2473"/>
                </a:lnTo>
                <a:lnTo>
                  <a:pt x="1172" y="2497"/>
                </a:lnTo>
                <a:lnTo>
                  <a:pt x="1096" y="2491"/>
                </a:lnTo>
                <a:lnTo>
                  <a:pt x="1017" y="2466"/>
                </a:lnTo>
                <a:lnTo>
                  <a:pt x="954" y="2429"/>
                </a:lnTo>
                <a:lnTo>
                  <a:pt x="901" y="2360"/>
                </a:lnTo>
                <a:lnTo>
                  <a:pt x="866" y="2292"/>
                </a:lnTo>
                <a:lnTo>
                  <a:pt x="808" y="2317"/>
                </a:lnTo>
                <a:lnTo>
                  <a:pt x="737" y="2329"/>
                </a:lnTo>
                <a:lnTo>
                  <a:pt x="656" y="2329"/>
                </a:lnTo>
                <a:lnTo>
                  <a:pt x="590" y="2292"/>
                </a:lnTo>
                <a:lnTo>
                  <a:pt x="532" y="2248"/>
                </a:lnTo>
                <a:lnTo>
                  <a:pt x="488" y="2205"/>
                </a:lnTo>
                <a:lnTo>
                  <a:pt x="452" y="2136"/>
                </a:lnTo>
                <a:lnTo>
                  <a:pt x="439" y="2068"/>
                </a:lnTo>
                <a:lnTo>
                  <a:pt x="403" y="2087"/>
                </a:lnTo>
                <a:lnTo>
                  <a:pt x="337" y="2087"/>
                </a:lnTo>
                <a:lnTo>
                  <a:pt x="266" y="2068"/>
                </a:lnTo>
                <a:lnTo>
                  <a:pt x="190" y="2018"/>
                </a:lnTo>
                <a:lnTo>
                  <a:pt x="141" y="1956"/>
                </a:lnTo>
                <a:lnTo>
                  <a:pt x="97" y="1875"/>
                </a:lnTo>
                <a:lnTo>
                  <a:pt x="75" y="1787"/>
                </a:lnTo>
                <a:lnTo>
                  <a:pt x="62" y="1669"/>
                </a:lnTo>
                <a:lnTo>
                  <a:pt x="66" y="1588"/>
                </a:lnTo>
                <a:lnTo>
                  <a:pt x="88" y="1469"/>
                </a:lnTo>
                <a:lnTo>
                  <a:pt x="39" y="1401"/>
                </a:lnTo>
                <a:lnTo>
                  <a:pt x="13" y="1314"/>
                </a:lnTo>
                <a:lnTo>
                  <a:pt x="0" y="1220"/>
                </a:lnTo>
                <a:lnTo>
                  <a:pt x="0" y="1121"/>
                </a:lnTo>
                <a:lnTo>
                  <a:pt x="17" y="1015"/>
                </a:lnTo>
                <a:lnTo>
                  <a:pt x="48" y="940"/>
                </a:lnTo>
                <a:lnTo>
                  <a:pt x="106" y="853"/>
                </a:lnTo>
                <a:lnTo>
                  <a:pt x="168" y="791"/>
                </a:lnTo>
                <a:lnTo>
                  <a:pt x="235" y="729"/>
                </a:lnTo>
                <a:lnTo>
                  <a:pt x="301" y="691"/>
                </a:lnTo>
                <a:lnTo>
                  <a:pt x="372" y="666"/>
                </a:lnTo>
                <a:lnTo>
                  <a:pt x="430" y="648"/>
                </a:lnTo>
                <a:lnTo>
                  <a:pt x="452" y="5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07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362720" y="1243080"/>
            <a:ext cx="1029240" cy="898920"/>
          </a:xfrm>
          <a:custGeom>
            <a:avLst/>
            <a:gdLst/>
            <a:ahLst/>
            <a:rect l="0" t="0" r="r" b="b"/>
            <a:pathLst>
              <a:path w="2859" h="2497">
                <a:moveTo>
                  <a:pt x="452" y="591"/>
                </a:moveTo>
                <a:lnTo>
                  <a:pt x="479" y="522"/>
                </a:lnTo>
                <a:lnTo>
                  <a:pt x="514" y="454"/>
                </a:lnTo>
                <a:lnTo>
                  <a:pt x="567" y="398"/>
                </a:lnTo>
                <a:lnTo>
                  <a:pt x="616" y="354"/>
                </a:lnTo>
                <a:lnTo>
                  <a:pt x="678" y="323"/>
                </a:lnTo>
                <a:lnTo>
                  <a:pt x="755" y="292"/>
                </a:lnTo>
                <a:lnTo>
                  <a:pt x="839" y="273"/>
                </a:lnTo>
                <a:lnTo>
                  <a:pt x="928" y="267"/>
                </a:lnTo>
                <a:lnTo>
                  <a:pt x="1039" y="273"/>
                </a:lnTo>
                <a:lnTo>
                  <a:pt x="1132" y="280"/>
                </a:lnTo>
                <a:lnTo>
                  <a:pt x="1199" y="217"/>
                </a:lnTo>
                <a:lnTo>
                  <a:pt x="1256" y="155"/>
                </a:lnTo>
                <a:lnTo>
                  <a:pt x="1341" y="93"/>
                </a:lnTo>
                <a:lnTo>
                  <a:pt x="1438" y="43"/>
                </a:lnTo>
                <a:lnTo>
                  <a:pt x="1558" y="6"/>
                </a:lnTo>
                <a:lnTo>
                  <a:pt x="1678" y="0"/>
                </a:lnTo>
                <a:lnTo>
                  <a:pt x="1784" y="18"/>
                </a:lnTo>
                <a:lnTo>
                  <a:pt x="1904" y="62"/>
                </a:lnTo>
                <a:lnTo>
                  <a:pt x="1975" y="118"/>
                </a:lnTo>
                <a:lnTo>
                  <a:pt x="2042" y="180"/>
                </a:lnTo>
                <a:lnTo>
                  <a:pt x="2104" y="261"/>
                </a:lnTo>
                <a:lnTo>
                  <a:pt x="2130" y="342"/>
                </a:lnTo>
                <a:lnTo>
                  <a:pt x="2224" y="342"/>
                </a:lnTo>
                <a:lnTo>
                  <a:pt x="2313" y="361"/>
                </a:lnTo>
                <a:lnTo>
                  <a:pt x="2393" y="404"/>
                </a:lnTo>
                <a:lnTo>
                  <a:pt x="2446" y="466"/>
                </a:lnTo>
                <a:lnTo>
                  <a:pt x="2500" y="553"/>
                </a:lnTo>
                <a:lnTo>
                  <a:pt x="2526" y="629"/>
                </a:lnTo>
                <a:lnTo>
                  <a:pt x="2535" y="698"/>
                </a:lnTo>
                <a:lnTo>
                  <a:pt x="2588" y="710"/>
                </a:lnTo>
                <a:lnTo>
                  <a:pt x="2642" y="735"/>
                </a:lnTo>
                <a:lnTo>
                  <a:pt x="2686" y="766"/>
                </a:lnTo>
                <a:lnTo>
                  <a:pt x="2730" y="803"/>
                </a:lnTo>
                <a:lnTo>
                  <a:pt x="2761" y="835"/>
                </a:lnTo>
                <a:lnTo>
                  <a:pt x="2792" y="878"/>
                </a:lnTo>
                <a:lnTo>
                  <a:pt x="2824" y="934"/>
                </a:lnTo>
                <a:lnTo>
                  <a:pt x="2837" y="1003"/>
                </a:lnTo>
                <a:lnTo>
                  <a:pt x="2841" y="1052"/>
                </a:lnTo>
                <a:lnTo>
                  <a:pt x="2832" y="1108"/>
                </a:lnTo>
                <a:lnTo>
                  <a:pt x="2810" y="1171"/>
                </a:lnTo>
                <a:lnTo>
                  <a:pt x="2837" y="1239"/>
                </a:lnTo>
                <a:lnTo>
                  <a:pt x="2850" y="1301"/>
                </a:lnTo>
                <a:lnTo>
                  <a:pt x="2855" y="1370"/>
                </a:lnTo>
                <a:lnTo>
                  <a:pt x="2841" y="1457"/>
                </a:lnTo>
                <a:lnTo>
                  <a:pt x="2832" y="1507"/>
                </a:lnTo>
                <a:lnTo>
                  <a:pt x="2797" y="1569"/>
                </a:lnTo>
                <a:lnTo>
                  <a:pt x="2841" y="1656"/>
                </a:lnTo>
                <a:lnTo>
                  <a:pt x="2855" y="1706"/>
                </a:lnTo>
                <a:lnTo>
                  <a:pt x="2859" y="1787"/>
                </a:lnTo>
                <a:lnTo>
                  <a:pt x="2850" y="1862"/>
                </a:lnTo>
                <a:lnTo>
                  <a:pt x="2824" y="1950"/>
                </a:lnTo>
                <a:lnTo>
                  <a:pt x="2792" y="2006"/>
                </a:lnTo>
                <a:lnTo>
                  <a:pt x="2744" y="2068"/>
                </a:lnTo>
                <a:lnTo>
                  <a:pt x="2655" y="2124"/>
                </a:lnTo>
                <a:lnTo>
                  <a:pt x="2566" y="2143"/>
                </a:lnTo>
                <a:lnTo>
                  <a:pt x="2486" y="2130"/>
                </a:lnTo>
                <a:lnTo>
                  <a:pt x="2433" y="2099"/>
                </a:lnTo>
                <a:lnTo>
                  <a:pt x="2393" y="2155"/>
                </a:lnTo>
                <a:lnTo>
                  <a:pt x="2353" y="2205"/>
                </a:lnTo>
                <a:lnTo>
                  <a:pt x="2322" y="2236"/>
                </a:lnTo>
                <a:lnTo>
                  <a:pt x="2256" y="2273"/>
                </a:lnTo>
                <a:lnTo>
                  <a:pt x="2198" y="2304"/>
                </a:lnTo>
                <a:lnTo>
                  <a:pt x="2113" y="2323"/>
                </a:lnTo>
                <a:lnTo>
                  <a:pt x="2028" y="2317"/>
                </a:lnTo>
                <a:lnTo>
                  <a:pt x="1948" y="2292"/>
                </a:lnTo>
                <a:lnTo>
                  <a:pt x="1877" y="2242"/>
                </a:lnTo>
                <a:lnTo>
                  <a:pt x="1833" y="2329"/>
                </a:lnTo>
                <a:lnTo>
                  <a:pt x="1793" y="2373"/>
                </a:lnTo>
                <a:lnTo>
                  <a:pt x="1740" y="2416"/>
                </a:lnTo>
                <a:lnTo>
                  <a:pt x="1682" y="2448"/>
                </a:lnTo>
                <a:lnTo>
                  <a:pt x="1616" y="2460"/>
                </a:lnTo>
                <a:lnTo>
                  <a:pt x="1553" y="2460"/>
                </a:lnTo>
                <a:lnTo>
                  <a:pt x="1496" y="2448"/>
                </a:lnTo>
                <a:lnTo>
                  <a:pt x="1420" y="2404"/>
                </a:lnTo>
                <a:lnTo>
                  <a:pt x="1376" y="2360"/>
                </a:lnTo>
                <a:lnTo>
                  <a:pt x="1336" y="2416"/>
                </a:lnTo>
                <a:lnTo>
                  <a:pt x="1296" y="2448"/>
                </a:lnTo>
                <a:lnTo>
                  <a:pt x="1243" y="2473"/>
                </a:lnTo>
                <a:lnTo>
                  <a:pt x="1172" y="2497"/>
                </a:lnTo>
                <a:lnTo>
                  <a:pt x="1096" y="2491"/>
                </a:lnTo>
                <a:lnTo>
                  <a:pt x="1017" y="2466"/>
                </a:lnTo>
                <a:lnTo>
                  <a:pt x="954" y="2429"/>
                </a:lnTo>
                <a:lnTo>
                  <a:pt x="901" y="2360"/>
                </a:lnTo>
                <a:lnTo>
                  <a:pt x="866" y="2292"/>
                </a:lnTo>
                <a:lnTo>
                  <a:pt x="808" y="2317"/>
                </a:lnTo>
                <a:lnTo>
                  <a:pt x="737" y="2329"/>
                </a:lnTo>
                <a:lnTo>
                  <a:pt x="656" y="2329"/>
                </a:lnTo>
                <a:lnTo>
                  <a:pt x="590" y="2292"/>
                </a:lnTo>
                <a:lnTo>
                  <a:pt x="532" y="2248"/>
                </a:lnTo>
                <a:lnTo>
                  <a:pt x="488" y="2205"/>
                </a:lnTo>
                <a:lnTo>
                  <a:pt x="452" y="2136"/>
                </a:lnTo>
                <a:lnTo>
                  <a:pt x="439" y="2068"/>
                </a:lnTo>
                <a:lnTo>
                  <a:pt x="403" y="2087"/>
                </a:lnTo>
                <a:lnTo>
                  <a:pt x="337" y="2087"/>
                </a:lnTo>
                <a:lnTo>
                  <a:pt x="266" y="2068"/>
                </a:lnTo>
                <a:lnTo>
                  <a:pt x="190" y="2018"/>
                </a:lnTo>
                <a:lnTo>
                  <a:pt x="141" y="1956"/>
                </a:lnTo>
                <a:lnTo>
                  <a:pt x="97" y="1875"/>
                </a:lnTo>
                <a:lnTo>
                  <a:pt x="75" y="1787"/>
                </a:lnTo>
                <a:lnTo>
                  <a:pt x="62" y="1669"/>
                </a:lnTo>
                <a:lnTo>
                  <a:pt x="66" y="1588"/>
                </a:lnTo>
                <a:lnTo>
                  <a:pt x="88" y="1469"/>
                </a:lnTo>
                <a:lnTo>
                  <a:pt x="39" y="1401"/>
                </a:lnTo>
                <a:lnTo>
                  <a:pt x="13" y="1314"/>
                </a:lnTo>
                <a:lnTo>
                  <a:pt x="0" y="1220"/>
                </a:lnTo>
                <a:lnTo>
                  <a:pt x="0" y="1121"/>
                </a:lnTo>
                <a:lnTo>
                  <a:pt x="17" y="1015"/>
                </a:lnTo>
                <a:lnTo>
                  <a:pt x="48" y="940"/>
                </a:lnTo>
                <a:lnTo>
                  <a:pt x="106" y="853"/>
                </a:lnTo>
                <a:lnTo>
                  <a:pt x="168" y="791"/>
                </a:lnTo>
                <a:lnTo>
                  <a:pt x="235" y="729"/>
                </a:lnTo>
                <a:lnTo>
                  <a:pt x="301" y="691"/>
                </a:lnTo>
                <a:lnTo>
                  <a:pt x="372" y="666"/>
                </a:lnTo>
                <a:lnTo>
                  <a:pt x="430" y="648"/>
                </a:lnTo>
                <a:lnTo>
                  <a:pt x="452" y="5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07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67640" y="2995560"/>
            <a:ext cx="1029240" cy="898920"/>
          </a:xfrm>
          <a:custGeom>
            <a:avLst/>
            <a:gdLst/>
            <a:ahLst/>
            <a:rect l="0" t="0" r="r" b="b"/>
            <a:pathLst>
              <a:path w="2859" h="2497">
                <a:moveTo>
                  <a:pt x="452" y="591"/>
                </a:moveTo>
                <a:lnTo>
                  <a:pt x="479" y="522"/>
                </a:lnTo>
                <a:lnTo>
                  <a:pt x="514" y="454"/>
                </a:lnTo>
                <a:lnTo>
                  <a:pt x="567" y="398"/>
                </a:lnTo>
                <a:lnTo>
                  <a:pt x="616" y="354"/>
                </a:lnTo>
                <a:lnTo>
                  <a:pt x="678" y="323"/>
                </a:lnTo>
                <a:lnTo>
                  <a:pt x="755" y="292"/>
                </a:lnTo>
                <a:lnTo>
                  <a:pt x="839" y="273"/>
                </a:lnTo>
                <a:lnTo>
                  <a:pt x="928" y="267"/>
                </a:lnTo>
                <a:lnTo>
                  <a:pt x="1039" y="273"/>
                </a:lnTo>
                <a:lnTo>
                  <a:pt x="1132" y="280"/>
                </a:lnTo>
                <a:lnTo>
                  <a:pt x="1199" y="217"/>
                </a:lnTo>
                <a:lnTo>
                  <a:pt x="1256" y="155"/>
                </a:lnTo>
                <a:lnTo>
                  <a:pt x="1341" y="93"/>
                </a:lnTo>
                <a:lnTo>
                  <a:pt x="1438" y="43"/>
                </a:lnTo>
                <a:lnTo>
                  <a:pt x="1558" y="6"/>
                </a:lnTo>
                <a:lnTo>
                  <a:pt x="1678" y="0"/>
                </a:lnTo>
                <a:lnTo>
                  <a:pt x="1784" y="18"/>
                </a:lnTo>
                <a:lnTo>
                  <a:pt x="1904" y="62"/>
                </a:lnTo>
                <a:lnTo>
                  <a:pt x="1975" y="118"/>
                </a:lnTo>
                <a:lnTo>
                  <a:pt x="2042" y="180"/>
                </a:lnTo>
                <a:lnTo>
                  <a:pt x="2104" y="261"/>
                </a:lnTo>
                <a:lnTo>
                  <a:pt x="2130" y="342"/>
                </a:lnTo>
                <a:lnTo>
                  <a:pt x="2224" y="342"/>
                </a:lnTo>
                <a:lnTo>
                  <a:pt x="2313" y="361"/>
                </a:lnTo>
                <a:lnTo>
                  <a:pt x="2393" y="404"/>
                </a:lnTo>
                <a:lnTo>
                  <a:pt x="2446" y="466"/>
                </a:lnTo>
                <a:lnTo>
                  <a:pt x="2500" y="553"/>
                </a:lnTo>
                <a:lnTo>
                  <a:pt x="2526" y="629"/>
                </a:lnTo>
                <a:lnTo>
                  <a:pt x="2535" y="698"/>
                </a:lnTo>
                <a:lnTo>
                  <a:pt x="2588" y="710"/>
                </a:lnTo>
                <a:lnTo>
                  <a:pt x="2642" y="735"/>
                </a:lnTo>
                <a:lnTo>
                  <a:pt x="2686" y="766"/>
                </a:lnTo>
                <a:lnTo>
                  <a:pt x="2730" y="803"/>
                </a:lnTo>
                <a:lnTo>
                  <a:pt x="2761" y="835"/>
                </a:lnTo>
                <a:lnTo>
                  <a:pt x="2792" y="878"/>
                </a:lnTo>
                <a:lnTo>
                  <a:pt x="2824" y="934"/>
                </a:lnTo>
                <a:lnTo>
                  <a:pt x="2837" y="1003"/>
                </a:lnTo>
                <a:lnTo>
                  <a:pt x="2841" y="1052"/>
                </a:lnTo>
                <a:lnTo>
                  <a:pt x="2832" y="1108"/>
                </a:lnTo>
                <a:lnTo>
                  <a:pt x="2810" y="1171"/>
                </a:lnTo>
                <a:lnTo>
                  <a:pt x="2837" y="1239"/>
                </a:lnTo>
                <a:lnTo>
                  <a:pt x="2850" y="1301"/>
                </a:lnTo>
                <a:lnTo>
                  <a:pt x="2855" y="1370"/>
                </a:lnTo>
                <a:lnTo>
                  <a:pt x="2841" y="1457"/>
                </a:lnTo>
                <a:lnTo>
                  <a:pt x="2832" y="1507"/>
                </a:lnTo>
                <a:lnTo>
                  <a:pt x="2797" y="1569"/>
                </a:lnTo>
                <a:lnTo>
                  <a:pt x="2841" y="1656"/>
                </a:lnTo>
                <a:lnTo>
                  <a:pt x="2855" y="1706"/>
                </a:lnTo>
                <a:lnTo>
                  <a:pt x="2859" y="1787"/>
                </a:lnTo>
                <a:lnTo>
                  <a:pt x="2850" y="1862"/>
                </a:lnTo>
                <a:lnTo>
                  <a:pt x="2824" y="1950"/>
                </a:lnTo>
                <a:lnTo>
                  <a:pt x="2792" y="2006"/>
                </a:lnTo>
                <a:lnTo>
                  <a:pt x="2744" y="2068"/>
                </a:lnTo>
                <a:lnTo>
                  <a:pt x="2655" y="2124"/>
                </a:lnTo>
                <a:lnTo>
                  <a:pt x="2566" y="2143"/>
                </a:lnTo>
                <a:lnTo>
                  <a:pt x="2486" y="2130"/>
                </a:lnTo>
                <a:lnTo>
                  <a:pt x="2433" y="2099"/>
                </a:lnTo>
                <a:lnTo>
                  <a:pt x="2393" y="2155"/>
                </a:lnTo>
                <a:lnTo>
                  <a:pt x="2353" y="2205"/>
                </a:lnTo>
                <a:lnTo>
                  <a:pt x="2322" y="2236"/>
                </a:lnTo>
                <a:lnTo>
                  <a:pt x="2256" y="2273"/>
                </a:lnTo>
                <a:lnTo>
                  <a:pt x="2198" y="2304"/>
                </a:lnTo>
                <a:lnTo>
                  <a:pt x="2113" y="2323"/>
                </a:lnTo>
                <a:lnTo>
                  <a:pt x="2028" y="2317"/>
                </a:lnTo>
                <a:lnTo>
                  <a:pt x="1948" y="2292"/>
                </a:lnTo>
                <a:lnTo>
                  <a:pt x="1877" y="2242"/>
                </a:lnTo>
                <a:lnTo>
                  <a:pt x="1833" y="2329"/>
                </a:lnTo>
                <a:lnTo>
                  <a:pt x="1793" y="2373"/>
                </a:lnTo>
                <a:lnTo>
                  <a:pt x="1740" y="2416"/>
                </a:lnTo>
                <a:lnTo>
                  <a:pt x="1682" y="2448"/>
                </a:lnTo>
                <a:lnTo>
                  <a:pt x="1616" y="2460"/>
                </a:lnTo>
                <a:lnTo>
                  <a:pt x="1553" y="2460"/>
                </a:lnTo>
                <a:lnTo>
                  <a:pt x="1496" y="2448"/>
                </a:lnTo>
                <a:lnTo>
                  <a:pt x="1420" y="2404"/>
                </a:lnTo>
                <a:lnTo>
                  <a:pt x="1376" y="2360"/>
                </a:lnTo>
                <a:lnTo>
                  <a:pt x="1336" y="2416"/>
                </a:lnTo>
                <a:lnTo>
                  <a:pt x="1296" y="2448"/>
                </a:lnTo>
                <a:lnTo>
                  <a:pt x="1243" y="2473"/>
                </a:lnTo>
                <a:lnTo>
                  <a:pt x="1172" y="2497"/>
                </a:lnTo>
                <a:lnTo>
                  <a:pt x="1096" y="2491"/>
                </a:lnTo>
                <a:lnTo>
                  <a:pt x="1017" y="2466"/>
                </a:lnTo>
                <a:lnTo>
                  <a:pt x="954" y="2429"/>
                </a:lnTo>
                <a:lnTo>
                  <a:pt x="901" y="2360"/>
                </a:lnTo>
                <a:lnTo>
                  <a:pt x="866" y="2292"/>
                </a:lnTo>
                <a:lnTo>
                  <a:pt x="808" y="2317"/>
                </a:lnTo>
                <a:lnTo>
                  <a:pt x="737" y="2329"/>
                </a:lnTo>
                <a:lnTo>
                  <a:pt x="656" y="2329"/>
                </a:lnTo>
                <a:lnTo>
                  <a:pt x="590" y="2292"/>
                </a:lnTo>
                <a:lnTo>
                  <a:pt x="532" y="2248"/>
                </a:lnTo>
                <a:lnTo>
                  <a:pt x="488" y="2205"/>
                </a:lnTo>
                <a:lnTo>
                  <a:pt x="452" y="2136"/>
                </a:lnTo>
                <a:lnTo>
                  <a:pt x="439" y="2068"/>
                </a:lnTo>
                <a:lnTo>
                  <a:pt x="403" y="2087"/>
                </a:lnTo>
                <a:lnTo>
                  <a:pt x="337" y="2087"/>
                </a:lnTo>
                <a:lnTo>
                  <a:pt x="266" y="2068"/>
                </a:lnTo>
                <a:lnTo>
                  <a:pt x="190" y="2018"/>
                </a:lnTo>
                <a:lnTo>
                  <a:pt x="141" y="1956"/>
                </a:lnTo>
                <a:lnTo>
                  <a:pt x="97" y="1875"/>
                </a:lnTo>
                <a:lnTo>
                  <a:pt x="75" y="1787"/>
                </a:lnTo>
                <a:lnTo>
                  <a:pt x="62" y="1669"/>
                </a:lnTo>
                <a:lnTo>
                  <a:pt x="66" y="1588"/>
                </a:lnTo>
                <a:lnTo>
                  <a:pt x="88" y="1469"/>
                </a:lnTo>
                <a:lnTo>
                  <a:pt x="39" y="1401"/>
                </a:lnTo>
                <a:lnTo>
                  <a:pt x="13" y="1314"/>
                </a:lnTo>
                <a:lnTo>
                  <a:pt x="0" y="1220"/>
                </a:lnTo>
                <a:lnTo>
                  <a:pt x="0" y="1121"/>
                </a:lnTo>
                <a:lnTo>
                  <a:pt x="17" y="1015"/>
                </a:lnTo>
                <a:lnTo>
                  <a:pt x="48" y="940"/>
                </a:lnTo>
                <a:lnTo>
                  <a:pt x="106" y="853"/>
                </a:lnTo>
                <a:lnTo>
                  <a:pt x="168" y="791"/>
                </a:lnTo>
                <a:lnTo>
                  <a:pt x="235" y="729"/>
                </a:lnTo>
                <a:lnTo>
                  <a:pt x="301" y="691"/>
                </a:lnTo>
                <a:lnTo>
                  <a:pt x="372" y="666"/>
                </a:lnTo>
                <a:lnTo>
                  <a:pt x="430" y="648"/>
                </a:lnTo>
                <a:lnTo>
                  <a:pt x="452" y="5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07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3960" y="5205240"/>
            <a:ext cx="1029240" cy="898920"/>
          </a:xfrm>
          <a:custGeom>
            <a:avLst/>
            <a:gdLst/>
            <a:ahLst/>
            <a:rect l="0" t="0" r="r" b="b"/>
            <a:pathLst>
              <a:path w="2859" h="2497">
                <a:moveTo>
                  <a:pt x="452" y="591"/>
                </a:moveTo>
                <a:lnTo>
                  <a:pt x="479" y="522"/>
                </a:lnTo>
                <a:lnTo>
                  <a:pt x="514" y="454"/>
                </a:lnTo>
                <a:lnTo>
                  <a:pt x="567" y="398"/>
                </a:lnTo>
                <a:lnTo>
                  <a:pt x="616" y="354"/>
                </a:lnTo>
                <a:lnTo>
                  <a:pt x="678" y="323"/>
                </a:lnTo>
                <a:lnTo>
                  <a:pt x="755" y="292"/>
                </a:lnTo>
                <a:lnTo>
                  <a:pt x="839" y="273"/>
                </a:lnTo>
                <a:lnTo>
                  <a:pt x="928" y="267"/>
                </a:lnTo>
                <a:lnTo>
                  <a:pt x="1039" y="273"/>
                </a:lnTo>
                <a:lnTo>
                  <a:pt x="1132" y="280"/>
                </a:lnTo>
                <a:lnTo>
                  <a:pt x="1199" y="217"/>
                </a:lnTo>
                <a:lnTo>
                  <a:pt x="1256" y="155"/>
                </a:lnTo>
                <a:lnTo>
                  <a:pt x="1341" y="93"/>
                </a:lnTo>
                <a:lnTo>
                  <a:pt x="1438" y="43"/>
                </a:lnTo>
                <a:lnTo>
                  <a:pt x="1558" y="6"/>
                </a:lnTo>
                <a:lnTo>
                  <a:pt x="1678" y="0"/>
                </a:lnTo>
                <a:lnTo>
                  <a:pt x="1784" y="18"/>
                </a:lnTo>
                <a:lnTo>
                  <a:pt x="1904" y="62"/>
                </a:lnTo>
                <a:lnTo>
                  <a:pt x="1975" y="118"/>
                </a:lnTo>
                <a:lnTo>
                  <a:pt x="2042" y="180"/>
                </a:lnTo>
                <a:lnTo>
                  <a:pt x="2104" y="261"/>
                </a:lnTo>
                <a:lnTo>
                  <a:pt x="2130" y="342"/>
                </a:lnTo>
                <a:lnTo>
                  <a:pt x="2224" y="342"/>
                </a:lnTo>
                <a:lnTo>
                  <a:pt x="2313" y="361"/>
                </a:lnTo>
                <a:lnTo>
                  <a:pt x="2393" y="404"/>
                </a:lnTo>
                <a:lnTo>
                  <a:pt x="2446" y="466"/>
                </a:lnTo>
                <a:lnTo>
                  <a:pt x="2500" y="553"/>
                </a:lnTo>
                <a:lnTo>
                  <a:pt x="2526" y="629"/>
                </a:lnTo>
                <a:lnTo>
                  <a:pt x="2535" y="698"/>
                </a:lnTo>
                <a:lnTo>
                  <a:pt x="2588" y="710"/>
                </a:lnTo>
                <a:lnTo>
                  <a:pt x="2642" y="735"/>
                </a:lnTo>
                <a:lnTo>
                  <a:pt x="2686" y="766"/>
                </a:lnTo>
                <a:lnTo>
                  <a:pt x="2730" y="803"/>
                </a:lnTo>
                <a:lnTo>
                  <a:pt x="2761" y="835"/>
                </a:lnTo>
                <a:lnTo>
                  <a:pt x="2792" y="878"/>
                </a:lnTo>
                <a:lnTo>
                  <a:pt x="2824" y="934"/>
                </a:lnTo>
                <a:lnTo>
                  <a:pt x="2837" y="1003"/>
                </a:lnTo>
                <a:lnTo>
                  <a:pt x="2841" y="1052"/>
                </a:lnTo>
                <a:lnTo>
                  <a:pt x="2832" y="1108"/>
                </a:lnTo>
                <a:lnTo>
                  <a:pt x="2810" y="1171"/>
                </a:lnTo>
                <a:lnTo>
                  <a:pt x="2837" y="1239"/>
                </a:lnTo>
                <a:lnTo>
                  <a:pt x="2850" y="1301"/>
                </a:lnTo>
                <a:lnTo>
                  <a:pt x="2855" y="1370"/>
                </a:lnTo>
                <a:lnTo>
                  <a:pt x="2841" y="1457"/>
                </a:lnTo>
                <a:lnTo>
                  <a:pt x="2832" y="1507"/>
                </a:lnTo>
                <a:lnTo>
                  <a:pt x="2797" y="1569"/>
                </a:lnTo>
                <a:lnTo>
                  <a:pt x="2841" y="1656"/>
                </a:lnTo>
                <a:lnTo>
                  <a:pt x="2855" y="1706"/>
                </a:lnTo>
                <a:lnTo>
                  <a:pt x="2859" y="1787"/>
                </a:lnTo>
                <a:lnTo>
                  <a:pt x="2850" y="1862"/>
                </a:lnTo>
                <a:lnTo>
                  <a:pt x="2824" y="1950"/>
                </a:lnTo>
                <a:lnTo>
                  <a:pt x="2792" y="2006"/>
                </a:lnTo>
                <a:lnTo>
                  <a:pt x="2744" y="2068"/>
                </a:lnTo>
                <a:lnTo>
                  <a:pt x="2655" y="2124"/>
                </a:lnTo>
                <a:lnTo>
                  <a:pt x="2566" y="2143"/>
                </a:lnTo>
                <a:lnTo>
                  <a:pt x="2486" y="2130"/>
                </a:lnTo>
                <a:lnTo>
                  <a:pt x="2433" y="2099"/>
                </a:lnTo>
                <a:lnTo>
                  <a:pt x="2393" y="2155"/>
                </a:lnTo>
                <a:lnTo>
                  <a:pt x="2353" y="2205"/>
                </a:lnTo>
                <a:lnTo>
                  <a:pt x="2322" y="2236"/>
                </a:lnTo>
                <a:lnTo>
                  <a:pt x="2256" y="2273"/>
                </a:lnTo>
                <a:lnTo>
                  <a:pt x="2198" y="2304"/>
                </a:lnTo>
                <a:lnTo>
                  <a:pt x="2113" y="2323"/>
                </a:lnTo>
                <a:lnTo>
                  <a:pt x="2028" y="2317"/>
                </a:lnTo>
                <a:lnTo>
                  <a:pt x="1948" y="2292"/>
                </a:lnTo>
                <a:lnTo>
                  <a:pt x="1877" y="2242"/>
                </a:lnTo>
                <a:lnTo>
                  <a:pt x="1833" y="2329"/>
                </a:lnTo>
                <a:lnTo>
                  <a:pt x="1793" y="2373"/>
                </a:lnTo>
                <a:lnTo>
                  <a:pt x="1740" y="2416"/>
                </a:lnTo>
                <a:lnTo>
                  <a:pt x="1682" y="2448"/>
                </a:lnTo>
                <a:lnTo>
                  <a:pt x="1616" y="2460"/>
                </a:lnTo>
                <a:lnTo>
                  <a:pt x="1553" y="2460"/>
                </a:lnTo>
                <a:lnTo>
                  <a:pt x="1496" y="2448"/>
                </a:lnTo>
                <a:lnTo>
                  <a:pt x="1420" y="2404"/>
                </a:lnTo>
                <a:lnTo>
                  <a:pt x="1376" y="2360"/>
                </a:lnTo>
                <a:lnTo>
                  <a:pt x="1336" y="2416"/>
                </a:lnTo>
                <a:lnTo>
                  <a:pt x="1296" y="2448"/>
                </a:lnTo>
                <a:lnTo>
                  <a:pt x="1243" y="2473"/>
                </a:lnTo>
                <a:lnTo>
                  <a:pt x="1172" y="2497"/>
                </a:lnTo>
                <a:lnTo>
                  <a:pt x="1096" y="2491"/>
                </a:lnTo>
                <a:lnTo>
                  <a:pt x="1017" y="2466"/>
                </a:lnTo>
                <a:lnTo>
                  <a:pt x="954" y="2429"/>
                </a:lnTo>
                <a:lnTo>
                  <a:pt x="901" y="2360"/>
                </a:lnTo>
                <a:lnTo>
                  <a:pt x="866" y="2292"/>
                </a:lnTo>
                <a:lnTo>
                  <a:pt x="808" y="2317"/>
                </a:lnTo>
                <a:lnTo>
                  <a:pt x="737" y="2329"/>
                </a:lnTo>
                <a:lnTo>
                  <a:pt x="656" y="2329"/>
                </a:lnTo>
                <a:lnTo>
                  <a:pt x="590" y="2292"/>
                </a:lnTo>
                <a:lnTo>
                  <a:pt x="532" y="2248"/>
                </a:lnTo>
                <a:lnTo>
                  <a:pt x="488" y="2205"/>
                </a:lnTo>
                <a:lnTo>
                  <a:pt x="452" y="2136"/>
                </a:lnTo>
                <a:lnTo>
                  <a:pt x="439" y="2068"/>
                </a:lnTo>
                <a:lnTo>
                  <a:pt x="403" y="2087"/>
                </a:lnTo>
                <a:lnTo>
                  <a:pt x="337" y="2087"/>
                </a:lnTo>
                <a:lnTo>
                  <a:pt x="266" y="2068"/>
                </a:lnTo>
                <a:lnTo>
                  <a:pt x="190" y="2018"/>
                </a:lnTo>
                <a:lnTo>
                  <a:pt x="141" y="1956"/>
                </a:lnTo>
                <a:lnTo>
                  <a:pt x="97" y="1875"/>
                </a:lnTo>
                <a:lnTo>
                  <a:pt x="75" y="1787"/>
                </a:lnTo>
                <a:lnTo>
                  <a:pt x="62" y="1669"/>
                </a:lnTo>
                <a:lnTo>
                  <a:pt x="66" y="1588"/>
                </a:lnTo>
                <a:lnTo>
                  <a:pt x="88" y="1469"/>
                </a:lnTo>
                <a:lnTo>
                  <a:pt x="39" y="1401"/>
                </a:lnTo>
                <a:lnTo>
                  <a:pt x="13" y="1314"/>
                </a:lnTo>
                <a:lnTo>
                  <a:pt x="0" y="1220"/>
                </a:lnTo>
                <a:lnTo>
                  <a:pt x="0" y="1121"/>
                </a:lnTo>
                <a:lnTo>
                  <a:pt x="17" y="1015"/>
                </a:lnTo>
                <a:lnTo>
                  <a:pt x="48" y="940"/>
                </a:lnTo>
                <a:lnTo>
                  <a:pt x="106" y="853"/>
                </a:lnTo>
                <a:lnTo>
                  <a:pt x="168" y="791"/>
                </a:lnTo>
                <a:lnTo>
                  <a:pt x="235" y="729"/>
                </a:lnTo>
                <a:lnTo>
                  <a:pt x="301" y="691"/>
                </a:lnTo>
                <a:lnTo>
                  <a:pt x="372" y="666"/>
                </a:lnTo>
                <a:lnTo>
                  <a:pt x="430" y="648"/>
                </a:lnTo>
                <a:lnTo>
                  <a:pt x="452" y="5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07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29360" y="1014480"/>
            <a:ext cx="1029240" cy="898920"/>
          </a:xfrm>
          <a:custGeom>
            <a:avLst/>
            <a:gdLst/>
            <a:ahLst/>
            <a:rect l="0" t="0" r="r" b="b"/>
            <a:pathLst>
              <a:path w="2859" h="2497">
                <a:moveTo>
                  <a:pt x="452" y="591"/>
                </a:moveTo>
                <a:lnTo>
                  <a:pt x="479" y="522"/>
                </a:lnTo>
                <a:lnTo>
                  <a:pt x="514" y="454"/>
                </a:lnTo>
                <a:lnTo>
                  <a:pt x="567" y="398"/>
                </a:lnTo>
                <a:lnTo>
                  <a:pt x="616" y="354"/>
                </a:lnTo>
                <a:lnTo>
                  <a:pt x="678" y="323"/>
                </a:lnTo>
                <a:lnTo>
                  <a:pt x="755" y="292"/>
                </a:lnTo>
                <a:lnTo>
                  <a:pt x="839" y="273"/>
                </a:lnTo>
                <a:lnTo>
                  <a:pt x="928" y="267"/>
                </a:lnTo>
                <a:lnTo>
                  <a:pt x="1039" y="273"/>
                </a:lnTo>
                <a:lnTo>
                  <a:pt x="1132" y="280"/>
                </a:lnTo>
                <a:lnTo>
                  <a:pt x="1199" y="217"/>
                </a:lnTo>
                <a:lnTo>
                  <a:pt x="1256" y="155"/>
                </a:lnTo>
                <a:lnTo>
                  <a:pt x="1341" y="93"/>
                </a:lnTo>
                <a:lnTo>
                  <a:pt x="1438" y="43"/>
                </a:lnTo>
                <a:lnTo>
                  <a:pt x="1558" y="6"/>
                </a:lnTo>
                <a:lnTo>
                  <a:pt x="1678" y="0"/>
                </a:lnTo>
                <a:lnTo>
                  <a:pt x="1784" y="18"/>
                </a:lnTo>
                <a:lnTo>
                  <a:pt x="1904" y="62"/>
                </a:lnTo>
                <a:lnTo>
                  <a:pt x="1975" y="118"/>
                </a:lnTo>
                <a:lnTo>
                  <a:pt x="2042" y="180"/>
                </a:lnTo>
                <a:lnTo>
                  <a:pt x="2104" y="261"/>
                </a:lnTo>
                <a:lnTo>
                  <a:pt x="2130" y="342"/>
                </a:lnTo>
                <a:lnTo>
                  <a:pt x="2224" y="342"/>
                </a:lnTo>
                <a:lnTo>
                  <a:pt x="2313" y="361"/>
                </a:lnTo>
                <a:lnTo>
                  <a:pt x="2393" y="404"/>
                </a:lnTo>
                <a:lnTo>
                  <a:pt x="2446" y="466"/>
                </a:lnTo>
                <a:lnTo>
                  <a:pt x="2500" y="553"/>
                </a:lnTo>
                <a:lnTo>
                  <a:pt x="2526" y="629"/>
                </a:lnTo>
                <a:lnTo>
                  <a:pt x="2535" y="698"/>
                </a:lnTo>
                <a:lnTo>
                  <a:pt x="2588" y="710"/>
                </a:lnTo>
                <a:lnTo>
                  <a:pt x="2642" y="735"/>
                </a:lnTo>
                <a:lnTo>
                  <a:pt x="2686" y="766"/>
                </a:lnTo>
                <a:lnTo>
                  <a:pt x="2730" y="803"/>
                </a:lnTo>
                <a:lnTo>
                  <a:pt x="2761" y="835"/>
                </a:lnTo>
                <a:lnTo>
                  <a:pt x="2792" y="878"/>
                </a:lnTo>
                <a:lnTo>
                  <a:pt x="2824" y="934"/>
                </a:lnTo>
                <a:lnTo>
                  <a:pt x="2837" y="1003"/>
                </a:lnTo>
                <a:lnTo>
                  <a:pt x="2841" y="1052"/>
                </a:lnTo>
                <a:lnTo>
                  <a:pt x="2832" y="1108"/>
                </a:lnTo>
                <a:lnTo>
                  <a:pt x="2810" y="1171"/>
                </a:lnTo>
                <a:lnTo>
                  <a:pt x="2837" y="1239"/>
                </a:lnTo>
                <a:lnTo>
                  <a:pt x="2850" y="1301"/>
                </a:lnTo>
                <a:lnTo>
                  <a:pt x="2855" y="1370"/>
                </a:lnTo>
                <a:lnTo>
                  <a:pt x="2841" y="1457"/>
                </a:lnTo>
                <a:lnTo>
                  <a:pt x="2832" y="1507"/>
                </a:lnTo>
                <a:lnTo>
                  <a:pt x="2797" y="1569"/>
                </a:lnTo>
                <a:lnTo>
                  <a:pt x="2841" y="1656"/>
                </a:lnTo>
                <a:lnTo>
                  <a:pt x="2855" y="1706"/>
                </a:lnTo>
                <a:lnTo>
                  <a:pt x="2859" y="1787"/>
                </a:lnTo>
                <a:lnTo>
                  <a:pt x="2850" y="1862"/>
                </a:lnTo>
                <a:lnTo>
                  <a:pt x="2824" y="1950"/>
                </a:lnTo>
                <a:lnTo>
                  <a:pt x="2792" y="2006"/>
                </a:lnTo>
                <a:lnTo>
                  <a:pt x="2744" y="2068"/>
                </a:lnTo>
                <a:lnTo>
                  <a:pt x="2655" y="2124"/>
                </a:lnTo>
                <a:lnTo>
                  <a:pt x="2566" y="2143"/>
                </a:lnTo>
                <a:lnTo>
                  <a:pt x="2486" y="2130"/>
                </a:lnTo>
                <a:lnTo>
                  <a:pt x="2433" y="2099"/>
                </a:lnTo>
                <a:lnTo>
                  <a:pt x="2393" y="2155"/>
                </a:lnTo>
                <a:lnTo>
                  <a:pt x="2353" y="2205"/>
                </a:lnTo>
                <a:lnTo>
                  <a:pt x="2322" y="2236"/>
                </a:lnTo>
                <a:lnTo>
                  <a:pt x="2256" y="2273"/>
                </a:lnTo>
                <a:lnTo>
                  <a:pt x="2198" y="2304"/>
                </a:lnTo>
                <a:lnTo>
                  <a:pt x="2113" y="2323"/>
                </a:lnTo>
                <a:lnTo>
                  <a:pt x="2028" y="2317"/>
                </a:lnTo>
                <a:lnTo>
                  <a:pt x="1948" y="2292"/>
                </a:lnTo>
                <a:lnTo>
                  <a:pt x="1877" y="2242"/>
                </a:lnTo>
                <a:lnTo>
                  <a:pt x="1833" y="2329"/>
                </a:lnTo>
                <a:lnTo>
                  <a:pt x="1793" y="2373"/>
                </a:lnTo>
                <a:lnTo>
                  <a:pt x="1740" y="2416"/>
                </a:lnTo>
                <a:lnTo>
                  <a:pt x="1682" y="2448"/>
                </a:lnTo>
                <a:lnTo>
                  <a:pt x="1616" y="2460"/>
                </a:lnTo>
                <a:lnTo>
                  <a:pt x="1553" y="2460"/>
                </a:lnTo>
                <a:lnTo>
                  <a:pt x="1496" y="2448"/>
                </a:lnTo>
                <a:lnTo>
                  <a:pt x="1420" y="2404"/>
                </a:lnTo>
                <a:lnTo>
                  <a:pt x="1376" y="2360"/>
                </a:lnTo>
                <a:lnTo>
                  <a:pt x="1336" y="2416"/>
                </a:lnTo>
                <a:lnTo>
                  <a:pt x="1296" y="2448"/>
                </a:lnTo>
                <a:lnTo>
                  <a:pt x="1243" y="2473"/>
                </a:lnTo>
                <a:lnTo>
                  <a:pt x="1172" y="2497"/>
                </a:lnTo>
                <a:lnTo>
                  <a:pt x="1096" y="2491"/>
                </a:lnTo>
                <a:lnTo>
                  <a:pt x="1017" y="2466"/>
                </a:lnTo>
                <a:lnTo>
                  <a:pt x="954" y="2429"/>
                </a:lnTo>
                <a:lnTo>
                  <a:pt x="901" y="2360"/>
                </a:lnTo>
                <a:lnTo>
                  <a:pt x="866" y="2292"/>
                </a:lnTo>
                <a:lnTo>
                  <a:pt x="808" y="2317"/>
                </a:lnTo>
                <a:lnTo>
                  <a:pt x="737" y="2329"/>
                </a:lnTo>
                <a:lnTo>
                  <a:pt x="656" y="2329"/>
                </a:lnTo>
                <a:lnTo>
                  <a:pt x="590" y="2292"/>
                </a:lnTo>
                <a:lnTo>
                  <a:pt x="532" y="2248"/>
                </a:lnTo>
                <a:lnTo>
                  <a:pt x="488" y="2205"/>
                </a:lnTo>
                <a:lnTo>
                  <a:pt x="452" y="2136"/>
                </a:lnTo>
                <a:lnTo>
                  <a:pt x="439" y="2068"/>
                </a:lnTo>
                <a:lnTo>
                  <a:pt x="403" y="2087"/>
                </a:lnTo>
                <a:lnTo>
                  <a:pt x="337" y="2087"/>
                </a:lnTo>
                <a:lnTo>
                  <a:pt x="266" y="2068"/>
                </a:lnTo>
                <a:lnTo>
                  <a:pt x="190" y="2018"/>
                </a:lnTo>
                <a:lnTo>
                  <a:pt x="141" y="1956"/>
                </a:lnTo>
                <a:lnTo>
                  <a:pt x="97" y="1875"/>
                </a:lnTo>
                <a:lnTo>
                  <a:pt x="75" y="1787"/>
                </a:lnTo>
                <a:lnTo>
                  <a:pt x="62" y="1669"/>
                </a:lnTo>
                <a:lnTo>
                  <a:pt x="66" y="1588"/>
                </a:lnTo>
                <a:lnTo>
                  <a:pt x="88" y="1469"/>
                </a:lnTo>
                <a:lnTo>
                  <a:pt x="39" y="1401"/>
                </a:lnTo>
                <a:lnTo>
                  <a:pt x="13" y="1314"/>
                </a:lnTo>
                <a:lnTo>
                  <a:pt x="0" y="1220"/>
                </a:lnTo>
                <a:lnTo>
                  <a:pt x="0" y="1121"/>
                </a:lnTo>
                <a:lnTo>
                  <a:pt x="17" y="1015"/>
                </a:lnTo>
                <a:lnTo>
                  <a:pt x="48" y="940"/>
                </a:lnTo>
                <a:lnTo>
                  <a:pt x="106" y="853"/>
                </a:lnTo>
                <a:lnTo>
                  <a:pt x="168" y="791"/>
                </a:lnTo>
                <a:lnTo>
                  <a:pt x="235" y="729"/>
                </a:lnTo>
                <a:lnTo>
                  <a:pt x="301" y="691"/>
                </a:lnTo>
                <a:lnTo>
                  <a:pt x="372" y="666"/>
                </a:lnTo>
                <a:lnTo>
                  <a:pt x="430" y="648"/>
                </a:lnTo>
                <a:lnTo>
                  <a:pt x="452" y="5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07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4191120"/>
            <a:ext cx="914400" cy="152280"/>
          </a:xfrm>
          <a:prstGeom prst="line">
            <a:avLst/>
          </a:prstGeom>
          <a:ln w="38160">
            <a:solidFill>
              <a:srgbClr val="a800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5410080" y="3124080"/>
            <a:ext cx="457200" cy="609840"/>
          </a:xfrm>
          <a:prstGeom prst="line">
            <a:avLst/>
          </a:prstGeom>
          <a:ln w="38160">
            <a:solidFill>
              <a:srgbClr val="a800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02000" y="2041560"/>
            <a:ext cx="2318040" cy="1437120"/>
          </a:xfrm>
          <a:custGeom>
            <a:avLst/>
            <a:gdLst/>
            <a:ahLst/>
            <a:rect l="0" t="0" r="r" b="b"/>
            <a:pathLst>
              <a:path w="6439" h="3992">
                <a:moveTo>
                  <a:pt x="1019" y="945"/>
                </a:moveTo>
                <a:lnTo>
                  <a:pt x="1079" y="835"/>
                </a:lnTo>
                <a:lnTo>
                  <a:pt x="1159" y="726"/>
                </a:lnTo>
                <a:lnTo>
                  <a:pt x="1279" y="636"/>
                </a:lnTo>
                <a:lnTo>
                  <a:pt x="1389" y="567"/>
                </a:lnTo>
                <a:lnTo>
                  <a:pt x="1529" y="517"/>
                </a:lnTo>
                <a:lnTo>
                  <a:pt x="1699" y="467"/>
                </a:lnTo>
                <a:lnTo>
                  <a:pt x="1889" y="437"/>
                </a:lnTo>
                <a:lnTo>
                  <a:pt x="2089" y="427"/>
                </a:lnTo>
                <a:lnTo>
                  <a:pt x="2339" y="437"/>
                </a:lnTo>
                <a:lnTo>
                  <a:pt x="2549" y="447"/>
                </a:lnTo>
                <a:lnTo>
                  <a:pt x="2699" y="348"/>
                </a:lnTo>
                <a:lnTo>
                  <a:pt x="2829" y="248"/>
                </a:lnTo>
                <a:lnTo>
                  <a:pt x="3019" y="149"/>
                </a:lnTo>
                <a:lnTo>
                  <a:pt x="3240" y="69"/>
                </a:lnTo>
                <a:lnTo>
                  <a:pt x="3510" y="9"/>
                </a:lnTo>
                <a:lnTo>
                  <a:pt x="3779" y="0"/>
                </a:lnTo>
                <a:lnTo>
                  <a:pt x="4019" y="29"/>
                </a:lnTo>
                <a:lnTo>
                  <a:pt x="4289" y="99"/>
                </a:lnTo>
                <a:lnTo>
                  <a:pt x="4449" y="189"/>
                </a:lnTo>
                <a:lnTo>
                  <a:pt x="4599" y="288"/>
                </a:lnTo>
                <a:lnTo>
                  <a:pt x="4739" y="417"/>
                </a:lnTo>
                <a:lnTo>
                  <a:pt x="4799" y="547"/>
                </a:lnTo>
                <a:lnTo>
                  <a:pt x="5009" y="547"/>
                </a:lnTo>
                <a:lnTo>
                  <a:pt x="5209" y="577"/>
                </a:lnTo>
                <a:lnTo>
                  <a:pt x="5389" y="646"/>
                </a:lnTo>
                <a:lnTo>
                  <a:pt x="5509" y="746"/>
                </a:lnTo>
                <a:lnTo>
                  <a:pt x="5629" y="885"/>
                </a:lnTo>
                <a:lnTo>
                  <a:pt x="5689" y="1006"/>
                </a:lnTo>
                <a:lnTo>
                  <a:pt x="5709" y="1115"/>
                </a:lnTo>
                <a:lnTo>
                  <a:pt x="5829" y="1135"/>
                </a:lnTo>
                <a:lnTo>
                  <a:pt x="5949" y="1175"/>
                </a:lnTo>
                <a:lnTo>
                  <a:pt x="6049" y="1225"/>
                </a:lnTo>
                <a:lnTo>
                  <a:pt x="6149" y="1284"/>
                </a:lnTo>
                <a:lnTo>
                  <a:pt x="6219" y="1334"/>
                </a:lnTo>
                <a:lnTo>
                  <a:pt x="6289" y="1404"/>
                </a:lnTo>
                <a:lnTo>
                  <a:pt x="6359" y="1493"/>
                </a:lnTo>
                <a:lnTo>
                  <a:pt x="6389" y="1603"/>
                </a:lnTo>
                <a:lnTo>
                  <a:pt x="6399" y="1682"/>
                </a:lnTo>
                <a:lnTo>
                  <a:pt x="6379" y="1772"/>
                </a:lnTo>
                <a:lnTo>
                  <a:pt x="6329" y="1871"/>
                </a:lnTo>
                <a:lnTo>
                  <a:pt x="6389" y="1981"/>
                </a:lnTo>
                <a:lnTo>
                  <a:pt x="6419" y="2080"/>
                </a:lnTo>
                <a:lnTo>
                  <a:pt x="6429" y="2190"/>
                </a:lnTo>
                <a:lnTo>
                  <a:pt x="6399" y="2329"/>
                </a:lnTo>
                <a:lnTo>
                  <a:pt x="6379" y="2409"/>
                </a:lnTo>
                <a:lnTo>
                  <a:pt x="6299" y="2508"/>
                </a:lnTo>
                <a:lnTo>
                  <a:pt x="6399" y="2648"/>
                </a:lnTo>
                <a:lnTo>
                  <a:pt x="6429" y="2727"/>
                </a:lnTo>
                <a:lnTo>
                  <a:pt x="6439" y="2857"/>
                </a:lnTo>
                <a:lnTo>
                  <a:pt x="6419" y="2976"/>
                </a:lnTo>
                <a:lnTo>
                  <a:pt x="6359" y="3117"/>
                </a:lnTo>
                <a:lnTo>
                  <a:pt x="6289" y="3206"/>
                </a:lnTo>
                <a:lnTo>
                  <a:pt x="6179" y="3306"/>
                </a:lnTo>
                <a:lnTo>
                  <a:pt x="5979" y="3395"/>
                </a:lnTo>
                <a:lnTo>
                  <a:pt x="5779" y="3425"/>
                </a:lnTo>
                <a:lnTo>
                  <a:pt x="5599" y="3405"/>
                </a:lnTo>
                <a:lnTo>
                  <a:pt x="5479" y="3355"/>
                </a:lnTo>
                <a:lnTo>
                  <a:pt x="5389" y="3445"/>
                </a:lnTo>
                <a:lnTo>
                  <a:pt x="5299" y="3525"/>
                </a:lnTo>
                <a:lnTo>
                  <a:pt x="5229" y="3574"/>
                </a:lnTo>
                <a:lnTo>
                  <a:pt x="5079" y="3634"/>
                </a:lnTo>
                <a:lnTo>
                  <a:pt x="4949" y="3684"/>
                </a:lnTo>
                <a:lnTo>
                  <a:pt x="4759" y="3714"/>
                </a:lnTo>
                <a:lnTo>
                  <a:pt x="4569" y="3704"/>
                </a:lnTo>
                <a:lnTo>
                  <a:pt x="4389" y="3664"/>
                </a:lnTo>
                <a:lnTo>
                  <a:pt x="4229" y="3584"/>
                </a:lnTo>
                <a:lnTo>
                  <a:pt x="4129" y="3724"/>
                </a:lnTo>
                <a:lnTo>
                  <a:pt x="4039" y="3793"/>
                </a:lnTo>
                <a:lnTo>
                  <a:pt x="3919" y="3863"/>
                </a:lnTo>
                <a:lnTo>
                  <a:pt x="3789" y="3913"/>
                </a:lnTo>
                <a:lnTo>
                  <a:pt x="3639" y="3933"/>
                </a:lnTo>
                <a:lnTo>
                  <a:pt x="3500" y="3933"/>
                </a:lnTo>
                <a:lnTo>
                  <a:pt x="3370" y="3913"/>
                </a:lnTo>
                <a:lnTo>
                  <a:pt x="3199" y="3843"/>
                </a:lnTo>
                <a:lnTo>
                  <a:pt x="3099" y="3773"/>
                </a:lnTo>
                <a:lnTo>
                  <a:pt x="3009" y="3863"/>
                </a:lnTo>
                <a:lnTo>
                  <a:pt x="2919" y="3913"/>
                </a:lnTo>
                <a:lnTo>
                  <a:pt x="2799" y="3952"/>
                </a:lnTo>
                <a:lnTo>
                  <a:pt x="2639" y="3992"/>
                </a:lnTo>
                <a:lnTo>
                  <a:pt x="2469" y="3982"/>
                </a:lnTo>
                <a:lnTo>
                  <a:pt x="2289" y="3943"/>
                </a:lnTo>
                <a:lnTo>
                  <a:pt x="2149" y="3883"/>
                </a:lnTo>
                <a:lnTo>
                  <a:pt x="2029" y="3773"/>
                </a:lnTo>
                <a:lnTo>
                  <a:pt x="1949" y="3664"/>
                </a:lnTo>
                <a:lnTo>
                  <a:pt x="1819" y="3704"/>
                </a:lnTo>
                <a:lnTo>
                  <a:pt x="1659" y="3724"/>
                </a:lnTo>
                <a:lnTo>
                  <a:pt x="1479" y="3724"/>
                </a:lnTo>
                <a:lnTo>
                  <a:pt x="1329" y="3664"/>
                </a:lnTo>
                <a:lnTo>
                  <a:pt x="1199" y="3594"/>
                </a:lnTo>
                <a:lnTo>
                  <a:pt x="1099" y="3525"/>
                </a:lnTo>
                <a:lnTo>
                  <a:pt x="1019" y="3415"/>
                </a:lnTo>
                <a:lnTo>
                  <a:pt x="989" y="3306"/>
                </a:lnTo>
                <a:lnTo>
                  <a:pt x="909" y="3335"/>
                </a:lnTo>
                <a:lnTo>
                  <a:pt x="759" y="3335"/>
                </a:lnTo>
                <a:lnTo>
                  <a:pt x="599" y="3306"/>
                </a:lnTo>
                <a:lnTo>
                  <a:pt x="429" y="3226"/>
                </a:lnTo>
                <a:lnTo>
                  <a:pt x="319" y="3126"/>
                </a:lnTo>
                <a:lnTo>
                  <a:pt x="219" y="2997"/>
                </a:lnTo>
                <a:lnTo>
                  <a:pt x="169" y="2857"/>
                </a:lnTo>
                <a:lnTo>
                  <a:pt x="139" y="2668"/>
                </a:lnTo>
                <a:lnTo>
                  <a:pt x="149" y="2538"/>
                </a:lnTo>
                <a:lnTo>
                  <a:pt x="199" y="2349"/>
                </a:lnTo>
                <a:lnTo>
                  <a:pt x="89" y="2240"/>
                </a:lnTo>
                <a:lnTo>
                  <a:pt x="29" y="2100"/>
                </a:lnTo>
                <a:lnTo>
                  <a:pt x="0" y="1951"/>
                </a:lnTo>
                <a:lnTo>
                  <a:pt x="0" y="1792"/>
                </a:lnTo>
                <a:lnTo>
                  <a:pt x="39" y="1623"/>
                </a:lnTo>
                <a:lnTo>
                  <a:pt x="109" y="1503"/>
                </a:lnTo>
                <a:lnTo>
                  <a:pt x="239" y="1364"/>
                </a:lnTo>
                <a:lnTo>
                  <a:pt x="379" y="1264"/>
                </a:lnTo>
                <a:lnTo>
                  <a:pt x="529" y="1165"/>
                </a:lnTo>
                <a:lnTo>
                  <a:pt x="679" y="1105"/>
                </a:lnTo>
                <a:lnTo>
                  <a:pt x="839" y="1065"/>
                </a:lnTo>
                <a:lnTo>
                  <a:pt x="969" y="1036"/>
                </a:lnTo>
                <a:lnTo>
                  <a:pt x="1019" y="94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07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4800600"/>
            <a:ext cx="838080" cy="838080"/>
          </a:xfrm>
          <a:prstGeom prst="line">
            <a:avLst/>
          </a:prstGeom>
          <a:ln w="38160">
            <a:solidFill>
              <a:srgbClr val="a800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638680" y="4724280"/>
            <a:ext cx="228600" cy="685800"/>
          </a:xfrm>
          <a:prstGeom prst="line">
            <a:avLst/>
          </a:prstGeom>
          <a:ln w="38160">
            <a:solidFill>
              <a:srgbClr val="a800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30400" y="3641760"/>
            <a:ext cx="2318040" cy="1437120"/>
          </a:xfrm>
          <a:custGeom>
            <a:avLst/>
            <a:gdLst/>
            <a:ahLst/>
            <a:rect l="0" t="0" r="r" b="b"/>
            <a:pathLst>
              <a:path w="6439" h="3992">
                <a:moveTo>
                  <a:pt x="1019" y="945"/>
                </a:moveTo>
                <a:lnTo>
                  <a:pt x="1079" y="835"/>
                </a:lnTo>
                <a:lnTo>
                  <a:pt x="1159" y="726"/>
                </a:lnTo>
                <a:lnTo>
                  <a:pt x="1279" y="636"/>
                </a:lnTo>
                <a:lnTo>
                  <a:pt x="1389" y="567"/>
                </a:lnTo>
                <a:lnTo>
                  <a:pt x="1529" y="517"/>
                </a:lnTo>
                <a:lnTo>
                  <a:pt x="1699" y="467"/>
                </a:lnTo>
                <a:lnTo>
                  <a:pt x="1889" y="437"/>
                </a:lnTo>
                <a:lnTo>
                  <a:pt x="2089" y="427"/>
                </a:lnTo>
                <a:lnTo>
                  <a:pt x="2339" y="437"/>
                </a:lnTo>
                <a:lnTo>
                  <a:pt x="2549" y="447"/>
                </a:lnTo>
                <a:lnTo>
                  <a:pt x="2699" y="348"/>
                </a:lnTo>
                <a:lnTo>
                  <a:pt x="2829" y="248"/>
                </a:lnTo>
                <a:lnTo>
                  <a:pt x="3019" y="149"/>
                </a:lnTo>
                <a:lnTo>
                  <a:pt x="3240" y="69"/>
                </a:lnTo>
                <a:lnTo>
                  <a:pt x="3510" y="9"/>
                </a:lnTo>
                <a:lnTo>
                  <a:pt x="3779" y="0"/>
                </a:lnTo>
                <a:lnTo>
                  <a:pt x="4019" y="29"/>
                </a:lnTo>
                <a:lnTo>
                  <a:pt x="4289" y="99"/>
                </a:lnTo>
                <a:lnTo>
                  <a:pt x="4449" y="189"/>
                </a:lnTo>
                <a:lnTo>
                  <a:pt x="4599" y="288"/>
                </a:lnTo>
                <a:lnTo>
                  <a:pt x="4739" y="417"/>
                </a:lnTo>
                <a:lnTo>
                  <a:pt x="4799" y="547"/>
                </a:lnTo>
                <a:lnTo>
                  <a:pt x="5009" y="547"/>
                </a:lnTo>
                <a:lnTo>
                  <a:pt x="5209" y="577"/>
                </a:lnTo>
                <a:lnTo>
                  <a:pt x="5389" y="646"/>
                </a:lnTo>
                <a:lnTo>
                  <a:pt x="5509" y="746"/>
                </a:lnTo>
                <a:lnTo>
                  <a:pt x="5629" y="885"/>
                </a:lnTo>
                <a:lnTo>
                  <a:pt x="5689" y="1006"/>
                </a:lnTo>
                <a:lnTo>
                  <a:pt x="5709" y="1115"/>
                </a:lnTo>
                <a:lnTo>
                  <a:pt x="5829" y="1135"/>
                </a:lnTo>
                <a:lnTo>
                  <a:pt x="5949" y="1175"/>
                </a:lnTo>
                <a:lnTo>
                  <a:pt x="6049" y="1225"/>
                </a:lnTo>
                <a:lnTo>
                  <a:pt x="6149" y="1284"/>
                </a:lnTo>
                <a:lnTo>
                  <a:pt x="6219" y="1334"/>
                </a:lnTo>
                <a:lnTo>
                  <a:pt x="6289" y="1404"/>
                </a:lnTo>
                <a:lnTo>
                  <a:pt x="6359" y="1493"/>
                </a:lnTo>
                <a:lnTo>
                  <a:pt x="6389" y="1603"/>
                </a:lnTo>
                <a:lnTo>
                  <a:pt x="6399" y="1682"/>
                </a:lnTo>
                <a:lnTo>
                  <a:pt x="6379" y="1772"/>
                </a:lnTo>
                <a:lnTo>
                  <a:pt x="6329" y="1871"/>
                </a:lnTo>
                <a:lnTo>
                  <a:pt x="6389" y="1981"/>
                </a:lnTo>
                <a:lnTo>
                  <a:pt x="6419" y="2080"/>
                </a:lnTo>
                <a:lnTo>
                  <a:pt x="6429" y="2190"/>
                </a:lnTo>
                <a:lnTo>
                  <a:pt x="6399" y="2329"/>
                </a:lnTo>
                <a:lnTo>
                  <a:pt x="6379" y="2409"/>
                </a:lnTo>
                <a:lnTo>
                  <a:pt x="6299" y="2508"/>
                </a:lnTo>
                <a:lnTo>
                  <a:pt x="6399" y="2648"/>
                </a:lnTo>
                <a:lnTo>
                  <a:pt x="6429" y="2727"/>
                </a:lnTo>
                <a:lnTo>
                  <a:pt x="6439" y="2857"/>
                </a:lnTo>
                <a:lnTo>
                  <a:pt x="6419" y="2976"/>
                </a:lnTo>
                <a:lnTo>
                  <a:pt x="6359" y="3117"/>
                </a:lnTo>
                <a:lnTo>
                  <a:pt x="6289" y="3206"/>
                </a:lnTo>
                <a:lnTo>
                  <a:pt x="6179" y="3306"/>
                </a:lnTo>
                <a:lnTo>
                  <a:pt x="5979" y="3395"/>
                </a:lnTo>
                <a:lnTo>
                  <a:pt x="5779" y="3425"/>
                </a:lnTo>
                <a:lnTo>
                  <a:pt x="5599" y="3405"/>
                </a:lnTo>
                <a:lnTo>
                  <a:pt x="5479" y="3355"/>
                </a:lnTo>
                <a:lnTo>
                  <a:pt x="5389" y="3445"/>
                </a:lnTo>
                <a:lnTo>
                  <a:pt x="5299" y="3525"/>
                </a:lnTo>
                <a:lnTo>
                  <a:pt x="5229" y="3574"/>
                </a:lnTo>
                <a:lnTo>
                  <a:pt x="5079" y="3634"/>
                </a:lnTo>
                <a:lnTo>
                  <a:pt x="4949" y="3684"/>
                </a:lnTo>
                <a:lnTo>
                  <a:pt x="4759" y="3714"/>
                </a:lnTo>
                <a:lnTo>
                  <a:pt x="4569" y="3704"/>
                </a:lnTo>
                <a:lnTo>
                  <a:pt x="4389" y="3664"/>
                </a:lnTo>
                <a:lnTo>
                  <a:pt x="4229" y="3584"/>
                </a:lnTo>
                <a:lnTo>
                  <a:pt x="4129" y="3724"/>
                </a:lnTo>
                <a:lnTo>
                  <a:pt x="4039" y="3793"/>
                </a:lnTo>
                <a:lnTo>
                  <a:pt x="3919" y="3863"/>
                </a:lnTo>
                <a:lnTo>
                  <a:pt x="3789" y="3913"/>
                </a:lnTo>
                <a:lnTo>
                  <a:pt x="3639" y="3933"/>
                </a:lnTo>
                <a:lnTo>
                  <a:pt x="3500" y="3933"/>
                </a:lnTo>
                <a:lnTo>
                  <a:pt x="3370" y="3913"/>
                </a:lnTo>
                <a:lnTo>
                  <a:pt x="3199" y="3843"/>
                </a:lnTo>
                <a:lnTo>
                  <a:pt x="3099" y="3773"/>
                </a:lnTo>
                <a:lnTo>
                  <a:pt x="3009" y="3863"/>
                </a:lnTo>
                <a:lnTo>
                  <a:pt x="2919" y="3913"/>
                </a:lnTo>
                <a:lnTo>
                  <a:pt x="2799" y="3952"/>
                </a:lnTo>
                <a:lnTo>
                  <a:pt x="2639" y="3992"/>
                </a:lnTo>
                <a:lnTo>
                  <a:pt x="2469" y="3982"/>
                </a:lnTo>
                <a:lnTo>
                  <a:pt x="2289" y="3943"/>
                </a:lnTo>
                <a:lnTo>
                  <a:pt x="2149" y="3883"/>
                </a:lnTo>
                <a:lnTo>
                  <a:pt x="2029" y="3773"/>
                </a:lnTo>
                <a:lnTo>
                  <a:pt x="1949" y="3664"/>
                </a:lnTo>
                <a:lnTo>
                  <a:pt x="1819" y="3704"/>
                </a:lnTo>
                <a:lnTo>
                  <a:pt x="1659" y="3724"/>
                </a:lnTo>
                <a:lnTo>
                  <a:pt x="1479" y="3724"/>
                </a:lnTo>
                <a:lnTo>
                  <a:pt x="1329" y="3664"/>
                </a:lnTo>
                <a:lnTo>
                  <a:pt x="1199" y="3594"/>
                </a:lnTo>
                <a:lnTo>
                  <a:pt x="1099" y="3525"/>
                </a:lnTo>
                <a:lnTo>
                  <a:pt x="1019" y="3415"/>
                </a:lnTo>
                <a:lnTo>
                  <a:pt x="989" y="3306"/>
                </a:lnTo>
                <a:lnTo>
                  <a:pt x="909" y="3335"/>
                </a:lnTo>
                <a:lnTo>
                  <a:pt x="759" y="3335"/>
                </a:lnTo>
                <a:lnTo>
                  <a:pt x="599" y="3306"/>
                </a:lnTo>
                <a:lnTo>
                  <a:pt x="429" y="3226"/>
                </a:lnTo>
                <a:lnTo>
                  <a:pt x="319" y="3126"/>
                </a:lnTo>
                <a:lnTo>
                  <a:pt x="219" y="2997"/>
                </a:lnTo>
                <a:lnTo>
                  <a:pt x="169" y="2857"/>
                </a:lnTo>
                <a:lnTo>
                  <a:pt x="139" y="2668"/>
                </a:lnTo>
                <a:lnTo>
                  <a:pt x="149" y="2538"/>
                </a:lnTo>
                <a:lnTo>
                  <a:pt x="199" y="2349"/>
                </a:lnTo>
                <a:lnTo>
                  <a:pt x="89" y="2240"/>
                </a:lnTo>
                <a:lnTo>
                  <a:pt x="29" y="2100"/>
                </a:lnTo>
                <a:lnTo>
                  <a:pt x="0" y="1951"/>
                </a:lnTo>
                <a:lnTo>
                  <a:pt x="0" y="1792"/>
                </a:lnTo>
                <a:lnTo>
                  <a:pt x="39" y="1623"/>
                </a:lnTo>
                <a:lnTo>
                  <a:pt x="109" y="1503"/>
                </a:lnTo>
                <a:lnTo>
                  <a:pt x="239" y="1364"/>
                </a:lnTo>
                <a:lnTo>
                  <a:pt x="379" y="1264"/>
                </a:lnTo>
                <a:lnTo>
                  <a:pt x="529" y="1165"/>
                </a:lnTo>
                <a:lnTo>
                  <a:pt x="679" y="1105"/>
                </a:lnTo>
                <a:lnTo>
                  <a:pt x="839" y="1065"/>
                </a:lnTo>
                <a:lnTo>
                  <a:pt x="969" y="1036"/>
                </a:lnTo>
                <a:lnTo>
                  <a:pt x="1019" y="94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07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02200" y="3413160"/>
            <a:ext cx="2318040" cy="1437120"/>
          </a:xfrm>
          <a:custGeom>
            <a:avLst/>
            <a:gdLst/>
            <a:ahLst/>
            <a:rect l="0" t="0" r="r" b="b"/>
            <a:pathLst>
              <a:path w="6439" h="3992">
                <a:moveTo>
                  <a:pt x="1019" y="945"/>
                </a:moveTo>
                <a:lnTo>
                  <a:pt x="1079" y="835"/>
                </a:lnTo>
                <a:lnTo>
                  <a:pt x="1159" y="726"/>
                </a:lnTo>
                <a:lnTo>
                  <a:pt x="1279" y="636"/>
                </a:lnTo>
                <a:lnTo>
                  <a:pt x="1389" y="567"/>
                </a:lnTo>
                <a:lnTo>
                  <a:pt x="1529" y="517"/>
                </a:lnTo>
                <a:lnTo>
                  <a:pt x="1699" y="467"/>
                </a:lnTo>
                <a:lnTo>
                  <a:pt x="1889" y="437"/>
                </a:lnTo>
                <a:lnTo>
                  <a:pt x="2089" y="427"/>
                </a:lnTo>
                <a:lnTo>
                  <a:pt x="2339" y="437"/>
                </a:lnTo>
                <a:lnTo>
                  <a:pt x="2549" y="447"/>
                </a:lnTo>
                <a:lnTo>
                  <a:pt x="2699" y="348"/>
                </a:lnTo>
                <a:lnTo>
                  <a:pt x="2829" y="248"/>
                </a:lnTo>
                <a:lnTo>
                  <a:pt x="3019" y="149"/>
                </a:lnTo>
                <a:lnTo>
                  <a:pt x="3240" y="69"/>
                </a:lnTo>
                <a:lnTo>
                  <a:pt x="3510" y="9"/>
                </a:lnTo>
                <a:lnTo>
                  <a:pt x="3779" y="0"/>
                </a:lnTo>
                <a:lnTo>
                  <a:pt x="4019" y="29"/>
                </a:lnTo>
                <a:lnTo>
                  <a:pt x="4289" y="99"/>
                </a:lnTo>
                <a:lnTo>
                  <a:pt x="4449" y="189"/>
                </a:lnTo>
                <a:lnTo>
                  <a:pt x="4599" y="288"/>
                </a:lnTo>
                <a:lnTo>
                  <a:pt x="4739" y="417"/>
                </a:lnTo>
                <a:lnTo>
                  <a:pt x="4799" y="547"/>
                </a:lnTo>
                <a:lnTo>
                  <a:pt x="5009" y="547"/>
                </a:lnTo>
                <a:lnTo>
                  <a:pt x="5209" y="577"/>
                </a:lnTo>
                <a:lnTo>
                  <a:pt x="5389" y="646"/>
                </a:lnTo>
                <a:lnTo>
                  <a:pt x="5509" y="746"/>
                </a:lnTo>
                <a:lnTo>
                  <a:pt x="5629" y="885"/>
                </a:lnTo>
                <a:lnTo>
                  <a:pt x="5689" y="1006"/>
                </a:lnTo>
                <a:lnTo>
                  <a:pt x="5709" y="1115"/>
                </a:lnTo>
                <a:lnTo>
                  <a:pt x="5829" y="1135"/>
                </a:lnTo>
                <a:lnTo>
                  <a:pt x="5949" y="1175"/>
                </a:lnTo>
                <a:lnTo>
                  <a:pt x="6049" y="1225"/>
                </a:lnTo>
                <a:lnTo>
                  <a:pt x="6149" y="1284"/>
                </a:lnTo>
                <a:lnTo>
                  <a:pt x="6219" y="1334"/>
                </a:lnTo>
                <a:lnTo>
                  <a:pt x="6289" y="1404"/>
                </a:lnTo>
                <a:lnTo>
                  <a:pt x="6359" y="1493"/>
                </a:lnTo>
                <a:lnTo>
                  <a:pt x="6389" y="1603"/>
                </a:lnTo>
                <a:lnTo>
                  <a:pt x="6399" y="1682"/>
                </a:lnTo>
                <a:lnTo>
                  <a:pt x="6379" y="1772"/>
                </a:lnTo>
                <a:lnTo>
                  <a:pt x="6329" y="1871"/>
                </a:lnTo>
                <a:lnTo>
                  <a:pt x="6389" y="1981"/>
                </a:lnTo>
                <a:lnTo>
                  <a:pt x="6419" y="2080"/>
                </a:lnTo>
                <a:lnTo>
                  <a:pt x="6429" y="2190"/>
                </a:lnTo>
                <a:lnTo>
                  <a:pt x="6399" y="2329"/>
                </a:lnTo>
                <a:lnTo>
                  <a:pt x="6379" y="2409"/>
                </a:lnTo>
                <a:lnTo>
                  <a:pt x="6299" y="2508"/>
                </a:lnTo>
                <a:lnTo>
                  <a:pt x="6399" y="2648"/>
                </a:lnTo>
                <a:lnTo>
                  <a:pt x="6429" y="2727"/>
                </a:lnTo>
                <a:lnTo>
                  <a:pt x="6439" y="2857"/>
                </a:lnTo>
                <a:lnTo>
                  <a:pt x="6419" y="2976"/>
                </a:lnTo>
                <a:lnTo>
                  <a:pt x="6359" y="3117"/>
                </a:lnTo>
                <a:lnTo>
                  <a:pt x="6289" y="3206"/>
                </a:lnTo>
                <a:lnTo>
                  <a:pt x="6179" y="3306"/>
                </a:lnTo>
                <a:lnTo>
                  <a:pt x="5979" y="3395"/>
                </a:lnTo>
                <a:lnTo>
                  <a:pt x="5779" y="3425"/>
                </a:lnTo>
                <a:lnTo>
                  <a:pt x="5599" y="3405"/>
                </a:lnTo>
                <a:lnTo>
                  <a:pt x="5479" y="3355"/>
                </a:lnTo>
                <a:lnTo>
                  <a:pt x="5389" y="3445"/>
                </a:lnTo>
                <a:lnTo>
                  <a:pt x="5299" y="3525"/>
                </a:lnTo>
                <a:lnTo>
                  <a:pt x="5229" y="3574"/>
                </a:lnTo>
                <a:lnTo>
                  <a:pt x="5079" y="3634"/>
                </a:lnTo>
                <a:lnTo>
                  <a:pt x="4949" y="3684"/>
                </a:lnTo>
                <a:lnTo>
                  <a:pt x="4759" y="3714"/>
                </a:lnTo>
                <a:lnTo>
                  <a:pt x="4569" y="3704"/>
                </a:lnTo>
                <a:lnTo>
                  <a:pt x="4389" y="3664"/>
                </a:lnTo>
                <a:lnTo>
                  <a:pt x="4229" y="3584"/>
                </a:lnTo>
                <a:lnTo>
                  <a:pt x="4129" y="3724"/>
                </a:lnTo>
                <a:lnTo>
                  <a:pt x="4039" y="3793"/>
                </a:lnTo>
                <a:lnTo>
                  <a:pt x="3919" y="3863"/>
                </a:lnTo>
                <a:lnTo>
                  <a:pt x="3789" y="3913"/>
                </a:lnTo>
                <a:lnTo>
                  <a:pt x="3639" y="3933"/>
                </a:lnTo>
                <a:lnTo>
                  <a:pt x="3500" y="3933"/>
                </a:lnTo>
                <a:lnTo>
                  <a:pt x="3370" y="3913"/>
                </a:lnTo>
                <a:lnTo>
                  <a:pt x="3199" y="3843"/>
                </a:lnTo>
                <a:lnTo>
                  <a:pt x="3099" y="3773"/>
                </a:lnTo>
                <a:lnTo>
                  <a:pt x="3009" y="3863"/>
                </a:lnTo>
                <a:lnTo>
                  <a:pt x="2919" y="3913"/>
                </a:lnTo>
                <a:lnTo>
                  <a:pt x="2799" y="3952"/>
                </a:lnTo>
                <a:lnTo>
                  <a:pt x="2639" y="3992"/>
                </a:lnTo>
                <a:lnTo>
                  <a:pt x="2469" y="3982"/>
                </a:lnTo>
                <a:lnTo>
                  <a:pt x="2289" y="3943"/>
                </a:lnTo>
                <a:lnTo>
                  <a:pt x="2149" y="3883"/>
                </a:lnTo>
                <a:lnTo>
                  <a:pt x="2029" y="3773"/>
                </a:lnTo>
                <a:lnTo>
                  <a:pt x="1949" y="3664"/>
                </a:lnTo>
                <a:lnTo>
                  <a:pt x="1819" y="3704"/>
                </a:lnTo>
                <a:lnTo>
                  <a:pt x="1659" y="3724"/>
                </a:lnTo>
                <a:lnTo>
                  <a:pt x="1479" y="3724"/>
                </a:lnTo>
                <a:lnTo>
                  <a:pt x="1329" y="3664"/>
                </a:lnTo>
                <a:lnTo>
                  <a:pt x="1199" y="3594"/>
                </a:lnTo>
                <a:lnTo>
                  <a:pt x="1099" y="3525"/>
                </a:lnTo>
                <a:lnTo>
                  <a:pt x="1019" y="3415"/>
                </a:lnTo>
                <a:lnTo>
                  <a:pt x="989" y="3306"/>
                </a:lnTo>
                <a:lnTo>
                  <a:pt x="909" y="3335"/>
                </a:lnTo>
                <a:lnTo>
                  <a:pt x="759" y="3335"/>
                </a:lnTo>
                <a:lnTo>
                  <a:pt x="599" y="3306"/>
                </a:lnTo>
                <a:lnTo>
                  <a:pt x="429" y="3226"/>
                </a:lnTo>
                <a:lnTo>
                  <a:pt x="319" y="3126"/>
                </a:lnTo>
                <a:lnTo>
                  <a:pt x="219" y="2997"/>
                </a:lnTo>
                <a:lnTo>
                  <a:pt x="169" y="2857"/>
                </a:lnTo>
                <a:lnTo>
                  <a:pt x="139" y="2668"/>
                </a:lnTo>
                <a:lnTo>
                  <a:pt x="149" y="2538"/>
                </a:lnTo>
                <a:lnTo>
                  <a:pt x="199" y="2349"/>
                </a:lnTo>
                <a:lnTo>
                  <a:pt x="89" y="2240"/>
                </a:lnTo>
                <a:lnTo>
                  <a:pt x="29" y="2100"/>
                </a:lnTo>
                <a:lnTo>
                  <a:pt x="0" y="1951"/>
                </a:lnTo>
                <a:lnTo>
                  <a:pt x="0" y="1792"/>
                </a:lnTo>
                <a:lnTo>
                  <a:pt x="39" y="1623"/>
                </a:lnTo>
                <a:lnTo>
                  <a:pt x="109" y="1503"/>
                </a:lnTo>
                <a:lnTo>
                  <a:pt x="239" y="1364"/>
                </a:lnTo>
                <a:lnTo>
                  <a:pt x="379" y="1264"/>
                </a:lnTo>
                <a:lnTo>
                  <a:pt x="529" y="1165"/>
                </a:lnTo>
                <a:lnTo>
                  <a:pt x="679" y="1105"/>
                </a:lnTo>
                <a:lnTo>
                  <a:pt x="839" y="1065"/>
                </a:lnTo>
                <a:lnTo>
                  <a:pt x="969" y="1036"/>
                </a:lnTo>
                <a:lnTo>
                  <a:pt x="1019" y="94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07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35520" y="5089680"/>
            <a:ext cx="2318040" cy="1437120"/>
          </a:xfrm>
          <a:custGeom>
            <a:avLst/>
            <a:gdLst/>
            <a:ahLst/>
            <a:rect l="0" t="0" r="r" b="b"/>
            <a:pathLst>
              <a:path w="6439" h="3992">
                <a:moveTo>
                  <a:pt x="1019" y="945"/>
                </a:moveTo>
                <a:lnTo>
                  <a:pt x="1079" y="835"/>
                </a:lnTo>
                <a:lnTo>
                  <a:pt x="1159" y="726"/>
                </a:lnTo>
                <a:lnTo>
                  <a:pt x="1279" y="636"/>
                </a:lnTo>
                <a:lnTo>
                  <a:pt x="1389" y="567"/>
                </a:lnTo>
                <a:lnTo>
                  <a:pt x="1529" y="517"/>
                </a:lnTo>
                <a:lnTo>
                  <a:pt x="1699" y="467"/>
                </a:lnTo>
                <a:lnTo>
                  <a:pt x="1889" y="437"/>
                </a:lnTo>
                <a:lnTo>
                  <a:pt x="2089" y="427"/>
                </a:lnTo>
                <a:lnTo>
                  <a:pt x="2339" y="437"/>
                </a:lnTo>
                <a:lnTo>
                  <a:pt x="2549" y="447"/>
                </a:lnTo>
                <a:lnTo>
                  <a:pt x="2699" y="348"/>
                </a:lnTo>
                <a:lnTo>
                  <a:pt x="2829" y="248"/>
                </a:lnTo>
                <a:lnTo>
                  <a:pt x="3019" y="149"/>
                </a:lnTo>
                <a:lnTo>
                  <a:pt x="3240" y="69"/>
                </a:lnTo>
                <a:lnTo>
                  <a:pt x="3510" y="9"/>
                </a:lnTo>
                <a:lnTo>
                  <a:pt x="3779" y="0"/>
                </a:lnTo>
                <a:lnTo>
                  <a:pt x="4019" y="29"/>
                </a:lnTo>
                <a:lnTo>
                  <a:pt x="4289" y="99"/>
                </a:lnTo>
                <a:lnTo>
                  <a:pt x="4449" y="189"/>
                </a:lnTo>
                <a:lnTo>
                  <a:pt x="4599" y="288"/>
                </a:lnTo>
                <a:lnTo>
                  <a:pt x="4739" y="417"/>
                </a:lnTo>
                <a:lnTo>
                  <a:pt x="4799" y="547"/>
                </a:lnTo>
                <a:lnTo>
                  <a:pt x="5009" y="547"/>
                </a:lnTo>
                <a:lnTo>
                  <a:pt x="5209" y="577"/>
                </a:lnTo>
                <a:lnTo>
                  <a:pt x="5389" y="646"/>
                </a:lnTo>
                <a:lnTo>
                  <a:pt x="5509" y="746"/>
                </a:lnTo>
                <a:lnTo>
                  <a:pt x="5629" y="885"/>
                </a:lnTo>
                <a:lnTo>
                  <a:pt x="5689" y="1006"/>
                </a:lnTo>
                <a:lnTo>
                  <a:pt x="5709" y="1115"/>
                </a:lnTo>
                <a:lnTo>
                  <a:pt x="5829" y="1135"/>
                </a:lnTo>
                <a:lnTo>
                  <a:pt x="5949" y="1175"/>
                </a:lnTo>
                <a:lnTo>
                  <a:pt x="6049" y="1225"/>
                </a:lnTo>
                <a:lnTo>
                  <a:pt x="6149" y="1284"/>
                </a:lnTo>
                <a:lnTo>
                  <a:pt x="6219" y="1334"/>
                </a:lnTo>
                <a:lnTo>
                  <a:pt x="6289" y="1404"/>
                </a:lnTo>
                <a:lnTo>
                  <a:pt x="6359" y="1493"/>
                </a:lnTo>
                <a:lnTo>
                  <a:pt x="6389" y="1603"/>
                </a:lnTo>
                <a:lnTo>
                  <a:pt x="6399" y="1682"/>
                </a:lnTo>
                <a:lnTo>
                  <a:pt x="6379" y="1772"/>
                </a:lnTo>
                <a:lnTo>
                  <a:pt x="6329" y="1871"/>
                </a:lnTo>
                <a:lnTo>
                  <a:pt x="6389" y="1981"/>
                </a:lnTo>
                <a:lnTo>
                  <a:pt x="6419" y="2080"/>
                </a:lnTo>
                <a:lnTo>
                  <a:pt x="6429" y="2190"/>
                </a:lnTo>
                <a:lnTo>
                  <a:pt x="6399" y="2329"/>
                </a:lnTo>
                <a:lnTo>
                  <a:pt x="6379" y="2409"/>
                </a:lnTo>
                <a:lnTo>
                  <a:pt x="6299" y="2508"/>
                </a:lnTo>
                <a:lnTo>
                  <a:pt x="6399" y="2648"/>
                </a:lnTo>
                <a:lnTo>
                  <a:pt x="6429" y="2727"/>
                </a:lnTo>
                <a:lnTo>
                  <a:pt x="6439" y="2857"/>
                </a:lnTo>
                <a:lnTo>
                  <a:pt x="6419" y="2976"/>
                </a:lnTo>
                <a:lnTo>
                  <a:pt x="6359" y="3117"/>
                </a:lnTo>
                <a:lnTo>
                  <a:pt x="6289" y="3206"/>
                </a:lnTo>
                <a:lnTo>
                  <a:pt x="6179" y="3306"/>
                </a:lnTo>
                <a:lnTo>
                  <a:pt x="5979" y="3395"/>
                </a:lnTo>
                <a:lnTo>
                  <a:pt x="5779" y="3425"/>
                </a:lnTo>
                <a:lnTo>
                  <a:pt x="5599" y="3405"/>
                </a:lnTo>
                <a:lnTo>
                  <a:pt x="5479" y="3355"/>
                </a:lnTo>
                <a:lnTo>
                  <a:pt x="5389" y="3445"/>
                </a:lnTo>
                <a:lnTo>
                  <a:pt x="5299" y="3525"/>
                </a:lnTo>
                <a:lnTo>
                  <a:pt x="5229" y="3574"/>
                </a:lnTo>
                <a:lnTo>
                  <a:pt x="5079" y="3634"/>
                </a:lnTo>
                <a:lnTo>
                  <a:pt x="4949" y="3684"/>
                </a:lnTo>
                <a:lnTo>
                  <a:pt x="4759" y="3714"/>
                </a:lnTo>
                <a:lnTo>
                  <a:pt x="4569" y="3704"/>
                </a:lnTo>
                <a:lnTo>
                  <a:pt x="4389" y="3664"/>
                </a:lnTo>
                <a:lnTo>
                  <a:pt x="4229" y="3584"/>
                </a:lnTo>
                <a:lnTo>
                  <a:pt x="4129" y="3724"/>
                </a:lnTo>
                <a:lnTo>
                  <a:pt x="4039" y="3793"/>
                </a:lnTo>
                <a:lnTo>
                  <a:pt x="3919" y="3863"/>
                </a:lnTo>
                <a:lnTo>
                  <a:pt x="3789" y="3913"/>
                </a:lnTo>
                <a:lnTo>
                  <a:pt x="3639" y="3933"/>
                </a:lnTo>
                <a:lnTo>
                  <a:pt x="3500" y="3933"/>
                </a:lnTo>
                <a:lnTo>
                  <a:pt x="3370" y="3913"/>
                </a:lnTo>
                <a:lnTo>
                  <a:pt x="3199" y="3843"/>
                </a:lnTo>
                <a:lnTo>
                  <a:pt x="3099" y="3773"/>
                </a:lnTo>
                <a:lnTo>
                  <a:pt x="3009" y="3863"/>
                </a:lnTo>
                <a:lnTo>
                  <a:pt x="2919" y="3913"/>
                </a:lnTo>
                <a:lnTo>
                  <a:pt x="2799" y="3952"/>
                </a:lnTo>
                <a:lnTo>
                  <a:pt x="2639" y="3992"/>
                </a:lnTo>
                <a:lnTo>
                  <a:pt x="2469" y="3982"/>
                </a:lnTo>
                <a:lnTo>
                  <a:pt x="2289" y="3943"/>
                </a:lnTo>
                <a:lnTo>
                  <a:pt x="2149" y="3883"/>
                </a:lnTo>
                <a:lnTo>
                  <a:pt x="2029" y="3773"/>
                </a:lnTo>
                <a:lnTo>
                  <a:pt x="1949" y="3664"/>
                </a:lnTo>
                <a:lnTo>
                  <a:pt x="1819" y="3704"/>
                </a:lnTo>
                <a:lnTo>
                  <a:pt x="1659" y="3724"/>
                </a:lnTo>
                <a:lnTo>
                  <a:pt x="1479" y="3724"/>
                </a:lnTo>
                <a:lnTo>
                  <a:pt x="1329" y="3664"/>
                </a:lnTo>
                <a:lnTo>
                  <a:pt x="1199" y="3594"/>
                </a:lnTo>
                <a:lnTo>
                  <a:pt x="1099" y="3525"/>
                </a:lnTo>
                <a:lnTo>
                  <a:pt x="1019" y="3415"/>
                </a:lnTo>
                <a:lnTo>
                  <a:pt x="989" y="3306"/>
                </a:lnTo>
                <a:lnTo>
                  <a:pt x="909" y="3335"/>
                </a:lnTo>
                <a:lnTo>
                  <a:pt x="759" y="3335"/>
                </a:lnTo>
                <a:lnTo>
                  <a:pt x="599" y="3306"/>
                </a:lnTo>
                <a:lnTo>
                  <a:pt x="429" y="3226"/>
                </a:lnTo>
                <a:lnTo>
                  <a:pt x="319" y="3126"/>
                </a:lnTo>
                <a:lnTo>
                  <a:pt x="219" y="2997"/>
                </a:lnTo>
                <a:lnTo>
                  <a:pt x="169" y="2857"/>
                </a:lnTo>
                <a:lnTo>
                  <a:pt x="139" y="2668"/>
                </a:lnTo>
                <a:lnTo>
                  <a:pt x="149" y="2538"/>
                </a:lnTo>
                <a:lnTo>
                  <a:pt x="199" y="2349"/>
                </a:lnTo>
                <a:lnTo>
                  <a:pt x="89" y="2240"/>
                </a:lnTo>
                <a:lnTo>
                  <a:pt x="29" y="2100"/>
                </a:lnTo>
                <a:lnTo>
                  <a:pt x="0" y="1951"/>
                </a:lnTo>
                <a:lnTo>
                  <a:pt x="0" y="1792"/>
                </a:lnTo>
                <a:lnTo>
                  <a:pt x="39" y="1623"/>
                </a:lnTo>
                <a:lnTo>
                  <a:pt x="109" y="1503"/>
                </a:lnTo>
                <a:lnTo>
                  <a:pt x="239" y="1364"/>
                </a:lnTo>
                <a:lnTo>
                  <a:pt x="379" y="1264"/>
                </a:lnTo>
                <a:lnTo>
                  <a:pt x="529" y="1165"/>
                </a:lnTo>
                <a:lnTo>
                  <a:pt x="679" y="1105"/>
                </a:lnTo>
                <a:lnTo>
                  <a:pt x="839" y="1065"/>
                </a:lnTo>
                <a:lnTo>
                  <a:pt x="969" y="1036"/>
                </a:lnTo>
                <a:lnTo>
                  <a:pt x="1019" y="94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07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2895480"/>
            <a:ext cx="0" cy="457200"/>
          </a:xfrm>
          <a:prstGeom prst="line">
            <a:avLst/>
          </a:prstGeom>
          <a:ln w="38160">
            <a:solidFill>
              <a:srgbClr val="6a00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3962520"/>
            <a:ext cx="0" cy="457200"/>
          </a:xfrm>
          <a:prstGeom prst="line">
            <a:avLst/>
          </a:prstGeom>
          <a:ln w="38160">
            <a:solidFill>
              <a:srgbClr val="6a00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4952880"/>
            <a:ext cx="0" cy="457200"/>
          </a:xfrm>
          <a:prstGeom prst="line">
            <a:avLst/>
          </a:prstGeom>
          <a:ln w="38160">
            <a:solidFill>
              <a:srgbClr val="6a00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24280" y="4191120"/>
            <a:ext cx="0" cy="457200"/>
          </a:xfrm>
          <a:prstGeom prst="line">
            <a:avLst/>
          </a:prstGeom>
          <a:ln w="38160">
            <a:solidFill>
              <a:srgbClr val="6a00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20120" y="4724280"/>
            <a:ext cx="0" cy="457200"/>
          </a:xfrm>
          <a:prstGeom prst="line">
            <a:avLst/>
          </a:prstGeom>
          <a:ln w="38160">
            <a:solidFill>
              <a:srgbClr val="6a00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467480" y="3429000"/>
            <a:ext cx="0" cy="457200"/>
          </a:xfrm>
          <a:prstGeom prst="line">
            <a:avLst/>
          </a:prstGeom>
          <a:ln w="38160">
            <a:solidFill>
              <a:srgbClr val="6a00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0" y="1905120"/>
            <a:ext cx="0" cy="457200"/>
          </a:xfrm>
          <a:prstGeom prst="line">
            <a:avLst/>
          </a:prstGeom>
          <a:ln w="38160">
            <a:solidFill>
              <a:srgbClr val="6a00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1752480"/>
            <a:ext cx="457200" cy="381240"/>
          </a:xfrm>
          <a:prstGeom prst="line">
            <a:avLst/>
          </a:prstGeom>
          <a:ln w="38160">
            <a:solidFill>
              <a:srgbClr val="6a00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81280" y="3352680"/>
            <a:ext cx="457200" cy="381240"/>
          </a:xfrm>
          <a:prstGeom prst="line">
            <a:avLst/>
          </a:prstGeom>
          <a:ln w="38160">
            <a:solidFill>
              <a:srgbClr val="6a00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34120" y="3352680"/>
            <a:ext cx="609480" cy="0"/>
          </a:xfrm>
          <a:prstGeom prst="line">
            <a:avLst/>
          </a:prstGeom>
          <a:ln w="38160">
            <a:solidFill>
              <a:srgbClr val="6a00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32400" y="4722840"/>
            <a:ext cx="590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84480" y="5103720"/>
            <a:ext cx="590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5029200"/>
            <a:ext cx="609480" cy="0"/>
          </a:xfrm>
          <a:prstGeom prst="line">
            <a:avLst/>
          </a:prstGeom>
          <a:ln w="38160">
            <a:solidFill>
              <a:srgbClr val="6a00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5181480"/>
            <a:ext cx="609480" cy="0"/>
          </a:xfrm>
          <a:prstGeom prst="line">
            <a:avLst/>
          </a:prstGeom>
          <a:ln w="38160">
            <a:solidFill>
              <a:srgbClr val="6a00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56280" y="4875120"/>
            <a:ext cx="590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08160" y="3198960"/>
            <a:ext cx="590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904000" y="3122640"/>
            <a:ext cx="590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789200" y="2513160"/>
            <a:ext cx="590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660680" y="5484960"/>
            <a:ext cx="8510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613560" y="2360520"/>
            <a:ext cx="8510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994440" y="5256360"/>
            <a:ext cx="8510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84280" y="3503520"/>
            <a:ext cx="590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504200" y="3960720"/>
            <a:ext cx="590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251240" y="1293840"/>
            <a:ext cx="8510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775480" y="364176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-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803680" y="387036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-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098960" y="227016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-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751120" y="4417920"/>
            <a:ext cx="804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S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199040" y="2817720"/>
            <a:ext cx="804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S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632480" y="53182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-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943600" y="4189320"/>
            <a:ext cx="669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N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876920" y="5865840"/>
            <a:ext cx="669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N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2240" y="55468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061480" y="547056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604280" y="14320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470560" y="12034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7832880" y="3184560"/>
            <a:ext cx="811080" cy="655560"/>
            <a:chOff x="7832880" y="3184560"/>
            <a:chExt cx="811080" cy="655560"/>
          </a:xfrm>
        </p:grpSpPr>
        <p:sp>
          <p:nvSpPr>
            <p:cNvPr id="274" name=""/>
            <p:cNvSpPr txBox="1"/>
            <p:nvPr/>
          </p:nvSpPr>
          <p:spPr>
            <a:xfrm>
              <a:off x="7832880" y="318456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P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7848720" y="3503520"/>
              <a:ext cx="669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N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93640" y="3794040"/>
            <a:ext cx="811080" cy="655920"/>
            <a:chOff x="593640" y="3794040"/>
            <a:chExt cx="811080" cy="655920"/>
          </a:xfrm>
        </p:grpSpPr>
        <p:sp>
          <p:nvSpPr>
            <p:cNvPr id="277" name=""/>
            <p:cNvSpPr txBox="1"/>
            <p:nvPr/>
          </p:nvSpPr>
          <p:spPr>
            <a:xfrm>
              <a:off x="593640" y="37940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P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609480" y="4113360"/>
              <a:ext cx="669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N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746280" y="2193840"/>
            <a:ext cx="811080" cy="655920"/>
            <a:chOff x="746280" y="2193840"/>
            <a:chExt cx="811080" cy="655920"/>
          </a:xfrm>
        </p:grpSpPr>
        <p:sp>
          <p:nvSpPr>
            <p:cNvPr id="280" name=""/>
            <p:cNvSpPr txBox="1"/>
            <p:nvPr/>
          </p:nvSpPr>
          <p:spPr>
            <a:xfrm>
              <a:off x="746280" y="21938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P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762120" y="2513160"/>
              <a:ext cx="669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N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600200" y="233280"/>
            <a:ext cx="74674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000" spc="-1" strike="noStrike">
                <a:solidFill>
                  <a:srgbClr val="006079"/>
                </a:solidFill>
                <a:latin typeface="Impact"/>
                <a:ea typeface="Impact"/>
              </a:rPr>
              <a:t>Conclusion</a:t>
            </a:r>
            <a:r>
              <a:rPr b="0" lang="en-US" sz="4000" spc="-1" strike="noStrike">
                <a:solidFill>
                  <a:srgbClr val="006079"/>
                </a:solidFill>
                <a:latin typeface="Impact"/>
                <a:ea typeface="Impac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0880" y="1455840"/>
            <a:ext cx="86104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INI will be the network to network interface betw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vice provider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nded public network and servic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INI will provide signaling interworking among the various signaling protoco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INI will define the new information exchange model among service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00200" y="233280"/>
            <a:ext cx="7542360" cy="14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  <a:ea typeface="Impact"/>
              </a:rPr>
              <a:t>What do Service Providers want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880" y="1608120"/>
            <a:ext cx="84582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rvice Providers want to provide global ATM network conne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e their customers with connectivt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y customer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y public ATM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ywhere in the wor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228600">
              <a:lnSpc>
                <a:spcPct val="85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228600" algn="ctr">
              <a:lnSpc>
                <a:spcPct val="85000"/>
              </a:lnSpc>
              <a:spcBef>
                <a:spcPts val="1199"/>
              </a:spcBef>
            </a:pPr>
            <a:r>
              <a:rPr b="1" lang="en-US" sz="5400" spc="-1" strike="noStrike">
                <a:solidFill>
                  <a:srgbClr val="00c1a9"/>
                </a:solidFill>
                <a:latin typeface="Arial"/>
                <a:ea typeface="Arial"/>
              </a:rPr>
              <a:t>So whats the problem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727280" y="233280"/>
            <a:ext cx="734076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000" spc="-1" strike="noStrike">
                <a:solidFill>
                  <a:srgbClr val="006079"/>
                </a:solidFill>
                <a:latin typeface="Impact"/>
                <a:ea typeface="Impact"/>
              </a:rPr>
              <a:t>What is the problem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74840" y="1455840"/>
            <a:ext cx="82216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re are multi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uting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NNI based on OSPF dynamic 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ISUP based on static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aling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NNI based UNI sign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ISUP based on ISUP sign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 address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 different type - ICD, DCC, NSAP E.164 and native E.1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228600" algn="ctr">
              <a:lnSpc>
                <a:spcPct val="85000"/>
              </a:lnSpc>
              <a:spcBef>
                <a:spcPts val="1199"/>
              </a:spcBef>
            </a:pPr>
            <a:r>
              <a:rPr b="1" lang="en-US" sz="5400" spc="-1" strike="noStrike">
                <a:solidFill>
                  <a:srgbClr val="a8001c"/>
                </a:solidFill>
                <a:latin typeface="Arial"/>
                <a:ea typeface="Arial"/>
              </a:rPr>
              <a:t>What a mess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446120" y="233280"/>
            <a:ext cx="769608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000" spc="-1" strike="noStrike">
                <a:solidFill>
                  <a:srgbClr val="006079"/>
                </a:solidFill>
                <a:latin typeface="Impact"/>
                <a:ea typeface="Impact"/>
              </a:rPr>
              <a:t>Present Day Model  for BISUP- BIS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523880" y="3276720"/>
            <a:ext cx="914400" cy="685800"/>
          </a:xfrm>
          <a:prstGeom prst="line">
            <a:avLst/>
          </a:prstGeom>
          <a:ln w="38160">
            <a:solidFill>
              <a:srgbClr val="a800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010280" y="3048120"/>
            <a:ext cx="1067040" cy="609480"/>
          </a:xfrm>
          <a:prstGeom prst="line">
            <a:avLst/>
          </a:prstGeom>
          <a:ln w="38160">
            <a:solidFill>
              <a:srgbClr val="a800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038480" y="3276720"/>
            <a:ext cx="1371600" cy="685800"/>
          </a:xfrm>
          <a:prstGeom prst="line">
            <a:avLst/>
          </a:prstGeom>
          <a:ln w="38160">
            <a:solidFill>
              <a:srgbClr val="a800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19920" y="2386080"/>
            <a:ext cx="1029240" cy="898920"/>
          </a:xfrm>
          <a:custGeom>
            <a:avLst/>
            <a:gdLst/>
            <a:ahLst/>
            <a:rect l="0" t="0" r="r" b="b"/>
            <a:pathLst>
              <a:path w="2859" h="2497">
                <a:moveTo>
                  <a:pt x="452" y="591"/>
                </a:moveTo>
                <a:lnTo>
                  <a:pt x="479" y="522"/>
                </a:lnTo>
                <a:lnTo>
                  <a:pt x="514" y="454"/>
                </a:lnTo>
                <a:lnTo>
                  <a:pt x="567" y="398"/>
                </a:lnTo>
                <a:lnTo>
                  <a:pt x="616" y="354"/>
                </a:lnTo>
                <a:lnTo>
                  <a:pt x="678" y="323"/>
                </a:lnTo>
                <a:lnTo>
                  <a:pt x="755" y="292"/>
                </a:lnTo>
                <a:lnTo>
                  <a:pt x="839" y="273"/>
                </a:lnTo>
                <a:lnTo>
                  <a:pt x="928" y="267"/>
                </a:lnTo>
                <a:lnTo>
                  <a:pt x="1039" y="273"/>
                </a:lnTo>
                <a:lnTo>
                  <a:pt x="1132" y="280"/>
                </a:lnTo>
                <a:lnTo>
                  <a:pt x="1199" y="217"/>
                </a:lnTo>
                <a:lnTo>
                  <a:pt x="1256" y="155"/>
                </a:lnTo>
                <a:lnTo>
                  <a:pt x="1341" y="93"/>
                </a:lnTo>
                <a:lnTo>
                  <a:pt x="1438" y="43"/>
                </a:lnTo>
                <a:lnTo>
                  <a:pt x="1558" y="6"/>
                </a:lnTo>
                <a:lnTo>
                  <a:pt x="1678" y="0"/>
                </a:lnTo>
                <a:lnTo>
                  <a:pt x="1784" y="18"/>
                </a:lnTo>
                <a:lnTo>
                  <a:pt x="1904" y="62"/>
                </a:lnTo>
                <a:lnTo>
                  <a:pt x="1975" y="118"/>
                </a:lnTo>
                <a:lnTo>
                  <a:pt x="2042" y="180"/>
                </a:lnTo>
                <a:lnTo>
                  <a:pt x="2104" y="261"/>
                </a:lnTo>
                <a:lnTo>
                  <a:pt x="2130" y="342"/>
                </a:lnTo>
                <a:lnTo>
                  <a:pt x="2224" y="342"/>
                </a:lnTo>
                <a:lnTo>
                  <a:pt x="2313" y="361"/>
                </a:lnTo>
                <a:lnTo>
                  <a:pt x="2393" y="404"/>
                </a:lnTo>
                <a:lnTo>
                  <a:pt x="2446" y="466"/>
                </a:lnTo>
                <a:lnTo>
                  <a:pt x="2500" y="553"/>
                </a:lnTo>
                <a:lnTo>
                  <a:pt x="2526" y="629"/>
                </a:lnTo>
                <a:lnTo>
                  <a:pt x="2535" y="698"/>
                </a:lnTo>
                <a:lnTo>
                  <a:pt x="2588" y="710"/>
                </a:lnTo>
                <a:lnTo>
                  <a:pt x="2642" y="735"/>
                </a:lnTo>
                <a:lnTo>
                  <a:pt x="2686" y="766"/>
                </a:lnTo>
                <a:lnTo>
                  <a:pt x="2730" y="803"/>
                </a:lnTo>
                <a:lnTo>
                  <a:pt x="2761" y="835"/>
                </a:lnTo>
                <a:lnTo>
                  <a:pt x="2792" y="878"/>
                </a:lnTo>
                <a:lnTo>
                  <a:pt x="2824" y="934"/>
                </a:lnTo>
                <a:lnTo>
                  <a:pt x="2837" y="1003"/>
                </a:lnTo>
                <a:lnTo>
                  <a:pt x="2841" y="1052"/>
                </a:lnTo>
                <a:lnTo>
                  <a:pt x="2832" y="1108"/>
                </a:lnTo>
                <a:lnTo>
                  <a:pt x="2810" y="1171"/>
                </a:lnTo>
                <a:lnTo>
                  <a:pt x="2837" y="1239"/>
                </a:lnTo>
                <a:lnTo>
                  <a:pt x="2850" y="1301"/>
                </a:lnTo>
                <a:lnTo>
                  <a:pt x="2855" y="1370"/>
                </a:lnTo>
                <a:lnTo>
                  <a:pt x="2841" y="1457"/>
                </a:lnTo>
                <a:lnTo>
                  <a:pt x="2832" y="1507"/>
                </a:lnTo>
                <a:lnTo>
                  <a:pt x="2797" y="1569"/>
                </a:lnTo>
                <a:lnTo>
                  <a:pt x="2841" y="1656"/>
                </a:lnTo>
                <a:lnTo>
                  <a:pt x="2855" y="1706"/>
                </a:lnTo>
                <a:lnTo>
                  <a:pt x="2859" y="1787"/>
                </a:lnTo>
                <a:lnTo>
                  <a:pt x="2850" y="1862"/>
                </a:lnTo>
                <a:lnTo>
                  <a:pt x="2824" y="1950"/>
                </a:lnTo>
                <a:lnTo>
                  <a:pt x="2792" y="2006"/>
                </a:lnTo>
                <a:lnTo>
                  <a:pt x="2744" y="2068"/>
                </a:lnTo>
                <a:lnTo>
                  <a:pt x="2655" y="2124"/>
                </a:lnTo>
                <a:lnTo>
                  <a:pt x="2566" y="2143"/>
                </a:lnTo>
                <a:lnTo>
                  <a:pt x="2486" y="2130"/>
                </a:lnTo>
                <a:lnTo>
                  <a:pt x="2433" y="2099"/>
                </a:lnTo>
                <a:lnTo>
                  <a:pt x="2393" y="2155"/>
                </a:lnTo>
                <a:lnTo>
                  <a:pt x="2353" y="2205"/>
                </a:lnTo>
                <a:lnTo>
                  <a:pt x="2322" y="2236"/>
                </a:lnTo>
                <a:lnTo>
                  <a:pt x="2256" y="2273"/>
                </a:lnTo>
                <a:lnTo>
                  <a:pt x="2198" y="2304"/>
                </a:lnTo>
                <a:lnTo>
                  <a:pt x="2113" y="2323"/>
                </a:lnTo>
                <a:lnTo>
                  <a:pt x="2028" y="2317"/>
                </a:lnTo>
                <a:lnTo>
                  <a:pt x="1948" y="2292"/>
                </a:lnTo>
                <a:lnTo>
                  <a:pt x="1877" y="2242"/>
                </a:lnTo>
                <a:lnTo>
                  <a:pt x="1833" y="2329"/>
                </a:lnTo>
                <a:lnTo>
                  <a:pt x="1793" y="2373"/>
                </a:lnTo>
                <a:lnTo>
                  <a:pt x="1740" y="2416"/>
                </a:lnTo>
                <a:lnTo>
                  <a:pt x="1682" y="2448"/>
                </a:lnTo>
                <a:lnTo>
                  <a:pt x="1616" y="2460"/>
                </a:lnTo>
                <a:lnTo>
                  <a:pt x="1553" y="2460"/>
                </a:lnTo>
                <a:lnTo>
                  <a:pt x="1496" y="2448"/>
                </a:lnTo>
                <a:lnTo>
                  <a:pt x="1420" y="2404"/>
                </a:lnTo>
                <a:lnTo>
                  <a:pt x="1376" y="2360"/>
                </a:lnTo>
                <a:lnTo>
                  <a:pt x="1336" y="2416"/>
                </a:lnTo>
                <a:lnTo>
                  <a:pt x="1296" y="2448"/>
                </a:lnTo>
                <a:lnTo>
                  <a:pt x="1243" y="2473"/>
                </a:lnTo>
                <a:lnTo>
                  <a:pt x="1172" y="2497"/>
                </a:lnTo>
                <a:lnTo>
                  <a:pt x="1096" y="2491"/>
                </a:lnTo>
                <a:lnTo>
                  <a:pt x="1017" y="2466"/>
                </a:lnTo>
                <a:lnTo>
                  <a:pt x="954" y="2429"/>
                </a:lnTo>
                <a:lnTo>
                  <a:pt x="901" y="2360"/>
                </a:lnTo>
                <a:lnTo>
                  <a:pt x="866" y="2292"/>
                </a:lnTo>
                <a:lnTo>
                  <a:pt x="808" y="2317"/>
                </a:lnTo>
                <a:lnTo>
                  <a:pt x="737" y="2329"/>
                </a:lnTo>
                <a:lnTo>
                  <a:pt x="656" y="2329"/>
                </a:lnTo>
                <a:lnTo>
                  <a:pt x="590" y="2292"/>
                </a:lnTo>
                <a:lnTo>
                  <a:pt x="532" y="2248"/>
                </a:lnTo>
                <a:lnTo>
                  <a:pt x="488" y="2205"/>
                </a:lnTo>
                <a:lnTo>
                  <a:pt x="452" y="2136"/>
                </a:lnTo>
                <a:lnTo>
                  <a:pt x="439" y="2068"/>
                </a:lnTo>
                <a:lnTo>
                  <a:pt x="403" y="2087"/>
                </a:lnTo>
                <a:lnTo>
                  <a:pt x="337" y="2087"/>
                </a:lnTo>
                <a:lnTo>
                  <a:pt x="266" y="2068"/>
                </a:lnTo>
                <a:lnTo>
                  <a:pt x="190" y="2018"/>
                </a:lnTo>
                <a:lnTo>
                  <a:pt x="141" y="1956"/>
                </a:lnTo>
                <a:lnTo>
                  <a:pt x="97" y="1875"/>
                </a:lnTo>
                <a:lnTo>
                  <a:pt x="75" y="1787"/>
                </a:lnTo>
                <a:lnTo>
                  <a:pt x="62" y="1669"/>
                </a:lnTo>
                <a:lnTo>
                  <a:pt x="66" y="1588"/>
                </a:lnTo>
                <a:lnTo>
                  <a:pt x="88" y="1469"/>
                </a:lnTo>
                <a:lnTo>
                  <a:pt x="39" y="1401"/>
                </a:lnTo>
                <a:lnTo>
                  <a:pt x="13" y="1314"/>
                </a:lnTo>
                <a:lnTo>
                  <a:pt x="0" y="1220"/>
                </a:lnTo>
                <a:lnTo>
                  <a:pt x="0" y="1121"/>
                </a:lnTo>
                <a:lnTo>
                  <a:pt x="17" y="1015"/>
                </a:lnTo>
                <a:lnTo>
                  <a:pt x="48" y="940"/>
                </a:lnTo>
                <a:lnTo>
                  <a:pt x="106" y="853"/>
                </a:lnTo>
                <a:lnTo>
                  <a:pt x="168" y="791"/>
                </a:lnTo>
                <a:lnTo>
                  <a:pt x="235" y="729"/>
                </a:lnTo>
                <a:lnTo>
                  <a:pt x="301" y="691"/>
                </a:lnTo>
                <a:lnTo>
                  <a:pt x="372" y="666"/>
                </a:lnTo>
                <a:lnTo>
                  <a:pt x="430" y="648"/>
                </a:lnTo>
                <a:lnTo>
                  <a:pt x="452" y="5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07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82680" y="2270160"/>
            <a:ext cx="2318040" cy="1437120"/>
          </a:xfrm>
          <a:custGeom>
            <a:avLst/>
            <a:gdLst/>
            <a:ahLst/>
            <a:rect l="0" t="0" r="r" b="b"/>
            <a:pathLst>
              <a:path w="6439" h="3992">
                <a:moveTo>
                  <a:pt x="1019" y="945"/>
                </a:moveTo>
                <a:lnTo>
                  <a:pt x="1079" y="835"/>
                </a:lnTo>
                <a:lnTo>
                  <a:pt x="1159" y="726"/>
                </a:lnTo>
                <a:lnTo>
                  <a:pt x="1279" y="636"/>
                </a:lnTo>
                <a:lnTo>
                  <a:pt x="1389" y="567"/>
                </a:lnTo>
                <a:lnTo>
                  <a:pt x="1529" y="517"/>
                </a:lnTo>
                <a:lnTo>
                  <a:pt x="1699" y="467"/>
                </a:lnTo>
                <a:lnTo>
                  <a:pt x="1889" y="437"/>
                </a:lnTo>
                <a:lnTo>
                  <a:pt x="2089" y="427"/>
                </a:lnTo>
                <a:lnTo>
                  <a:pt x="2339" y="437"/>
                </a:lnTo>
                <a:lnTo>
                  <a:pt x="2549" y="447"/>
                </a:lnTo>
                <a:lnTo>
                  <a:pt x="2699" y="348"/>
                </a:lnTo>
                <a:lnTo>
                  <a:pt x="2829" y="248"/>
                </a:lnTo>
                <a:lnTo>
                  <a:pt x="3019" y="149"/>
                </a:lnTo>
                <a:lnTo>
                  <a:pt x="3240" y="69"/>
                </a:lnTo>
                <a:lnTo>
                  <a:pt x="3510" y="9"/>
                </a:lnTo>
                <a:lnTo>
                  <a:pt x="3779" y="0"/>
                </a:lnTo>
                <a:lnTo>
                  <a:pt x="4019" y="29"/>
                </a:lnTo>
                <a:lnTo>
                  <a:pt x="4289" y="99"/>
                </a:lnTo>
                <a:lnTo>
                  <a:pt x="4449" y="189"/>
                </a:lnTo>
                <a:lnTo>
                  <a:pt x="4599" y="288"/>
                </a:lnTo>
                <a:lnTo>
                  <a:pt x="4739" y="417"/>
                </a:lnTo>
                <a:lnTo>
                  <a:pt x="4799" y="547"/>
                </a:lnTo>
                <a:lnTo>
                  <a:pt x="5009" y="547"/>
                </a:lnTo>
                <a:lnTo>
                  <a:pt x="5209" y="577"/>
                </a:lnTo>
                <a:lnTo>
                  <a:pt x="5389" y="646"/>
                </a:lnTo>
                <a:lnTo>
                  <a:pt x="5509" y="746"/>
                </a:lnTo>
                <a:lnTo>
                  <a:pt x="5629" y="885"/>
                </a:lnTo>
                <a:lnTo>
                  <a:pt x="5689" y="1006"/>
                </a:lnTo>
                <a:lnTo>
                  <a:pt x="5709" y="1115"/>
                </a:lnTo>
                <a:lnTo>
                  <a:pt x="5829" y="1135"/>
                </a:lnTo>
                <a:lnTo>
                  <a:pt x="5949" y="1175"/>
                </a:lnTo>
                <a:lnTo>
                  <a:pt x="6049" y="1225"/>
                </a:lnTo>
                <a:lnTo>
                  <a:pt x="6149" y="1284"/>
                </a:lnTo>
                <a:lnTo>
                  <a:pt x="6219" y="1334"/>
                </a:lnTo>
                <a:lnTo>
                  <a:pt x="6289" y="1404"/>
                </a:lnTo>
                <a:lnTo>
                  <a:pt x="6359" y="1493"/>
                </a:lnTo>
                <a:lnTo>
                  <a:pt x="6389" y="1603"/>
                </a:lnTo>
                <a:lnTo>
                  <a:pt x="6399" y="1682"/>
                </a:lnTo>
                <a:lnTo>
                  <a:pt x="6379" y="1772"/>
                </a:lnTo>
                <a:lnTo>
                  <a:pt x="6329" y="1871"/>
                </a:lnTo>
                <a:lnTo>
                  <a:pt x="6389" y="1981"/>
                </a:lnTo>
                <a:lnTo>
                  <a:pt x="6419" y="2080"/>
                </a:lnTo>
                <a:lnTo>
                  <a:pt x="6429" y="2190"/>
                </a:lnTo>
                <a:lnTo>
                  <a:pt x="6399" y="2329"/>
                </a:lnTo>
                <a:lnTo>
                  <a:pt x="6379" y="2409"/>
                </a:lnTo>
                <a:lnTo>
                  <a:pt x="6299" y="2508"/>
                </a:lnTo>
                <a:lnTo>
                  <a:pt x="6399" y="2648"/>
                </a:lnTo>
                <a:lnTo>
                  <a:pt x="6429" y="2727"/>
                </a:lnTo>
                <a:lnTo>
                  <a:pt x="6439" y="2857"/>
                </a:lnTo>
                <a:lnTo>
                  <a:pt x="6419" y="2976"/>
                </a:lnTo>
                <a:lnTo>
                  <a:pt x="6359" y="3117"/>
                </a:lnTo>
                <a:lnTo>
                  <a:pt x="6289" y="3206"/>
                </a:lnTo>
                <a:lnTo>
                  <a:pt x="6179" y="3306"/>
                </a:lnTo>
                <a:lnTo>
                  <a:pt x="5979" y="3395"/>
                </a:lnTo>
                <a:lnTo>
                  <a:pt x="5779" y="3425"/>
                </a:lnTo>
                <a:lnTo>
                  <a:pt x="5599" y="3405"/>
                </a:lnTo>
                <a:lnTo>
                  <a:pt x="5479" y="3355"/>
                </a:lnTo>
                <a:lnTo>
                  <a:pt x="5389" y="3445"/>
                </a:lnTo>
                <a:lnTo>
                  <a:pt x="5299" y="3525"/>
                </a:lnTo>
                <a:lnTo>
                  <a:pt x="5229" y="3574"/>
                </a:lnTo>
                <a:lnTo>
                  <a:pt x="5079" y="3634"/>
                </a:lnTo>
                <a:lnTo>
                  <a:pt x="4949" y="3684"/>
                </a:lnTo>
                <a:lnTo>
                  <a:pt x="4759" y="3714"/>
                </a:lnTo>
                <a:lnTo>
                  <a:pt x="4569" y="3704"/>
                </a:lnTo>
                <a:lnTo>
                  <a:pt x="4389" y="3664"/>
                </a:lnTo>
                <a:lnTo>
                  <a:pt x="4229" y="3584"/>
                </a:lnTo>
                <a:lnTo>
                  <a:pt x="4129" y="3724"/>
                </a:lnTo>
                <a:lnTo>
                  <a:pt x="4039" y="3793"/>
                </a:lnTo>
                <a:lnTo>
                  <a:pt x="3919" y="3863"/>
                </a:lnTo>
                <a:lnTo>
                  <a:pt x="3789" y="3913"/>
                </a:lnTo>
                <a:lnTo>
                  <a:pt x="3639" y="3933"/>
                </a:lnTo>
                <a:lnTo>
                  <a:pt x="3500" y="3933"/>
                </a:lnTo>
                <a:lnTo>
                  <a:pt x="3370" y="3913"/>
                </a:lnTo>
                <a:lnTo>
                  <a:pt x="3199" y="3843"/>
                </a:lnTo>
                <a:lnTo>
                  <a:pt x="3099" y="3773"/>
                </a:lnTo>
                <a:lnTo>
                  <a:pt x="3009" y="3863"/>
                </a:lnTo>
                <a:lnTo>
                  <a:pt x="2919" y="3913"/>
                </a:lnTo>
                <a:lnTo>
                  <a:pt x="2799" y="3952"/>
                </a:lnTo>
                <a:lnTo>
                  <a:pt x="2639" y="3992"/>
                </a:lnTo>
                <a:lnTo>
                  <a:pt x="2469" y="3982"/>
                </a:lnTo>
                <a:lnTo>
                  <a:pt x="2289" y="3943"/>
                </a:lnTo>
                <a:lnTo>
                  <a:pt x="2149" y="3883"/>
                </a:lnTo>
                <a:lnTo>
                  <a:pt x="2029" y="3773"/>
                </a:lnTo>
                <a:lnTo>
                  <a:pt x="1949" y="3664"/>
                </a:lnTo>
                <a:lnTo>
                  <a:pt x="1819" y="3704"/>
                </a:lnTo>
                <a:lnTo>
                  <a:pt x="1659" y="3724"/>
                </a:lnTo>
                <a:lnTo>
                  <a:pt x="1479" y="3724"/>
                </a:lnTo>
                <a:lnTo>
                  <a:pt x="1329" y="3664"/>
                </a:lnTo>
                <a:lnTo>
                  <a:pt x="1199" y="3594"/>
                </a:lnTo>
                <a:lnTo>
                  <a:pt x="1099" y="3525"/>
                </a:lnTo>
                <a:lnTo>
                  <a:pt x="1019" y="3415"/>
                </a:lnTo>
                <a:lnTo>
                  <a:pt x="989" y="3306"/>
                </a:lnTo>
                <a:lnTo>
                  <a:pt x="909" y="3335"/>
                </a:lnTo>
                <a:lnTo>
                  <a:pt x="759" y="3335"/>
                </a:lnTo>
                <a:lnTo>
                  <a:pt x="599" y="3306"/>
                </a:lnTo>
                <a:lnTo>
                  <a:pt x="429" y="3226"/>
                </a:lnTo>
                <a:lnTo>
                  <a:pt x="319" y="3126"/>
                </a:lnTo>
                <a:lnTo>
                  <a:pt x="219" y="2997"/>
                </a:lnTo>
                <a:lnTo>
                  <a:pt x="169" y="2857"/>
                </a:lnTo>
                <a:lnTo>
                  <a:pt x="139" y="2668"/>
                </a:lnTo>
                <a:lnTo>
                  <a:pt x="149" y="2538"/>
                </a:lnTo>
                <a:lnTo>
                  <a:pt x="199" y="2349"/>
                </a:lnTo>
                <a:lnTo>
                  <a:pt x="89" y="2240"/>
                </a:lnTo>
                <a:lnTo>
                  <a:pt x="29" y="2100"/>
                </a:lnTo>
                <a:lnTo>
                  <a:pt x="0" y="1951"/>
                </a:lnTo>
                <a:lnTo>
                  <a:pt x="0" y="1792"/>
                </a:lnTo>
                <a:lnTo>
                  <a:pt x="39" y="1623"/>
                </a:lnTo>
                <a:lnTo>
                  <a:pt x="109" y="1503"/>
                </a:lnTo>
                <a:lnTo>
                  <a:pt x="239" y="1364"/>
                </a:lnTo>
                <a:lnTo>
                  <a:pt x="379" y="1264"/>
                </a:lnTo>
                <a:lnTo>
                  <a:pt x="529" y="1165"/>
                </a:lnTo>
                <a:lnTo>
                  <a:pt x="679" y="1105"/>
                </a:lnTo>
                <a:lnTo>
                  <a:pt x="839" y="1065"/>
                </a:lnTo>
                <a:lnTo>
                  <a:pt x="969" y="1036"/>
                </a:lnTo>
                <a:lnTo>
                  <a:pt x="1019" y="94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07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02200" y="3108240"/>
            <a:ext cx="2318040" cy="1437120"/>
          </a:xfrm>
          <a:custGeom>
            <a:avLst/>
            <a:gdLst/>
            <a:ahLst/>
            <a:rect l="0" t="0" r="r" b="b"/>
            <a:pathLst>
              <a:path w="6439" h="3992">
                <a:moveTo>
                  <a:pt x="1019" y="945"/>
                </a:moveTo>
                <a:lnTo>
                  <a:pt x="1079" y="835"/>
                </a:lnTo>
                <a:lnTo>
                  <a:pt x="1159" y="726"/>
                </a:lnTo>
                <a:lnTo>
                  <a:pt x="1279" y="636"/>
                </a:lnTo>
                <a:lnTo>
                  <a:pt x="1389" y="567"/>
                </a:lnTo>
                <a:lnTo>
                  <a:pt x="1529" y="517"/>
                </a:lnTo>
                <a:lnTo>
                  <a:pt x="1699" y="467"/>
                </a:lnTo>
                <a:lnTo>
                  <a:pt x="1889" y="437"/>
                </a:lnTo>
                <a:lnTo>
                  <a:pt x="2089" y="427"/>
                </a:lnTo>
                <a:lnTo>
                  <a:pt x="2339" y="437"/>
                </a:lnTo>
                <a:lnTo>
                  <a:pt x="2549" y="447"/>
                </a:lnTo>
                <a:lnTo>
                  <a:pt x="2699" y="348"/>
                </a:lnTo>
                <a:lnTo>
                  <a:pt x="2829" y="248"/>
                </a:lnTo>
                <a:lnTo>
                  <a:pt x="3019" y="149"/>
                </a:lnTo>
                <a:lnTo>
                  <a:pt x="3240" y="69"/>
                </a:lnTo>
                <a:lnTo>
                  <a:pt x="3510" y="9"/>
                </a:lnTo>
                <a:lnTo>
                  <a:pt x="3779" y="0"/>
                </a:lnTo>
                <a:lnTo>
                  <a:pt x="4019" y="29"/>
                </a:lnTo>
                <a:lnTo>
                  <a:pt x="4289" y="99"/>
                </a:lnTo>
                <a:lnTo>
                  <a:pt x="4449" y="189"/>
                </a:lnTo>
                <a:lnTo>
                  <a:pt x="4599" y="288"/>
                </a:lnTo>
                <a:lnTo>
                  <a:pt x="4739" y="417"/>
                </a:lnTo>
                <a:lnTo>
                  <a:pt x="4799" y="547"/>
                </a:lnTo>
                <a:lnTo>
                  <a:pt x="5009" y="547"/>
                </a:lnTo>
                <a:lnTo>
                  <a:pt x="5209" y="577"/>
                </a:lnTo>
                <a:lnTo>
                  <a:pt x="5389" y="646"/>
                </a:lnTo>
                <a:lnTo>
                  <a:pt x="5509" y="746"/>
                </a:lnTo>
                <a:lnTo>
                  <a:pt x="5629" y="885"/>
                </a:lnTo>
                <a:lnTo>
                  <a:pt x="5689" y="1006"/>
                </a:lnTo>
                <a:lnTo>
                  <a:pt x="5709" y="1115"/>
                </a:lnTo>
                <a:lnTo>
                  <a:pt x="5829" y="1135"/>
                </a:lnTo>
                <a:lnTo>
                  <a:pt x="5949" y="1175"/>
                </a:lnTo>
                <a:lnTo>
                  <a:pt x="6049" y="1225"/>
                </a:lnTo>
                <a:lnTo>
                  <a:pt x="6149" y="1284"/>
                </a:lnTo>
                <a:lnTo>
                  <a:pt x="6219" y="1334"/>
                </a:lnTo>
                <a:lnTo>
                  <a:pt x="6289" y="1404"/>
                </a:lnTo>
                <a:lnTo>
                  <a:pt x="6359" y="1493"/>
                </a:lnTo>
                <a:lnTo>
                  <a:pt x="6389" y="1603"/>
                </a:lnTo>
                <a:lnTo>
                  <a:pt x="6399" y="1682"/>
                </a:lnTo>
                <a:lnTo>
                  <a:pt x="6379" y="1772"/>
                </a:lnTo>
                <a:lnTo>
                  <a:pt x="6329" y="1871"/>
                </a:lnTo>
                <a:lnTo>
                  <a:pt x="6389" y="1981"/>
                </a:lnTo>
                <a:lnTo>
                  <a:pt x="6419" y="2080"/>
                </a:lnTo>
                <a:lnTo>
                  <a:pt x="6429" y="2190"/>
                </a:lnTo>
                <a:lnTo>
                  <a:pt x="6399" y="2329"/>
                </a:lnTo>
                <a:lnTo>
                  <a:pt x="6379" y="2409"/>
                </a:lnTo>
                <a:lnTo>
                  <a:pt x="6299" y="2508"/>
                </a:lnTo>
                <a:lnTo>
                  <a:pt x="6399" y="2648"/>
                </a:lnTo>
                <a:lnTo>
                  <a:pt x="6429" y="2727"/>
                </a:lnTo>
                <a:lnTo>
                  <a:pt x="6439" y="2857"/>
                </a:lnTo>
                <a:lnTo>
                  <a:pt x="6419" y="2976"/>
                </a:lnTo>
                <a:lnTo>
                  <a:pt x="6359" y="3117"/>
                </a:lnTo>
                <a:lnTo>
                  <a:pt x="6289" y="3206"/>
                </a:lnTo>
                <a:lnTo>
                  <a:pt x="6179" y="3306"/>
                </a:lnTo>
                <a:lnTo>
                  <a:pt x="5979" y="3395"/>
                </a:lnTo>
                <a:lnTo>
                  <a:pt x="5779" y="3425"/>
                </a:lnTo>
                <a:lnTo>
                  <a:pt x="5599" y="3405"/>
                </a:lnTo>
                <a:lnTo>
                  <a:pt x="5479" y="3355"/>
                </a:lnTo>
                <a:lnTo>
                  <a:pt x="5389" y="3445"/>
                </a:lnTo>
                <a:lnTo>
                  <a:pt x="5299" y="3525"/>
                </a:lnTo>
                <a:lnTo>
                  <a:pt x="5229" y="3574"/>
                </a:lnTo>
                <a:lnTo>
                  <a:pt x="5079" y="3634"/>
                </a:lnTo>
                <a:lnTo>
                  <a:pt x="4949" y="3684"/>
                </a:lnTo>
                <a:lnTo>
                  <a:pt x="4759" y="3714"/>
                </a:lnTo>
                <a:lnTo>
                  <a:pt x="4569" y="3704"/>
                </a:lnTo>
                <a:lnTo>
                  <a:pt x="4389" y="3664"/>
                </a:lnTo>
                <a:lnTo>
                  <a:pt x="4229" y="3584"/>
                </a:lnTo>
                <a:lnTo>
                  <a:pt x="4129" y="3724"/>
                </a:lnTo>
                <a:lnTo>
                  <a:pt x="4039" y="3793"/>
                </a:lnTo>
                <a:lnTo>
                  <a:pt x="3919" y="3863"/>
                </a:lnTo>
                <a:lnTo>
                  <a:pt x="3789" y="3913"/>
                </a:lnTo>
                <a:lnTo>
                  <a:pt x="3639" y="3933"/>
                </a:lnTo>
                <a:lnTo>
                  <a:pt x="3500" y="3933"/>
                </a:lnTo>
                <a:lnTo>
                  <a:pt x="3370" y="3913"/>
                </a:lnTo>
                <a:lnTo>
                  <a:pt x="3199" y="3843"/>
                </a:lnTo>
                <a:lnTo>
                  <a:pt x="3099" y="3773"/>
                </a:lnTo>
                <a:lnTo>
                  <a:pt x="3009" y="3863"/>
                </a:lnTo>
                <a:lnTo>
                  <a:pt x="2919" y="3913"/>
                </a:lnTo>
                <a:lnTo>
                  <a:pt x="2799" y="3952"/>
                </a:lnTo>
                <a:lnTo>
                  <a:pt x="2639" y="3992"/>
                </a:lnTo>
                <a:lnTo>
                  <a:pt x="2469" y="3982"/>
                </a:lnTo>
                <a:lnTo>
                  <a:pt x="2289" y="3943"/>
                </a:lnTo>
                <a:lnTo>
                  <a:pt x="2149" y="3883"/>
                </a:lnTo>
                <a:lnTo>
                  <a:pt x="2029" y="3773"/>
                </a:lnTo>
                <a:lnTo>
                  <a:pt x="1949" y="3664"/>
                </a:lnTo>
                <a:lnTo>
                  <a:pt x="1819" y="3704"/>
                </a:lnTo>
                <a:lnTo>
                  <a:pt x="1659" y="3724"/>
                </a:lnTo>
                <a:lnTo>
                  <a:pt x="1479" y="3724"/>
                </a:lnTo>
                <a:lnTo>
                  <a:pt x="1329" y="3664"/>
                </a:lnTo>
                <a:lnTo>
                  <a:pt x="1199" y="3594"/>
                </a:lnTo>
                <a:lnTo>
                  <a:pt x="1099" y="3525"/>
                </a:lnTo>
                <a:lnTo>
                  <a:pt x="1019" y="3415"/>
                </a:lnTo>
                <a:lnTo>
                  <a:pt x="989" y="3306"/>
                </a:lnTo>
                <a:lnTo>
                  <a:pt x="909" y="3335"/>
                </a:lnTo>
                <a:lnTo>
                  <a:pt x="759" y="3335"/>
                </a:lnTo>
                <a:lnTo>
                  <a:pt x="599" y="3306"/>
                </a:lnTo>
                <a:lnTo>
                  <a:pt x="429" y="3226"/>
                </a:lnTo>
                <a:lnTo>
                  <a:pt x="319" y="3126"/>
                </a:lnTo>
                <a:lnTo>
                  <a:pt x="219" y="2997"/>
                </a:lnTo>
                <a:lnTo>
                  <a:pt x="169" y="2857"/>
                </a:lnTo>
                <a:lnTo>
                  <a:pt x="139" y="2668"/>
                </a:lnTo>
                <a:lnTo>
                  <a:pt x="149" y="2538"/>
                </a:lnTo>
                <a:lnTo>
                  <a:pt x="199" y="2349"/>
                </a:lnTo>
                <a:lnTo>
                  <a:pt x="89" y="2240"/>
                </a:lnTo>
                <a:lnTo>
                  <a:pt x="29" y="2100"/>
                </a:lnTo>
                <a:lnTo>
                  <a:pt x="0" y="1951"/>
                </a:lnTo>
                <a:lnTo>
                  <a:pt x="0" y="1792"/>
                </a:lnTo>
                <a:lnTo>
                  <a:pt x="39" y="1623"/>
                </a:lnTo>
                <a:lnTo>
                  <a:pt x="109" y="1503"/>
                </a:lnTo>
                <a:lnTo>
                  <a:pt x="239" y="1364"/>
                </a:lnTo>
                <a:lnTo>
                  <a:pt x="379" y="1264"/>
                </a:lnTo>
                <a:lnTo>
                  <a:pt x="529" y="1165"/>
                </a:lnTo>
                <a:lnTo>
                  <a:pt x="679" y="1105"/>
                </a:lnTo>
                <a:lnTo>
                  <a:pt x="839" y="1065"/>
                </a:lnTo>
                <a:lnTo>
                  <a:pt x="969" y="1036"/>
                </a:lnTo>
                <a:lnTo>
                  <a:pt x="1019" y="94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07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3320" y="3681360"/>
            <a:ext cx="1029240" cy="898920"/>
          </a:xfrm>
          <a:custGeom>
            <a:avLst/>
            <a:gdLst/>
            <a:ahLst/>
            <a:rect l="0" t="0" r="r" b="b"/>
            <a:pathLst>
              <a:path w="2859" h="2497">
                <a:moveTo>
                  <a:pt x="452" y="591"/>
                </a:moveTo>
                <a:lnTo>
                  <a:pt x="479" y="522"/>
                </a:lnTo>
                <a:lnTo>
                  <a:pt x="514" y="454"/>
                </a:lnTo>
                <a:lnTo>
                  <a:pt x="567" y="398"/>
                </a:lnTo>
                <a:lnTo>
                  <a:pt x="616" y="354"/>
                </a:lnTo>
                <a:lnTo>
                  <a:pt x="678" y="323"/>
                </a:lnTo>
                <a:lnTo>
                  <a:pt x="755" y="292"/>
                </a:lnTo>
                <a:lnTo>
                  <a:pt x="839" y="273"/>
                </a:lnTo>
                <a:lnTo>
                  <a:pt x="928" y="267"/>
                </a:lnTo>
                <a:lnTo>
                  <a:pt x="1039" y="273"/>
                </a:lnTo>
                <a:lnTo>
                  <a:pt x="1132" y="280"/>
                </a:lnTo>
                <a:lnTo>
                  <a:pt x="1199" y="217"/>
                </a:lnTo>
                <a:lnTo>
                  <a:pt x="1256" y="155"/>
                </a:lnTo>
                <a:lnTo>
                  <a:pt x="1341" y="93"/>
                </a:lnTo>
                <a:lnTo>
                  <a:pt x="1438" y="43"/>
                </a:lnTo>
                <a:lnTo>
                  <a:pt x="1558" y="6"/>
                </a:lnTo>
                <a:lnTo>
                  <a:pt x="1678" y="0"/>
                </a:lnTo>
                <a:lnTo>
                  <a:pt x="1784" y="18"/>
                </a:lnTo>
                <a:lnTo>
                  <a:pt x="1904" y="62"/>
                </a:lnTo>
                <a:lnTo>
                  <a:pt x="1975" y="118"/>
                </a:lnTo>
                <a:lnTo>
                  <a:pt x="2042" y="180"/>
                </a:lnTo>
                <a:lnTo>
                  <a:pt x="2104" y="261"/>
                </a:lnTo>
                <a:lnTo>
                  <a:pt x="2130" y="342"/>
                </a:lnTo>
                <a:lnTo>
                  <a:pt x="2224" y="342"/>
                </a:lnTo>
                <a:lnTo>
                  <a:pt x="2313" y="361"/>
                </a:lnTo>
                <a:lnTo>
                  <a:pt x="2393" y="404"/>
                </a:lnTo>
                <a:lnTo>
                  <a:pt x="2446" y="466"/>
                </a:lnTo>
                <a:lnTo>
                  <a:pt x="2500" y="553"/>
                </a:lnTo>
                <a:lnTo>
                  <a:pt x="2526" y="629"/>
                </a:lnTo>
                <a:lnTo>
                  <a:pt x="2535" y="698"/>
                </a:lnTo>
                <a:lnTo>
                  <a:pt x="2588" y="710"/>
                </a:lnTo>
                <a:lnTo>
                  <a:pt x="2642" y="735"/>
                </a:lnTo>
                <a:lnTo>
                  <a:pt x="2686" y="766"/>
                </a:lnTo>
                <a:lnTo>
                  <a:pt x="2730" y="803"/>
                </a:lnTo>
                <a:lnTo>
                  <a:pt x="2761" y="835"/>
                </a:lnTo>
                <a:lnTo>
                  <a:pt x="2792" y="878"/>
                </a:lnTo>
                <a:lnTo>
                  <a:pt x="2824" y="934"/>
                </a:lnTo>
                <a:lnTo>
                  <a:pt x="2837" y="1003"/>
                </a:lnTo>
                <a:lnTo>
                  <a:pt x="2841" y="1052"/>
                </a:lnTo>
                <a:lnTo>
                  <a:pt x="2832" y="1108"/>
                </a:lnTo>
                <a:lnTo>
                  <a:pt x="2810" y="1171"/>
                </a:lnTo>
                <a:lnTo>
                  <a:pt x="2837" y="1239"/>
                </a:lnTo>
                <a:lnTo>
                  <a:pt x="2850" y="1301"/>
                </a:lnTo>
                <a:lnTo>
                  <a:pt x="2855" y="1370"/>
                </a:lnTo>
                <a:lnTo>
                  <a:pt x="2841" y="1457"/>
                </a:lnTo>
                <a:lnTo>
                  <a:pt x="2832" y="1507"/>
                </a:lnTo>
                <a:lnTo>
                  <a:pt x="2797" y="1569"/>
                </a:lnTo>
                <a:lnTo>
                  <a:pt x="2841" y="1656"/>
                </a:lnTo>
                <a:lnTo>
                  <a:pt x="2855" y="1706"/>
                </a:lnTo>
                <a:lnTo>
                  <a:pt x="2859" y="1787"/>
                </a:lnTo>
                <a:lnTo>
                  <a:pt x="2850" y="1862"/>
                </a:lnTo>
                <a:lnTo>
                  <a:pt x="2824" y="1950"/>
                </a:lnTo>
                <a:lnTo>
                  <a:pt x="2792" y="2006"/>
                </a:lnTo>
                <a:lnTo>
                  <a:pt x="2744" y="2068"/>
                </a:lnTo>
                <a:lnTo>
                  <a:pt x="2655" y="2124"/>
                </a:lnTo>
                <a:lnTo>
                  <a:pt x="2566" y="2143"/>
                </a:lnTo>
                <a:lnTo>
                  <a:pt x="2486" y="2130"/>
                </a:lnTo>
                <a:lnTo>
                  <a:pt x="2433" y="2099"/>
                </a:lnTo>
                <a:lnTo>
                  <a:pt x="2393" y="2155"/>
                </a:lnTo>
                <a:lnTo>
                  <a:pt x="2353" y="2205"/>
                </a:lnTo>
                <a:lnTo>
                  <a:pt x="2322" y="2236"/>
                </a:lnTo>
                <a:lnTo>
                  <a:pt x="2256" y="2273"/>
                </a:lnTo>
                <a:lnTo>
                  <a:pt x="2198" y="2304"/>
                </a:lnTo>
                <a:lnTo>
                  <a:pt x="2113" y="2323"/>
                </a:lnTo>
                <a:lnTo>
                  <a:pt x="2028" y="2317"/>
                </a:lnTo>
                <a:lnTo>
                  <a:pt x="1948" y="2292"/>
                </a:lnTo>
                <a:lnTo>
                  <a:pt x="1877" y="2242"/>
                </a:lnTo>
                <a:lnTo>
                  <a:pt x="1833" y="2329"/>
                </a:lnTo>
                <a:lnTo>
                  <a:pt x="1793" y="2373"/>
                </a:lnTo>
                <a:lnTo>
                  <a:pt x="1740" y="2416"/>
                </a:lnTo>
                <a:lnTo>
                  <a:pt x="1682" y="2448"/>
                </a:lnTo>
                <a:lnTo>
                  <a:pt x="1616" y="2460"/>
                </a:lnTo>
                <a:lnTo>
                  <a:pt x="1553" y="2460"/>
                </a:lnTo>
                <a:lnTo>
                  <a:pt x="1496" y="2448"/>
                </a:lnTo>
                <a:lnTo>
                  <a:pt x="1420" y="2404"/>
                </a:lnTo>
                <a:lnTo>
                  <a:pt x="1376" y="2360"/>
                </a:lnTo>
                <a:lnTo>
                  <a:pt x="1336" y="2416"/>
                </a:lnTo>
                <a:lnTo>
                  <a:pt x="1296" y="2448"/>
                </a:lnTo>
                <a:lnTo>
                  <a:pt x="1243" y="2473"/>
                </a:lnTo>
                <a:lnTo>
                  <a:pt x="1172" y="2497"/>
                </a:lnTo>
                <a:lnTo>
                  <a:pt x="1096" y="2491"/>
                </a:lnTo>
                <a:lnTo>
                  <a:pt x="1017" y="2466"/>
                </a:lnTo>
                <a:lnTo>
                  <a:pt x="954" y="2429"/>
                </a:lnTo>
                <a:lnTo>
                  <a:pt x="901" y="2360"/>
                </a:lnTo>
                <a:lnTo>
                  <a:pt x="866" y="2292"/>
                </a:lnTo>
                <a:lnTo>
                  <a:pt x="808" y="2317"/>
                </a:lnTo>
                <a:lnTo>
                  <a:pt x="737" y="2329"/>
                </a:lnTo>
                <a:lnTo>
                  <a:pt x="656" y="2329"/>
                </a:lnTo>
                <a:lnTo>
                  <a:pt x="590" y="2292"/>
                </a:lnTo>
                <a:lnTo>
                  <a:pt x="532" y="2248"/>
                </a:lnTo>
                <a:lnTo>
                  <a:pt x="488" y="2205"/>
                </a:lnTo>
                <a:lnTo>
                  <a:pt x="452" y="2136"/>
                </a:lnTo>
                <a:lnTo>
                  <a:pt x="439" y="2068"/>
                </a:lnTo>
                <a:lnTo>
                  <a:pt x="403" y="2087"/>
                </a:lnTo>
                <a:lnTo>
                  <a:pt x="337" y="2087"/>
                </a:lnTo>
                <a:lnTo>
                  <a:pt x="266" y="2068"/>
                </a:lnTo>
                <a:lnTo>
                  <a:pt x="190" y="2018"/>
                </a:lnTo>
                <a:lnTo>
                  <a:pt x="141" y="1956"/>
                </a:lnTo>
                <a:lnTo>
                  <a:pt x="97" y="1875"/>
                </a:lnTo>
                <a:lnTo>
                  <a:pt x="75" y="1787"/>
                </a:lnTo>
                <a:lnTo>
                  <a:pt x="62" y="1669"/>
                </a:lnTo>
                <a:lnTo>
                  <a:pt x="66" y="1588"/>
                </a:lnTo>
                <a:lnTo>
                  <a:pt x="88" y="1469"/>
                </a:lnTo>
                <a:lnTo>
                  <a:pt x="39" y="1401"/>
                </a:lnTo>
                <a:lnTo>
                  <a:pt x="13" y="1314"/>
                </a:lnTo>
                <a:lnTo>
                  <a:pt x="0" y="1220"/>
                </a:lnTo>
                <a:lnTo>
                  <a:pt x="0" y="1121"/>
                </a:lnTo>
                <a:lnTo>
                  <a:pt x="17" y="1015"/>
                </a:lnTo>
                <a:lnTo>
                  <a:pt x="48" y="940"/>
                </a:lnTo>
                <a:lnTo>
                  <a:pt x="106" y="853"/>
                </a:lnTo>
                <a:lnTo>
                  <a:pt x="168" y="791"/>
                </a:lnTo>
                <a:lnTo>
                  <a:pt x="235" y="729"/>
                </a:lnTo>
                <a:lnTo>
                  <a:pt x="301" y="691"/>
                </a:lnTo>
                <a:lnTo>
                  <a:pt x="372" y="666"/>
                </a:lnTo>
                <a:lnTo>
                  <a:pt x="430" y="648"/>
                </a:lnTo>
                <a:lnTo>
                  <a:pt x="452" y="5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07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955960" y="28036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-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699160" y="35654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-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74880" y="39466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061480" y="25750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927760" y="4570560"/>
            <a:ext cx="861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S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032280" y="3732120"/>
            <a:ext cx="861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S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648320" y="3429000"/>
            <a:ext cx="152280" cy="380880"/>
          </a:xfrm>
          <a:prstGeom prst="line">
            <a:avLst/>
          </a:prstGeom>
          <a:ln w="38160">
            <a:solidFill>
              <a:srgbClr val="6a00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6a00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3124080"/>
            <a:ext cx="0" cy="457200"/>
          </a:xfrm>
          <a:prstGeom prst="line">
            <a:avLst/>
          </a:prstGeom>
          <a:ln w="38160">
            <a:solidFill>
              <a:srgbClr val="6a00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79440" y="2741760"/>
            <a:ext cx="8510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451640" y="3732120"/>
            <a:ext cx="8510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5240" y="2970360"/>
            <a:ext cx="658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-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5181480"/>
            <a:ext cx="8305920" cy="11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rvice Providers that run BISUP use BICI as network to network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SUP Network use E.164 address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727280" y="233280"/>
            <a:ext cx="734076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000" spc="-1" strike="noStrike">
                <a:solidFill>
                  <a:srgbClr val="006079"/>
                </a:solidFill>
                <a:latin typeface="Impact"/>
                <a:ea typeface="Impact"/>
              </a:rPr>
              <a:t>Present Day Model for PNNI - PNN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523880" y="3276720"/>
            <a:ext cx="914400" cy="685800"/>
          </a:xfrm>
          <a:prstGeom prst="line">
            <a:avLst/>
          </a:prstGeom>
          <a:ln w="38160">
            <a:solidFill>
              <a:srgbClr val="a800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010280" y="3048120"/>
            <a:ext cx="1067040" cy="609480"/>
          </a:xfrm>
          <a:prstGeom prst="line">
            <a:avLst/>
          </a:prstGeom>
          <a:ln w="38160">
            <a:solidFill>
              <a:srgbClr val="a800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4038480" y="3276720"/>
            <a:ext cx="1371600" cy="685800"/>
          </a:xfrm>
          <a:prstGeom prst="line">
            <a:avLst/>
          </a:prstGeom>
          <a:ln w="38160">
            <a:solidFill>
              <a:srgbClr val="a800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19920" y="2386080"/>
            <a:ext cx="1029240" cy="898920"/>
          </a:xfrm>
          <a:custGeom>
            <a:avLst/>
            <a:gdLst/>
            <a:ahLst/>
            <a:rect l="0" t="0" r="r" b="b"/>
            <a:pathLst>
              <a:path w="2859" h="2497">
                <a:moveTo>
                  <a:pt x="452" y="591"/>
                </a:moveTo>
                <a:lnTo>
                  <a:pt x="479" y="522"/>
                </a:lnTo>
                <a:lnTo>
                  <a:pt x="514" y="454"/>
                </a:lnTo>
                <a:lnTo>
                  <a:pt x="567" y="398"/>
                </a:lnTo>
                <a:lnTo>
                  <a:pt x="616" y="354"/>
                </a:lnTo>
                <a:lnTo>
                  <a:pt x="678" y="323"/>
                </a:lnTo>
                <a:lnTo>
                  <a:pt x="755" y="292"/>
                </a:lnTo>
                <a:lnTo>
                  <a:pt x="839" y="273"/>
                </a:lnTo>
                <a:lnTo>
                  <a:pt x="928" y="267"/>
                </a:lnTo>
                <a:lnTo>
                  <a:pt x="1039" y="273"/>
                </a:lnTo>
                <a:lnTo>
                  <a:pt x="1132" y="280"/>
                </a:lnTo>
                <a:lnTo>
                  <a:pt x="1199" y="217"/>
                </a:lnTo>
                <a:lnTo>
                  <a:pt x="1256" y="155"/>
                </a:lnTo>
                <a:lnTo>
                  <a:pt x="1341" y="93"/>
                </a:lnTo>
                <a:lnTo>
                  <a:pt x="1438" y="43"/>
                </a:lnTo>
                <a:lnTo>
                  <a:pt x="1558" y="6"/>
                </a:lnTo>
                <a:lnTo>
                  <a:pt x="1678" y="0"/>
                </a:lnTo>
                <a:lnTo>
                  <a:pt x="1784" y="18"/>
                </a:lnTo>
                <a:lnTo>
                  <a:pt x="1904" y="62"/>
                </a:lnTo>
                <a:lnTo>
                  <a:pt x="1975" y="118"/>
                </a:lnTo>
                <a:lnTo>
                  <a:pt x="2042" y="180"/>
                </a:lnTo>
                <a:lnTo>
                  <a:pt x="2104" y="261"/>
                </a:lnTo>
                <a:lnTo>
                  <a:pt x="2130" y="342"/>
                </a:lnTo>
                <a:lnTo>
                  <a:pt x="2224" y="342"/>
                </a:lnTo>
                <a:lnTo>
                  <a:pt x="2313" y="361"/>
                </a:lnTo>
                <a:lnTo>
                  <a:pt x="2393" y="404"/>
                </a:lnTo>
                <a:lnTo>
                  <a:pt x="2446" y="466"/>
                </a:lnTo>
                <a:lnTo>
                  <a:pt x="2500" y="553"/>
                </a:lnTo>
                <a:lnTo>
                  <a:pt x="2526" y="629"/>
                </a:lnTo>
                <a:lnTo>
                  <a:pt x="2535" y="698"/>
                </a:lnTo>
                <a:lnTo>
                  <a:pt x="2588" y="710"/>
                </a:lnTo>
                <a:lnTo>
                  <a:pt x="2642" y="735"/>
                </a:lnTo>
                <a:lnTo>
                  <a:pt x="2686" y="766"/>
                </a:lnTo>
                <a:lnTo>
                  <a:pt x="2730" y="803"/>
                </a:lnTo>
                <a:lnTo>
                  <a:pt x="2761" y="835"/>
                </a:lnTo>
                <a:lnTo>
                  <a:pt x="2792" y="878"/>
                </a:lnTo>
                <a:lnTo>
                  <a:pt x="2824" y="934"/>
                </a:lnTo>
                <a:lnTo>
                  <a:pt x="2837" y="1003"/>
                </a:lnTo>
                <a:lnTo>
                  <a:pt x="2841" y="1052"/>
                </a:lnTo>
                <a:lnTo>
                  <a:pt x="2832" y="1108"/>
                </a:lnTo>
                <a:lnTo>
                  <a:pt x="2810" y="1171"/>
                </a:lnTo>
                <a:lnTo>
                  <a:pt x="2837" y="1239"/>
                </a:lnTo>
                <a:lnTo>
                  <a:pt x="2850" y="1301"/>
                </a:lnTo>
                <a:lnTo>
                  <a:pt x="2855" y="1370"/>
                </a:lnTo>
                <a:lnTo>
                  <a:pt x="2841" y="1457"/>
                </a:lnTo>
                <a:lnTo>
                  <a:pt x="2832" y="1507"/>
                </a:lnTo>
                <a:lnTo>
                  <a:pt x="2797" y="1569"/>
                </a:lnTo>
                <a:lnTo>
                  <a:pt x="2841" y="1656"/>
                </a:lnTo>
                <a:lnTo>
                  <a:pt x="2855" y="1706"/>
                </a:lnTo>
                <a:lnTo>
                  <a:pt x="2859" y="1787"/>
                </a:lnTo>
                <a:lnTo>
                  <a:pt x="2850" y="1862"/>
                </a:lnTo>
                <a:lnTo>
                  <a:pt x="2824" y="1950"/>
                </a:lnTo>
                <a:lnTo>
                  <a:pt x="2792" y="2006"/>
                </a:lnTo>
                <a:lnTo>
                  <a:pt x="2744" y="2068"/>
                </a:lnTo>
                <a:lnTo>
                  <a:pt x="2655" y="2124"/>
                </a:lnTo>
                <a:lnTo>
                  <a:pt x="2566" y="2143"/>
                </a:lnTo>
                <a:lnTo>
                  <a:pt x="2486" y="2130"/>
                </a:lnTo>
                <a:lnTo>
                  <a:pt x="2433" y="2099"/>
                </a:lnTo>
                <a:lnTo>
                  <a:pt x="2393" y="2155"/>
                </a:lnTo>
                <a:lnTo>
                  <a:pt x="2353" y="2205"/>
                </a:lnTo>
                <a:lnTo>
                  <a:pt x="2322" y="2236"/>
                </a:lnTo>
                <a:lnTo>
                  <a:pt x="2256" y="2273"/>
                </a:lnTo>
                <a:lnTo>
                  <a:pt x="2198" y="2304"/>
                </a:lnTo>
                <a:lnTo>
                  <a:pt x="2113" y="2323"/>
                </a:lnTo>
                <a:lnTo>
                  <a:pt x="2028" y="2317"/>
                </a:lnTo>
                <a:lnTo>
                  <a:pt x="1948" y="2292"/>
                </a:lnTo>
                <a:lnTo>
                  <a:pt x="1877" y="2242"/>
                </a:lnTo>
                <a:lnTo>
                  <a:pt x="1833" y="2329"/>
                </a:lnTo>
                <a:lnTo>
                  <a:pt x="1793" y="2373"/>
                </a:lnTo>
                <a:lnTo>
                  <a:pt x="1740" y="2416"/>
                </a:lnTo>
                <a:lnTo>
                  <a:pt x="1682" y="2448"/>
                </a:lnTo>
                <a:lnTo>
                  <a:pt x="1616" y="2460"/>
                </a:lnTo>
                <a:lnTo>
                  <a:pt x="1553" y="2460"/>
                </a:lnTo>
                <a:lnTo>
                  <a:pt x="1496" y="2448"/>
                </a:lnTo>
                <a:lnTo>
                  <a:pt x="1420" y="2404"/>
                </a:lnTo>
                <a:lnTo>
                  <a:pt x="1376" y="2360"/>
                </a:lnTo>
                <a:lnTo>
                  <a:pt x="1336" y="2416"/>
                </a:lnTo>
                <a:lnTo>
                  <a:pt x="1296" y="2448"/>
                </a:lnTo>
                <a:lnTo>
                  <a:pt x="1243" y="2473"/>
                </a:lnTo>
                <a:lnTo>
                  <a:pt x="1172" y="2497"/>
                </a:lnTo>
                <a:lnTo>
                  <a:pt x="1096" y="2491"/>
                </a:lnTo>
                <a:lnTo>
                  <a:pt x="1017" y="2466"/>
                </a:lnTo>
                <a:lnTo>
                  <a:pt x="954" y="2429"/>
                </a:lnTo>
                <a:lnTo>
                  <a:pt x="901" y="2360"/>
                </a:lnTo>
                <a:lnTo>
                  <a:pt x="866" y="2292"/>
                </a:lnTo>
                <a:lnTo>
                  <a:pt x="808" y="2317"/>
                </a:lnTo>
                <a:lnTo>
                  <a:pt x="737" y="2329"/>
                </a:lnTo>
                <a:lnTo>
                  <a:pt x="656" y="2329"/>
                </a:lnTo>
                <a:lnTo>
                  <a:pt x="590" y="2292"/>
                </a:lnTo>
                <a:lnTo>
                  <a:pt x="532" y="2248"/>
                </a:lnTo>
                <a:lnTo>
                  <a:pt x="488" y="2205"/>
                </a:lnTo>
                <a:lnTo>
                  <a:pt x="452" y="2136"/>
                </a:lnTo>
                <a:lnTo>
                  <a:pt x="439" y="2068"/>
                </a:lnTo>
                <a:lnTo>
                  <a:pt x="403" y="2087"/>
                </a:lnTo>
                <a:lnTo>
                  <a:pt x="337" y="2087"/>
                </a:lnTo>
                <a:lnTo>
                  <a:pt x="266" y="2068"/>
                </a:lnTo>
                <a:lnTo>
                  <a:pt x="190" y="2018"/>
                </a:lnTo>
                <a:lnTo>
                  <a:pt x="141" y="1956"/>
                </a:lnTo>
                <a:lnTo>
                  <a:pt x="97" y="1875"/>
                </a:lnTo>
                <a:lnTo>
                  <a:pt x="75" y="1787"/>
                </a:lnTo>
                <a:lnTo>
                  <a:pt x="62" y="1669"/>
                </a:lnTo>
                <a:lnTo>
                  <a:pt x="66" y="1588"/>
                </a:lnTo>
                <a:lnTo>
                  <a:pt x="88" y="1469"/>
                </a:lnTo>
                <a:lnTo>
                  <a:pt x="39" y="1401"/>
                </a:lnTo>
                <a:lnTo>
                  <a:pt x="13" y="1314"/>
                </a:lnTo>
                <a:lnTo>
                  <a:pt x="0" y="1220"/>
                </a:lnTo>
                <a:lnTo>
                  <a:pt x="0" y="1121"/>
                </a:lnTo>
                <a:lnTo>
                  <a:pt x="17" y="1015"/>
                </a:lnTo>
                <a:lnTo>
                  <a:pt x="48" y="940"/>
                </a:lnTo>
                <a:lnTo>
                  <a:pt x="106" y="853"/>
                </a:lnTo>
                <a:lnTo>
                  <a:pt x="168" y="791"/>
                </a:lnTo>
                <a:lnTo>
                  <a:pt x="235" y="729"/>
                </a:lnTo>
                <a:lnTo>
                  <a:pt x="301" y="691"/>
                </a:lnTo>
                <a:lnTo>
                  <a:pt x="372" y="666"/>
                </a:lnTo>
                <a:lnTo>
                  <a:pt x="430" y="648"/>
                </a:lnTo>
                <a:lnTo>
                  <a:pt x="452" y="5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07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82680" y="2270160"/>
            <a:ext cx="2318040" cy="1437120"/>
          </a:xfrm>
          <a:custGeom>
            <a:avLst/>
            <a:gdLst/>
            <a:ahLst/>
            <a:rect l="0" t="0" r="r" b="b"/>
            <a:pathLst>
              <a:path w="6439" h="3992">
                <a:moveTo>
                  <a:pt x="1019" y="945"/>
                </a:moveTo>
                <a:lnTo>
                  <a:pt x="1079" y="835"/>
                </a:lnTo>
                <a:lnTo>
                  <a:pt x="1159" y="726"/>
                </a:lnTo>
                <a:lnTo>
                  <a:pt x="1279" y="636"/>
                </a:lnTo>
                <a:lnTo>
                  <a:pt x="1389" y="567"/>
                </a:lnTo>
                <a:lnTo>
                  <a:pt x="1529" y="517"/>
                </a:lnTo>
                <a:lnTo>
                  <a:pt x="1699" y="467"/>
                </a:lnTo>
                <a:lnTo>
                  <a:pt x="1889" y="437"/>
                </a:lnTo>
                <a:lnTo>
                  <a:pt x="2089" y="427"/>
                </a:lnTo>
                <a:lnTo>
                  <a:pt x="2339" y="437"/>
                </a:lnTo>
                <a:lnTo>
                  <a:pt x="2549" y="447"/>
                </a:lnTo>
                <a:lnTo>
                  <a:pt x="2699" y="348"/>
                </a:lnTo>
                <a:lnTo>
                  <a:pt x="2829" y="248"/>
                </a:lnTo>
                <a:lnTo>
                  <a:pt x="3019" y="149"/>
                </a:lnTo>
                <a:lnTo>
                  <a:pt x="3240" y="69"/>
                </a:lnTo>
                <a:lnTo>
                  <a:pt x="3510" y="9"/>
                </a:lnTo>
                <a:lnTo>
                  <a:pt x="3779" y="0"/>
                </a:lnTo>
                <a:lnTo>
                  <a:pt x="4019" y="29"/>
                </a:lnTo>
                <a:lnTo>
                  <a:pt x="4289" y="99"/>
                </a:lnTo>
                <a:lnTo>
                  <a:pt x="4449" y="189"/>
                </a:lnTo>
                <a:lnTo>
                  <a:pt x="4599" y="288"/>
                </a:lnTo>
                <a:lnTo>
                  <a:pt x="4739" y="417"/>
                </a:lnTo>
                <a:lnTo>
                  <a:pt x="4799" y="547"/>
                </a:lnTo>
                <a:lnTo>
                  <a:pt x="5009" y="547"/>
                </a:lnTo>
                <a:lnTo>
                  <a:pt x="5209" y="577"/>
                </a:lnTo>
                <a:lnTo>
                  <a:pt x="5389" y="646"/>
                </a:lnTo>
                <a:lnTo>
                  <a:pt x="5509" y="746"/>
                </a:lnTo>
                <a:lnTo>
                  <a:pt x="5629" y="885"/>
                </a:lnTo>
                <a:lnTo>
                  <a:pt x="5689" y="1006"/>
                </a:lnTo>
                <a:lnTo>
                  <a:pt x="5709" y="1115"/>
                </a:lnTo>
                <a:lnTo>
                  <a:pt x="5829" y="1135"/>
                </a:lnTo>
                <a:lnTo>
                  <a:pt x="5949" y="1175"/>
                </a:lnTo>
                <a:lnTo>
                  <a:pt x="6049" y="1225"/>
                </a:lnTo>
                <a:lnTo>
                  <a:pt x="6149" y="1284"/>
                </a:lnTo>
                <a:lnTo>
                  <a:pt x="6219" y="1334"/>
                </a:lnTo>
                <a:lnTo>
                  <a:pt x="6289" y="1404"/>
                </a:lnTo>
                <a:lnTo>
                  <a:pt x="6359" y="1493"/>
                </a:lnTo>
                <a:lnTo>
                  <a:pt x="6389" y="1603"/>
                </a:lnTo>
                <a:lnTo>
                  <a:pt x="6399" y="1682"/>
                </a:lnTo>
                <a:lnTo>
                  <a:pt x="6379" y="1772"/>
                </a:lnTo>
                <a:lnTo>
                  <a:pt x="6329" y="1871"/>
                </a:lnTo>
                <a:lnTo>
                  <a:pt x="6389" y="1981"/>
                </a:lnTo>
                <a:lnTo>
                  <a:pt x="6419" y="2080"/>
                </a:lnTo>
                <a:lnTo>
                  <a:pt x="6429" y="2190"/>
                </a:lnTo>
                <a:lnTo>
                  <a:pt x="6399" y="2329"/>
                </a:lnTo>
                <a:lnTo>
                  <a:pt x="6379" y="2409"/>
                </a:lnTo>
                <a:lnTo>
                  <a:pt x="6299" y="2508"/>
                </a:lnTo>
                <a:lnTo>
                  <a:pt x="6399" y="2648"/>
                </a:lnTo>
                <a:lnTo>
                  <a:pt x="6429" y="2727"/>
                </a:lnTo>
                <a:lnTo>
                  <a:pt x="6439" y="2857"/>
                </a:lnTo>
                <a:lnTo>
                  <a:pt x="6419" y="2976"/>
                </a:lnTo>
                <a:lnTo>
                  <a:pt x="6359" y="3117"/>
                </a:lnTo>
                <a:lnTo>
                  <a:pt x="6289" y="3206"/>
                </a:lnTo>
                <a:lnTo>
                  <a:pt x="6179" y="3306"/>
                </a:lnTo>
                <a:lnTo>
                  <a:pt x="5979" y="3395"/>
                </a:lnTo>
                <a:lnTo>
                  <a:pt x="5779" y="3425"/>
                </a:lnTo>
                <a:lnTo>
                  <a:pt x="5599" y="3405"/>
                </a:lnTo>
                <a:lnTo>
                  <a:pt x="5479" y="3355"/>
                </a:lnTo>
                <a:lnTo>
                  <a:pt x="5389" y="3445"/>
                </a:lnTo>
                <a:lnTo>
                  <a:pt x="5299" y="3525"/>
                </a:lnTo>
                <a:lnTo>
                  <a:pt x="5229" y="3574"/>
                </a:lnTo>
                <a:lnTo>
                  <a:pt x="5079" y="3634"/>
                </a:lnTo>
                <a:lnTo>
                  <a:pt x="4949" y="3684"/>
                </a:lnTo>
                <a:lnTo>
                  <a:pt x="4759" y="3714"/>
                </a:lnTo>
                <a:lnTo>
                  <a:pt x="4569" y="3704"/>
                </a:lnTo>
                <a:lnTo>
                  <a:pt x="4389" y="3664"/>
                </a:lnTo>
                <a:lnTo>
                  <a:pt x="4229" y="3584"/>
                </a:lnTo>
                <a:lnTo>
                  <a:pt x="4129" y="3724"/>
                </a:lnTo>
                <a:lnTo>
                  <a:pt x="4039" y="3793"/>
                </a:lnTo>
                <a:lnTo>
                  <a:pt x="3919" y="3863"/>
                </a:lnTo>
                <a:lnTo>
                  <a:pt x="3789" y="3913"/>
                </a:lnTo>
                <a:lnTo>
                  <a:pt x="3639" y="3933"/>
                </a:lnTo>
                <a:lnTo>
                  <a:pt x="3500" y="3933"/>
                </a:lnTo>
                <a:lnTo>
                  <a:pt x="3370" y="3913"/>
                </a:lnTo>
                <a:lnTo>
                  <a:pt x="3199" y="3843"/>
                </a:lnTo>
                <a:lnTo>
                  <a:pt x="3099" y="3773"/>
                </a:lnTo>
                <a:lnTo>
                  <a:pt x="3009" y="3863"/>
                </a:lnTo>
                <a:lnTo>
                  <a:pt x="2919" y="3913"/>
                </a:lnTo>
                <a:lnTo>
                  <a:pt x="2799" y="3952"/>
                </a:lnTo>
                <a:lnTo>
                  <a:pt x="2639" y="3992"/>
                </a:lnTo>
                <a:lnTo>
                  <a:pt x="2469" y="3982"/>
                </a:lnTo>
                <a:lnTo>
                  <a:pt x="2289" y="3943"/>
                </a:lnTo>
                <a:lnTo>
                  <a:pt x="2149" y="3883"/>
                </a:lnTo>
                <a:lnTo>
                  <a:pt x="2029" y="3773"/>
                </a:lnTo>
                <a:lnTo>
                  <a:pt x="1949" y="3664"/>
                </a:lnTo>
                <a:lnTo>
                  <a:pt x="1819" y="3704"/>
                </a:lnTo>
                <a:lnTo>
                  <a:pt x="1659" y="3724"/>
                </a:lnTo>
                <a:lnTo>
                  <a:pt x="1479" y="3724"/>
                </a:lnTo>
                <a:lnTo>
                  <a:pt x="1329" y="3664"/>
                </a:lnTo>
                <a:lnTo>
                  <a:pt x="1199" y="3594"/>
                </a:lnTo>
                <a:lnTo>
                  <a:pt x="1099" y="3525"/>
                </a:lnTo>
                <a:lnTo>
                  <a:pt x="1019" y="3415"/>
                </a:lnTo>
                <a:lnTo>
                  <a:pt x="989" y="3306"/>
                </a:lnTo>
                <a:lnTo>
                  <a:pt x="909" y="3335"/>
                </a:lnTo>
                <a:lnTo>
                  <a:pt x="759" y="3335"/>
                </a:lnTo>
                <a:lnTo>
                  <a:pt x="599" y="3306"/>
                </a:lnTo>
                <a:lnTo>
                  <a:pt x="429" y="3226"/>
                </a:lnTo>
                <a:lnTo>
                  <a:pt x="319" y="3126"/>
                </a:lnTo>
                <a:lnTo>
                  <a:pt x="219" y="2997"/>
                </a:lnTo>
                <a:lnTo>
                  <a:pt x="169" y="2857"/>
                </a:lnTo>
                <a:lnTo>
                  <a:pt x="139" y="2668"/>
                </a:lnTo>
                <a:lnTo>
                  <a:pt x="149" y="2538"/>
                </a:lnTo>
                <a:lnTo>
                  <a:pt x="199" y="2349"/>
                </a:lnTo>
                <a:lnTo>
                  <a:pt x="89" y="2240"/>
                </a:lnTo>
                <a:lnTo>
                  <a:pt x="29" y="2100"/>
                </a:lnTo>
                <a:lnTo>
                  <a:pt x="0" y="1951"/>
                </a:lnTo>
                <a:lnTo>
                  <a:pt x="0" y="1792"/>
                </a:lnTo>
                <a:lnTo>
                  <a:pt x="39" y="1623"/>
                </a:lnTo>
                <a:lnTo>
                  <a:pt x="109" y="1503"/>
                </a:lnTo>
                <a:lnTo>
                  <a:pt x="239" y="1364"/>
                </a:lnTo>
                <a:lnTo>
                  <a:pt x="379" y="1264"/>
                </a:lnTo>
                <a:lnTo>
                  <a:pt x="529" y="1165"/>
                </a:lnTo>
                <a:lnTo>
                  <a:pt x="679" y="1105"/>
                </a:lnTo>
                <a:lnTo>
                  <a:pt x="839" y="1065"/>
                </a:lnTo>
                <a:lnTo>
                  <a:pt x="969" y="1036"/>
                </a:lnTo>
                <a:lnTo>
                  <a:pt x="1019" y="94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07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02200" y="3108240"/>
            <a:ext cx="2318040" cy="1437120"/>
          </a:xfrm>
          <a:custGeom>
            <a:avLst/>
            <a:gdLst/>
            <a:ahLst/>
            <a:rect l="0" t="0" r="r" b="b"/>
            <a:pathLst>
              <a:path w="6439" h="3992">
                <a:moveTo>
                  <a:pt x="1019" y="945"/>
                </a:moveTo>
                <a:lnTo>
                  <a:pt x="1079" y="835"/>
                </a:lnTo>
                <a:lnTo>
                  <a:pt x="1159" y="726"/>
                </a:lnTo>
                <a:lnTo>
                  <a:pt x="1279" y="636"/>
                </a:lnTo>
                <a:lnTo>
                  <a:pt x="1389" y="567"/>
                </a:lnTo>
                <a:lnTo>
                  <a:pt x="1529" y="517"/>
                </a:lnTo>
                <a:lnTo>
                  <a:pt x="1699" y="467"/>
                </a:lnTo>
                <a:lnTo>
                  <a:pt x="1889" y="437"/>
                </a:lnTo>
                <a:lnTo>
                  <a:pt x="2089" y="427"/>
                </a:lnTo>
                <a:lnTo>
                  <a:pt x="2339" y="437"/>
                </a:lnTo>
                <a:lnTo>
                  <a:pt x="2549" y="447"/>
                </a:lnTo>
                <a:lnTo>
                  <a:pt x="2699" y="348"/>
                </a:lnTo>
                <a:lnTo>
                  <a:pt x="2829" y="248"/>
                </a:lnTo>
                <a:lnTo>
                  <a:pt x="3019" y="149"/>
                </a:lnTo>
                <a:lnTo>
                  <a:pt x="3240" y="69"/>
                </a:lnTo>
                <a:lnTo>
                  <a:pt x="3510" y="9"/>
                </a:lnTo>
                <a:lnTo>
                  <a:pt x="3779" y="0"/>
                </a:lnTo>
                <a:lnTo>
                  <a:pt x="4019" y="29"/>
                </a:lnTo>
                <a:lnTo>
                  <a:pt x="4289" y="99"/>
                </a:lnTo>
                <a:lnTo>
                  <a:pt x="4449" y="189"/>
                </a:lnTo>
                <a:lnTo>
                  <a:pt x="4599" y="288"/>
                </a:lnTo>
                <a:lnTo>
                  <a:pt x="4739" y="417"/>
                </a:lnTo>
                <a:lnTo>
                  <a:pt x="4799" y="547"/>
                </a:lnTo>
                <a:lnTo>
                  <a:pt x="5009" y="547"/>
                </a:lnTo>
                <a:lnTo>
                  <a:pt x="5209" y="577"/>
                </a:lnTo>
                <a:lnTo>
                  <a:pt x="5389" y="646"/>
                </a:lnTo>
                <a:lnTo>
                  <a:pt x="5509" y="746"/>
                </a:lnTo>
                <a:lnTo>
                  <a:pt x="5629" y="885"/>
                </a:lnTo>
                <a:lnTo>
                  <a:pt x="5689" y="1006"/>
                </a:lnTo>
                <a:lnTo>
                  <a:pt x="5709" y="1115"/>
                </a:lnTo>
                <a:lnTo>
                  <a:pt x="5829" y="1135"/>
                </a:lnTo>
                <a:lnTo>
                  <a:pt x="5949" y="1175"/>
                </a:lnTo>
                <a:lnTo>
                  <a:pt x="6049" y="1225"/>
                </a:lnTo>
                <a:lnTo>
                  <a:pt x="6149" y="1284"/>
                </a:lnTo>
                <a:lnTo>
                  <a:pt x="6219" y="1334"/>
                </a:lnTo>
                <a:lnTo>
                  <a:pt x="6289" y="1404"/>
                </a:lnTo>
                <a:lnTo>
                  <a:pt x="6359" y="1493"/>
                </a:lnTo>
                <a:lnTo>
                  <a:pt x="6389" y="1603"/>
                </a:lnTo>
                <a:lnTo>
                  <a:pt x="6399" y="1682"/>
                </a:lnTo>
                <a:lnTo>
                  <a:pt x="6379" y="1772"/>
                </a:lnTo>
                <a:lnTo>
                  <a:pt x="6329" y="1871"/>
                </a:lnTo>
                <a:lnTo>
                  <a:pt x="6389" y="1981"/>
                </a:lnTo>
                <a:lnTo>
                  <a:pt x="6419" y="2080"/>
                </a:lnTo>
                <a:lnTo>
                  <a:pt x="6429" y="2190"/>
                </a:lnTo>
                <a:lnTo>
                  <a:pt x="6399" y="2329"/>
                </a:lnTo>
                <a:lnTo>
                  <a:pt x="6379" y="2409"/>
                </a:lnTo>
                <a:lnTo>
                  <a:pt x="6299" y="2508"/>
                </a:lnTo>
                <a:lnTo>
                  <a:pt x="6399" y="2648"/>
                </a:lnTo>
                <a:lnTo>
                  <a:pt x="6429" y="2727"/>
                </a:lnTo>
                <a:lnTo>
                  <a:pt x="6439" y="2857"/>
                </a:lnTo>
                <a:lnTo>
                  <a:pt x="6419" y="2976"/>
                </a:lnTo>
                <a:lnTo>
                  <a:pt x="6359" y="3117"/>
                </a:lnTo>
                <a:lnTo>
                  <a:pt x="6289" y="3206"/>
                </a:lnTo>
                <a:lnTo>
                  <a:pt x="6179" y="3306"/>
                </a:lnTo>
                <a:lnTo>
                  <a:pt x="5979" y="3395"/>
                </a:lnTo>
                <a:lnTo>
                  <a:pt x="5779" y="3425"/>
                </a:lnTo>
                <a:lnTo>
                  <a:pt x="5599" y="3405"/>
                </a:lnTo>
                <a:lnTo>
                  <a:pt x="5479" y="3355"/>
                </a:lnTo>
                <a:lnTo>
                  <a:pt x="5389" y="3445"/>
                </a:lnTo>
                <a:lnTo>
                  <a:pt x="5299" y="3525"/>
                </a:lnTo>
                <a:lnTo>
                  <a:pt x="5229" y="3574"/>
                </a:lnTo>
                <a:lnTo>
                  <a:pt x="5079" y="3634"/>
                </a:lnTo>
                <a:lnTo>
                  <a:pt x="4949" y="3684"/>
                </a:lnTo>
                <a:lnTo>
                  <a:pt x="4759" y="3714"/>
                </a:lnTo>
                <a:lnTo>
                  <a:pt x="4569" y="3704"/>
                </a:lnTo>
                <a:lnTo>
                  <a:pt x="4389" y="3664"/>
                </a:lnTo>
                <a:lnTo>
                  <a:pt x="4229" y="3584"/>
                </a:lnTo>
                <a:lnTo>
                  <a:pt x="4129" y="3724"/>
                </a:lnTo>
                <a:lnTo>
                  <a:pt x="4039" y="3793"/>
                </a:lnTo>
                <a:lnTo>
                  <a:pt x="3919" y="3863"/>
                </a:lnTo>
                <a:lnTo>
                  <a:pt x="3789" y="3913"/>
                </a:lnTo>
                <a:lnTo>
                  <a:pt x="3639" y="3933"/>
                </a:lnTo>
                <a:lnTo>
                  <a:pt x="3500" y="3933"/>
                </a:lnTo>
                <a:lnTo>
                  <a:pt x="3370" y="3913"/>
                </a:lnTo>
                <a:lnTo>
                  <a:pt x="3199" y="3843"/>
                </a:lnTo>
                <a:lnTo>
                  <a:pt x="3099" y="3773"/>
                </a:lnTo>
                <a:lnTo>
                  <a:pt x="3009" y="3863"/>
                </a:lnTo>
                <a:lnTo>
                  <a:pt x="2919" y="3913"/>
                </a:lnTo>
                <a:lnTo>
                  <a:pt x="2799" y="3952"/>
                </a:lnTo>
                <a:lnTo>
                  <a:pt x="2639" y="3992"/>
                </a:lnTo>
                <a:lnTo>
                  <a:pt x="2469" y="3982"/>
                </a:lnTo>
                <a:lnTo>
                  <a:pt x="2289" y="3943"/>
                </a:lnTo>
                <a:lnTo>
                  <a:pt x="2149" y="3883"/>
                </a:lnTo>
                <a:lnTo>
                  <a:pt x="2029" y="3773"/>
                </a:lnTo>
                <a:lnTo>
                  <a:pt x="1949" y="3664"/>
                </a:lnTo>
                <a:lnTo>
                  <a:pt x="1819" y="3704"/>
                </a:lnTo>
                <a:lnTo>
                  <a:pt x="1659" y="3724"/>
                </a:lnTo>
                <a:lnTo>
                  <a:pt x="1479" y="3724"/>
                </a:lnTo>
                <a:lnTo>
                  <a:pt x="1329" y="3664"/>
                </a:lnTo>
                <a:lnTo>
                  <a:pt x="1199" y="3594"/>
                </a:lnTo>
                <a:lnTo>
                  <a:pt x="1099" y="3525"/>
                </a:lnTo>
                <a:lnTo>
                  <a:pt x="1019" y="3415"/>
                </a:lnTo>
                <a:lnTo>
                  <a:pt x="989" y="3306"/>
                </a:lnTo>
                <a:lnTo>
                  <a:pt x="909" y="3335"/>
                </a:lnTo>
                <a:lnTo>
                  <a:pt x="759" y="3335"/>
                </a:lnTo>
                <a:lnTo>
                  <a:pt x="599" y="3306"/>
                </a:lnTo>
                <a:lnTo>
                  <a:pt x="429" y="3226"/>
                </a:lnTo>
                <a:lnTo>
                  <a:pt x="319" y="3126"/>
                </a:lnTo>
                <a:lnTo>
                  <a:pt x="219" y="2997"/>
                </a:lnTo>
                <a:lnTo>
                  <a:pt x="169" y="2857"/>
                </a:lnTo>
                <a:lnTo>
                  <a:pt x="139" y="2668"/>
                </a:lnTo>
                <a:lnTo>
                  <a:pt x="149" y="2538"/>
                </a:lnTo>
                <a:lnTo>
                  <a:pt x="199" y="2349"/>
                </a:lnTo>
                <a:lnTo>
                  <a:pt x="89" y="2240"/>
                </a:lnTo>
                <a:lnTo>
                  <a:pt x="29" y="2100"/>
                </a:lnTo>
                <a:lnTo>
                  <a:pt x="0" y="1951"/>
                </a:lnTo>
                <a:lnTo>
                  <a:pt x="0" y="1792"/>
                </a:lnTo>
                <a:lnTo>
                  <a:pt x="39" y="1623"/>
                </a:lnTo>
                <a:lnTo>
                  <a:pt x="109" y="1503"/>
                </a:lnTo>
                <a:lnTo>
                  <a:pt x="239" y="1364"/>
                </a:lnTo>
                <a:lnTo>
                  <a:pt x="379" y="1264"/>
                </a:lnTo>
                <a:lnTo>
                  <a:pt x="529" y="1165"/>
                </a:lnTo>
                <a:lnTo>
                  <a:pt x="679" y="1105"/>
                </a:lnTo>
                <a:lnTo>
                  <a:pt x="839" y="1065"/>
                </a:lnTo>
                <a:lnTo>
                  <a:pt x="969" y="1036"/>
                </a:lnTo>
                <a:lnTo>
                  <a:pt x="1019" y="94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07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3320" y="3681360"/>
            <a:ext cx="1029240" cy="898920"/>
          </a:xfrm>
          <a:custGeom>
            <a:avLst/>
            <a:gdLst/>
            <a:ahLst/>
            <a:rect l="0" t="0" r="r" b="b"/>
            <a:pathLst>
              <a:path w="2859" h="2497">
                <a:moveTo>
                  <a:pt x="452" y="591"/>
                </a:moveTo>
                <a:lnTo>
                  <a:pt x="479" y="522"/>
                </a:lnTo>
                <a:lnTo>
                  <a:pt x="514" y="454"/>
                </a:lnTo>
                <a:lnTo>
                  <a:pt x="567" y="398"/>
                </a:lnTo>
                <a:lnTo>
                  <a:pt x="616" y="354"/>
                </a:lnTo>
                <a:lnTo>
                  <a:pt x="678" y="323"/>
                </a:lnTo>
                <a:lnTo>
                  <a:pt x="755" y="292"/>
                </a:lnTo>
                <a:lnTo>
                  <a:pt x="839" y="273"/>
                </a:lnTo>
                <a:lnTo>
                  <a:pt x="928" y="267"/>
                </a:lnTo>
                <a:lnTo>
                  <a:pt x="1039" y="273"/>
                </a:lnTo>
                <a:lnTo>
                  <a:pt x="1132" y="280"/>
                </a:lnTo>
                <a:lnTo>
                  <a:pt x="1199" y="217"/>
                </a:lnTo>
                <a:lnTo>
                  <a:pt x="1256" y="155"/>
                </a:lnTo>
                <a:lnTo>
                  <a:pt x="1341" y="93"/>
                </a:lnTo>
                <a:lnTo>
                  <a:pt x="1438" y="43"/>
                </a:lnTo>
                <a:lnTo>
                  <a:pt x="1558" y="6"/>
                </a:lnTo>
                <a:lnTo>
                  <a:pt x="1678" y="0"/>
                </a:lnTo>
                <a:lnTo>
                  <a:pt x="1784" y="18"/>
                </a:lnTo>
                <a:lnTo>
                  <a:pt x="1904" y="62"/>
                </a:lnTo>
                <a:lnTo>
                  <a:pt x="1975" y="118"/>
                </a:lnTo>
                <a:lnTo>
                  <a:pt x="2042" y="180"/>
                </a:lnTo>
                <a:lnTo>
                  <a:pt x="2104" y="261"/>
                </a:lnTo>
                <a:lnTo>
                  <a:pt x="2130" y="342"/>
                </a:lnTo>
                <a:lnTo>
                  <a:pt x="2224" y="342"/>
                </a:lnTo>
                <a:lnTo>
                  <a:pt x="2313" y="361"/>
                </a:lnTo>
                <a:lnTo>
                  <a:pt x="2393" y="404"/>
                </a:lnTo>
                <a:lnTo>
                  <a:pt x="2446" y="466"/>
                </a:lnTo>
                <a:lnTo>
                  <a:pt x="2500" y="553"/>
                </a:lnTo>
                <a:lnTo>
                  <a:pt x="2526" y="629"/>
                </a:lnTo>
                <a:lnTo>
                  <a:pt x="2535" y="698"/>
                </a:lnTo>
                <a:lnTo>
                  <a:pt x="2588" y="710"/>
                </a:lnTo>
                <a:lnTo>
                  <a:pt x="2642" y="735"/>
                </a:lnTo>
                <a:lnTo>
                  <a:pt x="2686" y="766"/>
                </a:lnTo>
                <a:lnTo>
                  <a:pt x="2730" y="803"/>
                </a:lnTo>
                <a:lnTo>
                  <a:pt x="2761" y="835"/>
                </a:lnTo>
                <a:lnTo>
                  <a:pt x="2792" y="878"/>
                </a:lnTo>
                <a:lnTo>
                  <a:pt x="2824" y="934"/>
                </a:lnTo>
                <a:lnTo>
                  <a:pt x="2837" y="1003"/>
                </a:lnTo>
                <a:lnTo>
                  <a:pt x="2841" y="1052"/>
                </a:lnTo>
                <a:lnTo>
                  <a:pt x="2832" y="1108"/>
                </a:lnTo>
                <a:lnTo>
                  <a:pt x="2810" y="1171"/>
                </a:lnTo>
                <a:lnTo>
                  <a:pt x="2837" y="1239"/>
                </a:lnTo>
                <a:lnTo>
                  <a:pt x="2850" y="1301"/>
                </a:lnTo>
                <a:lnTo>
                  <a:pt x="2855" y="1370"/>
                </a:lnTo>
                <a:lnTo>
                  <a:pt x="2841" y="1457"/>
                </a:lnTo>
                <a:lnTo>
                  <a:pt x="2832" y="1507"/>
                </a:lnTo>
                <a:lnTo>
                  <a:pt x="2797" y="1569"/>
                </a:lnTo>
                <a:lnTo>
                  <a:pt x="2841" y="1656"/>
                </a:lnTo>
                <a:lnTo>
                  <a:pt x="2855" y="1706"/>
                </a:lnTo>
                <a:lnTo>
                  <a:pt x="2859" y="1787"/>
                </a:lnTo>
                <a:lnTo>
                  <a:pt x="2850" y="1862"/>
                </a:lnTo>
                <a:lnTo>
                  <a:pt x="2824" y="1950"/>
                </a:lnTo>
                <a:lnTo>
                  <a:pt x="2792" y="2006"/>
                </a:lnTo>
                <a:lnTo>
                  <a:pt x="2744" y="2068"/>
                </a:lnTo>
                <a:lnTo>
                  <a:pt x="2655" y="2124"/>
                </a:lnTo>
                <a:lnTo>
                  <a:pt x="2566" y="2143"/>
                </a:lnTo>
                <a:lnTo>
                  <a:pt x="2486" y="2130"/>
                </a:lnTo>
                <a:lnTo>
                  <a:pt x="2433" y="2099"/>
                </a:lnTo>
                <a:lnTo>
                  <a:pt x="2393" y="2155"/>
                </a:lnTo>
                <a:lnTo>
                  <a:pt x="2353" y="2205"/>
                </a:lnTo>
                <a:lnTo>
                  <a:pt x="2322" y="2236"/>
                </a:lnTo>
                <a:lnTo>
                  <a:pt x="2256" y="2273"/>
                </a:lnTo>
                <a:lnTo>
                  <a:pt x="2198" y="2304"/>
                </a:lnTo>
                <a:lnTo>
                  <a:pt x="2113" y="2323"/>
                </a:lnTo>
                <a:lnTo>
                  <a:pt x="2028" y="2317"/>
                </a:lnTo>
                <a:lnTo>
                  <a:pt x="1948" y="2292"/>
                </a:lnTo>
                <a:lnTo>
                  <a:pt x="1877" y="2242"/>
                </a:lnTo>
                <a:lnTo>
                  <a:pt x="1833" y="2329"/>
                </a:lnTo>
                <a:lnTo>
                  <a:pt x="1793" y="2373"/>
                </a:lnTo>
                <a:lnTo>
                  <a:pt x="1740" y="2416"/>
                </a:lnTo>
                <a:lnTo>
                  <a:pt x="1682" y="2448"/>
                </a:lnTo>
                <a:lnTo>
                  <a:pt x="1616" y="2460"/>
                </a:lnTo>
                <a:lnTo>
                  <a:pt x="1553" y="2460"/>
                </a:lnTo>
                <a:lnTo>
                  <a:pt x="1496" y="2448"/>
                </a:lnTo>
                <a:lnTo>
                  <a:pt x="1420" y="2404"/>
                </a:lnTo>
                <a:lnTo>
                  <a:pt x="1376" y="2360"/>
                </a:lnTo>
                <a:lnTo>
                  <a:pt x="1336" y="2416"/>
                </a:lnTo>
                <a:lnTo>
                  <a:pt x="1296" y="2448"/>
                </a:lnTo>
                <a:lnTo>
                  <a:pt x="1243" y="2473"/>
                </a:lnTo>
                <a:lnTo>
                  <a:pt x="1172" y="2497"/>
                </a:lnTo>
                <a:lnTo>
                  <a:pt x="1096" y="2491"/>
                </a:lnTo>
                <a:lnTo>
                  <a:pt x="1017" y="2466"/>
                </a:lnTo>
                <a:lnTo>
                  <a:pt x="954" y="2429"/>
                </a:lnTo>
                <a:lnTo>
                  <a:pt x="901" y="2360"/>
                </a:lnTo>
                <a:lnTo>
                  <a:pt x="866" y="2292"/>
                </a:lnTo>
                <a:lnTo>
                  <a:pt x="808" y="2317"/>
                </a:lnTo>
                <a:lnTo>
                  <a:pt x="737" y="2329"/>
                </a:lnTo>
                <a:lnTo>
                  <a:pt x="656" y="2329"/>
                </a:lnTo>
                <a:lnTo>
                  <a:pt x="590" y="2292"/>
                </a:lnTo>
                <a:lnTo>
                  <a:pt x="532" y="2248"/>
                </a:lnTo>
                <a:lnTo>
                  <a:pt x="488" y="2205"/>
                </a:lnTo>
                <a:lnTo>
                  <a:pt x="452" y="2136"/>
                </a:lnTo>
                <a:lnTo>
                  <a:pt x="439" y="2068"/>
                </a:lnTo>
                <a:lnTo>
                  <a:pt x="403" y="2087"/>
                </a:lnTo>
                <a:lnTo>
                  <a:pt x="337" y="2087"/>
                </a:lnTo>
                <a:lnTo>
                  <a:pt x="266" y="2068"/>
                </a:lnTo>
                <a:lnTo>
                  <a:pt x="190" y="2018"/>
                </a:lnTo>
                <a:lnTo>
                  <a:pt x="141" y="1956"/>
                </a:lnTo>
                <a:lnTo>
                  <a:pt x="97" y="1875"/>
                </a:lnTo>
                <a:lnTo>
                  <a:pt x="75" y="1787"/>
                </a:lnTo>
                <a:lnTo>
                  <a:pt x="62" y="1669"/>
                </a:lnTo>
                <a:lnTo>
                  <a:pt x="66" y="1588"/>
                </a:lnTo>
                <a:lnTo>
                  <a:pt x="88" y="1469"/>
                </a:lnTo>
                <a:lnTo>
                  <a:pt x="39" y="1401"/>
                </a:lnTo>
                <a:lnTo>
                  <a:pt x="13" y="1314"/>
                </a:lnTo>
                <a:lnTo>
                  <a:pt x="0" y="1220"/>
                </a:lnTo>
                <a:lnTo>
                  <a:pt x="0" y="1121"/>
                </a:lnTo>
                <a:lnTo>
                  <a:pt x="17" y="1015"/>
                </a:lnTo>
                <a:lnTo>
                  <a:pt x="48" y="940"/>
                </a:lnTo>
                <a:lnTo>
                  <a:pt x="106" y="853"/>
                </a:lnTo>
                <a:lnTo>
                  <a:pt x="168" y="791"/>
                </a:lnTo>
                <a:lnTo>
                  <a:pt x="235" y="729"/>
                </a:lnTo>
                <a:lnTo>
                  <a:pt x="301" y="691"/>
                </a:lnTo>
                <a:lnTo>
                  <a:pt x="372" y="666"/>
                </a:lnTo>
                <a:lnTo>
                  <a:pt x="430" y="648"/>
                </a:lnTo>
                <a:lnTo>
                  <a:pt x="452" y="5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07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955960" y="28036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-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699160" y="35654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-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74880" y="39466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061480" y="25750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927760" y="4570560"/>
            <a:ext cx="725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NN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32280" y="3732120"/>
            <a:ext cx="725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NN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648320" y="3429000"/>
            <a:ext cx="152280" cy="380880"/>
          </a:xfrm>
          <a:prstGeom prst="line">
            <a:avLst/>
          </a:prstGeom>
          <a:ln w="38160">
            <a:solidFill>
              <a:srgbClr val="6a00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6a00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124080"/>
            <a:ext cx="0" cy="457200"/>
          </a:xfrm>
          <a:prstGeom prst="line">
            <a:avLst/>
          </a:prstGeom>
          <a:ln w="38160">
            <a:solidFill>
              <a:srgbClr val="6a00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279440" y="2741760"/>
            <a:ext cx="8510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451640" y="3732120"/>
            <a:ext cx="8510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0560" y="2970360"/>
            <a:ext cx="669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N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880" y="5181480"/>
            <a:ext cx="8305920" cy="11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rvice Providers that run PNNI use PNNI as net to net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blems with thi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98520" y="1379520"/>
            <a:ext cx="82216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NNI is a link state protocol that requires the exchange of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work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work s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ding sate and topology information would require carrier to aggregate nodes into higher levels in a hierarch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ading to problems with QoS ag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licit policy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85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a8001c"/>
                </a:solidFill>
                <a:latin typeface="Arial"/>
                <a:ea typeface="Arial"/>
              </a:rPr>
              <a:t>Service Provider network do not want to provide their competitors with network state, network topology and policy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727280" y="233280"/>
            <a:ext cx="734076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000" spc="-1" strike="noStrike">
                <a:solidFill>
                  <a:srgbClr val="006079"/>
                </a:solidFill>
                <a:latin typeface="Impact"/>
                <a:ea typeface="Impact"/>
              </a:rPr>
              <a:t>PNNI as a AINI - Not a good id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727280" y="233280"/>
            <a:ext cx="734076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000" spc="-1" strike="noStrike">
                <a:solidFill>
                  <a:srgbClr val="006079"/>
                </a:solidFill>
                <a:latin typeface="Impact"/>
                <a:ea typeface="Impact"/>
              </a:rPr>
              <a:t>What can be done today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622520" y="1171440"/>
            <a:ext cx="5877360" cy="4137120"/>
            <a:chOff x="1622520" y="1171440"/>
            <a:chExt cx="5877360" cy="4137120"/>
          </a:xfrm>
        </p:grpSpPr>
        <p:sp>
          <p:nvSpPr>
            <p:cNvPr id="132" name=""/>
            <p:cNvSpPr/>
            <p:nvPr/>
          </p:nvSpPr>
          <p:spPr>
            <a:xfrm flipV="1">
              <a:off x="2741760" y="1854360"/>
              <a:ext cx="1523880" cy="1098360"/>
            </a:xfrm>
            <a:prstGeom prst="line">
              <a:avLst/>
            </a:prstGeom>
            <a:ln w="38160">
              <a:solidFill>
                <a:srgbClr val="a800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00440" y="3622680"/>
              <a:ext cx="1036440" cy="853920"/>
            </a:xfrm>
            <a:prstGeom prst="line">
              <a:avLst/>
            </a:prstGeom>
            <a:ln w="38160">
              <a:solidFill>
                <a:srgbClr val="a800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5240160" y="2038320"/>
              <a:ext cx="974880" cy="854280"/>
            </a:xfrm>
            <a:prstGeom prst="line">
              <a:avLst/>
            </a:prstGeom>
            <a:ln w="38160">
              <a:solidFill>
                <a:srgbClr val="a800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93960" y="1171440"/>
              <a:ext cx="1854720" cy="1149840"/>
            </a:xfrm>
            <a:custGeom>
              <a:avLst/>
              <a:gdLst/>
              <a:ahLst/>
              <a:rect l="0" t="0" r="r" b="b"/>
              <a:pathLst>
                <a:path w="5152" h="3194">
                  <a:moveTo>
                    <a:pt x="815" y="756"/>
                  </a:moveTo>
                  <a:lnTo>
                    <a:pt x="863" y="668"/>
                  </a:lnTo>
                  <a:lnTo>
                    <a:pt x="927" y="581"/>
                  </a:lnTo>
                  <a:lnTo>
                    <a:pt x="1023" y="509"/>
                  </a:lnTo>
                  <a:lnTo>
                    <a:pt x="1111" y="453"/>
                  </a:lnTo>
                  <a:lnTo>
                    <a:pt x="1223" y="414"/>
                  </a:lnTo>
                  <a:lnTo>
                    <a:pt x="1360" y="374"/>
                  </a:lnTo>
                  <a:lnTo>
                    <a:pt x="1512" y="350"/>
                  </a:lnTo>
                  <a:lnTo>
                    <a:pt x="1672" y="342"/>
                  </a:lnTo>
                  <a:lnTo>
                    <a:pt x="1872" y="350"/>
                  </a:lnTo>
                  <a:lnTo>
                    <a:pt x="2040" y="358"/>
                  </a:lnTo>
                  <a:lnTo>
                    <a:pt x="2160" y="278"/>
                  </a:lnTo>
                  <a:lnTo>
                    <a:pt x="2264" y="199"/>
                  </a:lnTo>
                  <a:lnTo>
                    <a:pt x="2416" y="119"/>
                  </a:lnTo>
                  <a:lnTo>
                    <a:pt x="2592" y="55"/>
                  </a:lnTo>
                  <a:lnTo>
                    <a:pt x="2808" y="7"/>
                  </a:lnTo>
                  <a:lnTo>
                    <a:pt x="3024" y="0"/>
                  </a:lnTo>
                  <a:lnTo>
                    <a:pt x="3216" y="23"/>
                  </a:lnTo>
                  <a:lnTo>
                    <a:pt x="3432" y="79"/>
                  </a:lnTo>
                  <a:lnTo>
                    <a:pt x="3560" y="151"/>
                  </a:lnTo>
                  <a:lnTo>
                    <a:pt x="3679" y="230"/>
                  </a:lnTo>
                  <a:lnTo>
                    <a:pt x="3791" y="334"/>
                  </a:lnTo>
                  <a:lnTo>
                    <a:pt x="3839" y="437"/>
                  </a:lnTo>
                  <a:lnTo>
                    <a:pt x="4008" y="437"/>
                  </a:lnTo>
                  <a:lnTo>
                    <a:pt x="4168" y="461"/>
                  </a:lnTo>
                  <a:lnTo>
                    <a:pt x="4312" y="517"/>
                  </a:lnTo>
                  <a:lnTo>
                    <a:pt x="4408" y="597"/>
                  </a:lnTo>
                  <a:lnTo>
                    <a:pt x="4504" y="708"/>
                  </a:lnTo>
                  <a:lnTo>
                    <a:pt x="4552" y="805"/>
                  </a:lnTo>
                  <a:lnTo>
                    <a:pt x="4568" y="892"/>
                  </a:lnTo>
                  <a:lnTo>
                    <a:pt x="4664" y="908"/>
                  </a:lnTo>
                  <a:lnTo>
                    <a:pt x="4760" y="940"/>
                  </a:lnTo>
                  <a:lnTo>
                    <a:pt x="4840" y="980"/>
                  </a:lnTo>
                  <a:lnTo>
                    <a:pt x="4920" y="1028"/>
                  </a:lnTo>
                  <a:lnTo>
                    <a:pt x="4976" y="1067"/>
                  </a:lnTo>
                  <a:lnTo>
                    <a:pt x="5032" y="1123"/>
                  </a:lnTo>
                  <a:lnTo>
                    <a:pt x="5088" y="1195"/>
                  </a:lnTo>
                  <a:lnTo>
                    <a:pt x="5112" y="1282"/>
                  </a:lnTo>
                  <a:lnTo>
                    <a:pt x="5120" y="1346"/>
                  </a:lnTo>
                  <a:lnTo>
                    <a:pt x="5104" y="1418"/>
                  </a:lnTo>
                  <a:lnTo>
                    <a:pt x="5064" y="1497"/>
                  </a:lnTo>
                  <a:lnTo>
                    <a:pt x="5112" y="1585"/>
                  </a:lnTo>
                  <a:lnTo>
                    <a:pt x="5136" y="1664"/>
                  </a:lnTo>
                  <a:lnTo>
                    <a:pt x="5144" y="1752"/>
                  </a:lnTo>
                  <a:lnTo>
                    <a:pt x="5120" y="1864"/>
                  </a:lnTo>
                  <a:lnTo>
                    <a:pt x="5104" y="1927"/>
                  </a:lnTo>
                  <a:lnTo>
                    <a:pt x="5040" y="2007"/>
                  </a:lnTo>
                  <a:lnTo>
                    <a:pt x="5120" y="2118"/>
                  </a:lnTo>
                  <a:lnTo>
                    <a:pt x="5144" y="2182"/>
                  </a:lnTo>
                  <a:lnTo>
                    <a:pt x="5152" y="2286"/>
                  </a:lnTo>
                  <a:lnTo>
                    <a:pt x="5136" y="2381"/>
                  </a:lnTo>
                  <a:lnTo>
                    <a:pt x="5088" y="2494"/>
                  </a:lnTo>
                  <a:lnTo>
                    <a:pt x="5032" y="2565"/>
                  </a:lnTo>
                  <a:lnTo>
                    <a:pt x="4944" y="2645"/>
                  </a:lnTo>
                  <a:lnTo>
                    <a:pt x="4784" y="2716"/>
                  </a:lnTo>
                  <a:lnTo>
                    <a:pt x="4624" y="2740"/>
                  </a:lnTo>
                  <a:lnTo>
                    <a:pt x="4480" y="2724"/>
                  </a:lnTo>
                  <a:lnTo>
                    <a:pt x="4384" y="2685"/>
                  </a:lnTo>
                  <a:lnTo>
                    <a:pt x="4312" y="2756"/>
                  </a:lnTo>
                  <a:lnTo>
                    <a:pt x="4240" y="2820"/>
                  </a:lnTo>
                  <a:lnTo>
                    <a:pt x="4184" y="2860"/>
                  </a:lnTo>
                  <a:lnTo>
                    <a:pt x="4064" y="2908"/>
                  </a:lnTo>
                  <a:lnTo>
                    <a:pt x="3960" y="2947"/>
                  </a:lnTo>
                  <a:lnTo>
                    <a:pt x="3807" y="2971"/>
                  </a:lnTo>
                  <a:lnTo>
                    <a:pt x="3655" y="2963"/>
                  </a:lnTo>
                  <a:lnTo>
                    <a:pt x="3512" y="2931"/>
                  </a:lnTo>
                  <a:lnTo>
                    <a:pt x="3384" y="2868"/>
                  </a:lnTo>
                  <a:lnTo>
                    <a:pt x="3304" y="2979"/>
                  </a:lnTo>
                  <a:lnTo>
                    <a:pt x="3232" y="3035"/>
                  </a:lnTo>
                  <a:lnTo>
                    <a:pt x="3136" y="3091"/>
                  </a:lnTo>
                  <a:lnTo>
                    <a:pt x="3032" y="3130"/>
                  </a:lnTo>
                  <a:lnTo>
                    <a:pt x="2912" y="3146"/>
                  </a:lnTo>
                  <a:lnTo>
                    <a:pt x="2800" y="3146"/>
                  </a:lnTo>
                  <a:lnTo>
                    <a:pt x="2696" y="3130"/>
                  </a:lnTo>
                  <a:lnTo>
                    <a:pt x="2560" y="3075"/>
                  </a:lnTo>
                  <a:lnTo>
                    <a:pt x="2480" y="3019"/>
                  </a:lnTo>
                  <a:lnTo>
                    <a:pt x="2408" y="3091"/>
                  </a:lnTo>
                  <a:lnTo>
                    <a:pt x="2336" y="3130"/>
                  </a:lnTo>
                  <a:lnTo>
                    <a:pt x="2240" y="3162"/>
                  </a:lnTo>
                  <a:lnTo>
                    <a:pt x="2112" y="3194"/>
                  </a:lnTo>
                  <a:lnTo>
                    <a:pt x="1976" y="3186"/>
                  </a:lnTo>
                  <a:lnTo>
                    <a:pt x="1832" y="3154"/>
                  </a:lnTo>
                  <a:lnTo>
                    <a:pt x="1720" y="3107"/>
                  </a:lnTo>
                  <a:lnTo>
                    <a:pt x="1624" y="3019"/>
                  </a:lnTo>
                  <a:lnTo>
                    <a:pt x="1560" y="2931"/>
                  </a:lnTo>
                  <a:lnTo>
                    <a:pt x="1456" y="2963"/>
                  </a:lnTo>
                  <a:lnTo>
                    <a:pt x="1328" y="2979"/>
                  </a:lnTo>
                  <a:lnTo>
                    <a:pt x="1183" y="2979"/>
                  </a:lnTo>
                  <a:lnTo>
                    <a:pt x="1063" y="2931"/>
                  </a:lnTo>
                  <a:lnTo>
                    <a:pt x="959" y="2876"/>
                  </a:lnTo>
                  <a:lnTo>
                    <a:pt x="879" y="2820"/>
                  </a:lnTo>
                  <a:lnTo>
                    <a:pt x="815" y="2732"/>
                  </a:lnTo>
                  <a:lnTo>
                    <a:pt x="791" y="2645"/>
                  </a:lnTo>
                  <a:lnTo>
                    <a:pt x="727" y="2669"/>
                  </a:lnTo>
                  <a:lnTo>
                    <a:pt x="607" y="2669"/>
                  </a:lnTo>
                  <a:lnTo>
                    <a:pt x="479" y="2645"/>
                  </a:lnTo>
                  <a:lnTo>
                    <a:pt x="343" y="2581"/>
                  </a:lnTo>
                  <a:lnTo>
                    <a:pt x="255" y="2501"/>
                  </a:lnTo>
                  <a:lnTo>
                    <a:pt x="175" y="2398"/>
                  </a:lnTo>
                  <a:lnTo>
                    <a:pt x="135" y="2286"/>
                  </a:lnTo>
                  <a:lnTo>
                    <a:pt x="111" y="2134"/>
                  </a:lnTo>
                  <a:lnTo>
                    <a:pt x="119" y="2031"/>
                  </a:lnTo>
                  <a:lnTo>
                    <a:pt x="159" y="1879"/>
                  </a:lnTo>
                  <a:lnTo>
                    <a:pt x="71" y="1792"/>
                  </a:lnTo>
                  <a:lnTo>
                    <a:pt x="23" y="1680"/>
                  </a:lnTo>
                  <a:lnTo>
                    <a:pt x="0" y="1561"/>
                  </a:lnTo>
                  <a:lnTo>
                    <a:pt x="0" y="1434"/>
                  </a:lnTo>
                  <a:lnTo>
                    <a:pt x="31" y="1298"/>
                  </a:lnTo>
                  <a:lnTo>
                    <a:pt x="87" y="1203"/>
                  </a:lnTo>
                  <a:lnTo>
                    <a:pt x="191" y="1091"/>
                  </a:lnTo>
                  <a:lnTo>
                    <a:pt x="303" y="1012"/>
                  </a:lnTo>
                  <a:lnTo>
                    <a:pt x="423" y="932"/>
                  </a:lnTo>
                  <a:lnTo>
                    <a:pt x="543" y="884"/>
                  </a:lnTo>
                  <a:lnTo>
                    <a:pt x="671" y="852"/>
                  </a:lnTo>
                  <a:lnTo>
                    <a:pt x="775" y="829"/>
                  </a:lnTo>
                  <a:lnTo>
                    <a:pt x="815" y="75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607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995720" y="3502080"/>
              <a:ext cx="1036800" cy="792000"/>
            </a:xfrm>
            <a:prstGeom prst="line">
              <a:avLst/>
            </a:prstGeom>
            <a:ln w="38160">
              <a:solidFill>
                <a:srgbClr val="a800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45160" y="2573280"/>
              <a:ext cx="1854720" cy="1151280"/>
            </a:xfrm>
            <a:custGeom>
              <a:avLst/>
              <a:gdLst/>
              <a:ahLst/>
              <a:rect l="0" t="0" r="r" b="b"/>
              <a:pathLst>
                <a:path w="5152" h="3198">
                  <a:moveTo>
                    <a:pt x="815" y="757"/>
                  </a:moveTo>
                  <a:lnTo>
                    <a:pt x="863" y="669"/>
                  </a:lnTo>
                  <a:lnTo>
                    <a:pt x="927" y="582"/>
                  </a:lnTo>
                  <a:lnTo>
                    <a:pt x="1023" y="510"/>
                  </a:lnTo>
                  <a:lnTo>
                    <a:pt x="1111" y="454"/>
                  </a:lnTo>
                  <a:lnTo>
                    <a:pt x="1223" y="414"/>
                  </a:lnTo>
                  <a:lnTo>
                    <a:pt x="1360" y="374"/>
                  </a:lnTo>
                  <a:lnTo>
                    <a:pt x="1512" y="350"/>
                  </a:lnTo>
                  <a:lnTo>
                    <a:pt x="1672" y="342"/>
                  </a:lnTo>
                  <a:lnTo>
                    <a:pt x="1872" y="350"/>
                  </a:lnTo>
                  <a:lnTo>
                    <a:pt x="2040" y="358"/>
                  </a:lnTo>
                  <a:lnTo>
                    <a:pt x="2160" y="279"/>
                  </a:lnTo>
                  <a:lnTo>
                    <a:pt x="2264" y="199"/>
                  </a:lnTo>
                  <a:lnTo>
                    <a:pt x="2416" y="119"/>
                  </a:lnTo>
                  <a:lnTo>
                    <a:pt x="2592" y="55"/>
                  </a:lnTo>
                  <a:lnTo>
                    <a:pt x="2808" y="7"/>
                  </a:lnTo>
                  <a:lnTo>
                    <a:pt x="3024" y="0"/>
                  </a:lnTo>
                  <a:lnTo>
                    <a:pt x="3216" y="23"/>
                  </a:lnTo>
                  <a:lnTo>
                    <a:pt x="3432" y="79"/>
                  </a:lnTo>
                  <a:lnTo>
                    <a:pt x="3560" y="151"/>
                  </a:lnTo>
                  <a:lnTo>
                    <a:pt x="3679" y="231"/>
                  </a:lnTo>
                  <a:lnTo>
                    <a:pt x="3791" y="334"/>
                  </a:lnTo>
                  <a:lnTo>
                    <a:pt x="3839" y="438"/>
                  </a:lnTo>
                  <a:lnTo>
                    <a:pt x="4008" y="438"/>
                  </a:lnTo>
                  <a:lnTo>
                    <a:pt x="4168" y="462"/>
                  </a:lnTo>
                  <a:lnTo>
                    <a:pt x="4312" y="518"/>
                  </a:lnTo>
                  <a:lnTo>
                    <a:pt x="4408" y="597"/>
                  </a:lnTo>
                  <a:lnTo>
                    <a:pt x="4504" y="709"/>
                  </a:lnTo>
                  <a:lnTo>
                    <a:pt x="4552" y="805"/>
                  </a:lnTo>
                  <a:lnTo>
                    <a:pt x="4568" y="892"/>
                  </a:lnTo>
                  <a:lnTo>
                    <a:pt x="4664" y="908"/>
                  </a:lnTo>
                  <a:lnTo>
                    <a:pt x="4760" y="940"/>
                  </a:lnTo>
                  <a:lnTo>
                    <a:pt x="4840" y="980"/>
                  </a:lnTo>
                  <a:lnTo>
                    <a:pt x="4920" y="1028"/>
                  </a:lnTo>
                  <a:lnTo>
                    <a:pt x="4976" y="1068"/>
                  </a:lnTo>
                  <a:lnTo>
                    <a:pt x="5032" y="1124"/>
                  </a:lnTo>
                  <a:lnTo>
                    <a:pt x="5088" y="1195"/>
                  </a:lnTo>
                  <a:lnTo>
                    <a:pt x="5112" y="1283"/>
                  </a:lnTo>
                  <a:lnTo>
                    <a:pt x="5120" y="1347"/>
                  </a:lnTo>
                  <a:lnTo>
                    <a:pt x="5104" y="1419"/>
                  </a:lnTo>
                  <a:lnTo>
                    <a:pt x="5064" y="1498"/>
                  </a:lnTo>
                  <a:lnTo>
                    <a:pt x="5112" y="1586"/>
                  </a:lnTo>
                  <a:lnTo>
                    <a:pt x="5136" y="1667"/>
                  </a:lnTo>
                  <a:lnTo>
                    <a:pt x="5144" y="1754"/>
                  </a:lnTo>
                  <a:lnTo>
                    <a:pt x="5120" y="1866"/>
                  </a:lnTo>
                  <a:lnTo>
                    <a:pt x="5104" y="1930"/>
                  </a:lnTo>
                  <a:lnTo>
                    <a:pt x="5040" y="2010"/>
                  </a:lnTo>
                  <a:lnTo>
                    <a:pt x="5120" y="2121"/>
                  </a:lnTo>
                  <a:lnTo>
                    <a:pt x="5144" y="2185"/>
                  </a:lnTo>
                  <a:lnTo>
                    <a:pt x="5152" y="2289"/>
                  </a:lnTo>
                  <a:lnTo>
                    <a:pt x="5136" y="2384"/>
                  </a:lnTo>
                  <a:lnTo>
                    <a:pt x="5088" y="2496"/>
                  </a:lnTo>
                  <a:lnTo>
                    <a:pt x="5032" y="2568"/>
                  </a:lnTo>
                  <a:lnTo>
                    <a:pt x="4944" y="2647"/>
                  </a:lnTo>
                  <a:lnTo>
                    <a:pt x="4784" y="2719"/>
                  </a:lnTo>
                  <a:lnTo>
                    <a:pt x="4624" y="2743"/>
                  </a:lnTo>
                  <a:lnTo>
                    <a:pt x="4480" y="2727"/>
                  </a:lnTo>
                  <a:lnTo>
                    <a:pt x="4384" y="2687"/>
                  </a:lnTo>
                  <a:lnTo>
                    <a:pt x="4312" y="2759"/>
                  </a:lnTo>
                  <a:lnTo>
                    <a:pt x="4240" y="2823"/>
                  </a:lnTo>
                  <a:lnTo>
                    <a:pt x="4184" y="2863"/>
                  </a:lnTo>
                  <a:lnTo>
                    <a:pt x="4064" y="2911"/>
                  </a:lnTo>
                  <a:lnTo>
                    <a:pt x="3960" y="2950"/>
                  </a:lnTo>
                  <a:lnTo>
                    <a:pt x="3807" y="2974"/>
                  </a:lnTo>
                  <a:lnTo>
                    <a:pt x="3655" y="2966"/>
                  </a:lnTo>
                  <a:lnTo>
                    <a:pt x="3512" y="2934"/>
                  </a:lnTo>
                  <a:lnTo>
                    <a:pt x="3384" y="2871"/>
                  </a:lnTo>
                  <a:lnTo>
                    <a:pt x="3304" y="2982"/>
                  </a:lnTo>
                  <a:lnTo>
                    <a:pt x="3232" y="3038"/>
                  </a:lnTo>
                  <a:lnTo>
                    <a:pt x="3136" y="3094"/>
                  </a:lnTo>
                  <a:lnTo>
                    <a:pt x="3032" y="3134"/>
                  </a:lnTo>
                  <a:lnTo>
                    <a:pt x="2912" y="3150"/>
                  </a:lnTo>
                  <a:lnTo>
                    <a:pt x="2800" y="3150"/>
                  </a:lnTo>
                  <a:lnTo>
                    <a:pt x="2696" y="3134"/>
                  </a:lnTo>
                  <a:lnTo>
                    <a:pt x="2560" y="3078"/>
                  </a:lnTo>
                  <a:lnTo>
                    <a:pt x="2480" y="3022"/>
                  </a:lnTo>
                  <a:lnTo>
                    <a:pt x="2408" y="3094"/>
                  </a:lnTo>
                  <a:lnTo>
                    <a:pt x="2336" y="3134"/>
                  </a:lnTo>
                  <a:lnTo>
                    <a:pt x="2240" y="3166"/>
                  </a:lnTo>
                  <a:lnTo>
                    <a:pt x="2112" y="3198"/>
                  </a:lnTo>
                  <a:lnTo>
                    <a:pt x="1976" y="3190"/>
                  </a:lnTo>
                  <a:lnTo>
                    <a:pt x="1832" y="3158"/>
                  </a:lnTo>
                  <a:lnTo>
                    <a:pt x="1720" y="3110"/>
                  </a:lnTo>
                  <a:lnTo>
                    <a:pt x="1624" y="3022"/>
                  </a:lnTo>
                  <a:lnTo>
                    <a:pt x="1560" y="2934"/>
                  </a:lnTo>
                  <a:lnTo>
                    <a:pt x="1456" y="2966"/>
                  </a:lnTo>
                  <a:lnTo>
                    <a:pt x="1328" y="2982"/>
                  </a:lnTo>
                  <a:lnTo>
                    <a:pt x="1183" y="2982"/>
                  </a:lnTo>
                  <a:lnTo>
                    <a:pt x="1063" y="2934"/>
                  </a:lnTo>
                  <a:lnTo>
                    <a:pt x="959" y="2879"/>
                  </a:lnTo>
                  <a:lnTo>
                    <a:pt x="879" y="2823"/>
                  </a:lnTo>
                  <a:lnTo>
                    <a:pt x="815" y="2735"/>
                  </a:lnTo>
                  <a:lnTo>
                    <a:pt x="791" y="2647"/>
                  </a:lnTo>
                  <a:lnTo>
                    <a:pt x="727" y="2671"/>
                  </a:lnTo>
                  <a:lnTo>
                    <a:pt x="607" y="2671"/>
                  </a:lnTo>
                  <a:lnTo>
                    <a:pt x="479" y="2647"/>
                  </a:lnTo>
                  <a:lnTo>
                    <a:pt x="343" y="2584"/>
                  </a:lnTo>
                  <a:lnTo>
                    <a:pt x="255" y="2504"/>
                  </a:lnTo>
                  <a:lnTo>
                    <a:pt x="175" y="2400"/>
                  </a:lnTo>
                  <a:lnTo>
                    <a:pt x="135" y="2289"/>
                  </a:lnTo>
                  <a:lnTo>
                    <a:pt x="111" y="2137"/>
                  </a:lnTo>
                  <a:lnTo>
                    <a:pt x="119" y="2034"/>
                  </a:lnTo>
                  <a:lnTo>
                    <a:pt x="159" y="1882"/>
                  </a:lnTo>
                  <a:lnTo>
                    <a:pt x="71" y="1794"/>
                  </a:lnTo>
                  <a:lnTo>
                    <a:pt x="23" y="1683"/>
                  </a:lnTo>
                  <a:lnTo>
                    <a:pt x="0" y="1562"/>
                  </a:lnTo>
                  <a:lnTo>
                    <a:pt x="0" y="1435"/>
                  </a:lnTo>
                  <a:lnTo>
                    <a:pt x="31" y="1299"/>
                  </a:lnTo>
                  <a:lnTo>
                    <a:pt x="87" y="1203"/>
                  </a:lnTo>
                  <a:lnTo>
                    <a:pt x="191" y="1092"/>
                  </a:lnTo>
                  <a:lnTo>
                    <a:pt x="303" y="1012"/>
                  </a:lnTo>
                  <a:lnTo>
                    <a:pt x="423" y="932"/>
                  </a:lnTo>
                  <a:lnTo>
                    <a:pt x="543" y="884"/>
                  </a:lnTo>
                  <a:lnTo>
                    <a:pt x="671" y="853"/>
                  </a:lnTo>
                  <a:lnTo>
                    <a:pt x="775" y="829"/>
                  </a:lnTo>
                  <a:lnTo>
                    <a:pt x="815" y="75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607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11440" y="3916440"/>
              <a:ext cx="1854720" cy="1149840"/>
            </a:xfrm>
            <a:custGeom>
              <a:avLst/>
              <a:gdLst/>
              <a:ahLst/>
              <a:rect l="0" t="0" r="r" b="b"/>
              <a:pathLst>
                <a:path w="5152" h="3194">
                  <a:moveTo>
                    <a:pt x="815" y="756"/>
                  </a:moveTo>
                  <a:lnTo>
                    <a:pt x="863" y="668"/>
                  </a:lnTo>
                  <a:lnTo>
                    <a:pt x="927" y="581"/>
                  </a:lnTo>
                  <a:lnTo>
                    <a:pt x="1023" y="509"/>
                  </a:lnTo>
                  <a:lnTo>
                    <a:pt x="1111" y="453"/>
                  </a:lnTo>
                  <a:lnTo>
                    <a:pt x="1223" y="414"/>
                  </a:lnTo>
                  <a:lnTo>
                    <a:pt x="1360" y="374"/>
                  </a:lnTo>
                  <a:lnTo>
                    <a:pt x="1512" y="350"/>
                  </a:lnTo>
                  <a:lnTo>
                    <a:pt x="1672" y="342"/>
                  </a:lnTo>
                  <a:lnTo>
                    <a:pt x="1872" y="350"/>
                  </a:lnTo>
                  <a:lnTo>
                    <a:pt x="2040" y="358"/>
                  </a:lnTo>
                  <a:lnTo>
                    <a:pt x="2160" y="278"/>
                  </a:lnTo>
                  <a:lnTo>
                    <a:pt x="2264" y="199"/>
                  </a:lnTo>
                  <a:lnTo>
                    <a:pt x="2416" y="119"/>
                  </a:lnTo>
                  <a:lnTo>
                    <a:pt x="2592" y="55"/>
                  </a:lnTo>
                  <a:lnTo>
                    <a:pt x="2808" y="7"/>
                  </a:lnTo>
                  <a:lnTo>
                    <a:pt x="3024" y="0"/>
                  </a:lnTo>
                  <a:lnTo>
                    <a:pt x="3216" y="23"/>
                  </a:lnTo>
                  <a:lnTo>
                    <a:pt x="3432" y="79"/>
                  </a:lnTo>
                  <a:lnTo>
                    <a:pt x="3560" y="151"/>
                  </a:lnTo>
                  <a:lnTo>
                    <a:pt x="3679" y="230"/>
                  </a:lnTo>
                  <a:lnTo>
                    <a:pt x="3791" y="334"/>
                  </a:lnTo>
                  <a:lnTo>
                    <a:pt x="3839" y="437"/>
                  </a:lnTo>
                  <a:lnTo>
                    <a:pt x="4008" y="437"/>
                  </a:lnTo>
                  <a:lnTo>
                    <a:pt x="4168" y="461"/>
                  </a:lnTo>
                  <a:lnTo>
                    <a:pt x="4312" y="517"/>
                  </a:lnTo>
                  <a:lnTo>
                    <a:pt x="4408" y="597"/>
                  </a:lnTo>
                  <a:lnTo>
                    <a:pt x="4504" y="708"/>
                  </a:lnTo>
                  <a:lnTo>
                    <a:pt x="4552" y="805"/>
                  </a:lnTo>
                  <a:lnTo>
                    <a:pt x="4568" y="892"/>
                  </a:lnTo>
                  <a:lnTo>
                    <a:pt x="4664" y="908"/>
                  </a:lnTo>
                  <a:lnTo>
                    <a:pt x="4760" y="940"/>
                  </a:lnTo>
                  <a:lnTo>
                    <a:pt x="4840" y="980"/>
                  </a:lnTo>
                  <a:lnTo>
                    <a:pt x="4920" y="1028"/>
                  </a:lnTo>
                  <a:lnTo>
                    <a:pt x="4976" y="1067"/>
                  </a:lnTo>
                  <a:lnTo>
                    <a:pt x="5032" y="1123"/>
                  </a:lnTo>
                  <a:lnTo>
                    <a:pt x="5088" y="1195"/>
                  </a:lnTo>
                  <a:lnTo>
                    <a:pt x="5112" y="1282"/>
                  </a:lnTo>
                  <a:lnTo>
                    <a:pt x="5120" y="1346"/>
                  </a:lnTo>
                  <a:lnTo>
                    <a:pt x="5104" y="1418"/>
                  </a:lnTo>
                  <a:lnTo>
                    <a:pt x="5064" y="1497"/>
                  </a:lnTo>
                  <a:lnTo>
                    <a:pt x="5112" y="1585"/>
                  </a:lnTo>
                  <a:lnTo>
                    <a:pt x="5136" y="1664"/>
                  </a:lnTo>
                  <a:lnTo>
                    <a:pt x="5144" y="1752"/>
                  </a:lnTo>
                  <a:lnTo>
                    <a:pt x="5120" y="1864"/>
                  </a:lnTo>
                  <a:lnTo>
                    <a:pt x="5104" y="1927"/>
                  </a:lnTo>
                  <a:lnTo>
                    <a:pt x="5040" y="2007"/>
                  </a:lnTo>
                  <a:lnTo>
                    <a:pt x="5120" y="2118"/>
                  </a:lnTo>
                  <a:lnTo>
                    <a:pt x="5144" y="2182"/>
                  </a:lnTo>
                  <a:lnTo>
                    <a:pt x="5152" y="2286"/>
                  </a:lnTo>
                  <a:lnTo>
                    <a:pt x="5136" y="2381"/>
                  </a:lnTo>
                  <a:lnTo>
                    <a:pt x="5088" y="2494"/>
                  </a:lnTo>
                  <a:lnTo>
                    <a:pt x="5032" y="2565"/>
                  </a:lnTo>
                  <a:lnTo>
                    <a:pt x="4944" y="2645"/>
                  </a:lnTo>
                  <a:lnTo>
                    <a:pt x="4784" y="2716"/>
                  </a:lnTo>
                  <a:lnTo>
                    <a:pt x="4624" y="2740"/>
                  </a:lnTo>
                  <a:lnTo>
                    <a:pt x="4480" y="2724"/>
                  </a:lnTo>
                  <a:lnTo>
                    <a:pt x="4384" y="2685"/>
                  </a:lnTo>
                  <a:lnTo>
                    <a:pt x="4312" y="2756"/>
                  </a:lnTo>
                  <a:lnTo>
                    <a:pt x="4240" y="2820"/>
                  </a:lnTo>
                  <a:lnTo>
                    <a:pt x="4184" y="2860"/>
                  </a:lnTo>
                  <a:lnTo>
                    <a:pt x="4064" y="2908"/>
                  </a:lnTo>
                  <a:lnTo>
                    <a:pt x="3960" y="2947"/>
                  </a:lnTo>
                  <a:lnTo>
                    <a:pt x="3807" y="2971"/>
                  </a:lnTo>
                  <a:lnTo>
                    <a:pt x="3655" y="2963"/>
                  </a:lnTo>
                  <a:lnTo>
                    <a:pt x="3512" y="2931"/>
                  </a:lnTo>
                  <a:lnTo>
                    <a:pt x="3384" y="2868"/>
                  </a:lnTo>
                  <a:lnTo>
                    <a:pt x="3304" y="2979"/>
                  </a:lnTo>
                  <a:lnTo>
                    <a:pt x="3232" y="3035"/>
                  </a:lnTo>
                  <a:lnTo>
                    <a:pt x="3136" y="3091"/>
                  </a:lnTo>
                  <a:lnTo>
                    <a:pt x="3032" y="3130"/>
                  </a:lnTo>
                  <a:lnTo>
                    <a:pt x="2912" y="3146"/>
                  </a:lnTo>
                  <a:lnTo>
                    <a:pt x="2800" y="3146"/>
                  </a:lnTo>
                  <a:lnTo>
                    <a:pt x="2696" y="3130"/>
                  </a:lnTo>
                  <a:lnTo>
                    <a:pt x="2560" y="3075"/>
                  </a:lnTo>
                  <a:lnTo>
                    <a:pt x="2480" y="3019"/>
                  </a:lnTo>
                  <a:lnTo>
                    <a:pt x="2408" y="3091"/>
                  </a:lnTo>
                  <a:lnTo>
                    <a:pt x="2336" y="3130"/>
                  </a:lnTo>
                  <a:lnTo>
                    <a:pt x="2240" y="3162"/>
                  </a:lnTo>
                  <a:lnTo>
                    <a:pt x="2112" y="3194"/>
                  </a:lnTo>
                  <a:lnTo>
                    <a:pt x="1976" y="3186"/>
                  </a:lnTo>
                  <a:lnTo>
                    <a:pt x="1832" y="3154"/>
                  </a:lnTo>
                  <a:lnTo>
                    <a:pt x="1720" y="3107"/>
                  </a:lnTo>
                  <a:lnTo>
                    <a:pt x="1624" y="3019"/>
                  </a:lnTo>
                  <a:lnTo>
                    <a:pt x="1560" y="2931"/>
                  </a:lnTo>
                  <a:lnTo>
                    <a:pt x="1456" y="2963"/>
                  </a:lnTo>
                  <a:lnTo>
                    <a:pt x="1328" y="2979"/>
                  </a:lnTo>
                  <a:lnTo>
                    <a:pt x="1183" y="2979"/>
                  </a:lnTo>
                  <a:lnTo>
                    <a:pt x="1063" y="2931"/>
                  </a:lnTo>
                  <a:lnTo>
                    <a:pt x="959" y="2876"/>
                  </a:lnTo>
                  <a:lnTo>
                    <a:pt x="879" y="2820"/>
                  </a:lnTo>
                  <a:lnTo>
                    <a:pt x="815" y="2732"/>
                  </a:lnTo>
                  <a:lnTo>
                    <a:pt x="791" y="2645"/>
                  </a:lnTo>
                  <a:lnTo>
                    <a:pt x="727" y="2669"/>
                  </a:lnTo>
                  <a:lnTo>
                    <a:pt x="607" y="2669"/>
                  </a:lnTo>
                  <a:lnTo>
                    <a:pt x="479" y="2645"/>
                  </a:lnTo>
                  <a:lnTo>
                    <a:pt x="343" y="2581"/>
                  </a:lnTo>
                  <a:lnTo>
                    <a:pt x="255" y="2501"/>
                  </a:lnTo>
                  <a:lnTo>
                    <a:pt x="175" y="2398"/>
                  </a:lnTo>
                  <a:lnTo>
                    <a:pt x="135" y="2286"/>
                  </a:lnTo>
                  <a:lnTo>
                    <a:pt x="111" y="2134"/>
                  </a:lnTo>
                  <a:lnTo>
                    <a:pt x="119" y="2031"/>
                  </a:lnTo>
                  <a:lnTo>
                    <a:pt x="159" y="1879"/>
                  </a:lnTo>
                  <a:lnTo>
                    <a:pt x="71" y="1792"/>
                  </a:lnTo>
                  <a:lnTo>
                    <a:pt x="23" y="1680"/>
                  </a:lnTo>
                  <a:lnTo>
                    <a:pt x="0" y="1561"/>
                  </a:lnTo>
                  <a:lnTo>
                    <a:pt x="0" y="1434"/>
                  </a:lnTo>
                  <a:lnTo>
                    <a:pt x="31" y="1298"/>
                  </a:lnTo>
                  <a:lnTo>
                    <a:pt x="87" y="1203"/>
                  </a:lnTo>
                  <a:lnTo>
                    <a:pt x="191" y="1091"/>
                  </a:lnTo>
                  <a:lnTo>
                    <a:pt x="303" y="1012"/>
                  </a:lnTo>
                  <a:lnTo>
                    <a:pt x="423" y="932"/>
                  </a:lnTo>
                  <a:lnTo>
                    <a:pt x="543" y="884"/>
                  </a:lnTo>
                  <a:lnTo>
                    <a:pt x="671" y="852"/>
                  </a:lnTo>
                  <a:lnTo>
                    <a:pt x="775" y="829"/>
                  </a:lnTo>
                  <a:lnTo>
                    <a:pt x="815" y="75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607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27400" y="2403360"/>
              <a:ext cx="487440" cy="0"/>
            </a:xfrm>
            <a:prstGeom prst="line">
              <a:avLst/>
            </a:prstGeom>
            <a:ln w="38160">
              <a:solidFill>
                <a:srgbClr val="6a00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3400560" y="2428920"/>
              <a:ext cx="552600" cy="31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6264360" y="2851200"/>
              <a:ext cx="687240" cy="31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- 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4253040" y="1387440"/>
              <a:ext cx="687240" cy="31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-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22520" y="2695680"/>
              <a:ext cx="1854720" cy="1151280"/>
            </a:xfrm>
            <a:custGeom>
              <a:avLst/>
              <a:gdLst/>
              <a:ahLst/>
              <a:rect l="0" t="0" r="r" b="b"/>
              <a:pathLst>
                <a:path w="5152" h="3198">
                  <a:moveTo>
                    <a:pt x="815" y="757"/>
                  </a:moveTo>
                  <a:lnTo>
                    <a:pt x="863" y="669"/>
                  </a:lnTo>
                  <a:lnTo>
                    <a:pt x="927" y="582"/>
                  </a:lnTo>
                  <a:lnTo>
                    <a:pt x="1023" y="510"/>
                  </a:lnTo>
                  <a:lnTo>
                    <a:pt x="1111" y="454"/>
                  </a:lnTo>
                  <a:lnTo>
                    <a:pt x="1223" y="414"/>
                  </a:lnTo>
                  <a:lnTo>
                    <a:pt x="1360" y="374"/>
                  </a:lnTo>
                  <a:lnTo>
                    <a:pt x="1512" y="350"/>
                  </a:lnTo>
                  <a:lnTo>
                    <a:pt x="1672" y="342"/>
                  </a:lnTo>
                  <a:lnTo>
                    <a:pt x="1872" y="350"/>
                  </a:lnTo>
                  <a:lnTo>
                    <a:pt x="2040" y="358"/>
                  </a:lnTo>
                  <a:lnTo>
                    <a:pt x="2160" y="279"/>
                  </a:lnTo>
                  <a:lnTo>
                    <a:pt x="2264" y="199"/>
                  </a:lnTo>
                  <a:lnTo>
                    <a:pt x="2416" y="119"/>
                  </a:lnTo>
                  <a:lnTo>
                    <a:pt x="2592" y="55"/>
                  </a:lnTo>
                  <a:lnTo>
                    <a:pt x="2808" y="7"/>
                  </a:lnTo>
                  <a:lnTo>
                    <a:pt x="3024" y="0"/>
                  </a:lnTo>
                  <a:lnTo>
                    <a:pt x="3216" y="23"/>
                  </a:lnTo>
                  <a:lnTo>
                    <a:pt x="3432" y="79"/>
                  </a:lnTo>
                  <a:lnTo>
                    <a:pt x="3560" y="151"/>
                  </a:lnTo>
                  <a:lnTo>
                    <a:pt x="3679" y="231"/>
                  </a:lnTo>
                  <a:lnTo>
                    <a:pt x="3791" y="334"/>
                  </a:lnTo>
                  <a:lnTo>
                    <a:pt x="3839" y="438"/>
                  </a:lnTo>
                  <a:lnTo>
                    <a:pt x="4008" y="438"/>
                  </a:lnTo>
                  <a:lnTo>
                    <a:pt x="4168" y="462"/>
                  </a:lnTo>
                  <a:lnTo>
                    <a:pt x="4312" y="518"/>
                  </a:lnTo>
                  <a:lnTo>
                    <a:pt x="4408" y="597"/>
                  </a:lnTo>
                  <a:lnTo>
                    <a:pt x="4504" y="709"/>
                  </a:lnTo>
                  <a:lnTo>
                    <a:pt x="4552" y="805"/>
                  </a:lnTo>
                  <a:lnTo>
                    <a:pt x="4568" y="892"/>
                  </a:lnTo>
                  <a:lnTo>
                    <a:pt x="4664" y="908"/>
                  </a:lnTo>
                  <a:lnTo>
                    <a:pt x="4760" y="940"/>
                  </a:lnTo>
                  <a:lnTo>
                    <a:pt x="4840" y="980"/>
                  </a:lnTo>
                  <a:lnTo>
                    <a:pt x="4920" y="1028"/>
                  </a:lnTo>
                  <a:lnTo>
                    <a:pt x="4976" y="1068"/>
                  </a:lnTo>
                  <a:lnTo>
                    <a:pt x="5032" y="1124"/>
                  </a:lnTo>
                  <a:lnTo>
                    <a:pt x="5088" y="1195"/>
                  </a:lnTo>
                  <a:lnTo>
                    <a:pt x="5112" y="1283"/>
                  </a:lnTo>
                  <a:lnTo>
                    <a:pt x="5120" y="1347"/>
                  </a:lnTo>
                  <a:lnTo>
                    <a:pt x="5104" y="1419"/>
                  </a:lnTo>
                  <a:lnTo>
                    <a:pt x="5064" y="1498"/>
                  </a:lnTo>
                  <a:lnTo>
                    <a:pt x="5112" y="1586"/>
                  </a:lnTo>
                  <a:lnTo>
                    <a:pt x="5136" y="1667"/>
                  </a:lnTo>
                  <a:lnTo>
                    <a:pt x="5144" y="1754"/>
                  </a:lnTo>
                  <a:lnTo>
                    <a:pt x="5120" y="1866"/>
                  </a:lnTo>
                  <a:lnTo>
                    <a:pt x="5104" y="1930"/>
                  </a:lnTo>
                  <a:lnTo>
                    <a:pt x="5040" y="2010"/>
                  </a:lnTo>
                  <a:lnTo>
                    <a:pt x="5120" y="2121"/>
                  </a:lnTo>
                  <a:lnTo>
                    <a:pt x="5144" y="2185"/>
                  </a:lnTo>
                  <a:lnTo>
                    <a:pt x="5152" y="2289"/>
                  </a:lnTo>
                  <a:lnTo>
                    <a:pt x="5136" y="2384"/>
                  </a:lnTo>
                  <a:lnTo>
                    <a:pt x="5088" y="2496"/>
                  </a:lnTo>
                  <a:lnTo>
                    <a:pt x="5032" y="2568"/>
                  </a:lnTo>
                  <a:lnTo>
                    <a:pt x="4944" y="2647"/>
                  </a:lnTo>
                  <a:lnTo>
                    <a:pt x="4784" y="2719"/>
                  </a:lnTo>
                  <a:lnTo>
                    <a:pt x="4624" y="2743"/>
                  </a:lnTo>
                  <a:lnTo>
                    <a:pt x="4480" y="2727"/>
                  </a:lnTo>
                  <a:lnTo>
                    <a:pt x="4384" y="2687"/>
                  </a:lnTo>
                  <a:lnTo>
                    <a:pt x="4312" y="2759"/>
                  </a:lnTo>
                  <a:lnTo>
                    <a:pt x="4240" y="2823"/>
                  </a:lnTo>
                  <a:lnTo>
                    <a:pt x="4184" y="2863"/>
                  </a:lnTo>
                  <a:lnTo>
                    <a:pt x="4064" y="2911"/>
                  </a:lnTo>
                  <a:lnTo>
                    <a:pt x="3960" y="2950"/>
                  </a:lnTo>
                  <a:lnTo>
                    <a:pt x="3807" y="2974"/>
                  </a:lnTo>
                  <a:lnTo>
                    <a:pt x="3655" y="2966"/>
                  </a:lnTo>
                  <a:lnTo>
                    <a:pt x="3512" y="2934"/>
                  </a:lnTo>
                  <a:lnTo>
                    <a:pt x="3384" y="2871"/>
                  </a:lnTo>
                  <a:lnTo>
                    <a:pt x="3304" y="2982"/>
                  </a:lnTo>
                  <a:lnTo>
                    <a:pt x="3232" y="3038"/>
                  </a:lnTo>
                  <a:lnTo>
                    <a:pt x="3136" y="3094"/>
                  </a:lnTo>
                  <a:lnTo>
                    <a:pt x="3032" y="3134"/>
                  </a:lnTo>
                  <a:lnTo>
                    <a:pt x="2912" y="3150"/>
                  </a:lnTo>
                  <a:lnTo>
                    <a:pt x="2800" y="3150"/>
                  </a:lnTo>
                  <a:lnTo>
                    <a:pt x="2696" y="3134"/>
                  </a:lnTo>
                  <a:lnTo>
                    <a:pt x="2560" y="3078"/>
                  </a:lnTo>
                  <a:lnTo>
                    <a:pt x="2480" y="3022"/>
                  </a:lnTo>
                  <a:lnTo>
                    <a:pt x="2408" y="3094"/>
                  </a:lnTo>
                  <a:lnTo>
                    <a:pt x="2336" y="3134"/>
                  </a:lnTo>
                  <a:lnTo>
                    <a:pt x="2240" y="3166"/>
                  </a:lnTo>
                  <a:lnTo>
                    <a:pt x="2112" y="3198"/>
                  </a:lnTo>
                  <a:lnTo>
                    <a:pt x="1976" y="3190"/>
                  </a:lnTo>
                  <a:lnTo>
                    <a:pt x="1832" y="3158"/>
                  </a:lnTo>
                  <a:lnTo>
                    <a:pt x="1720" y="3110"/>
                  </a:lnTo>
                  <a:lnTo>
                    <a:pt x="1624" y="3022"/>
                  </a:lnTo>
                  <a:lnTo>
                    <a:pt x="1560" y="2934"/>
                  </a:lnTo>
                  <a:lnTo>
                    <a:pt x="1456" y="2966"/>
                  </a:lnTo>
                  <a:lnTo>
                    <a:pt x="1328" y="2982"/>
                  </a:lnTo>
                  <a:lnTo>
                    <a:pt x="1183" y="2982"/>
                  </a:lnTo>
                  <a:lnTo>
                    <a:pt x="1063" y="2934"/>
                  </a:lnTo>
                  <a:lnTo>
                    <a:pt x="959" y="2879"/>
                  </a:lnTo>
                  <a:lnTo>
                    <a:pt x="879" y="2823"/>
                  </a:lnTo>
                  <a:lnTo>
                    <a:pt x="815" y="2735"/>
                  </a:lnTo>
                  <a:lnTo>
                    <a:pt x="791" y="2647"/>
                  </a:lnTo>
                  <a:lnTo>
                    <a:pt x="727" y="2671"/>
                  </a:lnTo>
                  <a:lnTo>
                    <a:pt x="607" y="2671"/>
                  </a:lnTo>
                  <a:lnTo>
                    <a:pt x="479" y="2647"/>
                  </a:lnTo>
                  <a:lnTo>
                    <a:pt x="343" y="2584"/>
                  </a:lnTo>
                  <a:lnTo>
                    <a:pt x="255" y="2504"/>
                  </a:lnTo>
                  <a:lnTo>
                    <a:pt x="175" y="2400"/>
                  </a:lnTo>
                  <a:lnTo>
                    <a:pt x="135" y="2289"/>
                  </a:lnTo>
                  <a:lnTo>
                    <a:pt x="111" y="2137"/>
                  </a:lnTo>
                  <a:lnTo>
                    <a:pt x="119" y="2034"/>
                  </a:lnTo>
                  <a:lnTo>
                    <a:pt x="159" y="1882"/>
                  </a:lnTo>
                  <a:lnTo>
                    <a:pt x="71" y="1794"/>
                  </a:lnTo>
                  <a:lnTo>
                    <a:pt x="23" y="1683"/>
                  </a:lnTo>
                  <a:lnTo>
                    <a:pt x="0" y="1562"/>
                  </a:lnTo>
                  <a:lnTo>
                    <a:pt x="0" y="1435"/>
                  </a:lnTo>
                  <a:lnTo>
                    <a:pt x="31" y="1299"/>
                  </a:lnTo>
                  <a:lnTo>
                    <a:pt x="87" y="1203"/>
                  </a:lnTo>
                  <a:lnTo>
                    <a:pt x="191" y="1092"/>
                  </a:lnTo>
                  <a:lnTo>
                    <a:pt x="303" y="1012"/>
                  </a:lnTo>
                  <a:lnTo>
                    <a:pt x="423" y="932"/>
                  </a:lnTo>
                  <a:lnTo>
                    <a:pt x="543" y="884"/>
                  </a:lnTo>
                  <a:lnTo>
                    <a:pt x="671" y="853"/>
                  </a:lnTo>
                  <a:lnTo>
                    <a:pt x="775" y="829"/>
                  </a:lnTo>
                  <a:lnTo>
                    <a:pt x="815" y="75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607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2241720" y="2913120"/>
              <a:ext cx="687240" cy="31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-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2136600" y="3282840"/>
              <a:ext cx="766800" cy="31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4270320" y="1757520"/>
              <a:ext cx="766800" cy="31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4068720" y="4132440"/>
              <a:ext cx="687240" cy="31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-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6350040" y="3220920"/>
              <a:ext cx="631800" cy="31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N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4218120" y="4502160"/>
              <a:ext cx="631800" cy="31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N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5300640" y="4049640"/>
              <a:ext cx="366840" cy="304920"/>
            </a:xfrm>
            <a:prstGeom prst="line">
              <a:avLst/>
            </a:prstGeom>
            <a:ln w="38160">
              <a:solidFill>
                <a:srgbClr val="17af7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850000" y="3562200"/>
              <a:ext cx="365040" cy="304920"/>
            </a:xfrm>
            <a:prstGeom prst="line">
              <a:avLst/>
            </a:prstGeom>
            <a:ln w="38160">
              <a:solidFill>
                <a:srgbClr val="17af7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3166920" y="4233960"/>
              <a:ext cx="397080" cy="272880"/>
            </a:xfrm>
            <a:prstGeom prst="line">
              <a:avLst/>
            </a:prstGeom>
            <a:ln w="38160">
              <a:solidFill>
                <a:srgbClr val="17af7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5880240" y="2373480"/>
              <a:ext cx="304560" cy="366480"/>
            </a:xfrm>
            <a:prstGeom prst="line">
              <a:avLst/>
            </a:prstGeom>
            <a:ln w="38160">
              <a:solidFill>
                <a:srgbClr val="17af7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2111400" y="4502160"/>
              <a:ext cx="1365120" cy="80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NNI to BI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gnaling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work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5829480" y="4029120"/>
              <a:ext cx="1365120" cy="80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NNI to BI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gnaling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work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6103800" y="1803240"/>
              <a:ext cx="1365120" cy="80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NNI to BI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gnaling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work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23040" y="2403360"/>
              <a:ext cx="366480" cy="0"/>
            </a:xfrm>
            <a:prstGeom prst="line">
              <a:avLst/>
            </a:prstGeom>
            <a:ln w="38160">
              <a:solidFill>
                <a:srgbClr val="6a00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5108400" y="2428920"/>
              <a:ext cx="552600" cy="31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62560" y="3867120"/>
              <a:ext cx="365040" cy="0"/>
            </a:xfrm>
            <a:prstGeom prst="line">
              <a:avLst/>
            </a:prstGeom>
            <a:ln w="38160">
              <a:solidFill>
                <a:srgbClr val="6a00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4986360" y="3525840"/>
              <a:ext cx="552600" cy="31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06800" y="3989520"/>
              <a:ext cx="365040" cy="0"/>
            </a:xfrm>
            <a:prstGeom prst="line">
              <a:avLst/>
            </a:prstGeom>
            <a:ln w="38160">
              <a:solidFill>
                <a:srgbClr val="6a00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3400560" y="3770280"/>
              <a:ext cx="552600" cy="31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 txBox="1"/>
          <p:nvPr/>
        </p:nvSpPr>
        <p:spPr>
          <a:xfrm>
            <a:off x="474840" y="5257800"/>
            <a:ext cx="8136000" cy="11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NNI to BICI interworking not 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an interface that more than interworking  PNNI to BICI sign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727280" y="233280"/>
            <a:ext cx="734076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000" spc="-1" strike="noStrike">
                <a:solidFill>
                  <a:srgbClr val="006079"/>
                </a:solidFill>
                <a:latin typeface="Impact"/>
                <a:ea typeface="Impact"/>
              </a:rPr>
              <a:t>Whats needed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4840" y="1836720"/>
            <a:ext cx="82216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new interface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s a signaling superset of features supported by both PNNI and BIS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ine a set of error code in the case of mixed network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ine interworking functions from PNNI and BISUP to new signaling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228600">
              <a:lnSpc>
                <a:spcPct val="85000"/>
              </a:lnSpc>
              <a:spcBef>
                <a:spcPts val="119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s a new information exchang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a routing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5000"/>
              </a:lnSpc>
              <a:spcBef>
                <a:spcPts val="1199"/>
              </a:spcBef>
              <a:buClr>
                <a:srgbClr val="006079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a database ex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727280" y="233280"/>
            <a:ext cx="734076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000" spc="-1" strike="noStrike">
                <a:solidFill>
                  <a:srgbClr val="006079"/>
                </a:solidFill>
                <a:latin typeface="Impact"/>
                <a:ea typeface="Impact"/>
              </a:rPr>
              <a:t>Information Exchan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74840" y="1836720"/>
            <a:ext cx="82216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information are carrier networks willing to exchang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ch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imate of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imate of available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information needs to be quasi- static and will be updated in a minimal fash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u Berger</dc:creator>
  <dc:description/>
  <dc:language>en-US</dc:language>
  <cp:lastModifiedBy>Lou Berger</cp:lastModifiedBy>
  <cp:revision>0</cp:revision>
  <dc:subject/>
  <dc:title>Fore Switching - Version 1</dc:title>
</cp:coreProperties>
</file>