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 Call Management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Management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tt Pet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caltec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rack@vocaltec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Management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 represent individuals, groups, terminals, servers, other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 live in agent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 respond to queries in a programmabl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ocate a server via DNS or a U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s and agents can redirect or recurse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 can team up with gateways to provide priv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 can also represent resources (conference rooms, lisenc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Management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caleable distributed database of dynamic (tag, value) pairs (proper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are just a certain kind of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protocol gets, sets, manipulate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can contain description in addition to the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 can be moved to be always “up” for realtime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Management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Resu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t to reach a term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urther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://ftp.imtc-files.org/imtc-site/VoIP-AG/ VoIP97-010.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echnical paper with Dave Oran (Cisco): write to me (petrack@vocaltec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product - contact David Sokolic: davids@vocaltec.c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her Kahane (Vocalt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r Tirosh (Vocalt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n Cohen (Vocalt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e Oran (Cis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hav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phone numbers (home, office, c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voice mail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Email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IP-based communication termi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r, wireless browser, P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aries or other human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ifficul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es are incompatible (makes it difficult to substitute and reroute, even when natural, e.g. wb to f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ies are also incompa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es usually describe terminals, no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s and translators needed, often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s for mobility of devices, but 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addressing still common, makes for difficult cross media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cy of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y call setup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users to control logic furnishing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modate mobile hosts, addresses,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gateways transpa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 privacy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 from centralized to distributed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to new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 to very large subscriber 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323 Gatekeeper (R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access data, but not the log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“dynamic”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location scheme to find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cy/security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restrictive dat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’t allow user control - even superuser of a machine can’t control DNS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ing, security, caching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a call very restri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use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 multidevice difficult (forwarding calls from phone to IPh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Petrack</dc:creator>
  <dc:description>OpenSig, April 97Cambridge, England</dc:description>
  <dc:language>en-US</dc:language>
  <cp:lastModifiedBy>Scott Petrack</cp:lastModifiedBy>
  <cp:revision>0</cp:revision>
  <dc:subject/>
  <dc:title>Multimedia Call Management and Call Management Agents</dc:title>
</cp:coreProperties>
</file>