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6FEDA2-8A5A-42C3-AAF6-785482980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6a040a"/>
                </a:gs>
                <a:gs pos="50000">
                  <a:srgbClr val="d50915"/>
                </a:gs>
                <a:gs pos="100000">
                  <a:srgbClr val="6a040a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afb100"/>
                </a:gs>
                <a:gs pos="50000">
                  <a:srgbClr val="fafd00"/>
                </a:gs>
                <a:gs pos="100000">
                  <a:srgbClr val="afb100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62040" y="42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OPENSIG ‘97, Cambrid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2560" y="3457440"/>
            <a:ext cx="7953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Jonathan M. Sm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8640" y="4299120"/>
            <a:ext cx="8104320" cy="12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U. Penn./Cambri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(with D. Farber, C. Gunter, S. Kannan, I.Lee and S. Nett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79720" y="5491080"/>
            <a:ext cx="12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2560" y="5038560"/>
            <a:ext cx="795348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62080" y="2160720"/>
            <a:ext cx="6764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31840" y="2119320"/>
            <a:ext cx="867888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800" spc="-1" strike="noStrike">
                <a:solidFill>
                  <a:srgbClr val="fafd00"/>
                </a:solidFill>
                <a:latin typeface="Book Antiqua"/>
                <a:ea typeface="Book Antiqua"/>
              </a:rPr>
              <a:t>Self-Checking Active Network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Integrity: Nodes vs. Networ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ample Problem: Denial-of-Service Attack on a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assive Solution: IP Fire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urely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fensiv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h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ields selected Admin. doma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ut with a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ctiv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twork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Active Defenses! (Offenses?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lf-Checking Active Network (SCA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505320"/>
            <a:ext cx="15228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3962520"/>
            <a:ext cx="15228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3733920"/>
            <a:ext cx="15228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62120" y="3733920"/>
            <a:ext cx="15228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57400" y="3733920"/>
            <a:ext cx="15228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3886200"/>
            <a:ext cx="228600" cy="152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914400" y="3581280"/>
            <a:ext cx="228600" cy="1526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3581280"/>
            <a:ext cx="228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76520" y="380988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295280" y="3886200"/>
            <a:ext cx="228600" cy="152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3505320"/>
            <a:ext cx="838440" cy="228960"/>
          </a:xfrm>
          <a:custGeom>
            <a:avLst/>
            <a:gdLst/>
            <a:ahLst/>
            <a:rect l="0" t="0" r="r" b="b"/>
            <a:pathLst>
              <a:path fill="none" w="2329" h="636">
                <a:moveTo>
                  <a:pt x="2329" y="636"/>
                </a:moveTo>
                <a:lnTo>
                  <a:pt x="2329" y="636"/>
                </a:lnTo>
                <a:cubicBezTo>
                  <a:pt x="2328" y="525"/>
                  <a:pt x="2221" y="415"/>
                  <a:pt x="2017" y="319"/>
                </a:cubicBezTo>
                <a:cubicBezTo>
                  <a:pt x="1813" y="222"/>
                  <a:pt x="1519" y="141"/>
                  <a:pt x="1165" y="85"/>
                </a:cubicBezTo>
                <a:cubicBezTo>
                  <a:pt x="810" y="29"/>
                  <a:pt x="409" y="0"/>
                  <a:pt x="0" y="0"/>
                </a:cubicBez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00600" y="5638680"/>
            <a:ext cx="1143000" cy="4572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81280" y="5257800"/>
            <a:ext cx="990720" cy="1219320"/>
          </a:xfrm>
          <a:prstGeom prst="rect">
            <a:avLst/>
          </a:prstGeom>
          <a:solidFill>
            <a:srgbClr val="d49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3720" y="5638680"/>
            <a:ext cx="1143000" cy="4572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346480" y="5668920"/>
            <a:ext cx="4953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474747"/>
                </a:solidFill>
                <a:latin typeface="Arial"/>
                <a:ea typeface="Arial"/>
              </a:rPr>
              <a:t>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937040" y="5668920"/>
            <a:ext cx="83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474747"/>
                </a:solidFill>
                <a:latin typeface="Arial"/>
                <a:ea typeface="Arial"/>
              </a:rPr>
              <a:t>Th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69960" y="4175280"/>
            <a:ext cx="135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.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715000" y="3962520"/>
            <a:ext cx="304920" cy="152280"/>
          </a:xfrm>
          <a:prstGeom prst="ellipse">
            <a:avLst/>
          </a:prstGeom>
          <a:solidFill>
            <a:srgbClr val="51dc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62720" y="3581280"/>
            <a:ext cx="304920" cy="152280"/>
          </a:xfrm>
          <a:prstGeom prst="ellipse">
            <a:avLst/>
          </a:prstGeom>
          <a:solidFill>
            <a:srgbClr val="51dc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24480" y="4191120"/>
            <a:ext cx="304920" cy="152280"/>
          </a:xfrm>
          <a:prstGeom prst="ellipse">
            <a:avLst/>
          </a:prstGeom>
          <a:solidFill>
            <a:srgbClr val="51dc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72200" y="3505320"/>
            <a:ext cx="304920" cy="152280"/>
          </a:xfrm>
          <a:prstGeom prst="ellipse">
            <a:avLst/>
          </a:prstGeom>
          <a:solidFill>
            <a:srgbClr val="51dc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3809880"/>
            <a:ext cx="304920" cy="152280"/>
          </a:xfrm>
          <a:prstGeom prst="ellipse">
            <a:avLst/>
          </a:prstGeom>
          <a:solidFill>
            <a:srgbClr val="51dc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562720" y="4419720"/>
            <a:ext cx="304920" cy="152280"/>
          </a:xfrm>
          <a:prstGeom prst="ellipse">
            <a:avLst/>
          </a:prstGeom>
          <a:solidFill>
            <a:srgbClr val="51dc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10280" y="3581280"/>
            <a:ext cx="228600" cy="304920"/>
          </a:xfrm>
          <a:prstGeom prst="rect">
            <a:avLst/>
          </a:prstGeom>
          <a:solidFill>
            <a:srgbClr val="d49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477120" y="4572000"/>
            <a:ext cx="228600" cy="304920"/>
          </a:xfrm>
          <a:prstGeom prst="rect">
            <a:avLst/>
          </a:prstGeom>
          <a:solidFill>
            <a:srgbClr val="d49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543800" y="3733920"/>
            <a:ext cx="22860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010280" y="4648320"/>
            <a:ext cx="22860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715000" y="3733920"/>
            <a:ext cx="7632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5715000" y="4114800"/>
            <a:ext cx="15228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867280" y="3581280"/>
            <a:ext cx="304920" cy="7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19920" y="4038480"/>
            <a:ext cx="30456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400800" y="3657600"/>
            <a:ext cx="7632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6019920" y="3886200"/>
            <a:ext cx="38088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67280" y="4495680"/>
            <a:ext cx="60984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705720" y="3733920"/>
            <a:ext cx="30456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705720" y="4648320"/>
            <a:ext cx="76680" cy="228960"/>
          </a:xfrm>
          <a:custGeom>
            <a:avLst/>
            <a:gdLst/>
            <a:ahLst/>
            <a:rect l="0" t="0" r="r" b="b"/>
            <a:pathLst>
              <a:path fill="none" w="213" h="636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29"/>
                  <a:pt x="106" y="85"/>
                </a:cubicBezTo>
                <a:cubicBezTo>
                  <a:pt x="74" y="141"/>
                  <a:pt x="47" y="221"/>
                  <a:pt x="29" y="318"/>
                </a:cubicBezTo>
                <a:cubicBezTo>
                  <a:pt x="10" y="415"/>
                  <a:pt x="0" y="524"/>
                  <a:pt x="0" y="636"/>
                </a:cubicBezTo>
              </a:path>
            </a:pathLst>
          </a:custGeom>
          <a:ln w="12600">
            <a:solidFill>
              <a:srgbClr val="d5091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9880" y="5867280"/>
            <a:ext cx="990720" cy="0"/>
          </a:xfrm>
          <a:prstGeom prst="line">
            <a:avLst/>
          </a:prstGeom>
          <a:ln w="76320">
            <a:solidFill>
              <a:srgbClr val="d50915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5867280"/>
            <a:ext cx="304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5334120"/>
            <a:ext cx="838080" cy="380880"/>
          </a:xfrm>
          <a:prstGeom prst="rect">
            <a:avLst/>
          </a:prstGeom>
          <a:solidFill>
            <a:srgbClr val="51dc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641760" y="5432400"/>
            <a:ext cx="846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heck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38280" y="4191120"/>
            <a:ext cx="1448280" cy="1143360"/>
          </a:xfrm>
          <a:custGeom>
            <a:avLst/>
            <a:gdLst/>
            <a:ahLst/>
            <a:rect l="0" t="0" r="r" b="b"/>
            <a:pathLst>
              <a:path fill="none" w="4023" h="3176">
                <a:moveTo>
                  <a:pt x="4023" y="3176"/>
                </a:moveTo>
                <a:lnTo>
                  <a:pt x="4023" y="3176"/>
                </a:lnTo>
                <a:lnTo>
                  <a:pt x="4023" y="3176"/>
                </a:lnTo>
                <a:cubicBezTo>
                  <a:pt x="4023" y="2618"/>
                  <a:pt x="3837" y="2071"/>
                  <a:pt x="3484" y="1588"/>
                </a:cubicBezTo>
                <a:cubicBezTo>
                  <a:pt x="3131" y="1105"/>
                  <a:pt x="2623" y="704"/>
                  <a:pt x="2011" y="426"/>
                </a:cubicBezTo>
                <a:cubicBezTo>
                  <a:pt x="1400" y="147"/>
                  <a:pt x="706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38880" y="3657600"/>
            <a:ext cx="76680" cy="228960"/>
          </a:xfrm>
          <a:custGeom>
            <a:avLst/>
            <a:gdLst/>
            <a:ahLst/>
            <a:rect l="0" t="0" r="r" b="b"/>
            <a:pathLst>
              <a:path fill="none" w="213" h="636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29"/>
                  <a:pt x="106" y="85"/>
                </a:cubicBezTo>
                <a:cubicBezTo>
                  <a:pt x="74" y="141"/>
                  <a:pt x="47" y="221"/>
                  <a:pt x="29" y="318"/>
                </a:cubicBezTo>
                <a:cubicBezTo>
                  <a:pt x="10" y="415"/>
                  <a:pt x="0" y="524"/>
                  <a:pt x="0" y="636"/>
                </a:cubicBezTo>
              </a:path>
            </a:pathLst>
          </a:custGeom>
          <a:ln w="12600">
            <a:solidFill>
              <a:srgbClr val="d5091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7238880" y="3733920"/>
            <a:ext cx="304920" cy="75960"/>
          </a:xfrm>
          <a:prstGeom prst="line">
            <a:avLst/>
          </a:prstGeom>
          <a:ln w="12600">
            <a:solidFill>
              <a:srgbClr val="d5091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4724280"/>
            <a:ext cx="304560" cy="0"/>
          </a:xfrm>
          <a:prstGeom prst="line">
            <a:avLst/>
          </a:prstGeom>
          <a:ln w="12600">
            <a:solidFill>
              <a:srgbClr val="d50915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32280" y="440388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. Mod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461280" y="5241960"/>
            <a:ext cx="2251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. Contai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d50915"/>
                </a:solidFill>
                <a:latin typeface="Book Antiqua"/>
                <a:ea typeface="Book Antiqua"/>
              </a:rPr>
              <a:t>Summa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110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allenges: Network Security and Safe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110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asis: Safe and Secure Programmabl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110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cept: Protocol-&gt;Graph-&gt;Chec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110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thod: Switchlets implement Chec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110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sult: Self-Checking Active Net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ttp://www.cis.upenn.edu/~jms/SoftSwitch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ttp://www.cis.upenn.edu/~jms/SCAN-full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‘‘</a:t>
            </a: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Active’’ Networ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09480" y="1981080"/>
            <a:ext cx="8510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ccelerate service creation with programmable network infra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alancing flexibility with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 hoc architectures difficult to tru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nn/Bellcore “SwitchWare” research (with Dave Sincoskie, Mark Segal and Bill Marcus at Bellco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lank Slate” look at node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Routing IP Pack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del: Store and Forw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3124080"/>
            <a:ext cx="5638680" cy="15238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5181480"/>
            <a:ext cx="1295280" cy="5335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181480"/>
            <a:ext cx="1295280" cy="5335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575080" y="3328920"/>
            <a:ext cx="3703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. Dequeue Packet from Input 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. Determine “best” Output 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. Queue Packet on Output 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22240" y="5157720"/>
            <a:ext cx="8827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613560" y="5157720"/>
            <a:ext cx="8827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ut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5486400"/>
            <a:ext cx="30492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5486400"/>
            <a:ext cx="68580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43200" y="4648320"/>
            <a:ext cx="0" cy="83808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4648320"/>
            <a:ext cx="0" cy="76176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67280" y="5410080"/>
            <a:ext cx="68580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848720" y="5486400"/>
            <a:ext cx="38088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SwitchWare switch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ore, COMPUTE and Forward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3124080"/>
            <a:ext cx="5638680" cy="15238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553080" y="5181480"/>
            <a:ext cx="1295280" cy="5335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5181480"/>
            <a:ext cx="1295280" cy="5335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75080" y="3328920"/>
            <a:ext cx="370368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822240" y="5157720"/>
            <a:ext cx="8827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13560" y="5157720"/>
            <a:ext cx="88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5486400"/>
            <a:ext cx="30492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57400" y="5486400"/>
            <a:ext cx="68580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743200" y="4648320"/>
            <a:ext cx="0" cy="83808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867280" y="4648320"/>
            <a:ext cx="0" cy="76176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67280" y="5410080"/>
            <a:ext cx="68580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848720" y="5486400"/>
            <a:ext cx="38088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774880" y="2421000"/>
            <a:ext cx="2711520" cy="25527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743200" y="3505320"/>
            <a:ext cx="1676880" cy="1143360"/>
          </a:xfrm>
          <a:custGeom>
            <a:avLst/>
            <a:gdLst/>
            <a:ahLst/>
            <a:rect l="0" t="0" r="r" b="b"/>
            <a:pathLst>
              <a:path fill="none" w="4658" h="3176">
                <a:moveTo>
                  <a:pt x="4658" y="0"/>
                </a:moveTo>
                <a:lnTo>
                  <a:pt x="4658" y="0"/>
                </a:lnTo>
                <a:cubicBezTo>
                  <a:pt x="3840" y="0"/>
                  <a:pt x="3037" y="147"/>
                  <a:pt x="2329" y="426"/>
                </a:cubicBezTo>
                <a:cubicBezTo>
                  <a:pt x="1621" y="704"/>
                  <a:pt x="1033" y="1105"/>
                  <a:pt x="624" y="1588"/>
                </a:cubicBezTo>
                <a:cubicBezTo>
                  <a:pt x="215" y="2071"/>
                  <a:pt x="0" y="2618"/>
                  <a:pt x="0" y="3176"/>
                </a:cubicBezTo>
              </a:path>
            </a:pathLst>
          </a:custGeom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4120" y="4495680"/>
            <a:ext cx="533160" cy="15264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3429000"/>
            <a:ext cx="304920" cy="1522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55960" y="3710160"/>
            <a:ext cx="10987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955960" y="3710160"/>
            <a:ext cx="1098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74747"/>
                </a:solidFill>
                <a:latin typeface="Arial"/>
                <a:ea typeface="Arial"/>
              </a:rPr>
              <a:t>Switchl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613560" y="5157720"/>
            <a:ext cx="8827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ut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d50915"/>
                </a:solidFill>
                <a:latin typeface="Book Antiqua"/>
                <a:ea typeface="Book Antiqua"/>
              </a:rPr>
              <a:t>Gunter’s Trilingual Model</a:t>
            </a:r>
            <a:br>
              <a:rPr sz="3200"/>
            </a:br>
            <a:r>
              <a:rPr b="0" lang="en-US" sz="3200" spc="-1" strike="noStrike">
                <a:solidFill>
                  <a:srgbClr val="d50915"/>
                </a:solidFill>
                <a:latin typeface="Book Antiqua"/>
                <a:ea typeface="Book Antiqua"/>
              </a:rPr>
              <a:t>and the SwitchWare 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Switchlet Language for users (SL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Restricted ML for formal semant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Wire Language for communicating (WL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TIL-like, perhaps proof-carry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nfrastructure Language for Virtual Machine (IL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deally “ML++”; ML with SwitchWare run-ti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A SwitchWare Prototyp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ctive Bridging in Ca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62320" y="2666880"/>
            <a:ext cx="4191120" cy="220968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62320" y="3962520"/>
            <a:ext cx="4190760" cy="0"/>
          </a:xfrm>
          <a:prstGeom prst="line">
            <a:avLst/>
          </a:prstGeom>
          <a:ln w="25560">
            <a:solidFill>
              <a:srgbClr val="474747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70360" y="4014720"/>
            <a:ext cx="8445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74747"/>
                </a:solidFill>
                <a:latin typeface="Arial"/>
                <a:ea typeface="Arial"/>
              </a:rPr>
              <a:t>Linu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74747"/>
                </a:solidFill>
                <a:latin typeface="Arial"/>
                <a:ea typeface="Arial"/>
              </a:rPr>
              <a:t>Ker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4267080"/>
            <a:ext cx="609480" cy="609480"/>
          </a:xfrm>
          <a:prstGeom prst="rect">
            <a:avLst/>
          </a:prstGeom>
          <a:solidFill>
            <a:srgbClr val="a2c1fe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4267080"/>
            <a:ext cx="609480" cy="609480"/>
          </a:xfrm>
          <a:prstGeom prst="rect">
            <a:avLst/>
          </a:prstGeom>
          <a:solidFill>
            <a:srgbClr val="a2c1fe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727360" y="4341960"/>
            <a:ext cx="6364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Inpu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N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470560" y="4341960"/>
            <a:ext cx="7938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Outpu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N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4876920"/>
            <a:ext cx="1447920" cy="6858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4876920"/>
            <a:ext cx="1447920" cy="6858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203480" y="5027760"/>
            <a:ext cx="861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LAN #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42160" y="5027760"/>
            <a:ext cx="861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LAN #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62720" y="5181480"/>
            <a:ext cx="609480" cy="2286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43200" y="5181480"/>
            <a:ext cx="609480" cy="2286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727360" y="5127480"/>
            <a:ext cx="698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Fr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546880" y="5203800"/>
            <a:ext cx="698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Fr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5257800"/>
            <a:ext cx="38088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048120" y="4876920"/>
            <a:ext cx="0" cy="30456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4876920"/>
            <a:ext cx="0" cy="30456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72200" y="5334120"/>
            <a:ext cx="45720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2971800"/>
            <a:ext cx="2362320" cy="685800"/>
          </a:xfrm>
          <a:prstGeom prst="rect">
            <a:avLst/>
          </a:prstGeom>
          <a:solidFill>
            <a:srgbClr val="d49fff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0880" y="3046320"/>
            <a:ext cx="8618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Ca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Syste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67080" y="3124080"/>
            <a:ext cx="11430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91120" y="3200400"/>
            <a:ext cx="11430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327560" y="3246480"/>
            <a:ext cx="760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474747"/>
                </a:solidFill>
                <a:latin typeface="Arial"/>
                <a:ea typeface="Arial"/>
              </a:rPr>
              <a:t>Load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474747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165640" y="2803680"/>
            <a:ext cx="268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474747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18280" y="2727360"/>
            <a:ext cx="268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474747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048120" y="3962520"/>
            <a:ext cx="533160" cy="304560"/>
          </a:xfrm>
          <a:prstGeom prst="line">
            <a:avLst/>
          </a:prstGeom>
          <a:ln w="12600">
            <a:solidFill>
              <a:srgbClr val="474747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581280" y="3657600"/>
            <a:ext cx="228600" cy="304920"/>
          </a:xfrm>
          <a:prstGeom prst="line">
            <a:avLst/>
          </a:prstGeom>
          <a:ln w="12600">
            <a:solidFill>
              <a:srgbClr val="474747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3657600"/>
            <a:ext cx="609480" cy="304920"/>
          </a:xfrm>
          <a:prstGeom prst="line">
            <a:avLst/>
          </a:prstGeom>
          <a:ln w="12600">
            <a:solidFill>
              <a:srgbClr val="474747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962520"/>
            <a:ext cx="0" cy="304560"/>
          </a:xfrm>
          <a:prstGeom prst="line">
            <a:avLst/>
          </a:prstGeom>
          <a:ln w="12600">
            <a:solidFill>
              <a:srgbClr val="474747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809880" y="3505320"/>
            <a:ext cx="457200" cy="152280"/>
          </a:xfrm>
          <a:prstGeom prst="line">
            <a:avLst/>
          </a:prstGeom>
          <a:ln w="12600">
            <a:solidFill>
              <a:srgbClr val="ffffff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81480" y="3581280"/>
            <a:ext cx="76320" cy="76320"/>
          </a:xfrm>
          <a:prstGeom prst="line">
            <a:avLst/>
          </a:prstGeom>
          <a:ln w="12600">
            <a:solidFill>
              <a:srgbClr val="ffffff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09480" y="228600"/>
            <a:ext cx="78487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Hardware: x86 multiprocess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hared Memory MP as “Switc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05120" y="3124080"/>
            <a:ext cx="4952880" cy="27432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4876920"/>
            <a:ext cx="1143000" cy="6858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0" y="3505320"/>
            <a:ext cx="1143000" cy="6858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0" y="4952880"/>
            <a:ext cx="1143000" cy="6858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3505320"/>
            <a:ext cx="1143000" cy="6858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46280" y="3656160"/>
            <a:ext cx="1111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100Bas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918480" y="3656160"/>
            <a:ext cx="1111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100Bas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22240" y="5027760"/>
            <a:ext cx="1111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100Bas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70760" y="5027760"/>
            <a:ext cx="8841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OC3/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05120" y="3733920"/>
            <a:ext cx="533520" cy="304920"/>
          </a:xfrm>
          <a:prstGeom prst="rect">
            <a:avLst/>
          </a:prstGeom>
          <a:solidFill>
            <a:srgbClr val="a2c1f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889280" y="3732120"/>
            <a:ext cx="533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N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5105520"/>
            <a:ext cx="533520" cy="304920"/>
          </a:xfrm>
          <a:prstGeom prst="rect">
            <a:avLst/>
          </a:prstGeom>
          <a:solidFill>
            <a:srgbClr val="a2c1f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324480" y="5181480"/>
            <a:ext cx="533520" cy="304920"/>
          </a:xfrm>
          <a:prstGeom prst="rect">
            <a:avLst/>
          </a:prstGeom>
          <a:solidFill>
            <a:srgbClr val="a2c1f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3733920"/>
            <a:ext cx="533520" cy="304920"/>
          </a:xfrm>
          <a:prstGeom prst="rect">
            <a:avLst/>
          </a:prstGeom>
          <a:solidFill>
            <a:srgbClr val="a2c1f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889280" y="5103720"/>
            <a:ext cx="533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N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308640" y="3732120"/>
            <a:ext cx="533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N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308640" y="5180040"/>
            <a:ext cx="533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N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24480" y="3581280"/>
            <a:ext cx="0" cy="2057400"/>
          </a:xfrm>
          <a:prstGeom prst="line">
            <a:avLst/>
          </a:prstGeom>
          <a:ln w="7632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3581280"/>
            <a:ext cx="0" cy="2057400"/>
          </a:xfrm>
          <a:prstGeom prst="line">
            <a:avLst/>
          </a:prstGeom>
          <a:ln w="7632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90920" y="4572000"/>
            <a:ext cx="3657600" cy="0"/>
          </a:xfrm>
          <a:prstGeom prst="line">
            <a:avLst/>
          </a:prstGeom>
          <a:ln w="15228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3505320"/>
            <a:ext cx="533520" cy="457200"/>
          </a:xfrm>
          <a:prstGeom prst="rect">
            <a:avLst/>
          </a:prstGeom>
          <a:solidFill>
            <a:srgbClr val="a2c1fe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95480" y="3505320"/>
            <a:ext cx="533520" cy="457200"/>
          </a:xfrm>
          <a:prstGeom prst="rect">
            <a:avLst/>
          </a:prstGeom>
          <a:solidFill>
            <a:srgbClr val="a2c1fe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3505320"/>
            <a:ext cx="533520" cy="457200"/>
          </a:xfrm>
          <a:prstGeom prst="rect">
            <a:avLst/>
          </a:prstGeom>
          <a:solidFill>
            <a:srgbClr val="a2c1fe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3505320"/>
            <a:ext cx="533520" cy="457200"/>
          </a:xfrm>
          <a:prstGeom prst="rect">
            <a:avLst/>
          </a:prstGeom>
          <a:solidFill>
            <a:srgbClr val="a2c1fe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79640" y="355752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74747"/>
                </a:solidFill>
                <a:latin typeface="Arial"/>
                <a:ea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18080" y="355752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74747"/>
                </a:solidFill>
                <a:latin typeface="Arial"/>
                <a:ea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56160" y="355752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74747"/>
                </a:solidFill>
                <a:latin typeface="Arial"/>
                <a:ea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470560" y="355752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74747"/>
                </a:solidFill>
                <a:latin typeface="Arial"/>
                <a:ea typeface="Arial"/>
              </a:rPr>
              <a:t>P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9880" y="4114800"/>
            <a:ext cx="380880" cy="228600"/>
          </a:xfrm>
          <a:prstGeom prst="rect">
            <a:avLst/>
          </a:prstGeom>
          <a:solidFill>
            <a:srgbClr val="51dc00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4114800"/>
            <a:ext cx="380880" cy="228600"/>
          </a:xfrm>
          <a:prstGeom prst="rect">
            <a:avLst/>
          </a:prstGeom>
          <a:solidFill>
            <a:srgbClr val="51dc00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486400" y="4114800"/>
            <a:ext cx="380880" cy="228600"/>
          </a:xfrm>
          <a:prstGeom prst="rect">
            <a:avLst/>
          </a:prstGeom>
          <a:solidFill>
            <a:srgbClr val="51dc00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71800" y="4114800"/>
            <a:ext cx="380880" cy="228600"/>
          </a:xfrm>
          <a:prstGeom prst="rect">
            <a:avLst/>
          </a:prstGeom>
          <a:solidFill>
            <a:srgbClr val="51dc00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955960" y="4037040"/>
            <a:ext cx="409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L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794040" y="4037040"/>
            <a:ext cx="466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L2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32480" y="4037040"/>
            <a:ext cx="409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L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470560" y="4037040"/>
            <a:ext cx="409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L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95480" y="4952880"/>
            <a:ext cx="3048120" cy="609480"/>
          </a:xfrm>
          <a:prstGeom prst="rect">
            <a:avLst/>
          </a:prstGeom>
          <a:solidFill>
            <a:srgbClr val="51dc00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489480" y="5013360"/>
            <a:ext cx="1962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474747"/>
                </a:solidFill>
                <a:latin typeface="Arial"/>
                <a:ea typeface="Arial"/>
              </a:rPr>
              <a:t>512 MB EC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4572000"/>
            <a:ext cx="0" cy="380880"/>
          </a:xfrm>
          <a:prstGeom prst="line">
            <a:avLst/>
          </a:prstGeom>
          <a:ln w="15228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00400" y="4343400"/>
            <a:ext cx="0" cy="152280"/>
          </a:xfrm>
          <a:prstGeom prst="line">
            <a:avLst/>
          </a:prstGeom>
          <a:ln w="7632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69120" bIns="69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15000" y="3962520"/>
            <a:ext cx="0" cy="152280"/>
          </a:xfrm>
          <a:prstGeom prst="line">
            <a:avLst/>
          </a:prstGeom>
          <a:ln w="7632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69120" bIns="69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38480" y="3962520"/>
            <a:ext cx="0" cy="152280"/>
          </a:xfrm>
          <a:prstGeom prst="line">
            <a:avLst/>
          </a:prstGeom>
          <a:ln w="7632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69120" bIns="69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76920" y="3962520"/>
            <a:ext cx="0" cy="152280"/>
          </a:xfrm>
          <a:prstGeom prst="line">
            <a:avLst/>
          </a:prstGeom>
          <a:ln w="7632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69120" bIns="69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038480" y="4343400"/>
            <a:ext cx="0" cy="152280"/>
          </a:xfrm>
          <a:prstGeom prst="line">
            <a:avLst/>
          </a:prstGeom>
          <a:ln w="7632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69120" bIns="69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76920" y="4343400"/>
            <a:ext cx="0" cy="152280"/>
          </a:xfrm>
          <a:prstGeom prst="line">
            <a:avLst/>
          </a:prstGeom>
          <a:ln w="7632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69120" bIns="69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15000" y="4343400"/>
            <a:ext cx="0" cy="152280"/>
          </a:xfrm>
          <a:prstGeom prst="line">
            <a:avLst/>
          </a:prstGeom>
          <a:ln w="7632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69120" bIns="69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0400" y="3962520"/>
            <a:ext cx="0" cy="152280"/>
          </a:xfrm>
          <a:prstGeom prst="line">
            <a:avLst/>
          </a:prstGeom>
          <a:ln w="7632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69120" bIns="69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Lessons from prototy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6 Mbps vs. 32 Mbps for “C” equival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cremental Load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ffered Repe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lf-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anning Tree Algorithms (DEC &amp; IEE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utomatic STA Transition in &lt;0.1s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ttp://oilhead.cis.upenn.edu/~sal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From Nodes to  Networ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tributed systems require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raph models (Cerf, Farber&amp;Poste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essage emissions on some ar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ECK validity of message sequ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asis of OVERSEER (Pickens&amp;Farb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uch CHECKING is distributed &amp; sca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ctive Nets can run CHEC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nathan M. Smith</dc:creator>
  <dc:description/>
  <dc:language>en-US</dc:language>
  <cp:lastModifiedBy>Jonathan Smith</cp:lastModifiedBy>
  <cp:revision>0</cp:revision>
  <dc:subject>New use for programmable infrastructure</dc:subject>
  <dc:title>Self-Checking ACtive Networks</dc:title>
</cp:coreProperties>
</file>