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bmp" ContentType="image/bmp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0A429D-C337-44F7-BE1D-EBCD0B1AA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ocus the discussion, I am going to use as an example an abstract application that I call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Transit -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990720"/>
            <a:ext cx="8686800" cy="76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ccccff"/>
              </a:gs>
            </a:gsLst>
            <a:lin ang="0"/>
          </a:gra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180200" y="5919840"/>
            <a:ext cx="1918080" cy="936720"/>
            <a:chOff x="7180200" y="5919840"/>
            <a:chExt cx="1918080" cy="93672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180200" y="5919840"/>
              <a:ext cx="188928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 txBox="1"/>
            <p:nvPr/>
          </p:nvSpPr>
          <p:spPr>
            <a:xfrm>
              <a:off x="8034480" y="6523200"/>
              <a:ext cx="1063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  <a:ea typeface="Arial Rounded MT Bold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bmp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295280"/>
            <a:ext cx="91425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izing Control Policies</a:t>
            </a:r>
            <a:br>
              <a:rPr sz="54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br>
              <a:rPr sz="1800"/>
            </a:br>
            <a:r>
              <a:rPr b="0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ppl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8620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ísli Hjálmtý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&amp;T Labs -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urray Hill, New Jer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isli@research.at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ion of Signaling &amp;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04920" y="11430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ghtweight Signal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, UN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minimal facilities essential for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ignaling (QoS) uses flow specific 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flow: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w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p an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p (in-b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tency Tolerant Control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out-of-box (remote)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ens state - protocol survives on raw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ized control and intra-domain knowledge can  enhance quality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S support for control level resource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, integrity, schedul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ynamic binding (unbinding) of control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 demand (application specific)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control evolution (e.g., rou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ies become transient per flow entities (rob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s need for standar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to download control code into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bile control polici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topology chan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ynamically change the control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of controllers (e.g., load balance, c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ther control policy is in data-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erformanc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rdwar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ready avail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C. que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m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rol path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band signaling useful, but ties data-path and control path too much (see multicast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rame pee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ntrollers in the data path (e.g., thin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king avoids segmentation (even reassemb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0492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W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rchitecture for customized control for every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twork operator policy may in practice limit who, when and how often policies may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new architectural model for contro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weight signaling, dynamic binding of control policies, control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switch hardware support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path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peeking (for controllers in data pa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ne Size Fit All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parate backbones for different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, IP, FrameRelay, Teleph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sers don’t care about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ly to offer unified services on multipl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w services being introduced at increasing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support rapid service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ential to react quickly (to competitors off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267600" y="0"/>
            <a:ext cx="2142000" cy="1895760"/>
            <a:chOff x="6267600" y="0"/>
            <a:chExt cx="2142000" cy="1895760"/>
          </a:xfrm>
        </p:grpSpPr>
        <p:grpSp>
          <p:nvGrpSpPr>
            <p:cNvPr id="54" name=""/>
            <p:cNvGrpSpPr/>
            <p:nvPr/>
          </p:nvGrpSpPr>
          <p:grpSpPr>
            <a:xfrm>
              <a:off x="7203960" y="0"/>
              <a:ext cx="889200" cy="873360"/>
              <a:chOff x="7203960" y="0"/>
              <a:chExt cx="889200" cy="873360"/>
            </a:xfrm>
          </p:grpSpPr>
          <p:sp>
            <p:nvSpPr>
              <p:cNvPr id="55" name=""/>
              <p:cNvSpPr/>
              <p:nvPr/>
            </p:nvSpPr>
            <p:spPr>
              <a:xfrm>
                <a:off x="7203960" y="0"/>
                <a:ext cx="889200" cy="873360"/>
              </a:xfrm>
              <a:custGeom>
                <a:avLst/>
                <a:gdLst/>
                <a:ahLst/>
                <a:rect l="0" t="0" r="r" b="b"/>
                <a:pathLst>
                  <a:path w="2470" h="2426">
                    <a:moveTo>
                      <a:pt x="0" y="378"/>
                    </a:moveTo>
                    <a:lnTo>
                      <a:pt x="163" y="657"/>
                    </a:lnTo>
                    <a:lnTo>
                      <a:pt x="330" y="1184"/>
                    </a:lnTo>
                    <a:lnTo>
                      <a:pt x="511" y="1672"/>
                    </a:lnTo>
                    <a:lnTo>
                      <a:pt x="493" y="1920"/>
                    </a:lnTo>
                    <a:lnTo>
                      <a:pt x="352" y="2187"/>
                    </a:lnTo>
                    <a:lnTo>
                      <a:pt x="1040" y="2355"/>
                    </a:lnTo>
                    <a:lnTo>
                      <a:pt x="1526" y="2426"/>
                    </a:lnTo>
                    <a:lnTo>
                      <a:pt x="2108" y="2289"/>
                    </a:lnTo>
                    <a:lnTo>
                      <a:pt x="2364" y="2010"/>
                    </a:lnTo>
                    <a:lnTo>
                      <a:pt x="2470" y="1855"/>
                    </a:lnTo>
                    <a:lnTo>
                      <a:pt x="2267" y="1604"/>
                    </a:lnTo>
                    <a:lnTo>
                      <a:pt x="2095" y="1104"/>
                    </a:lnTo>
                    <a:lnTo>
                      <a:pt x="2033" y="707"/>
                    </a:lnTo>
                    <a:lnTo>
                      <a:pt x="1976" y="396"/>
                    </a:lnTo>
                    <a:lnTo>
                      <a:pt x="2016" y="0"/>
                    </a:lnTo>
                    <a:lnTo>
                      <a:pt x="1416" y="93"/>
                    </a:lnTo>
                    <a:lnTo>
                      <a:pt x="776" y="173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e0e0e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84920" y="531720"/>
                <a:ext cx="267120" cy="276480"/>
              </a:xfrm>
              <a:custGeom>
                <a:avLst/>
                <a:gdLst/>
                <a:ahLst/>
                <a:rect l="0" t="0" r="r" b="b"/>
                <a:pathLst>
                  <a:path w="742" h="768">
                    <a:moveTo>
                      <a:pt x="521" y="0"/>
                    </a:moveTo>
                    <a:lnTo>
                      <a:pt x="459" y="299"/>
                    </a:lnTo>
                    <a:lnTo>
                      <a:pt x="225" y="609"/>
                    </a:lnTo>
                    <a:lnTo>
                      <a:pt x="0" y="768"/>
                    </a:lnTo>
                    <a:lnTo>
                      <a:pt x="628" y="534"/>
                    </a:lnTo>
                    <a:lnTo>
                      <a:pt x="742" y="286"/>
                    </a:lnTo>
                    <a:lnTo>
                      <a:pt x="52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6267600" y="554040"/>
              <a:ext cx="2142000" cy="1341720"/>
              <a:chOff x="6267600" y="554040"/>
              <a:chExt cx="2142000" cy="1341720"/>
            </a:xfrm>
          </p:grpSpPr>
          <p:sp>
            <p:nvSpPr>
              <p:cNvPr id="58" name=""/>
              <p:cNvSpPr/>
              <p:nvPr/>
            </p:nvSpPr>
            <p:spPr>
              <a:xfrm>
                <a:off x="6267600" y="554040"/>
                <a:ext cx="2142000" cy="1341720"/>
              </a:xfrm>
              <a:custGeom>
                <a:avLst/>
                <a:gdLst/>
                <a:ahLst/>
                <a:rect l="0" t="0" r="r" b="b"/>
                <a:pathLst>
                  <a:path w="5950" h="3727">
                    <a:moveTo>
                      <a:pt x="2902" y="529"/>
                    </a:moveTo>
                    <a:lnTo>
                      <a:pt x="2620" y="718"/>
                    </a:lnTo>
                    <a:lnTo>
                      <a:pt x="2638" y="903"/>
                    </a:lnTo>
                    <a:lnTo>
                      <a:pt x="2214" y="1481"/>
                    </a:lnTo>
                    <a:lnTo>
                      <a:pt x="1791" y="1875"/>
                    </a:lnTo>
                    <a:lnTo>
                      <a:pt x="1397" y="2214"/>
                    </a:lnTo>
                    <a:lnTo>
                      <a:pt x="996" y="2510"/>
                    </a:lnTo>
                    <a:lnTo>
                      <a:pt x="436" y="2787"/>
                    </a:lnTo>
                    <a:lnTo>
                      <a:pt x="83" y="3136"/>
                    </a:lnTo>
                    <a:lnTo>
                      <a:pt x="0" y="3321"/>
                    </a:lnTo>
                    <a:lnTo>
                      <a:pt x="79" y="3471"/>
                    </a:lnTo>
                    <a:lnTo>
                      <a:pt x="48" y="3603"/>
                    </a:lnTo>
                    <a:lnTo>
                      <a:pt x="185" y="3727"/>
                    </a:lnTo>
                    <a:lnTo>
                      <a:pt x="511" y="3700"/>
                    </a:lnTo>
                    <a:lnTo>
                      <a:pt x="1637" y="3444"/>
                    </a:lnTo>
                    <a:lnTo>
                      <a:pt x="2545" y="3211"/>
                    </a:lnTo>
                    <a:lnTo>
                      <a:pt x="3736" y="2748"/>
                    </a:lnTo>
                    <a:lnTo>
                      <a:pt x="4707" y="2430"/>
                    </a:lnTo>
                    <a:lnTo>
                      <a:pt x="5474" y="2236"/>
                    </a:lnTo>
                    <a:lnTo>
                      <a:pt x="5800" y="2077"/>
                    </a:lnTo>
                    <a:lnTo>
                      <a:pt x="5950" y="1843"/>
                    </a:lnTo>
                    <a:lnTo>
                      <a:pt x="5809" y="1706"/>
                    </a:lnTo>
                    <a:lnTo>
                      <a:pt x="5906" y="1221"/>
                    </a:lnTo>
                    <a:lnTo>
                      <a:pt x="5836" y="917"/>
                    </a:lnTo>
                    <a:lnTo>
                      <a:pt x="5743" y="648"/>
                    </a:lnTo>
                    <a:lnTo>
                      <a:pt x="5540" y="352"/>
                    </a:lnTo>
                    <a:lnTo>
                      <a:pt x="5306" y="180"/>
                    </a:lnTo>
                    <a:lnTo>
                      <a:pt x="5320" y="0"/>
                    </a:lnTo>
                    <a:lnTo>
                      <a:pt x="5143" y="22"/>
                    </a:lnTo>
                    <a:lnTo>
                      <a:pt x="4923" y="489"/>
                    </a:lnTo>
                    <a:lnTo>
                      <a:pt x="4733" y="762"/>
                    </a:lnTo>
                    <a:lnTo>
                      <a:pt x="4172" y="921"/>
                    </a:lnTo>
                    <a:lnTo>
                      <a:pt x="3775" y="833"/>
                    </a:lnTo>
                    <a:lnTo>
                      <a:pt x="3299" y="687"/>
                    </a:lnTo>
                    <a:lnTo>
                      <a:pt x="2902" y="529"/>
                    </a:lnTo>
                    <a:close/>
                  </a:path>
                </a:pathLst>
              </a:custGeom>
              <a:solidFill>
                <a:srgbClr val="c0ffff"/>
              </a:solidFill>
              <a:ln w="12600">
                <a:solidFill>
                  <a:srgbClr val="0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694560" y="985680"/>
                <a:ext cx="719640" cy="525960"/>
              </a:xfrm>
              <a:custGeom>
                <a:avLst/>
                <a:gdLst/>
                <a:ahLst/>
                <a:rect l="0" t="0" r="r" b="b"/>
                <a:pathLst>
                  <a:path w="1999" h="1461">
                    <a:moveTo>
                      <a:pt x="1442" y="0"/>
                    </a:moveTo>
                    <a:lnTo>
                      <a:pt x="1717" y="176"/>
                    </a:lnTo>
                    <a:lnTo>
                      <a:pt x="1487" y="499"/>
                    </a:lnTo>
                    <a:lnTo>
                      <a:pt x="1293" y="299"/>
                    </a:lnTo>
                    <a:lnTo>
                      <a:pt x="1143" y="411"/>
                    </a:lnTo>
                    <a:lnTo>
                      <a:pt x="1425" y="516"/>
                    </a:lnTo>
                    <a:lnTo>
                      <a:pt x="1054" y="812"/>
                    </a:lnTo>
                    <a:lnTo>
                      <a:pt x="847" y="618"/>
                    </a:lnTo>
                    <a:lnTo>
                      <a:pt x="719" y="759"/>
                    </a:lnTo>
                    <a:lnTo>
                      <a:pt x="913" y="856"/>
                    </a:lnTo>
                    <a:lnTo>
                      <a:pt x="649" y="1094"/>
                    </a:lnTo>
                    <a:lnTo>
                      <a:pt x="379" y="1210"/>
                    </a:lnTo>
                    <a:lnTo>
                      <a:pt x="273" y="1076"/>
                    </a:lnTo>
                    <a:lnTo>
                      <a:pt x="0" y="1307"/>
                    </a:lnTo>
                    <a:lnTo>
                      <a:pt x="286" y="1307"/>
                    </a:lnTo>
                    <a:lnTo>
                      <a:pt x="105" y="1439"/>
                    </a:lnTo>
                    <a:lnTo>
                      <a:pt x="264" y="1461"/>
                    </a:lnTo>
                    <a:lnTo>
                      <a:pt x="627" y="1249"/>
                    </a:lnTo>
                    <a:lnTo>
                      <a:pt x="1015" y="962"/>
                    </a:lnTo>
                    <a:lnTo>
                      <a:pt x="1615" y="477"/>
                    </a:lnTo>
                    <a:lnTo>
                      <a:pt x="1999" y="0"/>
                    </a:lnTo>
                    <a:lnTo>
                      <a:pt x="1442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343560" y="636480"/>
                <a:ext cx="2065680" cy="1200600"/>
              </a:xfrm>
              <a:custGeom>
                <a:avLst/>
                <a:gdLst/>
                <a:ahLst/>
                <a:rect l="0" t="0" r="r" b="b"/>
                <a:pathLst>
                  <a:path w="5738" h="3335">
                    <a:moveTo>
                      <a:pt x="5169" y="0"/>
                    </a:moveTo>
                    <a:lnTo>
                      <a:pt x="5208" y="555"/>
                    </a:lnTo>
                    <a:lnTo>
                      <a:pt x="5063" y="979"/>
                    </a:lnTo>
                    <a:lnTo>
                      <a:pt x="4648" y="1531"/>
                    </a:lnTo>
                    <a:lnTo>
                      <a:pt x="4300" y="1897"/>
                    </a:lnTo>
                    <a:lnTo>
                      <a:pt x="4128" y="2069"/>
                    </a:lnTo>
                    <a:lnTo>
                      <a:pt x="2866" y="2542"/>
                    </a:lnTo>
                    <a:lnTo>
                      <a:pt x="1371" y="3009"/>
                    </a:lnTo>
                    <a:lnTo>
                      <a:pt x="670" y="3199"/>
                    </a:lnTo>
                    <a:lnTo>
                      <a:pt x="79" y="3256"/>
                    </a:lnTo>
                    <a:lnTo>
                      <a:pt x="0" y="3322"/>
                    </a:lnTo>
                    <a:lnTo>
                      <a:pt x="185" y="3335"/>
                    </a:lnTo>
                    <a:lnTo>
                      <a:pt x="617" y="3251"/>
                    </a:lnTo>
                    <a:lnTo>
                      <a:pt x="1419" y="3062"/>
                    </a:lnTo>
                    <a:lnTo>
                      <a:pt x="1975" y="2890"/>
                    </a:lnTo>
                    <a:lnTo>
                      <a:pt x="3056" y="2555"/>
                    </a:lnTo>
                    <a:lnTo>
                      <a:pt x="3925" y="2236"/>
                    </a:lnTo>
                    <a:lnTo>
                      <a:pt x="4781" y="1936"/>
                    </a:lnTo>
                    <a:lnTo>
                      <a:pt x="5332" y="1685"/>
                    </a:lnTo>
                    <a:lnTo>
                      <a:pt x="5645" y="1487"/>
                    </a:lnTo>
                    <a:lnTo>
                      <a:pt x="5667" y="1332"/>
                    </a:lnTo>
                    <a:lnTo>
                      <a:pt x="5738" y="1107"/>
                    </a:lnTo>
                    <a:lnTo>
                      <a:pt x="5720" y="815"/>
                    </a:lnTo>
                    <a:lnTo>
                      <a:pt x="5658" y="590"/>
                    </a:lnTo>
                    <a:lnTo>
                      <a:pt x="5574" y="370"/>
                    </a:lnTo>
                    <a:lnTo>
                      <a:pt x="5491" y="246"/>
                    </a:lnTo>
                    <a:lnTo>
                      <a:pt x="516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840360" y="977760"/>
                <a:ext cx="979920" cy="589320"/>
              </a:xfrm>
              <a:custGeom>
                <a:avLst/>
                <a:gdLst/>
                <a:ahLst/>
                <a:rect l="0" t="0" r="r" b="b"/>
                <a:pathLst>
                  <a:path w="2722" h="1637">
                    <a:moveTo>
                      <a:pt x="1998" y="0"/>
                    </a:moveTo>
                    <a:lnTo>
                      <a:pt x="1363" y="586"/>
                    </a:lnTo>
                    <a:lnTo>
                      <a:pt x="418" y="1288"/>
                    </a:lnTo>
                    <a:lnTo>
                      <a:pt x="0" y="1531"/>
                    </a:lnTo>
                    <a:lnTo>
                      <a:pt x="282" y="1637"/>
                    </a:lnTo>
                    <a:lnTo>
                      <a:pt x="781" y="1606"/>
                    </a:lnTo>
                    <a:lnTo>
                      <a:pt x="2123" y="1138"/>
                    </a:lnTo>
                    <a:lnTo>
                      <a:pt x="2722" y="940"/>
                    </a:lnTo>
                    <a:lnTo>
                      <a:pt x="2295" y="617"/>
                    </a:lnTo>
                    <a:lnTo>
                      <a:pt x="1588" y="1024"/>
                    </a:lnTo>
                    <a:lnTo>
                      <a:pt x="803" y="1341"/>
                    </a:lnTo>
                    <a:lnTo>
                      <a:pt x="555" y="1412"/>
                    </a:lnTo>
                    <a:lnTo>
                      <a:pt x="1368" y="909"/>
                    </a:lnTo>
                    <a:lnTo>
                      <a:pt x="2206" y="427"/>
                    </a:lnTo>
                    <a:lnTo>
                      <a:pt x="1998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721280" y="909360"/>
                <a:ext cx="311760" cy="278280"/>
              </a:xfrm>
              <a:custGeom>
                <a:avLst/>
                <a:gdLst/>
                <a:ahLst/>
                <a:rect l="0" t="0" r="r" b="b"/>
                <a:pathLst>
                  <a:path w="866" h="773">
                    <a:moveTo>
                      <a:pt x="13" y="507"/>
                    </a:moveTo>
                    <a:lnTo>
                      <a:pt x="13" y="507"/>
                    </a:lnTo>
                    <a:lnTo>
                      <a:pt x="13" y="508"/>
                    </a:lnTo>
                    <a:cubicBezTo>
                      <a:pt x="32" y="572"/>
                      <a:pt x="69" y="630"/>
                      <a:pt x="122" y="675"/>
                    </a:cubicBezTo>
                    <a:cubicBezTo>
                      <a:pt x="175" y="720"/>
                      <a:pt x="241" y="752"/>
                      <a:pt x="315" y="766"/>
                    </a:cubicBezTo>
                    <a:cubicBezTo>
                      <a:pt x="388" y="779"/>
                      <a:pt x="465" y="776"/>
                      <a:pt x="539" y="754"/>
                    </a:cubicBezTo>
                    <a:cubicBezTo>
                      <a:pt x="613" y="733"/>
                      <a:pt x="680" y="696"/>
                      <a:pt x="735" y="645"/>
                    </a:cubicBezTo>
                    <a:cubicBezTo>
                      <a:pt x="790" y="594"/>
                      <a:pt x="829" y="533"/>
                      <a:pt x="850" y="466"/>
                    </a:cubicBezTo>
                    <a:cubicBezTo>
                      <a:pt x="871" y="400"/>
                      <a:pt x="872" y="331"/>
                      <a:pt x="854" y="267"/>
                    </a:cubicBezTo>
                    <a:lnTo>
                      <a:pt x="854" y="267"/>
                    </a:lnTo>
                    <a:lnTo>
                      <a:pt x="854" y="266"/>
                    </a:lnTo>
                    <a:cubicBezTo>
                      <a:pt x="835" y="202"/>
                      <a:pt x="798" y="144"/>
                      <a:pt x="745" y="99"/>
                    </a:cubicBezTo>
                    <a:cubicBezTo>
                      <a:pt x="692" y="54"/>
                      <a:pt x="626" y="22"/>
                      <a:pt x="552" y="8"/>
                    </a:cubicBezTo>
                    <a:cubicBezTo>
                      <a:pt x="479" y="-5"/>
                      <a:pt x="402" y="-2"/>
                      <a:pt x="328" y="20"/>
                    </a:cubicBezTo>
                    <a:cubicBezTo>
                      <a:pt x="254" y="41"/>
                      <a:pt x="187" y="78"/>
                      <a:pt x="132" y="129"/>
                    </a:cubicBezTo>
                    <a:cubicBezTo>
                      <a:pt x="77" y="180"/>
                      <a:pt x="38" y="241"/>
                      <a:pt x="17" y="308"/>
                    </a:cubicBezTo>
                    <a:cubicBezTo>
                      <a:pt x="-4" y="374"/>
                      <a:pt x="-5" y="443"/>
                      <a:pt x="13" y="507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 Diverse Contro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tractive to have one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y (cost reduction) in network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onl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nfrastructure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various transport needs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various </a:t>
            </a:r>
            <a:r>
              <a:rPr b="0" i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M offers flexible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customized transport (QoS) for each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60’s style signaling and control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id control model; limited and costly sig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5880" y="2430360"/>
            <a:ext cx="23385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Virtual Private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ivat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implement their own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, admission control, reservations (QoS), disaster recovery, filtering, security, encoding, e.t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rtual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 are sh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virtual topology ex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ies implemented at virtu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 points (virtual switch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ynam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ies, topology and level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change on (customer)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943600" y="3200400"/>
            <a:ext cx="2895840" cy="2438280"/>
            <a:chOff x="5943600" y="3200400"/>
            <a:chExt cx="2895840" cy="2438280"/>
          </a:xfrm>
        </p:grpSpPr>
        <p:sp>
          <p:nvSpPr>
            <p:cNvPr id="69" name=""/>
            <p:cNvSpPr txBox="1"/>
            <p:nvPr/>
          </p:nvSpPr>
          <p:spPr>
            <a:xfrm>
              <a:off x="7391520" y="3200400"/>
              <a:ext cx="144792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rt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5943600" y="3200400"/>
              <a:ext cx="1447920" cy="2438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5880" y="3657600"/>
              <a:ext cx="1067040" cy="1752480"/>
              <a:chOff x="6095880" y="3657600"/>
              <a:chExt cx="1067040" cy="1752480"/>
            </a:xfrm>
          </p:grpSpPr>
          <p:sp>
            <p:nvSpPr>
              <p:cNvPr id="72" name=""/>
              <p:cNvSpPr/>
              <p:nvPr/>
            </p:nvSpPr>
            <p:spPr>
              <a:xfrm>
                <a:off x="6095880" y="449568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00800" y="411480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53080" y="464832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10280" y="411480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6172200" y="4572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6629400" y="472428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6934320" y="4724280"/>
                <a:ext cx="15228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6477120" y="373392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58000" y="3733920"/>
                <a:ext cx="2286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6172200" y="4191120"/>
                <a:ext cx="3049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flipV="1">
                <a:off x="6477120" y="4191120"/>
                <a:ext cx="152280" cy="53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86600" y="419112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7010280" y="4648320"/>
                <a:ext cx="152640" cy="152280"/>
                <a:chOff x="7010280" y="4648320"/>
                <a:chExt cx="152640" cy="1522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7010280" y="46483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010280" y="46483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H="1">
                  <a:off x="7010280" y="46483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553080" y="4648320"/>
                <a:ext cx="152640" cy="152280"/>
                <a:chOff x="6553080" y="4648320"/>
                <a:chExt cx="152640" cy="1522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553080" y="46483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553080" y="46483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>
                  <a:off x="6553080" y="46483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6400800" y="4114800"/>
                <a:ext cx="152280" cy="152280"/>
                <a:chOff x="6400800" y="4114800"/>
                <a:chExt cx="152280" cy="1522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400800" y="41148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400800" y="41148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6400800" y="41148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095880" y="4495680"/>
                <a:ext cx="152640" cy="152640"/>
                <a:chOff x="6095880" y="4495680"/>
                <a:chExt cx="152640" cy="152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095880" y="44956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095880" y="44956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6095880" y="44956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7010280" y="4114800"/>
                <a:ext cx="152640" cy="152280"/>
                <a:chOff x="7010280" y="4114800"/>
                <a:chExt cx="152640" cy="152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010280" y="41148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010280" y="41148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7010280" y="41148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781680" y="3657600"/>
                <a:ext cx="152640" cy="152640"/>
                <a:chOff x="6781680" y="3657600"/>
                <a:chExt cx="152640" cy="1526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781680" y="36576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781680" y="365760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6095880" y="49528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58000" y="5257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55308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620120" y="3657600"/>
              <a:ext cx="914040" cy="1752480"/>
              <a:chOff x="7620120" y="3657600"/>
              <a:chExt cx="914040" cy="1752480"/>
            </a:xfrm>
          </p:grpSpPr>
          <p:sp>
            <p:nvSpPr>
              <p:cNvPr id="111" name=""/>
              <p:cNvSpPr/>
              <p:nvPr/>
            </p:nvSpPr>
            <p:spPr>
              <a:xfrm>
                <a:off x="7924680" y="411480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7696080" y="4192560"/>
                <a:ext cx="306360" cy="83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8001000" y="4192560"/>
                <a:ext cx="152280" cy="9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381880" y="3733920"/>
                <a:ext cx="7632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8001000" y="373392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7924680" y="4114800"/>
                <a:ext cx="152640" cy="152280"/>
                <a:chOff x="7924680" y="4114800"/>
                <a:chExt cx="152640" cy="152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7924680" y="41148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924680" y="41148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7924680" y="41148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8305920" y="3657600"/>
                <a:ext cx="152640" cy="152640"/>
                <a:chOff x="8305920" y="3657600"/>
                <a:chExt cx="152640" cy="1526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8305920" y="36576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305920" y="365760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8381880" y="5257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20120" y="49528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07732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- Virtual Private Network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ternet Service Provider (e.g., World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rporate Virtual Private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leconference - Virtual Collaboration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rveillance (multimedia sin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local topology changes as control moves from one sourc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roadcast (Multic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membership, variegated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reaming:  Phone call, forwarding, voice 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4114800" y="1219320"/>
            <a:ext cx="4877280" cy="3200760"/>
            <a:chOff x="4114800" y="1219320"/>
            <a:chExt cx="4877280" cy="3200760"/>
          </a:xfrm>
        </p:grpSpPr>
        <p:sp>
          <p:nvSpPr>
            <p:cNvPr id="129" name=""/>
            <p:cNvSpPr/>
            <p:nvPr/>
          </p:nvSpPr>
          <p:spPr>
            <a:xfrm>
              <a:off x="4114800" y="1219320"/>
              <a:ext cx="4876920" cy="3200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4800" y="1219320"/>
              <a:ext cx="4876920" cy="533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14800" y="1219320"/>
              <a:ext cx="4877280" cy="2134080"/>
            </a:xfrm>
            <a:custGeom>
              <a:avLst/>
              <a:gdLst/>
              <a:ahLst/>
              <a:rect l="0" t="0" r="r" b="b"/>
              <a:pathLst>
                <a:path w="13548" h="5928">
                  <a:moveTo>
                    <a:pt x="0" y="5928"/>
                  </a:moveTo>
                  <a:lnTo>
                    <a:pt x="0" y="0"/>
                  </a:lnTo>
                  <a:lnTo>
                    <a:pt x="2540" y="1058"/>
                  </a:lnTo>
                  <a:lnTo>
                    <a:pt x="11008" y="1058"/>
                  </a:lnTo>
                  <a:lnTo>
                    <a:pt x="13548" y="0"/>
                  </a:lnTo>
                  <a:lnTo>
                    <a:pt x="13548" y="5928"/>
                  </a:lnTo>
                  <a:lnTo>
                    <a:pt x="11008" y="4447"/>
                  </a:lnTo>
                  <a:lnTo>
                    <a:pt x="2540" y="4447"/>
                  </a:lnTo>
                  <a:lnTo>
                    <a:pt x="0" y="5928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29200" y="1600200"/>
              <a:ext cx="3048120" cy="213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4800" y="3733920"/>
              <a:ext cx="4877280" cy="686160"/>
            </a:xfrm>
            <a:custGeom>
              <a:avLst/>
              <a:gdLst/>
              <a:ahLst/>
              <a:rect l="0" t="0" r="r" b="b"/>
              <a:pathLst>
                <a:path w="13548" h="1906">
                  <a:moveTo>
                    <a:pt x="0" y="0"/>
                  </a:moveTo>
                  <a:lnTo>
                    <a:pt x="4065" y="1906"/>
                  </a:lnTo>
                  <a:lnTo>
                    <a:pt x="9483" y="1906"/>
                  </a:lnTo>
                  <a:lnTo>
                    <a:pt x="13548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2760" y="1817640"/>
              <a:ext cx="1503360" cy="1270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6005520" y="1952640"/>
              <a:ext cx="1263600" cy="1383120"/>
              <a:chOff x="6005520" y="1952640"/>
              <a:chExt cx="1263600" cy="13831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005520" y="1952640"/>
                <a:ext cx="1263600" cy="1383120"/>
                <a:chOff x="6005520" y="1952640"/>
                <a:chExt cx="1263600" cy="1383120"/>
              </a:xfrm>
            </p:grpSpPr>
            <p:sp>
              <p:nvSpPr>
                <p:cNvPr id="137" name=""/>
                <p:cNvSpPr/>
                <p:nvPr/>
              </p:nvSpPr>
              <p:spPr>
                <a:xfrm flipH="1" flipV="1">
                  <a:off x="6005520" y="1952640"/>
                  <a:ext cx="345960" cy="48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6229440" y="2021040"/>
                  <a:ext cx="1039680" cy="1314720"/>
                  <a:chOff x="6229440" y="2021040"/>
                  <a:chExt cx="1039680" cy="13147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6427800" y="2603520"/>
                    <a:ext cx="130320" cy="108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699240" y="2021040"/>
                    <a:ext cx="301680" cy="297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229440" y="2306520"/>
                    <a:ext cx="1018080" cy="1029240"/>
                  </a:xfrm>
                  <a:custGeom>
                    <a:avLst/>
                    <a:gdLst/>
                    <a:ahLst/>
                    <a:rect l="0" t="0" r="r" b="b"/>
                    <a:pathLst>
                      <a:path w="2828" h="2859">
                        <a:moveTo>
                          <a:pt x="1994" y="105"/>
                        </a:moveTo>
                        <a:lnTo>
                          <a:pt x="2158" y="105"/>
                        </a:lnTo>
                        <a:lnTo>
                          <a:pt x="2374" y="224"/>
                        </a:lnTo>
                        <a:lnTo>
                          <a:pt x="2828" y="887"/>
                        </a:lnTo>
                        <a:lnTo>
                          <a:pt x="2815" y="1187"/>
                        </a:lnTo>
                        <a:lnTo>
                          <a:pt x="2506" y="1412"/>
                        </a:lnTo>
                        <a:lnTo>
                          <a:pt x="2250" y="1584"/>
                        </a:lnTo>
                        <a:lnTo>
                          <a:pt x="1932" y="1204"/>
                        </a:lnTo>
                        <a:lnTo>
                          <a:pt x="2060" y="1103"/>
                        </a:lnTo>
                        <a:lnTo>
                          <a:pt x="2158" y="1019"/>
                        </a:lnTo>
                        <a:lnTo>
                          <a:pt x="1945" y="687"/>
                        </a:lnTo>
                        <a:lnTo>
                          <a:pt x="1337" y="1103"/>
                        </a:lnTo>
                        <a:lnTo>
                          <a:pt x="1932" y="1910"/>
                        </a:lnTo>
                        <a:lnTo>
                          <a:pt x="2431" y="1535"/>
                        </a:lnTo>
                        <a:lnTo>
                          <a:pt x="2427" y="2859"/>
                        </a:lnTo>
                        <a:lnTo>
                          <a:pt x="1151" y="2859"/>
                        </a:lnTo>
                        <a:lnTo>
                          <a:pt x="1147" y="878"/>
                        </a:lnTo>
                        <a:lnTo>
                          <a:pt x="856" y="1063"/>
                        </a:lnTo>
                        <a:lnTo>
                          <a:pt x="595" y="1063"/>
                        </a:lnTo>
                        <a:lnTo>
                          <a:pt x="568" y="1028"/>
                        </a:lnTo>
                        <a:lnTo>
                          <a:pt x="374" y="759"/>
                        </a:lnTo>
                        <a:lnTo>
                          <a:pt x="0" y="282"/>
                        </a:lnTo>
                        <a:lnTo>
                          <a:pt x="423" y="0"/>
                        </a:lnTo>
                        <a:lnTo>
                          <a:pt x="687" y="352"/>
                        </a:lnTo>
                        <a:lnTo>
                          <a:pt x="759" y="427"/>
                        </a:lnTo>
                        <a:lnTo>
                          <a:pt x="1293" y="105"/>
                        </a:lnTo>
                        <a:lnTo>
                          <a:pt x="1513" y="105"/>
                        </a:lnTo>
                        <a:lnTo>
                          <a:pt x="1994" y="105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145280" y="2606760"/>
                    <a:ext cx="123840" cy="1429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777000" y="2344680"/>
                    <a:ext cx="17496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486" h="191">
                        <a:moveTo>
                          <a:pt x="242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ubicBezTo>
                          <a:pt x="0" y="34"/>
                          <a:pt x="11" y="67"/>
                          <a:pt x="33" y="96"/>
                        </a:cubicBezTo>
                        <a:cubicBezTo>
                          <a:pt x="54" y="125"/>
                          <a:pt x="85" y="149"/>
                          <a:pt x="122" y="166"/>
                        </a:cubicBezTo>
                        <a:cubicBezTo>
                          <a:pt x="158" y="183"/>
                          <a:pt x="200" y="191"/>
                          <a:pt x="243" y="191"/>
                        </a:cubicBezTo>
                        <a:cubicBezTo>
                          <a:pt x="286" y="191"/>
                          <a:pt x="328" y="183"/>
                          <a:pt x="365" y="166"/>
                        </a:cubicBezTo>
                        <a:cubicBezTo>
                          <a:pt x="401" y="149"/>
                          <a:pt x="432" y="125"/>
                          <a:pt x="453" y="96"/>
                        </a:cubicBezTo>
                        <a:cubicBezTo>
                          <a:pt x="475" y="67"/>
                          <a:pt x="486" y="34"/>
                          <a:pt x="486" y="0"/>
                        </a:cubicBezTo>
                        <a:lnTo>
                          <a:pt x="242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"/>
              <p:cNvSpPr/>
              <p:nvPr/>
            </p:nvSpPr>
            <p:spPr>
              <a:xfrm>
                <a:off x="6944400" y="2344680"/>
                <a:ext cx="149400" cy="114120"/>
              </a:xfrm>
              <a:custGeom>
                <a:avLst/>
                <a:gdLst/>
                <a:ahLst/>
                <a:rect l="0" t="0" r="r" b="b"/>
                <a:pathLst>
                  <a:path w="415" h="317">
                    <a:moveTo>
                      <a:pt x="172" y="190"/>
                    </a:moveTo>
                    <a:lnTo>
                      <a:pt x="349" y="317"/>
                    </a:lnTo>
                    <a:lnTo>
                      <a:pt x="349" y="317"/>
                    </a:lnTo>
                    <a:cubicBezTo>
                      <a:pt x="362" y="306"/>
                      <a:pt x="373" y="294"/>
                      <a:pt x="383" y="281"/>
                    </a:cubicBezTo>
                    <a:cubicBezTo>
                      <a:pt x="404" y="253"/>
                      <a:pt x="415" y="221"/>
                      <a:pt x="415" y="188"/>
                    </a:cubicBezTo>
                    <a:cubicBezTo>
                      <a:pt x="415" y="155"/>
                      <a:pt x="404" y="122"/>
                      <a:pt x="383" y="94"/>
                    </a:cubicBezTo>
                    <a:cubicBezTo>
                      <a:pt x="362" y="65"/>
                      <a:pt x="331" y="41"/>
                      <a:pt x="295" y="25"/>
                    </a:cubicBezTo>
                    <a:cubicBezTo>
                      <a:pt x="258" y="9"/>
                      <a:pt x="217" y="0"/>
                      <a:pt x="174" y="0"/>
                    </a:cubicBezTo>
                    <a:cubicBezTo>
                      <a:pt x="132" y="0"/>
                      <a:pt x="91" y="9"/>
                      <a:pt x="54" y="25"/>
                    </a:cubicBezTo>
                    <a:cubicBezTo>
                      <a:pt x="34" y="34"/>
                      <a:pt x="16" y="45"/>
                      <a:pt x="0" y="58"/>
                    </a:cubicBezTo>
                    <a:lnTo>
                      <a:pt x="172" y="19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7746840" y="3193920"/>
              <a:ext cx="588240" cy="1084320"/>
              <a:chOff x="7746840" y="3193920"/>
              <a:chExt cx="588240" cy="108432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7746840" y="3530520"/>
                <a:ext cx="588240" cy="747720"/>
                <a:chOff x="7746840" y="3530520"/>
                <a:chExt cx="588240" cy="747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7845480" y="3530520"/>
                  <a:ext cx="395280" cy="15876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746840" y="3635280"/>
                  <a:ext cx="587520" cy="64296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747200" y="3530520"/>
                  <a:ext cx="108360" cy="130320"/>
                </a:xfrm>
                <a:custGeom>
                  <a:avLst/>
                  <a:gdLst/>
                  <a:ahLst/>
                  <a:rect l="0" t="0" r="r" b="b"/>
                  <a:pathLst>
                    <a:path w="301" h="362">
                      <a:moveTo>
                        <a:pt x="301" y="362"/>
                      </a:moveTo>
                      <a:lnTo>
                        <a:pt x="294" y="0"/>
                      </a:lnTo>
                      <a:lnTo>
                        <a:pt x="294" y="0"/>
                      </a:lnTo>
                      <a:cubicBezTo>
                        <a:pt x="243" y="1"/>
                        <a:pt x="194" y="18"/>
                        <a:pt x="150" y="48"/>
                      </a:cubicBezTo>
                      <a:cubicBezTo>
                        <a:pt x="105" y="80"/>
                        <a:pt x="67" y="126"/>
                        <a:pt x="40" y="181"/>
                      </a:cubicBezTo>
                      <a:cubicBezTo>
                        <a:pt x="15" y="233"/>
                        <a:pt x="1" y="292"/>
                        <a:pt x="0" y="353"/>
                      </a:cubicBezTo>
                      <a:lnTo>
                        <a:pt x="301" y="362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224200" y="3532320"/>
                  <a:ext cx="110880" cy="130680"/>
                </a:xfrm>
                <a:custGeom>
                  <a:avLst/>
                  <a:gdLst/>
                  <a:ahLst/>
                  <a:rect l="0" t="0" r="r" b="b"/>
                  <a:pathLst>
                    <a:path w="308" h="363">
                      <a:moveTo>
                        <a:pt x="0" y="363"/>
                      </a:moveTo>
                      <a:lnTo>
                        <a:pt x="308" y="359"/>
                      </a:lnTo>
                      <a:lnTo>
                        <a:pt x="308" y="359"/>
                      </a:lnTo>
                      <a:cubicBezTo>
                        <a:pt x="307" y="297"/>
                        <a:pt x="293" y="236"/>
                        <a:pt x="267" y="181"/>
                      </a:cubicBezTo>
                      <a:cubicBezTo>
                        <a:pt x="240" y="126"/>
                        <a:pt x="201" y="80"/>
                        <a:pt x="154" y="49"/>
                      </a:cubicBezTo>
                      <a:cubicBezTo>
                        <a:pt x="107" y="17"/>
                        <a:pt x="54" y="0"/>
                        <a:pt x="0" y="0"/>
                      </a:cubicBezTo>
                      <a:lnTo>
                        <a:pt x="0" y="0"/>
                      </a:lnTo>
                      <a:lnTo>
                        <a:pt x="0" y="363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7878600" y="3193920"/>
                <a:ext cx="318960" cy="311040"/>
              </a:xfrm>
              <a:prstGeom prst="ellipse">
                <a:avLst/>
              </a:prstGeom>
              <a:solidFill>
                <a:srgbClr val="ff00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7143840" y="2900520"/>
              <a:ext cx="590400" cy="1082520"/>
              <a:chOff x="7143840" y="2900520"/>
              <a:chExt cx="590400" cy="108252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7143840" y="3235320"/>
                <a:ext cx="590400" cy="747720"/>
                <a:chOff x="7143840" y="3235320"/>
                <a:chExt cx="590400" cy="747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242120" y="3235320"/>
                  <a:ext cx="396720" cy="16200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143840" y="3340080"/>
                  <a:ext cx="590400" cy="6429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143840" y="3235320"/>
                  <a:ext cx="108360" cy="130680"/>
                </a:xfrm>
                <a:custGeom>
                  <a:avLst/>
                  <a:gdLst/>
                  <a:ahLst/>
                  <a:rect l="0" t="0" r="r" b="b"/>
                  <a:pathLst>
                    <a:path w="301" h="363">
                      <a:moveTo>
                        <a:pt x="301" y="363"/>
                      </a:moveTo>
                      <a:lnTo>
                        <a:pt x="298" y="0"/>
                      </a:lnTo>
                      <a:lnTo>
                        <a:pt x="298" y="0"/>
                      </a:lnTo>
                      <a:cubicBezTo>
                        <a:pt x="246" y="1"/>
                        <a:pt x="195" y="17"/>
                        <a:pt x="150" y="49"/>
                      </a:cubicBezTo>
                      <a:cubicBezTo>
                        <a:pt x="105" y="80"/>
                        <a:pt x="67" y="126"/>
                        <a:pt x="40" y="181"/>
                      </a:cubicBezTo>
                      <a:cubicBezTo>
                        <a:pt x="14" y="235"/>
                        <a:pt x="1" y="297"/>
                        <a:pt x="0" y="359"/>
                      </a:cubicBezTo>
                      <a:lnTo>
                        <a:pt x="301" y="36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21920" y="3236760"/>
                  <a:ext cx="111240" cy="130680"/>
                </a:xfrm>
                <a:custGeom>
                  <a:avLst/>
                  <a:gdLst/>
                  <a:ahLst/>
                  <a:rect l="0" t="0" r="r" b="b"/>
                  <a:pathLst>
                    <a:path w="309" h="363">
                      <a:moveTo>
                        <a:pt x="3" y="363"/>
                      </a:moveTo>
                      <a:lnTo>
                        <a:pt x="309" y="363"/>
                      </a:lnTo>
                      <a:lnTo>
                        <a:pt x="309" y="363"/>
                      </a:lnTo>
                      <a:lnTo>
                        <a:pt x="309" y="363"/>
                      </a:lnTo>
                      <a:cubicBezTo>
                        <a:pt x="309" y="299"/>
                        <a:pt x="295" y="237"/>
                        <a:pt x="268" y="181"/>
                      </a:cubicBezTo>
                      <a:cubicBezTo>
                        <a:pt x="241" y="126"/>
                        <a:pt x="203" y="80"/>
                        <a:pt x="156" y="49"/>
                      </a:cubicBezTo>
                      <a:cubicBezTo>
                        <a:pt x="109" y="17"/>
                        <a:pt x="57" y="0"/>
                        <a:pt x="3" y="0"/>
                      </a:cubicBezTo>
                      <a:cubicBezTo>
                        <a:pt x="2" y="0"/>
                        <a:pt x="1" y="0"/>
                        <a:pt x="0" y="0"/>
                      </a:cubicBezTo>
                      <a:lnTo>
                        <a:pt x="3" y="36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7275600" y="2900520"/>
                <a:ext cx="322200" cy="3096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381640" y="2900520"/>
              <a:ext cx="590400" cy="1082520"/>
              <a:chOff x="5381640" y="2900520"/>
              <a:chExt cx="590400" cy="108252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5381640" y="3235320"/>
                <a:ext cx="590400" cy="747720"/>
                <a:chOff x="5381640" y="3235320"/>
                <a:chExt cx="590400" cy="747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483160" y="3235320"/>
                  <a:ext cx="395280" cy="1620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381640" y="3340080"/>
                  <a:ext cx="590400" cy="6429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81640" y="3235320"/>
                  <a:ext cx="109080" cy="130680"/>
                </a:xfrm>
                <a:custGeom>
                  <a:avLst/>
                  <a:gdLst/>
                  <a:ahLst/>
                  <a:rect l="0" t="0" r="r" b="b"/>
                  <a:pathLst>
                    <a:path w="303" h="363">
                      <a:moveTo>
                        <a:pt x="303" y="363"/>
                      </a:moveTo>
                      <a:lnTo>
                        <a:pt x="299" y="0"/>
                      </a:lnTo>
                      <a:lnTo>
                        <a:pt x="299" y="0"/>
                      </a:lnTo>
                      <a:cubicBezTo>
                        <a:pt x="247" y="1"/>
                        <a:pt x="196" y="18"/>
                        <a:pt x="151" y="49"/>
                      </a:cubicBezTo>
                      <a:cubicBezTo>
                        <a:pt x="105" y="80"/>
                        <a:pt x="67" y="126"/>
                        <a:pt x="41" y="181"/>
                      </a:cubicBezTo>
                      <a:cubicBezTo>
                        <a:pt x="15" y="235"/>
                        <a:pt x="1" y="297"/>
                        <a:pt x="0" y="359"/>
                      </a:cubicBezTo>
                      <a:lnTo>
                        <a:pt x="303" y="36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861880" y="3236760"/>
                  <a:ext cx="109080" cy="130680"/>
                </a:xfrm>
                <a:custGeom>
                  <a:avLst/>
                  <a:gdLst/>
                  <a:ahLst/>
                  <a:rect l="0" t="0" r="r" b="b"/>
                  <a:pathLst>
                    <a:path w="303" h="363">
                      <a:moveTo>
                        <a:pt x="0" y="363"/>
                      </a:moveTo>
                      <a:lnTo>
                        <a:pt x="303" y="363"/>
                      </a:lnTo>
                      <a:lnTo>
                        <a:pt x="303" y="363"/>
                      </a:lnTo>
                      <a:lnTo>
                        <a:pt x="303" y="363"/>
                      </a:lnTo>
                      <a:cubicBezTo>
                        <a:pt x="303" y="299"/>
                        <a:pt x="289" y="237"/>
                        <a:pt x="262" y="181"/>
                      </a:cubicBezTo>
                      <a:cubicBezTo>
                        <a:pt x="236" y="126"/>
                        <a:pt x="198" y="80"/>
                        <a:pt x="152" y="49"/>
                      </a:cubicBezTo>
                      <a:cubicBezTo>
                        <a:pt x="106" y="17"/>
                        <a:pt x="55" y="1"/>
                        <a:pt x="3" y="0"/>
                      </a:cubicBezTo>
                      <a:lnTo>
                        <a:pt x="0" y="36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5516640" y="2900520"/>
                <a:ext cx="318960" cy="309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4759200" y="3193920"/>
              <a:ext cx="588960" cy="1084320"/>
              <a:chOff x="4759200" y="3193920"/>
              <a:chExt cx="588960" cy="1084320"/>
            </a:xfrm>
          </p:grpSpPr>
          <p:sp>
            <p:nvSpPr>
              <p:cNvPr id="167" name=""/>
              <p:cNvSpPr/>
              <p:nvPr/>
            </p:nvSpPr>
            <p:spPr>
              <a:xfrm>
                <a:off x="4894200" y="3193920"/>
                <a:ext cx="318960" cy="3110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4759200" y="3530520"/>
                <a:ext cx="588960" cy="747720"/>
                <a:chOff x="4759200" y="3530520"/>
                <a:chExt cx="588960" cy="7477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861080" y="3530520"/>
                  <a:ext cx="393840" cy="1587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759200" y="3635280"/>
                  <a:ext cx="588960" cy="6429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759200" y="353052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305" y="363"/>
                      </a:moveTo>
                      <a:lnTo>
                        <a:pt x="301" y="0"/>
                      </a:lnTo>
                      <a:lnTo>
                        <a:pt x="301" y="0"/>
                      </a:lnTo>
                      <a:cubicBezTo>
                        <a:pt x="249" y="1"/>
                        <a:pt x="198" y="18"/>
                        <a:pt x="152" y="49"/>
                      </a:cubicBezTo>
                      <a:cubicBezTo>
                        <a:pt x="106" y="80"/>
                        <a:pt x="68" y="126"/>
                        <a:pt x="41" y="181"/>
                      </a:cubicBezTo>
                      <a:cubicBezTo>
                        <a:pt x="15" y="234"/>
                        <a:pt x="1" y="293"/>
                        <a:pt x="0" y="354"/>
                      </a:cubicBezTo>
                      <a:lnTo>
                        <a:pt x="305" y="36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238000" y="3532320"/>
                  <a:ext cx="109080" cy="130680"/>
                </a:xfrm>
                <a:custGeom>
                  <a:avLst/>
                  <a:gdLst/>
                  <a:ahLst/>
                  <a:rect l="0" t="0" r="r" b="b"/>
                  <a:pathLst>
                    <a:path w="303" h="363">
                      <a:moveTo>
                        <a:pt x="0" y="363"/>
                      </a:moveTo>
                      <a:lnTo>
                        <a:pt x="303" y="359"/>
                      </a:lnTo>
                      <a:lnTo>
                        <a:pt x="303" y="359"/>
                      </a:lnTo>
                      <a:cubicBezTo>
                        <a:pt x="302" y="297"/>
                        <a:pt x="288" y="235"/>
                        <a:pt x="262" y="181"/>
                      </a:cubicBezTo>
                      <a:cubicBezTo>
                        <a:pt x="236" y="126"/>
                        <a:pt x="198" y="80"/>
                        <a:pt x="152" y="49"/>
                      </a:cubicBezTo>
                      <a:cubicBezTo>
                        <a:pt x="106" y="17"/>
                        <a:pt x="55" y="1"/>
                        <a:pt x="3" y="0"/>
                      </a:cubicBezTo>
                      <a:lnTo>
                        <a:pt x="0" y="36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" name=""/>
            <p:cNvSpPr/>
            <p:nvPr/>
          </p:nvSpPr>
          <p:spPr>
            <a:xfrm>
              <a:off x="4716360" y="3211560"/>
              <a:ext cx="3642120" cy="1132200"/>
            </a:xfrm>
            <a:custGeom>
              <a:avLst/>
              <a:gdLst/>
              <a:ahLst/>
              <a:rect l="0" t="0" r="r" b="b"/>
              <a:pathLst>
                <a:path w="10117" h="3145">
                  <a:moveTo>
                    <a:pt x="0" y="3145"/>
                  </a:moveTo>
                  <a:lnTo>
                    <a:pt x="3608" y="0"/>
                  </a:lnTo>
                  <a:lnTo>
                    <a:pt x="6359" y="0"/>
                  </a:lnTo>
                  <a:lnTo>
                    <a:pt x="10117" y="3145"/>
                  </a:lnTo>
                  <a:lnTo>
                    <a:pt x="0" y="314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5756400" y="3287880"/>
              <a:ext cx="1487520" cy="1115640"/>
              <a:chOff x="5756400" y="3287880"/>
              <a:chExt cx="1487520" cy="111564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6514920" y="3297240"/>
                <a:ext cx="729000" cy="1106280"/>
                <a:chOff x="6514920" y="3297240"/>
                <a:chExt cx="729000" cy="11062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683400" y="3297240"/>
                  <a:ext cx="388800" cy="37620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6514920" y="3706920"/>
                  <a:ext cx="729000" cy="696600"/>
                  <a:chOff x="6514920" y="3706920"/>
                  <a:chExt cx="729000" cy="6966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6638760" y="3706920"/>
                    <a:ext cx="480960" cy="1922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6516720" y="3836880"/>
                    <a:ext cx="727200" cy="5666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514920" y="3706920"/>
                    <a:ext cx="134640" cy="156600"/>
                  </a:xfrm>
                  <a:custGeom>
                    <a:avLst/>
                    <a:gdLst/>
                    <a:ahLst/>
                    <a:rect l="0" t="0" r="r" b="b"/>
                    <a:pathLst>
                      <a:path w="374" h="435">
                        <a:moveTo>
                          <a:pt x="374" y="430"/>
                        </a:moveTo>
                        <a:lnTo>
                          <a:pt x="370" y="0"/>
                        </a:lnTo>
                        <a:lnTo>
                          <a:pt x="370" y="0"/>
                        </a:lnTo>
                        <a:cubicBezTo>
                          <a:pt x="306" y="1"/>
                          <a:pt x="243" y="21"/>
                          <a:pt x="187" y="58"/>
                        </a:cubicBezTo>
                        <a:cubicBezTo>
                          <a:pt x="130" y="95"/>
                          <a:pt x="83" y="150"/>
                          <a:pt x="50" y="215"/>
                        </a:cubicBezTo>
                        <a:cubicBezTo>
                          <a:pt x="17" y="280"/>
                          <a:pt x="0" y="354"/>
                          <a:pt x="0" y="430"/>
                        </a:cubicBezTo>
                        <a:cubicBezTo>
                          <a:pt x="0" y="432"/>
                          <a:pt x="0" y="433"/>
                          <a:pt x="0" y="435"/>
                        </a:cubicBezTo>
                        <a:lnTo>
                          <a:pt x="374" y="43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106400" y="3710160"/>
                    <a:ext cx="134640" cy="157320"/>
                  </a:xfrm>
                  <a:custGeom>
                    <a:avLst/>
                    <a:gdLst/>
                    <a:ahLst/>
                    <a:rect l="0" t="0" r="r" b="b"/>
                    <a:pathLst>
                      <a:path w="374" h="437">
                        <a:moveTo>
                          <a:pt x="0" y="433"/>
                        </a:moveTo>
                        <a:lnTo>
                          <a:pt x="374" y="437"/>
                        </a:lnTo>
                        <a:lnTo>
                          <a:pt x="374" y="437"/>
                        </a:lnTo>
                        <a:cubicBezTo>
                          <a:pt x="374" y="436"/>
                          <a:pt x="374" y="434"/>
                          <a:pt x="374" y="433"/>
                        </a:cubicBezTo>
                        <a:cubicBezTo>
                          <a:pt x="374" y="357"/>
                          <a:pt x="357" y="282"/>
                          <a:pt x="324" y="216"/>
                        </a:cubicBezTo>
                        <a:cubicBezTo>
                          <a:pt x="291" y="151"/>
                          <a:pt x="244" y="96"/>
                          <a:pt x="187" y="58"/>
                        </a:cubicBezTo>
                        <a:cubicBezTo>
                          <a:pt x="131" y="21"/>
                          <a:pt x="68" y="1"/>
                          <a:pt x="3" y="0"/>
                        </a:cubicBezTo>
                        <a:lnTo>
                          <a:pt x="0" y="433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" name=""/>
              <p:cNvGrpSpPr/>
              <p:nvPr/>
            </p:nvGrpSpPr>
            <p:grpSpPr>
              <a:xfrm>
                <a:off x="5756400" y="3287880"/>
                <a:ext cx="730440" cy="1106280"/>
                <a:chOff x="5756400" y="3287880"/>
                <a:chExt cx="730440" cy="11062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25960" y="3287880"/>
                  <a:ext cx="387360" cy="3762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5756400" y="3697200"/>
                  <a:ext cx="730440" cy="696960"/>
                  <a:chOff x="5756400" y="3697200"/>
                  <a:chExt cx="730440" cy="6969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880240" y="3697200"/>
                    <a:ext cx="480960" cy="192240"/>
                  </a:xfrm>
                  <a:prstGeom prst="rect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757840" y="3825720"/>
                    <a:ext cx="728640" cy="568440"/>
                  </a:xfrm>
                  <a:prstGeom prst="rect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756400" y="3697200"/>
                    <a:ext cx="133560" cy="15660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435">
                        <a:moveTo>
                          <a:pt x="371" y="430"/>
                        </a:moveTo>
                        <a:lnTo>
                          <a:pt x="371" y="0"/>
                        </a:lnTo>
                        <a:lnTo>
                          <a:pt x="371" y="0"/>
                        </a:lnTo>
                        <a:lnTo>
                          <a:pt x="371" y="0"/>
                        </a:lnTo>
                        <a:cubicBezTo>
                          <a:pt x="306" y="0"/>
                          <a:pt x="242" y="20"/>
                          <a:pt x="185" y="58"/>
                        </a:cubicBezTo>
                        <a:cubicBezTo>
                          <a:pt x="129" y="95"/>
                          <a:pt x="82" y="150"/>
                          <a:pt x="50" y="215"/>
                        </a:cubicBezTo>
                        <a:cubicBezTo>
                          <a:pt x="17" y="280"/>
                          <a:pt x="0" y="355"/>
                          <a:pt x="0" y="430"/>
                        </a:cubicBezTo>
                        <a:cubicBezTo>
                          <a:pt x="0" y="432"/>
                          <a:pt x="0" y="433"/>
                          <a:pt x="0" y="435"/>
                        </a:cubicBezTo>
                        <a:lnTo>
                          <a:pt x="371" y="43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352200" y="3697200"/>
                    <a:ext cx="134640" cy="156960"/>
                  </a:xfrm>
                  <a:custGeom>
                    <a:avLst/>
                    <a:gdLst/>
                    <a:ahLst/>
                    <a:rect l="0" t="0" r="r" b="b"/>
                    <a:pathLst>
                      <a:path w="374" h="436">
                        <a:moveTo>
                          <a:pt x="0" y="431"/>
                        </a:moveTo>
                        <a:lnTo>
                          <a:pt x="374" y="436"/>
                        </a:lnTo>
                        <a:lnTo>
                          <a:pt x="374" y="436"/>
                        </a:lnTo>
                        <a:cubicBezTo>
                          <a:pt x="374" y="434"/>
                          <a:pt x="374" y="433"/>
                          <a:pt x="374" y="431"/>
                        </a:cubicBezTo>
                        <a:cubicBezTo>
                          <a:pt x="374" y="355"/>
                          <a:pt x="357" y="281"/>
                          <a:pt x="324" y="215"/>
                        </a:cubicBezTo>
                        <a:cubicBezTo>
                          <a:pt x="291" y="150"/>
                          <a:pt x="244" y="96"/>
                          <a:pt x="187" y="58"/>
                        </a:cubicBezTo>
                        <a:cubicBezTo>
                          <a:pt x="131" y="20"/>
                          <a:pt x="68" y="1"/>
                          <a:pt x="3" y="0"/>
                        </a:cubicBezTo>
                        <a:lnTo>
                          <a:pt x="0" y="431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9" name=""/>
            <p:cNvSpPr/>
            <p:nvPr/>
          </p:nvSpPr>
          <p:spPr>
            <a:xfrm>
              <a:off x="4114800" y="121932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8077320" y="121932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Collaboration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2193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riginator “kicks”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oom into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dds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, floo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dds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o, video, whi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ard, slide proj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ticipants send their agents to the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implement participant specific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850160" y="4657680"/>
            <a:ext cx="874800" cy="606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il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29528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nitor rotates through the cam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 any point one sourc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the virtual topology, th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anges are sm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mobile arbitrator traversing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virtual topology in a depth-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rst manner localizes the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rol (decision/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24382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315200" y="1523880"/>
            <a:ext cx="533520" cy="6098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666880"/>
            <a:ext cx="533520" cy="609840"/>
          </a:xfrm>
          <a:prstGeom prst="line">
            <a:avLst/>
          </a:prstGeom>
          <a:ln w="25560">
            <a:solidFill>
              <a:srgbClr val="ff4c7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4419720"/>
            <a:ext cx="1295640" cy="6858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324480" y="2666880"/>
            <a:ext cx="457200" cy="1219320"/>
          </a:xfrm>
          <a:prstGeom prst="line">
            <a:avLst/>
          </a:prstGeom>
          <a:ln w="25560">
            <a:solidFill>
              <a:srgbClr val="ff4c7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019920" y="3886200"/>
            <a:ext cx="533520" cy="533520"/>
            <a:chOff x="6019920" y="3886200"/>
            <a:chExt cx="533520" cy="533520"/>
          </a:xfrm>
        </p:grpSpPr>
        <p:sp>
          <p:nvSpPr>
            <p:cNvPr id="202" name=""/>
            <p:cNvSpPr/>
            <p:nvPr/>
          </p:nvSpPr>
          <p:spPr>
            <a:xfrm>
              <a:off x="6019920" y="3886200"/>
              <a:ext cx="533520" cy="5335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9920" y="388620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019920" y="388620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781680" y="2133720"/>
            <a:ext cx="533520" cy="533520"/>
            <a:chOff x="6781680" y="2133720"/>
            <a:chExt cx="533520" cy="533520"/>
          </a:xfrm>
        </p:grpSpPr>
        <p:sp>
          <p:nvSpPr>
            <p:cNvPr id="206" name=""/>
            <p:cNvSpPr/>
            <p:nvPr/>
          </p:nvSpPr>
          <p:spPr>
            <a:xfrm>
              <a:off x="6781680" y="2133720"/>
              <a:ext cx="533520" cy="5335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81680" y="21337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781680" y="21337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553080" y="419112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4419720"/>
            <a:ext cx="0" cy="914400"/>
          </a:xfrm>
          <a:prstGeom prst="line">
            <a:avLst/>
          </a:prstGeom>
          <a:ln w="25560">
            <a:solidFill>
              <a:srgbClr val="ff4c7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041800" y="5113440"/>
            <a:ext cx="1710000" cy="1135440"/>
            <a:chOff x="5041800" y="5113440"/>
            <a:chExt cx="1710000" cy="1135440"/>
          </a:xfrm>
        </p:grpSpPr>
        <p:sp>
          <p:nvSpPr>
            <p:cNvPr id="212" name=""/>
            <p:cNvSpPr/>
            <p:nvPr/>
          </p:nvSpPr>
          <p:spPr>
            <a:xfrm>
              <a:off x="5041800" y="5830920"/>
              <a:ext cx="547920" cy="417960"/>
            </a:xfrm>
            <a:custGeom>
              <a:avLst/>
              <a:gdLst/>
              <a:ahLst/>
              <a:rect l="0" t="0" r="r" b="b"/>
              <a:pathLst>
                <a:path w="1522" h="1161">
                  <a:moveTo>
                    <a:pt x="1522" y="1144"/>
                  </a:moveTo>
                  <a:lnTo>
                    <a:pt x="1090" y="897"/>
                  </a:lnTo>
                  <a:lnTo>
                    <a:pt x="608" y="48"/>
                  </a:lnTo>
                  <a:lnTo>
                    <a:pt x="590" y="35"/>
                  </a:lnTo>
                  <a:lnTo>
                    <a:pt x="555" y="17"/>
                  </a:lnTo>
                  <a:lnTo>
                    <a:pt x="515" y="8"/>
                  </a:lnTo>
                  <a:lnTo>
                    <a:pt x="467" y="0"/>
                  </a:lnTo>
                  <a:lnTo>
                    <a:pt x="418" y="8"/>
                  </a:lnTo>
                  <a:lnTo>
                    <a:pt x="374" y="26"/>
                  </a:lnTo>
                  <a:lnTo>
                    <a:pt x="326" y="48"/>
                  </a:lnTo>
                  <a:lnTo>
                    <a:pt x="260" y="83"/>
                  </a:lnTo>
                  <a:lnTo>
                    <a:pt x="202" y="119"/>
                  </a:lnTo>
                  <a:lnTo>
                    <a:pt x="158" y="149"/>
                  </a:lnTo>
                  <a:lnTo>
                    <a:pt x="123" y="185"/>
                  </a:lnTo>
                  <a:lnTo>
                    <a:pt x="88" y="224"/>
                  </a:lnTo>
                  <a:lnTo>
                    <a:pt x="48" y="286"/>
                  </a:lnTo>
                  <a:lnTo>
                    <a:pt x="26" y="331"/>
                  </a:lnTo>
                  <a:lnTo>
                    <a:pt x="4" y="393"/>
                  </a:lnTo>
                  <a:lnTo>
                    <a:pt x="0" y="459"/>
                  </a:lnTo>
                  <a:lnTo>
                    <a:pt x="0" y="565"/>
                  </a:lnTo>
                  <a:lnTo>
                    <a:pt x="13" y="684"/>
                  </a:lnTo>
                  <a:lnTo>
                    <a:pt x="35" y="799"/>
                  </a:lnTo>
                  <a:lnTo>
                    <a:pt x="74" y="932"/>
                  </a:lnTo>
                  <a:lnTo>
                    <a:pt x="119" y="1047"/>
                  </a:lnTo>
                  <a:lnTo>
                    <a:pt x="154" y="1122"/>
                  </a:lnTo>
                  <a:lnTo>
                    <a:pt x="176" y="1161"/>
                  </a:lnTo>
                  <a:lnTo>
                    <a:pt x="388" y="1161"/>
                  </a:lnTo>
                  <a:lnTo>
                    <a:pt x="388" y="1161"/>
                  </a:lnTo>
                  <a:lnTo>
                    <a:pt x="388" y="1161"/>
                  </a:lnTo>
                  <a:lnTo>
                    <a:pt x="388" y="1161"/>
                  </a:lnTo>
                  <a:lnTo>
                    <a:pt x="599" y="1161"/>
                  </a:lnTo>
                  <a:lnTo>
                    <a:pt x="812" y="1161"/>
                  </a:lnTo>
                  <a:lnTo>
                    <a:pt x="812" y="1161"/>
                  </a:lnTo>
                  <a:lnTo>
                    <a:pt x="812" y="1161"/>
                  </a:lnTo>
                  <a:lnTo>
                    <a:pt x="812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522" y="1144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151600" y="5113440"/>
              <a:ext cx="1600200" cy="1135440"/>
              <a:chOff x="5151600" y="5113440"/>
              <a:chExt cx="1600200" cy="1135440"/>
            </a:xfrm>
          </p:grpSpPr>
          <p:sp>
            <p:nvSpPr>
              <p:cNvPr id="214" name=""/>
              <p:cNvSpPr/>
              <p:nvPr/>
            </p:nvSpPr>
            <p:spPr>
              <a:xfrm>
                <a:off x="5151600" y="5113440"/>
                <a:ext cx="835560" cy="1135440"/>
              </a:xfrm>
              <a:custGeom>
                <a:avLst/>
                <a:gdLst/>
                <a:ahLst/>
                <a:rect l="0" t="0" r="r" b="b"/>
                <a:pathLst>
                  <a:path w="2321" h="3154">
                    <a:moveTo>
                      <a:pt x="794" y="940"/>
                    </a:moveTo>
                    <a:lnTo>
                      <a:pt x="856" y="740"/>
                    </a:lnTo>
                    <a:lnTo>
                      <a:pt x="909" y="507"/>
                    </a:lnTo>
                    <a:lnTo>
                      <a:pt x="935" y="304"/>
                    </a:lnTo>
                    <a:lnTo>
                      <a:pt x="882" y="189"/>
                    </a:lnTo>
                    <a:lnTo>
                      <a:pt x="830" y="132"/>
                    </a:lnTo>
                    <a:lnTo>
                      <a:pt x="909" y="198"/>
                    </a:lnTo>
                    <a:lnTo>
                      <a:pt x="971" y="295"/>
                    </a:lnTo>
                    <a:lnTo>
                      <a:pt x="922" y="70"/>
                    </a:lnTo>
                    <a:lnTo>
                      <a:pt x="966" y="180"/>
                    </a:lnTo>
                    <a:lnTo>
                      <a:pt x="1054" y="317"/>
                    </a:lnTo>
                    <a:lnTo>
                      <a:pt x="1094" y="335"/>
                    </a:lnTo>
                    <a:lnTo>
                      <a:pt x="1068" y="216"/>
                    </a:lnTo>
                    <a:lnTo>
                      <a:pt x="1085" y="229"/>
                    </a:lnTo>
                    <a:lnTo>
                      <a:pt x="1099" y="127"/>
                    </a:lnTo>
                    <a:lnTo>
                      <a:pt x="1068" y="22"/>
                    </a:lnTo>
                    <a:lnTo>
                      <a:pt x="1209" y="304"/>
                    </a:lnTo>
                    <a:lnTo>
                      <a:pt x="1218" y="260"/>
                    </a:lnTo>
                    <a:lnTo>
                      <a:pt x="1235" y="291"/>
                    </a:lnTo>
                    <a:lnTo>
                      <a:pt x="1244" y="246"/>
                    </a:lnTo>
                    <a:lnTo>
                      <a:pt x="1213" y="176"/>
                    </a:lnTo>
                    <a:lnTo>
                      <a:pt x="1222" y="39"/>
                    </a:lnTo>
                    <a:lnTo>
                      <a:pt x="1271" y="304"/>
                    </a:lnTo>
                    <a:lnTo>
                      <a:pt x="1293" y="66"/>
                    </a:lnTo>
                    <a:lnTo>
                      <a:pt x="1293" y="251"/>
                    </a:lnTo>
                    <a:lnTo>
                      <a:pt x="1319" y="299"/>
                    </a:lnTo>
                    <a:lnTo>
                      <a:pt x="1359" y="88"/>
                    </a:lnTo>
                    <a:lnTo>
                      <a:pt x="1447" y="0"/>
                    </a:lnTo>
                    <a:lnTo>
                      <a:pt x="1390" y="88"/>
                    </a:lnTo>
                    <a:lnTo>
                      <a:pt x="1354" y="255"/>
                    </a:lnTo>
                    <a:lnTo>
                      <a:pt x="1368" y="286"/>
                    </a:lnTo>
                    <a:lnTo>
                      <a:pt x="1429" y="167"/>
                    </a:lnTo>
                    <a:lnTo>
                      <a:pt x="1385" y="268"/>
                    </a:lnTo>
                    <a:lnTo>
                      <a:pt x="1385" y="313"/>
                    </a:lnTo>
                    <a:lnTo>
                      <a:pt x="1517" y="66"/>
                    </a:lnTo>
                    <a:lnTo>
                      <a:pt x="1517" y="105"/>
                    </a:lnTo>
                    <a:lnTo>
                      <a:pt x="1460" y="246"/>
                    </a:lnTo>
                    <a:lnTo>
                      <a:pt x="1460" y="335"/>
                    </a:lnTo>
                    <a:lnTo>
                      <a:pt x="1482" y="348"/>
                    </a:lnTo>
                    <a:lnTo>
                      <a:pt x="1509" y="189"/>
                    </a:lnTo>
                    <a:lnTo>
                      <a:pt x="1566" y="83"/>
                    </a:lnTo>
                    <a:lnTo>
                      <a:pt x="1517" y="202"/>
                    </a:lnTo>
                    <a:lnTo>
                      <a:pt x="1531" y="366"/>
                    </a:lnTo>
                    <a:lnTo>
                      <a:pt x="1562" y="357"/>
                    </a:lnTo>
                    <a:lnTo>
                      <a:pt x="1623" y="145"/>
                    </a:lnTo>
                    <a:lnTo>
                      <a:pt x="1579" y="374"/>
                    </a:lnTo>
                    <a:lnTo>
                      <a:pt x="1681" y="189"/>
                    </a:lnTo>
                    <a:lnTo>
                      <a:pt x="1765" y="127"/>
                    </a:lnTo>
                    <a:lnTo>
                      <a:pt x="1698" y="216"/>
                    </a:lnTo>
                    <a:lnTo>
                      <a:pt x="1650" y="313"/>
                    </a:lnTo>
                    <a:lnTo>
                      <a:pt x="1729" y="282"/>
                    </a:lnTo>
                    <a:lnTo>
                      <a:pt x="1632" y="348"/>
                    </a:lnTo>
                    <a:lnTo>
                      <a:pt x="1614" y="423"/>
                    </a:lnTo>
                    <a:lnTo>
                      <a:pt x="1645" y="436"/>
                    </a:lnTo>
                    <a:lnTo>
                      <a:pt x="1743" y="286"/>
                    </a:lnTo>
                    <a:lnTo>
                      <a:pt x="1862" y="198"/>
                    </a:lnTo>
                    <a:lnTo>
                      <a:pt x="1703" y="396"/>
                    </a:lnTo>
                    <a:lnTo>
                      <a:pt x="1779" y="335"/>
                    </a:lnTo>
                    <a:lnTo>
                      <a:pt x="2175" y="273"/>
                    </a:lnTo>
                    <a:lnTo>
                      <a:pt x="1761" y="370"/>
                    </a:lnTo>
                    <a:lnTo>
                      <a:pt x="1716" y="440"/>
                    </a:lnTo>
                    <a:lnTo>
                      <a:pt x="1761" y="427"/>
                    </a:lnTo>
                    <a:lnTo>
                      <a:pt x="1880" y="361"/>
                    </a:lnTo>
                    <a:lnTo>
                      <a:pt x="1783" y="458"/>
                    </a:lnTo>
                    <a:lnTo>
                      <a:pt x="1707" y="502"/>
                    </a:lnTo>
                    <a:lnTo>
                      <a:pt x="1707" y="560"/>
                    </a:lnTo>
                    <a:lnTo>
                      <a:pt x="1729" y="604"/>
                    </a:lnTo>
                    <a:lnTo>
                      <a:pt x="1770" y="652"/>
                    </a:lnTo>
                    <a:lnTo>
                      <a:pt x="1823" y="723"/>
                    </a:lnTo>
                    <a:lnTo>
                      <a:pt x="1867" y="780"/>
                    </a:lnTo>
                    <a:lnTo>
                      <a:pt x="1911" y="843"/>
                    </a:lnTo>
                    <a:lnTo>
                      <a:pt x="1951" y="900"/>
                    </a:lnTo>
                    <a:lnTo>
                      <a:pt x="1977" y="949"/>
                    </a:lnTo>
                    <a:lnTo>
                      <a:pt x="2026" y="1028"/>
                    </a:lnTo>
                    <a:lnTo>
                      <a:pt x="2074" y="1121"/>
                    </a:lnTo>
                    <a:lnTo>
                      <a:pt x="2109" y="1204"/>
                    </a:lnTo>
                    <a:lnTo>
                      <a:pt x="2109" y="1218"/>
                    </a:lnTo>
                    <a:lnTo>
                      <a:pt x="2101" y="1240"/>
                    </a:lnTo>
                    <a:lnTo>
                      <a:pt x="2087" y="1253"/>
                    </a:lnTo>
                    <a:lnTo>
                      <a:pt x="2070" y="1257"/>
                    </a:lnTo>
                    <a:lnTo>
                      <a:pt x="2039" y="1262"/>
                    </a:lnTo>
                    <a:lnTo>
                      <a:pt x="1752" y="1235"/>
                    </a:lnTo>
                    <a:lnTo>
                      <a:pt x="1729" y="1297"/>
                    </a:lnTo>
                    <a:lnTo>
                      <a:pt x="1689" y="1500"/>
                    </a:lnTo>
                    <a:lnTo>
                      <a:pt x="1663" y="1641"/>
                    </a:lnTo>
                    <a:lnTo>
                      <a:pt x="1628" y="1760"/>
                    </a:lnTo>
                    <a:lnTo>
                      <a:pt x="1606" y="1773"/>
                    </a:lnTo>
                    <a:lnTo>
                      <a:pt x="1584" y="1778"/>
                    </a:lnTo>
                    <a:lnTo>
                      <a:pt x="1553" y="1782"/>
                    </a:lnTo>
                    <a:lnTo>
                      <a:pt x="1460" y="1778"/>
                    </a:lnTo>
                    <a:lnTo>
                      <a:pt x="1235" y="1685"/>
                    </a:lnTo>
                    <a:lnTo>
                      <a:pt x="1213" y="1725"/>
                    </a:lnTo>
                    <a:lnTo>
                      <a:pt x="1178" y="1870"/>
                    </a:lnTo>
                    <a:lnTo>
                      <a:pt x="1147" y="1980"/>
                    </a:lnTo>
                    <a:lnTo>
                      <a:pt x="1116" y="2130"/>
                    </a:lnTo>
                    <a:lnTo>
                      <a:pt x="1107" y="2232"/>
                    </a:lnTo>
                    <a:lnTo>
                      <a:pt x="1156" y="2294"/>
                    </a:lnTo>
                    <a:lnTo>
                      <a:pt x="1218" y="2378"/>
                    </a:lnTo>
                    <a:lnTo>
                      <a:pt x="1293" y="2484"/>
                    </a:lnTo>
                    <a:lnTo>
                      <a:pt x="1407" y="2511"/>
                    </a:lnTo>
                    <a:lnTo>
                      <a:pt x="1495" y="2533"/>
                    </a:lnTo>
                    <a:lnTo>
                      <a:pt x="1623" y="2555"/>
                    </a:lnTo>
                    <a:lnTo>
                      <a:pt x="1694" y="2568"/>
                    </a:lnTo>
                    <a:lnTo>
                      <a:pt x="1761" y="2572"/>
                    </a:lnTo>
                    <a:lnTo>
                      <a:pt x="1809" y="2577"/>
                    </a:lnTo>
                    <a:lnTo>
                      <a:pt x="1854" y="2577"/>
                    </a:lnTo>
                    <a:lnTo>
                      <a:pt x="1911" y="2572"/>
                    </a:lnTo>
                    <a:lnTo>
                      <a:pt x="1990" y="2568"/>
                    </a:lnTo>
                    <a:lnTo>
                      <a:pt x="2078" y="2519"/>
                    </a:lnTo>
                    <a:lnTo>
                      <a:pt x="2105" y="2506"/>
                    </a:lnTo>
                    <a:lnTo>
                      <a:pt x="2127" y="2511"/>
                    </a:lnTo>
                    <a:lnTo>
                      <a:pt x="2145" y="2519"/>
                    </a:lnTo>
                    <a:lnTo>
                      <a:pt x="2171" y="2546"/>
                    </a:lnTo>
                    <a:lnTo>
                      <a:pt x="2175" y="2564"/>
                    </a:lnTo>
                    <a:lnTo>
                      <a:pt x="2184" y="2599"/>
                    </a:lnTo>
                    <a:lnTo>
                      <a:pt x="2189" y="2639"/>
                    </a:lnTo>
                    <a:lnTo>
                      <a:pt x="2215" y="2647"/>
                    </a:lnTo>
                    <a:lnTo>
                      <a:pt x="2255" y="2674"/>
                    </a:lnTo>
                    <a:lnTo>
                      <a:pt x="2286" y="2696"/>
                    </a:lnTo>
                    <a:lnTo>
                      <a:pt x="2321" y="2722"/>
                    </a:lnTo>
                    <a:lnTo>
                      <a:pt x="2317" y="2744"/>
                    </a:lnTo>
                    <a:lnTo>
                      <a:pt x="2308" y="2775"/>
                    </a:lnTo>
                    <a:lnTo>
                      <a:pt x="2290" y="2793"/>
                    </a:lnTo>
                    <a:lnTo>
                      <a:pt x="2268" y="2810"/>
                    </a:lnTo>
                    <a:lnTo>
                      <a:pt x="2281" y="2833"/>
                    </a:lnTo>
                    <a:lnTo>
                      <a:pt x="2290" y="2855"/>
                    </a:lnTo>
                    <a:lnTo>
                      <a:pt x="2299" y="2890"/>
                    </a:lnTo>
                    <a:lnTo>
                      <a:pt x="2299" y="2916"/>
                    </a:lnTo>
                    <a:lnTo>
                      <a:pt x="2290" y="2947"/>
                    </a:lnTo>
                    <a:lnTo>
                      <a:pt x="2268" y="2965"/>
                    </a:lnTo>
                    <a:lnTo>
                      <a:pt x="2224" y="2996"/>
                    </a:lnTo>
                    <a:lnTo>
                      <a:pt x="2228" y="3035"/>
                    </a:lnTo>
                    <a:lnTo>
                      <a:pt x="2228" y="3062"/>
                    </a:lnTo>
                    <a:lnTo>
                      <a:pt x="2224" y="3079"/>
                    </a:lnTo>
                    <a:lnTo>
                      <a:pt x="2211" y="3093"/>
                    </a:lnTo>
                    <a:lnTo>
                      <a:pt x="2193" y="3102"/>
                    </a:lnTo>
                    <a:lnTo>
                      <a:pt x="2175" y="3097"/>
                    </a:lnTo>
                    <a:lnTo>
                      <a:pt x="2136" y="3079"/>
                    </a:lnTo>
                    <a:lnTo>
                      <a:pt x="2034" y="3044"/>
                    </a:lnTo>
                    <a:lnTo>
                      <a:pt x="1915" y="2996"/>
                    </a:lnTo>
                    <a:lnTo>
                      <a:pt x="1743" y="2947"/>
                    </a:lnTo>
                    <a:lnTo>
                      <a:pt x="1711" y="2947"/>
                    </a:lnTo>
                    <a:lnTo>
                      <a:pt x="1614" y="2921"/>
                    </a:lnTo>
                    <a:lnTo>
                      <a:pt x="1416" y="2868"/>
                    </a:lnTo>
                    <a:lnTo>
                      <a:pt x="1253" y="2846"/>
                    </a:lnTo>
                    <a:lnTo>
                      <a:pt x="1218" y="2850"/>
                    </a:lnTo>
                    <a:lnTo>
                      <a:pt x="1134" y="2855"/>
                    </a:lnTo>
                    <a:lnTo>
                      <a:pt x="1090" y="2819"/>
                    </a:lnTo>
                    <a:lnTo>
                      <a:pt x="1059" y="2793"/>
                    </a:lnTo>
                    <a:lnTo>
                      <a:pt x="1041" y="2771"/>
                    </a:lnTo>
                    <a:lnTo>
                      <a:pt x="1028" y="2744"/>
                    </a:lnTo>
                    <a:lnTo>
                      <a:pt x="1010" y="2709"/>
                    </a:lnTo>
                    <a:lnTo>
                      <a:pt x="913" y="2577"/>
                    </a:lnTo>
                    <a:lnTo>
                      <a:pt x="1002" y="2696"/>
                    </a:lnTo>
                    <a:lnTo>
                      <a:pt x="1032" y="2744"/>
                    </a:lnTo>
                    <a:lnTo>
                      <a:pt x="1046" y="2780"/>
                    </a:lnTo>
                    <a:lnTo>
                      <a:pt x="1125" y="2850"/>
                    </a:lnTo>
                    <a:lnTo>
                      <a:pt x="1165" y="2859"/>
                    </a:lnTo>
                    <a:lnTo>
                      <a:pt x="1222" y="2850"/>
                    </a:lnTo>
                    <a:lnTo>
                      <a:pt x="1257" y="2850"/>
                    </a:lnTo>
                    <a:lnTo>
                      <a:pt x="1328" y="2877"/>
                    </a:lnTo>
                    <a:lnTo>
                      <a:pt x="1368" y="2908"/>
                    </a:lnTo>
                    <a:lnTo>
                      <a:pt x="1403" y="2938"/>
                    </a:lnTo>
                    <a:lnTo>
                      <a:pt x="1438" y="2982"/>
                    </a:lnTo>
                    <a:lnTo>
                      <a:pt x="1451" y="3009"/>
                    </a:lnTo>
                    <a:lnTo>
                      <a:pt x="1447" y="3040"/>
                    </a:lnTo>
                    <a:lnTo>
                      <a:pt x="1425" y="3075"/>
                    </a:lnTo>
                    <a:lnTo>
                      <a:pt x="1394" y="3119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143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66" y="3128"/>
                    </a:lnTo>
                    <a:lnTo>
                      <a:pt x="918" y="3137"/>
                    </a:lnTo>
                    <a:lnTo>
                      <a:pt x="763" y="3093"/>
                    </a:lnTo>
                    <a:lnTo>
                      <a:pt x="605" y="3084"/>
                    </a:lnTo>
                    <a:lnTo>
                      <a:pt x="388" y="3049"/>
                    </a:lnTo>
                    <a:lnTo>
                      <a:pt x="321" y="3062"/>
                    </a:lnTo>
                    <a:lnTo>
                      <a:pt x="163" y="3044"/>
                    </a:lnTo>
                    <a:lnTo>
                      <a:pt x="127" y="3035"/>
                    </a:lnTo>
                    <a:lnTo>
                      <a:pt x="88" y="3018"/>
                    </a:lnTo>
                    <a:lnTo>
                      <a:pt x="57" y="3000"/>
                    </a:lnTo>
                    <a:lnTo>
                      <a:pt x="39" y="2978"/>
                    </a:lnTo>
                    <a:lnTo>
                      <a:pt x="22" y="2938"/>
                    </a:lnTo>
                    <a:lnTo>
                      <a:pt x="8" y="2881"/>
                    </a:lnTo>
                    <a:lnTo>
                      <a:pt x="4" y="2833"/>
                    </a:lnTo>
                    <a:lnTo>
                      <a:pt x="0" y="2762"/>
                    </a:lnTo>
                    <a:lnTo>
                      <a:pt x="4" y="2705"/>
                    </a:lnTo>
                    <a:lnTo>
                      <a:pt x="13" y="2643"/>
                    </a:lnTo>
                    <a:lnTo>
                      <a:pt x="22" y="2586"/>
                    </a:lnTo>
                    <a:lnTo>
                      <a:pt x="39" y="2546"/>
                    </a:lnTo>
                    <a:lnTo>
                      <a:pt x="92" y="2383"/>
                    </a:lnTo>
                    <a:lnTo>
                      <a:pt x="154" y="2183"/>
                    </a:lnTo>
                    <a:lnTo>
                      <a:pt x="198" y="2051"/>
                    </a:lnTo>
                    <a:lnTo>
                      <a:pt x="313" y="1831"/>
                    </a:lnTo>
                    <a:lnTo>
                      <a:pt x="427" y="1659"/>
                    </a:lnTo>
                    <a:lnTo>
                      <a:pt x="524" y="1526"/>
                    </a:lnTo>
                    <a:lnTo>
                      <a:pt x="587" y="1442"/>
                    </a:lnTo>
                    <a:lnTo>
                      <a:pt x="636" y="1363"/>
                    </a:lnTo>
                    <a:lnTo>
                      <a:pt x="688" y="1297"/>
                    </a:lnTo>
                    <a:lnTo>
                      <a:pt x="702" y="1196"/>
                    </a:lnTo>
                    <a:lnTo>
                      <a:pt x="759" y="1059"/>
                    </a:lnTo>
                    <a:lnTo>
                      <a:pt x="794" y="940"/>
                    </a:lnTo>
                    <a:close/>
                  </a:path>
                </a:pathLst>
              </a:custGeom>
              <a:solidFill>
                <a:srgbClr val="dfd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640480" y="5308560"/>
                <a:ext cx="106560" cy="51120"/>
              </a:xfrm>
              <a:custGeom>
                <a:avLst/>
                <a:gdLst/>
                <a:ahLst/>
                <a:rect l="0" t="0" r="r" b="b"/>
                <a:pathLst>
                  <a:path fill="none" w="296" h="142">
                    <a:moveTo>
                      <a:pt x="0" y="44"/>
                    </a:moveTo>
                    <a:lnTo>
                      <a:pt x="35" y="26"/>
                    </a:lnTo>
                    <a:lnTo>
                      <a:pt x="74" y="13"/>
                    </a:lnTo>
                    <a:lnTo>
                      <a:pt x="101" y="4"/>
                    </a:lnTo>
                    <a:lnTo>
                      <a:pt x="132" y="0"/>
                    </a:lnTo>
                    <a:lnTo>
                      <a:pt x="155" y="0"/>
                    </a:lnTo>
                    <a:lnTo>
                      <a:pt x="181" y="4"/>
                    </a:lnTo>
                    <a:lnTo>
                      <a:pt x="190" y="17"/>
                    </a:lnTo>
                    <a:lnTo>
                      <a:pt x="203" y="44"/>
                    </a:lnTo>
                    <a:lnTo>
                      <a:pt x="217" y="66"/>
                    </a:lnTo>
                    <a:lnTo>
                      <a:pt x="234" y="93"/>
                    </a:lnTo>
                    <a:lnTo>
                      <a:pt x="247" y="115"/>
                    </a:lnTo>
                    <a:lnTo>
                      <a:pt x="269" y="133"/>
                    </a:lnTo>
                    <a:lnTo>
                      <a:pt x="296" y="14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5657760" y="5321160"/>
                <a:ext cx="1094040" cy="927720"/>
                <a:chOff x="5657760" y="5321160"/>
                <a:chExt cx="1094040" cy="92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668920" y="6053040"/>
                  <a:ext cx="865440" cy="195480"/>
                </a:xfrm>
                <a:custGeom>
                  <a:avLst/>
                  <a:gdLst/>
                  <a:ahLst/>
                  <a:rect l="0" t="0" r="r" b="b"/>
                  <a:pathLst>
                    <a:path w="2404" h="543">
                      <a:moveTo>
                        <a:pt x="0" y="0"/>
                      </a:moveTo>
                      <a:lnTo>
                        <a:pt x="0" y="543"/>
                      </a:lnTo>
                      <a:lnTo>
                        <a:pt x="1683" y="543"/>
                      </a:lnTo>
                      <a:lnTo>
                        <a:pt x="2404" y="272"/>
                      </a:lnTo>
                      <a:lnTo>
                        <a:pt x="16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657760" y="5989680"/>
                  <a:ext cx="859320" cy="259200"/>
                </a:xfrm>
                <a:custGeom>
                  <a:avLst/>
                  <a:gdLst/>
                  <a:ahLst/>
                  <a:rect l="0" t="0" r="r" b="b"/>
                  <a:pathLst>
                    <a:path w="2387" h="720">
                      <a:moveTo>
                        <a:pt x="1854" y="508"/>
                      </a:moveTo>
                      <a:lnTo>
                        <a:pt x="2277" y="720"/>
                      </a:lnTo>
                      <a:lnTo>
                        <a:pt x="2387" y="141"/>
                      </a:lnTo>
                      <a:lnTo>
                        <a:pt x="1143" y="0"/>
                      </a:lnTo>
                      <a:lnTo>
                        <a:pt x="4" y="123"/>
                      </a:lnTo>
                      <a:lnTo>
                        <a:pt x="0" y="424"/>
                      </a:lnTo>
                      <a:lnTo>
                        <a:pt x="158" y="508"/>
                      </a:lnTo>
                      <a:lnTo>
                        <a:pt x="794" y="508"/>
                      </a:lnTo>
                      <a:lnTo>
                        <a:pt x="794" y="508"/>
                      </a:lnTo>
                      <a:lnTo>
                        <a:pt x="706" y="538"/>
                      </a:lnTo>
                      <a:lnTo>
                        <a:pt x="1429" y="508"/>
                      </a:lnTo>
                      <a:lnTo>
                        <a:pt x="1854" y="508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711760" y="5983200"/>
                  <a:ext cx="346320" cy="187560"/>
                </a:xfrm>
                <a:custGeom>
                  <a:avLst/>
                  <a:gdLst/>
                  <a:ahLst/>
                  <a:rect l="0" t="0" r="r" b="b"/>
                  <a:pathLst>
                    <a:path w="962" h="521">
                      <a:moveTo>
                        <a:pt x="180" y="101"/>
                      </a:moveTo>
                      <a:lnTo>
                        <a:pt x="308" y="83"/>
                      </a:lnTo>
                      <a:lnTo>
                        <a:pt x="427" y="0"/>
                      </a:lnTo>
                      <a:lnTo>
                        <a:pt x="552" y="123"/>
                      </a:lnTo>
                      <a:lnTo>
                        <a:pt x="935" y="362"/>
                      </a:lnTo>
                      <a:lnTo>
                        <a:pt x="962" y="450"/>
                      </a:lnTo>
                      <a:lnTo>
                        <a:pt x="741" y="521"/>
                      </a:lnTo>
                      <a:lnTo>
                        <a:pt x="0" y="163"/>
                      </a:lnTo>
                      <a:lnTo>
                        <a:pt x="180" y="10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925960" y="5321160"/>
                  <a:ext cx="825840" cy="841680"/>
                </a:xfrm>
                <a:custGeom>
                  <a:avLst/>
                  <a:gdLst/>
                  <a:ahLst/>
                  <a:rect l="0" t="0" r="r" b="b"/>
                  <a:pathLst>
                    <a:path w="2294" h="2338">
                      <a:moveTo>
                        <a:pt x="427" y="476"/>
                      </a:moveTo>
                      <a:lnTo>
                        <a:pt x="485" y="313"/>
                      </a:lnTo>
                      <a:lnTo>
                        <a:pt x="520" y="211"/>
                      </a:lnTo>
                      <a:lnTo>
                        <a:pt x="533" y="180"/>
                      </a:lnTo>
                      <a:lnTo>
                        <a:pt x="551" y="154"/>
                      </a:lnTo>
                      <a:lnTo>
                        <a:pt x="564" y="141"/>
                      </a:lnTo>
                      <a:lnTo>
                        <a:pt x="590" y="132"/>
                      </a:lnTo>
                      <a:lnTo>
                        <a:pt x="877" y="74"/>
                      </a:lnTo>
                      <a:lnTo>
                        <a:pt x="1191" y="22"/>
                      </a:lnTo>
                      <a:lnTo>
                        <a:pt x="1473" y="0"/>
                      </a:lnTo>
                      <a:lnTo>
                        <a:pt x="1637" y="0"/>
                      </a:lnTo>
                      <a:lnTo>
                        <a:pt x="1967" y="17"/>
                      </a:lnTo>
                      <a:lnTo>
                        <a:pt x="2210" y="30"/>
                      </a:lnTo>
                      <a:lnTo>
                        <a:pt x="2245" y="35"/>
                      </a:lnTo>
                      <a:lnTo>
                        <a:pt x="2267" y="44"/>
                      </a:lnTo>
                      <a:lnTo>
                        <a:pt x="2285" y="57"/>
                      </a:lnTo>
                      <a:lnTo>
                        <a:pt x="2294" y="70"/>
                      </a:lnTo>
                      <a:lnTo>
                        <a:pt x="2294" y="92"/>
                      </a:lnTo>
                      <a:lnTo>
                        <a:pt x="2280" y="158"/>
                      </a:lnTo>
                      <a:lnTo>
                        <a:pt x="2236" y="370"/>
                      </a:lnTo>
                      <a:lnTo>
                        <a:pt x="2201" y="524"/>
                      </a:lnTo>
                      <a:lnTo>
                        <a:pt x="2122" y="877"/>
                      </a:lnTo>
                      <a:lnTo>
                        <a:pt x="2073" y="1093"/>
                      </a:lnTo>
                      <a:lnTo>
                        <a:pt x="1936" y="1606"/>
                      </a:lnTo>
                      <a:lnTo>
                        <a:pt x="1804" y="2016"/>
                      </a:lnTo>
                      <a:lnTo>
                        <a:pt x="1778" y="2091"/>
                      </a:lnTo>
                      <a:lnTo>
                        <a:pt x="1764" y="2135"/>
                      </a:lnTo>
                      <a:lnTo>
                        <a:pt x="1751" y="2179"/>
                      </a:lnTo>
                      <a:lnTo>
                        <a:pt x="1738" y="2205"/>
                      </a:lnTo>
                      <a:lnTo>
                        <a:pt x="1711" y="2232"/>
                      </a:lnTo>
                      <a:lnTo>
                        <a:pt x="1689" y="2241"/>
                      </a:lnTo>
                      <a:lnTo>
                        <a:pt x="1645" y="2254"/>
                      </a:lnTo>
                      <a:lnTo>
                        <a:pt x="1570" y="2258"/>
                      </a:lnTo>
                      <a:lnTo>
                        <a:pt x="1438" y="2258"/>
                      </a:lnTo>
                      <a:lnTo>
                        <a:pt x="1328" y="2272"/>
                      </a:lnTo>
                      <a:lnTo>
                        <a:pt x="1182" y="2294"/>
                      </a:lnTo>
                      <a:lnTo>
                        <a:pt x="1031" y="2320"/>
                      </a:lnTo>
                      <a:lnTo>
                        <a:pt x="930" y="2338"/>
                      </a:lnTo>
                      <a:lnTo>
                        <a:pt x="802" y="2338"/>
                      </a:lnTo>
                      <a:lnTo>
                        <a:pt x="776" y="2320"/>
                      </a:lnTo>
                      <a:lnTo>
                        <a:pt x="70" y="1857"/>
                      </a:lnTo>
                      <a:lnTo>
                        <a:pt x="35" y="1826"/>
                      </a:lnTo>
                      <a:lnTo>
                        <a:pt x="8" y="1795"/>
                      </a:lnTo>
                      <a:lnTo>
                        <a:pt x="0" y="1760"/>
                      </a:lnTo>
                      <a:lnTo>
                        <a:pt x="0" y="1716"/>
                      </a:lnTo>
                      <a:lnTo>
                        <a:pt x="8" y="1676"/>
                      </a:lnTo>
                      <a:lnTo>
                        <a:pt x="211" y="1102"/>
                      </a:lnTo>
                      <a:lnTo>
                        <a:pt x="339" y="736"/>
                      </a:lnTo>
                      <a:lnTo>
                        <a:pt x="427" y="47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969160" y="5405400"/>
                  <a:ext cx="491040" cy="638640"/>
                </a:xfrm>
                <a:custGeom>
                  <a:avLst/>
                  <a:gdLst/>
                  <a:ahLst/>
                  <a:rect l="0" t="0" r="r" b="b"/>
                  <a:pathLst>
                    <a:path w="1364" h="1774">
                      <a:moveTo>
                        <a:pt x="313" y="530"/>
                      </a:moveTo>
                      <a:lnTo>
                        <a:pt x="411" y="273"/>
                      </a:lnTo>
                      <a:lnTo>
                        <a:pt x="499" y="44"/>
                      </a:lnTo>
                      <a:lnTo>
                        <a:pt x="512" y="35"/>
                      </a:lnTo>
                      <a:lnTo>
                        <a:pt x="525" y="30"/>
                      </a:lnTo>
                      <a:lnTo>
                        <a:pt x="556" y="30"/>
                      </a:lnTo>
                      <a:lnTo>
                        <a:pt x="944" y="0"/>
                      </a:lnTo>
                      <a:lnTo>
                        <a:pt x="1324" y="0"/>
                      </a:lnTo>
                      <a:lnTo>
                        <a:pt x="1351" y="4"/>
                      </a:lnTo>
                      <a:lnTo>
                        <a:pt x="1360" y="8"/>
                      </a:lnTo>
                      <a:lnTo>
                        <a:pt x="1364" y="30"/>
                      </a:lnTo>
                      <a:lnTo>
                        <a:pt x="1338" y="194"/>
                      </a:lnTo>
                      <a:lnTo>
                        <a:pt x="1276" y="330"/>
                      </a:lnTo>
                      <a:lnTo>
                        <a:pt x="1174" y="587"/>
                      </a:lnTo>
                      <a:lnTo>
                        <a:pt x="979" y="1024"/>
                      </a:lnTo>
                      <a:lnTo>
                        <a:pt x="812" y="1408"/>
                      </a:lnTo>
                      <a:lnTo>
                        <a:pt x="768" y="1549"/>
                      </a:lnTo>
                      <a:lnTo>
                        <a:pt x="741" y="1646"/>
                      </a:lnTo>
                      <a:lnTo>
                        <a:pt x="715" y="1704"/>
                      </a:lnTo>
                      <a:lnTo>
                        <a:pt x="688" y="1743"/>
                      </a:lnTo>
                      <a:lnTo>
                        <a:pt x="675" y="1761"/>
                      </a:lnTo>
                      <a:lnTo>
                        <a:pt x="658" y="1774"/>
                      </a:lnTo>
                      <a:lnTo>
                        <a:pt x="636" y="1774"/>
                      </a:lnTo>
                      <a:lnTo>
                        <a:pt x="613" y="1770"/>
                      </a:lnTo>
                      <a:lnTo>
                        <a:pt x="574" y="1748"/>
                      </a:lnTo>
                      <a:lnTo>
                        <a:pt x="530" y="1717"/>
                      </a:lnTo>
                      <a:lnTo>
                        <a:pt x="494" y="1682"/>
                      </a:lnTo>
                      <a:lnTo>
                        <a:pt x="446" y="1646"/>
                      </a:lnTo>
                      <a:lnTo>
                        <a:pt x="406" y="1615"/>
                      </a:lnTo>
                      <a:lnTo>
                        <a:pt x="17" y="1461"/>
                      </a:lnTo>
                      <a:lnTo>
                        <a:pt x="8" y="1448"/>
                      </a:lnTo>
                      <a:lnTo>
                        <a:pt x="0" y="1435"/>
                      </a:lnTo>
                      <a:lnTo>
                        <a:pt x="4" y="1413"/>
                      </a:lnTo>
                      <a:lnTo>
                        <a:pt x="8" y="1395"/>
                      </a:lnTo>
                      <a:lnTo>
                        <a:pt x="313" y="53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16720" y="6059520"/>
                  <a:ext cx="2700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711760" y="5365800"/>
                  <a:ext cx="35280" cy="86040"/>
                </a:xfrm>
                <a:custGeom>
                  <a:avLst/>
                  <a:gdLst/>
                  <a:ahLst/>
                  <a:rect l="0" t="0" r="r" b="b"/>
                  <a:pathLst>
                    <a:path w="98" h="239">
                      <a:moveTo>
                        <a:pt x="84" y="0"/>
                      </a:moveTo>
                      <a:lnTo>
                        <a:pt x="67" y="13"/>
                      </a:lnTo>
                      <a:lnTo>
                        <a:pt x="44" y="39"/>
                      </a:lnTo>
                      <a:lnTo>
                        <a:pt x="26" y="66"/>
                      </a:lnTo>
                      <a:lnTo>
                        <a:pt x="13" y="97"/>
                      </a:lnTo>
                      <a:lnTo>
                        <a:pt x="4" y="124"/>
                      </a:lnTo>
                      <a:lnTo>
                        <a:pt x="0" y="155"/>
                      </a:lnTo>
                      <a:lnTo>
                        <a:pt x="0" y="186"/>
                      </a:lnTo>
                      <a:lnTo>
                        <a:pt x="8" y="221"/>
                      </a:lnTo>
                      <a:lnTo>
                        <a:pt x="13" y="239"/>
                      </a:lnTo>
                      <a:lnTo>
                        <a:pt x="30" y="221"/>
                      </a:lnTo>
                      <a:lnTo>
                        <a:pt x="44" y="203"/>
                      </a:lnTo>
                      <a:lnTo>
                        <a:pt x="58" y="186"/>
                      </a:lnTo>
                      <a:lnTo>
                        <a:pt x="71" y="164"/>
                      </a:lnTo>
                      <a:lnTo>
                        <a:pt x="80" y="142"/>
                      </a:lnTo>
                      <a:lnTo>
                        <a:pt x="89" y="114"/>
                      </a:lnTo>
                      <a:lnTo>
                        <a:pt x="93" y="79"/>
                      </a:lnTo>
                      <a:lnTo>
                        <a:pt x="98" y="52"/>
                      </a:lnTo>
                      <a:lnTo>
                        <a:pt x="93" y="26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848720" y="1076400"/>
            <a:ext cx="874800" cy="606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850160" y="1990800"/>
            <a:ext cx="874800" cy="606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7850160" y="2828880"/>
            <a:ext cx="874800" cy="606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7850160" y="3743280"/>
            <a:ext cx="874800" cy="606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8442360" y="10206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442360" y="19350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442360" y="2773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442360" y="36878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442360" y="46022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 - Multi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396252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mbership changes the virtual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ream thinning requires filtering in data-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bile filter adapts with top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52280" y="1219320"/>
            <a:ext cx="2895840" cy="2438280"/>
            <a:chOff x="152280" y="1219320"/>
            <a:chExt cx="2895840" cy="2438280"/>
          </a:xfrm>
        </p:grpSpPr>
        <p:sp>
          <p:nvSpPr>
            <p:cNvPr id="236" name=""/>
            <p:cNvSpPr txBox="1"/>
            <p:nvPr/>
          </p:nvSpPr>
          <p:spPr>
            <a:xfrm>
              <a:off x="1600200" y="1219320"/>
              <a:ext cx="144792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rt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152280" y="1219320"/>
              <a:ext cx="1447920" cy="2438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ig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04920" y="1676520"/>
              <a:ext cx="1066680" cy="1752480"/>
              <a:chOff x="304920" y="1676520"/>
              <a:chExt cx="1066680" cy="1752480"/>
            </a:xfrm>
          </p:grpSpPr>
          <p:sp>
            <p:nvSpPr>
              <p:cNvPr id="239" name=""/>
              <p:cNvSpPr/>
              <p:nvPr/>
            </p:nvSpPr>
            <p:spPr>
              <a:xfrm>
                <a:off x="304920" y="251460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9480" y="213372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2120" y="266688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19320" y="213372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380880" y="2590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838080" y="2743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143000" y="2743200"/>
                <a:ext cx="15228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85800" y="175248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66680" y="1752480"/>
                <a:ext cx="2286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380880" y="2209680"/>
                <a:ext cx="30492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685800" y="2209680"/>
                <a:ext cx="15228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5280" y="22096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1219320" y="2666880"/>
                <a:ext cx="152280" cy="152640"/>
                <a:chOff x="1219320" y="2666880"/>
                <a:chExt cx="152280" cy="152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21932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2193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12193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62120" y="2666880"/>
                <a:ext cx="152280" cy="152640"/>
                <a:chOff x="762120" y="2666880"/>
                <a:chExt cx="152280" cy="1526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6212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621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7621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609480" y="2133720"/>
                <a:ext cx="152640" cy="152280"/>
                <a:chOff x="609480" y="2133720"/>
                <a:chExt cx="152640" cy="1522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60948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09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609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304920" y="2514600"/>
                <a:ext cx="152280" cy="152280"/>
                <a:chOff x="304920" y="2514600"/>
                <a:chExt cx="152280" cy="1522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304920" y="25146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04920" y="25146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304920" y="25146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1219320" y="2133720"/>
                <a:ext cx="152280" cy="152280"/>
                <a:chOff x="1219320" y="2133720"/>
                <a:chExt cx="152280" cy="152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21932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2193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12193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990720" y="1676520"/>
                <a:ext cx="152640" cy="152640"/>
                <a:chOff x="990720" y="1676520"/>
                <a:chExt cx="152640" cy="1526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99072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99072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30492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06668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212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828800" y="1676520"/>
              <a:ext cx="914400" cy="1752480"/>
              <a:chOff x="1828800" y="1676520"/>
              <a:chExt cx="914400" cy="1752480"/>
            </a:xfrm>
          </p:grpSpPr>
          <p:sp>
            <p:nvSpPr>
              <p:cNvPr id="278" name=""/>
              <p:cNvSpPr/>
              <p:nvPr/>
            </p:nvSpPr>
            <p:spPr>
              <a:xfrm>
                <a:off x="2133720" y="213372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905120" y="2211480"/>
                <a:ext cx="306360" cy="83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209680" y="2211480"/>
                <a:ext cx="152640" cy="9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90920" y="1752480"/>
                <a:ext cx="7596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2209680" y="1752480"/>
                <a:ext cx="38124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2133720" y="2133720"/>
                <a:ext cx="152280" cy="152280"/>
                <a:chOff x="2133720" y="2133720"/>
                <a:chExt cx="152280" cy="1522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13372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1337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21337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14600" y="1676520"/>
                <a:ext cx="152640" cy="152640"/>
                <a:chOff x="2514600" y="1676520"/>
                <a:chExt cx="152640" cy="1526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1460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1460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259092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2880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8600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048120" y="1219320"/>
            <a:ext cx="2895480" cy="2438280"/>
            <a:chOff x="3048120" y="1219320"/>
            <a:chExt cx="2895480" cy="2438280"/>
          </a:xfrm>
        </p:grpSpPr>
        <p:sp>
          <p:nvSpPr>
            <p:cNvPr id="294" name=""/>
            <p:cNvSpPr txBox="1"/>
            <p:nvPr/>
          </p:nvSpPr>
          <p:spPr>
            <a:xfrm>
              <a:off x="3048120" y="1219320"/>
              <a:ext cx="1447920" cy="2438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Lea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4495680" y="1219320"/>
              <a:ext cx="1447920" cy="24382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rt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3124080" y="1676520"/>
              <a:ext cx="1330920" cy="1787760"/>
              <a:chOff x="3124080" y="1676520"/>
              <a:chExt cx="1330920" cy="1787760"/>
            </a:xfrm>
          </p:grpSpPr>
          <p:sp>
            <p:nvSpPr>
              <p:cNvPr id="297" name=""/>
              <p:cNvSpPr/>
              <p:nvPr/>
            </p:nvSpPr>
            <p:spPr>
              <a:xfrm>
                <a:off x="4191120" y="32767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14800" y="2743200"/>
                <a:ext cx="15228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29000" y="213372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09880" y="167652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3200400" y="2590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3657600" y="2743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3962520" y="2743200"/>
                <a:ext cx="15228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505320" y="175248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86200" y="1752480"/>
                <a:ext cx="2286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3200400" y="2209680"/>
                <a:ext cx="30492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3505320" y="2209680"/>
                <a:ext cx="15228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14800" y="2209680"/>
                <a:ext cx="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67080" y="2514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114800" y="2209680"/>
                <a:ext cx="22860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149720" y="32353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26040" y="24732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3429000" y="2133720"/>
                <a:ext cx="152280" cy="152280"/>
                <a:chOff x="3429000" y="2133720"/>
                <a:chExt cx="152280" cy="1522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42900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4290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34290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038480" y="2133720"/>
                <a:ext cx="152640" cy="152280"/>
                <a:chOff x="4038480" y="2133720"/>
                <a:chExt cx="152640" cy="1522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03848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038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4038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124080" y="2514600"/>
                <a:ext cx="152640" cy="152280"/>
                <a:chOff x="3124080" y="2514600"/>
                <a:chExt cx="152640" cy="1522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124080" y="25146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124080" y="25146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3124080" y="25146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809880" y="1676520"/>
                <a:ext cx="152640" cy="152640"/>
                <a:chOff x="3809880" y="1676520"/>
                <a:chExt cx="152640" cy="1526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80988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80988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581280" y="2666880"/>
                <a:ext cx="152640" cy="152640"/>
                <a:chOff x="3581280" y="2666880"/>
                <a:chExt cx="152640" cy="1526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58128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81280" y="26668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>
                  <a:off x="3581280" y="26668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4038480" y="2666880"/>
                <a:ext cx="152640" cy="152640"/>
                <a:chOff x="4038480" y="2666880"/>
                <a:chExt cx="152640" cy="1526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03848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038480" y="26668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4038480" y="26668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358128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12408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8620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572000" y="1676520"/>
              <a:ext cx="1330560" cy="1787760"/>
              <a:chOff x="4572000" y="1676520"/>
              <a:chExt cx="1330560" cy="1787760"/>
            </a:xfrm>
          </p:grpSpPr>
          <p:sp>
            <p:nvSpPr>
              <p:cNvPr id="340" name=""/>
              <p:cNvSpPr/>
              <p:nvPr/>
            </p:nvSpPr>
            <p:spPr>
              <a:xfrm flipV="1">
                <a:off x="4648320" y="2211480"/>
                <a:ext cx="306360" cy="83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4952880" y="2211480"/>
                <a:ext cx="152640" cy="9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34120" y="1752480"/>
                <a:ext cx="2286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952880" y="1752480"/>
                <a:ext cx="38124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638680" y="32767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62720" y="2743200"/>
                <a:ext cx="15228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410080" y="2743200"/>
                <a:ext cx="15264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562720" y="2209680"/>
                <a:ext cx="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5000" y="2514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62720" y="2209680"/>
                <a:ext cx="22860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97640" y="32353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73600" y="24732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5257800" y="1676520"/>
                <a:ext cx="152640" cy="152640"/>
                <a:chOff x="5257800" y="1676520"/>
                <a:chExt cx="152640" cy="15264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25780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25780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4876920" y="2133720"/>
                <a:ext cx="152280" cy="152280"/>
                <a:chOff x="4876920" y="2133720"/>
                <a:chExt cx="152280" cy="1522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87692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8769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48769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5486400" y="2133720"/>
                <a:ext cx="152280" cy="152280"/>
                <a:chOff x="5486400" y="2133720"/>
                <a:chExt cx="152280" cy="1522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548640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4864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54864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486400" y="2666880"/>
                <a:ext cx="152280" cy="152640"/>
                <a:chOff x="5486400" y="2666880"/>
                <a:chExt cx="152280" cy="1526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48640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48640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548640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457200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2920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3412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0" name=""/>
          <p:cNvGrpSpPr/>
          <p:nvPr/>
        </p:nvGrpSpPr>
        <p:grpSpPr>
          <a:xfrm>
            <a:off x="5943600" y="1219320"/>
            <a:ext cx="2895840" cy="2438280"/>
            <a:chOff x="5943600" y="1219320"/>
            <a:chExt cx="2895840" cy="2438280"/>
          </a:xfrm>
        </p:grpSpPr>
        <p:sp>
          <p:nvSpPr>
            <p:cNvPr id="371" name=""/>
            <p:cNvSpPr txBox="1"/>
            <p:nvPr/>
          </p:nvSpPr>
          <p:spPr>
            <a:xfrm>
              <a:off x="5943600" y="1219320"/>
              <a:ext cx="1447920" cy="243828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7391520" y="1219320"/>
              <a:ext cx="1447920" cy="2438280"/>
            </a:xfrm>
            <a:prstGeom prst="rect">
              <a:avLst/>
            </a:prstGeom>
            <a:solidFill>
              <a:srgbClr val="99ff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rt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467480" y="1676520"/>
              <a:ext cx="1330920" cy="1752480"/>
              <a:chOff x="7467480" y="1676520"/>
              <a:chExt cx="1330920" cy="1752480"/>
            </a:xfrm>
          </p:grpSpPr>
          <p:sp>
            <p:nvSpPr>
              <p:cNvPr id="374" name=""/>
              <p:cNvSpPr/>
              <p:nvPr/>
            </p:nvSpPr>
            <p:spPr>
              <a:xfrm flipV="1">
                <a:off x="7543800" y="2211480"/>
                <a:ext cx="306360" cy="83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 flipV="1">
                <a:off x="7848720" y="2211480"/>
                <a:ext cx="152280" cy="9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229600" y="1752480"/>
                <a:ext cx="2286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7848720" y="175248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8305920" y="2209680"/>
                <a:ext cx="15228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458200" y="2209680"/>
                <a:ext cx="22860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8153280" y="1676520"/>
                <a:ext cx="152640" cy="152640"/>
                <a:chOff x="8153280" y="1676520"/>
                <a:chExt cx="152640" cy="1526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815328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15328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7772400" y="2133720"/>
                <a:ext cx="152280" cy="152280"/>
                <a:chOff x="7772400" y="2133720"/>
                <a:chExt cx="152280" cy="15228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777240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7724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>
                  <a:off x="77724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8381880" y="2133720"/>
                <a:ext cx="152640" cy="152280"/>
                <a:chOff x="8381880" y="2133720"/>
                <a:chExt cx="152640" cy="1522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838188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3818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>
                  <a:off x="83818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822960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46748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92468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569440" y="24732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019920" y="1676520"/>
              <a:ext cx="1330560" cy="1957680"/>
              <a:chOff x="6019920" y="1676520"/>
              <a:chExt cx="1330560" cy="1957680"/>
            </a:xfrm>
          </p:grpSpPr>
          <p:sp>
            <p:nvSpPr>
              <p:cNvPr id="396" name=""/>
              <p:cNvSpPr/>
              <p:nvPr/>
            </p:nvSpPr>
            <p:spPr>
              <a:xfrm>
                <a:off x="7010280" y="2743200"/>
                <a:ext cx="15264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6095880" y="2590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6553080" y="2743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6858000" y="2743200"/>
                <a:ext cx="15228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6400800" y="175248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781680" y="1752480"/>
                <a:ext cx="2286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6095880" y="2209680"/>
                <a:ext cx="30492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flipV="1">
                <a:off x="6400800" y="2209680"/>
                <a:ext cx="15228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010280" y="22096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162920" y="2514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010280" y="2209680"/>
                <a:ext cx="22860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21520" y="24732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6705720" y="1676520"/>
                <a:ext cx="152640" cy="152640"/>
                <a:chOff x="6705720" y="1676520"/>
                <a:chExt cx="152640" cy="15264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670572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70572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019920" y="2514600"/>
                <a:ext cx="152280" cy="152280"/>
                <a:chOff x="6019920" y="2514600"/>
                <a:chExt cx="152280" cy="15228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6019920" y="25146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019920" y="25146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>
                  <a:off x="6019920" y="25146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324480" y="2133720"/>
                <a:ext cx="152640" cy="152280"/>
                <a:chOff x="6324480" y="2133720"/>
                <a:chExt cx="152640" cy="1522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32448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324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>
                  <a:off x="6324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934320" y="2133720"/>
                <a:ext cx="152280" cy="152280"/>
                <a:chOff x="6934320" y="2133720"/>
                <a:chExt cx="152280" cy="1522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93432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343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H="1">
                  <a:off x="69343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477120" y="2666880"/>
                <a:ext cx="152280" cy="152640"/>
                <a:chOff x="6477120" y="2666880"/>
                <a:chExt cx="152280" cy="1526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47712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4771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>
                  <a:off x="64771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934320" y="2666880"/>
                <a:ext cx="152280" cy="152640"/>
                <a:chOff x="6934320" y="2666880"/>
                <a:chExt cx="152280" cy="1526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93432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9343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>
                  <a:off x="69343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601992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7712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78168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04240" y="32767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066080" y="32353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7066080" y="3124080"/>
                <a:ext cx="228960" cy="510120"/>
                <a:chOff x="7066080" y="3124080"/>
                <a:chExt cx="228960" cy="510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099200" y="3124080"/>
                  <a:ext cx="195480" cy="452880"/>
                </a:xfrm>
                <a:custGeom>
                  <a:avLst/>
                  <a:gdLst/>
                  <a:ahLst/>
                  <a:rect l="0" t="0" r="r" b="b"/>
                  <a:pathLst>
                    <a:path w="543" h="1258">
                      <a:moveTo>
                        <a:pt x="12" y="956"/>
                      </a:moveTo>
                      <a:lnTo>
                        <a:pt x="65" y="1221"/>
                      </a:lnTo>
                      <a:lnTo>
                        <a:pt x="56" y="1258"/>
                      </a:lnTo>
                      <a:lnTo>
                        <a:pt x="543" y="146"/>
                      </a:lnTo>
                      <a:lnTo>
                        <a:pt x="543" y="0"/>
                      </a:lnTo>
                      <a:lnTo>
                        <a:pt x="0" y="936"/>
                      </a:lnTo>
                      <a:lnTo>
                        <a:pt x="12" y="95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066080" y="3181320"/>
                  <a:ext cx="228960" cy="452880"/>
                </a:xfrm>
                <a:custGeom>
                  <a:avLst/>
                  <a:gdLst/>
                  <a:ahLst/>
                  <a:rect l="0" t="0" r="r" b="b"/>
                  <a:pathLst>
                    <a:path w="636" h="1258">
                      <a:moveTo>
                        <a:pt x="105" y="320"/>
                      </a:moveTo>
                      <a:lnTo>
                        <a:pt x="0" y="161"/>
                      </a:lnTo>
                      <a:lnTo>
                        <a:pt x="149" y="0"/>
                      </a:lnTo>
                      <a:lnTo>
                        <a:pt x="636" y="1112"/>
                      </a:lnTo>
                      <a:lnTo>
                        <a:pt x="636" y="1258"/>
                      </a:lnTo>
                      <a:lnTo>
                        <a:pt x="93" y="322"/>
                      </a:lnTo>
                      <a:lnTo>
                        <a:pt x="105" y="32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 specific needs of some flows without penalizing all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 penalizes connectionless, IP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lexibility (in contr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demand contro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change the virtual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igh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hardware support for high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isli Hjalmtysson</dc:creator>
  <dc:description/>
  <dc:language>en-US</dc:language>
  <cp:lastModifiedBy>Gisli Hjalmtysson</cp:lastModifiedBy>
  <cp:revision>0</cp:revision>
  <dc:subject/>
  <dc:title>No Slide Title</dc:title>
</cp:coreProperties>
</file>