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F80-8EEF-49A1-B605-F8EED37C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429-0F10-4108-89AC-C7DF70CA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096-930A-4446-9D77-1E9B72FE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8EA-A9E1-4F2E-BAF5-135E0B36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322A-15FB-4E81-B6BD-D5F4CF1B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5C8B-59B0-4ED8-90E3-3C082CA9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121B-102F-40F2-A182-CDF55ABB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BE46-9A99-4884-BC7D-1034B014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0E7B-42E6-4EA5-B771-1349166E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1BB7-A37B-4A80-8BC2-7062E875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C310-6145-48F1-A0F2-768A4F2F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CB4-F8E5-4831-A1FC-CA574A4B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A2DA-3D44-4BA2-97CD-F09A6FFF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5577-2162-48E1-BF8B-751FFFB0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1895-5B0C-40BE-AF90-1F5D03CF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CC29-9227-410D-93C7-E8594D77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04EA-E4C1-4B75-A87D-02CB39C1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9FF75-DDCC-4E4C-B010-BC7C54B0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8FB94-F6BC-42B3-8FED-760E4DF4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2685A-04E2-4FF5-9888-D900A530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94F60-17EB-4EAA-B39A-2D19B0E7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6A647-4F29-4538-A890-1D6929AB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12C-83E7-41D9-8E5D-B24445BB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24848-CA8B-4ABB-B332-EE86095B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59FF4-09CF-4D20-931B-E401BC85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39DB4-2B88-48DF-925A-D2AE8F97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1DD3C-C641-4C33-920C-1C215870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22CD0-13D1-4D51-961C-A179F25F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32854-6173-47BD-8565-FE25543C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90F8D-0B41-48A3-A5E2-565BD435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D44C6-E047-4A7B-A3D2-D1C81AB0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E1BAF-3B61-496C-A273-265C369E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B42EE-72E1-4046-924F-2B7A179A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19B9-683D-400C-B666-E7797779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AFFF2-565D-4D7A-A959-2C13350C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5613E-1A3A-4F87-BB6F-C8077491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3DD8D-3663-4A15-A2C4-068BF243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FD456-575E-4CDF-A052-870FE710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81FA7-052B-4871-BF6F-527B065E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DCA6F-7B67-45A8-8457-20DEE54E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B0571-BCEC-4D0C-86D6-B75E2EBF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A522A-7895-4240-80E3-3E7EC5A4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DBE8C-4D39-4D03-B137-42B14D1C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CA2B6-68DB-4875-A8D8-49FF7D28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551-77AC-4264-9A77-1E8614C6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6A790-D067-49D5-BEA6-2712E944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732F6-2AC7-40B1-AB3F-9C3CEA59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00284-E833-49E0-925A-892B20AA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937CC-6DAB-48A0-971A-77FD28FA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1DB02-2646-4963-88A9-316824A7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72C9F-DC91-4A47-BE5B-47621919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B653E-8A27-4A99-AF96-D4FCEB57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50E07-CD7A-4907-AF3D-974F5EBD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37D0D-AC4E-4C4F-8274-3D69CA81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69364-628A-4F07-AE15-451B28D1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DA0-6607-428A-8DD6-DF4A064E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B474E-477E-437B-8844-92E4DA5E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9FCEE-A431-4BB8-AD60-A4308128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412E3-2F32-44DB-BD80-7D7D0C63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247E9-CC9F-42DA-BE7E-C5BB3932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3F0AB-DB62-49B6-BB47-A965ACA3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0CC00-C51D-4494-AD39-4B5E1BA6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511E2-0702-498F-8AEE-04D82F1D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5D76A-FCFE-4EAB-A829-86651928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9C760-C35A-436A-B7D0-64A1763C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A6A9D-577B-4F5D-9C64-E5CB5C93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02ED-982C-4FBA-8F0C-4D9E6CB5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D8DDE-D131-4071-997E-39F6F295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4EBB4-59E0-4EF0-94BD-4BCDE7C1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DE1D0-6FDC-4E2E-822D-7BA5D9DD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A6041-459B-4470-B103-25C43FBE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A8BAF-1ABA-43E2-9353-169DD44C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621C4-AF0C-45E7-8F6C-36F2655A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300A5-7241-4918-BFAB-FE31D381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3A6E3-BD48-426B-A4E8-9E6D3E1E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25726-407A-4847-9E59-0E4C8E80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E6328-D0D6-4239-9E94-6B71CD5C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AC3-5E54-4B93-9C2C-68A5D798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B4268-27DB-4075-80C3-99F0D1DC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CD97E-4582-4C1A-9A66-A53B7932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57586-4A9D-4E68-A91B-B347F4D3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3B3D8-11F6-47DC-98FD-D92A4E9F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A7CCF-1138-443F-A9A3-57CF91F8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C6BC-8F32-45D2-817D-C066348E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n Intern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 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3466-7829-441D-B687-7D492D79BD6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324080" y="1314360"/>
            <a:ext cx="73706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2880" y="94284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n Inter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19AC-9011-4C05-906B-AB36FDB7A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33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n Inter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BC01-BE50-440D-8B80-0740ABB25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24080" y="1314360"/>
            <a:ext cx="73706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F96D-CDC0-46F7-B4F3-32C0B387D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418D-BE5F-4EC4-B234-53BEFAA6D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66720" y="4662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n Intern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 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C8F9-6BDF-4E51-895C-427DB1A87BD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42880" y="94284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81E6-D81C-4432-A0E8-62DDFB7FB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l.cam.ac.uk/TechReports/UCAM-CL-TR-571.pdf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42880" y="94284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 Black"/>
              </a:rPr>
              <a:t>An Introduction to Wan (Nprobe) Internals</a:t>
            </a:r>
            <a:br>
              <a:rPr sz="3600"/>
            </a:b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3733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James Hall</a:t>
            </a: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Arial Black"/>
              </a:rPr>
              <a:t>University of Cambridge </a:t>
            </a: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Arial Black"/>
              </a:rPr>
              <a:t>Computer Laboratory</a:t>
            </a: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Arial Black"/>
              </a:rPr>
              <a:t>James.Hall@cl.cam.ac.uk</a:t>
            </a: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lows and Data Structures 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low = UDP/TCP connec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-Stage identifica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st/host – hashed by addresses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flows.h: struct       host_flow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rt/port – hashed by ports, identified by ports and service type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flows.h: struct flow_common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rt hash lists hang from host hash list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ost/host list entries keep reference count of port entries – blown away on zero-count decrement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34EE-0372-4D8C-AAF0-354CAB05A3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lows and Data Structures 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low = UDP/TCP connection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Host/host hash table entry</a:t>
            </a:r>
            <a:r>
              <a:rPr b="0" lang="en-US" sz="32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(flows.h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struct host_flow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list_t hlist;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/* hash list links */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listhdr_t *hflow_list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head of hash list it's on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unsigned int srcaddr, dstaddr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NBO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listhdr_t flow_conns[N_CONN_BUCKETS];/* hash based on  ports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int n_conns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no. of tcp conns for these hosts */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A516-50C5-48E6-968D-F961B4913A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lows and Data Structures I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ort hash list entry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flow_common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list_t hlist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/* hash list links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list_t conn_timeo_q;   /* connection time out queue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host_flow *hconnp;/* ptr to the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                                 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host_flow_t it hangs off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struct flow_inner inner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int port_indx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      /* indx into host_flow tcp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                                         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conns hash table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unsigned char type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eg. TCP, UDP */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842D-3F5D-43D3-8094-4AA62463C9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lows and Data Structures IV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rt hash list entry – portion dumped to log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struct flow_inner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int state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int src_atmdata, dst_atmdata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short srcport, dstport;      /* NBO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int srcaddr, dstaddr;        /* NBO - shadows vals in host_flow struct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s_clock_t last_arr_tm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   /* last packet arrival in absolute us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s_clock_t first_arr_tm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   /* first do - most other times are relative to this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char serv_type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720-F989-4409-904A-55D342ED07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A digression – </a:t>
            </a:r>
            <a:r>
              <a:rPr b="0" i="1" lang="en-US" sz="3200" spc="-1" strike="noStrike">
                <a:solidFill>
                  <a:srgbClr val="000066"/>
                </a:solidFill>
                <a:latin typeface="Arial Black"/>
              </a:rPr>
              <a:t>Inner </a:t>
            </a: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Structur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an processes packet on receipt and returns buffer to kernel pool immediately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ence statefu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AU (Data Association Unit) – set of packets comprising a syntactic or semantic unit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R 3.2.2.1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SU (State Storage Unit) – state associated with DAU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R 3.3.3.2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Management of DAU during it’s lifetime and packet association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Dumped/extracted data – held in</a:t>
            </a:r>
            <a:r>
              <a:rPr b="0" i="1" lang="en-US" sz="2000" spc="-1" strike="noStrike">
                <a:solidFill>
                  <a:srgbClr val="0033cc"/>
                </a:solidFill>
                <a:latin typeface="Tahoma"/>
              </a:rPr>
              <a:t> inner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for block dump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A26-BD4E-4938-ABDA-3EB1098DA9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TCP processing and Data Structures </a:t>
            </a: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TR 3.3.3.4)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ntry do_tcp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(prec_t *pp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 struct ip *ipp, us_clock_t us_time)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tcp.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New connection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ssign flow and tcp data structures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dentify service type and assign tcp_service_data (handling methods)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cp.c: get_tcpserv_type())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nd extracted data structures 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xisting connection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dentify flow and attach data structures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quencing/reassembly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Process if in sequence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cp.c: tcp_packet())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Else hold – exception to immediate packet processing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Process any held packets now in sequence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7BF-D0E3-41BA-8EF7-DBE23D443E2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ssociated connection and service state held in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tcp_conn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tcp.h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{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flow_common flow_common;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attachment to # list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other alternate connections may hang off this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tcp_conn *alt_prev, *alt_next;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tcp_service_data serv_data;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methods and flags)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unsigned int service_tm; /* effective time current packet seen */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tcp tcp; 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tcp state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tcp_hdrs_t hdrs; 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collected header data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union service_data su; 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service state)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B23-E52D-4017-8A43-53CA1FBD9CA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I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onnection state held in: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tcp.h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Lucida Console"/>
              </a:rPr>
              <a:t>struct tcp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Lucida Console"/>
              </a:rPr>
              <a:t>{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Lucida Console"/>
              </a:rPr>
              <a:t>tcp_simplex_flow_t client, server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Lucida Console"/>
              </a:rPr>
              <a:t>};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struct tcp_simplex_flow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int state;   /* Flags */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int firstack;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int lastack; /* last ack sent in THIS direction */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.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Lucida Console"/>
              </a:rPr>
              <a:t>listhdr_t held_list;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struct tcp_simplex_flow *reverse;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char nheld;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short mss;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char wshift;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645-8BB0-468B-A093-42833E80D83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IV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eld packet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nked list hanging from tcp_simplex_flow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typedef struct tcp_heldpkt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listhdr_t links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listhdr_t seq_timeo_q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   /* sequence gap timeout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int seq, ack, len;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char tcp_flags, status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prec_t *pp;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simplex_flow *tsp; /* back ptr. to simplex flow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conn *tconnp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   /* ditto tcp connection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s_clock_t arr_tm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} tcp_heldpkt_t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aintained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s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iority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eu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4D5B-2FFC-4633-A522-017AFFB9B79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V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anagement of held packets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tcp_seq.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Held by call to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tcp_hold(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After sequence gap filled by arrival outstanding in-sequence segments processed by call to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tcp_catchup(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gment at head of queue timed out: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tcp_seq_timeout())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R 3.3.3.4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fter timeout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t proportion of recv buffer pool consumed by held packets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CK passed missing segment seen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No. of segments held for this connection exceeds threshold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onnection times out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A49-7CF5-4A4F-B4BC-CFAA6B863DD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Outlin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Wan = c. 36,000 lines of code – only outline of major functionality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Protocol module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Packet pass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Packet and data-extraction flow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Flows/connection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CP process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CP service handl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Data dump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tructure pools, counters, error handling, data retrieval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Writing new protocol module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FB19-C199-4242-8885-C9692CE6C1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V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imeouts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timeouts.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imeout mechanism – linked list: head oldes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lobal tcp_conn_timeo_q, udp_conn_timeo_q, tcp_seq_timeo_q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nnections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Packet arrivals move record to end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eld packet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Static by arrival time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heck_timeouts() called at packet arrivals from do_ip(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554-D3F8-4747-9EF0-A0FE3DC4545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V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aving header da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ntrolled by dump_hdrs flag of connection’s tcp_service_data structur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hdrs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s_clock_t atm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all hdr times are relative to this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nheld;  unsigned int conn_id;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dumphdr hdrs[MAX_TCP_DUMPHDRS_HELD]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dumphdr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(NB needs modification to record SACKs)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{ 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rtm;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int seq, ack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short window, len;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char flags, way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BB94-AC6C-41CF-9B5C-F2B56D3AE4D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State Storage Units – Generalised Arrangement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017720" y="1809720"/>
            <a:ext cx="3163680" cy="42861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47960" y="1809720"/>
            <a:ext cx="38098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or example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low/connection management – struct flow_common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aved connection data struct flow_inner.tcp_conn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Directional connection management and saved data – struct tcp_simplex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3933720" y="2048040"/>
            <a:ext cx="752760" cy="618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3714480" y="2695680"/>
            <a:ext cx="971640" cy="66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3733920" y="3600000"/>
            <a:ext cx="923760" cy="514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EDE-4A96-4428-B7FF-D6FD8D22FB8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Service Handling 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rvice above transport level recognized by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rt No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ynamically by construction of flow structures and insertion into hash list (e.g. ICMP defined)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TR 3.3.3.8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B686-52EF-4648-8664-CD21E23448E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Service Handling 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xtraction of data controlled by struct tcp_service_data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struct tcp_service_data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(tcp.h)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struct tcp_serv_methods *meth;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ctr_t *serv_ctr;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struct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{      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unsigned int open : 8, hdrs : 8, close : 8, serv_type : 8;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} rectypes; /* record types for dump */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unsigned char dmp_hdrs;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/* set if tcp hdrs to be dumped */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AC31-AAD0-425D-A72C-A95E3284993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Service Handling I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cerpt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from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get_tcpserv_type – sp i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tcp_service_data*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for (i = 1, port = sport; i &lt; 3; i++, port = dport)  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{    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witch (port)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{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case 20: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meth = &amp;tcp_ftp_data_serv_methods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rectypes.serv_type = TCP_SERV_FTP_DATA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rectypes.open = REC_TCP_FTP_DATA_OPEN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rectypes.hdrs = REC_TCP_FTP_DATA_HDRS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rectypes.close = REC_TCP_FTP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serv_ctr = &amp;counters.TRAFF_TCP_FTP_DATA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dmp_hdrs |= DUMP_HDRS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return i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break;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.. . Etc.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A113-DB03-4CAD-9439-F765B9FA26A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Service Handling IV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 extraction determined by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struct tcp_serv_methods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(tcp.h)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void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open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prec_t *pp, struct tcp_conn *tconnp,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                             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way, unsigned char flags)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pkt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prec_t *pp, struct tcp_conn *tconnp, int way)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sync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tcp_heldpkt_t *hpp, struct tcp_conn *tconnp,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tcp_simplex_flow_t *tsp, unsigned int gap,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way, unsigned int tm)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void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close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prec_t *pp, struct tcp_conn *tconnp, int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way, unsigned char flags)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void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dump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struct tcp_conn *tconnp)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alled from tcp_pkt() as ordered segment is processed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ED32-6977-4963-A807-473834CED72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UDP Service Handling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DP handling much as TCP but less complicated as no reassebly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wise much as TCP – similar or shared methods and structur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DP connection closing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ften implied by protocol semantics (e.g. DNS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wise rely on timeout mechanism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43D-4013-4143-B5AD-465CAAEA0F3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nterrelationship of Principal Data Structur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968400" y="1984320"/>
            <a:ext cx="7380360" cy="37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E7F-2535-4361-B5E7-3140F6C2276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Data Extraction Error Handling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 extraction functions called as serv_pkt() return 0 on success, error code &lt;0 on failur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n failure return call error routine to free buffer and dump entire packe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nly fully implemented for HTTP data extraction –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error.c: http_error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rror code definitions: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ommon/hdr/http_errdefs.h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ommon/src/errstring.c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ump by calling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if_nprobe.c: dump_pkt(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71A-0209-429D-8A6D-DDA9B48D016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ources of Inform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ource cod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probe repository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$ROOT/runtime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$ROOT/shared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ulti-Layer Network and Analysis”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puter Lab Technical Report Number 571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www.cl.cam.ac.uk/TechReports/UCAM-CL-TR-571.pdf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hapter 3 Describes Nprobe implementatio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e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– James.Hall@cl.cam.ac.uk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823-8338-49B6-9882-672F7B67B3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104840" y="1866960"/>
            <a:ext cx="5727600" cy="42958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Dumping Data to Logs I </a:t>
            </a: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(TR 3.3.4)</a:t>
            </a: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47960" y="1809720"/>
            <a:ext cx="38098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efined by serv_dump() functio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ostly copying blocks of (typed) data to output buffer as byte sequences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e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DUMP_*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macros in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output.h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7179-FB7D-463E-8651-B766CC25491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umping Data to Logs 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 dumps occur at three points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t connection open (triggered by call to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cp_*_open()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Dumps address/port detail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flow_inner)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and assigns </a:t>
            </a:r>
            <a:r>
              <a:rPr b="0" i="1" lang="en-US" sz="2000" spc="-1" strike="noStrike">
                <a:solidFill>
                  <a:srgbClr val="0033cc"/>
                </a:solidFill>
                <a:latin typeface="Tahoma"/>
              </a:rPr>
              <a:t>connection id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locks of TCP header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t connection close (triggered by call to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cp_*_close()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B – all dumps preceded by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record type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(np_file.h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668-786A-4B2F-9410-F10A3FC030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umping Data to Logs I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ome wrinkles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ust check room in buffer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sponsible for dumping all higher-level protocol data in chained/subsidiary SSU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ust dump transport-level data (e.g. call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cp.c: tcp_dump()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ust initialise dump with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rec_dump_start() and rec_dump_end()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(output.c) to prepend record type and initiate buffer management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ee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http.c: tcp_http_dump()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or example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CAE3-8009-44ED-8756-CB64D7BD39D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ata Structure Pool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igh turnover of data structur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arly profiling showed up to %0% of cycles spent in malloc(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ence pre-allocated structures held in pool (LIFO) – drawn, initialised and returned as required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pool.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ach type requires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ol initialisation method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tructure (per use) initialisaton, get and recycle method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394-87AD-4252-A82E-2FE649065F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ounters and Traffic Accounting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Counters.h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fines a counter block which keeps counts of protocol-specific packets/bytes and similar useful da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Counters.c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s counter handling method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7D4-0391-41A1-A49C-DCCADC615DD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Log File Presentation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ill inevitably wish to examine extracted data by eye during development and to check feasibility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Require routines to print out representation of logged da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urrent ‘printers’ in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/common/src/report.c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 supported by utility routines in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print_util.c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hould perhaps be provided at module level rather than global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E98E-E6D8-476D-BA44-711644847C5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ata-Retrieval from Log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-retrieval requires log file reading routines which understand layout of individual (possibly variable) serialised protocol SSUs and subsidiaries/chains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urrently provided in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ommon/src/wread_util.c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Should perhaps be provided on a per-module basis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f to be understood by wread (log file reader) appropriate top-level reading routine should be added as case statement to record-type switch in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read_util.c: _printfile(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E33E-FA97-4ABD-9000-56A3C6CD061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to Write New Protocol Modules 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method suite to populate protocol-specific tcp_serv_methods structur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SSU definition for protocol management and extracted state storag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error codes and handling routin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pool routines for commonly-used data structur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SSUs, data extraction, data dumping, and error handling for any higher_level protocol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E0C-8BB7-4178-BE31-E083621E429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to write new protocol modules I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tate attachmen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dd top-level SSU to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ervice_data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union of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cp_conn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typ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cket handling attachmen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ervice identified by port: add case statement to get_tcp_serv_type(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ynamically added service: build appropriate SSU and insert into host/host-port/port hash list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fine constants – record types, service types, etc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177-A3AF-429D-BBBB-C0A459E673D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to Write New Protocol Modules II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r post-runtime reading/analysis provide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inters’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og file reading routin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Analysis data retrieval interface based upon these and SSU definitions 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A2D-5A8B-4C0C-BB42-50094F32419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Reminders I – Nprobe / Wa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ernel Module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TR 3.3.1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prob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ser-level data Extrac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Wan)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TR 3.3.3-6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076480" y="3143160"/>
            <a:ext cx="1314360" cy="4953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76480" y="3638520"/>
            <a:ext cx="1352520" cy="4953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F5BC-C96D-4908-85BF-5C608E2B40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ome Though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an packet entry point –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o_ip(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tep into packet at IP header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Requires configuration to locate – distributed amongst nprobe_modules/config.h and Makefiles – messy, needs unification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Part of LLC/MAC etc. headers overwritten by arrival time stamp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ssibly pass packet buffer with entire packet contents intact, entry point at packet head, and LL/MAC – based processing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AD1-D9A5-4E66-8C2B-E0F49132A95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ding Hin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List_hdr_t (list.h):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eneric d.l. list handling type and macros (courtesy of OSF1 kernel code – modified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any macros provided to directly access fields of embedded structur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.g. 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#define TCP_FIRST_ARR_TM tconnp-&gt;flow_inner.first_arr_tm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                                                     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cp.h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atch out for defined constants which are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bit-patterns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— e.g. dump record type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np_file.h),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rror code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error.h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D22-EC72-4A2B-8B34-B1A71C6E916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Reminders II - Architectur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584440" y="1809720"/>
            <a:ext cx="397512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C86-4293-45F7-806F-F32DDDA1B58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rotocol Modules </a:t>
            </a: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TR 3.3.3.1)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ultiple, configurable, additive levels of data extrac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unt packets/bytes passed i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mux according to content – perhaps pass to higher-level modul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cess for presentation to higher-level (e.g. TCP reassembly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xtract protocol-specific data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Ref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tcpdump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nter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ood place to start when writing new modul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FE6-C938-42C5-A416-D8849565BD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Packet Passing – Principal Data Types 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ufrec – buffer record (webtraffic.h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ne per packe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typedef struct bufrec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imeval ts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when arrived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plength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length off wire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linkt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interface type collected from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char *base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start of packet buffer */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#ifdef TCPDUMP_FED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snaplen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max length pf tcpdump capture */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#endif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} bufrec_t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A56-3EA4-40D1-A6AE-A63489C58C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Packet Passing – data Types I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rec – packet record (webtraffic.h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One per packet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– Primary packet-passing mechanism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typedef struct prec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struct prec *next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/* used only for pool list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bufrec_t *brecp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s_clock_t arr_tm;  /* arrival time in ms - used for timeouts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char *buf; /* where in buffer we are now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len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/* and how much remaining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trunc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/* truncation from claimed IP length */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listhdr_t *flowlist;/* ptr. to host/host hash table slot*/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} prec_t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73F-A221-40B2-A70C-31C37061233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Packet and Data Extraction Flow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ernel packet captur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src $ROOT/nprobe_modules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Wan packet acquisition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probe_main.c: worker_thread()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P processing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webtraffic.c: do_ip, TR 3.3.3.3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Why entry point at IP header level? – see on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CP/UDP/IGMP processing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webtraffic.c: do_igmp(), tcp.c:do_tcp(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udp.c:do_udp(), TR3.3.3.4/5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CP/UDP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rvice processing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(e.g. http, dns –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TR 3.3.3.6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698400" indent="-26856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Service identified by port (new connections)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(e.g. tcp.c:get_tcpserv_type())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698400" indent="-26856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Or packet’s connection  (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flows.c:get_host_flow())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698400" indent="-26856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ethods and processing determined by services’ 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service_data_type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ecord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igher-level processing (e.g. html,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TR 3.3.3.7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alled from services tcp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_service_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kt() method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                                            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(e.g. http.c:tcp_http_pkt))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79F-0431-4504-9CE4-C22ECC3EC0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14:58:41Z</dcterms:created>
  <dc:creator>Computer Laboratory</dc:creator>
  <dc:description/>
  <dc:language>en-US</dc:language>
  <cp:lastModifiedBy>gtadmin</cp:lastModifiedBy>
  <cp:lastPrinted>2001-11-13T14:22:11Z</cp:lastPrinted>
  <dcterms:modified xsi:type="dcterms:W3CDTF">2004-01-27T14:30:39Z</dcterms:modified>
  <cp:revision>177</cp:revision>
  <dc:subject/>
  <dc:title>PowerPoint Presentation</dc:title>
</cp:coreProperties>
</file>