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07C4-9153-4BEA-9604-24B32445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5F7A-4452-444C-A3E3-1670CDDC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68FC-0C93-416A-A6FC-CE358A41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D9C8-5823-4B4B-A06C-8D0A0846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CF3C-4C2A-4BBD-80E2-F0FE4B42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CC43-3F4F-40BA-AF25-F3ED22A2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D426-248F-47B7-9F93-C4D57C1F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1C57-9B7A-43B9-A0A2-85617267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AA53-A673-4C10-AAA3-57430381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4FE7-3019-44C9-92BA-1EAA3416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764D-B2BB-462F-BF98-F6CAB69D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968F-42F2-41F6-AC70-B0069F1C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F481-88B9-4896-BA8E-60289F03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B6B7-F721-4F6E-9C35-88633A14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C729-59D2-4B5B-BAE1-E8B36F6A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2556-050E-4DF4-978D-ADB3A27A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3721-C3E2-4D71-9512-711D5674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76CF7-95AE-464C-A00C-A5A39963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2ED89-8640-41BA-AC6D-B3667A8E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513D1-D1C6-42A9-B336-03EF04DA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F1E01-C012-43DF-8390-3890BA3F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8DBD2-E713-4E1D-98FA-A5E66509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D9C-0713-4E98-8F47-7FAD929B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31FBB-95F6-4673-B160-154A0750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AD7F2-5F46-48D5-96AD-F3EBF8BB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BB2EE-7BF7-4AE5-B673-DD1F4F6E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59A9B-7A51-4637-AA63-7B8BADDE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6A9C8-D6A8-4C2F-9BF6-CA1480D0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023C0-A745-4A5E-9C08-862BEACC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2B6E3-E8DB-4BA2-93F9-FB118ECD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B4914-B5CA-4EC8-8ED5-E4841B08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175C7-E187-4980-A7D6-ECA176B5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A4629-7728-4336-AA3E-9108A343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7182-B7CE-4BDC-87AB-648EDAE8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7A89F-9D57-49AC-A9A7-82AA4051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B63C9-6CFF-4E7E-B3DA-50FB09B8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CDD1F-5C2A-4407-9FD6-6C9D970E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D130B-8470-4389-B3B2-7D70C73B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F6FE1-7D9B-4C7E-B4F2-90F3FFDE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FC3A0-D505-4EBE-904E-2D0E1F9D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925D8-5812-4578-835C-0132698F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FC1E8-F8AE-4F4B-AA4F-3C1BDD6C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598D9-ECEB-4E3A-AA21-5F32C9A6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D796D-67EB-4FC0-968A-21740C9C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B20D-D40F-4714-8327-0D3191AE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BD353-E81F-4AFE-96EE-24C89E64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BD715-8BE9-4F22-9B50-B4CCE4C2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5A7BB-3F0E-4B01-AB0A-5F172D2E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C98F6-5B55-49EB-BD71-A60151E1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B5E44-87A5-40A2-BD39-120EEC7C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E8428-FC54-4FE3-8252-07CDD114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D5830-3BDC-4AFC-A6E5-C48A6B62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46374-136D-4CA9-AE31-92613D0B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248A7-BC65-4F57-B865-1922B8C9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05B44-4BE0-4388-A877-2FAAB48CC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A5B7-2887-407C-B3D3-A4DD8899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4EF94-EDBE-4716-AAE6-921FE6E38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95740-73CE-45B3-A2BD-83E4B044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1D14E-6026-43D1-B4BE-AF6839C3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B161C-4FF9-4F49-AE52-682FDD27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0BD12-F30A-404C-A96E-A6A1F449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70524-DFCC-4CCA-9586-764152EC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501E1-9447-4EA7-AF9A-CD74EAD0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04D3C-DB02-4033-AD53-DB42AD75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1EBE6-EC17-4AC3-AC94-F2C81493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0F823-0591-4986-AC13-58FE3112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EA84-A4D3-46F9-A947-CF2532EC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3641B-3E82-4C58-8F7E-7C837D74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AC45F-59B0-4416-87D7-5162D3ED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178A0-894D-4DFF-9240-56CC7FBF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10540-B32F-4D85-8607-DEDB32D0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6222B-1BD0-4DAC-9F94-FC14ACD9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A8747-742E-4FDA-B528-87DDEAF6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6C365-0034-470F-A657-3C564949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55C61-BDF2-40B9-9EC2-D92E0B81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51877-3704-4054-971E-1CCE817A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DAAB2-C5E7-4D6B-A94F-291716B2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9331-32E6-4F36-A013-B9E62423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9C3CB-3EEE-4D5F-AD8A-0D1AEB32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794A3-EF7A-45BE-8829-597D85C8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6CA32-089A-46C4-940F-6A05B704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E687B-E646-48C7-96EA-6E584DB0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35D25-F7A5-44BB-8331-15CBF613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0345-8F54-422B-BC39-806703F6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n Intern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 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296D-6E37-4263-8B80-2CB0780F6FB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324080" y="1314360"/>
            <a:ext cx="73706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2880" y="94284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an Inter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8E87-EDE9-4365-B23D-86678F9B3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33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an Inter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n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4F6D-004A-412C-B8CF-CA7C65476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24080" y="1314360"/>
            <a:ext cx="73706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7F8E-2E6C-4CA3-AB82-40C6B5E34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1C19-40E8-4D0B-BB29-4E0CB8ED9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66720" y="46620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n Intern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 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8BF4-7C09-460F-A816-2A86706634B0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42880" y="94284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6DF3-4AE8-4002-88B5-078D62AF5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l.cam.ac.uk/TechReports/UCAM-CL-TR-571.pdf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42880" y="94284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 Black"/>
              </a:rPr>
              <a:t>An Introduction to Wan (Nprobe) Internals</a:t>
            </a:r>
            <a:br>
              <a:rPr sz="3600"/>
            </a:b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3733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James Hall</a:t>
            </a: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66"/>
                </a:solidFill>
                <a:latin typeface="Arial Black"/>
              </a:rPr>
              <a:t>University of Cambridge </a:t>
            </a:r>
            <a:endParaRPr b="0" lang="en-US" sz="2000" spc="-1" strike="noStrike">
              <a:solidFill>
                <a:srgbClr val="000066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66"/>
                </a:solidFill>
                <a:latin typeface="Arial Black"/>
              </a:rPr>
              <a:t>Computer Laboratory</a:t>
            </a:r>
            <a:endParaRPr b="0" lang="en-US" sz="2000" spc="-1" strike="noStrike">
              <a:solidFill>
                <a:srgbClr val="000066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66"/>
                </a:solidFill>
                <a:latin typeface="Arial Black"/>
              </a:rPr>
              <a:t>James.Hall@cl.cam.ac.uk</a:t>
            </a:r>
            <a:endParaRPr b="0" lang="en-US" sz="20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Flows and Data Structures 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low = UDP/TCP connectio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2-Stage identificatio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st/host – hashed by addresses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flows.h: struct       host_flow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ort/port – hashed by ports, identified by ports and service type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flows.h: struct flow_common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rt hash lists hang from host hash list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ost/host list entries keep reference count of port entries – blown away on zero-count decrement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9356-F416-4E2D-BCE1-47CAF24AF5C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Flows and Data Structures 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low = UDP/TCP connection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Host/host hash table entry</a:t>
            </a:r>
            <a:r>
              <a:rPr b="0" lang="en-US" sz="3200" spc="-1" strike="noStrike">
                <a:solidFill>
                  <a:srgbClr val="000099"/>
                </a:solidFill>
                <a:latin typeface="Lucida Console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(flows.h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struct host_flow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list_t hlist;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/* hash list links */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listhdr_t *hflow_list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/* head of hash list it's on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unsigned int srcaddr, dstaddr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/* NBO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listhdr_t flow_conns[N_CONN_BUCKETS];/* hash based on  ports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int n_conns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/* no. of tcp conns for these hosts */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088B-EC01-4219-A1AB-C83D990FAC3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Flows and Data Structures I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ort hash list entry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flow_common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list_t hlist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/* hash list links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list_t conn_timeo_q;   /* connection time out queue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host_flow *hconnp;/* ptr to the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                                  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host_flow_t it hangs off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struct flow_inner inner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int port_indx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       /* indx into host_flow tcp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                                          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conns hash table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unsigned char type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/* eg. TCP, UDP */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5588-42D6-4927-A9F9-DA8EAA550C4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Flows and Data Structures IV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rt hash list entry – portion dumped to log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struct flow_inner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nsigned int state;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nsigned int src_atmdata, dst_atmdata;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nsigned short srcport, dstport;      /* NBO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nsigned int srcaddr, dstaddr;        /* NBO - shadows vals in host_flow struct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s_clock_t last_arr_tm;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   /* last packet arrival in absolute us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s_clock_t first_arr_tm;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   /* first do - most other times are relative to this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nsigned char serv_type;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0750-9E10-46C4-8710-3613AC1EB81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A digression – </a:t>
            </a:r>
            <a:r>
              <a:rPr b="0" i="1" lang="en-US" sz="3200" spc="-1" strike="noStrike">
                <a:solidFill>
                  <a:srgbClr val="000066"/>
                </a:solidFill>
                <a:latin typeface="Arial Black"/>
              </a:rPr>
              <a:t>Inner </a:t>
            </a: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Structur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Wan processes packet on receipt and returns buffer to kernel pool immediately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ence statefu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AU (Data Association Unit) – set of packets comprising a syntactic or semantic unit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TR 3.2.2.1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SU (State Storage Unit) – state associated with DAU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TR 3.3.3.2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Management of DAU during it’s lifetime and packet association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Dumped/extracted data – held in</a:t>
            </a:r>
            <a:r>
              <a:rPr b="0" i="1" lang="en-US" sz="2000" spc="-1" strike="noStrike">
                <a:solidFill>
                  <a:srgbClr val="0033cc"/>
                </a:solidFill>
                <a:latin typeface="Tahoma"/>
              </a:rPr>
              <a:t> inner 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for block dump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0B00-00E4-442C-9C93-86BF6AA9738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TCP processing and Data Structures </a:t>
            </a: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TR 3.3.3.4)</a:t>
            </a: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ntry do_tcp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(prec_t *pp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, struct ip *ipp, us_clock_t us_time)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tcp.c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New connection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ssign flow and tcp data structures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dentify service type and assign tcp_service_data (handling methods)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tcp.c: get_tcpserv_type())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nd extracted data structures 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Existing connection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dentify flow and attach data structures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equencing/reassembly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Process if in sequence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tcp.c: tcp_packet())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Else hold – exception to immediate packet processing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Process any held packets now in sequence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71D6-896C-4536-BBAE-C1B2E3D94AE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Processing 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Associated connection and service state held in: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tcp_conn 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(tcp.h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{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flow_common flow_common; 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(attachment to # list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/* other alternate connections may hang off this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tcp_conn *alt_prev, *alt_next;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tcp_service_data serv_data; 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(methods and flags)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unsigned int service_tm; /* effective time current packet seen */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tcp tcp;  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(tcp state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tcp_hdrs_t hdrs;  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(collected header data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union service_data su;  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(service state)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1E5E-CA8A-49C1-AE57-A0D6DDEEBA5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Processing I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onnection state held in: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tcp.h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Lucida Console"/>
              </a:rPr>
              <a:t>struct tcp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Lucida Console"/>
              </a:rPr>
              <a:t>{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Lucida Console"/>
              </a:rPr>
              <a:t>tcp_simplex_flow_t client, server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Lucida Console"/>
              </a:rPr>
              <a:t>};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struct tcp_simplex_flow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unsigned int state;   /* Flags */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unsigned int firstack; 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unsigned int lastack; /* last ack sent in THIS direction */ 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. 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Lucida Console"/>
              </a:rPr>
              <a:t>listhdr_t held_list;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struct tcp_simplex_flow *reverse;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unsigned char nheld;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unsigned short mss; 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unsigned char wshift;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841C-6C9D-4FB5-9054-F6F0E9C2993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Processing IV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eld packet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nked list hanging from tcp_simplex_flow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typedef struct tcp_heldpkt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{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listhdr_t links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listhdr_t seq_timeo_q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    /* sequence gap timeout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nsigned int seq, ack, len;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nsigned char tcp_flags, status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prec_t *pp;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struct tcp_simplex_flow *tsp; /* back ptr. to simplex flow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struct tcp_conn *tconnp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    /* ditto tcp connection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s_clock_t arr_tm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} tcp_heldpkt_t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aintained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s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iority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eu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689E-9B5B-41A6-9E8F-275DA49F261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Processing V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anagement of held packets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tcp_seq.c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Held by call to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tcp_hold(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After sequence gap filled by arrival outstanding in-sequence segments processed by call to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tcp_catchup(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egment at head of queue timed out: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tcp_seq_timeout())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TR 3.3.3.4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After timeout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et proportion of recv buffer pool consumed by held packets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ACK passed missing segment seen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No. of segments held for this connection exceeds threshold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Connection times out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4B5C-603C-410E-92F2-58532F0974A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Outlin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Wan = c. 36,000 lines of code – only outline of major functionality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Protocol module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Packet passing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Packet and data-extraction flow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Flows/connection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TCP processing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TCP service handling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Data dumping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tructure pools, counters, error handling, data retrieval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Writing new protocol module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F5E0-CF14-4D6B-A019-A56837FD5BE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Processing V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imeouts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timeouts.c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imeout mechanism – linked list: head oldes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lobal tcp_conn_timeo_q, udp_conn_timeo_q, tcp_seq_timeo_q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nnections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Packet arrivals move record to end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eld packet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Static by arrival time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heck_timeouts() called at packet arrivals from do_ip(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A601-F964-4A23-8255-6AD3E180047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Processing V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aving header dat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ntrolled by dump_hdrs flag of connection’s tcp_service_data structure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struct tcp_hdrs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{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s_clock_t atm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/* all hdr times are relative to this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int nheld;  unsigned int conn_id;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struct tcp_dumphdr hdrs[MAX_TCP_DUMPHDRS_HELD]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struct tcp_dumphdr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(NB needs modification to record SACKs)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{ 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int rtm;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nsigned int seq, ack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nsigned short window, len;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char flags, way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65B8-A296-40F5-84AA-72D14F3142B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State Storage Units – Generalised Arrangement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017720" y="1809720"/>
            <a:ext cx="3163680" cy="428616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47960" y="1809720"/>
            <a:ext cx="38098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or example: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low/connection management – struct flow_common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aved connection data struct flow_inner.tcp_conn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Directional connection management and saved data – struct tcp_simplex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3933720" y="2048040"/>
            <a:ext cx="752760" cy="618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3714480" y="2695680"/>
            <a:ext cx="971640" cy="666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3733920" y="3600000"/>
            <a:ext cx="923760" cy="514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E2B7-AC9C-41F0-9A31-D724E1B891E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Service Handling 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rvice above transport level recognized by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ort No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ynamically by construction of flow structures and insertion into hash list (e.g. ICMP defined)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TR 3.3.3.8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B0DC-D088-45C1-9CCE-D0321512FD9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Service Handling 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xtraction of data controlled by struct tcp_service_data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struct tcp_service_data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(tcp.h)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struct tcp_serv_methods *meth;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ctr_t *serv_ctr;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struct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{      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unsigned int open : 8, hdrs : 8, close : 8, serv_type : 8;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} rectypes; /* record types for dump */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unsigned char dmp_hdrs;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/* set if tcp hdrs to be dumped */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1CA7-0DAE-4F37-8440-851DEB487C5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Service Handling I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xcerpt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from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get_tcpserv_type – sp is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tcp_service_data*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for (i = 1, port = sport; i &lt; 3; i++, port = dport)  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{    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witch (port)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{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case 20: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meth = &amp;tcp_ftp_data_serv_methods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rectypes.serv_type = TCP_SERV_FTP_DATA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rectypes.open = REC_TCP_FTP_DATA_OPEN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rectypes.hdrs = REC_TCP_FTP_DATA_HDRS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rectypes.close = REC_TCP_FTP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serv_ctr = &amp;counters.TRAFF_TCP_FTP_DATA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dmp_hdrs |= DUMP_HDRS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return i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break;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.. . Etc.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5E6E-CF6F-400A-A74E-B35B5306A17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Service Handling IV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ta extraction determined by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struct tcp_serv_methods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(tcp.h)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void (*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serv_open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)(prec_t *pp, struct tcp_conn *tconnp,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                             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int way, unsigned char flags);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int (*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serv_pkt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)(prec_t *pp, struct tcp_conn *tconnp, int way);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int (*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serv_sync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)(tcp_heldpkt_t *hpp, struct tcp_conn *tconnp,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tcp_simplex_flow_t *tsp, unsigned int gap,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int way, unsigned int tm);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void (*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serv_close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)(prec_t *pp, struct tcp_conn *tconnp, int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way, unsigned char flags);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void (*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serv_dump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)(struct tcp_conn *tconnp);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alled from tcp_pkt() as ordered segment is processed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BF14-9828-49AF-B42B-F2A92274C8A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UDP Service Handling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DP handling much as TCP but less complicated as no reassebly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therwise much as TCP – similar or shared methods and structure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DP connection closing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ften implied by protocol semantics (e.g. DNS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therwise rely on timeout mechanism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C8EE-AB86-4025-8A31-6D755241AC8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Interrelationship of Principal Data Structur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968400" y="1984320"/>
            <a:ext cx="7380360" cy="379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1FE4-F52F-4AAF-B447-892B67803CB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Data Extraction Error Handling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ta extraction functions called as serv_pkt() return 0 on success, error code &lt;0 on failur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n failure return call error routine to free buffer and dump entire packe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nly fully implemented for HTTP data extraction –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error.c: http_error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rror code definitions: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common/hdr/http_errdefs.h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common/src/errstring.c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ump by calling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if_nprobe.c: dump_pkt(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9C6D-B0D4-46DF-94DB-FE53E45D1FC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ources of Inform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ource cod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Nprobe repository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$ROOT/runtime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$ROOT/shared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ulti-Layer Network and Analysis” 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mputer Lab Technical Report Number 571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www.cl.cam.ac.uk/TechReports/UCAM-CL-TR-571.pdf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hapter 3 Describes Nprobe implementatio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e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– James.Hall@cl.cam.ac.uk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61B0-6CA1-45E9-BC02-58F6137C42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104840" y="1866960"/>
            <a:ext cx="5727600" cy="42958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Dumping Data to Logs I </a:t>
            </a:r>
            <a:r>
              <a:rPr b="0" lang="en-US" sz="2000" spc="-1" strike="noStrike">
                <a:solidFill>
                  <a:srgbClr val="ff3300"/>
                </a:solidFill>
                <a:latin typeface="Arial Black"/>
              </a:rPr>
              <a:t>(TR 3.3.4)</a:t>
            </a:r>
            <a:endParaRPr b="0" lang="en-US" sz="2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47960" y="1809720"/>
            <a:ext cx="38098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Defined by serv_dump() function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ostly copying blocks of (typed) data to output buffer as byte sequences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ee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DUMP_*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 macros in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output.h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582E-B392-4668-A8CD-082428BAE86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umping Data to Logs 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ta dumps occur at three points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t connection open (triggered by call to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cp_*_open()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Dumps address/port details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flow_inner)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and assigns </a:t>
            </a:r>
            <a:r>
              <a:rPr b="0" i="1" lang="en-US" sz="2000" spc="-1" strike="noStrike">
                <a:solidFill>
                  <a:srgbClr val="0033cc"/>
                </a:solidFill>
                <a:latin typeface="Tahoma"/>
              </a:rPr>
              <a:t>connection id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locks of TCP header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t connection close (triggered by call to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cp_*_close()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B – all dumps preceded by 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record type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(np_file.h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CFE0-84BC-4861-94D2-BECCB843E14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umping Data to Logs I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ome wrinkles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ust check room in buffer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sponsible for dumping all higher-level protocol data in chained/subsidiary SSU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ust dump transport-level data (e.g. call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cp.c: tcp_dump()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ust initialise dump with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rec_dump_start() and rec_dump_end()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(output.c) to prepend record type and initiate buffer management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ee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http.c: tcp_http_dump()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or example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D5C3-79F6-4F6F-845C-94E40589734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ata Structure Pool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igh turnover of data structur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arly profiling showed up to %0% of cycles spent in malloc(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ence pre-allocated structures held in pool (LIFO) – drawn, initialised and returned as required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pool.c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ach type requires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ool initialisation method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tructure (per use) initialisaton, get and recycle method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B13C-290A-48C7-BE60-8A3CAB24D43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ounters and Traffic Accounting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Counters.h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fines a counter block which keeps counts of protocol-specific packets/bytes and similar useful dat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Counters.c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ides counter handling method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6894-801F-404A-8452-25FFD95F996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Log File Presentation 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Will inevitably wish to examine extracted data by eye during development and to check feasibility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Require routines to print out representation of logged dat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urrent ‘printers’ in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/common/src/report.c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, supported by utility routines in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print_util.c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Should perhaps be provided at module level rather than global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82EB-52C4-4E8A-B566-89050D6FA8A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ata-Retrieval from Log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ta-retrieval requires log file reading routines which understand layout of individual (possibly variable) serialised protocol SSUs and subsidiaries/chains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urrently provided in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common/src/wread_util.c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Should perhaps be provided on a per-module basis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f to be understood by wread (log file reader) appropriate top-level reading routine should be added as case statement to record-type switch in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wread_util.c: _printfile(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C817-A509-42C5-88B5-3E57E485438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How to Write New Protocol Modules I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ide method suite to populate protocol-specific tcp_serv_methods structur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ide SSU definition for protocol management and extracted state storag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ide error codes and handling routin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ide pool routines for commonly-used data structur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ide SSUs, data extraction, data dumping, and error handling for any higher_level protocol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5AB8-33A4-48C7-AA3A-0C6BEF173BE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How to write new protocol modules II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tate attachmen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dd top-level SSU to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service_data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union of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cp_conn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type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acket handling attachmen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ervice identified by port: add case statement to get_tcp_serv_type(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ynamically added service: build appropriate SSU and insert into host/host-port/port hash list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fine constants – record types, service types, etc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5B9A-9CF3-41D2-AE7C-E6E5AF3CB27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How to Write New Protocol Modules III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or post-runtime reading/analysis provide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inters’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og file reading routine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Analysis data retrieval interface based upon these and SSU definitions 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3687-FD04-470A-8846-41CCAF2F661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Reminders I – Nprobe / Wa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ernel Modules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TR 3.3.1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prob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ser-level data Extractio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Wan)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TR 3.3.3-6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076480" y="3143160"/>
            <a:ext cx="1314360" cy="4953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76480" y="3638520"/>
            <a:ext cx="1352520" cy="4953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8AC0-1D15-40A5-8514-F8E2D95FC0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ome Though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Wan packet entry point –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do_ip(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tep into packet at IP header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Requires configuration to locate – distributed amongst nprobe_modules/config.h and Makefiles – messy, needs unification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Part of LLC/MAC etc. headers overwritten by arrival time stamp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ossibly pass packet buffer with entire packet contents intact, entry point at packet head, and LL/MAC – based processing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83E2-B411-4F89-8FC5-B0A2720C254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oding Hin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List_hdr_t (list.h):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eneric d.l. list handling type and macros (courtesy of OSF1 kernel code – modified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any macros provided to directly access fields of embedded structur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.g. 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#define TCP_FIRST_ARR_TM tconnp-&gt;flow_inner.first_arr_tm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                                                        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tcp.h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Watch out for defined constants which are 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bit-patterns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— e.g. dump record types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np_file.h),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rror codes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error.h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EA7E-C796-4036-BFB0-0B00670B24D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Reminders II - Architectur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2584440" y="1809720"/>
            <a:ext cx="397512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67BA-E05B-45DB-BFDA-79C2452C697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rotocol Modules </a:t>
            </a: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TR 3.3.3.1)</a:t>
            </a: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ultiple, configurable, additive levels of data extractio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unt packets/bytes passed i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mux according to content – perhaps pass to higher-level module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cess for presentation to higher-level (e.g. TCP reassembly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xtract protocol-specific data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Ref 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tcpdump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inter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ood place to start when writing new module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BD79-7FB8-4D26-8816-65C0052A43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Packet Passing – Principal Data Types I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ufrec – buffer record (webtraffic.h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ne per packet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typedef struct bufrec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{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struct timeval ts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/* when arrived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int plength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/* length off wire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int linkt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/* interface type collected from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nsigned char *base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/* start of packet buffer */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#ifdef TCPDUMP_FED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int snaplen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/* max length pf tcpdump capture */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#endif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} bufrec_t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BC78-D869-403A-85D1-C77CCC8049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Packet Passing – data Types II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rec – packet record (webtraffic.h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One per packet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– Primary packet-passing mechanism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typedef struct prec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struct prec *next;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/* used only for pool list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bufrec_t *brecp;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s_clock_t arr_tm;  /* arrival time in ms - used for timeouts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nsigned char *buf; /* where in buffer we are now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int len;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/* and how much remaining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int trunc;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/* truncation from claimed IP length */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listhdr_t *flowlist;/* ptr. to host/host hash table slot*/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} prec_t;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B75A-6269-4BF6-9977-2A4F336FDBD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Packet and Data Extraction Flow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ernel packet capture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src $ROOT/nprobe_modules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000066"/>
              </a:buClr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Wan packet acquisition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probe_main.c: worker_thread())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000066"/>
              </a:buClr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P processing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webtraffic.c: do_ip, TR 3.3.3.3)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Why entry point at IP header level? – see on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000066"/>
              </a:buClr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CP/UDP/IGMP processing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webtraffic.c: do_igmp(), tcp.c:do_tcp()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udp.c:do_udp(), TR3.3.3.4/5)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000066"/>
              </a:buClr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CP/UDP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ervice processing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(e.g. http, dns –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TR 3.3.3.6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)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698400" indent="-26856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Service identified by port (new connections) 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(e.g. tcp.c:get_tcpserv_type())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1" marL="698400" indent="-26856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Or packet’s connection  (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flows.c:get_host_flow())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1" marL="698400" indent="-26856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Methods and processing determined by services’ </a:t>
            </a: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service_data_type 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record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0066"/>
              </a:buClr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igher-level processing (e.g. html,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TR 3.3.3.7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Called from services tcp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_service_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kt() method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                                                                      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(e.g. http.c:tcp_http_pkt))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44E9-53F5-4CBC-9B56-C600D67FDFA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1T14:58:41Z</dcterms:created>
  <dc:creator>Computer Laboratory</dc:creator>
  <dc:description/>
  <dc:language>en-US</dc:language>
  <cp:lastModifiedBy>gtadmin</cp:lastModifiedBy>
  <cp:lastPrinted>2001-11-13T14:22:11Z</cp:lastPrinted>
  <dcterms:modified xsi:type="dcterms:W3CDTF">2004-01-27T14:30:39Z</dcterms:modified>
  <cp:revision>177</cp:revision>
  <dc:subject/>
  <dc:title>PowerPoint Presentation</dc:title>
</cp:coreProperties>
</file>