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9BE-4548-4DA3-BCCA-B2F4E308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119-E075-4E39-A42D-BB87B354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BBB-B2D4-490D-930B-34E41BFD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5E35-FAE7-47D1-9063-E15E5CA8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A23F-0F18-4C1D-AA1B-5937FF35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4997-C5C2-4F5A-B28F-2385628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44F7-0CC4-4A86-9DDB-FBB7753E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3662-2155-41C8-8B83-23A63C93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0F4C-E418-4EC9-ADD9-6806DD34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323F-493D-4835-BB91-425DFF41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2998-E280-42C5-8860-74D9D0E1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E7D8-0360-4062-9EBA-F88A2725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8FE7-6DA5-4A6C-9927-AE6A739A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FE08-53C9-42E5-A24C-FF09AB79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F3CC-937E-4E7D-B542-32177141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7637-C275-4ABB-9526-2D136E5C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8EAD-5DF3-4CC4-9341-C92008F0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5149-4E3B-48B5-9395-CF187B9A3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E7E58-8238-4259-9DE6-4BBAFB50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2EB5-A005-4053-964D-3496B40F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2AAC-936E-4DDB-9F8D-145712DD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D2C8-370D-4926-8691-ADC19629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DC6-261C-4D53-B151-446265E9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59EB-6F71-4DF9-B526-4F3AD76E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AE8F8-73F7-462E-B1FA-6EC61A2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9680-3011-4883-A3E8-1DE8E93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2E34C-6644-4D2A-ABC3-64B1BFE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35F1-2E0B-4B1D-A0FF-9F01779A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89C1-112B-4574-8BFB-AC15168E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DB381-A3C1-4871-8894-D943F64C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A5D2-CEF8-4F20-BB31-BE72B085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5962-C852-4FCF-A79E-87771682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CA2C-786D-4F1D-800F-C997728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BB7-4EC2-4A7F-9645-A91A095A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E0C94-2B9D-47EE-A1F4-852638FB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1992-83CE-4B1C-AC7F-FA54461E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4761F-EA66-46C7-BE57-76C27E86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53768-8F22-47DD-A7A6-57D72727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AAD8-E06D-4EA6-A285-7B4015C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58CD2-87E9-4C6C-86B7-C354AEA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D080-1834-4269-9BDD-217B4781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1F43B-7111-4FAE-8BF8-1600E5A9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289A-A6B1-43EC-9E0B-AA9E1BC4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82B17-DFEA-48B7-9E1D-701EC707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ED9-E373-4911-BFD8-0E8C3214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8AFC-F710-47E2-A46D-43E9C3A1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6FE43-84C8-47F8-9FA0-CE4CE2B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3369-1E40-4424-BD60-EBA61FC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A65EF-D3BD-48BB-A5B1-FBAC3E32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1169-FADE-4B1E-8C95-E85B6480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367B1-A97E-4508-94C6-46744074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71680-28A0-4C05-8C74-57EE86F1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A702-F33D-4664-9695-29019B3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EB386-5BD6-4F67-A17A-F154E995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1FF12-9AD0-4C49-BE26-5E0C8A7E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B51-586A-490A-B934-4D9FA22C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7EB75-5762-46B9-997C-23177003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ECD35-CADC-4817-B87D-B03472D9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1A9E-1E30-44E8-9E4A-E770D237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0C641-5FF3-4022-88C4-757A2BC4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41F1-8D8A-4DA3-9B7A-02C43AA9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E969C-F4BE-4673-9751-198918A3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9EEFA-856D-487C-92CE-43EC8A65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F6BAA-41D9-49DB-8305-8B844782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58B25-13B6-4CAE-A49A-2FD6846A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CBD6-CDF6-453B-99F8-72064236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23D2-E9C3-4AC6-9156-59C3501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C216-67F6-4B9B-BBC2-0073E430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3695A-B8A9-41C2-A3C1-6D3CC018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225BC-5125-46F0-B4F3-8F824427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DA83D-596F-4195-BC6B-5C56E58A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C8DDE-6238-43A5-86D1-C9339B9F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6D9B5-973A-4968-BB4A-02E7B16E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5510E-E38A-431B-884D-AC810C0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88265-5B24-42F2-B440-EF7FD6CE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51977-08D4-4EC8-AECB-7C399908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0EE93-39C2-47D8-BDE5-0C776034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BB9-9C57-47AC-A739-BBAF057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F8034-4D02-4A5A-BCC3-AEFF32C5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F6A5-0A63-4F4B-ABF9-55AC774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4F341-A0BD-4145-BB58-903602E3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740FD-FA03-46FB-82C8-2E6E9D25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A4A03-B498-4C92-89A6-FC3EE1F7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6315-94C8-4151-A572-FAC97F5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7CEA-FA62-4BA3-A1B4-46B1C75E60A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C900-CEFA-4222-8E61-A7BF494ED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FF55-F8A7-4925-B81C-CF054599D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7C5F-C17F-42FE-9D62-133F763A5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DE64-4E49-43C6-BB19-4A36014C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66720" y="4662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424E-3736-4093-B89F-CEDBCC9B442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A23A-0752-4A62-8090-B1D8941DB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571.pdf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An Introduction to Wan (Nprobe) Internals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James Hall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University of Cambridge 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Computer Laboratory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James.Hall@cl.cam.ac.uk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-Stage identifica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t/host – hashed by addresses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      host_flow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/port – hashed by ports, identified by ports and service typ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flow_common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t hash lists hang from host hash lis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ost/host list entries keep reference count of port entries – blown away on zero-count decremen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811-4AFC-4105-93C2-DFF5380ADEE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ost/host hash table entry</a:t>
            </a:r>
            <a:r>
              <a:rPr b="0" lang="en-US" sz="32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flows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host_flow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hash list links */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*hflow_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head of hash list it's on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rcaddr, dstadd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BO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flow_conns[N_CONN_BUCKETS];/* hash based on  port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n_conns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o. of tcp conns for these hosts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0FC-4311-44EA-97D5-EADF83F824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rt hash list entr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/* hash list link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conn_timeo_q;   /* connection time out queu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host_flow *hconnp;/* ptr to the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host_flow_t it hangs off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struct flow_inner inne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port_indx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/* indx into host_flow tcp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conns hash tabl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char type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eg. TCP, UDP */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C51-1850-43B9-A874-40349BF3DDD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rt hash list entry – portion dumped to lo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flow_inner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tate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_atmdata, dst_atmdata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short srcport, dstport;      /* NBO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addr, dstaddr;        /* NBO - shadows vals in host_flow struc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la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last packet arrival in absolute u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fir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first do - most other times are relative to thi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serv_type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E448-774D-4D81-B6C1-CC515BECF7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 digression – 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Inner 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rocesses packet on receipt and returns buffer to kernel pool immediate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statefu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U (Data Association Unit) – set of packets comprising a syntactic or semantic unit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2.2.1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SU (State Storage Unit) – state associated with DAU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2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anagement of DAU during it’s lifetime and packet associ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ed/extracted data – held in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 inner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for block du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575-E726-46F3-B015-AB33BE06AB7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CP processing and Data Structur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4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try do_tcp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prec_t *pp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truct ip *ipp, us_clock_t us_time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ew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ssign flow and tcp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service type and assign tcp_service_data (handling methods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get_tcpserv_type())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nd extracted data structures 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isting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flow and attach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quencing/reassembly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if in sequenc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tcp_packet())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Else hold – exception to immediate packet processing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any held packets now in sequence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AC7-B972-42BC-9106-FE9210B28F6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ociated connection and service state held i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flow_common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attachment to # list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other alternate connections may hang off thi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*alt_prev, *alt_next;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service_data serv_data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methods and flags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ervice_tm; /* effective time current packet seen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 tcp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 state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tcp_hdrs_t hdrs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collected header data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ion service_data su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service state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5F2-18CF-43B2-B6D0-820A4009DE5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nnection state held in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struct tcp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tcp_simplex_flow_t client, server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state;   /* Flags */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firstack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lastack; /* last ack sent in THIS direction */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Lucida Console"/>
              </a:rPr>
              <a:t>listhdr_t held_list;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*reverse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nheld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short mss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wshift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5A9-D566-4C9A-8F31-B8746C3694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ld packe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nked list hanging from tcp_simplex_flow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tcp_heldpkt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link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seq_timeo_q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sequence gap timeout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tcp_flags, statu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prec_t *pp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simplex_flow *tsp; /* back ptr. to simplex flow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conn *tconnp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ditto tcp connection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rr_tm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tcp_heldpkt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intained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ority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114-3D19-4654-9DDA-DDEB2FD7C3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agement of held packe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_seq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Hel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hold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fter sequence gap filled by arrival outstanding in-sequence segments processe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catchup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gment at head of queue timed out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_seq_timeout()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4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fter time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t proportion of recv buffer pool consumed by held packet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K passed missing segment seen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o. of segments held for this connection exceeds threshold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nection times 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1C2-A130-43DE-8CA0-4A335828DA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an = c. 36,000 lines of code – only outline of major functionalit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pa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and data-extraction flow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lows/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proce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service handl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ata dump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tructure pools, counters, error handling, data retrieva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Writing new 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269-C4D0-4323-BD96-6C5EA5313D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imeouts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 mechanism – linked list: head oldes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lobal tcp_conn_timeo_q, udp_conn_timeo_q, tcp_seq_timeo_q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nections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cket arrivals move record to en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eld packe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tatic by arrival 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_timeouts() called at packet arrivals from do_ip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481-5A95-4EDD-AF13-29BD8B4C6B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ving header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olled by dump_hdrs flag of connection’s tcp_service_data structur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hdrs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tm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all hdr times are relative to this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nheld;  unsigned int conn_id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hdrs[MAX_TCP_DUMPHDRS_HELD]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NB needs modification to record SACKs)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rtm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short window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char flags, way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363-D734-4683-8FF8-0DCE376FCE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ate Storage Units – Generalised Arrangemen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017720" y="1809720"/>
            <a:ext cx="3163680" cy="4286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low/connection management – struct flow_comm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ved connection data struct flow_inner.tcp_con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irectional connection management and saved data – struct tcp_simplex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2048040"/>
            <a:ext cx="752760" cy="618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714480" y="2695680"/>
            <a:ext cx="971640" cy="66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733920" y="3600000"/>
            <a:ext cx="923760" cy="51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8C8-8C01-4D95-A933-F003D9617D5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rvice above transport level recogniz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 No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by construction of flow structures and insertion into hash list (e.g. ICMP defined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R 3.3.3.8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48E-5635-490E-A302-510E01460C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xtraction of data controlled by struct tcp_service_data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tcp_service_data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struct tcp_serv_methods *meth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ctr_t *serv_ctr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    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unsigned int open : 8, hdrs : 8, close : 8, serv_type : 8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 rectypes; /* record types for dump */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unsigned char dmp_hdrs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set if tcp hdrs to be dumped */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949-CAE1-4F57-8088-D8A6BC16CA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cerpt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from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get_tcpserv_type – sp i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service_data*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for (i = 1, port = sport; i &lt; 3; i++, port = dport)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  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witch (port)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case 20: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meth = &amp;tcp_ftp_data_serv_method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serv_type = TCP_SERV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open = REC_TCP_FTP_DATA_OPEN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hdrs = REC_TCP_FTP_DATA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close = REC_TCP_FTP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serv_ctr = &amp;counters.TRAFF_TCP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dmp_hdrs |= DUMP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return i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break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.. . Etc.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D72-0D47-43C5-95D9-F89D8ACB5D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determin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tcp_serv_methods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open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pkt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way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sync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tcp_heldpkt_t *hpp, struct tcp_conn *tconn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cp_simplex_flow_t *tsp, unsigned int ga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int tm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close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dump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struct tcp_conn *tconnp)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lled from tcp_pkt() as ordered segment is processe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377-FD8C-4281-8D54-0800788A09F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DP Service Handl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handling much as TCP but less complicated as no reasseb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much as TCP – similar or shared methods and structur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connection closing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ften implied by protocol semantics (e.g. DNS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rely on timeout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FA5D-21A0-428A-8850-87BEBD11273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nterrelationship of Principal Data 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68400" y="1984320"/>
            <a:ext cx="73803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2C3A-6CAC-4196-ABA2-A1C816557FA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ata Extraction Error Handl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functions called as serv_pkt() return 0 on success, error code &lt;0 on fail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 failure return call error routine to free buffer and dump entire pack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ly fully implemented for HTTP data extraction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rror.c: http_erro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rror code definitions: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hdr/http_errdefs.h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errstring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ump by calling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f_nprobe.c: dump_pkt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C8C-E3A5-41C4-86CF-4FEC1C9460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urces of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urce co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probe repository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run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share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-Layer Network and Analysis”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uter Lab Technical Report Number 571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cl.cam.ac.uk/TechReports/UCAM-CL-TR-571.pdf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apter 3 Describes Nprobe implement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e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– James.Hall@cl.cam.ac.uk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E095-1F7D-48E3-BB34-84BE3BF3ED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04840" y="1866960"/>
            <a:ext cx="5727600" cy="42958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umping Data to Logs I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(TR 3.3.4)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fined by serv_dump()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stly copying blocks of (typed) data to output buffer as byte sequences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DUMP_*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macros i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output.h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677E-49F8-4A6A-AE90-AED81007E0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dumps occur at three point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open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open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s address/port detail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flow_inner)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and assigns 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connection i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locks of TCP head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close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close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B – all dumps preceded by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record type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np_file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C23-4E8C-4010-BAE1-8E02A3D6C9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me wrinkl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check room in buff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sponsible for dumping all higher-level protocol data in chained/subsidiary SSU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dump transport-level data (e.g. cal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.c: tcp_dump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ust initialise dump with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c_dump_start() and rec_dump_end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(output.c) to prepend record type and initiate buffer manage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ttp.c: tcp_http_dump()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FB8-C89A-4C4E-AF15-6B2ED0B925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Structure P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igh turnover of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arly profiling showed up to %0% of cycles spent in malloc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pre-allocated structures held in pool (LIFO) – drawn, initialised and returned as require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pool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ach type requir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ol initialisation method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ructure (per use) initialisaton, get and recycle metho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788-46B1-41BC-87BC-04D39A9C51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unters and Traffic Account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h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s a counter block which keeps counts of protocol-specific packets/bytes and similar useful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s counter handling method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AAB-5F2E-46A3-A561-C5893157A7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g File Presentatio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ill inevitably wish to examine extracted data by eye during development and to check feasibilit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quire routines to print out representation of logged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rrent ‘printers’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common/src/report.c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upported by utility routines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int_util.c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hould perhaps be provided at module level rather than globa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B0D-F5F4-4DDD-95A2-4C6D3E7F08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-Retrieval from Log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-retrieval requires log file reading routines which understand layout of individual (possibly variable) serialised protocol SSUs and subsidiaries/chains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rrently provided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wread_util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hould perhaps be provided on a per-module basis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to be understood by wread (log file reader) appropriate top-level reading routine should be added as case statement to record-type switch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read_util.c: _printfil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B8E-980F-4809-B485-1E7267A00C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method suite to populate protocol-specific tcp_serv_methods struct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 definition for protocol management and extracted state storag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error codes and handling routi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pool routines for commonly-used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s, data extraction, data dumping, and error handling for any higher_level protocol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711-8937-4BBB-AD3B-A6A856C581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e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d top-level SSU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rvice_data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union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con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typ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cket handling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identified by port: add case statement to get_tcp_serv_typ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added service: build appropriate SSU and insert into host/host-port/port hash lis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 constants – record types, service types, etc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ADF-F0DA-4C98-87D5-911E93099E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post-runtime reading/analysis provid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nters’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g file reading routin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nalysis data retrieval interface based upon these and SSU definitions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447F-FADC-4CB0-BDB3-FF1CC54E90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 – Nprobe / Wa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Modul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1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prob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ser-level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Wan)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3-6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76480" y="3143160"/>
            <a:ext cx="131436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6480" y="3638520"/>
            <a:ext cx="135252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7DB-A3DF-4D7D-9605-04688742EA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Though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acket entry point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o_ip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ep into packet at IP head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equires configuration to locate – distributed amongst nprobe_modules/config.h and Makefiles – messy, needs unific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rt of LLC/MAC etc. headers overwritten by arrival time sta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ssibly pass packet buffer with entire packet contents intact, entry point at packet head, and LL/MAC – based process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4A8-6237-4EDC-9333-2AA80944324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ing Hi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List_hdr_t (list.h)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ic d.l. list handling type and macros (courtesy of OSF1 kernel code – modified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y macros provided to directly access fields of embedded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.g. 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define TCP_FIRST_ARR_TM tconnp-&gt;flow_inner.first_arr_tm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tch out for defined constants which ar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bit-patter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— e.g. dump record typ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np_file.h)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rror cod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error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C6D-8E0E-4CB0-B919-10D0CC0F8C3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I - Archite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84440" y="1809720"/>
            <a:ext cx="39751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4DC-4CA6-4A61-A818-007BA116D1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otocol Modul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1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ple, configurable, additive levels of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unt packets/bytes passed i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mux according to content – perhaps pass to higher-level modu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cess for presentation to higher-level (e.g. TCP reassembl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tract protocol-specific dat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f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cpdump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nte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od place to start when writing new modul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41B-70E6-4248-AFA2-1CBEC98229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Principal Data Typ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ufrec – buffer record (webtraffic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e per packe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bufrec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imeval t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when arrived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plength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length off wire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linkt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interface type collected from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*base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start of packet buffer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ifdef TCPDUMP_FED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snaplen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max length pf tcpdump capture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endif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bufrec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BD7-A764-4DAB-B797-68AE5A3C3F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data Typ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ec – packet record (webtraffic.h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ne per packet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– Primary packet-passing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ypedef struct prec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prec *next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used only for pool lis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bufrec_t *brecp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arr_tm;  /* arrival time in ms - used for timeout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*buf; /* where in buffer we are now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len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and how much remaining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trunc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truncation from claimed IP length 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listhdr_t *flowlist;/* ptr. to host/host hash table slot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 prec_t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8BD-B9D4-4A53-BE37-C9FF9C58AE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and Data Extraction Flow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packet captu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src $ROOT/nprobe_modules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an packet acquisitio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probe_main.c: worker_thread()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p, TR 3.3.3.3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hy entry point at IP header level? – see on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/IGM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gmp(), tcp.c:do_tcp(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udp.c:do_udp(), TR3.3.3.4/5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rvice processing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e.g. http, dns –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rvice identified by port (new connections)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tcp.c:get_tcpserv_type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r packet’s connection 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flows.c:get_host_flow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thods and processing determined by services’ 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service_data_type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igher-level processing (e.g. html,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7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alled from services tcp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_service_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kt() method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http.c:tcp_http_pkt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3C0-710A-4857-A5C1-BC48047752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4:58:41Z</dcterms:created>
  <dc:creator>Computer Laboratory</dc:creator>
  <dc:description/>
  <dc:language>en-US</dc:language>
  <cp:lastModifiedBy>gtadmin</cp:lastModifiedBy>
  <cp:lastPrinted>2001-11-13T14:22:11Z</cp:lastPrinted>
  <dcterms:modified xsi:type="dcterms:W3CDTF">2004-01-27T14:30:39Z</dcterms:modified>
  <cp:revision>177</cp:revision>
  <dc:subject/>
  <dc:title>PowerPoint Presentation</dc:title>
</cp:coreProperties>
</file>