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8176-6A05-4DD4-B21C-3772FF4F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(): both for servicing unknown loads and for fault tole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476-838C-46AD-B087-409E4C78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A2F-1BB0-4E23-B1D0-92F4AC5A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88B-DA39-4859-B756-FF0C39C1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0EF-6C79-4234-A13E-EFD68601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BC1-4F36-4B30-9768-62F2F219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93B-300D-4D9D-9D66-034E136F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E6D-BAA3-4F79-B710-F15BBB1E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C9A-DF38-4977-A8DD-6B729ACC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4B3-9073-4CF9-A11E-F370D5A0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519-E493-4736-B22A-FABA550F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033-7053-425F-BCE8-256FC043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7F3-D5BE-4F98-B58E-2433E854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64E6-11ED-4723-9EE5-502C123C8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cation Based Placement of Whole Distributed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ork by David Sp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lk for Co-NEX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time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network traffic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performance with increasing numbers of indexed i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ar increase in query time and traffic with number of clusters in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cy of results within 5% of the ideal results, compared to 25% with searching for each server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ion of the index increases performance under high query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ny nodes decreases performance – there exists an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query load gives larger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ilar results with respect to query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tra stuff fol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ingle Server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d-tree implementation with some extra summarization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% faster than the distributed index implementation when run on a single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1128600"/>
            <a:ext cx="8594640" cy="5729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arch performance under various query 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ost of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4984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: 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: 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arch: Introduction and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Search Algorithm and Distributed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: 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() – want clos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r() – distribute wi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ultipl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distributed system in one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x inter-relations between query terms i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 Query/Updat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plat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ght nee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tiv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ibuted Computing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s are deploying complete 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-user, Any-code, Any-where, Any-time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platform: many users and server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pay for resources consu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interested in where the server is, not its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-aware applications: web server replication, multiplayer distributed games, application level proxies, distributed computing resear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rver Open Platform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erver"/>
          <p:cNvSpPr/>
          <p:nvPr/>
        </p:nvSpPr>
        <p:spPr>
          <a:xfrm>
            <a:off x="4211640" y="155736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mputr2"/>
          <p:cNvSpPr/>
          <p:nvPr/>
        </p:nvSpPr>
        <p:spPr>
          <a:xfrm>
            <a:off x="684360" y="3141720"/>
            <a:ext cx="1049040" cy="90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ainfrm"/>
          <p:cNvSpPr/>
          <p:nvPr/>
        </p:nvSpPr>
        <p:spPr>
          <a:xfrm>
            <a:off x="7451640" y="285264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infrm"/>
          <p:cNvSpPr/>
          <p:nvPr/>
        </p:nvSpPr>
        <p:spPr>
          <a:xfrm>
            <a:off x="7667640" y="3068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infrm"/>
          <p:cNvSpPr/>
          <p:nvPr/>
        </p:nvSpPr>
        <p:spPr>
          <a:xfrm>
            <a:off x="7883640" y="3284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infrm"/>
          <p:cNvSpPr/>
          <p:nvPr/>
        </p:nvSpPr>
        <p:spPr>
          <a:xfrm>
            <a:off x="8099280" y="350028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4365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00" y="4076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Xeno)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7600" y="2276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erver"/>
          <p:cNvSpPr/>
          <p:nvPr/>
        </p:nvSpPr>
        <p:spPr>
          <a:xfrm>
            <a:off x="4211640" y="537372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8880" y="61657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66" idx="8"/>
          </p:cNvCxnSpPr>
          <p:nvPr/>
        </p:nvCxnSpPr>
        <p:spPr>
          <a:xfrm flipH="1" rot="16200000">
            <a:off x="2048040" y="3590640"/>
            <a:ext cx="1311480" cy="3016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58" idx="10"/>
            <a:endCxn id="57" idx="8"/>
          </p:cNvCxnSpPr>
          <p:nvPr/>
        </p:nvCxnSpPr>
        <p:spPr>
          <a:xfrm flipH="1" flipV="1" rot="5400000">
            <a:off x="2108520" y="1038240"/>
            <a:ext cx="1204200" cy="3002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63" idx="2"/>
            <a:endCxn id="66" idx="9"/>
          </p:cNvCxnSpPr>
          <p:nvPr/>
        </p:nvCxnSpPr>
        <p:spPr>
          <a:xfrm rot="5400000">
            <a:off x="6004800" y="3771720"/>
            <a:ext cx="1023120" cy="2944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1" name=""/>
          <p:cNvSpPr/>
          <p:nvPr/>
        </p:nvSpPr>
        <p:spPr>
          <a:xfrm>
            <a:off x="982440" y="5445000"/>
            <a:ext cx="261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) Register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 purchase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6760" y="537372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) Char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ent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3840" y="177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7880" y="1773360"/>
            <a:ext cx="18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) Search for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eno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4760" y="328464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) Deploy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9" idx="8"/>
            <a:endCxn id="57" idx="9"/>
          </p:cNvCxnSpPr>
          <p:nvPr/>
        </p:nvCxnSpPr>
        <p:spPr>
          <a:xfrm flipV="1" rot="16200000">
            <a:off x="5989320" y="992880"/>
            <a:ext cx="915120" cy="2804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1928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 to XenoSearch: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utomatic cluster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ings related by near() in a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these clusters become vertices in a graph with far() relations as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primary ke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dex splits (co-ordinate based) location space into 2</a:t>
            </a:r>
            <a:r>
              <a:rPr b="0" lang="en-GB" sz="2800" spc="-1" strike="noStrike" baseline="46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mapping from th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the query to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machin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ems in the index), ranked according to how well they fit the location part of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57300" r="0" b="0"/>
          <a:stretch/>
        </p:blipFill>
        <p:spPr>
          <a:xfrm>
            <a:off x="1187280" y="907920"/>
            <a:ext cx="6740640" cy="4091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view of Xeno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P2P range based resource dis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xpand Stage 1 to take into account summary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dd a location based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-level Search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rse Placement of clusters to blocks by simulated annea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the f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index summ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s several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 placement of servers to actual mach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resource constraints and ne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full queries of blocks of the loc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ation and optimization to result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Index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pidemics employed to share routing table and summarization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 based locations are translated to scalar values through a Hilbert curve based trans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iable datagram service is used to query information assigned to remote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ary indexes of resource attrib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0:58:59Z</dcterms:created>
  <dc:creator>David Spence</dc:creator>
  <dc:description/>
  <dc:language>en-US</dc:language>
  <cp:lastModifiedBy>David Spence</cp:lastModifiedBy>
  <dcterms:modified xsi:type="dcterms:W3CDTF">2005-08-29T18:19:17Z</dcterms:modified>
  <cp:revision>13</cp:revision>
  <dc:subject/>
  <dc:title>Interesting Results from XenoSearch-II</dc:title>
</cp:coreProperties>
</file>