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6AF0D-988E-4331-B782-8DDC919E0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31640" y="79560"/>
            <a:ext cx="7345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31640" y="1449000"/>
            <a:ext cx="82807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31640" y="4082040"/>
            <a:ext cx="82807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5CED1-3B94-4B9F-875E-8A8B5C3F6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31640" y="79560"/>
            <a:ext cx="7345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31640" y="1449000"/>
            <a:ext cx="40406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600" y="1449000"/>
            <a:ext cx="40406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31640" y="4082040"/>
            <a:ext cx="40406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600" y="4082040"/>
            <a:ext cx="40406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92C52-1522-4AC5-B820-17947574B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31640" y="79560"/>
            <a:ext cx="7345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31640" y="1449000"/>
            <a:ext cx="266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1360" y="1449000"/>
            <a:ext cx="266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31440" y="1449000"/>
            <a:ext cx="266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31640" y="4082040"/>
            <a:ext cx="266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1360" y="4082040"/>
            <a:ext cx="266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31440" y="4082040"/>
            <a:ext cx="266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97E27-8B11-4FEC-8E86-6778675CA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31640" y="79560"/>
            <a:ext cx="7345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31640" y="1449000"/>
            <a:ext cx="828072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utura Md B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31640" y="79560"/>
            <a:ext cx="7345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31640" y="1449000"/>
            <a:ext cx="82807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31640" y="79560"/>
            <a:ext cx="7345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31640" y="1449000"/>
            <a:ext cx="40406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600" y="1449000"/>
            <a:ext cx="40406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31640" y="79560"/>
            <a:ext cx="7345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31640" y="79560"/>
            <a:ext cx="7345440" cy="24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utura Md B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31640" y="79560"/>
            <a:ext cx="7345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31640" y="1449000"/>
            <a:ext cx="40406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600" y="1449000"/>
            <a:ext cx="40406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31640" y="4082040"/>
            <a:ext cx="40406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31640" y="79560"/>
            <a:ext cx="7345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31640" y="1449000"/>
            <a:ext cx="828072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CA5B5-FCD6-4623-B396-0AC0AA332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31640" y="79560"/>
            <a:ext cx="7345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31640" y="1449000"/>
            <a:ext cx="40406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600" y="1449000"/>
            <a:ext cx="40406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600" y="4082040"/>
            <a:ext cx="40406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31640" y="79560"/>
            <a:ext cx="7345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31640" y="1449000"/>
            <a:ext cx="40406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600" y="1449000"/>
            <a:ext cx="40406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31640" y="4082040"/>
            <a:ext cx="82807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31640" y="79560"/>
            <a:ext cx="7345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31640" y="1449000"/>
            <a:ext cx="82807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1640" y="4082040"/>
            <a:ext cx="82807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31640" y="79560"/>
            <a:ext cx="7345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31640" y="1449000"/>
            <a:ext cx="40406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600" y="1449000"/>
            <a:ext cx="40406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31640" y="4082040"/>
            <a:ext cx="40406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600" y="4082040"/>
            <a:ext cx="40406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31640" y="79560"/>
            <a:ext cx="7345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31640" y="1449000"/>
            <a:ext cx="266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1360" y="1449000"/>
            <a:ext cx="266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31440" y="1449000"/>
            <a:ext cx="266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31640" y="4082040"/>
            <a:ext cx="266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1360" y="4082040"/>
            <a:ext cx="266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31440" y="4082040"/>
            <a:ext cx="266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31640" y="79560"/>
            <a:ext cx="7345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31640" y="1449000"/>
            <a:ext cx="82807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5BA4C-EF48-40AF-AB2C-B0A53C823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31640" y="79560"/>
            <a:ext cx="7345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31640" y="1449000"/>
            <a:ext cx="40406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600" y="1449000"/>
            <a:ext cx="40406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783A7-6883-433E-97A6-2F89AE5BA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31640" y="79560"/>
            <a:ext cx="7345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D5A10-7E16-4CA4-8296-5C4B93F64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31640" y="79560"/>
            <a:ext cx="7345440" cy="24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3823B-36A6-455C-A912-552FACE0A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31640" y="79560"/>
            <a:ext cx="7345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31640" y="1449000"/>
            <a:ext cx="40406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600" y="1449000"/>
            <a:ext cx="40406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31640" y="4082040"/>
            <a:ext cx="40406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C8832-3708-46A8-98CF-4FF476622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31640" y="79560"/>
            <a:ext cx="7345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31640" y="1449000"/>
            <a:ext cx="40406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600" y="1449000"/>
            <a:ext cx="40406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600" y="4082040"/>
            <a:ext cx="40406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DD42C-C8FE-4755-94A5-04B646C36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31640" y="79560"/>
            <a:ext cx="7345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31640" y="1449000"/>
            <a:ext cx="40406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600" y="1449000"/>
            <a:ext cx="40406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31640" y="4082040"/>
            <a:ext cx="82807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DDA06-B227-4176-AFF4-5B0FEEC43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5478" r="0" b="68472"/>
          <a:stretch/>
        </p:blipFill>
        <p:spPr>
          <a:xfrm>
            <a:off x="0" y="0"/>
            <a:ext cx="9144000" cy="17892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31640" y="79560"/>
            <a:ext cx="7345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utura Md BT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31640" y="1449000"/>
            <a:ext cx="82807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spcBef>
                <a:spcPts val="601"/>
              </a:spcBef>
              <a:buClr>
                <a:srgbClr val="00008a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Md B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spcBef>
                <a:spcPts val="601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Md B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  <a:p>
            <a:pPr lvl="2" marL="987480" indent="-179280">
              <a:spcBef>
                <a:spcPts val="601"/>
              </a:spcBef>
              <a:buClr>
                <a:srgbClr val="00008a"/>
              </a:buClr>
              <a:buSzPct val="13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Md B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  <a:p>
            <a:pPr lvl="3" marL="1257480" indent="-90720">
              <a:spcBef>
                <a:spcPts val="601"/>
              </a:spcBef>
              <a:buClr>
                <a:srgbClr val="00008a"/>
              </a:buClr>
              <a:buFont typeface="Trebuchet MS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Md B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  <a:p>
            <a:pPr lvl="4" marL="1523880" indent="-87120">
              <a:spcBef>
                <a:spcPts val="601"/>
              </a:spcBef>
              <a:buClr>
                <a:srgbClr val="00008a"/>
              </a:buClr>
              <a:buFont typeface="Trebuchet MS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Md B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  <a:p>
            <a:pPr lvl="5" marL="1523880" indent="-87120">
              <a:spcBef>
                <a:spcPts val="601"/>
              </a:spcBef>
              <a:buClr>
                <a:srgbClr val="ffffcc"/>
              </a:buClr>
              <a:buFont typeface="Trebuchet MS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Md B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  <a:p>
            <a:pPr lvl="6" marL="1523880" indent="-87120">
              <a:spcBef>
                <a:spcPts val="601"/>
              </a:spcBef>
              <a:buClr>
                <a:srgbClr val="ffffcc"/>
              </a:buClr>
              <a:buFont typeface="Trebuchet MS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Md B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pic>
        <p:nvPicPr>
          <p:cNvPr id="3" name="" descr=""/>
          <p:cNvPicPr/>
          <p:nvPr/>
        </p:nvPicPr>
        <p:blipFill>
          <a:blip r:embed="rId3"/>
          <a:srcRect l="4108" t="5478" r="49299" b="73949"/>
          <a:stretch/>
        </p:blipFill>
        <p:spPr>
          <a:xfrm>
            <a:off x="7848720" y="81000"/>
            <a:ext cx="1238040" cy="409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12000" y="6597720"/>
            <a:ext cx="2340000" cy="2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800" spc="-1" strike="noStrike">
                <a:solidFill>
                  <a:srgbClr val="808080"/>
                </a:solidFill>
                <a:latin typeface="Futura Lt B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808080"/>
                </a:solidFill>
                <a:latin typeface="Futura Lt BT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431280" y="6597720"/>
            <a:ext cx="5580360" cy="2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800" spc="-1" strike="noStrike">
                <a:solidFill>
                  <a:srgbClr val="808080"/>
                </a:solidFill>
                <a:latin typeface="Futura Lt B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808080"/>
                </a:solidFill>
                <a:latin typeface="Futura Lt BT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51640" y="6597720"/>
            <a:ext cx="360360" cy="2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800" spc="-1" strike="noStrike">
                <a:solidFill>
                  <a:srgbClr val="808080"/>
                </a:solidFill>
                <a:latin typeface="Futura Lt B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808080"/>
                </a:solidFill>
                <a:latin typeface="Futura Lt BT"/>
              </a:rPr>
              <a:t>p. </a:t>
            </a:r>
            <a:fld id="{75C0C22F-2F06-4C52-9BB2-E632448BF57F}" type="slidenum">
              <a:rPr b="0" i="1" lang="en-US" sz="800" spc="-1" strike="noStrike">
                <a:solidFill>
                  <a:srgbClr val="808080"/>
                </a:solidFill>
                <a:latin typeface="Futura Lt BT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657240" y="3048120"/>
            <a:ext cx="5054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utura Md BT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45" name=""/>
          <p:cNvSpPr/>
          <p:nvPr/>
        </p:nvSpPr>
        <p:spPr>
          <a:xfrm>
            <a:off x="431640" y="6597720"/>
            <a:ext cx="414036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© 2004 The Communications Innovation Institute.  All rights reserved.</a:t>
            </a: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utura Md BT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utura Md BT"/>
            </a:endParaRPr>
          </a:p>
          <a:p>
            <a:pPr lvl="1" marL="44604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Md B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lvl="2" marL="808200" algn="ctr">
              <a:spcBef>
                <a:spcPts val="400"/>
              </a:spcBef>
              <a:buClr>
                <a:srgbClr val="00008a"/>
              </a:buClr>
              <a:buSzPct val="135000"/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utura Md BT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Futura Md BT"/>
            </a:endParaRPr>
          </a:p>
          <a:p>
            <a:pPr lvl="3" marL="1166760" algn="ctr">
              <a:spcBef>
                <a:spcPts val="349"/>
              </a:spcBef>
              <a:buClr>
                <a:srgbClr val="00008a"/>
              </a:buClr>
              <a:buFont typeface="Trebuchet MS"/>
              <a:buChar char="◦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utura Md BT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Futura Md BT"/>
            </a:endParaRPr>
          </a:p>
          <a:p>
            <a:pPr lvl="4" marL="1436760" algn="ctr">
              <a:spcBef>
                <a:spcPts val="300"/>
              </a:spcBef>
              <a:buClr>
                <a:srgbClr val="00008a"/>
              </a:buClr>
              <a:buFont typeface="Trebuchet MS"/>
              <a:buChar char="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utura Md BT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Futura Md BT"/>
            </a:endParaRPr>
          </a:p>
          <a:p>
            <a:pPr lvl="5" marL="1436760">
              <a:spcBef>
                <a:spcPts val="300"/>
              </a:spcBef>
              <a:buClr>
                <a:srgbClr val="ffffcc"/>
              </a:buClr>
              <a:buFont typeface="Trebuchet MS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utura Md BT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Futura Md BT"/>
            </a:endParaRPr>
          </a:p>
          <a:p>
            <a:pPr lvl="6" marL="1436760">
              <a:spcBef>
                <a:spcPts val="300"/>
              </a:spcBef>
              <a:buClr>
                <a:srgbClr val="ffffcc"/>
              </a:buClr>
              <a:buFont typeface="Trebuchet MS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utura Md BT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Futura Md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657240" y="3048120"/>
            <a:ext cx="5054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Futura Md BT"/>
              </a:rPr>
              <a:t>Ubiquity, Pervasiveness, Ambience and Invisible Computing </a:t>
            </a:r>
            <a:endParaRPr b="1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3671640" y="5562360"/>
            <a:ext cx="50403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utura Md BT"/>
              </a:rPr>
              <a:t>Jon Crowcroft,</a:t>
            </a:r>
            <a:endParaRPr b="1" lang="en-US" sz="1600" spc="-1" strike="noStrike">
              <a:solidFill>
                <a:srgbClr val="000000"/>
              </a:solidFill>
              <a:latin typeface="Futura Md BT"/>
            </a:endParaRPr>
          </a:p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utura Md BT"/>
              </a:rPr>
              <a:t>The Computer Laboratory</a:t>
            </a:r>
            <a:endParaRPr b="1" lang="en-US" sz="1600" spc="-1" strike="noStrike">
              <a:solidFill>
                <a:srgbClr val="000000"/>
              </a:solidFill>
              <a:latin typeface="Futura Md BT"/>
            </a:endParaRPr>
          </a:p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utura Md BT"/>
              </a:rPr>
              <a:t>University of Cambridge</a:t>
            </a:r>
            <a:endParaRPr b="1" lang="en-US" sz="1600" spc="-1" strike="noStrike">
              <a:solidFill>
                <a:srgbClr val="000000"/>
              </a:solidFill>
              <a:latin typeface="Futura Md BT"/>
            </a:endParaRPr>
          </a:p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utura Md BT"/>
              </a:rPr>
              <a:t>Jon.crowcroft@cl.cam.ac.uk</a:t>
            </a:r>
            <a:endParaRPr b="1" lang="en-US" sz="1600" spc="-1" strike="noStrike">
              <a:solidFill>
                <a:srgbClr val="000000"/>
              </a:solidFill>
              <a:latin typeface="Futura Md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31640" y="79560"/>
            <a:ext cx="7345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utura Md BT"/>
              </a:rPr>
              <a:t>Many people are disabled – can help!</a:t>
            </a: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31640" y="1449000"/>
            <a:ext cx="82807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spcBef>
                <a:spcPts val="601"/>
              </a:spcBef>
              <a:buClr>
                <a:srgbClr val="00008a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Futura Md BT"/>
              </a:rPr>
              <a:t>Many disabilities, not just loss of memory</a:t>
            </a: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utura Md BT"/>
              </a:rPr>
              <a:t>Same tricks we use on road can work in life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utura Md BT"/>
              </a:rPr>
              <a:t>Already have started to record much digitially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utura Md BT"/>
              </a:rPr>
              <a:t>Location/Video/Audio from camera phones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marL="266760" indent="-266760">
              <a:spcBef>
                <a:spcPts val="601"/>
              </a:spcBef>
              <a:buClr>
                <a:srgbClr val="00008a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Futura Md BT"/>
              </a:rPr>
              <a:t>Automatic Aide Memoire/Amanuensis</a:t>
            </a: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utura Md BT"/>
              </a:rPr>
              <a:t>Needs to be smart:- 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utura Md BT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Futura Md BT"/>
              </a:rPr>
              <a:t>Just helping” remind can do more harm than good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utura Md BT"/>
              </a:rPr>
              <a:t>Hint/suggest/retrain memory continuously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marL="266760" indent="-266760">
              <a:spcBef>
                <a:spcPts val="601"/>
              </a:spcBef>
              <a:buClr>
                <a:srgbClr val="00008a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Futura Md BT"/>
              </a:rPr>
              <a:t>Similar technology for partial sight, hearing, physical disability</a:t>
            </a: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utura Md BT"/>
              </a:rPr>
              <a:t>Combined with cybernetic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utura Md BT"/>
              </a:rPr>
              <a:t>Seeing eye robot dog?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tion to the Communications Innovation Institu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B0DC7-7443-40A2-9187-98B4E24633C8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1-Nov-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31640" y="79560"/>
            <a:ext cx="7345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utura Md BT"/>
              </a:rPr>
              <a:t>Environmental Monitoring</a:t>
            </a: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448000" y="1773360"/>
            <a:ext cx="4570200" cy="4570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tion to the Communications Innovation Institut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CE3B5-B124-480C-8D73-87ED90F10B5B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1-Nov-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31640" y="-347040"/>
            <a:ext cx="734544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utura Md BT"/>
              </a:rPr>
              <a:t>Building, City, World monitoring/Control</a:t>
            </a: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31640" y="1449000"/>
            <a:ext cx="82807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spcBef>
                <a:spcPts val="601"/>
              </a:spcBef>
              <a:buClr>
                <a:srgbClr val="00008a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Futura Md BT"/>
              </a:rPr>
              <a:t>Already have projects to sense whole earth</a:t>
            </a: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  <a:p>
            <a:pPr marL="266760" indent="-266760">
              <a:spcBef>
                <a:spcPts val="601"/>
              </a:spcBef>
              <a:buClr>
                <a:srgbClr val="00008a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Futura Md BT"/>
              </a:rPr>
              <a:t>Huge scale of problem:</a:t>
            </a: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utura Md BT"/>
              </a:rPr>
              <a:t>Amount of data, and physical models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utura Md BT"/>
              </a:rPr>
              <a:t>Deployment of sensors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marL="266760" indent="-266760">
              <a:spcBef>
                <a:spcPts val="601"/>
              </a:spcBef>
              <a:buClr>
                <a:srgbClr val="00008a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Futura Md BT"/>
              </a:rPr>
              <a:t>What to do with it? </a:t>
            </a: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utura Md BT"/>
              </a:rPr>
              <a:t>Controls – e.g. 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utura Md BT"/>
              </a:rPr>
              <a:t>where to generate power when?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utura Md BT"/>
              </a:rPr>
              <a:t>What to charge for carbon tax?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Md BT"/>
              </a:rPr>
              <a:t>When to change weather!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marL="266760" indent="-266760">
              <a:spcBef>
                <a:spcPts val="601"/>
              </a:spcBef>
              <a:buClr>
                <a:srgbClr val="00008a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Md BT"/>
              </a:rPr>
              <a:t>Again, political, ethical, technical mix of problems</a:t>
            </a: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tion to the Communications Innovation Institu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71411-695E-49BD-8A54-C598D43D7833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1-Nov-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31640" y="79560"/>
            <a:ext cx="7345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utura Md BT"/>
              </a:rPr>
              <a:t>Computing </a:t>
            </a: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1640" y="1449000"/>
            <a:ext cx="82807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61360" indent="-261360">
              <a:spcBef>
                <a:spcPts val="499"/>
              </a:spcBef>
              <a:buClr>
                <a:srgbClr val="00008a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utura Md BT"/>
              </a:rPr>
              <a:t>Dependable 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lvl="1" marL="615960" indent="-178560">
              <a:spcBef>
                <a:spcPts val="451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utura Md BT"/>
              </a:rPr>
              <a:t>Provable Programs</a:t>
            </a:r>
            <a:endParaRPr b="0" lang="en-US" sz="1800" spc="-1" strike="noStrike">
              <a:solidFill>
                <a:srgbClr val="000000"/>
              </a:solidFill>
              <a:latin typeface="Futura Md BT"/>
            </a:endParaRPr>
          </a:p>
          <a:p>
            <a:pPr lvl="1" marL="615960" indent="-178560">
              <a:spcBef>
                <a:spcPts val="451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utura Md BT"/>
              </a:rPr>
              <a:t>Properties like correctness, timeliness, scale/cost</a:t>
            </a:r>
            <a:endParaRPr b="0" lang="en-US" sz="1800" spc="-1" strike="noStrike">
              <a:solidFill>
                <a:srgbClr val="000000"/>
              </a:solidFill>
              <a:latin typeface="Futura Md BT"/>
            </a:endParaRPr>
          </a:p>
          <a:p>
            <a:pPr lvl="1" marL="615960" indent="-178560">
              <a:spcBef>
                <a:spcPts val="451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utura Md BT"/>
              </a:rPr>
              <a:t>Very very big systems, so automate proofs</a:t>
            </a:r>
            <a:endParaRPr b="0" lang="en-US" sz="1800" spc="-1" strike="noStrike">
              <a:solidFill>
                <a:srgbClr val="000000"/>
              </a:solidFill>
              <a:latin typeface="Futura Md BT"/>
            </a:endParaRPr>
          </a:p>
          <a:p>
            <a:pPr lvl="1" marL="615960" indent="-178560">
              <a:spcBef>
                <a:spcPts val="451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utura Md BT"/>
              </a:rPr>
              <a:t>May not be conventional math proofs – more statistical</a:t>
            </a:r>
            <a:endParaRPr b="0" lang="en-US" sz="1800" spc="-1" strike="noStrike">
              <a:solidFill>
                <a:srgbClr val="000000"/>
              </a:solidFill>
              <a:latin typeface="Futura Md BT"/>
            </a:endParaRPr>
          </a:p>
          <a:p>
            <a:pPr lvl="1" marL="615960" indent="-178560">
              <a:spcBef>
                <a:spcPts val="451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utura Md BT"/>
              </a:rPr>
              <a:t>Like biological systems</a:t>
            </a:r>
            <a:endParaRPr b="0" lang="en-US" sz="1800" spc="-1" strike="noStrike">
              <a:solidFill>
                <a:srgbClr val="000000"/>
              </a:solidFill>
              <a:latin typeface="Futura Md BT"/>
            </a:endParaRPr>
          </a:p>
          <a:p>
            <a:pPr marL="261360" indent="-261360">
              <a:spcBef>
                <a:spcPts val="499"/>
              </a:spcBef>
              <a:buClr>
                <a:srgbClr val="00008a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utura Md BT"/>
              </a:rPr>
              <a:t>Extensible 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lvl="1" marL="615960" indent="-178560">
              <a:spcBef>
                <a:spcPts val="451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utura Md BT"/>
              </a:rPr>
              <a:t>New Programming Languages</a:t>
            </a:r>
            <a:endParaRPr b="0" lang="en-US" sz="1800" spc="-1" strike="noStrike">
              <a:solidFill>
                <a:srgbClr val="000000"/>
              </a:solidFill>
              <a:latin typeface="Futura Md BT"/>
            </a:endParaRPr>
          </a:p>
          <a:p>
            <a:pPr lvl="1" marL="615960" indent="-178560">
              <a:spcBef>
                <a:spcPts val="451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utura Md BT"/>
              </a:rPr>
              <a:t>Combine huge numbers of very small components (pebbles)</a:t>
            </a:r>
            <a:endParaRPr b="0" lang="en-US" sz="1800" spc="-1" strike="noStrike">
              <a:solidFill>
                <a:srgbClr val="000000"/>
              </a:solidFill>
              <a:latin typeface="Futura Md BT"/>
            </a:endParaRPr>
          </a:p>
          <a:p>
            <a:pPr lvl="1" marL="615960" indent="-178560">
              <a:spcBef>
                <a:spcPts val="451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utura Md BT"/>
              </a:rPr>
              <a:t>Script behaviour, and check (programming is debugging!)</a:t>
            </a:r>
            <a:endParaRPr b="0" lang="en-US" sz="1800" spc="-1" strike="noStrike">
              <a:solidFill>
                <a:srgbClr val="000000"/>
              </a:solidFill>
              <a:latin typeface="Futura Md BT"/>
            </a:endParaRPr>
          </a:p>
          <a:p>
            <a:pPr marL="261360" indent="-261360">
              <a:spcBef>
                <a:spcPts val="499"/>
              </a:spcBef>
              <a:buClr>
                <a:srgbClr val="00008a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utura Md BT"/>
              </a:rPr>
              <a:t>Usable 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lvl="1" marL="615960" indent="-178560">
              <a:spcBef>
                <a:spcPts val="451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utura Md BT"/>
              </a:rPr>
              <a:t>Human Computer Interaction</a:t>
            </a:r>
            <a:endParaRPr b="0" lang="en-US" sz="1800" spc="-1" strike="noStrike">
              <a:solidFill>
                <a:srgbClr val="000000"/>
              </a:solidFill>
              <a:latin typeface="Futura Md BT"/>
            </a:endParaRPr>
          </a:p>
          <a:p>
            <a:pPr lvl="1" marL="615960" indent="-178560">
              <a:spcBef>
                <a:spcPts val="451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utura Md BT"/>
              </a:rPr>
              <a:t>Not like VCRs, DVDs, Digital Set Top Boxes</a:t>
            </a:r>
            <a:endParaRPr b="0" lang="en-US" sz="1800" spc="-1" strike="noStrike">
              <a:solidFill>
                <a:srgbClr val="000000"/>
              </a:solidFill>
              <a:latin typeface="Futura Md BT"/>
            </a:endParaRPr>
          </a:p>
          <a:p>
            <a:pPr lvl="1" marL="615960" indent="-178560">
              <a:spcBef>
                <a:spcPts val="451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utura Md BT"/>
              </a:rPr>
              <a:t>Yes like digital cameras, cell phones, engine management sys</a:t>
            </a:r>
            <a:endParaRPr b="0" lang="en-US" sz="1800" spc="-1" strike="noStrike">
              <a:solidFill>
                <a:srgbClr val="000000"/>
              </a:solidFill>
              <a:latin typeface="Futura Md BT"/>
            </a:endParaRPr>
          </a:p>
          <a:p>
            <a:pPr lvl="1" marL="615960" indent="-178560">
              <a:spcBef>
                <a:spcPts val="451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utura Md BT"/>
              </a:rPr>
              <a:t>But all joined up!</a:t>
            </a:r>
            <a:endParaRPr b="0" lang="en-US" sz="18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tion to the Communications Innovation Institu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376F1-C6C2-487C-B25B-5B36EBBF4BE1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1-Nov-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31640" y="79560"/>
            <a:ext cx="7345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utura Md BT"/>
              </a:rPr>
              <a:t>More simply</a:t>
            </a: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31640" y="1449000"/>
            <a:ext cx="82807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58480" indent="-258480">
              <a:spcBef>
                <a:spcPts val="601"/>
              </a:spcBef>
              <a:buClr>
                <a:srgbClr val="00008a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Futura Md BT"/>
              </a:rPr>
              <a:t>Time and Location part of all programs</a:t>
            </a: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  <a:p>
            <a:pPr marL="258480" indent="-258480">
              <a:spcBef>
                <a:spcPts val="601"/>
              </a:spcBef>
              <a:buClr>
                <a:srgbClr val="00008a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Futura Md BT"/>
              </a:rPr>
              <a:t>Ownership and Rights part of all data in and out</a:t>
            </a: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  <a:p>
            <a:pPr marL="258480" indent="-258480">
              <a:spcBef>
                <a:spcPts val="601"/>
              </a:spcBef>
              <a:buClr>
                <a:srgbClr val="00008a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Futura Md BT"/>
              </a:rPr>
              <a:t>Risk of failure of component and system must be known</a:t>
            </a: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  <a:p>
            <a:pPr marL="258480" indent="-258480">
              <a:spcBef>
                <a:spcPts val="601"/>
              </a:spcBef>
              <a:buClr>
                <a:srgbClr val="00008a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Futura Md BT"/>
              </a:rPr>
              <a:t>Java and Basic not good enough</a:t>
            </a: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  <a:p>
            <a:pPr marL="258480" indent="-258480">
              <a:spcBef>
                <a:spcPts val="601"/>
              </a:spcBef>
              <a:buClr>
                <a:srgbClr val="00008a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Futura Md BT"/>
              </a:rPr>
              <a:t>Internet too slow and no use on wireless</a:t>
            </a: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  <a:p>
            <a:pPr marL="258480" indent="-258480">
              <a:spcBef>
                <a:spcPts val="601"/>
              </a:spcBef>
              <a:buClr>
                <a:srgbClr val="00008a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Futura Md BT"/>
              </a:rPr>
              <a:t>Pentiums use too much power</a:t>
            </a: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  <a:p>
            <a:pPr marL="258480" indent="-258480">
              <a:spcBef>
                <a:spcPts val="601"/>
              </a:spcBef>
              <a:buClr>
                <a:srgbClr val="00008a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Futura Md BT"/>
              </a:rPr>
              <a:t>Windows needs too much memory, cpu and disk storage</a:t>
            </a: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  <a:p>
            <a:pPr marL="258480" indent="-258480">
              <a:spcBef>
                <a:spcPts val="601"/>
              </a:spcBef>
              <a:buClr>
                <a:srgbClr val="00008a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Futura Md BT"/>
              </a:rPr>
              <a:t>All these take too long to learn</a:t>
            </a: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  <a:p>
            <a:pPr marL="258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  <a:p>
            <a:pPr marL="258480" indent="-258480">
              <a:spcBef>
                <a:spcPts val="601"/>
              </a:spcBef>
              <a:buClr>
                <a:srgbClr val="00008a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Futura Md BT"/>
              </a:rPr>
              <a:t>Do you know where to even </a:t>
            </a:r>
            <a:r>
              <a:rPr b="0" i="1" lang="en-GB" sz="2400" spc="-1" strike="noStrike">
                <a:solidFill>
                  <a:srgbClr val="000000"/>
                </a:solidFill>
                <a:latin typeface="Futura Md BT"/>
              </a:rPr>
              <a:t>start</a:t>
            </a:r>
            <a:r>
              <a:rPr b="0" lang="en-GB" sz="2400" spc="-1" strike="noStrike">
                <a:solidFill>
                  <a:srgbClr val="000000"/>
                </a:solidFill>
                <a:latin typeface="Futura Md BT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  <a:p>
            <a:pPr marL="258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tion to the Communications Innovation Institu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0FF82-4AF7-4FFA-9334-A864B818C06C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1-Nov-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31640" y="79560"/>
            <a:ext cx="7345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utura Md BT"/>
              </a:rPr>
              <a:t>Interlocking concerns</a:t>
            </a: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31640" y="1449000"/>
            <a:ext cx="82807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spcBef>
                <a:spcPts val="601"/>
              </a:spcBef>
              <a:buClr>
                <a:srgbClr val="00008a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Md BT"/>
              </a:rPr>
              <a:t>Economic, regulatory and technical concerns interact</a:t>
            </a: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Md BT"/>
              </a:rPr>
              <a:t>Every day objects now part of cyberspace </a:t>
            </a:r>
            <a:r>
              <a:rPr b="0" i="1" lang="en-US" sz="2000" spc="-1" strike="noStrike">
                <a:solidFill>
                  <a:srgbClr val="000000"/>
                </a:solidFill>
                <a:latin typeface="Futura Md BT"/>
              </a:rPr>
              <a:t>(mixed reality</a:t>
            </a:r>
            <a:r>
              <a:rPr b="0" lang="en-US" sz="2000" spc="-1" strike="noStrike">
                <a:solidFill>
                  <a:srgbClr val="000000"/>
                </a:solidFill>
                <a:latin typeface="Futura Md BT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marL="266760" indent="-266760">
              <a:spcBef>
                <a:spcPts val="601"/>
              </a:spcBef>
              <a:buClr>
                <a:srgbClr val="00008a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Md BT"/>
              </a:rPr>
              <a:t>Note embedded systems do not use </a:t>
            </a:r>
            <a:r>
              <a:rPr b="1" lang="en-US" sz="2400" spc="-1" strike="noStrike">
                <a:solidFill>
                  <a:srgbClr val="000000"/>
                </a:solidFill>
                <a:latin typeface="Futura Md BT"/>
              </a:rPr>
              <a:t>Intel</a:t>
            </a:r>
            <a:r>
              <a:rPr b="0" lang="en-US" sz="2400" spc="-1" strike="noStrike">
                <a:solidFill>
                  <a:srgbClr val="000000"/>
                </a:solidFill>
                <a:latin typeface="Futura Md BT"/>
              </a:rPr>
              <a:t> x86 processors, </a:t>
            </a:r>
            <a:r>
              <a:rPr b="1" lang="en-US" sz="2400" spc="-1" strike="noStrike">
                <a:solidFill>
                  <a:srgbClr val="000000"/>
                </a:solidFill>
                <a:latin typeface="Futura Md BT"/>
              </a:rPr>
              <a:t>Microsoft’s</a:t>
            </a:r>
            <a:r>
              <a:rPr b="0" lang="en-US" sz="2400" spc="-1" strike="noStrike">
                <a:solidFill>
                  <a:srgbClr val="000000"/>
                </a:solidFill>
                <a:latin typeface="Futura Md BT"/>
              </a:rPr>
              <a:t> Windows Operating System, or </a:t>
            </a:r>
            <a:r>
              <a:rPr b="1" lang="en-US" sz="2400" spc="-1" strike="noStrike">
                <a:solidFill>
                  <a:srgbClr val="000000"/>
                </a:solidFill>
                <a:latin typeface="Futura Md BT"/>
              </a:rPr>
              <a:t>Cisco</a:t>
            </a:r>
            <a:r>
              <a:rPr b="0" lang="en-US" sz="2400" spc="-1" strike="noStrike">
                <a:solidFill>
                  <a:srgbClr val="000000"/>
                </a:solidFill>
                <a:latin typeface="Futura Md BT"/>
              </a:rPr>
              <a:t> routers and WWW/Internet to communicate.</a:t>
            </a: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Md BT"/>
              </a:rPr>
              <a:t>They are all currently “</a:t>
            </a:r>
            <a:r>
              <a:rPr b="0" i="1" lang="en-US" sz="2000" spc="-1" strike="noStrike">
                <a:solidFill>
                  <a:srgbClr val="000000"/>
                </a:solidFill>
                <a:latin typeface="Futura Md BT"/>
              </a:rPr>
              <a:t>proprietary</a:t>
            </a:r>
            <a:r>
              <a:rPr b="0" lang="en-US" sz="2000" spc="-1" strike="noStrike">
                <a:solidFill>
                  <a:srgbClr val="000000"/>
                </a:solidFill>
                <a:latin typeface="Futura Md BT"/>
              </a:rPr>
              <a:t>” for lots of good technical reasons.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Md BT"/>
              </a:rPr>
              <a:t>Some are made right here in the UK (ARM processor, </a:t>
            </a:r>
            <a:r>
              <a:rPr b="1" lang="en-US" sz="2000" spc="-1" strike="noStrike">
                <a:solidFill>
                  <a:srgbClr val="000000"/>
                </a:solidFill>
                <a:latin typeface="Futura Md BT"/>
              </a:rPr>
              <a:t>Symbian</a:t>
            </a:r>
            <a:r>
              <a:rPr b="0" lang="en-US" sz="2000" spc="-1" strike="noStrike">
                <a:solidFill>
                  <a:srgbClr val="000000"/>
                </a:solidFill>
                <a:latin typeface="Futura Md BT"/>
              </a:rPr>
              <a:t> OS for example most common in PDAs and Handsets!)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marL="266760" indent="-266760">
              <a:spcBef>
                <a:spcPts val="601"/>
              </a:spcBef>
              <a:buClr>
                <a:srgbClr val="00008a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Md BT"/>
              </a:rPr>
              <a:t>So plenty of interesting work for the next 40 years!</a:t>
            </a: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tion to the Communications Innovation Institu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16C9F-6AC2-48F8-87AB-3DE20B0978E5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1-Nov-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31640" y="79560"/>
            <a:ext cx="7345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utura Md BT"/>
              </a:rPr>
              <a:t>What if all you touch is programmable?</a:t>
            </a: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31640" y="1449000"/>
            <a:ext cx="82807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spcBef>
                <a:spcPts val="601"/>
              </a:spcBef>
              <a:buClr>
                <a:srgbClr val="00008a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Futura Md BT"/>
              </a:rPr>
              <a:t>Computers are so cheap &amp; useful we put ‘em everywhere</a:t>
            </a: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utura Md BT"/>
              </a:rPr>
              <a:t>Inside toys, inside cars, inside ourselves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utura Md BT"/>
              </a:rPr>
              <a:t>In the environment, sea, atmosphere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utura Md BT"/>
              </a:rPr>
              <a:t>In the walls of our houses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marL="266760" indent="-266760">
              <a:spcBef>
                <a:spcPts val="601"/>
              </a:spcBef>
              <a:buClr>
                <a:srgbClr val="00008a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Futura Md BT"/>
              </a:rPr>
              <a:t>Slowly, these devices are also being linked up</a:t>
            </a: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utura Md BT"/>
              </a:rPr>
              <a:t>Wireless networks (cell phone, 3G, WiFi, Bluetooth)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utura Md BT"/>
              </a:rPr>
              <a:t>Ubiquitous Internet access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marL="266760" indent="-266760">
              <a:spcBef>
                <a:spcPts val="601"/>
              </a:spcBef>
              <a:buClr>
                <a:srgbClr val="00008a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Futura Md BT"/>
              </a:rPr>
              <a:t>Previously they were “hardwired”, now programmable</a:t>
            </a: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utura Md BT"/>
              </a:rPr>
              <a:t>Cell phone, PDA, Sky Box (Tivo), Car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utura Md BT"/>
              </a:rPr>
              <a:t>Soon, toys, healthcare, building, city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tion to the Communications Innovation Institu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AE0A1-DFE0-4F93-99A6-E8E1AC2C9567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1-Nov-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31640" y="79560"/>
            <a:ext cx="7345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utura Md BT"/>
              </a:rPr>
              <a:t>Toys or Cybernetics </a:t>
            </a: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2376360" y="1052640"/>
            <a:ext cx="4765680" cy="5375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tion to the Communications Innovation Institut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70887-EC96-4984-A97E-6DEF7A796339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1-Nov-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31640" y="79560"/>
            <a:ext cx="7345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utura Md BT"/>
              </a:rPr>
              <a:t>Sinister or Fascinating</a:t>
            </a: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31640" y="1449000"/>
            <a:ext cx="82807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spcBef>
                <a:spcPts val="601"/>
              </a:spcBef>
              <a:buClr>
                <a:srgbClr val="00008a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Futura Md BT"/>
              </a:rPr>
              <a:t>Furby could be re-programmed by TV program/advert!</a:t>
            </a: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utura Md BT"/>
              </a:rPr>
              <a:t>Computing researchers “reverse engineered” protocol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utura Md BT"/>
              </a:rPr>
              <a:t>Now used to program furby for fun/home projects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utura Md BT"/>
              </a:rPr>
              <a:t>Only a step from there to lego mindstorms etc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marL="266760" indent="-266760">
              <a:spcBef>
                <a:spcPts val="601"/>
              </a:spcBef>
              <a:buClr>
                <a:srgbClr val="00008a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Futura Md BT"/>
              </a:rPr>
              <a:t>Note interface between everyday object and larger world</a:t>
            </a: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utura Md BT"/>
              </a:rPr>
              <a:t>Has enormous effect, not just technical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utura Md BT"/>
              </a:rPr>
              <a:t>Privacy, ethics, etc all suddenly important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marL="266760" indent="-266760">
              <a:spcBef>
                <a:spcPts val="601"/>
              </a:spcBef>
              <a:buClr>
                <a:srgbClr val="00008a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Futura Md BT"/>
              </a:rPr>
              <a:t>Note private interface didn’t last long</a:t>
            </a: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utura Md BT"/>
              </a:rPr>
              <a:t>Open community will be more creative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utura Md BT"/>
              </a:rPr>
              <a:t>Often leads to more profit (and fun) too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marL="266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tion to the Communications Innovation Institu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BC609-26E6-4F46-8AF0-BA919A56FA7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1-Nov-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31640" y="79560"/>
            <a:ext cx="7345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utura Md BT"/>
              </a:rPr>
              <a:t>Healthcare</a:t>
            </a: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2700360" y="1665360"/>
            <a:ext cx="3699000" cy="3170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tion to the Communications Innovation Institut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EEA18-06F2-4708-99B6-73135FB0124F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1-Nov-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31640" y="79560"/>
            <a:ext cx="7345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utura Md BT"/>
              </a:rPr>
              <a:t>Monitor (and control) of your health</a:t>
            </a: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31640" y="1449000"/>
            <a:ext cx="82807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spcBef>
                <a:spcPts val="601"/>
              </a:spcBef>
              <a:buClr>
                <a:srgbClr val="00008a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Futura Md BT"/>
              </a:rPr>
              <a:t>Pulse, blood sugar, skin conductivity</a:t>
            </a: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utura Md BT"/>
              </a:rPr>
              <a:t>Effectively a lie detector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utura Md BT"/>
              </a:rPr>
              <a:t>Also useful for “evidence based medicine”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utura Md BT"/>
              </a:rPr>
              <a:t>Privacy! But also informed consent to access (research)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marL="266760" indent="-266760">
              <a:spcBef>
                <a:spcPts val="601"/>
              </a:spcBef>
              <a:buClr>
                <a:srgbClr val="00008a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Futura Md BT"/>
              </a:rPr>
              <a:t>Consider control (intervention)</a:t>
            </a: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utura Md BT"/>
              </a:rPr>
              <a:t>E.g. de-fibrillator or insulin pump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utura Md BT"/>
              </a:rPr>
              <a:t>Strict access control!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utura Md BT"/>
              </a:rPr>
              <a:t>Safety (correct operation now life critical)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tion to the Communications Innovation Institu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FEB34-1757-4C8E-96DA-A947A629132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1-Nov-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31640" y="79560"/>
            <a:ext cx="7345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utura Md BT"/>
              </a:rPr>
              <a:t>Car</a:t>
            </a: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800360" y="1808280"/>
            <a:ext cx="5484600" cy="4113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tion to the Communications Innovation Institut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4162C-593C-4C77-B23C-762C05423B16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1-Nov-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31640" y="79560"/>
            <a:ext cx="7345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utura Md BT"/>
              </a:rPr>
              <a:t>In car navigation – a small step</a:t>
            </a: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31640" y="1449000"/>
            <a:ext cx="82807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601"/>
              </a:spcBef>
              <a:buClr>
                <a:srgbClr val="00008a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Md BT"/>
              </a:rPr>
              <a:t>Insurance might be cheaper if we choose safer routes</a:t>
            </a: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lnSpc>
                <a:spcPct val="90000"/>
              </a:lnSpc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Md BT"/>
              </a:rPr>
              <a:t>What if we also drive within speed limit?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lnSpc>
                <a:spcPct val="90000"/>
              </a:lnSpc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Md BT"/>
              </a:rPr>
              <a:t>What if the system forces us to stay within speed limit?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lnSpc>
                <a:spcPct val="90000"/>
              </a:lnSpc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Md BT"/>
              </a:rPr>
              <a:t>What if we rely on that, and it goes wrong?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marL="266760" indent="-266760">
              <a:lnSpc>
                <a:spcPct val="90000"/>
              </a:lnSpc>
              <a:spcBef>
                <a:spcPts val="601"/>
              </a:spcBef>
              <a:buClr>
                <a:srgbClr val="00008a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Md BT"/>
              </a:rPr>
              <a:t>Carrot and Stick – cheaper, faster driving, if we agree </a:t>
            </a: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lnSpc>
                <a:spcPct val="90000"/>
              </a:lnSpc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Md BT"/>
              </a:rPr>
              <a:t>What if we add in pollution charge?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lnSpc>
                <a:spcPct val="90000"/>
              </a:lnSpc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Md BT"/>
              </a:rPr>
              <a:t>What if charge is dynamic (based on car and today’s conditions)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lnSpc>
                <a:spcPct val="90000"/>
              </a:lnSpc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Md BT"/>
              </a:rPr>
              <a:t>However, price of journey might become surprising!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marL="266760" indent="-266760">
              <a:lnSpc>
                <a:spcPct val="90000"/>
              </a:lnSpc>
              <a:spcBef>
                <a:spcPts val="601"/>
              </a:spcBef>
              <a:buClr>
                <a:srgbClr val="00008a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Md BT"/>
              </a:rPr>
              <a:t>Now have technical and economic considerations +</a:t>
            </a: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lnSpc>
                <a:spcPct val="90000"/>
              </a:lnSpc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Md BT"/>
              </a:rPr>
              <a:t>Also still have privacy (where I am and when!)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marL="266760" indent="-266760">
              <a:lnSpc>
                <a:spcPct val="90000"/>
              </a:lnSpc>
              <a:spcBef>
                <a:spcPts val="601"/>
              </a:spcBef>
              <a:buClr>
                <a:srgbClr val="00008a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Md BT"/>
              </a:rPr>
              <a:t>Could we add controls based on radar ?</a:t>
            </a: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lnSpc>
                <a:spcPct val="90000"/>
              </a:lnSpc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Md BT"/>
              </a:rPr>
              <a:t>Pedestrian/cyclist avoidance!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lnSpc>
                <a:spcPct val="90000"/>
              </a:lnSpc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Md BT"/>
              </a:rPr>
              <a:t>How to make safe with only some cars fitted?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tion to the Communications Innovation Institu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A7C2D-EFCC-4AFE-9952-29B60779FF99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1-Nov-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31640" y="79560"/>
            <a:ext cx="7345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Futura Md BT"/>
              </a:rPr>
              <a:t>Never lost or forgotton?</a:t>
            </a: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3059280" y="1773360"/>
            <a:ext cx="2854080" cy="4376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tion to the Communications Innovation Institut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11FCD-9C8C-4E75-9E11-272516405A79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1-Nov-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8T10:14:09Z</dcterms:created>
  <dc:creator>has27</dc:creator>
  <dc:description/>
  <dc:language>en-US</dc:language>
  <cp:lastModifiedBy>Jon Crowcroft</cp:lastModifiedBy>
  <dcterms:modified xsi:type="dcterms:W3CDTF">2004-11-14T14:24:53Z</dcterms:modified>
  <cp:revision>50</cp:revision>
  <dc:subject/>
  <dc:title>PowerPoint Presentation</dc:title>
</cp:coreProperties>
</file>