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8DA83-C639-4FD2-9833-EB3C05C73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31640" y="79560"/>
            <a:ext cx="7345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31640" y="1449000"/>
            <a:ext cx="82807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31640" y="4082040"/>
            <a:ext cx="82807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0536B-F4A4-41A2-A414-B1623E183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31640" y="79560"/>
            <a:ext cx="7345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31640" y="1449000"/>
            <a:ext cx="40406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600" y="1449000"/>
            <a:ext cx="40406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31640" y="4082040"/>
            <a:ext cx="40406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600" y="4082040"/>
            <a:ext cx="40406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1D216-9E7E-4AD8-8C49-EF289B7E2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31640" y="79560"/>
            <a:ext cx="7345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31640" y="1449000"/>
            <a:ext cx="266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1360" y="1449000"/>
            <a:ext cx="266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31440" y="1449000"/>
            <a:ext cx="266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31640" y="4082040"/>
            <a:ext cx="266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1360" y="4082040"/>
            <a:ext cx="266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31440" y="4082040"/>
            <a:ext cx="266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9E760-5402-45B7-82B5-EC600E41E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31640" y="79560"/>
            <a:ext cx="7345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31640" y="1449000"/>
            <a:ext cx="828072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utura Md B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31640" y="79560"/>
            <a:ext cx="7345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31640" y="1449000"/>
            <a:ext cx="82807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31640" y="79560"/>
            <a:ext cx="7345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31640" y="1449000"/>
            <a:ext cx="40406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600" y="1449000"/>
            <a:ext cx="40406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31640" y="79560"/>
            <a:ext cx="7345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31640" y="79560"/>
            <a:ext cx="7345440" cy="24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utura Md B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31640" y="79560"/>
            <a:ext cx="7345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31640" y="1449000"/>
            <a:ext cx="40406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600" y="1449000"/>
            <a:ext cx="40406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31640" y="4082040"/>
            <a:ext cx="40406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31640" y="79560"/>
            <a:ext cx="7345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31640" y="1449000"/>
            <a:ext cx="828072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4BE3F-715E-442E-BD66-13A8C1466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31640" y="79560"/>
            <a:ext cx="7345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31640" y="1449000"/>
            <a:ext cx="40406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600" y="1449000"/>
            <a:ext cx="40406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600" y="4082040"/>
            <a:ext cx="40406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31640" y="79560"/>
            <a:ext cx="7345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31640" y="1449000"/>
            <a:ext cx="40406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600" y="1449000"/>
            <a:ext cx="40406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31640" y="4082040"/>
            <a:ext cx="82807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31640" y="79560"/>
            <a:ext cx="7345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31640" y="1449000"/>
            <a:ext cx="82807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1640" y="4082040"/>
            <a:ext cx="82807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31640" y="79560"/>
            <a:ext cx="7345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31640" y="1449000"/>
            <a:ext cx="40406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600" y="1449000"/>
            <a:ext cx="40406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31640" y="4082040"/>
            <a:ext cx="40406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600" y="4082040"/>
            <a:ext cx="40406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31640" y="79560"/>
            <a:ext cx="7345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31640" y="1449000"/>
            <a:ext cx="266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1360" y="1449000"/>
            <a:ext cx="266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31440" y="1449000"/>
            <a:ext cx="266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31640" y="4082040"/>
            <a:ext cx="266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1360" y="4082040"/>
            <a:ext cx="266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31440" y="4082040"/>
            <a:ext cx="266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31640" y="79560"/>
            <a:ext cx="7345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31640" y="1449000"/>
            <a:ext cx="82807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99E37-561C-4CEF-A40C-46643843B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31640" y="79560"/>
            <a:ext cx="7345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31640" y="1449000"/>
            <a:ext cx="40406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600" y="1449000"/>
            <a:ext cx="40406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0269D-062E-4D6D-874C-1880F38DB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31640" y="79560"/>
            <a:ext cx="7345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2FA6B-DE95-48AD-BF3C-41FE9CBBB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31640" y="79560"/>
            <a:ext cx="7345440" cy="24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B287C-7C2A-4C5B-855D-BA294C461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31640" y="79560"/>
            <a:ext cx="7345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31640" y="1449000"/>
            <a:ext cx="40406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600" y="1449000"/>
            <a:ext cx="40406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31640" y="4082040"/>
            <a:ext cx="40406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3B533-243A-4716-BFD2-423B817C4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31640" y="79560"/>
            <a:ext cx="7345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31640" y="1449000"/>
            <a:ext cx="40406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600" y="1449000"/>
            <a:ext cx="40406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600" y="4082040"/>
            <a:ext cx="40406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A3C83-8CA9-4C53-939D-14A62CC0A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31640" y="79560"/>
            <a:ext cx="7345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31640" y="1449000"/>
            <a:ext cx="40406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600" y="1449000"/>
            <a:ext cx="40406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31640" y="4082040"/>
            <a:ext cx="82807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B9F1E-285E-42CE-A608-F4E0FCD86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5478" r="0" b="68472"/>
          <a:stretch/>
        </p:blipFill>
        <p:spPr>
          <a:xfrm>
            <a:off x="0" y="0"/>
            <a:ext cx="9144000" cy="17892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31640" y="79560"/>
            <a:ext cx="7345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utura Md BT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31640" y="1449000"/>
            <a:ext cx="82807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spcBef>
                <a:spcPts val="601"/>
              </a:spcBef>
              <a:buClr>
                <a:srgbClr val="00008a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Md B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spcBef>
                <a:spcPts val="601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Md B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  <a:p>
            <a:pPr lvl="2" marL="987480" indent="-179280">
              <a:spcBef>
                <a:spcPts val="601"/>
              </a:spcBef>
              <a:buClr>
                <a:srgbClr val="00008a"/>
              </a:buClr>
              <a:buSzPct val="13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Md B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  <a:p>
            <a:pPr lvl="3" marL="1257480" indent="-90720">
              <a:spcBef>
                <a:spcPts val="601"/>
              </a:spcBef>
              <a:buClr>
                <a:srgbClr val="00008a"/>
              </a:buClr>
              <a:buFont typeface="Trebuchet MS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Md B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  <a:p>
            <a:pPr lvl="4" marL="1523880" indent="-87120">
              <a:spcBef>
                <a:spcPts val="601"/>
              </a:spcBef>
              <a:buClr>
                <a:srgbClr val="00008a"/>
              </a:buClr>
              <a:buFont typeface="Trebuchet MS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Md B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  <a:p>
            <a:pPr lvl="5" marL="1523880" indent="-87120">
              <a:spcBef>
                <a:spcPts val="601"/>
              </a:spcBef>
              <a:buClr>
                <a:srgbClr val="ffffcc"/>
              </a:buClr>
              <a:buFont typeface="Trebuchet MS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Md B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  <a:p>
            <a:pPr lvl="6" marL="1523880" indent="-87120">
              <a:spcBef>
                <a:spcPts val="601"/>
              </a:spcBef>
              <a:buClr>
                <a:srgbClr val="ffffcc"/>
              </a:buClr>
              <a:buFont typeface="Trebuchet MS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Md B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pic>
        <p:nvPicPr>
          <p:cNvPr id="3" name="" descr=""/>
          <p:cNvPicPr/>
          <p:nvPr/>
        </p:nvPicPr>
        <p:blipFill>
          <a:blip r:embed="rId3"/>
          <a:srcRect l="4108" t="5478" r="49299" b="73949"/>
          <a:stretch/>
        </p:blipFill>
        <p:spPr>
          <a:xfrm>
            <a:off x="7848720" y="81000"/>
            <a:ext cx="1238040" cy="409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12000" y="6597720"/>
            <a:ext cx="2340000" cy="2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800" spc="-1" strike="noStrike">
                <a:solidFill>
                  <a:srgbClr val="808080"/>
                </a:solidFill>
                <a:latin typeface="Futura Lt B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808080"/>
                </a:solidFill>
                <a:latin typeface="Futura Lt BT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431280" y="6597720"/>
            <a:ext cx="5580360" cy="2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800" spc="-1" strike="noStrike">
                <a:solidFill>
                  <a:srgbClr val="808080"/>
                </a:solidFill>
                <a:latin typeface="Futura Lt B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808080"/>
                </a:solidFill>
                <a:latin typeface="Futura Lt BT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51640" y="6597720"/>
            <a:ext cx="360360" cy="2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800" spc="-1" strike="noStrike">
                <a:solidFill>
                  <a:srgbClr val="808080"/>
                </a:solidFill>
                <a:latin typeface="Futura Lt B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808080"/>
                </a:solidFill>
                <a:latin typeface="Futura Lt BT"/>
              </a:rPr>
              <a:t>p. </a:t>
            </a:r>
            <a:fld id="{7C909F14-15CD-475A-8F5F-21182703555C}" type="slidenum">
              <a:rPr b="0" i="1" lang="en-US" sz="800" spc="-1" strike="noStrike">
                <a:solidFill>
                  <a:srgbClr val="808080"/>
                </a:solidFill>
                <a:latin typeface="Futura Lt BT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657240" y="3048120"/>
            <a:ext cx="5054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utura Md BT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45" name=""/>
          <p:cNvSpPr/>
          <p:nvPr/>
        </p:nvSpPr>
        <p:spPr>
          <a:xfrm>
            <a:off x="431640" y="6597720"/>
            <a:ext cx="414036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© 2004 The Communications Innovation Institute.  All rights reserved.</a:t>
            </a: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utura Md BT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utura Md BT"/>
            </a:endParaRPr>
          </a:p>
          <a:p>
            <a:pPr lvl="1" marL="44604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Md B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lvl="2" marL="808200" algn="ctr">
              <a:spcBef>
                <a:spcPts val="400"/>
              </a:spcBef>
              <a:buClr>
                <a:srgbClr val="00008a"/>
              </a:buClr>
              <a:buSzPct val="135000"/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utura Md BT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Futura Md BT"/>
            </a:endParaRPr>
          </a:p>
          <a:p>
            <a:pPr lvl="3" marL="1166760" algn="ctr">
              <a:spcBef>
                <a:spcPts val="349"/>
              </a:spcBef>
              <a:buClr>
                <a:srgbClr val="00008a"/>
              </a:buClr>
              <a:buFont typeface="Trebuchet MS"/>
              <a:buChar char="◦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utura Md BT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Futura Md BT"/>
            </a:endParaRPr>
          </a:p>
          <a:p>
            <a:pPr lvl="4" marL="1436760" algn="ctr">
              <a:spcBef>
                <a:spcPts val="300"/>
              </a:spcBef>
              <a:buClr>
                <a:srgbClr val="00008a"/>
              </a:buClr>
              <a:buFont typeface="Trebuchet MS"/>
              <a:buChar char="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utura Md BT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Futura Md BT"/>
            </a:endParaRPr>
          </a:p>
          <a:p>
            <a:pPr lvl="5" marL="1436760">
              <a:spcBef>
                <a:spcPts val="300"/>
              </a:spcBef>
              <a:buClr>
                <a:srgbClr val="ffffcc"/>
              </a:buClr>
              <a:buFont typeface="Trebuchet MS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utura Md BT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Futura Md BT"/>
            </a:endParaRPr>
          </a:p>
          <a:p>
            <a:pPr lvl="6" marL="1436760">
              <a:spcBef>
                <a:spcPts val="300"/>
              </a:spcBef>
              <a:buClr>
                <a:srgbClr val="ffffcc"/>
              </a:buClr>
              <a:buFont typeface="Trebuchet MS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utura Md BT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Futura Md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657240" y="3048120"/>
            <a:ext cx="5054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Futura Md BT"/>
              </a:rPr>
              <a:t>Ubiquity, Pervasiveness, Ambience and Invisible Computing </a:t>
            </a:r>
            <a:endParaRPr b="1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3671640" y="5562360"/>
            <a:ext cx="50403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utura Md BT"/>
              </a:rPr>
              <a:t>Jon Crowcroft,</a:t>
            </a:r>
            <a:endParaRPr b="1" lang="en-US" sz="1600" spc="-1" strike="noStrike">
              <a:solidFill>
                <a:srgbClr val="000000"/>
              </a:solidFill>
              <a:latin typeface="Futura Md BT"/>
            </a:endParaRPr>
          </a:p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utura Md BT"/>
              </a:rPr>
              <a:t>The Computer Laboratory</a:t>
            </a:r>
            <a:endParaRPr b="1" lang="en-US" sz="1600" spc="-1" strike="noStrike">
              <a:solidFill>
                <a:srgbClr val="000000"/>
              </a:solidFill>
              <a:latin typeface="Futura Md BT"/>
            </a:endParaRPr>
          </a:p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utura Md BT"/>
              </a:rPr>
              <a:t>University of Cambridge</a:t>
            </a:r>
            <a:endParaRPr b="1" lang="en-US" sz="1600" spc="-1" strike="noStrike">
              <a:solidFill>
                <a:srgbClr val="000000"/>
              </a:solidFill>
              <a:latin typeface="Futura Md BT"/>
            </a:endParaRPr>
          </a:p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utura Md BT"/>
              </a:rPr>
              <a:t>Jon.crowcroft@cl.cam.ac.uk</a:t>
            </a:r>
            <a:endParaRPr b="1" lang="en-US" sz="1600" spc="-1" strike="noStrike">
              <a:solidFill>
                <a:srgbClr val="000000"/>
              </a:solidFill>
              <a:latin typeface="Futura Md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31640" y="79560"/>
            <a:ext cx="7345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utura Md BT"/>
              </a:rPr>
              <a:t>Many people are disabled – can help!</a:t>
            </a: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31640" y="1449000"/>
            <a:ext cx="82807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spcBef>
                <a:spcPts val="601"/>
              </a:spcBef>
              <a:buClr>
                <a:srgbClr val="00008a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Futura Md BT"/>
              </a:rPr>
              <a:t>Many disabilities, not just loss of memory</a:t>
            </a: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utura Md BT"/>
              </a:rPr>
              <a:t>Same tricks we use on road can work in life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utura Md BT"/>
              </a:rPr>
              <a:t>Already have started to record much digitially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utura Md BT"/>
              </a:rPr>
              <a:t>Location/Video/Audio from camera phones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marL="266760" indent="-266760">
              <a:spcBef>
                <a:spcPts val="601"/>
              </a:spcBef>
              <a:buClr>
                <a:srgbClr val="00008a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Futura Md BT"/>
              </a:rPr>
              <a:t>Automatic Aide Memoire/Amanuensis</a:t>
            </a: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utura Md BT"/>
              </a:rPr>
              <a:t>Needs to be smart:- 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utura Md BT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Futura Md BT"/>
              </a:rPr>
              <a:t>Just helping” remind can do more harm than good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utura Md BT"/>
              </a:rPr>
              <a:t>Hint/suggest/retrain memory continuously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marL="266760" indent="-266760">
              <a:spcBef>
                <a:spcPts val="601"/>
              </a:spcBef>
              <a:buClr>
                <a:srgbClr val="00008a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Futura Md BT"/>
              </a:rPr>
              <a:t>Similar technology for partial sight, hearing, physical disability</a:t>
            </a: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utura Md BT"/>
              </a:rPr>
              <a:t>Combined with cybernetic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utura Md BT"/>
              </a:rPr>
              <a:t>Seeing eye robot dog?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tion to the Communications Innovation Institu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6A27B-FC86-43D7-B541-98D0EC78056C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1-Nov-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31640" y="79560"/>
            <a:ext cx="7345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utura Md BT"/>
              </a:rPr>
              <a:t>Environmental Monitoring</a:t>
            </a: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448000" y="1773360"/>
            <a:ext cx="4570200" cy="4570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tion to the Communications Innovation Institut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D83C2-7C91-4676-8FE6-4FBAF7E842B7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1-Nov-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31640" y="-347040"/>
            <a:ext cx="734544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utura Md BT"/>
              </a:rPr>
              <a:t>Building, City, World monitoring/Control</a:t>
            </a: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31640" y="1449000"/>
            <a:ext cx="82807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spcBef>
                <a:spcPts val="601"/>
              </a:spcBef>
              <a:buClr>
                <a:srgbClr val="00008a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Futura Md BT"/>
              </a:rPr>
              <a:t>Already have projects to sense whole earth</a:t>
            </a: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  <a:p>
            <a:pPr marL="266760" indent="-266760">
              <a:spcBef>
                <a:spcPts val="601"/>
              </a:spcBef>
              <a:buClr>
                <a:srgbClr val="00008a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Futura Md BT"/>
              </a:rPr>
              <a:t>Huge scale of problem:</a:t>
            </a: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utura Md BT"/>
              </a:rPr>
              <a:t>Amount of data, and physical models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utura Md BT"/>
              </a:rPr>
              <a:t>Deployment of sensors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marL="266760" indent="-266760">
              <a:spcBef>
                <a:spcPts val="601"/>
              </a:spcBef>
              <a:buClr>
                <a:srgbClr val="00008a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Futura Md BT"/>
              </a:rPr>
              <a:t>What to do with it? </a:t>
            </a: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utura Md BT"/>
              </a:rPr>
              <a:t>Controls – e.g. 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utura Md BT"/>
              </a:rPr>
              <a:t>where to generate power when?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utura Md BT"/>
              </a:rPr>
              <a:t>What to charge for carbon tax?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Md BT"/>
              </a:rPr>
              <a:t>When to change weather!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marL="266760" indent="-266760">
              <a:spcBef>
                <a:spcPts val="601"/>
              </a:spcBef>
              <a:buClr>
                <a:srgbClr val="00008a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Md BT"/>
              </a:rPr>
              <a:t>Again, political, ethical, technical mix of problems</a:t>
            </a: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tion to the Communications Innovation Institu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7F560-FF03-4621-94D9-0808129564A2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1-Nov-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31640" y="79560"/>
            <a:ext cx="7345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utura Md BT"/>
              </a:rPr>
              <a:t>Computing </a:t>
            </a: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1640" y="1449000"/>
            <a:ext cx="82807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61360" indent="-261360">
              <a:spcBef>
                <a:spcPts val="499"/>
              </a:spcBef>
              <a:buClr>
                <a:srgbClr val="00008a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utura Md BT"/>
              </a:rPr>
              <a:t>Dependable 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lvl="1" marL="615960" indent="-178560">
              <a:spcBef>
                <a:spcPts val="451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utura Md BT"/>
              </a:rPr>
              <a:t>Provable Programs</a:t>
            </a:r>
            <a:endParaRPr b="0" lang="en-US" sz="1800" spc="-1" strike="noStrike">
              <a:solidFill>
                <a:srgbClr val="000000"/>
              </a:solidFill>
              <a:latin typeface="Futura Md BT"/>
            </a:endParaRPr>
          </a:p>
          <a:p>
            <a:pPr lvl="1" marL="615960" indent="-178560">
              <a:spcBef>
                <a:spcPts val="451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utura Md BT"/>
              </a:rPr>
              <a:t>Properties like correctness, timeliness, scale/cost</a:t>
            </a:r>
            <a:endParaRPr b="0" lang="en-US" sz="1800" spc="-1" strike="noStrike">
              <a:solidFill>
                <a:srgbClr val="000000"/>
              </a:solidFill>
              <a:latin typeface="Futura Md BT"/>
            </a:endParaRPr>
          </a:p>
          <a:p>
            <a:pPr lvl="1" marL="615960" indent="-178560">
              <a:spcBef>
                <a:spcPts val="451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utura Md BT"/>
              </a:rPr>
              <a:t>Very very big systems, so automate proofs</a:t>
            </a:r>
            <a:endParaRPr b="0" lang="en-US" sz="1800" spc="-1" strike="noStrike">
              <a:solidFill>
                <a:srgbClr val="000000"/>
              </a:solidFill>
              <a:latin typeface="Futura Md BT"/>
            </a:endParaRPr>
          </a:p>
          <a:p>
            <a:pPr lvl="1" marL="615960" indent="-178560">
              <a:spcBef>
                <a:spcPts val="451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utura Md BT"/>
              </a:rPr>
              <a:t>May not be conventional math proofs – more statistical</a:t>
            </a:r>
            <a:endParaRPr b="0" lang="en-US" sz="1800" spc="-1" strike="noStrike">
              <a:solidFill>
                <a:srgbClr val="000000"/>
              </a:solidFill>
              <a:latin typeface="Futura Md BT"/>
            </a:endParaRPr>
          </a:p>
          <a:p>
            <a:pPr lvl="1" marL="615960" indent="-178560">
              <a:spcBef>
                <a:spcPts val="451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utura Md BT"/>
              </a:rPr>
              <a:t>Like biological systems</a:t>
            </a:r>
            <a:endParaRPr b="0" lang="en-US" sz="1800" spc="-1" strike="noStrike">
              <a:solidFill>
                <a:srgbClr val="000000"/>
              </a:solidFill>
              <a:latin typeface="Futura Md BT"/>
            </a:endParaRPr>
          </a:p>
          <a:p>
            <a:pPr marL="261360" indent="-261360">
              <a:spcBef>
                <a:spcPts val="499"/>
              </a:spcBef>
              <a:buClr>
                <a:srgbClr val="00008a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utura Md BT"/>
              </a:rPr>
              <a:t>Extensible 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lvl="1" marL="615960" indent="-178560">
              <a:spcBef>
                <a:spcPts val="451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utura Md BT"/>
              </a:rPr>
              <a:t>New Programming Languages</a:t>
            </a:r>
            <a:endParaRPr b="0" lang="en-US" sz="1800" spc="-1" strike="noStrike">
              <a:solidFill>
                <a:srgbClr val="000000"/>
              </a:solidFill>
              <a:latin typeface="Futura Md BT"/>
            </a:endParaRPr>
          </a:p>
          <a:p>
            <a:pPr lvl="1" marL="615960" indent="-178560">
              <a:spcBef>
                <a:spcPts val="451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utura Md BT"/>
              </a:rPr>
              <a:t>Combine huge numbers of very small components (pebbles)</a:t>
            </a:r>
            <a:endParaRPr b="0" lang="en-US" sz="1800" spc="-1" strike="noStrike">
              <a:solidFill>
                <a:srgbClr val="000000"/>
              </a:solidFill>
              <a:latin typeface="Futura Md BT"/>
            </a:endParaRPr>
          </a:p>
          <a:p>
            <a:pPr lvl="1" marL="615960" indent="-178560">
              <a:spcBef>
                <a:spcPts val="451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utura Md BT"/>
              </a:rPr>
              <a:t>Script behaviour, and check (programming is debugging!)</a:t>
            </a:r>
            <a:endParaRPr b="0" lang="en-US" sz="1800" spc="-1" strike="noStrike">
              <a:solidFill>
                <a:srgbClr val="000000"/>
              </a:solidFill>
              <a:latin typeface="Futura Md BT"/>
            </a:endParaRPr>
          </a:p>
          <a:p>
            <a:pPr marL="261360" indent="-261360">
              <a:spcBef>
                <a:spcPts val="499"/>
              </a:spcBef>
              <a:buClr>
                <a:srgbClr val="00008a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utura Md BT"/>
              </a:rPr>
              <a:t>Usable 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lvl="1" marL="615960" indent="-178560">
              <a:spcBef>
                <a:spcPts val="451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utura Md BT"/>
              </a:rPr>
              <a:t>Human Computer Interaction</a:t>
            </a:r>
            <a:endParaRPr b="0" lang="en-US" sz="1800" spc="-1" strike="noStrike">
              <a:solidFill>
                <a:srgbClr val="000000"/>
              </a:solidFill>
              <a:latin typeface="Futura Md BT"/>
            </a:endParaRPr>
          </a:p>
          <a:p>
            <a:pPr lvl="1" marL="615960" indent="-178560">
              <a:spcBef>
                <a:spcPts val="451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utura Md BT"/>
              </a:rPr>
              <a:t>Not like VCRs, DVDs, Digital Set Top Boxes</a:t>
            </a:r>
            <a:endParaRPr b="0" lang="en-US" sz="1800" spc="-1" strike="noStrike">
              <a:solidFill>
                <a:srgbClr val="000000"/>
              </a:solidFill>
              <a:latin typeface="Futura Md BT"/>
            </a:endParaRPr>
          </a:p>
          <a:p>
            <a:pPr lvl="1" marL="615960" indent="-178560">
              <a:spcBef>
                <a:spcPts val="451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utura Md BT"/>
              </a:rPr>
              <a:t>Yes like digital cameras, cell phones, engine management sys</a:t>
            </a:r>
            <a:endParaRPr b="0" lang="en-US" sz="1800" spc="-1" strike="noStrike">
              <a:solidFill>
                <a:srgbClr val="000000"/>
              </a:solidFill>
              <a:latin typeface="Futura Md BT"/>
            </a:endParaRPr>
          </a:p>
          <a:p>
            <a:pPr lvl="1" marL="615960" indent="-178560">
              <a:spcBef>
                <a:spcPts val="451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utura Md BT"/>
              </a:rPr>
              <a:t>But all joined up!</a:t>
            </a:r>
            <a:endParaRPr b="0" lang="en-US" sz="18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tion to the Communications Innovation Institu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38010-891D-4B7C-918D-66D2DB0CE1BD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1-Nov-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31640" y="79560"/>
            <a:ext cx="7345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utura Md BT"/>
              </a:rPr>
              <a:t>More simply</a:t>
            </a: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31640" y="1449000"/>
            <a:ext cx="82807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58480" indent="-258480">
              <a:spcBef>
                <a:spcPts val="601"/>
              </a:spcBef>
              <a:buClr>
                <a:srgbClr val="00008a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Futura Md BT"/>
              </a:rPr>
              <a:t>Time and Location part of all programs</a:t>
            </a: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  <a:p>
            <a:pPr marL="258480" indent="-258480">
              <a:spcBef>
                <a:spcPts val="601"/>
              </a:spcBef>
              <a:buClr>
                <a:srgbClr val="00008a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Futura Md BT"/>
              </a:rPr>
              <a:t>Ownership and Rights part of all data in and out</a:t>
            </a: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  <a:p>
            <a:pPr marL="258480" indent="-258480">
              <a:spcBef>
                <a:spcPts val="601"/>
              </a:spcBef>
              <a:buClr>
                <a:srgbClr val="00008a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Futura Md BT"/>
              </a:rPr>
              <a:t>Risk of failure of component and system must be known</a:t>
            </a: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  <a:p>
            <a:pPr marL="258480" indent="-258480">
              <a:spcBef>
                <a:spcPts val="601"/>
              </a:spcBef>
              <a:buClr>
                <a:srgbClr val="00008a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Futura Md BT"/>
              </a:rPr>
              <a:t>Java and Basic not good enough</a:t>
            </a: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  <a:p>
            <a:pPr marL="258480" indent="-258480">
              <a:spcBef>
                <a:spcPts val="601"/>
              </a:spcBef>
              <a:buClr>
                <a:srgbClr val="00008a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Futura Md BT"/>
              </a:rPr>
              <a:t>Internet too slow and no use on wireless</a:t>
            </a: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  <a:p>
            <a:pPr marL="258480" indent="-258480">
              <a:spcBef>
                <a:spcPts val="601"/>
              </a:spcBef>
              <a:buClr>
                <a:srgbClr val="00008a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Futura Md BT"/>
              </a:rPr>
              <a:t>Pentiums use too much power</a:t>
            </a: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  <a:p>
            <a:pPr marL="258480" indent="-258480">
              <a:spcBef>
                <a:spcPts val="601"/>
              </a:spcBef>
              <a:buClr>
                <a:srgbClr val="00008a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Futura Md BT"/>
              </a:rPr>
              <a:t>Windows needs too much memory, cpu and disk storage</a:t>
            </a: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  <a:p>
            <a:pPr marL="258480" indent="-258480">
              <a:spcBef>
                <a:spcPts val="601"/>
              </a:spcBef>
              <a:buClr>
                <a:srgbClr val="00008a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Futura Md BT"/>
              </a:rPr>
              <a:t>All these take too long to learn</a:t>
            </a: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  <a:p>
            <a:pPr marL="258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  <a:p>
            <a:pPr marL="258480" indent="-258480">
              <a:spcBef>
                <a:spcPts val="601"/>
              </a:spcBef>
              <a:buClr>
                <a:srgbClr val="00008a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Futura Md BT"/>
              </a:rPr>
              <a:t>Do you know where to even </a:t>
            </a:r>
            <a:r>
              <a:rPr b="0" i="1" lang="en-GB" sz="2400" spc="-1" strike="noStrike">
                <a:solidFill>
                  <a:srgbClr val="000000"/>
                </a:solidFill>
                <a:latin typeface="Futura Md BT"/>
              </a:rPr>
              <a:t>start</a:t>
            </a:r>
            <a:r>
              <a:rPr b="0" lang="en-GB" sz="2400" spc="-1" strike="noStrike">
                <a:solidFill>
                  <a:srgbClr val="000000"/>
                </a:solidFill>
                <a:latin typeface="Futura Md BT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  <a:p>
            <a:pPr marL="258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tion to the Communications Innovation Institu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55F83-DFAC-4524-90D9-3690734E05CB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1-Nov-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31640" y="79560"/>
            <a:ext cx="7345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utura Md BT"/>
              </a:rPr>
              <a:t>Interlocking concerns</a:t>
            </a: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31640" y="1449000"/>
            <a:ext cx="82807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spcBef>
                <a:spcPts val="601"/>
              </a:spcBef>
              <a:buClr>
                <a:srgbClr val="00008a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Md BT"/>
              </a:rPr>
              <a:t>Economic, regulatory and technical concerns interact</a:t>
            </a: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Md BT"/>
              </a:rPr>
              <a:t>Every day objects now part of cyberspace </a:t>
            </a:r>
            <a:r>
              <a:rPr b="0" i="1" lang="en-US" sz="2000" spc="-1" strike="noStrike">
                <a:solidFill>
                  <a:srgbClr val="000000"/>
                </a:solidFill>
                <a:latin typeface="Futura Md BT"/>
              </a:rPr>
              <a:t>(mixed reality</a:t>
            </a:r>
            <a:r>
              <a:rPr b="0" lang="en-US" sz="2000" spc="-1" strike="noStrike">
                <a:solidFill>
                  <a:srgbClr val="000000"/>
                </a:solidFill>
                <a:latin typeface="Futura Md BT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marL="266760" indent="-266760">
              <a:spcBef>
                <a:spcPts val="601"/>
              </a:spcBef>
              <a:buClr>
                <a:srgbClr val="00008a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Md BT"/>
              </a:rPr>
              <a:t>Note embedded systems do not use </a:t>
            </a:r>
            <a:r>
              <a:rPr b="1" lang="en-US" sz="2400" spc="-1" strike="noStrike">
                <a:solidFill>
                  <a:srgbClr val="000000"/>
                </a:solidFill>
                <a:latin typeface="Futura Md BT"/>
              </a:rPr>
              <a:t>Intel</a:t>
            </a:r>
            <a:r>
              <a:rPr b="0" lang="en-US" sz="2400" spc="-1" strike="noStrike">
                <a:solidFill>
                  <a:srgbClr val="000000"/>
                </a:solidFill>
                <a:latin typeface="Futura Md BT"/>
              </a:rPr>
              <a:t> x86 processors, </a:t>
            </a:r>
            <a:r>
              <a:rPr b="1" lang="en-US" sz="2400" spc="-1" strike="noStrike">
                <a:solidFill>
                  <a:srgbClr val="000000"/>
                </a:solidFill>
                <a:latin typeface="Futura Md BT"/>
              </a:rPr>
              <a:t>Microsoft’s</a:t>
            </a:r>
            <a:r>
              <a:rPr b="0" lang="en-US" sz="2400" spc="-1" strike="noStrike">
                <a:solidFill>
                  <a:srgbClr val="000000"/>
                </a:solidFill>
                <a:latin typeface="Futura Md BT"/>
              </a:rPr>
              <a:t> Windows Operating System, or </a:t>
            </a:r>
            <a:r>
              <a:rPr b="1" lang="en-US" sz="2400" spc="-1" strike="noStrike">
                <a:solidFill>
                  <a:srgbClr val="000000"/>
                </a:solidFill>
                <a:latin typeface="Futura Md BT"/>
              </a:rPr>
              <a:t>Cisco</a:t>
            </a:r>
            <a:r>
              <a:rPr b="0" lang="en-US" sz="2400" spc="-1" strike="noStrike">
                <a:solidFill>
                  <a:srgbClr val="000000"/>
                </a:solidFill>
                <a:latin typeface="Futura Md BT"/>
              </a:rPr>
              <a:t> routers and WWW/Internet to communicate.</a:t>
            </a: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Md BT"/>
              </a:rPr>
              <a:t>They are all currently “</a:t>
            </a:r>
            <a:r>
              <a:rPr b="0" i="1" lang="en-US" sz="2000" spc="-1" strike="noStrike">
                <a:solidFill>
                  <a:srgbClr val="000000"/>
                </a:solidFill>
                <a:latin typeface="Futura Md BT"/>
              </a:rPr>
              <a:t>proprietary</a:t>
            </a:r>
            <a:r>
              <a:rPr b="0" lang="en-US" sz="2000" spc="-1" strike="noStrike">
                <a:solidFill>
                  <a:srgbClr val="000000"/>
                </a:solidFill>
                <a:latin typeface="Futura Md BT"/>
              </a:rPr>
              <a:t>” for lots of good technical reasons.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Md BT"/>
              </a:rPr>
              <a:t>Some are made right here in the UK (ARM processor, </a:t>
            </a:r>
            <a:r>
              <a:rPr b="1" lang="en-US" sz="2000" spc="-1" strike="noStrike">
                <a:solidFill>
                  <a:srgbClr val="000000"/>
                </a:solidFill>
                <a:latin typeface="Futura Md BT"/>
              </a:rPr>
              <a:t>Symbian</a:t>
            </a:r>
            <a:r>
              <a:rPr b="0" lang="en-US" sz="2000" spc="-1" strike="noStrike">
                <a:solidFill>
                  <a:srgbClr val="000000"/>
                </a:solidFill>
                <a:latin typeface="Futura Md BT"/>
              </a:rPr>
              <a:t> OS for example most common in PDAs and Handsets!)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marL="266760" indent="-266760">
              <a:spcBef>
                <a:spcPts val="601"/>
              </a:spcBef>
              <a:buClr>
                <a:srgbClr val="00008a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Md BT"/>
              </a:rPr>
              <a:t>So plenty of interesting work for the next 40 years!</a:t>
            </a: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tion to the Communications Innovation Institu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F59C7-9C6D-4945-B21F-970467577859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1-Nov-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31640" y="79560"/>
            <a:ext cx="7345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utura Md BT"/>
              </a:rPr>
              <a:t>What if all you touch is programmable?</a:t>
            </a: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31640" y="1449000"/>
            <a:ext cx="82807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spcBef>
                <a:spcPts val="601"/>
              </a:spcBef>
              <a:buClr>
                <a:srgbClr val="00008a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Futura Md BT"/>
              </a:rPr>
              <a:t>Computers are so cheap &amp; useful we put ‘em everywhere</a:t>
            </a: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utura Md BT"/>
              </a:rPr>
              <a:t>Inside toys, inside cars, inside ourselves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utura Md BT"/>
              </a:rPr>
              <a:t>In the environment, sea, atmosphere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utura Md BT"/>
              </a:rPr>
              <a:t>In the walls of our houses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marL="266760" indent="-266760">
              <a:spcBef>
                <a:spcPts val="601"/>
              </a:spcBef>
              <a:buClr>
                <a:srgbClr val="00008a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Futura Md BT"/>
              </a:rPr>
              <a:t>Slowly, these devices are also being linked up</a:t>
            </a: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utura Md BT"/>
              </a:rPr>
              <a:t>Wireless networks (cell phone, 3G, WiFi, Bluetooth)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utura Md BT"/>
              </a:rPr>
              <a:t>Ubiquitous Internet access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marL="266760" indent="-266760">
              <a:spcBef>
                <a:spcPts val="601"/>
              </a:spcBef>
              <a:buClr>
                <a:srgbClr val="00008a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Futura Md BT"/>
              </a:rPr>
              <a:t>Previously they were “hardwired”, now programmable</a:t>
            </a: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utura Md BT"/>
              </a:rPr>
              <a:t>Cell phone, PDA, Sky Box (Tivo), Car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utura Md BT"/>
              </a:rPr>
              <a:t>Soon, toys, healthcare, building, city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tion to the Communications Innovation Institu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BE9D1-CF9F-433E-8E61-5FE7DC721D26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1-Nov-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31640" y="79560"/>
            <a:ext cx="7345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utura Md BT"/>
              </a:rPr>
              <a:t>Toys or Cybernetics </a:t>
            </a: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2376360" y="1052640"/>
            <a:ext cx="4765680" cy="5375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tion to the Communications Innovation Institut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72F0B-C41C-4C3D-BC44-8AB6D011DF66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1-Nov-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31640" y="79560"/>
            <a:ext cx="7345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utura Md BT"/>
              </a:rPr>
              <a:t>Sinister or Fascinating</a:t>
            </a: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31640" y="1449000"/>
            <a:ext cx="82807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spcBef>
                <a:spcPts val="601"/>
              </a:spcBef>
              <a:buClr>
                <a:srgbClr val="00008a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Futura Md BT"/>
              </a:rPr>
              <a:t>Furby could be re-programmed by TV program/advert!</a:t>
            </a: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utura Md BT"/>
              </a:rPr>
              <a:t>Computing researchers “reverse engineered” protocol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utura Md BT"/>
              </a:rPr>
              <a:t>Now used to program furby for fun/home projects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utura Md BT"/>
              </a:rPr>
              <a:t>Only a step from there to lego mindstorms etc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marL="266760" indent="-266760">
              <a:spcBef>
                <a:spcPts val="601"/>
              </a:spcBef>
              <a:buClr>
                <a:srgbClr val="00008a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Futura Md BT"/>
              </a:rPr>
              <a:t>Note interface between everyday object and larger world</a:t>
            </a: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utura Md BT"/>
              </a:rPr>
              <a:t>Has enormous effect, not just technical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utura Md BT"/>
              </a:rPr>
              <a:t>Privacy, ethics, etc all suddenly important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marL="266760" indent="-266760">
              <a:spcBef>
                <a:spcPts val="601"/>
              </a:spcBef>
              <a:buClr>
                <a:srgbClr val="00008a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Futura Md BT"/>
              </a:rPr>
              <a:t>Note private interface didn’t last long</a:t>
            </a: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utura Md BT"/>
              </a:rPr>
              <a:t>Open community will be more creative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utura Md BT"/>
              </a:rPr>
              <a:t>Often leads to more profit (and fun) too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marL="266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tion to the Communications Innovation Institu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1DFF3-4876-455B-9AFD-5B939222A5B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1-Nov-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31640" y="79560"/>
            <a:ext cx="7345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utura Md BT"/>
              </a:rPr>
              <a:t>Healthcare</a:t>
            </a: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2700360" y="1665360"/>
            <a:ext cx="3699000" cy="3170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tion to the Communications Innovation Institut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7F491-045C-4871-AD8C-C668DF6573FA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1-Nov-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31640" y="79560"/>
            <a:ext cx="7345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utura Md BT"/>
              </a:rPr>
              <a:t>Monitor (and control) of your health</a:t>
            </a: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31640" y="1449000"/>
            <a:ext cx="82807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spcBef>
                <a:spcPts val="601"/>
              </a:spcBef>
              <a:buClr>
                <a:srgbClr val="00008a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Futura Md BT"/>
              </a:rPr>
              <a:t>Pulse, blood sugar, skin conductivity</a:t>
            </a: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utura Md BT"/>
              </a:rPr>
              <a:t>Effectively a lie detector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utura Md BT"/>
              </a:rPr>
              <a:t>Also useful for “evidence based medicine”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utura Md BT"/>
              </a:rPr>
              <a:t>Privacy! But also informed consent to access (research)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marL="266760" indent="-266760">
              <a:spcBef>
                <a:spcPts val="601"/>
              </a:spcBef>
              <a:buClr>
                <a:srgbClr val="00008a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Futura Md BT"/>
              </a:rPr>
              <a:t>Consider control (intervention)</a:t>
            </a: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utura Md BT"/>
              </a:rPr>
              <a:t>E.g. de-fibrillator or insulin pump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utura Md BT"/>
              </a:rPr>
              <a:t>Strict access control!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utura Md BT"/>
              </a:rPr>
              <a:t>Safety (correct operation now life critical)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tion to the Communications Innovation Institu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27C1C-49F3-43AA-9786-CC967ACB58A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1-Nov-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31640" y="79560"/>
            <a:ext cx="7345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utura Md BT"/>
              </a:rPr>
              <a:t>Car</a:t>
            </a: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800360" y="1808280"/>
            <a:ext cx="5484600" cy="4113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tion to the Communications Innovation Institut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57B8F-3115-4968-BAE0-808BB8DB7045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1-Nov-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31640" y="79560"/>
            <a:ext cx="7345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utura Md BT"/>
              </a:rPr>
              <a:t>In car navigation – a small step</a:t>
            </a: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31640" y="1449000"/>
            <a:ext cx="82807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601"/>
              </a:spcBef>
              <a:buClr>
                <a:srgbClr val="00008a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Md BT"/>
              </a:rPr>
              <a:t>Insurance might be cheaper if we choose safer routes</a:t>
            </a: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lnSpc>
                <a:spcPct val="90000"/>
              </a:lnSpc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Md BT"/>
              </a:rPr>
              <a:t>What if we also drive within speed limit?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lnSpc>
                <a:spcPct val="90000"/>
              </a:lnSpc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Md BT"/>
              </a:rPr>
              <a:t>What if the system forces us to stay within speed limit?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lnSpc>
                <a:spcPct val="90000"/>
              </a:lnSpc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Md BT"/>
              </a:rPr>
              <a:t>What if we rely on that, and it goes wrong?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marL="266760" indent="-266760">
              <a:lnSpc>
                <a:spcPct val="90000"/>
              </a:lnSpc>
              <a:spcBef>
                <a:spcPts val="601"/>
              </a:spcBef>
              <a:buClr>
                <a:srgbClr val="00008a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Md BT"/>
              </a:rPr>
              <a:t>Carrot and Stick – cheaper, faster driving, if we agree </a:t>
            </a: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lnSpc>
                <a:spcPct val="90000"/>
              </a:lnSpc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Md BT"/>
              </a:rPr>
              <a:t>What if we add in pollution charge?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lnSpc>
                <a:spcPct val="90000"/>
              </a:lnSpc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Md BT"/>
              </a:rPr>
              <a:t>What if charge is dynamic (based on car and today’s conditions)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lnSpc>
                <a:spcPct val="90000"/>
              </a:lnSpc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Md BT"/>
              </a:rPr>
              <a:t>However, price of journey might become surprising!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marL="266760" indent="-266760">
              <a:lnSpc>
                <a:spcPct val="90000"/>
              </a:lnSpc>
              <a:spcBef>
                <a:spcPts val="601"/>
              </a:spcBef>
              <a:buClr>
                <a:srgbClr val="00008a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Md BT"/>
              </a:rPr>
              <a:t>Now have technical and economic considerations +</a:t>
            </a: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lnSpc>
                <a:spcPct val="90000"/>
              </a:lnSpc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Md BT"/>
              </a:rPr>
              <a:t>Also still have privacy (where I am and when!)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marL="266760" indent="-266760">
              <a:lnSpc>
                <a:spcPct val="90000"/>
              </a:lnSpc>
              <a:spcBef>
                <a:spcPts val="601"/>
              </a:spcBef>
              <a:buClr>
                <a:srgbClr val="00008a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Md BT"/>
              </a:rPr>
              <a:t>Could we add controls based on radar ?</a:t>
            </a: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lnSpc>
                <a:spcPct val="90000"/>
              </a:lnSpc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Md BT"/>
              </a:rPr>
              <a:t>Pedestrian/cyclist avoidance!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lnSpc>
                <a:spcPct val="90000"/>
              </a:lnSpc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Md BT"/>
              </a:rPr>
              <a:t>How to make safe with only some cars fitted?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tion to the Communications Innovation Institu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14B6E-801C-4BA9-878A-8A4505CB632C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1-Nov-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31640" y="79560"/>
            <a:ext cx="7345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Futura Md BT"/>
              </a:rPr>
              <a:t>Never lost or forgotton?</a:t>
            </a: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3059280" y="1773360"/>
            <a:ext cx="2854080" cy="4376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tion to the Communications Innovation Institut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1AF5C-01E6-4369-A6E2-9E6C6A055E32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1-Nov-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8T10:14:09Z</dcterms:created>
  <dc:creator>has27</dc:creator>
  <dc:description/>
  <dc:language>en-US</dc:language>
  <cp:lastModifiedBy>Jon Crowcroft</cp:lastModifiedBy>
  <dcterms:modified xsi:type="dcterms:W3CDTF">2004-11-14T14:24:53Z</dcterms:modified>
  <cp:revision>50</cp:revision>
  <dc:subject/>
  <dc:title>PowerPoint Presentation</dc:title>
</cp:coreProperties>
</file>