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0920" y="220500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rebuchet MS"/>
              </a:rPr>
              <a:t>Using Packet Symmetry to Curtail Malicious Traffic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195640" y="4149720"/>
            <a:ext cx="5256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on Crowcrof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hristian Kreibich(mostly), Andrew Warfield, Steven Hand, Ian Prat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mputer Labora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University of Cambrid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www.cl.cam.ac.uk/~jac2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Delay imposed on asymmetric flow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87280" y="2063880"/>
            <a:ext cx="6767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 UDP Flood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1076400"/>
            <a:ext cx="66769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 UDP Flood stemmed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1076400"/>
            <a:ext cx="6524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 large, but normal (well behaved) TCP Flow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1076400"/>
            <a:ext cx="6524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ost based symmetr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747684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ost pair based symmetr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477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Flow based symmetr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7477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UDP flow based symmetr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1228680"/>
            <a:ext cx="7477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Evasive Manouevre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ource address spoof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ad guy can masquerade as a good sit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ut they can’t get traffic _back_ so wont wor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ut they might cause good guy to get throttled…so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andomization of IP 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ad guy cannot tell what IP ID from good guy can d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Policer/limiter can check the ID before throttl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TL Esti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Bad Guy doesn’t know what TTL is from good gu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olicer can check TTL is “right” before throttl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Deployment consideration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art of Xen toolkit (virtualised device stuff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ehoves us to do this as Xen is likely to be deployed in high capacity (dangerous source potential) si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uld put in N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ichael Dales (Intel) designed it into his optical switch port controller (Xylinx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lso proposed in ADSL DSLAM equipment (simple as part of ATM mux level police/symmetry enforcement in broadband access contention control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ny questions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start with:-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Practical Protocol Consideration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CP acks every other packet 99% of the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DP us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NS, SNMP - request/respon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TP/UDP - RTCP reports about 1/6th of RT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unter examp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yslog is only 1 we could find in BSD/Linux/OSX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ome Windows apps (DCOM use for Outlook: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lmost all (100%) LAN only by definition: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quence of congestion control need in WAN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Related work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ther approaches require trace-back and/or push-ba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oo expensive, too slow and too la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eal with symptom not cause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easible for ISP as “bit-pipe provider" to deploy symmetry enforcemen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an to filter traffic based on application-layer characteristic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undamental architectural chan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hy (hotnets 03?) - capability to se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riton et al (to appear) - meta-capabi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ndley/Greenhalgh (sigcomm 05) - asymmet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Generalise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hould all protocols be mandated symmetric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“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Well Tempered Internet”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Steven Hand’s piano player: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s this a design principle for feedback based system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gue for both stability and for information theory reasons, hard to see otherwise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etails (state/accuracy and asymmetry tradeoffs) TB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cknowledgements to Mark Allman, Vern Paxson, Chema Gonzales, Juan Caballero, Michael Dales (200 lines of VHDL), Atanu Ghosh, Andrew Moore (trac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Questions?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y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Q1.  Can you devise a symmetric attack? (nick mckeown&amp;matthew andrews from bell lab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1. Yes, but hard for bad guy  coordinate, so easy for ISP to detec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Q2. What about randomizing the initial slow down value to make it hard to for bad guy to probe for symmetry policers? (Stephen Farrell from TCD asked this one!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2. Cool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Q3. Isn’t there a more general principle in this symmetry idea? (Ted Faber from I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3. Guess so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This space available for Advertisement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x Planck Inst. For S/W Systems (Peter Drusche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utsche Telekom/TU-Berl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P Labs Bristol (Nick Wainwrigh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s - Computer Lab, Intel Research, MS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228680"/>
            <a:ext cx="7477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7477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 word from our sponsor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unications Research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MI funded (UK/US, +BT/BP et al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etwork of industry+academic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T, Cisco, Juniper, Nokia, et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CL, Cambridge, Oxford, M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orking Group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Edge+Broadband, Interprovider Routing+QoS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urity, Denial-of-Serv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en Spectrum, Photonic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What’s Maliciou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ything that’s not typic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ypically, traffic dynamics can be observ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at is a very simple, immediate characteristic that can be use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Implicitly, to allow or deny, 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limit atypical behaviour at the ingress to the ne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efore its “too late”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reactive response is far too slow for DDoS attack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Relate to this mornings talk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ecifically Dovrolis -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re connections individually responsive to feedbac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s arrival rate of sessions responsive to conges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lice or Misconfigu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rmies of Bots/Zombie farms et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lashdot/flash crow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-route to low speed lin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Smoke </a:t>
            </a:r>
            <a:r>
              <a:rPr b="0" lang="en-GB" sz="3000" spc="-1" strike="noStrike">
                <a:solidFill>
                  <a:srgbClr val="ffffff"/>
                </a:solidFill>
                <a:latin typeface="Trebuchet MS"/>
              </a:rPr>
              <a:t>and</a:t>
            </a: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 Mirror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ost flows are roughly symmetric at the packet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henever a packet is sent, a packet is received within some reasonable interval (round trip tim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is can me measured (and enforced) at the edge router inexpensive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It is remarkably robu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d surprisingly universal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icely orthogonal to simple blocking based on default allow/deny at ISP boundari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't operate on a per-flow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Ingress versus Egres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rewalls ok to stop bad stuff at ingress to sin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o late for DoS - need egress defense near sour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er (e.g Xen) farm v. ISP deployment considerat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Asymmetry metric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 = ln [(tx+1)/(rx+1)]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eems suitable since it is negative for rx&gt;tx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0 for tx==r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nd positive for tx &gt; r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ote, tx and rx are packet count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byte cou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ed to be measured near transmitte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therwise path asymmetry problem or address translation or spoofing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ction is to delay, then drop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rebuchet MS"/>
              </a:rPr>
              <a:t>Prototypical Implementation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inux netfilter/iptables, Libipq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hoose threshold S = 2 (asymmetry of 8 tim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If S &gt; 2, delay nth subsequent packet by 2^n m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If S goes below 2, decay delay back to zer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t’s see some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5-09-27T15:40:31Z</dcterms:modified>
  <cp:revision>61</cp:revision>
  <dc:subject/>
  <dc:title>PowerPoint Presentation</dc:title>
</cp:coreProperties>
</file>