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4563-789F-4630-B086-3A9912C0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20CB-FA95-4DA6-9497-748EFC83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4C91-B3DD-465B-BDF3-BDA9898E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F490-5045-4484-9810-AA3EC6F8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E8EB-1B29-4E3A-8C92-1D933676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21BC-A5DE-4DA3-A130-1E763B08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F77C-8D60-473F-B56C-231B0245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2142-EB67-4240-926B-50BBA5FE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0648-61D9-47E1-B42B-BC258DB1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EDA2-3AD6-4EE5-8B62-D6E41AB2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D528-24D0-4BAE-B585-7796DFC9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DFFD-3794-4F77-9E4B-0B255DFB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22C2-B55B-4041-B669-E1AC0ACF5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erlessness is next to god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ordinates: you can google for me as well as the next person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y answ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nk you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er-to-peer: Still worthl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3228840" cy="2419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24360" y="2421000"/>
            <a:ext cx="21052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1. Are P2P concepts worth so much time and energ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've looked at lots of P2P papers and they (almost) always seem compare performance between this and that P2P system (myDht v. yourDHT or structured v. unstructur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-one cares about P2p In the real world until you compare p2p with akam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2. What is P2P good for th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us have been working on MANETs and DTNs (Also Terrible Mistakes?: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eems like it ma be that the _only_ way to organise applications in that space is to use P2P (combined with cross layer optimisation or even no layers) - perhaps that way (e.g. in community wifi deployment and disaster zones) lie indispensible P2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3. What next, th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ple of grand challenges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not ony beat the performance (latency and throughput) Of current mainstream commercial CDNs? (as well as providing the nebulous claimed benefits things like anonimity and attack-proofne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ys were never meant to be the end of history- they are a way to develop the replacement for the underlay - in DTNs, P2P can _be_ the network. Can this be true for the internet to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(if google was P2P, could we get rid of Cisco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slid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1. Any useful P2P concep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lever things about www wa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quire no consistency=&gt;interne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no semantics=&gt;free text index/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lever bit of P2P wa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 anonymity=&gt;beat copyright/d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livious to network efficiency=&gt;attracts 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2. Legal CD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not just BBC but Warner use P2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we had zero knowledge payment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 market research with privacy!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rcial reality is need Q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 VCD by post more predictable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ce between broadband &amp; storage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3: 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not care about network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gure out right type of pseud-anonim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can hide, but I can’t not p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can get discount for ser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sionin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d-to-e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get about DHTs and Hybercube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iciency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 bittorrent, videoto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entralised carousel/digital fou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1:47:30Z</dcterms:created>
  <dc:creator>jac22</dc:creator>
  <dc:description/>
  <dc:language>en-US</dc:language>
  <cp:lastModifiedBy>Jon Crowcroft</cp:lastModifiedBy>
  <dcterms:modified xsi:type="dcterms:W3CDTF">2005-10-24T09:13:10Z</dcterms:modified>
  <cp:revision>4</cp:revision>
  <dc:subject/>
  <dc:title>Peerlessness is next to godlessness</dc:title>
</cp:coreProperties>
</file>