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4F9-3EAF-4DF9-A0CB-8AEBB91A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3E4-4C77-4F40-817E-9564593F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81A-9DFB-4347-A16E-E1BB5393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76B-DA64-46A9-999A-442CE26F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441-50C9-4170-84F0-AE6B0563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ED5-C789-49A4-8F22-37BB8214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9BB-2ECE-41EA-B0E7-370EAA9E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F07-B03E-4D0F-BD5B-CDD80E9C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352-1667-474F-A1EF-314F5A0A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A80-7442-461B-95BB-0FD9F1EC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83F-1F89-4F4D-8838-62659436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A86C-2768-49BC-8533-C9D8790F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1BFA-251C-4557-A978-028502383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lessness is next to go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es: you can google for me as well as the next person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y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-to-peer: Still worth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3228840" cy="241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21052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1. Are P2P concepts worth so much time and ener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ve looked at lots of P2P papers and they (almost) always seem compare performance between this and that P2P system (myDht v. yourDHT or structured v. unstructur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one cares about P2p In the real world until you compare p2p with akam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2. What is P2P good for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us have been working on MANETs and DTNs (Also Terrible Mistakes?: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eems like it ma be that the _only_ way to organise applications in that space is to use P2P (combined with cross layer optimisation or even no layers) - perhaps that way (e.g. in community wifi deployment and disaster zones) lie indispensible P2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3. What next,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ple of grand challenge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ot ony beat the performance (latency and throughput) Of current mainstream commercial CDNs? (as well as providing the nebulous claimed benefits things like anonimity and attack-proofn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ys were never meant to be the end of history- they are a way to develop the replacement for the underlay - in DTNs, P2P can _be_ the network. Can this be true for the internet t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(if google was P2P, could we get rid of Cisco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slid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1. Any useful P2P concep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things about www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 no consistency=&gt;interne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no semantics=&gt;free text index/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bit of P2P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anonymity=&gt;beat copyright/d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ivious to network efficiency=&gt;attracts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2. Legal C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not just BBC but Warner use P2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we had zero knowledge payment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market research with privacy!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rcial reality is need 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 VCD by post more predictabl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ce between broadband &amp; storag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3: 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are about network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gure out right type of pseud-anoni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hide, but I can’t not p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get discount for ser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sion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d-to-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get about DHTs and Hybercub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cy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bittorrent, video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entralised carousel/digital f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1:47:30Z</dcterms:created>
  <dc:creator>jac22</dc:creator>
  <dc:description/>
  <dc:language>en-US</dc:language>
  <cp:lastModifiedBy>Jon Crowcroft</cp:lastModifiedBy>
  <dcterms:modified xsi:type="dcterms:W3CDTF">2005-10-24T09:13:10Z</dcterms:modified>
  <cp:revision>4</cp:revision>
  <dc:subject/>
  <dc:title>Peerlessness is next to godlessness</dc:title>
</cp:coreProperties>
</file>