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7ED-BB8D-4EC2-B6D1-14EB42EF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7C6-56E5-4240-9D2B-DE071543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889-B030-438F-99AC-33E7A199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2DB-AE04-4529-8DE5-6C4F5699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76B3-4F4A-482A-AED2-5527B654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4DF5-A3CC-46EC-B0CD-665FF6BC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AB8A-A80D-4E81-8228-90E54F72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A414-FF0B-4F6E-954D-AF1F8C05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E3F4-685F-4255-9E5C-8651EB44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D03B-D8F6-4FB9-B3D4-DAE81C52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BB39-CFCB-4DE5-B2D6-A4C5FA31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C3C-F1D7-4909-99AC-61591504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064F-7C4B-4786-9E3F-A37B2D40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11E3-F5DC-4B7F-A567-BAC7C7C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436F-76E8-4C84-A795-2827FE79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6962-4EB7-47B3-AF6B-B2337D67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276A-EF82-4FCC-8300-12685E37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585-53ED-497A-9232-A09E329E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88B-FED6-4EE0-84E2-6031BC2B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48D-4F32-4429-9D5A-8198B76C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F29-8AC9-4A90-B8B7-EE3DDDE5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E7D-68B2-435A-9076-0FA6B360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A28-B225-4B70-B125-8A7A78B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278-654C-45A1-B9F1-00AFDCAA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ABD0-D5AD-4BB8-B24E-93B98C4E77EA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, Fi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C6FC-0221-4050-B961-207A2B273A31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082D-C226-43DF-878C-7A3D3F6C1F54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D0C7-C128-4673-8B21-33B50B7EE102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University of Cambridge"/>
          <p:cNvPicPr/>
          <p:nvPr/>
        </p:nvPicPr>
        <p:blipFill>
          <a:blip r:embed="rId3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8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435880" cy="1555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EALMAN ‘06 Pan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REAL must be the ad hoc network research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172200" cy="205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Jon Crowcroft (University of Cambridg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1"/>
              </a:rPr>
              <a:t>Jon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2"/>
              </a:rPr>
              <a:t>crowcroft@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3"/>
              </a:rPr>
              <a:t>.cam.ac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4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5"/>
              </a:rPr>
              <a:t>http://www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6"/>
              </a:rPr>
              <a:t>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7"/>
              </a:rPr>
              <a:t>.cam.ac.uk/~jac2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666880" y="60948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7680" y="88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33640" y="612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C3F8C9C-3523-4994-8084-66B9AC9EE8E5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3 MANET Research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versity, Heterogeneity, Ad Hocke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“one size fits all” generic solu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silver bull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I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aracterize by Scen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pplication, Us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wer, Spectrum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bility, RF Pr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CE784-373A-4FFD-B02C-0DB9318B0164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s per Internet, pre IMC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ut many different ne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eed to interconnect the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is bespoke/cust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to build codified mod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 can pick one for scenari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 of a “library” of models&amp;co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s like software defined radi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ut for whole network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9305A-AF1C-4A32-9ACD-B76A0CA98871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tributed Learn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uld we build self-awareness i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ll MANETs log behavi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load to infrastructure when onlin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t like sourceforge+crawda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bin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some sort of authentica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 bad guys don’t infect cod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so like p2p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5306A-BE35-4393-8455-A768DE1A8ECE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1,2,3,4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liferation of rout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totypical deploym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be codification of scenari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tting commercial uptak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87C27-D59A-4C6F-BD20-8E9F4F032EF2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on Crowcroft</dc:creator>
  <dc:description/>
  <dc:language>en-US</dc:language>
  <cp:lastModifiedBy>jon crowcroft</cp:lastModifiedBy>
  <dcterms:modified xsi:type="dcterms:W3CDTF">2006-05-21T16:05:26Z</dcterms:modified>
  <cp:revision>231</cp:revision>
  <dc:subject/>
  <dc:title>Inroads</dc:title>
</cp:coreProperties>
</file>