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7463-E55B-445E-A943-54861525D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C08A-15B8-4668-8346-0D9FEBAD4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– as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eaker (TaeSaeng Choi, ETRI) mentioned – is pretty shit to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move to autonomic stuff of some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1760E-E091-4A37-A832-A034CA966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18258-C7C8-42CE-8A34-4C70A5752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DC995-DBE1-464A-9D1E-424C823D2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5870B-D91B-4114-A257-0DF63BD83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2F2A-35E9-4B0F-9BE3-A1285E9F5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E4EF9-9E5D-4A94-A95F-41B72EC12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2A1C0-81AD-4D8F-B900-7FD324FDF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4E6F4-9CBE-4538-A051-E087FE4CA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5AD3E-4C5C-4F09-8DE4-F2F84D921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0D3C8-49D7-4459-8D36-CA70FB0E7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21310-D788-4A5D-9CE8-399C7D479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3610-EC37-4435-B61C-E9B17F942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NTT Labs, August,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B854-052D-4948-A655-FCAA95256F0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Or The Internet Conspiracy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05040" y="4212720"/>
            <a:ext cx="579744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Jon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crowcroft@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.cam.ac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4"/>
              </a:rPr>
              <a:t>u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5"/>
              </a:rPr>
              <a:t>http://www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6"/>
              </a:rPr>
              <a:t>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7"/>
              </a:rPr>
              <a:t>.cam.ac.uk/~jac22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14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68CFF-7772-4EA5-8201-437D8BCFC6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0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13136-B302-4A10-AA8E-3A42B1D8D9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1495F-1610-4E33-B628-42905C0C32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he alternativ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re is no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ust a bunch of computers with lin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moves “semantic bottleneck” from application writer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mbrace “radically heterogeneous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wo end-systems should be able to communicate even if they hav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noth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n common: protocols, address realms, semantic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36B2-5AF8-4BFA-86FD-3433836D9B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Surely something must be common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Of course: but it is only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the application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at what is common is that which is application-specifi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ven DTN has single overlay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bundle routing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6681F-7223-4D9E-BE1D-FE7D2BA650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4B16F-12DD-4F01-91D8-CD1F633DF6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0048E-4867-45A2-A8D3-FF4B22EC8E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E6685-B288-495D-B8A1-065A30BB8E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87D38-EAAC-469F-AC27-11AA3702D9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54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8122400">
              <a:off x="5426640" y="258588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3B527-FFA8-4F83-918B-6A052BF8A7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(ex cambridge, sprint, intel, berkeley, oz, now ETH) and Steven Hand (Cambridge, Ericsson, Sprint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 (Wenjun Hu, Jon, Mothy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 to FIND/GENI? - n.b. my abstract’s comments(*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rchitectures emerge (ANSA/Herbert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DBAC1-363A-4EDE-8926-B6BE147D5E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E5350-A61B-4E51-8E4E-3A4F2C5C22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BCAFC-DD44-446C-B3ED-C9D499A575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539A-725E-4D63-B27D-BF2FCB82C1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F7C0C-689D-44F7-B840-09DFED6642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434D1-F5E8-4340-BB7A-544AEADF51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Back to FIND/GENI &amp; Architecture/Testbeds &amp; EU v. U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s per my contentious (*) abstract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ND and GENI are to fill a funding gap US h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U doesn’t have g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chitecture research is philosophy, not science or enginee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e devil is in the details, s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 1000 architectures bl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ld will pick a winn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ego will declare it the new architecture and beco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ther-in-law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the Next Generation Inter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should fund good communications systems research as usual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4E57A-3BE7-466F-9E9C-9B12E5B313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1800" indent="-27180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cknowledgements: James Scott, Mothy Roscoe, Mark Handley, Richard Mortier, Steven Hand, Keshav, Nick Feamster, Kevin Fall, for arguments about architecture, post modern or otherwise :-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7AD8E-A108-459F-B785-CE6EA30304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EU Projects/Grouping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cadi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st action including 2 members per EU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Onelab, etc - proposal stag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iff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IP just agree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ignement with US - weak, but pres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National programs: UK JANET + Cambridge/UC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FF0AD-95E2-433D-AA2D-589E09F9F31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y have an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hat does an Internet Architecture hope to achieve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operability across networ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asier for applications to code t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ramework for providers to compe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oes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Internet architecture really address these issue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F48D4-7031-4B46-8AAB-3D3BE5E3A1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8FF18-8A63-4135-9CF2-571FE534B4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operability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o – not really</a:t>
            </a:r>
            <a:r>
              <a:rPr b="0" lang="en-US" sz="2000" spc="-1" strike="noStrike">
                <a:solidFill>
                  <a:srgbClr val="0860a8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form API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Bad thing: hides useful features of the underlying network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.f. cross layer optimisations and other oxymor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rovider framework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as any tier-1 ISP ever made significant profit from offering IP servic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et Neutrality Debate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0B46B-7D50-46B0-A5A4-9ADBAF404D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us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enable rapid innov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im: lack of attention to value flow &amp; economics was a Good Thing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igh commercial value blunts innovation (c.f. other industrie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ruption is bad for busines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dea: goal of networking research should be to enable surprising thing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96D17-371D-4DFA-9D6D-83ABFDDF59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One (incremental) view:</a:t>
            </a:r>
            <a:br>
              <a:rPr sz="3200"/>
            </a:b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Don’t Panic!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gestion collaps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CP congestion control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he backbone won’t scale!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raffic Engineering, DWDM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e’ll run out of address spac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CIDR, NAT (and IPNL, 4+4, Triad, …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ong fat pipes are under-used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calable TCP, HSTCP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tocol stacks can’t keep up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Zero-copy I/O, TSO, …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CP doesn’t work on wireless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plit-TCP, i-TCP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ut what about security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Firewalls, Application-level filtering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2078C-75B1-480A-A39D-25A63D7447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So everything’s ok then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ll, no…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kludg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stop-ga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NAT for a billion cellular devices? a trillion sensors?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management story whatsoever… and security really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i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probl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a nutshell: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: Just-in-time Engineering” (Anon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has always just been saved from catastrophic failure” (M Handley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is a triumph of human ingenuity over common sense” (S Hand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76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60a8"/>
                </a:solidFill>
                <a:latin typeface="Verdana"/>
              </a:rPr>
              <a:t>That isn’t architecture, it’s sloppy building repairs!</a:t>
            </a:r>
            <a:endParaRPr b="0" lang="en-US" sz="17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790EA-F1C2-48BA-A0AD-950B1DB62C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6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F61AD-319D-4C6E-AF3C-34D0A3B349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8-05T13:21:58Z</dcterms:modified>
  <cp:revision>255</cp:revision>
  <dc:subject/>
  <dc:title>Haggle Work </dc:title>
</cp:coreProperties>
</file>