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EA1AB-560D-4C5A-86C3-1EC592D38F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331EB-91A4-420A-9B27-C208A171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442FB-2B1B-4879-A48D-5EC16DB9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11D23-3066-409E-A635-40198647E1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E5F2D-16FD-4975-884D-97BC32B7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A2E9B-0A1D-410B-AF09-D6FA8BF1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57C28-3933-48D4-93CB-F5D80164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CBAB3-C3AE-40A0-922F-9647560C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77C06-7B7C-4446-B449-253F397A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951B3-BC78-4091-BA6A-BA7077D5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267CA-A2C2-4479-9382-DE203927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E5216-860C-475D-B8F9-717BBC18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352920"/>
            <a:ext cx="190512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TSS’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5857-9C75-4837-9BEC-06FE5C543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.cam.ac.uk/~jac22" TargetMode="External"/><Relationship Id="rId2" Type="http://schemas.openxmlformats.org/officeDocument/2006/relationships/hyperlink" Target="http://www.cl.cam.ac.uk/~jac22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95200" y="1293480"/>
            <a:ext cx="884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NREDS ‘03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63840" y="309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Tolga Uzuner, Jon Crowcroft, Steve Hand, Andrew Warfield et al, The Computer Laboratory, The University of Cambridge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entury Gothic"/>
                <a:hlinkClick r:id="rId1"/>
              </a:rPr>
              <a:t>http://www.cl.cam.ac.uk/~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entury Gothic"/>
                <a:hlinkClick r:id="rId2"/>
              </a:rPr>
              <a:t>jac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432480" y="330120"/>
            <a:ext cx="2305080" cy="78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5C2FB-7435-43E1-8195-61A9E2C13A3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ere are we in innovation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3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ustry Evolution studied by economi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re compan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phases (see Wroclawski “tipping” – exactly right but wrong use of word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pid growth in number of entrants, lots of different ways of building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ll out of companies, emergence of few key players, switch to Concentration on microoptimis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AD898-EFC7-477C-AD2F-81D3DCCC10D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Process v. Product Innov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CS/Comms, the “fun” is in product inno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E/Telecom, the real profession is in refining processes for production, not the product itsel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sson for Networks, there are two quite different rolesat periods of a network technology – there’s not one “better” and one “worse” – they reflect maturity of technolog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B51CD-2FD6-4F7D-BA50-64FC040226B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CS Emphasis on this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mic Sans MS"/>
              </a:rPr>
              <a:t>Integration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akes big step functions to set up plant – this means that we have to get product innovation stage really really right, since the investment is so high, to get commoditized version price so l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mic Sans MS"/>
              </a:rPr>
              <a:t>Post-commodity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ltas are in refining usability, optimising etc….need a lot of traditional engineering to understand where to apply eff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D5FC7-D6E3-4943-823B-809C5571701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What means this for researc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ed to have research in both kinds of inno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cognize skill sets not quite same for each kind of inno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ave responsibility to communities we deliver to say which place our output is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.e. don’t tell cisco to use multicast in 1988 – it will be 15 years too early for prime time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F1177-FEFB-457A-8552-3E77222197F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Questions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ank you…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5715000"/>
            <a:ext cx="2305080" cy="78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06C3E-84CC-4724-AA2B-0B27384EC023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16:39:47Z</dcterms:created>
  <dc:creator>Jon Crowcroft</dc:creator>
  <dc:description/>
  <dc:language>en-US</dc:language>
  <cp:lastModifiedBy>jon</cp:lastModifiedBy>
  <cp:lastPrinted>1999-11-30T18:30:16Z</cp:lastPrinted>
  <dcterms:modified xsi:type="dcterms:W3CDTF">2003-08-25T08:19:34Z</dcterms:modified>
  <cp:revision>107</cp:revision>
  <dc:subject/>
  <dc:title>Network Field Theory</dc:title>
</cp:coreProperties>
</file>