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3C0-2BBF-46CC-A4C8-28B6D062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ADBF-35C3-4633-8F2F-4F3F0FC6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5B25-05EB-41D8-8B48-358AED63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9FA-F1A6-49FF-9FB2-FDBB33DA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819F-FE30-4E43-B61C-55D47C3A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092C-0ABD-413F-B4ED-5F5301B6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A22C-FC91-4CDD-A368-39E41A72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9ABA-6330-4C3A-9BCE-973393E6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0CF4-4ECE-460C-B504-BCC6B930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58D9-A2EB-4741-B726-66B977F6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4486-E440-40DF-A050-7B8030B5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8AD-FD84-4D1C-BB3C-4A6D1464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5142-0CD5-4B8F-BF7E-51E2B74D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0592-9466-43B1-B38B-8A149548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D12B-70F5-405E-9652-6500FA41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E84C-A9C8-4954-AE03-6BA895D7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B7D0-64F5-44EB-A06E-811086A3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D24-BBC3-4836-BC18-AF671361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9F5-BFF0-4FDE-866F-D1FDBC24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C0F5-92F0-4936-B551-DDB95C49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7407-123B-4022-A3A2-BE698437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D400-2E8D-4179-946A-FC94E458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2150-B975-49C4-8496-23B505D8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457-E37B-490E-83F6-4A9083AA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5280" y="638172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Hands Meeting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12F2-DBD1-4F59-AE22-390B1BE6F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6093000"/>
            <a:ext cx="1823760" cy="59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3560" y="1143000"/>
            <a:ext cx="83822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838080"/>
            <a:ext cx="381240" cy="327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35280" y="6237000"/>
            <a:ext cx="367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99B1-561A-41B2-BF38-FA2CF9223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4818240"/>
            <a:ext cx="3027600" cy="987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917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Reliable high-speed Grid data delivery using IP Multicas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26668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l Jeacle &amp; 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52840" y="3103560"/>
            <a:ext cx="49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.lastname@cl.cam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eng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initial TCP co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use BSD or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ng from kernel could be probl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act alter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wIP = Lightweight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t fully RFC-compliant TCP/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wIP + multicast extensions =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-X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3280" y="1852560"/>
            <a:ext cx="1116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08800" y="1884240"/>
            <a:ext cx="1080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198900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5800" y="1773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07520" y="20750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5800" y="24922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3280" y="32986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43280" y="2282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43280" y="365904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43280" y="4797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843280" y="5235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3371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43280" y="4581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43280" y="24922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5451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45800" y="43783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2560" y="50259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2560" y="36590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2560" y="4797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5800" y="5445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6160" y="3083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3443400"/>
            <a:ext cx="278136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38000" y="28065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70160" y="28065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1320" y="249228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4760" y="134136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54760" y="299736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54760" y="46530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281320" y="1412640"/>
            <a:ext cx="3673440" cy="12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2698920"/>
            <a:ext cx="368640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74840" y="2732040"/>
            <a:ext cx="3679920" cy="19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274840" y="1484280"/>
            <a:ext cx="3679920" cy="13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274840" y="2863800"/>
            <a:ext cx="367992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274840" y="2922480"/>
            <a:ext cx="3679920" cy="187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281320" y="1557000"/>
            <a:ext cx="3673440" cy="14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74840" y="3087720"/>
            <a:ext cx="367992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74840" y="3122640"/>
            <a:ext cx="3679920" cy="174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79520" y="187164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1320" y="350028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70160" y="350028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1320" y="194472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1320" y="357336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1320" y="357336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1320" y="201600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1320" y="364500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3645000"/>
            <a:ext cx="3676680" cy="162864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1320" y="247500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1320" y="417672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281320" y="424728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000" y="3422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59240" y="177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59240" y="3429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59240" y="50846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conne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connects to multiple unicast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TCP PCBs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3-way handshakes tak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M or random ASM group address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f not specified in advance by user/app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ddress sent as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multicast depends on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transmis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plicated/enqueued on all send que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B variables dictate transmiss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ckets are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nsmissions are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 switch to unicast after failed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closed as per unicast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rece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PI-leve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TCP 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IGMP join on TCP-XM 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s data on both unicast/multicast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_input() acce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addressed to existing unicast destin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w also those addressed to multica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ppens to the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wi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C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ongestion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(cw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send at rate of slowes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by splitting receivers into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ccording to cwin / 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I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elevant if natively implemen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API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nnec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o port on array of dest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write sends data to all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in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n = netconn_new(NETCONN_TCPX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connectxm(conn, remotedest, numdests, group, por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write(conn, data, len, …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B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CP connection has an associated Protocol Control Block (PC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ad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tcp_pcb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ip_addr group_i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group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um tx_mode txmode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uni/multi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8t nrtxm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# re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tcp_pcb *nextm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next “m” p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king PCB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 that’s part of a particular TCP-XM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timer and state machin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900000" y="1730520"/>
            <a:ext cx="936720" cy="1370160"/>
            <a:chOff x="900000" y="1730520"/>
            <a:chExt cx="936720" cy="1370160"/>
          </a:xfrm>
        </p:grpSpPr>
        <p:sp>
          <p:nvSpPr>
            <p:cNvPr id="206" name=""/>
            <p:cNvSpPr/>
            <p:nvPr/>
          </p:nvSpPr>
          <p:spPr>
            <a:xfrm>
              <a:off x="1120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50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00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00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0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33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20920" y="1730520"/>
            <a:ext cx="936720" cy="1370160"/>
            <a:chOff x="2320920" y="1730520"/>
            <a:chExt cx="936720" cy="1370160"/>
          </a:xfrm>
        </p:grpSpPr>
        <p:sp>
          <p:nvSpPr>
            <p:cNvPr id="213" name=""/>
            <p:cNvSpPr/>
            <p:nvPr/>
          </p:nvSpPr>
          <p:spPr>
            <a:xfrm>
              <a:off x="254124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7176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2092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2092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2092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5420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743280" y="1730520"/>
            <a:ext cx="936720" cy="1370160"/>
            <a:chOff x="3743280" y="1730520"/>
            <a:chExt cx="936720" cy="1370160"/>
          </a:xfrm>
        </p:grpSpPr>
        <p:sp>
          <p:nvSpPr>
            <p:cNvPr id="220" name=""/>
            <p:cNvSpPr/>
            <p:nvPr/>
          </p:nvSpPr>
          <p:spPr>
            <a:xfrm>
              <a:off x="396360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9412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4328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4328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4328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7656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165640" y="1730520"/>
            <a:ext cx="936720" cy="1370160"/>
            <a:chOff x="5165640" y="1730520"/>
            <a:chExt cx="936720" cy="1370160"/>
          </a:xfrm>
        </p:grpSpPr>
        <p:sp>
          <p:nvSpPr>
            <p:cNvPr id="227" name=""/>
            <p:cNvSpPr/>
            <p:nvPr/>
          </p:nvSpPr>
          <p:spPr>
            <a:xfrm>
              <a:off x="538596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1648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6564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6564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6564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9892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588000" y="1730520"/>
            <a:ext cx="936720" cy="1370160"/>
            <a:chOff x="6588000" y="1730520"/>
            <a:chExt cx="936720" cy="1370160"/>
          </a:xfrm>
        </p:grpSpPr>
        <p:sp>
          <p:nvSpPr>
            <p:cNvPr id="234" name=""/>
            <p:cNvSpPr/>
            <p:nvPr/>
          </p:nvSpPr>
          <p:spPr>
            <a:xfrm>
              <a:off x="6808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38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88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88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8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21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83528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6232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144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0380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1440" y="29541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2957400"/>
            <a:ext cx="1903320" cy="325440"/>
          </a:xfrm>
          <a:custGeom>
            <a:avLst/>
            <a:gdLst/>
            <a:ahLst/>
            <a:rect l="l" t="t" r="r" b="b"/>
            <a:pathLst>
              <a:path w="1199" h="205">
                <a:moveTo>
                  <a:pt x="0" y="0"/>
                </a:moveTo>
                <a:cubicBezTo>
                  <a:pt x="192" y="102"/>
                  <a:pt x="384" y="205"/>
                  <a:pt x="584" y="205"/>
                </a:cubicBezTo>
                <a:cubicBezTo>
                  <a:pt x="784" y="205"/>
                  <a:pt x="991" y="102"/>
                  <a:pt x="119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uture Grid Contex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karl-ahm-p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755964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Group O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group option sent in all TCP-XM SYN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implies multicast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TCP-XM hosts will ignore (no option in SYN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will automatically revert to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81000" y="1946160"/>
            <a:ext cx="112716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11400" y="1944720"/>
            <a:ext cx="112716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38560" y="1943280"/>
            <a:ext cx="45082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37240" y="2890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5504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77560" y="28940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56240" y="2243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nd=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12280" y="2243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17600" y="224316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ulticast Grou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itial tests: spe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itial tests: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4216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unicast / multicast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lback / fall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look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us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 eScience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Planet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cience volunte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ches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amp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d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esb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cas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t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er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nbur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sg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lanetlab europ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lking to intel about more EU sites doing plane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y specialise (or enhance) To add e.g. 3G wireless and WiFi at s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allow more local experimentation without the usual “Big Science” hassle of engaging with NRN and Ge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 have a lot of EU Datagrid sites al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with good (netherlight/starlight/uklight) connectivirt to each other and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do some Big Science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goal is to see if TCP-XP can go faster than FAST TCP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ybrid, Purist, Overl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e argument is to leave incentive for subscriber to demand and provider to deploy ip native 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n’t worked (15 years after first had id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brid schemes not much examined (SCE prob. One of f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brid retains understanding gained in unicast and mcast incen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lay requires lots of new mechanisms to be debug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2P promising, but side by side problems alluded to in Diot’s anti-deployment paper still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ably good for “grid”like users (shared incentive to forward for ot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403236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for list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o achieve high-speed bulk data delivery to multipl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ing would make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multicast research has focused on sending to a large number of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rid is an applied example where sending to a moderate number of receivers would be extremely bene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avail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ment is a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have been defined and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concerns about scalability; much F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 &amp; egg” means limited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uds of native 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’t r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tinations via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applications abandon in favour of un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we could multicast when possib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fall back to unicast when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lanetlab te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etlab &gt;100 “random”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value – if have account on 1 site, have on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ed multicast deployment from all to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 m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chance of tx being about to use mcast is to k out of r non zero but chance of all paths to all receivers working is close 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.g. p of AS doing mcast, average path len a Ass, 1- (1-p)^a per receiver -&gt; [1-(1-p)^a]^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r receivers al working, but a lot better for k&lt;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TCP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reliable stream between two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eliable streams from 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seem a little odd, but there is preced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 – Talpade &amp; 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-XMO – Liang &amp; Cheri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TCP – Visoottiviseth et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 implo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4828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ing Multicast 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test multicast/unicast TCP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ew protocol == kerne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test deployment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new TCP-like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e packets in 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n user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sacrific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idespread testing now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/IP/UDP/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19280" y="2060640"/>
            <a:ext cx="5761080" cy="3026520"/>
            <a:chOff x="1619280" y="2060640"/>
            <a:chExt cx="5761080" cy="3026520"/>
          </a:xfrm>
        </p:grpSpPr>
        <p:grpSp>
          <p:nvGrpSpPr>
            <p:cNvPr id="106" name=""/>
            <p:cNvGrpSpPr/>
            <p:nvPr/>
          </p:nvGrpSpPr>
          <p:grpSpPr>
            <a:xfrm>
              <a:off x="1619280" y="2060640"/>
              <a:ext cx="1584360" cy="2954880"/>
              <a:chOff x="1619280" y="2060640"/>
              <a:chExt cx="1584360" cy="2954880"/>
            </a:xfrm>
          </p:grpSpPr>
          <p:sp>
            <p:nvSpPr>
              <p:cNvPr id="107" name=""/>
              <p:cNvSpPr/>
              <p:nvPr/>
            </p:nvSpPr>
            <p:spPr>
              <a:xfrm>
                <a:off x="181908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nd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1428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1940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4804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9744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1928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1928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1928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9236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9236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9236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796000" y="2060640"/>
              <a:ext cx="1584360" cy="2954880"/>
              <a:chOff x="5796000" y="2060640"/>
              <a:chExt cx="1584360" cy="2954880"/>
            </a:xfrm>
          </p:grpSpPr>
          <p:sp>
            <p:nvSpPr>
              <p:cNvPr id="119" name=""/>
              <p:cNvSpPr/>
              <p:nvPr/>
            </p:nvSpPr>
            <p:spPr>
              <a:xfrm>
                <a:off x="599580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eiv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9100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39612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22476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37416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9600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9600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9600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6908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86908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86908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482280" y="3914640"/>
              <a:ext cx="20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Arial"/>
                </a:rPr>
                <a:t>If natively implemen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69920" y="4780080"/>
              <a:ext cx="144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est deploy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03640" y="479592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32000" y="3932280"/>
              <a:ext cx="273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9:02:12Z</dcterms:created>
  <dc:creator>Karl Jeacle</dc:creator>
  <dc:description/>
  <dc:language>en-US</dc:language>
  <cp:lastModifiedBy>jon</cp:lastModifiedBy>
  <dcterms:modified xsi:type="dcterms:W3CDTF">2003-09-17T04:52:10Z</dcterms:modified>
  <cp:revision>58</cp:revision>
  <dc:subject/>
  <dc:title>Multicast extensions for TCP</dc:title>
</cp:coreProperties>
</file>