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gif" ContentType="image/gif"/>
  <Override PartName="/ppt/media/image18.wmf" ContentType="image/x-wmf"/>
  <Override PartName="/ppt/media/image17.wmf" ContentType="image/x-wmf"/>
  <Override PartName="/ppt/media/image16.wmf" ContentType="image/x-wmf"/>
  <Override PartName="/ppt/media/image10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6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36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9.gif" ContentType="image/gif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59D5-2A93-43A4-B20E-0CD57459D8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bble Reality singl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B9B7C-A1EA-45E9-AA35-EC4591B43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43040" y="38023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A3C1D-DB45-41AC-AED9-774CA03C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756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8A68F-CF82-4A1C-ABB8-4D1A0EB56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380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2456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304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380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2456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E22C4-E6C0-4622-B875-A6677E31E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6FDA3-5637-4C34-B929-CB91DDF4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E10C3-36A6-4BB9-9F6A-FC1AAA69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CA008-EBBD-485E-B05D-02D39F19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660FF-8818-466C-8751-3ADE8614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0480" y="-360"/>
            <a:ext cx="78231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7467E-4C5D-48C2-85B6-4443CE4A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FC694-5E12-4B9B-83DA-51748502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756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D6901-F698-434C-A03E-46EC31A2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DCE14-009B-4258-9F43-7B0A27F7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618920" y="6237360"/>
            <a:ext cx="6661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Footlight MT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ootlight MT Light"/>
              </a:rPr>
              <a:t>&lt;footer&gt;</a:t>
            </a:r>
            <a:r>
              <a:rPr b="0" lang="en-GB" sz="1400" spc="-1" strike="noStrike">
                <a:solidFill>
                  <a:srgbClr val="000000"/>
                </a:solidFill>
                <a:latin typeface="Footlight MT Light"/>
              </a:rPr>
              <a:t>Imperial College London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ootlight MT Light"/>
              </a:rPr>
              <a:t>talk for Erol Gelenbe’s research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400" y="6237360"/>
            <a:ext cx="1155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7CDDBB6-D625-4C67-8461-FE715A1D431C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295280"/>
            <a:ext cx="1238400" cy="480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250920" y="62373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Footlight MT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ootlight MT Light"/>
              </a:rPr>
              <a:t>February 15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384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image" Target="../media/image24.wmf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92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Mob Handed: Realworld Human Mobility Model driven design of forwarding algorithms for Opportunistic Network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700000" y="3860280"/>
            <a:ext cx="3776760" cy="15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on Crowcr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an H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pute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iversity of Cam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Other Community Detection Methodolo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tweenness [Newman04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ularity [Newman0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ormation theory[Rosvall0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entrality in Temporal N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number of unlimited flo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form sourced and temporal traffic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times on shortest delay deliv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ue to Freeman centrality [freeman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mogenous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484360" y="1268280"/>
            <a:ext cx="5327640" cy="5085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067280" y="1268280"/>
            <a:ext cx="86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e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16720" y="1268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ambri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51280" y="3860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nfocom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386064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ithin Group Centrality  Cambridge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003640" y="1916280"/>
            <a:ext cx="3657600" cy="3200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419640" y="227664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93080" y="2205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ithin Group Centrality 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ality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195640" y="1214280"/>
            <a:ext cx="5400720" cy="5123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708360" y="1341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400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08360" y="4076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45080" y="14065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del Node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47640" y="2276640"/>
            <a:ext cx="7358400" cy="16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e centrality should be modelled in different levels of heterogene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gularity and Famili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5759640" cy="50389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054520" y="1198440"/>
            <a:ext cx="423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94560" y="631044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865840" y="568476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mili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50200" y="4869000"/>
            <a:ext cx="79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649840" y="42148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21480" y="191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89480" y="2494080"/>
            <a:ext cx="5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17840" y="19828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17840" y="422100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49480" y="6076800"/>
            <a:ext cx="53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: Community   II. Familiar Strangers  III. Strangers  IV. Frie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164360" y="191628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rrelation Coefficient   = 0.90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704960" y="327168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704960" y="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5162400" y="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5219640" y="3271680"/>
            <a:ext cx="3657600" cy="32004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851280" y="57434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2200" y="2430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nfocom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020000" y="2430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nfocom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67640" y="57196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562200" y="4636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66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91280" y="4572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58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35280" y="37036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83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162920" y="37767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79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eterogeneous Forward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20840" y="2060640"/>
            <a:ext cx="78231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second goal of this research is to devise efficient forwarding algorithms for PSNs which take advantage of both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riori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nd learned knowledge of the structure of human mobility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700360" y="3645000"/>
            <a:ext cx="1830240" cy="11491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84360" y="3716280"/>
            <a:ext cx="1288800" cy="1809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076720" y="765000"/>
            <a:ext cx="1714680" cy="17431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7020000" y="4797360"/>
            <a:ext cx="919080" cy="8859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1403280" y="1700280"/>
            <a:ext cx="1513080" cy="9586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6"/>
          <a:stretch/>
        </p:blipFill>
        <p:spPr>
          <a:xfrm>
            <a:off x="324000" y="249228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7"/>
          <a:stretch/>
        </p:blipFill>
        <p:spPr>
          <a:xfrm>
            <a:off x="3276720" y="1773360"/>
            <a:ext cx="1800000" cy="10922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8"/>
          <a:stretch/>
        </p:blipFill>
        <p:spPr>
          <a:xfrm>
            <a:off x="7596360" y="981000"/>
            <a:ext cx="1268280" cy="18064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9"/>
          <a:stretch/>
        </p:blipFill>
        <p:spPr>
          <a:xfrm>
            <a:off x="5292720" y="3284640"/>
            <a:ext cx="1219320" cy="11714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0"/>
          <a:stretch/>
        </p:blipFill>
        <p:spPr>
          <a:xfrm>
            <a:off x="4788000" y="5157720"/>
            <a:ext cx="860400" cy="1447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700360" y="692280"/>
            <a:ext cx="138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03640" y="1268280"/>
            <a:ext cx="143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Give it to me, I have 1G bytes phone flash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71640" y="1052640"/>
            <a:ext cx="143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I have 100M bytes of data, who can carry for m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771640" y="2637000"/>
            <a:ext cx="1513080" cy="685800"/>
          </a:xfrm>
          <a:custGeom>
            <a:avLst/>
            <a:gdLst/>
            <a:ahLst/>
            <a:rect l="l" t="t" r="r" b="b"/>
            <a:pathLst>
              <a:path w="1233" h="477">
                <a:moveTo>
                  <a:pt x="0" y="0"/>
                </a:moveTo>
                <a:cubicBezTo>
                  <a:pt x="45" y="215"/>
                  <a:pt x="91" y="431"/>
                  <a:pt x="272" y="454"/>
                </a:cubicBezTo>
                <a:cubicBezTo>
                  <a:pt x="453" y="477"/>
                  <a:pt x="945" y="197"/>
                  <a:pt x="1089" y="136"/>
                </a:cubicBezTo>
                <a:cubicBezTo>
                  <a:pt x="1233" y="75"/>
                  <a:pt x="1183" y="83"/>
                  <a:pt x="1134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00720" y="549360"/>
            <a:ext cx="1463400" cy="1245960"/>
          </a:xfrm>
          <a:custGeom>
            <a:avLst/>
            <a:gdLst/>
            <a:ahLst/>
            <a:rect l="l" t="t" r="r" b="b"/>
            <a:pathLst>
              <a:path w="922" h="785">
                <a:moveTo>
                  <a:pt x="0" y="785"/>
                </a:moveTo>
                <a:cubicBezTo>
                  <a:pt x="45" y="452"/>
                  <a:pt x="91" y="120"/>
                  <a:pt x="227" y="60"/>
                </a:cubicBezTo>
                <a:cubicBezTo>
                  <a:pt x="363" y="0"/>
                  <a:pt x="710" y="355"/>
                  <a:pt x="816" y="423"/>
                </a:cubicBezTo>
                <a:cubicBezTo>
                  <a:pt x="922" y="491"/>
                  <a:pt x="892" y="479"/>
                  <a:pt x="862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508720" y="54936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I can also carry for you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858920" y="47628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333360"/>
            <a:ext cx="1584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Thank you but you are in the opposite direction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79280" y="2060640"/>
            <a:ext cx="12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Don’t give to me! I am running out of storag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003640" y="1844280"/>
            <a:ext cx="2737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72360" y="2349360"/>
            <a:ext cx="115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Reach an access poi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80360" y="3068640"/>
            <a:ext cx="1152360" cy="1152360"/>
          </a:xfrm>
          <a:prstGeom prst="cloudCallout">
            <a:avLst>
              <a:gd name="adj1" fmla="val -21763"/>
              <a:gd name="adj2" fmla="val 69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96360" y="342900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8172360" y="278136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7524360" y="4437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885080" y="4581360"/>
            <a:ext cx="934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Finally, it arrive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635280" y="4797360"/>
            <a:ext cx="936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651640" y="4653000"/>
            <a:ext cx="5047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92360" y="5157720"/>
            <a:ext cx="13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292720" y="5084640"/>
            <a:ext cx="136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834920" y="3860640"/>
            <a:ext cx="1657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08000" y="3645000"/>
            <a:ext cx="13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87280" y="3357720"/>
            <a:ext cx="10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There is one in my pocket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0840" y="-360"/>
            <a:ext cx="7283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e levels human heterogene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cal community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ersity of centrality in different 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 categories of human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terogeneous forwarding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ign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K (centrality based forwar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BEL (community based forwar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BBLE RAP (centrality meets commun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roximation and predic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entralized approximation of centr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uman predic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teraction and Forwa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494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generation human interac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ies of human contact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que and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rity/Centr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al natures of mobile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chmark Forwarding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oding, Wait, and Multiple-copy-multiple-hop (M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sign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556000" y="1339560"/>
            <a:ext cx="0" cy="352908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556000" y="3284640"/>
            <a:ext cx="3097080" cy="158256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50920" y="907920"/>
            <a:ext cx="23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xplicit Soci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651640" y="594828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ucture in Deg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796000" y="299556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ucture in Cohesiv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79640" y="1843200"/>
            <a:ext cx="1008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124000" y="197172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56000" y="4867200"/>
            <a:ext cx="3960720" cy="79236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56000" y="5084640"/>
            <a:ext cx="16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0" y="52275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ank, Deg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482920" y="4795920"/>
            <a:ext cx="144360" cy="14436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556000" y="1699920"/>
            <a:ext cx="4105080" cy="3166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427640" y="3427560"/>
            <a:ext cx="1008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3486240"/>
            <a:ext cx="86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ique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59640" y="1268280"/>
            <a:ext cx="1152360" cy="9367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732720" y="17002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ub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788000" y="43639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39600" y="2779560"/>
            <a:ext cx="729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an Dimen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Greedy Ranking Algorithm  (RANK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227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pre-calculated centrality/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sh traffic to nodes have higher 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performance in small and homogene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908000" y="3500280"/>
            <a:ext cx="612000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reedy Ranking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erarchical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erarchical paths [Trusina et al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gh percentage in most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332000" y="3009960"/>
            <a:ext cx="73436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6084720" y="3591000"/>
            <a:ext cx="14004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859280" y="4076640"/>
            <a:ext cx="139680" cy="12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19640" y="4005360"/>
            <a:ext cx="14112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03640" y="3068640"/>
            <a:ext cx="14148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19640" y="3068640"/>
            <a:ext cx="14112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2882880" y="2852640"/>
            <a:ext cx="3816360" cy="3340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R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17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erogeneous at multiple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node for the whole system may not be best node for a specific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75280" y="3213000"/>
            <a:ext cx="18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3280" y="378936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74920" y="366876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490920" y="294804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076720" y="292428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867280" y="328464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R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403280" y="1598760"/>
            <a:ext cx="7345440" cy="34527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1908000" y="530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p distribution and rank at dead-end for HK data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abel Strategy (LABE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43040" y="980640"/>
            <a:ext cx="8400960" cy="20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 label, e.g. affil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lated inte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to nodes have same label as the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performance in conference mix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692360" y="2781360"/>
            <a:ext cx="3370320" cy="29480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5076720" y="2781360"/>
            <a:ext cx="3382920" cy="29606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3851280" y="5805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com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LAB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42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less mixing environment (e.g. Real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 in one group may not meet members in another group so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it for destination group not 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324000" y="3497400"/>
            <a:ext cx="5905440" cy="273996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6084720" y="3429000"/>
            <a:ext cx="324036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entrality meets 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pulation divided into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de has a global and local ra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obal popular node like a postman, or politician in a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cal popular node like Christophe Diot in SIGCO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BBLE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BBLE-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539640" y="0"/>
            <a:ext cx="8209080" cy="6669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356000" y="404640"/>
            <a:ext cx="3348000" cy="3313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64000" y="558972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942160" y="836640"/>
            <a:ext cx="1425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843280" y="1628640"/>
            <a:ext cx="1461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25800" y="2637000"/>
            <a:ext cx="14256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59280" y="2276640"/>
            <a:ext cx="14580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979640" y="1268280"/>
            <a:ext cx="3618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788000" y="414972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348000" y="458136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421080" y="76500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909800" y="436572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47640" y="522936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484360" y="3573360"/>
            <a:ext cx="1447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03280" y="350028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27640" y="378936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64000" y="4724280"/>
            <a:ext cx="28764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1619280" y="4508640"/>
            <a:ext cx="36036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1547640" y="3645000"/>
            <a:ext cx="36216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547640" y="2781000"/>
            <a:ext cx="578160" cy="71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564000" y="292428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2268360" y="2349000"/>
            <a:ext cx="790920" cy="28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050920" y="3716280"/>
            <a:ext cx="433440" cy="64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195640" y="1773000"/>
            <a:ext cx="718920" cy="86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05080" y="2349360"/>
            <a:ext cx="107964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1693800" y="4652640"/>
            <a:ext cx="165420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627280" y="3068640"/>
            <a:ext cx="93672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3492360" y="3933360"/>
            <a:ext cx="93528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00720" y="299736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989440" y="907920"/>
            <a:ext cx="43164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95280" y="2492280"/>
            <a:ext cx="0" cy="22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170028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84720" y="2637000"/>
            <a:ext cx="3585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788000" y="2637000"/>
            <a:ext cx="14436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05440" y="2205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510160" y="2637000"/>
            <a:ext cx="14292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219640" y="206064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659640" y="1844640"/>
            <a:ext cx="14580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157800" y="2637000"/>
            <a:ext cx="14292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299280" y="1413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651640" y="141300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4932360" y="2133720"/>
            <a:ext cx="28728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364000" y="1557360"/>
            <a:ext cx="36216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726160" y="981000"/>
            <a:ext cx="21600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084720" y="981000"/>
            <a:ext cx="28908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796000" y="148428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619280" y="537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373800" y="1341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164360" y="6308640"/>
            <a:ext cx="17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227640" y="6308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obal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7740360" y="5445000"/>
            <a:ext cx="431640" cy="93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443640" y="39337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7237440" y="3284640"/>
            <a:ext cx="28728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078520" y="5300640"/>
            <a:ext cx="24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5580000" y="5013000"/>
            <a:ext cx="14616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407280" y="2565360"/>
            <a:ext cx="24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ubsub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084720" y="1989000"/>
            <a:ext cx="1447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7093080" y="2349000"/>
            <a:ext cx="792000" cy="2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195640" y="1484280"/>
            <a:ext cx="3618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0480" y="2276640"/>
            <a:ext cx="7823160" cy="27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first goal of this research is to move to a third generation of human mobility models, understanding heterogeneity at multiple levels of detail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260280"/>
            <a:ext cx="7211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Understanding multiple levels of heterogene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entrality meets 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4105080" cy="359244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5003640" y="1844640"/>
            <a:ext cx="414036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king Centrality Pract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320840" y="2924280"/>
            <a:ext cx="78231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can each node know its own centrality in decentralised way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ell does past centrality predict the future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pproximating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43040" y="4365720"/>
            <a:ext cx="8400960" cy="173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degree, per-6-hour de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lation coefficients, 0.7401 and 0.95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1695600" y="1125360"/>
            <a:ext cx="64767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pproximating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17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-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-Window (Exponential Smooth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1258920" y="3043080"/>
            <a:ext cx="633888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dictability of Human Mo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3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sessions of Reality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essions using the ranking calculated from the first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same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836720" y="3429000"/>
            <a:ext cx="59752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and Future W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warding using priori label or social structure inferred through ob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tributed k-clique building through gossi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per-6-ho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ighted version of k-clique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rd generation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15640" y="256500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on.Crowcroft@cl.cam.ac.u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Social Structures Vs Network Struc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munity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cial communities, i.e. affil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pological cohesive groups or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ntr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cial hubs, celebrities and post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etweenness, closeness, inference power centr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y Defi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ion of k-cliques reachable through a series of adjacent k-cliques [Palla et al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djacent k-cliques share k-1 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mbers in a community reachable through well-connected well sub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-clique (connected compon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-clique (overlapping triang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verlapping fe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rcolation thresh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5203800"/>
            <a:ext cx="410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k)= 1/[(k-1)N]^(1/(k-1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20480" y="122400"/>
            <a:ext cx="72118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Cambridge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0920" y="1380960"/>
            <a:ext cx="8893080" cy="47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0840" y="-360"/>
            <a:ext cx="75722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77840" y="1413000"/>
            <a:ext cx="8858160" cy="4248000"/>
            <a:chOff x="177840" y="1413000"/>
            <a:chExt cx="8858160" cy="4248000"/>
          </a:xfrm>
        </p:grpSpPr>
        <p:grpSp>
          <p:nvGrpSpPr>
            <p:cNvPr id="65" name=""/>
            <p:cNvGrpSpPr/>
            <p:nvPr/>
          </p:nvGrpSpPr>
          <p:grpSpPr>
            <a:xfrm>
              <a:off x="177840" y="1413000"/>
              <a:ext cx="8858160" cy="4248000"/>
              <a:chOff x="177840" y="1413000"/>
              <a:chExt cx="8858160" cy="4248000"/>
            </a:xfrm>
          </p:grpSpPr>
          <p:pic>
            <p:nvPicPr>
              <p:cNvPr id="6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77840" y="1413000"/>
                <a:ext cx="8858160" cy="42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>
                <a:off x="7907400" y="2936160"/>
                <a:ext cx="16740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907400" y="2555280"/>
                <a:ext cx="166680" cy="169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075160" y="335988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451000" y="2428560"/>
                <a:ext cx="16668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698240" y="2216520"/>
                <a:ext cx="16668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660160" y="204732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155720" y="276696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389240" y="33598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646080" y="31060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195240" y="378396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837320" y="327492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228840" y="3443760"/>
                <a:ext cx="208080" cy="1699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645360" y="3444840"/>
                <a:ext cx="207720" cy="1695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88560" y="3191040"/>
                <a:ext cx="208080" cy="1267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58200" y="2894040"/>
                <a:ext cx="208080" cy="1699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723680" y="35290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434680" y="31910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851920" y="34448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018600" y="30218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598040" y="513828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765080" y="488448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848960" y="534996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058120" y="505332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946560" y="1962720"/>
                <a:ext cx="2047680" cy="160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263960" y="2894040"/>
                <a:ext cx="5139000" cy="1100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22560" y="4715280"/>
                <a:ext cx="1211400" cy="84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3839040" y="4764240"/>
              <a:ext cx="138240" cy="137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39040" y="4488840"/>
              <a:ext cx="140040" cy="138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39040" y="5040720"/>
              <a:ext cx="140040" cy="1378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39040" y="5315760"/>
              <a:ext cx="140040" cy="138240"/>
            </a:xfrm>
            <a:prstGeom prst="diamond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117320" y="4559040"/>
              <a:ext cx="1534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17320" y="442080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19120" y="4695840"/>
              <a:ext cx="160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17320" y="495576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17320" y="524772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02400" y="2007000"/>
              <a:ext cx="167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21080" y="2490480"/>
              <a:ext cx="417960" cy="2750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15720" y="1824840"/>
              <a:ext cx="174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41600" y="2145600"/>
              <a:ext cx="557640" cy="414720"/>
            </a:xfrm>
            <a:prstGeom prst="rightArrow">
              <a:avLst>
                <a:gd name="adj1" fmla="val 50000"/>
                <a:gd name="adj2" fmla="val 3361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2240" y="4236840"/>
              <a:ext cx="202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0560" y="4627440"/>
              <a:ext cx="348840" cy="344880"/>
            </a:xfrm>
            <a:prstGeom prst="rightArrow">
              <a:avLst>
                <a:gd name="adj1" fmla="val 50000"/>
                <a:gd name="adj2" fmla="val 25287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7236000" y="558972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08000" y="1123920"/>
            <a:ext cx="8712000" cy="4969080"/>
            <a:chOff x="108000" y="1123920"/>
            <a:chExt cx="8712000" cy="4969080"/>
          </a:xfrm>
        </p:grpSpPr>
        <p:grpSp>
          <p:nvGrpSpPr>
            <p:cNvPr id="111" name=""/>
            <p:cNvGrpSpPr/>
            <p:nvPr/>
          </p:nvGrpSpPr>
          <p:grpSpPr>
            <a:xfrm>
              <a:off x="108000" y="1123920"/>
              <a:ext cx="8712000" cy="4969080"/>
              <a:chOff x="108000" y="1123920"/>
              <a:chExt cx="8712000" cy="4969080"/>
            </a:xfrm>
          </p:grpSpPr>
          <p:pic>
            <p:nvPicPr>
              <p:cNvPr id="11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8000" y="1123920"/>
                <a:ext cx="8712000" cy="496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1669680" y="472212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690280" y="249660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532560" y="2051280"/>
                <a:ext cx="240840" cy="2221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252560" y="1884600"/>
                <a:ext cx="24084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942320" y="2496600"/>
                <a:ext cx="24048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73520" y="2329560"/>
                <a:ext cx="240480" cy="2221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072920" y="2718720"/>
                <a:ext cx="24048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350520" y="2830320"/>
                <a:ext cx="23976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490280" y="2106360"/>
                <a:ext cx="23940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049920" y="221796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469680" y="221796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70280" y="249660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70280" y="2553120"/>
                <a:ext cx="23940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091120" y="277524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89080" y="450036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428480" y="4110120"/>
                <a:ext cx="240840" cy="22284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909080" y="433332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12320" y="1717560"/>
                <a:ext cx="1920600" cy="1391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449080" y="2106360"/>
                <a:ext cx="3002040" cy="105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948240" y="3999600"/>
                <a:ext cx="1561680" cy="1112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4052160" y="4103640"/>
              <a:ext cx="136080" cy="132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52160" y="3838680"/>
              <a:ext cx="137880" cy="132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52160" y="4368960"/>
              <a:ext cx="137880" cy="1324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52160" y="4633560"/>
              <a:ext cx="137880" cy="132840"/>
            </a:xfrm>
            <a:prstGeom prst="diamond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24680" y="377208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27560" y="4036320"/>
              <a:ext cx="157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24680" y="428724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24680" y="456624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71200" y="1322280"/>
              <a:ext cx="185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14640" y="1719720"/>
              <a:ext cx="480600" cy="265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6080" y="1276920"/>
              <a:ext cx="226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73480" y="1653840"/>
              <a:ext cx="341280" cy="330120"/>
            </a:xfrm>
            <a:prstGeom prst="rightArrow">
              <a:avLst>
                <a:gd name="adj1" fmla="val 50000"/>
                <a:gd name="adj2" fmla="val 2584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3200" y="3596400"/>
              <a:ext cx="181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4560" y="3971880"/>
              <a:ext cx="343080" cy="329760"/>
            </a:xfrm>
            <a:prstGeom prst="rightArrow">
              <a:avLst>
                <a:gd name="adj1" fmla="val 50000"/>
                <a:gd name="adj2" fmla="val 2601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7308720" y="5157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39640" y="1628640"/>
            <a:ext cx="8317080" cy="3677760"/>
            <a:chOff x="539640" y="1628640"/>
            <a:chExt cx="8317080" cy="367776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539640" y="1628640"/>
              <a:ext cx="8317080" cy="30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6205680" y="289656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24600" y="1861920"/>
              <a:ext cx="261000" cy="259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69120" y="354348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04320" y="224964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30760" y="244332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66600" y="192780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66600" y="393084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22160" y="2896560"/>
              <a:ext cx="261000" cy="258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33200" y="1991520"/>
              <a:ext cx="327600" cy="25812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9640" y="2766600"/>
              <a:ext cx="327600" cy="258120"/>
            </a:xfrm>
            <a:prstGeom prst="hexagon">
              <a:avLst>
                <a:gd name="adj" fmla="val 31729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30320" y="3864960"/>
              <a:ext cx="327600" cy="257760"/>
            </a:xfrm>
            <a:prstGeom prst="hexagon">
              <a:avLst>
                <a:gd name="adj" fmla="val 31774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62080" y="1798200"/>
              <a:ext cx="327600" cy="257760"/>
            </a:xfrm>
            <a:prstGeom prst="hexagon">
              <a:avLst>
                <a:gd name="adj" fmla="val 31774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73920" y="1798200"/>
              <a:ext cx="2619360" cy="2454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99000" y="1798200"/>
              <a:ext cx="2946960" cy="258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1320" y="1692360"/>
              <a:ext cx="1144800" cy="2689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39080" y="4835160"/>
              <a:ext cx="131040" cy="128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35640" y="4725720"/>
              <a:ext cx="235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 (Spanis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64160" y="4705560"/>
              <a:ext cx="131040" cy="129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64160" y="5029200"/>
              <a:ext cx="195840" cy="12924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90320" y="4597560"/>
              <a:ext cx="23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 A (Frenc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90320" y="4922280"/>
              <a:ext cx="23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 B (Frenc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2360" y="4835160"/>
              <a:ext cx="196200" cy="129600"/>
            </a:xfrm>
            <a:prstGeom prst="hexagon">
              <a:avLst>
                <a:gd name="adj" fmla="val 37847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65520" y="4769640"/>
              <a:ext cx="117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Itali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7451640" y="5445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3:29:44Z</dcterms:created>
  <dc:creator>BenHui</dc:creator>
  <dc:description/>
  <dc:language>en-US</dc:language>
  <cp:lastModifiedBy>jac22</cp:lastModifiedBy>
  <dcterms:modified xsi:type="dcterms:W3CDTF">2007-02-16T14:03:57Z</dcterms:modified>
  <cp:revision>129</cp:revision>
  <dc:subject/>
  <dc:title>Bubble Rap: Forwarding in Small World DTNs in Ever Decreasing Circles</dc:title>
</cp:coreProperties>
</file>