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A244-19DC-4A26-9DBA-4B72CC4E8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5F2F-3D9A-4152-9B56-917A159A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0B24-B080-4EDE-8CC3-7572EF51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7B8E-20DA-4535-9149-5632BC68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8FEB-69A4-408C-966B-5E51F753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249B-DF96-40D6-B027-22417814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4A09-7EE5-4B66-BA4F-1D892C88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4E799-4811-4DA6-9873-3D9960AF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CF0F-4178-444F-9886-FE65C754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9E97-5ABC-4885-991E-CCD9BEB7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1551C-0B86-41A4-B4C2-FB3D5BC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8C1D-00AB-4A18-B16E-CD3C990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109A-9934-49C2-B412-5A5CDF2F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Imperial College London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for Erol Gelenbe’s research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B78A59-A025-4E34-8639-AF1E32E3727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February 15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6T14:03:57Z</dcterms:modified>
  <cp:revision>129</cp:revision>
  <dc:subject/>
  <dc:title>Bubble Rap: Forwarding in Small World DTNs in Ever Decreasing Circles</dc:title>
</cp:coreProperties>
</file>