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1.png" ContentType="image/png"/>
  <Override PartName="/ppt/media/image12.pct" ContentType="image/x-pict"/>
  <Override PartName="/ppt/media/image19.gif" ContentType="image/gif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28.pct" ContentType="image/x-pict"/>
  <Override PartName="/ppt/media/image20.gif" ContentType="image/gif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6.png" ContentType="image/png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6AA7-62C8-4090-B0E2-F3D1FFE20D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EC0C-7216-4171-94FF-867D3134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2013-6CB4-4632-842D-7F817460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19BB-B54E-4B52-8E8E-2D6389B8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DDF0-693C-4F0F-AD68-4C1ADD98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113E-6399-4E93-92EE-BF6C5F78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8BB6-A480-4E82-86BF-42A35136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76CE-27ED-4D39-86BA-1E529E8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0A34-6EED-4A02-B748-E761A60F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E01D-C83B-40EA-9C15-CD844713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CA15-8335-457A-A491-0FBB1EF2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1D260-0DAC-4651-A1CF-CC52C9F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F1BD-EACF-4CBD-A299-27E75FBF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DASSON Workshop,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7D01F3-CD2E-4C28-A140-974ECBB71B91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June 2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pct"/><Relationship Id="rId8" Type="http://schemas.openxmlformats.org/officeDocument/2006/relationships/image" Target="../media/image22.pct"/><Relationship Id="rId9" Type="http://schemas.openxmlformats.org/officeDocument/2006/relationships/image" Target="../media/image23.pct"/><Relationship Id="rId10" Type="http://schemas.openxmlformats.org/officeDocument/2006/relationships/image" Target="../media/image24.pct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on crowcroft</cp:lastModifiedBy>
  <dcterms:modified xsi:type="dcterms:W3CDTF">2007-06-12T09:05:35Z</dcterms:modified>
  <cp:revision>130</cp:revision>
  <dc:subject/>
  <dc:title>Bubble Rap: Forwarding in Small World DTNs in Ever Decreasing Circles</dc:title>
</cp:coreProperties>
</file>